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01F7-FAEA-4F7E-A678-99486BEC8E4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A22E-A42B-4C73-AB99-B4ABAAACB6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21DF-F60B-41A1-AD7D-0BD2DE5877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5080" cy="3484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01280" y="4414680"/>
            <a:ext cx="56070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53D1-F1F6-4AC0-8FBB-BFA39262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EA4A-4503-456D-B294-292511FB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21E-6D33-4C96-A58E-F10FF59F5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519B-E5CC-4991-8398-B983DD858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6654-A0F1-47CA-8C14-7BD22AA12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2E05E-A4CD-485A-A1E6-89BBE3530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33EF-DAA7-482C-815A-070CCC17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E27C4-E408-4C05-99D4-81E52377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EEDD-A165-413D-B12C-5575C7D75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51C7-EEB2-46A2-A154-86CEE17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8D35-D891-4938-A9F3-5A3D365C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A3C9-ACFC-4746-9C01-32ED47747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BCECC-88BF-477B-839C-8B6D3AED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D0C8F-7605-453F-9659-C5CF114FF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233F-45E8-4D88-AF8F-AA42B0A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1CD7-4636-4169-B664-ED402975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E718-1A57-4908-A525-150D58703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B68-6C8C-4289-B25E-D438F5EC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360-9CBE-4DE1-8967-F64F750A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2A2D-B942-49C7-9CBD-2429561DC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FE9-BBD6-4661-8AA0-91E2B2A2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1DC10-255C-4FF6-BDB9-496CE159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E07-0B10-4ECB-B055-EF53134E3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664E-4F66-4F68-8464-2AE87E87E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7F55D-9EC7-4403-A3F9-69837E4C19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AD9A-0A67-43A9-A327-537742949D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500120"/>
            <a:ext cx="9001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ments for submission, acceptance and processing of isolates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guidance for all count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 carriage of Category A infectious substances should be strictly prohibited on air carr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ner packages containing infectious substances should not be consolidated with unrelated types of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ippers of infectious substances should ensure that packages are prepared so they arrive in good condition and present no hazard during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C2DC-854E-4EB9-B1B8-657A6FC73E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86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iteria for rejection of an isola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not process; contact the submitter to resubmit isolate for the following reas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abel on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per or leaking co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 overgrown with contamin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ution: Opening tube with mould can contaminate BSC and other specim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may be processed if minor questions can be clar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pellings between tube and request s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 submitter to clarify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1FD0-4FA8-48D0-8852-4461E7226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eparation of isolate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00040" y="1599840"/>
            <a:ext cx="8143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isolate as belonging to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the TB isolate is not contamin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s of molecular or liquid medium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ation of cells for DST in liquid broth in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E4A2B-2702-4837-8F6E-0E7F70317B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14200" y="76320"/>
            <a:ext cx="792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Isolate must be identified as MTBC before performing DS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55"/>
          <p:cNvSpPr/>
          <p:nvPr/>
        </p:nvSpPr>
        <p:spPr>
          <a:xfrm>
            <a:off x="565308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4"/>
          <p:cNvSpPr/>
          <p:nvPr/>
        </p:nvSpPr>
        <p:spPr>
          <a:xfrm>
            <a:off x="5940360" y="387504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75"/>
          <p:cNvSpPr/>
          <p:nvPr/>
        </p:nvSpPr>
        <p:spPr>
          <a:xfrm>
            <a:off x="5940360" y="4594320"/>
            <a:ext cx="2016360" cy="574560"/>
          </a:xfrm>
          <a:prstGeom prst="ellipse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0"/>
          <p:cNvSpPr/>
          <p:nvPr/>
        </p:nvSpPr>
        <p:spPr>
          <a:xfrm>
            <a:off x="3276720" y="3514680"/>
            <a:ext cx="23763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>
            <a:off x="5005440" y="3154320"/>
            <a:ext cx="2303280" cy="432000"/>
          </a:xfrm>
          <a:prstGeom prst="rect">
            <a:avLst/>
          </a:prstGeom>
          <a:solidFill>
            <a:srgbClr val="66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71"/>
          <p:cNvSpPr/>
          <p:nvPr/>
        </p:nvSpPr>
        <p:spPr>
          <a:xfrm>
            <a:off x="2629080" y="1785960"/>
            <a:ext cx="3600360" cy="720720"/>
          </a:xfrm>
          <a:prstGeom prst="ellipse">
            <a:avLst/>
          </a:prstGeom>
          <a:solidFill>
            <a:srgbClr val="ffcc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54"/>
          <p:cNvSpPr/>
          <p:nvPr/>
        </p:nvSpPr>
        <p:spPr>
          <a:xfrm>
            <a:off x="3276720" y="3514680"/>
            <a:ext cx="0" cy="13683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0"/>
          <p:cNvSpPr/>
          <p:nvPr/>
        </p:nvSpPr>
        <p:spPr>
          <a:xfrm>
            <a:off x="1692360" y="3154320"/>
            <a:ext cx="2303280" cy="432000"/>
          </a:xfrm>
          <a:prstGeom prst="rect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69"/>
          <p:cNvSpPr/>
          <p:nvPr/>
        </p:nvSpPr>
        <p:spPr>
          <a:xfrm>
            <a:off x="971640" y="459432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68"/>
          <p:cNvSpPr/>
          <p:nvPr/>
        </p:nvSpPr>
        <p:spPr>
          <a:xfrm>
            <a:off x="971640" y="3875040"/>
            <a:ext cx="2016000" cy="574560"/>
          </a:xfrm>
          <a:prstGeom prst="ellipse">
            <a:avLst/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32"/>
          <p:cNvSpPr/>
          <p:nvPr/>
        </p:nvSpPr>
        <p:spPr>
          <a:xfrm>
            <a:off x="2413080" y="5170320"/>
            <a:ext cx="587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40"/>
          <p:cNvSpPr/>
          <p:nvPr/>
        </p:nvSpPr>
        <p:spPr>
          <a:xfrm>
            <a:off x="3708360" y="3083040"/>
            <a:ext cx="7207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8"/>
          <p:cNvSpPr/>
          <p:nvPr/>
        </p:nvSpPr>
        <p:spPr>
          <a:xfrm>
            <a:off x="2556000" y="1905120"/>
            <a:ext cx="37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ulture positive for AF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49"/>
          <p:cNvSpPr/>
          <p:nvPr/>
        </p:nvSpPr>
        <p:spPr>
          <a:xfrm>
            <a:off x="4500720" y="2506680"/>
            <a:ext cx="0" cy="10080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1"/>
          <p:cNvSpPr/>
          <p:nvPr/>
        </p:nvSpPr>
        <p:spPr>
          <a:xfrm>
            <a:off x="3924360" y="2793960"/>
            <a:ext cx="1152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2"/>
          <p:cNvSpPr/>
          <p:nvPr/>
        </p:nvSpPr>
        <p:spPr>
          <a:xfrm>
            <a:off x="611280" y="2602080"/>
            <a:ext cx="34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lony and Cellular morph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3"/>
          <p:cNvSpPr/>
          <p:nvPr/>
        </p:nvSpPr>
        <p:spPr>
          <a:xfrm>
            <a:off x="5076720" y="2633760"/>
            <a:ext cx="295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owth characteri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6"/>
          <p:cNvSpPr/>
          <p:nvPr/>
        </p:nvSpPr>
        <p:spPr>
          <a:xfrm flipH="1">
            <a:off x="291600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7"/>
          <p:cNvSpPr/>
          <p:nvPr/>
        </p:nvSpPr>
        <p:spPr>
          <a:xfrm flipH="1">
            <a:off x="291600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8"/>
          <p:cNvSpPr/>
          <p:nvPr/>
        </p:nvSpPr>
        <p:spPr>
          <a:xfrm flipH="1">
            <a:off x="5652720" y="416232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59"/>
          <p:cNvSpPr/>
          <p:nvPr/>
        </p:nvSpPr>
        <p:spPr>
          <a:xfrm flipH="1">
            <a:off x="5652720" y="4883040"/>
            <a:ext cx="36036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0"/>
          <p:cNvSpPr/>
          <p:nvPr/>
        </p:nvSpPr>
        <p:spPr>
          <a:xfrm>
            <a:off x="973080" y="394020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Biochemical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1"/>
          <p:cNvSpPr/>
          <p:nvPr/>
        </p:nvSpPr>
        <p:spPr>
          <a:xfrm>
            <a:off x="971640" y="46674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ntigen det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2"/>
          <p:cNvSpPr/>
          <p:nvPr/>
        </p:nvSpPr>
        <p:spPr>
          <a:xfrm>
            <a:off x="6013440" y="39909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Line-probe ass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63"/>
          <p:cNvSpPr/>
          <p:nvPr/>
        </p:nvSpPr>
        <p:spPr>
          <a:xfrm>
            <a:off x="6300720" y="46674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DNA pro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4"/>
          <p:cNvSpPr/>
          <p:nvPr/>
        </p:nvSpPr>
        <p:spPr>
          <a:xfrm>
            <a:off x="1692360" y="31543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ventional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5"/>
          <p:cNvSpPr/>
          <p:nvPr/>
        </p:nvSpPr>
        <p:spPr>
          <a:xfrm>
            <a:off x="5221440" y="31543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Molecular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9"/>
          <p:cNvSpPr/>
          <p:nvPr/>
        </p:nvSpPr>
        <p:spPr>
          <a:xfrm>
            <a:off x="1143000" y="5572080"/>
            <a:ext cx="6858000" cy="642600"/>
          </a:xfrm>
          <a:prstGeom prst="rect">
            <a:avLst/>
          </a:prstGeom>
          <a:noFill/>
          <a:ln w="19080">
            <a:solidFill>
              <a:srgbClr val="3d3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tuberculous mycobacteria can be resistant to anti-TB drugs, and testing can result in inappropriate patient thera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D09B-87A5-42FD-9793-AE9FB92F3AC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on solid medi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96360" y="1447920"/>
            <a:ext cx="8239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J medium contains bacteriostatic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lachite green inhibits most environmental and normal fl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to remove liquid in bottom of LJ before inoculation. Loosen cap for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ek of incub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exposure to malachite green, so contaminants may eventually grow in this liqui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minated LJ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ontamination is slight, attempt to isolate TB colonies; transfer to new L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tally contaminated, request a new speci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A076-BA87-45B7-BDF6-ACC9690F29A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rowth of contaminants in MGIT tub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2160" y="1447920"/>
            <a:ext cx="6862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ed MGIT tubes usually become positive very ear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– 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id growers such a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-intracellula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x (MAC) may be positive in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mogeneous turb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cid-fast bacteria may be seen in AFB smear of MGIT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or without AF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ulture to blood agar pla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in 2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8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rcRect l="0" t="0" r="50031" b="0"/>
          <a:stretch/>
        </p:blipFill>
        <p:spPr>
          <a:xfrm>
            <a:off x="7162920" y="2274840"/>
            <a:ext cx="761760" cy="25686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ST performed using solid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roblems with egg-based media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cy of drugs may be diminished during inspiss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of the eggs (phospholipids, proteins) affect som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ddlebrook 7H10 agar with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ADC is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-to-lot variations in quality have been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ST on solid media requires 3 to 4 weeks of incub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238EE-9E99-4D21-AD89-8B858A5249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71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old standard for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357200"/>
            <a:ext cx="81057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ar proportion method using Middlebrook 7H10 with quality assured OA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ed the standard method for TB DST in the USA and many European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first- and second-line drugs can be accurately tested for susceptibility or resistance using this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because of the long turn-around time, the method is more appropriate for surveillance than for individual patient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2088-F331-4C0F-A173-FF923D4D55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51444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vantages of molecular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liquid medium DST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57120" y="1356840"/>
            <a:ext cx="842976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performed within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ication of TB is included in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MDR TB is quite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rate results may be obtained even with mixed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not all drugs are currently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 medium DST using the MGI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ready within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ly validated for all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 including PZA and som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AAD8-496A-466C-9960-AA8313B9FD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cells for molecular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28400" y="1428480"/>
            <a:ext cx="84294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suspension of cells in steril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on solid medium (L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cells from slant with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e suspension in 300 µl of sterile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a grown in liquid medium (MGIT bro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er 1 ml portion of the suspension to a micro-centrifug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ifuge for 15 min and resuspend pellet in 300 µl of sterile w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1BFE7-5C34-4D1A-8E56-472B04451D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1468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submission process for isolates receiv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the criteria for acceptance or rejection of iso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how TB isolates are prepared for D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NA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xtraction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for molecular tes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571320" y="1599840"/>
            <a:ext cx="7429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20 min in a 95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water bath (kills cel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ubate bacterial cells for 15 min in an ultrasonic water bath (optional for isola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 and use approximately 5 µl of the supernatant for PC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46AC-DEBA-463A-99C9-E55EE97A42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5726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ation of isolates for MGIT DST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olates can be grown either on solid or liquid media prior to being tested in the MGIT D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healthy cells in logarithmic phase of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airly light inoculum so that drug concentrations are not overwhelm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wth should be AFB-positive and identified as a pure culture of the MTB complex before furthe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AC17-9AC3-4338-B2D3-AA0B43FC4D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oculum from the MGIT tub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499760"/>
            <a:ext cx="810576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ing to the following recommended timeframe is important for accurate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day a MGIT tube is positive by the instrument is consider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tube should be kept incubated for at least one more day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before DS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y be incubated in a separate incubator at 37 ºC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1 º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positive tube may be used for DST up to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tube that has been positive for more than 5 days should be subcultured into a fresh MGIT tube and incubated until it is positive;  use this tube from 1 to 5 days of instrument positivity as described abo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n a tube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2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use the supernatant undiluted for inoculation of the drug s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growth is on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y 3, 4 or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vortex to break clumps, let big clumps settle for 10 minutes and then dilute 1.0 ml of the positive broth with 4.0 ml of sterile saline.  This will be a 1:5 dilution.  Use this well-mixed diluted culture for inocul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8B60-4A9B-4F9F-8D48-30A1F2D2BE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2920" y="228600"/>
            <a:ext cx="8067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oculum from growth on solid mediu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42920" y="1428480"/>
            <a:ext cx="839160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growth on solid medium within 15 days of appearance of positive grow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fer a large amount of growth into a tube with broth or saline and glass beads; vortex the tube for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minutes to break the clumps – the turbidity should be &gt; McFarland #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e suspension stand undisturbed for 20 minutes, then transfer the supernatant into another sterile tub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t this tube stand undisturbed for another 15 minutes then transfer the supernatant into another sterile tube – the turbidity should &gt; McFarland #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just the turbidity of this suspension down to McFarland #0.5 by adding sterile saline; do not make it below this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lute the above suspension 1:5 by adding 1.0 ml of the suspension to 4.0 ml of sterile saline;  mix well and use it as the inoculum for drug susceptibility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6F2C-F1E1-4EF5-BCD8-A11A7536B0F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: Isolates for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3840" y="1481040"/>
            <a:ext cx="8643960" cy="46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can either be grown in the DST testing laboratory or referred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of isolates to the DST testing laboratory must be safe, timely, efficient and leg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should not be tested if they are unlabelled, leaked, or overgrown with mou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using molecular or MGIT system methods have much shorter turn-around times than DST using solid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henotypic DST, growth should be AFB-positive, and identified as a pure culture of the MTB com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3BF2-8903-4C9C-BACE-B16E04FB96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0B3E-40DB-4DF5-ADA8-4C0F5DA3BE6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71320" y="1499760"/>
            <a:ext cx="80010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of isol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red to DST testing laboratory from another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own in DST testing labora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o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osafe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nsport 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for acceptance or rejection of isol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ling, leak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aring the isolate for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lecular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qu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d 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Ex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referred to DST testing laboratory from anothe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t to process sputum specimens and perform culture in laboratories near to where specimen is coll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minants may overgrow TB in sputum specimens during transport time and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lates more likely to survive transportation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wever, biosafety requirements must be strictly followed to transport isola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es identification and DST are best performed at National TB Reference Laboratory or other Quality Assured referral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3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port time and need to re-grow isolate delays DST reporting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s and relevant and patient information must be accurately transcribed and transported to the NTRL for D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35B-8432-4ABF-8C40-50C5B0917A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ource of isolates: Internal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es grown in DST testing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on patient has already been documented when specimen received for cul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database or log books provide information on previous tests performed on this same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 smear results on current iso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ults on tests performed on specimens from this pat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ecific issues seen with previous specimens or isolates can be address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34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: growth found only on either liquid or solid 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ed for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ter turn-around time for reporting DS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s contained within same laboratory; biosafety issues easier to 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691B-B3DD-4FF5-AAFC-9433CAA04A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ansportation to DST testing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olates suspected of being TB must be transported to the DST testing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ly – protect transport agents from risk of inf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ely – ensure viable isolates for test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iciently – delivery to appropriate labora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lly – according to national and international transportation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C5872-D593-4F75-B647-45F37CCCF3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nsportation guid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Guidance on Regulations for the Transport of Infectious Substances 2009-201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ycobacterium tuberculos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classified as Infectious substance, Category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le of causing life-threatening or fatal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name is UN2814 – INFECTIOUS SUBSTANCE AFFECTING HUM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1BE0-A359-4F35-8F7E-15407095C0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5000760" y="6357960"/>
            <a:ext cx="3143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/HSE/EPR/2008.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ic triple packaging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920" y="1571760"/>
            <a:ext cx="4929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recept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ary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tertight, leak-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sorbent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 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hioning mate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ectly marked and labelled with appropriate shipping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9A1AF-B9F3-405E-BC1D-1C1BB5B8F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rcRect l="7491" t="12002" r="3884" b="0"/>
          <a:stretch/>
        </p:blipFill>
        <p:spPr>
          <a:xfrm>
            <a:off x="3714840" y="1714680"/>
            <a:ext cx="5286240" cy="3276360"/>
          </a:xfrm>
          <a:prstGeom prst="rect">
            <a:avLst/>
          </a:prstGeom>
          <a:ln w="9360">
            <a:solidFill>
              <a:srgbClr val="3d3dd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t all countries have adopted the United Nations syst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480" y="1499760"/>
            <a:ext cx="792504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guidelines apply whenever the UN system for the transport of infectious substances has been ado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encourages all countries to adopt th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the principles described are not intended to supersede national or local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64AAD-0449-48A1-B9D7-48EE15FBB3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7:48Z</dcterms:modified>
  <cp:revision>175</cp:revision>
  <dc:subject/>
  <dc:title>PowerPoint Presentation</dc:title>
</cp:coreProperties>
</file>