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WHOOSH.WAV" ContentType="audio/x-wav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media/image9.png" ContentType="image/png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BA3501-93B3-44DB-AAC7-040554973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563399-2DA7-4765-9F02-8DCDF858C0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72CAF4C-AA94-4BFC-B42C-8FD3565E2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38F7C15-11FC-4972-9238-8259F73E1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EAC3D9-98BF-4708-A224-C9B0BACF1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703440" y="4416120"/>
            <a:ext cx="560376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73C5-1B81-430F-A2FA-9AD5236D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1A43-B62B-4529-AC8B-2802C102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96D7-A47A-42F2-9E0F-B0B65BA5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B0B2-974E-4C50-A66F-D863A724F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2239-D8CD-4312-81AE-0E943593C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F4658-E7F8-4065-BD53-6C0FC576F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6A60-C8AF-4662-B5C7-083BE592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861DD-EA1D-4F24-B6F1-8D226719F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89272-2827-4A5D-9B54-9C972D5A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72A01-8C11-4D2B-B4F2-52F4C1B69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A1BD6-A009-41E2-AF0F-F32342C7E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E040-F607-4FA5-9296-33EACBEE8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324D-2329-40A6-B19F-4840E7906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DB67-64B1-4B20-A1CB-79A2D66B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83B3-94B0-4990-B3F0-E15B7925E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DB38-2A42-49C8-BC36-A175F061C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C89E-BF69-48FD-99DE-BF1D2C8F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3D41-76F4-4F51-969E-CBAB8ADE0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DDF0-13DE-4C34-8476-636360CCE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7B00-6A26-44B1-AC0C-741AC759B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09C8-2F32-4E87-9E62-7D538248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00A6-AFBC-4D7F-80E0-3A56DE8E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95C-F55A-4BA6-96FE-809C9D51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AF46-5832-460E-AEAE-2C8FEF5E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FBB0-825B-4557-B534-F12C879DC5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D0C8-CBE6-4578-8A9F-D9890624D4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761760" y="3276720"/>
            <a:ext cx="746748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: the dis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view of convention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ar mechanism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1066680" y="6264360"/>
            <a:ext cx="678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ntent adapted from standardized WHO, CDC and NHLS Training Materials for use by the African Centre for Integrated Laboratory Training,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olecular mechanisms of </a:t>
            </a:r>
            <a:br>
              <a:rPr sz="4200"/>
            </a:b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multidrug-resistant tuberculosi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postulates 1882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present in every case of the disea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isolated from the host with the disease and grown in pure cul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specific disease must be reproduced when a pure culture of the microorganism is inoculated into a healthy susceptible ho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icroorganism must be recoverable from the experimentally infected host and identified as being identical to the original specific causative agent.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Edward Livingston Trudeau (1915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Koch’s paper on “The Etiology of Tuberculosis” is certainly one of the most, if not the most, important medical papers ever wr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A model of logic in application of the   new experimental method to the study of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99"/>
                </a:solidFill>
                <a:latin typeface="Arial"/>
              </a:rPr>
              <a:t>Koch`s molecular postulat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lection and isolation of a mutant with a particular pheno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oning the mutant genotype and th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Reproducing the mutant phenotype by introduction of mutant genotype (gene) into wild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drug resistance in </a:t>
            </a:r>
            <a:r>
              <a:rPr b="0" i="1" lang="en-US" sz="3800" spc="-1" strike="noStrike">
                <a:solidFill>
                  <a:srgbClr val="ffffb9"/>
                </a:solidFill>
                <a:latin typeface="Arial"/>
              </a:rPr>
              <a:t>M.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e mycobacterial cell is surrounded by a specialized, highly hydrophobic cell wall that results in decreased permeability to many antimicrobial ag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 of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to antimycobacterial drugs is the consequence of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naturally occuring, spontaneous mutation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in genes that encode either the target of the drug, or enzymes that are involved in drug activ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istance-associated mutations have been described for all first-line drugs (isoniazid, rifampin, pyrazinamide, ethambutol, and streptomyc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b9"/>
                </a:solidFill>
                <a:latin typeface="Arial"/>
              </a:rPr>
              <a:t>Development of multidrug-resistant tuberculosi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o single genetic alteration has yet been found that results in the MDR phenotype (defined as resistance at least to INH and R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DR develops by sequential acquisition and selection of mutations at different loci, usually because of inappropriate patient 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appropriate treatment may lead to disease prog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Disease progression will increase the bacterial load and the risk of naturally occurring m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Because MDR strains are the result of cumulative mutations, growth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can successfully be controlled in the host by concomitant treatment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us, treatment regimens that consist of three to four drugs are used routinely to treat patients with tuberculo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b9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b9"/>
                </a:solidFill>
                <a:latin typeface="Arial"/>
              </a:rPr>
              <a:t>kat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4479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 is a pro-drug that requires activation in INH-susceptible mycobacterial spec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activation of INH results in a number of highly reactive compounds that are capable of damaging the mycobacterial cell wal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NH-resistant clinical isolates frequently loose their catalase-peroxidase activit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ssociation of this enzyme with INH activation was proven when the mycobacterial catalase-peroxidase gene (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) was cloned and sequenc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Mutations in this gene were found in 70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80% of high INH-resistant clinical isola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e most common mutation that was found was the Ser315Thr mut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609480" y="1523880"/>
          <a:ext cx="3678480" cy="449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3678480" cy="449604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3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Isoniazid resistance and virulence in </a:t>
            </a: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katG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ge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1911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Ser315Thr mutation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results in an enzyme without the ability to activate INH, but retains approximately 50% of its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s altered catalase-peroxidase provides high-level resistance to INH, while retaining a level of oxidative protection against host antibacterial radica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solates that carry other, mutations in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katG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exhibit varying levels of INH-resistance and catalase-peroxidase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5"/>
          <p:cNvSpPr/>
          <p:nvPr/>
        </p:nvSpPr>
        <p:spPr>
          <a:xfrm>
            <a:off x="5410080" y="2590920"/>
            <a:ext cx="1671840" cy="1649160"/>
          </a:xfrm>
          <a:custGeom>
            <a:avLst/>
            <a:gdLst>
              <a:gd name="textAreaLeft" fmla="*/ 0 w 1671840"/>
              <a:gd name="textAreaRight" fmla="*/ 1672200 w 1671840"/>
              <a:gd name="textAreaTop" fmla="*/ 0 h 1649160"/>
              <a:gd name="textAreaBottom" fmla="*/ 1649520 h 1649160"/>
            </a:gdLst>
            <a:ahLst/>
            <a:rect l="textAreaLeft" t="textAreaTop" r="textAreaRight" b="textAreaBottom"/>
            <a:pathLst>
              <a:path w="1184" h="1039">
                <a:moveTo>
                  <a:pt x="337" y="191"/>
                </a:moveTo>
                <a:lnTo>
                  <a:pt x="420" y="159"/>
                </a:lnTo>
                <a:lnTo>
                  <a:pt x="503" y="121"/>
                </a:lnTo>
                <a:lnTo>
                  <a:pt x="649" y="38"/>
                </a:lnTo>
                <a:lnTo>
                  <a:pt x="725" y="13"/>
                </a:lnTo>
                <a:lnTo>
                  <a:pt x="795" y="0"/>
                </a:lnTo>
                <a:lnTo>
                  <a:pt x="872" y="7"/>
                </a:lnTo>
                <a:lnTo>
                  <a:pt x="948" y="45"/>
                </a:lnTo>
                <a:lnTo>
                  <a:pt x="980" y="83"/>
                </a:lnTo>
                <a:lnTo>
                  <a:pt x="999" y="128"/>
                </a:lnTo>
                <a:lnTo>
                  <a:pt x="1005" y="178"/>
                </a:lnTo>
                <a:lnTo>
                  <a:pt x="999" y="229"/>
                </a:lnTo>
                <a:lnTo>
                  <a:pt x="980" y="344"/>
                </a:lnTo>
                <a:lnTo>
                  <a:pt x="986" y="401"/>
                </a:lnTo>
                <a:lnTo>
                  <a:pt x="1005" y="458"/>
                </a:lnTo>
                <a:lnTo>
                  <a:pt x="1050" y="516"/>
                </a:lnTo>
                <a:lnTo>
                  <a:pt x="1107" y="560"/>
                </a:lnTo>
                <a:lnTo>
                  <a:pt x="1158" y="605"/>
                </a:lnTo>
                <a:lnTo>
                  <a:pt x="1177" y="637"/>
                </a:lnTo>
                <a:lnTo>
                  <a:pt x="1183" y="675"/>
                </a:lnTo>
                <a:lnTo>
                  <a:pt x="1171" y="726"/>
                </a:lnTo>
                <a:lnTo>
                  <a:pt x="1139" y="783"/>
                </a:lnTo>
                <a:lnTo>
                  <a:pt x="1101" y="834"/>
                </a:lnTo>
                <a:lnTo>
                  <a:pt x="1056" y="878"/>
                </a:lnTo>
                <a:lnTo>
                  <a:pt x="1005" y="917"/>
                </a:lnTo>
                <a:lnTo>
                  <a:pt x="967" y="949"/>
                </a:lnTo>
                <a:lnTo>
                  <a:pt x="929" y="961"/>
                </a:lnTo>
                <a:lnTo>
                  <a:pt x="910" y="968"/>
                </a:lnTo>
                <a:lnTo>
                  <a:pt x="872" y="949"/>
                </a:lnTo>
                <a:lnTo>
                  <a:pt x="814" y="936"/>
                </a:lnTo>
                <a:lnTo>
                  <a:pt x="744" y="929"/>
                </a:lnTo>
                <a:lnTo>
                  <a:pt x="681" y="949"/>
                </a:lnTo>
                <a:lnTo>
                  <a:pt x="649" y="961"/>
                </a:lnTo>
                <a:lnTo>
                  <a:pt x="630" y="993"/>
                </a:lnTo>
                <a:lnTo>
                  <a:pt x="611" y="1019"/>
                </a:lnTo>
                <a:lnTo>
                  <a:pt x="585" y="1038"/>
                </a:lnTo>
                <a:lnTo>
                  <a:pt x="535" y="1025"/>
                </a:lnTo>
                <a:lnTo>
                  <a:pt x="496" y="999"/>
                </a:lnTo>
                <a:lnTo>
                  <a:pt x="452" y="968"/>
                </a:lnTo>
                <a:lnTo>
                  <a:pt x="407" y="949"/>
                </a:lnTo>
                <a:lnTo>
                  <a:pt x="375" y="942"/>
                </a:lnTo>
                <a:lnTo>
                  <a:pt x="344" y="949"/>
                </a:lnTo>
                <a:lnTo>
                  <a:pt x="280" y="974"/>
                </a:lnTo>
                <a:lnTo>
                  <a:pt x="229" y="987"/>
                </a:lnTo>
                <a:lnTo>
                  <a:pt x="204" y="980"/>
                </a:lnTo>
                <a:lnTo>
                  <a:pt x="191" y="968"/>
                </a:lnTo>
                <a:lnTo>
                  <a:pt x="178" y="929"/>
                </a:lnTo>
                <a:lnTo>
                  <a:pt x="191" y="898"/>
                </a:lnTo>
                <a:lnTo>
                  <a:pt x="216" y="872"/>
                </a:lnTo>
                <a:lnTo>
                  <a:pt x="255" y="847"/>
                </a:lnTo>
                <a:lnTo>
                  <a:pt x="286" y="821"/>
                </a:lnTo>
                <a:lnTo>
                  <a:pt x="325" y="796"/>
                </a:lnTo>
                <a:lnTo>
                  <a:pt x="344" y="764"/>
                </a:lnTo>
                <a:lnTo>
                  <a:pt x="356" y="732"/>
                </a:lnTo>
                <a:lnTo>
                  <a:pt x="344" y="675"/>
                </a:lnTo>
                <a:lnTo>
                  <a:pt x="312" y="630"/>
                </a:lnTo>
                <a:lnTo>
                  <a:pt x="274" y="598"/>
                </a:lnTo>
                <a:lnTo>
                  <a:pt x="229" y="586"/>
                </a:lnTo>
                <a:lnTo>
                  <a:pt x="191" y="592"/>
                </a:lnTo>
                <a:lnTo>
                  <a:pt x="159" y="618"/>
                </a:lnTo>
                <a:lnTo>
                  <a:pt x="140" y="649"/>
                </a:lnTo>
                <a:lnTo>
                  <a:pt x="121" y="688"/>
                </a:lnTo>
                <a:lnTo>
                  <a:pt x="102" y="726"/>
                </a:lnTo>
                <a:lnTo>
                  <a:pt x="83" y="751"/>
                </a:lnTo>
                <a:lnTo>
                  <a:pt x="57" y="770"/>
                </a:lnTo>
                <a:lnTo>
                  <a:pt x="32" y="764"/>
                </a:lnTo>
                <a:lnTo>
                  <a:pt x="0" y="732"/>
                </a:lnTo>
                <a:lnTo>
                  <a:pt x="6" y="694"/>
                </a:lnTo>
                <a:lnTo>
                  <a:pt x="19" y="649"/>
                </a:lnTo>
                <a:lnTo>
                  <a:pt x="45" y="605"/>
                </a:lnTo>
                <a:lnTo>
                  <a:pt x="76" y="548"/>
                </a:lnTo>
                <a:lnTo>
                  <a:pt x="127" y="516"/>
                </a:lnTo>
                <a:lnTo>
                  <a:pt x="172" y="478"/>
                </a:lnTo>
                <a:lnTo>
                  <a:pt x="210" y="427"/>
                </a:lnTo>
                <a:lnTo>
                  <a:pt x="204" y="376"/>
                </a:lnTo>
                <a:lnTo>
                  <a:pt x="191" y="331"/>
                </a:lnTo>
                <a:lnTo>
                  <a:pt x="178" y="287"/>
                </a:lnTo>
                <a:lnTo>
                  <a:pt x="178" y="261"/>
                </a:lnTo>
                <a:lnTo>
                  <a:pt x="191" y="242"/>
                </a:lnTo>
                <a:lnTo>
                  <a:pt x="223" y="210"/>
                </a:lnTo>
                <a:lnTo>
                  <a:pt x="274" y="198"/>
                </a:lnTo>
                <a:lnTo>
                  <a:pt x="318" y="191"/>
                </a:lnTo>
                <a:lnTo>
                  <a:pt x="331" y="191"/>
                </a:lnTo>
                <a:lnTo>
                  <a:pt x="337" y="191"/>
                </a:lnTo>
              </a:path>
            </a:pathLst>
          </a:custGeom>
          <a:solidFill>
            <a:srgbClr val="dadada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6"/>
          <p:cNvSpPr/>
          <p:nvPr/>
        </p:nvSpPr>
        <p:spPr>
          <a:xfrm>
            <a:off x="6062760" y="2819520"/>
            <a:ext cx="711000" cy="466560"/>
          </a:xfrm>
          <a:custGeom>
            <a:avLst/>
            <a:gdLst>
              <a:gd name="textAreaLeft" fmla="*/ 0 w 711000"/>
              <a:gd name="textAreaRight" fmla="*/ 711360 w 711000"/>
              <a:gd name="textAreaTop" fmla="*/ 0 h 466560"/>
              <a:gd name="textAreaBottom" fmla="*/ 466920 h 466560"/>
            </a:gdLst>
            <a:ahLst/>
            <a:rect l="textAreaLeft" t="textAreaTop" r="textAreaRight" b="textAreaBottom"/>
            <a:pathLst>
              <a:path w="504" h="294">
                <a:moveTo>
                  <a:pt x="318" y="0"/>
                </a:moveTo>
                <a:lnTo>
                  <a:pt x="153" y="19"/>
                </a:lnTo>
                <a:lnTo>
                  <a:pt x="57" y="89"/>
                </a:lnTo>
                <a:lnTo>
                  <a:pt x="38" y="146"/>
                </a:lnTo>
                <a:lnTo>
                  <a:pt x="25" y="172"/>
                </a:lnTo>
                <a:lnTo>
                  <a:pt x="19" y="191"/>
                </a:lnTo>
                <a:lnTo>
                  <a:pt x="0" y="229"/>
                </a:lnTo>
                <a:lnTo>
                  <a:pt x="6" y="242"/>
                </a:lnTo>
                <a:lnTo>
                  <a:pt x="38" y="280"/>
                </a:lnTo>
                <a:lnTo>
                  <a:pt x="102" y="293"/>
                </a:lnTo>
                <a:lnTo>
                  <a:pt x="134" y="261"/>
                </a:lnTo>
                <a:lnTo>
                  <a:pt x="159" y="242"/>
                </a:lnTo>
                <a:lnTo>
                  <a:pt x="140" y="184"/>
                </a:lnTo>
                <a:lnTo>
                  <a:pt x="153" y="153"/>
                </a:lnTo>
                <a:lnTo>
                  <a:pt x="197" y="108"/>
                </a:lnTo>
                <a:lnTo>
                  <a:pt x="261" y="121"/>
                </a:lnTo>
                <a:lnTo>
                  <a:pt x="293" y="134"/>
                </a:lnTo>
                <a:lnTo>
                  <a:pt x="337" y="184"/>
                </a:lnTo>
                <a:lnTo>
                  <a:pt x="413" y="204"/>
                </a:lnTo>
                <a:lnTo>
                  <a:pt x="439" y="172"/>
                </a:lnTo>
                <a:lnTo>
                  <a:pt x="503" y="127"/>
                </a:lnTo>
                <a:lnTo>
                  <a:pt x="477" y="64"/>
                </a:lnTo>
                <a:lnTo>
                  <a:pt x="471" y="51"/>
                </a:lnTo>
                <a:lnTo>
                  <a:pt x="433" y="32"/>
                </a:lnTo>
                <a:lnTo>
                  <a:pt x="369" y="13"/>
                </a:lnTo>
                <a:lnTo>
                  <a:pt x="318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7"/>
          <p:cNvSpPr/>
          <p:nvPr/>
        </p:nvSpPr>
        <p:spPr>
          <a:xfrm>
            <a:off x="6062760" y="2819520"/>
            <a:ext cx="684000" cy="446040"/>
          </a:xfrm>
          <a:custGeom>
            <a:avLst/>
            <a:gdLst>
              <a:gd name="textAreaLeft" fmla="*/ 0 w 684000"/>
              <a:gd name="textAreaRight" fmla="*/ 684360 w 68400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484" h="281">
                <a:moveTo>
                  <a:pt x="369" y="13"/>
                </a:moveTo>
                <a:lnTo>
                  <a:pt x="305" y="0"/>
                </a:lnTo>
                <a:lnTo>
                  <a:pt x="229" y="0"/>
                </a:lnTo>
                <a:lnTo>
                  <a:pt x="153" y="19"/>
                </a:lnTo>
                <a:lnTo>
                  <a:pt x="83" y="64"/>
                </a:lnTo>
                <a:lnTo>
                  <a:pt x="57" y="83"/>
                </a:lnTo>
                <a:lnTo>
                  <a:pt x="44" y="108"/>
                </a:lnTo>
                <a:lnTo>
                  <a:pt x="25" y="172"/>
                </a:lnTo>
                <a:lnTo>
                  <a:pt x="6" y="204"/>
                </a:lnTo>
                <a:lnTo>
                  <a:pt x="0" y="223"/>
                </a:lnTo>
                <a:lnTo>
                  <a:pt x="6" y="242"/>
                </a:lnTo>
                <a:lnTo>
                  <a:pt x="32" y="267"/>
                </a:lnTo>
                <a:lnTo>
                  <a:pt x="64" y="280"/>
                </a:lnTo>
                <a:lnTo>
                  <a:pt x="102" y="274"/>
                </a:lnTo>
                <a:lnTo>
                  <a:pt x="134" y="261"/>
                </a:lnTo>
                <a:lnTo>
                  <a:pt x="146" y="235"/>
                </a:lnTo>
                <a:lnTo>
                  <a:pt x="146" y="204"/>
                </a:lnTo>
                <a:lnTo>
                  <a:pt x="140" y="178"/>
                </a:lnTo>
                <a:lnTo>
                  <a:pt x="153" y="153"/>
                </a:lnTo>
                <a:lnTo>
                  <a:pt x="197" y="121"/>
                </a:lnTo>
                <a:lnTo>
                  <a:pt x="261" y="121"/>
                </a:lnTo>
                <a:lnTo>
                  <a:pt x="286" y="134"/>
                </a:lnTo>
                <a:lnTo>
                  <a:pt x="312" y="153"/>
                </a:lnTo>
                <a:lnTo>
                  <a:pt x="337" y="178"/>
                </a:lnTo>
                <a:lnTo>
                  <a:pt x="369" y="191"/>
                </a:lnTo>
                <a:lnTo>
                  <a:pt x="407" y="191"/>
                </a:lnTo>
                <a:lnTo>
                  <a:pt x="439" y="172"/>
                </a:lnTo>
                <a:lnTo>
                  <a:pt x="458" y="146"/>
                </a:lnTo>
                <a:lnTo>
                  <a:pt x="477" y="121"/>
                </a:lnTo>
                <a:lnTo>
                  <a:pt x="483" y="89"/>
                </a:lnTo>
                <a:lnTo>
                  <a:pt x="477" y="64"/>
                </a:lnTo>
                <a:lnTo>
                  <a:pt x="452" y="32"/>
                </a:lnTo>
                <a:lnTo>
                  <a:pt x="413" y="19"/>
                </a:lnTo>
                <a:lnTo>
                  <a:pt x="382" y="13"/>
                </a:lnTo>
                <a:lnTo>
                  <a:pt x="369" y="13"/>
                </a:lnTo>
              </a:path>
            </a:pathLst>
          </a:custGeom>
          <a:solidFill>
            <a:srgbClr val="fe9b0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5616720" y="3678120"/>
            <a:ext cx="191880" cy="4464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5641920" y="376884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5562720" y="38862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5935680" y="3757680"/>
            <a:ext cx="514440" cy="2556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6083280" y="3811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6021360" y="3922560"/>
            <a:ext cx="16524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6226200" y="3892680"/>
            <a:ext cx="166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 rot="1324800">
            <a:off x="6393960" y="3425400"/>
            <a:ext cx="609840" cy="3812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9"/>
          <p:cNvSpPr/>
          <p:nvPr/>
        </p:nvSpPr>
        <p:spPr>
          <a:xfrm>
            <a:off x="4572000" y="4267080"/>
            <a:ext cx="62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TB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71"/>
          <p:cNvSpPr/>
          <p:nvPr/>
        </p:nvSpPr>
        <p:spPr>
          <a:xfrm>
            <a:off x="6010200" y="358128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72"/>
          <p:cNvSpPr/>
          <p:nvPr/>
        </p:nvSpPr>
        <p:spPr>
          <a:xfrm>
            <a:off x="618012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73"/>
          <p:cNvSpPr/>
          <p:nvPr/>
        </p:nvSpPr>
        <p:spPr>
          <a:xfrm>
            <a:off x="609588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74"/>
          <p:cNvSpPr/>
          <p:nvPr/>
        </p:nvSpPr>
        <p:spPr>
          <a:xfrm>
            <a:off x="6062760" y="335268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9"/>
          <p:cNvSpPr/>
          <p:nvPr/>
        </p:nvSpPr>
        <p:spPr>
          <a:xfrm>
            <a:off x="5558040" y="481176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so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viable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90"/>
          <p:cNvSpPr/>
          <p:nvPr/>
        </p:nvSpPr>
        <p:spPr>
          <a:xfrm flipV="1">
            <a:off x="5257800" y="3962520"/>
            <a:ext cx="30492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91"/>
          <p:cNvSpPr/>
          <p:nvPr/>
        </p:nvSpPr>
        <p:spPr>
          <a:xfrm flipV="1">
            <a:off x="6019920" y="4038480"/>
            <a:ext cx="22860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92"/>
          <p:cNvSpPr/>
          <p:nvPr/>
        </p:nvSpPr>
        <p:spPr>
          <a:xfrm>
            <a:off x="6664320" y="361152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93"/>
          <p:cNvSpPr/>
          <p:nvPr/>
        </p:nvSpPr>
        <p:spPr>
          <a:xfrm>
            <a:off x="6512040" y="3657600"/>
            <a:ext cx="193680" cy="46080"/>
          </a:xfrm>
          <a:prstGeom prst="ellipse">
            <a:avLst/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94"/>
          <p:cNvSpPr/>
          <p:nvPr/>
        </p:nvSpPr>
        <p:spPr>
          <a:xfrm>
            <a:off x="6485040" y="3429000"/>
            <a:ext cx="6804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95"/>
          <p:cNvSpPr/>
          <p:nvPr/>
        </p:nvSpPr>
        <p:spPr>
          <a:xfrm>
            <a:off x="6629400" y="3429000"/>
            <a:ext cx="68400" cy="763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96"/>
          <p:cNvSpPr/>
          <p:nvPr/>
        </p:nvSpPr>
        <p:spPr>
          <a:xfrm>
            <a:off x="6629400" y="3505320"/>
            <a:ext cx="68400" cy="759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97"/>
          <p:cNvSpPr/>
          <p:nvPr/>
        </p:nvSpPr>
        <p:spPr>
          <a:xfrm>
            <a:off x="5715000" y="2514600"/>
            <a:ext cx="228600" cy="9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98"/>
          <p:cNvSpPr/>
          <p:nvPr/>
        </p:nvSpPr>
        <p:spPr>
          <a:xfrm>
            <a:off x="4641840" y="1905120"/>
            <a:ext cx="21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Lysosom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with free oxigene radica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99"/>
          <p:cNvSpPr/>
          <p:nvPr/>
        </p:nvSpPr>
        <p:spPr>
          <a:xfrm flipH="1">
            <a:off x="6781320" y="2971800"/>
            <a:ext cx="6858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00"/>
          <p:cNvSpPr/>
          <p:nvPr/>
        </p:nvSpPr>
        <p:spPr>
          <a:xfrm>
            <a:off x="6778080" y="2438280"/>
            <a:ext cx="1966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Phago-lysosomes with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nactivated MTB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3"/>
          <p:cNvSpPr/>
          <p:nvPr/>
        </p:nvSpPr>
        <p:spPr>
          <a:xfrm>
            <a:off x="1127160" y="41990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10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0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soniazid resistance and </a:t>
            </a: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inh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H blocks the synthesis of cell-wall mycolic acids, the major components of the envelope of 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M tubercul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ne intracellular target of the drug is fatty-acid enoyl-acyl carrier protein reductase (Inh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s enzyme is involved in the synthesis of mycolic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utations in the promoter region of the gene (</a:t>
            </a:r>
            <a:r>
              <a:rPr b="0" i="1" lang="en-US" sz="1800" spc="-1" strike="noStrike">
                <a:solidFill>
                  <a:srgbClr val="000066"/>
                </a:solidFill>
                <a:latin typeface="Arial"/>
              </a:rPr>
              <a:t>inhA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) encoding this enzyme result in over-expression of the prot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over-expressed enzyme may counter-balance the effect of INH and will result in a low-level resistance to the dru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9"/>
          <p:cNvGraphicFramePr/>
          <p:nvPr/>
        </p:nvGraphicFramePr>
        <p:xfrm>
          <a:off x="4724280" y="160020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04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ifampin resistanc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160" y="1523880"/>
            <a:ext cx="3886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One of the main reasons for treatment failure and fatal clinical outcome in tuberculosis patients is resistance to RM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exhibits a significant early bactericidal effect on metabolically active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M tuberculosis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, and excellent late sterilizing action on semidormant organisms undergoing short bursts of metabolic activ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hile monoresistance to INH is common, monoresistance to RMP is r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resistance occurs most often in strains that are also resistant to INH; thus RMP resistance can be used as a surrogate marker for M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RMP inhibits mycobacterial transcription by targeting DNA-dependent RNA polymera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4724280" y="1523880"/>
          <a:ext cx="3678480" cy="44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523880"/>
                    <a:ext cx="3678480" cy="4419720"/>
                  </a:xfrm>
                  <a:prstGeom prst="rect">
                    <a:avLst/>
                  </a:prstGeom>
                  <a:ln w="38160">
                    <a:solidFill>
                      <a:srgbClr val="6666cc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211" name="Picture 6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8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3"/>
          <p:cNvSpPr/>
          <p:nvPr/>
        </p:nvSpPr>
        <p:spPr>
          <a:xfrm>
            <a:off x="762120" y="2286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9"/>
                </a:solidFill>
                <a:latin typeface="Arial"/>
              </a:rPr>
              <a:t>Rifampin resistance and </a:t>
            </a:r>
            <a:r>
              <a:rPr b="0" i="1" lang="en-US" sz="4000" spc="-1" strike="noStrike">
                <a:solidFill>
                  <a:srgbClr val="ffffb9"/>
                </a:solidFill>
                <a:latin typeface="Arial"/>
              </a:rPr>
              <a:t>rpoB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762120" y="2971800"/>
            <a:ext cx="781992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esistance to RMP is due to mutations in a well-defined, 81 base-pair (27 codons) central region of the gene that encodes the β-subunit of RNA polymerase (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ore than 96% of the rifampin-resistant strains contain a mutation in this 81 bp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most common mutations (65–86%) alter either codon 526 or codon 531, and result in high-level resistance to R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terations in other codons result in low-level resis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Rare mutations associated with rifampin resistance have also been found in the amino-terminal region of </a:t>
            </a:r>
            <a:r>
              <a:rPr b="0" i="1" lang="en-US" sz="2000" spc="-1" strike="noStrike">
                <a:solidFill>
                  <a:srgbClr val="000066"/>
                </a:solidFill>
                <a:latin typeface="Arial"/>
              </a:rPr>
              <a:t>rpoB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7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LIPA2"/>
          <p:cNvPicPr/>
          <p:nvPr/>
        </p:nvPicPr>
        <p:blipFill>
          <a:blip r:embed="rId4">
            <a:lum bright="6000"/>
          </a:blip>
          <a:stretch/>
        </p:blipFill>
        <p:spPr>
          <a:xfrm>
            <a:off x="914400" y="1295280"/>
            <a:ext cx="7010280" cy="1551240"/>
          </a:xfrm>
          <a:prstGeom prst="rect">
            <a:avLst/>
          </a:prstGeom>
          <a:ln w="38160">
            <a:solidFill>
              <a:srgbClr val="6666cc"/>
            </a:solidFill>
            <a:miter/>
          </a:ln>
        </p:spPr>
      </p:pic>
      <p:cxnSp>
        <p:nvCxnSpPr>
          <p:cNvPr id="220" name="Straight Arrow Connector 10"/>
          <p:cNvCxnSpPr/>
          <p:nvPr/>
        </p:nvCxnSpPr>
        <p:spPr>
          <a:xfrm flipH="1" flipV="1">
            <a:off x="5486040" y="2514240"/>
            <a:ext cx="381600" cy="3816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21" name="Straight Arrow Connector 13"/>
          <p:cNvCxnSpPr/>
          <p:nvPr/>
        </p:nvCxnSpPr>
        <p:spPr>
          <a:xfrm flipH="1" flipV="1">
            <a:off x="6781320" y="2513880"/>
            <a:ext cx="15336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ffffff"/>
                </a:solidFill>
                <a:latin typeface="Arial"/>
              </a:rPr>
              <a:t>MDR-XDR T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28640"/>
            <a:ext cx="846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 =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ulti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resistan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igh fatality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quires treatment with second-line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therapy (18 months): Increased cost, sid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XDR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tensively drug-resistant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B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to INH and RMP (MDR)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lu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ist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any fluoroquinolone, and at least one injectable second-line drug (capreomycin, kanamycin, and/or amikac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ld be inc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3883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pid molecular detection of INH and RMP resistance: Line – probe assay method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42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NA isolated from processed original specimen or from cultured bacterial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ultiplexed amplification (PCR) of mycobacterial DNA using biotin-labelled pri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naturation of the amplified DNA products into single-str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Hybridization of the denatured DNA to probes on a membrane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Enzyme-mediated detection of bands where DNA products have bound to s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pcr3"/>
          <p:cNvPicPr/>
          <p:nvPr/>
        </p:nvPicPr>
        <p:blipFill>
          <a:blip r:embed="rId1"/>
          <a:srcRect l="1964" t="0" r="1964" b="2718"/>
          <a:stretch/>
        </p:blipFill>
        <p:spPr>
          <a:xfrm>
            <a:off x="0" y="1711440"/>
            <a:ext cx="9144000" cy="430992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228600" y="2286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Polymerase chain react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4670" t="12486" r="28735" b="6253"/>
          <a:stretch/>
        </p:blipFill>
        <p:spPr>
          <a:xfrm>
            <a:off x="755640" y="1155600"/>
            <a:ext cx="7488360" cy="57024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3"/>
          <p:cNvSpPr/>
          <p:nvPr/>
        </p:nvSpPr>
        <p:spPr>
          <a:xfrm>
            <a:off x="0" y="195120"/>
            <a:ext cx="86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TBDR plus strip for identification of MTB comple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resistance to RMP and/or IN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800" spc="-1" strike="noStrike">
                <a:solidFill>
                  <a:srgbClr val="ffffb9"/>
                </a:solidFill>
                <a:latin typeface="Arial"/>
              </a:rPr>
              <a:t>TB molecular identific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64000" y="1413000"/>
            <a:ext cx="24480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DVANTAGES of molecular tes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api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n be done in the presence of contamin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 biohazard risk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156360" y="1412640"/>
            <a:ext cx="25192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SADVANTAGES of molecular test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dicated equipment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expertise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"/>
          <p:cNvSpPr/>
          <p:nvPr/>
        </p:nvSpPr>
        <p:spPr>
          <a:xfrm>
            <a:off x="615636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6"/>
          <p:cNvSpPr/>
          <p:nvPr/>
        </p:nvSpPr>
        <p:spPr>
          <a:xfrm>
            <a:off x="3564000" y="1341360"/>
            <a:ext cx="0" cy="489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395280" y="1413000"/>
            <a:ext cx="3097080" cy="47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LE SYSTEMS (Commerci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in GenotType MTBDRplu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noLiPA Ri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ffff"/>
              </a:buClr>
              <a:buSzPct val="80000"/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15328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Summary: why is molecular detection of drug resistance important?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apid and accu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viru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provide information on the level of res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ay help to identify molecular pathways to develop new dru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093F-04F2-4AFA-84A7-B295F45CB0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-76320" y="20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5"/>
          <p:cNvGraphicFramePr/>
          <p:nvPr/>
        </p:nvGraphicFramePr>
        <p:xfrm>
          <a:off x="0" y="0"/>
          <a:ext cx="8915400" cy="635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3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Text Box 6"/>
          <p:cNvSpPr/>
          <p:nvPr/>
        </p:nvSpPr>
        <p:spPr>
          <a:xfrm>
            <a:off x="380880" y="6324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(True global distribution unknown due to limited culture and DST testing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b9"/>
                </a:solidFill>
                <a:latin typeface="Arial"/>
              </a:rPr>
              <a:t>Conventional laboratory diagnosis of tuberculosis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6840" y="13712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TB is caused by the bacterial species </a:t>
            </a:r>
            <a:r>
              <a:rPr b="0" i="1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ycobacterium tuberculos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 and occasionally by other species belonging to the TB complex (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bovis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,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M. africanum, M. canetti, M. pennipedii, M. microti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  <a:ea typeface="SimSun"/>
              </a:rPr>
              <a:t>Members of the TB complex are also known as tubercule bacil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  <a:ea typeface="SimSun"/>
              </a:rPr>
              <a:t>Laboratory methods for detection and diagnosis of TB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AFB smear micros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Culture for detection and identification of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Drug-susceptibility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  <a:ea typeface="SimSun"/>
              </a:rPr>
              <a:t>Molecular and new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249120"/>
            <a:ext cx="84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9"/>
                </a:solidFill>
                <a:latin typeface="Arial"/>
              </a:rPr>
              <a:t>The causative agent of TB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5715000" y="63388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ations  of AFB smear microscop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w sensitivity for AFB detection in spu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5000–10,000 AFB/ml of spu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V co-infection further reduces sensitivity (non-cavitary disease with lower numbers of bacteria in spu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increases with specimen concentration and fluorescent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ins both live and dead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ifferentiate tubercle bacilli from other myco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"/>
          <p:cNvPicPr/>
          <p:nvPr/>
        </p:nvPicPr>
        <p:blipFill>
          <a:blip r:embed="rId1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"/>
          <p:cNvPicPr/>
          <p:nvPr/>
        </p:nvPicPr>
        <p:blipFill>
          <a:blip r:embed="rId2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5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imitations of TB cultur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growth of the MTB; long turn-arou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nsive; limited number of laboratories perform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herence to strict biosafety proced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equate infrastructure, facilities, electricity and w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of qualifi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 use and maintenance of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ous supply of media, reagents and suppl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men transpo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ty Management Sys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Ps, organized workflow, quality control, quality assur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enotypic DS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turn-aroun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growth for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T turn-around time is 21 days from inoculation to L J or 7H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24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rter turn-around time compared to solid DST 4 – 13/21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oduc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76680" y="1447560"/>
            <a:ext cx="9448920" cy="16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lecular mechanisms of </a:t>
            </a:r>
            <a:br>
              <a:rPr sz="4400"/>
            </a:b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ultidrug-resistant tuberculos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09:28:36Z</dcterms:created>
  <dc:creator>D</dc:creator>
  <dc:description/>
  <dc:language>en-US</dc:language>
  <cp:lastModifiedBy>Philip</cp:lastModifiedBy>
  <dcterms:modified xsi:type="dcterms:W3CDTF">2012-01-26T09:52:21Z</dcterms:modified>
  <cp:revision>98</cp:revision>
  <dc:subject/>
  <dc:title>Slide 1</dc:title>
</cp:coreProperties>
</file>