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6012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EAB7-444C-4462-B456-476FCE58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22DF-D0DD-4221-9A7B-B8BFA8822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FB92-4E36-41C9-90A8-621BD6711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77308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782320"/>
            <a:ext cx="187668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FD3B-A894-4179-93EB-E2680F1BA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781-7744-4830-899E-C1AEC5FE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6756-E88D-4252-BEEA-AC352E31D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2513-0F33-4165-88A9-A46A90DA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5045-38CC-4C95-8BB2-16BD05E2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53560"/>
            <a:ext cx="582912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A177-0DF4-4591-9AAC-85921624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797E-C1B4-4768-A0B6-D1A63E1A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78232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253-3546-429C-A102-CEE00360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773080"/>
            <a:ext cx="284436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782320"/>
            <a:ext cx="5829120" cy="27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4707-B437-4EB4-AF24-B29C26ED0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53560"/>
            <a:ext cx="58291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773080"/>
            <a:ext cx="5829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746920"/>
            <a:ext cx="1428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746920"/>
            <a:ext cx="217152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746920"/>
            <a:ext cx="142848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67E1-17FC-491E-B86F-35E05538D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87"/>
          <p:cNvGrpSpPr/>
          <p:nvPr/>
        </p:nvGrpSpPr>
        <p:grpSpPr>
          <a:xfrm>
            <a:off x="311040" y="4960800"/>
            <a:ext cx="2975040" cy="1346040"/>
            <a:chOff x="311040" y="4960800"/>
            <a:chExt cx="2975040" cy="1346040"/>
          </a:xfrm>
        </p:grpSpPr>
        <p:grpSp>
          <p:nvGrpSpPr>
            <p:cNvPr id="42" name="Group 210"/>
            <p:cNvGrpSpPr/>
            <p:nvPr/>
          </p:nvGrpSpPr>
          <p:grpSpPr>
            <a:xfrm>
              <a:off x="2271600" y="5030640"/>
              <a:ext cx="1014480" cy="1276200"/>
              <a:chOff x="2271600" y="5030640"/>
              <a:chExt cx="1014480" cy="1276200"/>
            </a:xfrm>
          </p:grpSpPr>
          <p:grpSp>
            <p:nvGrpSpPr>
              <p:cNvPr id="43" name="Group 204"/>
              <p:cNvGrpSpPr/>
              <p:nvPr/>
            </p:nvGrpSpPr>
            <p:grpSpPr>
              <a:xfrm>
                <a:off x="2711520" y="5030640"/>
                <a:ext cx="136440" cy="711000"/>
                <a:chOff x="2711520" y="5030640"/>
                <a:chExt cx="136440" cy="711000"/>
              </a:xfrm>
            </p:grpSpPr>
            <p:sp>
              <p:nvSpPr>
                <p:cNvPr id="44" name="AutoShape 205"/>
                <p:cNvSpPr/>
                <p:nvPr/>
              </p:nvSpPr>
              <p:spPr>
                <a:xfrm>
                  <a:off x="2711520" y="503064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206"/>
                <p:cNvSpPr/>
                <p:nvPr/>
              </p:nvSpPr>
              <p:spPr>
                <a:xfrm>
                  <a:off x="2722680" y="564336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Line 207"/>
                <p:cNvSpPr/>
                <p:nvPr/>
              </p:nvSpPr>
              <p:spPr>
                <a:xfrm flipV="1">
                  <a:off x="2722680" y="517356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Line 208"/>
                <p:cNvSpPr/>
                <p:nvPr/>
              </p:nvSpPr>
              <p:spPr>
                <a:xfrm flipV="1">
                  <a:off x="2836800" y="517356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" name="Text Box 209"/>
              <p:cNvSpPr/>
              <p:nvPr/>
            </p:nvSpPr>
            <p:spPr>
              <a:xfrm>
                <a:off x="2271600" y="57261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terile Tube with 4 mL MGIT broth and sterile glass bead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" name="Group 212"/>
            <p:cNvGrpSpPr/>
            <p:nvPr/>
          </p:nvGrpSpPr>
          <p:grpSpPr>
            <a:xfrm>
              <a:off x="311040" y="4960800"/>
              <a:ext cx="1306800" cy="1302120"/>
              <a:chOff x="311040" y="4960800"/>
              <a:chExt cx="1306800" cy="1302120"/>
            </a:xfrm>
          </p:grpSpPr>
          <p:grpSp>
            <p:nvGrpSpPr>
              <p:cNvPr id="50" name="Group 192"/>
              <p:cNvGrpSpPr/>
              <p:nvPr/>
            </p:nvGrpSpPr>
            <p:grpSpPr>
              <a:xfrm>
                <a:off x="885960" y="4960800"/>
                <a:ext cx="155520" cy="877680"/>
                <a:chOff x="885960" y="4960800"/>
                <a:chExt cx="155520" cy="877680"/>
              </a:xfrm>
            </p:grpSpPr>
            <p:grpSp>
              <p:nvGrpSpPr>
                <p:cNvPr id="51" name="Group 193"/>
                <p:cNvGrpSpPr/>
                <p:nvPr/>
              </p:nvGrpSpPr>
              <p:grpSpPr>
                <a:xfrm>
                  <a:off x="885960" y="4960800"/>
                  <a:ext cx="155520" cy="877680"/>
                  <a:chOff x="885960" y="4960800"/>
                  <a:chExt cx="155520" cy="877680"/>
                </a:xfrm>
              </p:grpSpPr>
              <p:sp>
                <p:nvSpPr>
                  <p:cNvPr id="52" name="AutoShape 194"/>
                  <p:cNvSpPr/>
                  <p:nvPr/>
                </p:nvSpPr>
                <p:spPr>
                  <a:xfrm>
                    <a:off x="885960" y="4960800"/>
                    <a:ext cx="155520" cy="18432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Freeform 195"/>
                  <p:cNvSpPr/>
                  <p:nvPr/>
                </p:nvSpPr>
                <p:spPr>
                  <a:xfrm>
                    <a:off x="897840" y="5717520"/>
                    <a:ext cx="136440" cy="120960"/>
                  </a:xfrm>
                  <a:custGeom>
                    <a:avLst/>
                    <a:gdLst>
                      <a:gd name="textAreaLeft" fmla="*/ 0 w 136440"/>
                      <a:gd name="textAreaRight" fmla="*/ 136800 w 136440"/>
                      <a:gd name="textAreaTop" fmla="*/ 0 h 120960"/>
                      <a:gd name="textAreaBottom" fmla="*/ 121320 h 12096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" name="Line 196"/>
                  <p:cNvSpPr/>
                  <p:nvPr/>
                </p:nvSpPr>
                <p:spPr>
                  <a:xfrm flipV="1">
                    <a:off x="897840" y="5136480"/>
                    <a:ext cx="0" cy="5846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" name="Line 197"/>
                  <p:cNvSpPr/>
                  <p:nvPr/>
                </p:nvSpPr>
                <p:spPr>
                  <a:xfrm flipV="1">
                    <a:off x="1033560" y="5137200"/>
                    <a:ext cx="0" cy="5842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" name="Line 198"/>
                <p:cNvSpPr/>
                <p:nvPr/>
              </p:nvSpPr>
              <p:spPr>
                <a:xfrm>
                  <a:off x="898560" y="5360040"/>
                  <a:ext cx="133920" cy="2980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Text Box 211"/>
              <p:cNvSpPr/>
              <p:nvPr/>
            </p:nvSpPr>
            <p:spPr>
              <a:xfrm>
                <a:off x="311040" y="5925600"/>
                <a:ext cx="1306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olid Medium with growth </a:t>
                </a:r>
                <a:r>
                  <a:rPr b="0" lang="en-US" sz="8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&lt;</a:t>
                </a: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 14 days ol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" name="Line 220"/>
            <p:cNvSpPr/>
            <p:nvPr/>
          </p:nvSpPr>
          <p:spPr>
            <a:xfrm>
              <a:off x="1249200" y="5354640"/>
              <a:ext cx="11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286"/>
          <p:cNvGrpSpPr/>
          <p:nvPr/>
        </p:nvGrpSpPr>
        <p:grpSpPr>
          <a:xfrm>
            <a:off x="944640" y="6207120"/>
            <a:ext cx="1923840" cy="985680"/>
            <a:chOff x="944640" y="6207120"/>
            <a:chExt cx="1923840" cy="985680"/>
          </a:xfrm>
        </p:grpSpPr>
        <p:sp>
          <p:nvSpPr>
            <p:cNvPr id="60" name="Freeform 230"/>
            <p:cNvSpPr/>
            <p:nvPr/>
          </p:nvSpPr>
          <p:spPr>
            <a:xfrm>
              <a:off x="944640" y="6207120"/>
              <a:ext cx="1923840" cy="985680"/>
            </a:xfrm>
            <a:custGeom>
              <a:avLst/>
              <a:gdLst>
                <a:gd name="textAreaLeft" fmla="*/ 0 w 1923840"/>
                <a:gd name="textAreaRight" fmla="*/ 1924200 w 1923840"/>
                <a:gd name="textAreaTop" fmla="*/ 0 h 985680"/>
                <a:gd name="textAreaBottom" fmla="*/ 986040 h 985680"/>
              </a:gdLst>
              <a:ahLst/>
              <a:rect l="textAreaLeft" t="textAreaTop" r="textAreaRight" b="textAreaBottom"/>
              <a:pathLst>
                <a:path w="1212" h="621">
                  <a:moveTo>
                    <a:pt x="1212" y="0"/>
                  </a:moveTo>
                  <a:lnTo>
                    <a:pt x="1025" y="359"/>
                  </a:lnTo>
                  <a:lnTo>
                    <a:pt x="116" y="359"/>
                  </a:lnTo>
                  <a:lnTo>
                    <a:pt x="0" y="62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Group 234"/>
            <p:cNvGrpSpPr/>
            <p:nvPr/>
          </p:nvGrpSpPr>
          <p:grpSpPr>
            <a:xfrm>
              <a:off x="1187280" y="6462360"/>
              <a:ext cx="1247760" cy="502560"/>
              <a:chOff x="1187280" y="6462360"/>
              <a:chExt cx="1247760" cy="502560"/>
            </a:xfrm>
          </p:grpSpPr>
          <p:sp>
            <p:nvSpPr>
              <p:cNvPr id="62" name="Text Box 221"/>
              <p:cNvSpPr/>
              <p:nvPr/>
            </p:nvSpPr>
            <p:spPr>
              <a:xfrm>
                <a:off x="1187280" y="6462360"/>
                <a:ext cx="1247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repare suspension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&gt; 1.0 McFarland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Text Box 231"/>
              <p:cNvSpPr/>
              <p:nvPr/>
            </p:nvSpPr>
            <p:spPr>
              <a:xfrm>
                <a:off x="1187280" y="6749280"/>
                <a:ext cx="124776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Vortex 2 - 3 minutes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" name="Group 350"/>
          <p:cNvGrpSpPr/>
          <p:nvPr/>
        </p:nvGrpSpPr>
        <p:grpSpPr>
          <a:xfrm>
            <a:off x="225360" y="6977160"/>
            <a:ext cx="6337440" cy="1675800"/>
            <a:chOff x="225360" y="6977160"/>
            <a:chExt cx="6337440" cy="1675800"/>
          </a:xfrm>
        </p:grpSpPr>
        <p:grpSp>
          <p:nvGrpSpPr>
            <p:cNvPr id="65" name="Group 289"/>
            <p:cNvGrpSpPr/>
            <p:nvPr/>
          </p:nvGrpSpPr>
          <p:grpSpPr>
            <a:xfrm>
              <a:off x="225360" y="6977160"/>
              <a:ext cx="4659480" cy="1449720"/>
              <a:chOff x="225360" y="6977160"/>
              <a:chExt cx="4659480" cy="1449720"/>
            </a:xfrm>
          </p:grpSpPr>
          <p:grpSp>
            <p:nvGrpSpPr>
              <p:cNvPr id="66" name="Group 271"/>
              <p:cNvGrpSpPr/>
              <p:nvPr/>
            </p:nvGrpSpPr>
            <p:grpSpPr>
              <a:xfrm>
                <a:off x="225360" y="7259760"/>
                <a:ext cx="1306440" cy="1167120"/>
                <a:chOff x="225360" y="7259760"/>
                <a:chExt cx="1306440" cy="1167120"/>
              </a:xfrm>
            </p:grpSpPr>
            <p:grpSp>
              <p:nvGrpSpPr>
                <p:cNvPr id="67" name="Group 223"/>
                <p:cNvGrpSpPr/>
                <p:nvPr/>
              </p:nvGrpSpPr>
              <p:grpSpPr>
                <a:xfrm>
                  <a:off x="809280" y="7259760"/>
                  <a:ext cx="136080" cy="711000"/>
                  <a:chOff x="809280" y="7259760"/>
                  <a:chExt cx="136080" cy="711000"/>
                </a:xfrm>
              </p:grpSpPr>
              <p:sp>
                <p:nvSpPr>
                  <p:cNvPr id="68" name="AutoShape 224"/>
                  <p:cNvSpPr/>
                  <p:nvPr/>
                </p:nvSpPr>
                <p:spPr>
                  <a:xfrm>
                    <a:off x="809280" y="7259760"/>
                    <a:ext cx="136080" cy="149040"/>
                  </a:xfrm>
                  <a:prstGeom prst="can">
                    <a:avLst>
                      <a:gd name="adj" fmla="val 25000"/>
                    </a:avLst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Freeform 225"/>
                  <p:cNvSpPr/>
                  <p:nvPr/>
                </p:nvSpPr>
                <p:spPr>
                  <a:xfrm>
                    <a:off x="820080" y="7872480"/>
                    <a:ext cx="113760" cy="98280"/>
                  </a:xfrm>
                  <a:custGeom>
                    <a:avLst/>
                    <a:gdLst>
                      <a:gd name="textAreaLeft" fmla="*/ 0 w 113760"/>
                      <a:gd name="textAreaRight" fmla="*/ 114120 w 113760"/>
                      <a:gd name="textAreaTop" fmla="*/ 0 h 98280"/>
                      <a:gd name="textAreaBottom" fmla="*/ 98640 h 9828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Line 226"/>
                  <p:cNvSpPr/>
                  <p:nvPr/>
                </p:nvSpPr>
                <p:spPr>
                  <a:xfrm flipV="1">
                    <a:off x="820080" y="7402680"/>
                    <a:ext cx="0" cy="4730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227"/>
                  <p:cNvSpPr/>
                  <p:nvPr/>
                </p:nvSpPr>
                <p:spPr>
                  <a:xfrm flipV="1">
                    <a:off x="934200" y="7402680"/>
                    <a:ext cx="0" cy="474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Text Box 233"/>
                <p:cNvSpPr/>
                <p:nvPr/>
              </p:nvSpPr>
              <p:spPr>
                <a:xfrm>
                  <a:off x="225360" y="8089560"/>
                  <a:ext cx="13064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0 minutes for large clumps to settl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Group 277"/>
              <p:cNvGrpSpPr/>
              <p:nvPr/>
            </p:nvGrpSpPr>
            <p:grpSpPr>
              <a:xfrm>
                <a:off x="1273320" y="6977160"/>
                <a:ext cx="1935000" cy="1449720"/>
                <a:chOff x="1273320" y="6977160"/>
                <a:chExt cx="1935000" cy="1449720"/>
              </a:xfrm>
            </p:grpSpPr>
            <p:grpSp>
              <p:nvGrpSpPr>
                <p:cNvPr id="74" name="Group 257"/>
                <p:cNvGrpSpPr/>
                <p:nvPr/>
              </p:nvGrpSpPr>
              <p:grpSpPr>
                <a:xfrm>
                  <a:off x="1273320" y="6977160"/>
                  <a:ext cx="1006920" cy="987480"/>
                  <a:chOff x="1273320" y="6977160"/>
                  <a:chExt cx="1006920" cy="987480"/>
                </a:xfrm>
              </p:grpSpPr>
              <p:sp>
                <p:nvSpPr>
                  <p:cNvPr id="75" name="Arc 240"/>
                  <p:cNvSpPr/>
                  <p:nvPr/>
                </p:nvSpPr>
                <p:spPr>
                  <a:xfrm rot="18701400">
                    <a:off x="1440720" y="7115040"/>
                    <a:ext cx="689040" cy="71100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000"/>
                      <a:gd name="textAreaBottom" fmla="*/ 711360 h 71100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Text Box 242"/>
                  <p:cNvSpPr/>
                  <p:nvPr/>
                </p:nvSpPr>
                <p:spPr>
                  <a:xfrm>
                    <a:off x="12733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272"/>
                <p:cNvGrpSpPr/>
                <p:nvPr/>
              </p:nvGrpSpPr>
              <p:grpSpPr>
                <a:xfrm>
                  <a:off x="2130480" y="7259760"/>
                  <a:ext cx="1077840" cy="1167120"/>
                  <a:chOff x="2130480" y="7259760"/>
                  <a:chExt cx="1077840" cy="1167120"/>
                </a:xfrm>
              </p:grpSpPr>
              <p:grpSp>
                <p:nvGrpSpPr>
                  <p:cNvPr id="78" name="Group 243"/>
                  <p:cNvGrpSpPr/>
                  <p:nvPr/>
                </p:nvGrpSpPr>
                <p:grpSpPr>
                  <a:xfrm>
                    <a:off x="2602080" y="7259760"/>
                    <a:ext cx="136440" cy="711000"/>
                    <a:chOff x="2602080" y="7259760"/>
                    <a:chExt cx="136440" cy="711000"/>
                  </a:xfrm>
                </p:grpSpPr>
                <p:sp>
                  <p:nvSpPr>
                    <p:cNvPr id="79" name="AutoShape 244"/>
                    <p:cNvSpPr/>
                    <p:nvPr/>
                  </p:nvSpPr>
                  <p:spPr>
                    <a:xfrm>
                      <a:off x="260208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Freeform 245"/>
                    <p:cNvSpPr/>
                    <p:nvPr/>
                  </p:nvSpPr>
                  <p:spPr>
                    <a:xfrm>
                      <a:off x="261324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Line 246"/>
                    <p:cNvSpPr/>
                    <p:nvPr/>
                  </p:nvSpPr>
                  <p:spPr>
                    <a:xfrm flipV="1">
                      <a:off x="26132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Line 247"/>
                    <p:cNvSpPr/>
                    <p:nvPr/>
                  </p:nvSpPr>
                  <p:spPr>
                    <a:xfrm flipV="1">
                      <a:off x="27273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" name="Text Box 248"/>
                  <p:cNvSpPr/>
                  <p:nvPr/>
                </p:nvSpPr>
                <p:spPr>
                  <a:xfrm>
                    <a:off x="213048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5 minutes for clumps to settl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" name="Group 276"/>
              <p:cNvGrpSpPr/>
              <p:nvPr/>
            </p:nvGrpSpPr>
            <p:grpSpPr>
              <a:xfrm>
                <a:off x="3033720" y="6977160"/>
                <a:ext cx="1851120" cy="1449720"/>
                <a:chOff x="3033720" y="6977160"/>
                <a:chExt cx="1851120" cy="1449720"/>
              </a:xfrm>
            </p:grpSpPr>
            <p:grpSp>
              <p:nvGrpSpPr>
                <p:cNvPr id="85" name="Group 258"/>
                <p:cNvGrpSpPr/>
                <p:nvPr/>
              </p:nvGrpSpPr>
              <p:grpSpPr>
                <a:xfrm>
                  <a:off x="3033720" y="6977160"/>
                  <a:ext cx="1007640" cy="987480"/>
                  <a:chOff x="3033720" y="6977160"/>
                  <a:chExt cx="1007640" cy="987480"/>
                </a:xfrm>
              </p:grpSpPr>
              <p:sp>
                <p:nvSpPr>
                  <p:cNvPr id="86" name="Arc 249"/>
                  <p:cNvSpPr/>
                  <p:nvPr/>
                </p:nvSpPr>
                <p:spPr>
                  <a:xfrm rot="18701400">
                    <a:off x="32018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" name="Text Box 250"/>
                  <p:cNvSpPr/>
                  <p:nvPr/>
                </p:nvSpPr>
                <p:spPr>
                  <a:xfrm>
                    <a:off x="3033720" y="7324200"/>
                    <a:ext cx="98100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Transfer supernat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8" name="Group 273"/>
                <p:cNvGrpSpPr/>
                <p:nvPr/>
              </p:nvGrpSpPr>
              <p:grpSpPr>
                <a:xfrm>
                  <a:off x="3807000" y="7259760"/>
                  <a:ext cx="1077840" cy="1167120"/>
                  <a:chOff x="3807000" y="7259760"/>
                  <a:chExt cx="1077840" cy="1167120"/>
                </a:xfrm>
              </p:grpSpPr>
              <p:grpSp>
                <p:nvGrpSpPr>
                  <p:cNvPr id="89" name="Group 251"/>
                  <p:cNvGrpSpPr/>
                  <p:nvPr/>
                </p:nvGrpSpPr>
                <p:grpSpPr>
                  <a:xfrm>
                    <a:off x="4278240" y="7259760"/>
                    <a:ext cx="136080" cy="711000"/>
                    <a:chOff x="4278240" y="7259760"/>
                    <a:chExt cx="136080" cy="711000"/>
                  </a:xfrm>
                </p:grpSpPr>
                <p:sp>
                  <p:nvSpPr>
                    <p:cNvPr id="90" name="AutoShape 252"/>
                    <p:cNvSpPr/>
                    <p:nvPr/>
                  </p:nvSpPr>
                  <p:spPr>
                    <a:xfrm>
                      <a:off x="4278240" y="7259760"/>
                      <a:ext cx="13608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" name="Freeform 253"/>
                    <p:cNvSpPr/>
                    <p:nvPr/>
                  </p:nvSpPr>
                  <p:spPr>
                    <a:xfrm>
                      <a:off x="4289040" y="7872480"/>
                      <a:ext cx="113760" cy="98280"/>
                    </a:xfrm>
                    <a:custGeom>
                      <a:avLst/>
                      <a:gdLst>
                        <a:gd name="textAreaLeft" fmla="*/ 0 w 113760"/>
                        <a:gd name="textAreaRight" fmla="*/ 114120 w 11376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Line 254"/>
                    <p:cNvSpPr/>
                    <p:nvPr/>
                  </p:nvSpPr>
                  <p:spPr>
                    <a:xfrm flipV="1">
                      <a:off x="428904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" name="Line 255"/>
                    <p:cNvSpPr/>
                    <p:nvPr/>
                  </p:nvSpPr>
                  <p:spPr>
                    <a:xfrm flipV="1">
                      <a:off x="440316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" name="Text Box 256"/>
                  <p:cNvSpPr/>
                  <p:nvPr/>
                </p:nvSpPr>
                <p:spPr>
                  <a:xfrm>
                    <a:off x="380700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Adjust to 0.5 McFarland turbidity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" name="Group 349"/>
            <p:cNvGrpSpPr/>
            <p:nvPr/>
          </p:nvGrpSpPr>
          <p:grpSpPr>
            <a:xfrm>
              <a:off x="4795920" y="6977160"/>
              <a:ext cx="1766880" cy="1675800"/>
              <a:chOff x="4795920" y="6977160"/>
              <a:chExt cx="1766880" cy="1675800"/>
            </a:xfrm>
          </p:grpSpPr>
          <p:grpSp>
            <p:nvGrpSpPr>
              <p:cNvPr id="96" name="Group 279"/>
              <p:cNvGrpSpPr/>
              <p:nvPr/>
            </p:nvGrpSpPr>
            <p:grpSpPr>
              <a:xfrm>
                <a:off x="4795920" y="6977160"/>
                <a:ext cx="1766880" cy="1449720"/>
                <a:chOff x="4795920" y="6977160"/>
                <a:chExt cx="1766880" cy="1449720"/>
              </a:xfrm>
            </p:grpSpPr>
            <p:grpSp>
              <p:nvGrpSpPr>
                <p:cNvPr id="97" name="Group 278"/>
                <p:cNvGrpSpPr/>
                <p:nvPr/>
              </p:nvGrpSpPr>
              <p:grpSpPr>
                <a:xfrm>
                  <a:off x="4795920" y="6977160"/>
                  <a:ext cx="1007640" cy="987480"/>
                  <a:chOff x="4795920" y="6977160"/>
                  <a:chExt cx="1007640" cy="987480"/>
                </a:xfrm>
              </p:grpSpPr>
              <p:sp>
                <p:nvSpPr>
                  <p:cNvPr id="98" name="Arc 260"/>
                  <p:cNvSpPr/>
                  <p:nvPr/>
                </p:nvSpPr>
                <p:spPr>
                  <a:xfrm rot="18701400">
                    <a:off x="4964040" y="7115040"/>
                    <a:ext cx="689040" cy="711360"/>
                  </a:xfrm>
                  <a:custGeom>
                    <a:avLst/>
                    <a:gdLst>
                      <a:gd name="textAreaLeft" fmla="*/ 0 w 689040"/>
                      <a:gd name="textAreaRight" fmla="*/ 689400 w 689040"/>
                      <a:gd name="textAreaTop" fmla="*/ 0 h 711360"/>
                      <a:gd name="textAreaBottom" fmla="*/ 711720 h 711360"/>
                    </a:gdLst>
                    <a:ahLst/>
                    <a:rect l="textAreaLeft" t="textAreaTop" r="textAreaRight" b="textAreaBottom"/>
                    <a:pathLst>
                      <a:path fill="none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</a:path>
                      <a:path stroke="0" w="21543" h="21600">
                        <a:moveTo>
                          <a:pt x="-1" y="0"/>
                        </a:moveTo>
                        <a:cubicBezTo>
                          <a:pt x="11323" y="0"/>
                          <a:pt x="20724" y="8744"/>
                          <a:pt x="21543" y="20037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Text Box 261"/>
                  <p:cNvSpPr/>
                  <p:nvPr/>
                </p:nvSpPr>
                <p:spPr>
                  <a:xfrm>
                    <a:off x="4795920" y="7377480"/>
                    <a:ext cx="981000" cy="2311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Arial"/>
                      </a:rPr>
                      <a:t>1 mL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0" name="Group 274"/>
                <p:cNvGrpSpPr/>
                <p:nvPr/>
              </p:nvGrpSpPr>
              <p:grpSpPr>
                <a:xfrm>
                  <a:off x="5484960" y="7259760"/>
                  <a:ext cx="1077840" cy="1167120"/>
                  <a:chOff x="5484960" y="7259760"/>
                  <a:chExt cx="1077840" cy="1167120"/>
                </a:xfrm>
              </p:grpSpPr>
              <p:grpSp>
                <p:nvGrpSpPr>
                  <p:cNvPr id="101" name="Group 262"/>
                  <p:cNvGrpSpPr/>
                  <p:nvPr/>
                </p:nvGrpSpPr>
                <p:grpSpPr>
                  <a:xfrm>
                    <a:off x="5956200" y="7259760"/>
                    <a:ext cx="136440" cy="711000"/>
                    <a:chOff x="5956200" y="7259760"/>
                    <a:chExt cx="136440" cy="711000"/>
                  </a:xfrm>
                </p:grpSpPr>
                <p:sp>
                  <p:nvSpPr>
                    <p:cNvPr id="102" name="AutoShape 263"/>
                    <p:cNvSpPr/>
                    <p:nvPr/>
                  </p:nvSpPr>
                  <p:spPr>
                    <a:xfrm>
                      <a:off x="5956200" y="7259760"/>
                      <a:ext cx="136440" cy="149040"/>
                    </a:xfrm>
                    <a:prstGeom prst="can">
                      <a:avLst>
                        <a:gd name="adj" fmla="val 25000"/>
                      </a:avLst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Freeform 264"/>
                    <p:cNvSpPr/>
                    <p:nvPr/>
                  </p:nvSpPr>
                  <p:spPr>
                    <a:xfrm>
                      <a:off x="5967360" y="7872480"/>
                      <a:ext cx="114120" cy="98280"/>
                    </a:xfrm>
                    <a:custGeom>
                      <a:avLst/>
                      <a:gdLst>
                        <a:gd name="textAreaLeft" fmla="*/ 0 w 114120"/>
                        <a:gd name="textAreaRight" fmla="*/ 114480 w 114120"/>
                        <a:gd name="textAreaTop" fmla="*/ 0 h 98280"/>
                        <a:gd name="textAreaBottom" fmla="*/ 98640 h 98280"/>
                      </a:gdLst>
                      <a:ahLst/>
                      <a:rect l="textAreaLeft" t="textAreaTop" r="textAreaRight" b="textAreaBottom"/>
                      <a:pathLst>
                        <a:path w="177" h="139">
                          <a:moveTo>
                            <a:pt x="0" y="6"/>
                          </a:moveTo>
                          <a:cubicBezTo>
                            <a:pt x="0" y="18"/>
                            <a:pt x="0" y="60"/>
                            <a:pt x="1" y="76"/>
                          </a:cubicBezTo>
                          <a:cubicBezTo>
                            <a:pt x="2" y="92"/>
                            <a:pt x="4" y="97"/>
                            <a:pt x="6" y="103"/>
                          </a:cubicBezTo>
                          <a:cubicBezTo>
                            <a:pt x="8" y="109"/>
                            <a:pt x="10" y="112"/>
                            <a:pt x="13" y="115"/>
                          </a:cubicBezTo>
                          <a:cubicBezTo>
                            <a:pt x="16" y="118"/>
                            <a:pt x="22" y="121"/>
                            <a:pt x="25" y="123"/>
                          </a:cubicBezTo>
                          <a:cubicBezTo>
                            <a:pt x="28" y="125"/>
                            <a:pt x="30" y="125"/>
                            <a:pt x="34" y="127"/>
                          </a:cubicBezTo>
                          <a:cubicBezTo>
                            <a:pt x="38" y="129"/>
                            <a:pt x="45" y="134"/>
                            <a:pt x="50" y="136"/>
                          </a:cubicBezTo>
                          <a:cubicBezTo>
                            <a:pt x="55" y="138"/>
                            <a:pt x="58" y="137"/>
                            <a:pt x="63" y="137"/>
                          </a:cubicBezTo>
                          <a:cubicBezTo>
                            <a:pt x="68" y="137"/>
                            <a:pt x="73" y="139"/>
                            <a:pt x="78" y="139"/>
                          </a:cubicBezTo>
                          <a:cubicBezTo>
                            <a:pt x="83" y="139"/>
                            <a:pt x="87" y="139"/>
                            <a:pt x="92" y="139"/>
                          </a:cubicBezTo>
                          <a:cubicBezTo>
                            <a:pt x="97" y="139"/>
                            <a:pt x="105" y="138"/>
                            <a:pt x="111" y="137"/>
                          </a:cubicBezTo>
                          <a:cubicBezTo>
                            <a:pt x="117" y="136"/>
                            <a:pt x="123" y="137"/>
                            <a:pt x="128" y="135"/>
                          </a:cubicBezTo>
                          <a:cubicBezTo>
                            <a:pt x="133" y="133"/>
                            <a:pt x="137" y="129"/>
                            <a:pt x="142" y="127"/>
                          </a:cubicBezTo>
                          <a:cubicBezTo>
                            <a:pt x="147" y="125"/>
                            <a:pt x="152" y="123"/>
                            <a:pt x="157" y="120"/>
                          </a:cubicBezTo>
                          <a:cubicBezTo>
                            <a:pt x="162" y="117"/>
                            <a:pt x="168" y="111"/>
                            <a:pt x="171" y="106"/>
                          </a:cubicBezTo>
                          <a:cubicBezTo>
                            <a:pt x="174" y="101"/>
                            <a:pt x="175" y="95"/>
                            <a:pt x="176" y="91"/>
                          </a:cubicBezTo>
                          <a:cubicBezTo>
                            <a:pt x="177" y="87"/>
                            <a:pt x="176" y="94"/>
                            <a:pt x="176" y="79"/>
                          </a:cubicBezTo>
                          <a:cubicBezTo>
                            <a:pt x="176" y="64"/>
                            <a:pt x="176" y="16"/>
                            <a:pt x="176" y="0"/>
                          </a:cubicBezTo>
                        </a:path>
                      </a:pathLst>
                    </a:custGeom>
                    <a:noFill/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Line 265"/>
                    <p:cNvSpPr/>
                    <p:nvPr/>
                  </p:nvSpPr>
                  <p:spPr>
                    <a:xfrm flipV="1">
                      <a:off x="5967360" y="7402680"/>
                      <a:ext cx="0" cy="4730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Line 266"/>
                    <p:cNvSpPr/>
                    <p:nvPr/>
                  </p:nvSpPr>
                  <p:spPr>
                    <a:xfrm flipV="1">
                      <a:off x="6081480" y="7402680"/>
                      <a:ext cx="0" cy="4744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Text Box 267"/>
                  <p:cNvSpPr/>
                  <p:nvPr/>
                </p:nvSpPr>
                <p:spPr>
                  <a:xfrm>
                    <a:off x="5484960" y="8089560"/>
                    <a:ext cx="1077840" cy="3373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4 mL Sterile Saline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1:5 dilut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07" name="Text Box 282"/>
              <p:cNvSpPr/>
              <p:nvPr/>
            </p:nvSpPr>
            <p:spPr>
              <a:xfrm>
                <a:off x="5559840" y="842184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Text Box 283"/>
          <p:cNvSpPr/>
          <p:nvPr/>
        </p:nvSpPr>
        <p:spPr>
          <a:xfrm>
            <a:off x="3524400" y="4467240"/>
            <a:ext cx="2819160" cy="23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)  Use growth on solid medium </a:t>
            </a:r>
            <a:r>
              <a:rPr b="0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14 days ol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)  Make suspension &gt;1.0 McFarland turbidity standard in MGIT broth containing 8 - 10 sterile glass bead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)  Vortex 2 - 3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)  Allow to sit 20 minutes for large clumps to settl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)  Transfer supernatent fluid to another sterile tube and allow to sit for another 15 minut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)  Transfer supernatent fluid to another sterile tube and adjust turbidity to 0.5 McFarland turbidity standar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561"/>
              </a:spcBef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)  Dilute 1 mL of final suspension in 4 mL sterile saline – inoculum tube. Vortex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01"/>
          <p:cNvSpPr/>
          <p:nvPr/>
        </p:nvSpPr>
        <p:spPr>
          <a:xfrm>
            <a:off x="442800" y="913608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02"/>
          <p:cNvSpPr/>
          <p:nvPr/>
        </p:nvSpPr>
        <p:spPr>
          <a:xfrm>
            <a:off x="476280" y="8998920"/>
            <a:ext cx="5765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B500G09C                                                                                           Effective Date: 05 June 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48"/>
          <p:cNvGrpSpPr/>
          <p:nvPr/>
        </p:nvGrpSpPr>
        <p:grpSpPr>
          <a:xfrm>
            <a:off x="419040" y="1576440"/>
            <a:ext cx="2647080" cy="2409480"/>
            <a:chOff x="419040" y="1576440"/>
            <a:chExt cx="2647080" cy="2409480"/>
          </a:xfrm>
        </p:grpSpPr>
        <p:grpSp>
          <p:nvGrpSpPr>
            <p:cNvPr id="112" name="Group 311"/>
            <p:cNvGrpSpPr/>
            <p:nvPr/>
          </p:nvGrpSpPr>
          <p:grpSpPr>
            <a:xfrm>
              <a:off x="1322280" y="1576440"/>
              <a:ext cx="136800" cy="711000"/>
              <a:chOff x="1322280" y="1576440"/>
              <a:chExt cx="136800" cy="711000"/>
            </a:xfrm>
          </p:grpSpPr>
          <p:sp>
            <p:nvSpPr>
              <p:cNvPr id="113" name="AutoShape 312"/>
              <p:cNvSpPr/>
              <p:nvPr/>
            </p:nvSpPr>
            <p:spPr>
              <a:xfrm>
                <a:off x="1322280" y="1576440"/>
                <a:ext cx="136800" cy="14904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313"/>
              <p:cNvSpPr/>
              <p:nvPr/>
            </p:nvSpPr>
            <p:spPr>
              <a:xfrm>
                <a:off x="1333440" y="2189160"/>
                <a:ext cx="114480" cy="982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98280"/>
                  <a:gd name="textAreaBottom" fmla="*/ 98640 h 9828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314"/>
              <p:cNvSpPr/>
              <p:nvPr/>
            </p:nvSpPr>
            <p:spPr>
              <a:xfrm flipV="1">
                <a:off x="1333440" y="171936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315"/>
              <p:cNvSpPr/>
              <p:nvPr/>
            </p:nvSpPr>
            <p:spPr>
              <a:xfrm flipV="1">
                <a:off x="1447920" y="171936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" name="Group 316"/>
            <p:cNvGrpSpPr/>
            <p:nvPr/>
          </p:nvGrpSpPr>
          <p:grpSpPr>
            <a:xfrm>
              <a:off x="2617920" y="1976400"/>
              <a:ext cx="136440" cy="711360"/>
              <a:chOff x="2617920" y="1976400"/>
              <a:chExt cx="136440" cy="711360"/>
            </a:xfrm>
          </p:grpSpPr>
          <p:sp>
            <p:nvSpPr>
              <p:cNvPr id="118" name="AutoShape 317"/>
              <p:cNvSpPr/>
              <p:nvPr/>
            </p:nvSpPr>
            <p:spPr>
              <a:xfrm>
                <a:off x="2617920" y="1976400"/>
                <a:ext cx="136440" cy="149400"/>
              </a:xfrm>
              <a:prstGeom prst="can">
                <a:avLst>
                  <a:gd name="adj" fmla="val 25000"/>
                </a:avLst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318"/>
              <p:cNvSpPr/>
              <p:nvPr/>
            </p:nvSpPr>
            <p:spPr>
              <a:xfrm>
                <a:off x="2629080" y="2589120"/>
                <a:ext cx="114120" cy="98640"/>
              </a:xfrm>
              <a:custGeom>
                <a:avLst/>
                <a:gdLst>
                  <a:gd name="textAreaLeft" fmla="*/ 0 w 114120"/>
                  <a:gd name="textAreaRight" fmla="*/ 114480 w 114120"/>
                  <a:gd name="textAreaTop" fmla="*/ 0 h 98640"/>
                  <a:gd name="textAreaBottom" fmla="*/ 99000 h 98640"/>
                </a:gdLst>
                <a:ahLst/>
                <a:rect l="textAreaLeft" t="textAreaTop" r="textAreaRight" b="textAreaBottom"/>
                <a:pathLst>
                  <a:path w="177" h="139">
                    <a:moveTo>
                      <a:pt x="0" y="6"/>
                    </a:moveTo>
                    <a:cubicBezTo>
                      <a:pt x="0" y="18"/>
                      <a:pt x="0" y="60"/>
                      <a:pt x="1" y="76"/>
                    </a:cubicBezTo>
                    <a:cubicBezTo>
                      <a:pt x="2" y="92"/>
                      <a:pt x="4" y="97"/>
                      <a:pt x="6" y="103"/>
                    </a:cubicBezTo>
                    <a:cubicBezTo>
                      <a:pt x="8" y="109"/>
                      <a:pt x="10" y="112"/>
                      <a:pt x="13" y="115"/>
                    </a:cubicBezTo>
                    <a:cubicBezTo>
                      <a:pt x="16" y="118"/>
                      <a:pt x="22" y="121"/>
                      <a:pt x="25" y="123"/>
                    </a:cubicBezTo>
                    <a:cubicBezTo>
                      <a:pt x="28" y="125"/>
                      <a:pt x="30" y="125"/>
                      <a:pt x="34" y="127"/>
                    </a:cubicBezTo>
                    <a:cubicBezTo>
                      <a:pt x="38" y="129"/>
                      <a:pt x="45" y="134"/>
                      <a:pt x="50" y="136"/>
                    </a:cubicBezTo>
                    <a:cubicBezTo>
                      <a:pt x="55" y="138"/>
                      <a:pt x="58" y="137"/>
                      <a:pt x="63" y="137"/>
                    </a:cubicBezTo>
                    <a:cubicBezTo>
                      <a:pt x="68" y="137"/>
                      <a:pt x="73" y="139"/>
                      <a:pt x="78" y="139"/>
                    </a:cubicBezTo>
                    <a:cubicBezTo>
                      <a:pt x="83" y="139"/>
                      <a:pt x="87" y="139"/>
                      <a:pt x="92" y="139"/>
                    </a:cubicBezTo>
                    <a:cubicBezTo>
                      <a:pt x="97" y="139"/>
                      <a:pt x="105" y="138"/>
                      <a:pt x="111" y="137"/>
                    </a:cubicBezTo>
                    <a:cubicBezTo>
                      <a:pt x="117" y="136"/>
                      <a:pt x="123" y="137"/>
                      <a:pt x="128" y="135"/>
                    </a:cubicBezTo>
                    <a:cubicBezTo>
                      <a:pt x="133" y="133"/>
                      <a:pt x="137" y="129"/>
                      <a:pt x="142" y="127"/>
                    </a:cubicBezTo>
                    <a:cubicBezTo>
                      <a:pt x="147" y="125"/>
                      <a:pt x="152" y="123"/>
                      <a:pt x="157" y="120"/>
                    </a:cubicBezTo>
                    <a:cubicBezTo>
                      <a:pt x="162" y="117"/>
                      <a:pt x="168" y="111"/>
                      <a:pt x="171" y="106"/>
                    </a:cubicBezTo>
                    <a:cubicBezTo>
                      <a:pt x="174" y="101"/>
                      <a:pt x="175" y="95"/>
                      <a:pt x="176" y="91"/>
                    </a:cubicBezTo>
                    <a:cubicBezTo>
                      <a:pt x="177" y="87"/>
                      <a:pt x="176" y="94"/>
                      <a:pt x="176" y="79"/>
                    </a:cubicBezTo>
                    <a:cubicBezTo>
                      <a:pt x="176" y="64"/>
                      <a:pt x="176" y="16"/>
                      <a:pt x="176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319"/>
              <p:cNvSpPr/>
              <p:nvPr/>
            </p:nvSpPr>
            <p:spPr>
              <a:xfrm flipV="1">
                <a:off x="2629080" y="2119320"/>
                <a:ext cx="0" cy="47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320"/>
              <p:cNvSpPr/>
              <p:nvPr/>
            </p:nvSpPr>
            <p:spPr>
              <a:xfrm flipV="1">
                <a:off x="2743200" y="2119320"/>
                <a:ext cx="0" cy="47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Line 321"/>
            <p:cNvSpPr/>
            <p:nvPr/>
          </p:nvSpPr>
          <p:spPr>
            <a:xfrm>
              <a:off x="1703520" y="1897200"/>
              <a:ext cx="76176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322"/>
            <p:cNvSpPr/>
            <p:nvPr/>
          </p:nvSpPr>
          <p:spPr>
            <a:xfrm>
              <a:off x="2391480" y="2711520"/>
              <a:ext cx="67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ays 3-5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:5 dilu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323"/>
            <p:cNvSpPr/>
            <p:nvPr/>
          </p:nvSpPr>
          <p:spPr>
            <a:xfrm>
              <a:off x="1390680" y="2557800"/>
              <a:ext cx="9360" cy="62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Line 324"/>
            <p:cNvSpPr/>
            <p:nvPr/>
          </p:nvSpPr>
          <p:spPr>
            <a:xfrm flipH="1">
              <a:off x="1618200" y="2673360"/>
              <a:ext cx="771480" cy="53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Group 325"/>
            <p:cNvGrpSpPr/>
            <p:nvPr/>
          </p:nvGrpSpPr>
          <p:grpSpPr>
            <a:xfrm>
              <a:off x="1041840" y="1915560"/>
              <a:ext cx="272160" cy="246240"/>
              <a:chOff x="1041840" y="1915560"/>
              <a:chExt cx="272160" cy="246240"/>
            </a:xfrm>
          </p:grpSpPr>
          <p:sp>
            <p:nvSpPr>
              <p:cNvPr id="127" name="Text Box 326"/>
              <p:cNvSpPr/>
              <p:nvPr/>
            </p:nvSpPr>
            <p:spPr>
              <a:xfrm>
                <a:off x="1041840" y="19155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Oval 327"/>
              <p:cNvSpPr/>
              <p:nvPr/>
            </p:nvSpPr>
            <p:spPr>
              <a:xfrm>
                <a:off x="1081080" y="1947960"/>
                <a:ext cx="182520" cy="191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Group 328"/>
            <p:cNvGrpSpPr/>
            <p:nvPr/>
          </p:nvGrpSpPr>
          <p:grpSpPr>
            <a:xfrm>
              <a:off x="1416240" y="2675880"/>
              <a:ext cx="272160" cy="246240"/>
              <a:chOff x="1416240" y="2675880"/>
              <a:chExt cx="272160" cy="246240"/>
            </a:xfrm>
          </p:grpSpPr>
          <p:sp>
            <p:nvSpPr>
              <p:cNvPr id="130" name="Text Box 329"/>
              <p:cNvSpPr/>
              <p:nvPr/>
            </p:nvSpPr>
            <p:spPr>
              <a:xfrm>
                <a:off x="1416240" y="267588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Oval 330"/>
              <p:cNvSpPr/>
              <p:nvPr/>
            </p:nvSpPr>
            <p:spPr>
              <a:xfrm>
                <a:off x="1455840" y="2705040"/>
                <a:ext cx="182520" cy="19224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Group 331"/>
            <p:cNvGrpSpPr/>
            <p:nvPr/>
          </p:nvGrpSpPr>
          <p:grpSpPr>
            <a:xfrm>
              <a:off x="2235600" y="2304360"/>
              <a:ext cx="272160" cy="246240"/>
              <a:chOff x="2235600" y="2304360"/>
              <a:chExt cx="272160" cy="246240"/>
            </a:xfrm>
          </p:grpSpPr>
          <p:sp>
            <p:nvSpPr>
              <p:cNvPr id="133" name="Text Box 332"/>
              <p:cNvSpPr/>
              <p:nvPr/>
            </p:nvSpPr>
            <p:spPr>
              <a:xfrm>
                <a:off x="2235600" y="2304360"/>
                <a:ext cx="2721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Oval 333"/>
              <p:cNvSpPr/>
              <p:nvPr/>
            </p:nvSpPr>
            <p:spPr>
              <a:xfrm>
                <a:off x="2278080" y="2330280"/>
                <a:ext cx="182520" cy="190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Text Box 334"/>
            <p:cNvSpPr/>
            <p:nvPr/>
          </p:nvSpPr>
          <p:spPr>
            <a:xfrm>
              <a:off x="767520" y="2221200"/>
              <a:ext cx="123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Incubate for one da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 Box 335"/>
            <p:cNvSpPr/>
            <p:nvPr/>
          </p:nvSpPr>
          <p:spPr>
            <a:xfrm>
              <a:off x="2276640" y="1681200"/>
              <a:ext cx="183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 Box 336"/>
            <p:cNvSpPr/>
            <p:nvPr/>
          </p:nvSpPr>
          <p:spPr>
            <a:xfrm>
              <a:off x="419040" y="2648160"/>
              <a:ext cx="119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Day 1 or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Arial"/>
                </a:rPr>
                <a:t>No Dilution required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Group 347"/>
            <p:cNvGrpSpPr/>
            <p:nvPr/>
          </p:nvGrpSpPr>
          <p:grpSpPr>
            <a:xfrm>
              <a:off x="1389240" y="3274920"/>
              <a:ext cx="1194840" cy="711000"/>
              <a:chOff x="1389240" y="3274920"/>
              <a:chExt cx="1194840" cy="711000"/>
            </a:xfrm>
          </p:grpSpPr>
          <p:grpSp>
            <p:nvGrpSpPr>
              <p:cNvPr id="139" name="Group 338"/>
              <p:cNvGrpSpPr/>
              <p:nvPr/>
            </p:nvGrpSpPr>
            <p:grpSpPr>
              <a:xfrm>
                <a:off x="1389240" y="3274920"/>
                <a:ext cx="136440" cy="711000"/>
                <a:chOff x="1389240" y="3274920"/>
                <a:chExt cx="136440" cy="711000"/>
              </a:xfrm>
            </p:grpSpPr>
            <p:sp>
              <p:nvSpPr>
                <p:cNvPr id="140" name="AutoShape 339"/>
                <p:cNvSpPr/>
                <p:nvPr/>
              </p:nvSpPr>
              <p:spPr>
                <a:xfrm>
                  <a:off x="1389240" y="3274920"/>
                  <a:ext cx="136440" cy="14904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340"/>
                <p:cNvSpPr/>
                <p:nvPr/>
              </p:nvSpPr>
              <p:spPr>
                <a:xfrm>
                  <a:off x="1400400" y="3887640"/>
                  <a:ext cx="114120" cy="98280"/>
                </a:xfrm>
                <a:custGeom>
                  <a:avLst/>
                  <a:gdLst>
                    <a:gd name="textAreaLeft" fmla="*/ 0 w 114120"/>
                    <a:gd name="textAreaRight" fmla="*/ 114480 w 114120"/>
                    <a:gd name="textAreaTop" fmla="*/ 0 h 98280"/>
                    <a:gd name="textAreaBottom" fmla="*/ 98640 h 9828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Line 341"/>
                <p:cNvSpPr/>
                <p:nvPr/>
              </p:nvSpPr>
              <p:spPr>
                <a:xfrm flipV="1">
                  <a:off x="1400400" y="3417840"/>
                  <a:ext cx="0" cy="473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Line 342"/>
                <p:cNvSpPr/>
                <p:nvPr/>
              </p:nvSpPr>
              <p:spPr>
                <a:xfrm flipV="1">
                  <a:off x="1514520" y="3417840"/>
                  <a:ext cx="0" cy="4744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4" name="Text Box 343"/>
              <p:cNvSpPr/>
              <p:nvPr/>
            </p:nvSpPr>
            <p:spPr>
              <a:xfrm>
                <a:off x="1632240" y="3705480"/>
                <a:ext cx="951840" cy="231120"/>
              </a:xfrm>
              <a:prstGeom prst="rect">
                <a:avLst/>
              </a:prstGeom>
              <a:solidFill>
                <a:srgbClr val="00826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ffffff"/>
                    </a:solidFill>
                    <a:latin typeface="Arial"/>
                  </a:rPr>
                  <a:t>PZA Inoculum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" name="Text Box 344"/>
          <p:cNvSpPr/>
          <p:nvPr/>
        </p:nvSpPr>
        <p:spPr>
          <a:xfrm>
            <a:off x="3524400" y="1700280"/>
            <a:ext cx="28191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y of Positivity = Day 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ubate 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at lea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one more day after positivity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1’ or ‘Day 2’, vortex 2-3 minutes, let settle for 20 minutes. Proceed to Preparation &amp; Inocula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f tube is ‘Day 3’ to ‘Day 5’, vortex 2-3 minutes, let settle for 20 minutes. Dilute 1 mL of positive broth into 4 mL sterile saline. (1:5 dilution) inoculum tu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45"/>
          <p:cNvSpPr/>
          <p:nvPr/>
        </p:nvSpPr>
        <p:spPr>
          <a:xfrm>
            <a:off x="561600" y="1190520"/>
            <a:ext cx="259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a Positive 7 mL MGIT Tub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46"/>
          <p:cNvSpPr/>
          <p:nvPr/>
        </p:nvSpPr>
        <p:spPr>
          <a:xfrm>
            <a:off x="562680" y="4464000"/>
            <a:ext cx="150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Solid Medi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351"/>
          <p:cNvSpPr/>
          <p:nvPr/>
        </p:nvSpPr>
        <p:spPr>
          <a:xfrm>
            <a:off x="1386000" y="675000"/>
            <a:ext cx="387324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52"/>
          <p:cNvSpPr/>
          <p:nvPr/>
        </p:nvSpPr>
        <p:spPr>
          <a:xfrm>
            <a:off x="1822320" y="338040"/>
            <a:ext cx="2851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53"/>
          <p:cNvSpPr/>
          <p:nvPr/>
        </p:nvSpPr>
        <p:spPr>
          <a:xfrm>
            <a:off x="1015920" y="353880"/>
            <a:ext cx="456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3"/>
          <p:cNvSpPr/>
          <p:nvPr/>
        </p:nvSpPr>
        <p:spPr>
          <a:xfrm>
            <a:off x="3657600" y="222732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0.8 mL BACTEC™ MGIT™ 960 PZA Supplement to each tube (GC and drug tub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90"/>
          <p:cNvGrpSpPr/>
          <p:nvPr/>
        </p:nvGrpSpPr>
        <p:grpSpPr>
          <a:xfrm>
            <a:off x="805320" y="1590840"/>
            <a:ext cx="2415960" cy="1450800"/>
            <a:chOff x="805320" y="1590840"/>
            <a:chExt cx="2415960" cy="1450800"/>
          </a:xfrm>
        </p:grpSpPr>
        <p:grpSp>
          <p:nvGrpSpPr>
            <p:cNvPr id="153" name="Group 189"/>
            <p:cNvGrpSpPr/>
            <p:nvPr/>
          </p:nvGrpSpPr>
          <p:grpSpPr>
            <a:xfrm>
              <a:off x="805320" y="1957320"/>
              <a:ext cx="1329480" cy="1084320"/>
              <a:chOff x="805320" y="1957320"/>
              <a:chExt cx="1329480" cy="1084320"/>
            </a:xfrm>
          </p:grpSpPr>
          <p:grpSp>
            <p:nvGrpSpPr>
              <p:cNvPr id="154" name="Group 10"/>
              <p:cNvGrpSpPr/>
              <p:nvPr/>
            </p:nvGrpSpPr>
            <p:grpSpPr>
              <a:xfrm>
                <a:off x="1012680" y="1957320"/>
                <a:ext cx="136080" cy="711360"/>
                <a:chOff x="1012680" y="1957320"/>
                <a:chExt cx="136080" cy="711360"/>
              </a:xfrm>
            </p:grpSpPr>
            <p:sp>
              <p:nvSpPr>
                <p:cNvPr id="155" name="AutoShape 11"/>
                <p:cNvSpPr/>
                <p:nvPr/>
              </p:nvSpPr>
              <p:spPr>
                <a:xfrm>
                  <a:off x="101268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Freeform 12"/>
                <p:cNvSpPr/>
                <p:nvPr/>
              </p:nvSpPr>
              <p:spPr>
                <a:xfrm>
                  <a:off x="102348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Line 13"/>
                <p:cNvSpPr/>
                <p:nvPr/>
              </p:nvSpPr>
              <p:spPr>
                <a:xfrm flipV="1">
                  <a:off x="102348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Line 14"/>
                <p:cNvSpPr/>
                <p:nvPr/>
              </p:nvSpPr>
              <p:spPr>
                <a:xfrm flipV="1">
                  <a:off x="113760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15"/>
              <p:cNvSpPr/>
              <p:nvPr/>
            </p:nvSpPr>
            <p:spPr>
              <a:xfrm>
                <a:off x="805320" y="267336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0" name="Group 27"/>
              <p:cNvGrpSpPr/>
              <p:nvPr/>
            </p:nvGrpSpPr>
            <p:grpSpPr>
              <a:xfrm>
                <a:off x="1865160" y="1957320"/>
                <a:ext cx="136080" cy="711360"/>
                <a:chOff x="1865160" y="1957320"/>
                <a:chExt cx="136080" cy="711360"/>
              </a:xfrm>
            </p:grpSpPr>
            <p:sp>
              <p:nvSpPr>
                <p:cNvPr id="161" name="AutoShape 28"/>
                <p:cNvSpPr/>
                <p:nvPr/>
              </p:nvSpPr>
              <p:spPr>
                <a:xfrm>
                  <a:off x="1865160" y="1957320"/>
                  <a:ext cx="13608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29"/>
                <p:cNvSpPr/>
                <p:nvPr/>
              </p:nvSpPr>
              <p:spPr>
                <a:xfrm>
                  <a:off x="1875960" y="2570760"/>
                  <a:ext cx="114840" cy="97920"/>
                </a:xfrm>
                <a:custGeom>
                  <a:avLst/>
                  <a:gdLst>
                    <a:gd name="textAreaLeft" fmla="*/ 0 w 114840"/>
                    <a:gd name="textAreaRight" fmla="*/ 115200 w 11484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Line 30"/>
                <p:cNvSpPr/>
                <p:nvPr/>
              </p:nvSpPr>
              <p:spPr>
                <a:xfrm flipV="1">
                  <a:off x="1875960" y="209952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Line 31"/>
                <p:cNvSpPr/>
                <p:nvPr/>
              </p:nvSpPr>
              <p:spPr>
                <a:xfrm flipV="1">
                  <a:off x="1990080" y="2100240"/>
                  <a:ext cx="0" cy="47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37"/>
              <p:cNvSpPr/>
              <p:nvPr/>
            </p:nvSpPr>
            <p:spPr>
              <a:xfrm>
                <a:off x="1731600" y="274212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158"/>
            <p:cNvGrpSpPr/>
            <p:nvPr/>
          </p:nvGrpSpPr>
          <p:grpSpPr>
            <a:xfrm>
              <a:off x="2173320" y="1590840"/>
              <a:ext cx="1047960" cy="799920"/>
              <a:chOff x="2173320" y="1590840"/>
              <a:chExt cx="1047960" cy="799920"/>
            </a:xfrm>
          </p:grpSpPr>
          <p:sp>
            <p:nvSpPr>
              <p:cNvPr id="167" name="Text Box 39"/>
              <p:cNvSpPr/>
              <p:nvPr/>
            </p:nvSpPr>
            <p:spPr>
              <a:xfrm>
                <a:off x="2173320" y="2022480"/>
                <a:ext cx="1047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8 m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 Supple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Group 157"/>
              <p:cNvGrpSpPr/>
              <p:nvPr/>
            </p:nvGrpSpPr>
            <p:grpSpPr>
              <a:xfrm>
                <a:off x="2373480" y="1590840"/>
                <a:ext cx="680040" cy="501120"/>
                <a:chOff x="2373480" y="1590840"/>
                <a:chExt cx="680040" cy="501120"/>
              </a:xfrm>
            </p:grpSpPr>
            <p:sp>
              <p:nvSpPr>
                <p:cNvPr id="169" name="Rectangle 41"/>
                <p:cNvSpPr/>
                <p:nvPr/>
              </p:nvSpPr>
              <p:spPr>
                <a:xfrm rot="14118600">
                  <a:off x="2860200" y="15379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AutoShape 42"/>
                <p:cNvSpPr/>
                <p:nvPr/>
              </p:nvSpPr>
              <p:spPr>
                <a:xfrm rot="14118600">
                  <a:off x="2532240" y="17305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71" name="Group 213"/>
          <p:cNvGrpSpPr/>
          <p:nvPr/>
        </p:nvGrpSpPr>
        <p:grpSpPr>
          <a:xfrm>
            <a:off x="1295280" y="5312160"/>
            <a:ext cx="5208840" cy="1347120"/>
            <a:chOff x="1295280" y="5312160"/>
            <a:chExt cx="5208840" cy="1347120"/>
          </a:xfrm>
        </p:grpSpPr>
        <p:sp>
          <p:nvSpPr>
            <p:cNvPr id="172" name="Text Box 5"/>
            <p:cNvSpPr/>
            <p:nvPr/>
          </p:nvSpPr>
          <p:spPr>
            <a:xfrm>
              <a:off x="3684600" y="5670720"/>
              <a:ext cx="2819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28600" indent="-228600">
                <a:buClr>
                  <a:srgbClr val="000000"/>
                </a:buClr>
                <a:buFont typeface="Arial"/>
                <a:buAutoNum type="arabicPeriod" startAt="3"/>
                <a:tabLst>
                  <a:tab algn="l" pos="345960"/>
                  <a:tab algn="l" pos="519120"/>
                  <a:tab algn="l" pos="692280"/>
                  <a:tab algn="l" pos="865080"/>
                  <a:tab algn="l" pos="1038240"/>
                  <a:tab algn="l" pos="1211400"/>
                  <a:tab algn="l" pos="1384200"/>
                  <a:tab algn="l" pos="1557360"/>
                  <a:tab algn="l" pos="1730520"/>
                  <a:tab algn="l" pos="1903320"/>
                  <a:tab algn="l" pos="2076480"/>
                  <a:tab algn="l" pos="2249640"/>
                  <a:tab algn="l" pos="2422440"/>
                  <a:tab algn="l" pos="2595600"/>
                  <a:tab algn="l" pos="2768760"/>
                  <a:tab algn="l" pos="2941560"/>
                  <a:tab algn="l" pos="3114720"/>
                  <a:tab algn="l" pos="3287880"/>
                  <a:tab algn="l" pos="3460680"/>
                  <a:tab algn="l" pos="363384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epare Growth Control Inoculum:  Pipette 0.5 mL of organism suspension into 4.5 mL sterile saline to make a 1:10 dilution. Mix wel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212"/>
            <p:cNvGrpSpPr/>
            <p:nvPr/>
          </p:nvGrpSpPr>
          <p:grpSpPr>
            <a:xfrm>
              <a:off x="1295280" y="5312160"/>
              <a:ext cx="1916280" cy="1347120"/>
              <a:chOff x="1295280" y="5312160"/>
              <a:chExt cx="1916280" cy="1347120"/>
            </a:xfrm>
          </p:grpSpPr>
          <p:grpSp>
            <p:nvGrpSpPr>
              <p:cNvPr id="174" name="Group 211"/>
              <p:cNvGrpSpPr/>
              <p:nvPr/>
            </p:nvGrpSpPr>
            <p:grpSpPr>
              <a:xfrm>
                <a:off x="1970280" y="5605560"/>
                <a:ext cx="1241280" cy="1053720"/>
                <a:chOff x="1970280" y="5605560"/>
                <a:chExt cx="1241280" cy="1053720"/>
              </a:xfrm>
            </p:grpSpPr>
            <p:grpSp>
              <p:nvGrpSpPr>
                <p:cNvPr id="175" name="Group 176"/>
                <p:cNvGrpSpPr/>
                <p:nvPr/>
              </p:nvGrpSpPr>
              <p:grpSpPr>
                <a:xfrm>
                  <a:off x="2514600" y="5605560"/>
                  <a:ext cx="162360" cy="772920"/>
                  <a:chOff x="2514600" y="5605560"/>
                  <a:chExt cx="162360" cy="772920"/>
                </a:xfrm>
              </p:grpSpPr>
              <p:sp>
                <p:nvSpPr>
                  <p:cNvPr id="176" name="AutoShape 46"/>
                  <p:cNvSpPr/>
                  <p:nvPr/>
                </p:nvSpPr>
                <p:spPr>
                  <a:xfrm>
                    <a:off x="2514600" y="5605560"/>
                    <a:ext cx="150840" cy="162000"/>
                  </a:xfrm>
                  <a:prstGeom prst="can">
                    <a:avLst>
                      <a:gd name="adj" fmla="val 25000"/>
                    </a:avLst>
                  </a:prstGeom>
                  <a:solidFill>
                    <a:srgbClr val="b2b2b2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47"/>
                  <p:cNvSpPr/>
                  <p:nvPr/>
                </p:nvSpPr>
                <p:spPr>
                  <a:xfrm>
                    <a:off x="2527560" y="6272280"/>
                    <a:ext cx="125280" cy="106200"/>
                  </a:xfrm>
                  <a:custGeom>
                    <a:avLst/>
                    <a:gdLst>
                      <a:gd name="textAreaLeft" fmla="*/ 0 w 125280"/>
                      <a:gd name="textAreaRight" fmla="*/ 125640 w 125280"/>
                      <a:gd name="textAreaTop" fmla="*/ 0 h 106200"/>
                      <a:gd name="textAreaBottom" fmla="*/ 106560 h 106200"/>
                    </a:gdLst>
                    <a:ahLst/>
                    <a:rect l="textAreaLeft" t="textAreaTop" r="textAreaRight" b="textAreaBottom"/>
                    <a:pathLst>
                      <a:path w="177" h="139">
                        <a:moveTo>
                          <a:pt x="0" y="6"/>
                        </a:moveTo>
                        <a:cubicBezTo>
                          <a:pt x="0" y="18"/>
                          <a:pt x="0" y="60"/>
                          <a:pt x="1" y="76"/>
                        </a:cubicBezTo>
                        <a:cubicBezTo>
                          <a:pt x="2" y="92"/>
                          <a:pt x="4" y="97"/>
                          <a:pt x="6" y="103"/>
                        </a:cubicBezTo>
                        <a:cubicBezTo>
                          <a:pt x="8" y="109"/>
                          <a:pt x="10" y="112"/>
                          <a:pt x="13" y="115"/>
                        </a:cubicBezTo>
                        <a:cubicBezTo>
                          <a:pt x="16" y="118"/>
                          <a:pt x="22" y="121"/>
                          <a:pt x="25" y="123"/>
                        </a:cubicBezTo>
                        <a:cubicBezTo>
                          <a:pt x="28" y="125"/>
                          <a:pt x="30" y="125"/>
                          <a:pt x="34" y="127"/>
                        </a:cubicBezTo>
                        <a:cubicBezTo>
                          <a:pt x="38" y="129"/>
                          <a:pt x="45" y="134"/>
                          <a:pt x="50" y="136"/>
                        </a:cubicBezTo>
                        <a:cubicBezTo>
                          <a:pt x="55" y="138"/>
                          <a:pt x="58" y="137"/>
                          <a:pt x="63" y="137"/>
                        </a:cubicBezTo>
                        <a:cubicBezTo>
                          <a:pt x="68" y="137"/>
                          <a:pt x="73" y="139"/>
                          <a:pt x="78" y="139"/>
                        </a:cubicBezTo>
                        <a:cubicBezTo>
                          <a:pt x="83" y="139"/>
                          <a:pt x="87" y="139"/>
                          <a:pt x="92" y="139"/>
                        </a:cubicBezTo>
                        <a:cubicBezTo>
                          <a:pt x="97" y="139"/>
                          <a:pt x="105" y="138"/>
                          <a:pt x="111" y="137"/>
                        </a:cubicBezTo>
                        <a:cubicBezTo>
                          <a:pt x="117" y="136"/>
                          <a:pt x="123" y="137"/>
                          <a:pt x="128" y="135"/>
                        </a:cubicBezTo>
                        <a:cubicBezTo>
                          <a:pt x="133" y="133"/>
                          <a:pt x="137" y="129"/>
                          <a:pt x="142" y="127"/>
                        </a:cubicBezTo>
                        <a:cubicBezTo>
                          <a:pt x="147" y="125"/>
                          <a:pt x="152" y="123"/>
                          <a:pt x="157" y="120"/>
                        </a:cubicBezTo>
                        <a:cubicBezTo>
                          <a:pt x="162" y="117"/>
                          <a:pt x="168" y="111"/>
                          <a:pt x="171" y="106"/>
                        </a:cubicBezTo>
                        <a:cubicBezTo>
                          <a:pt x="174" y="101"/>
                          <a:pt x="175" y="95"/>
                          <a:pt x="176" y="91"/>
                        </a:cubicBezTo>
                        <a:cubicBezTo>
                          <a:pt x="177" y="87"/>
                          <a:pt x="176" y="94"/>
                          <a:pt x="176" y="79"/>
                        </a:cubicBezTo>
                        <a:cubicBezTo>
                          <a:pt x="176" y="64"/>
                          <a:pt x="176" y="16"/>
                          <a:pt x="176" y="0"/>
                        </a:cubicBezTo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Line 48"/>
                  <p:cNvSpPr/>
                  <p:nvPr/>
                </p:nvSpPr>
                <p:spPr>
                  <a:xfrm flipV="1">
                    <a:off x="252756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Line 49"/>
                  <p:cNvSpPr/>
                  <p:nvPr/>
                </p:nvSpPr>
                <p:spPr>
                  <a:xfrm flipV="1">
                    <a:off x="2652840" y="5760720"/>
                    <a:ext cx="0" cy="51444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Arc 50"/>
                  <p:cNvSpPr/>
                  <p:nvPr/>
                </p:nvSpPr>
                <p:spPr>
                  <a:xfrm flipH="1" flipV="1" rot="18838200">
                    <a:off x="2541600" y="5826960"/>
                    <a:ext cx="115920" cy="103320"/>
                  </a:xfrm>
                  <a:custGeom>
                    <a:avLst/>
                    <a:gdLst>
                      <a:gd name="textAreaLeft" fmla="*/ 360 w 115920"/>
                      <a:gd name="textAreaRight" fmla="*/ 116640 w 115920"/>
                      <a:gd name="textAreaTop" fmla="*/ -360 h 103320"/>
                      <a:gd name="textAreaBottom" fmla="*/ 103320 h 103320"/>
                    </a:gdLst>
                    <a:ahLst/>
                    <a:rect l="textAreaLeft" t="textAreaTop" r="textAreaRight" b="textAreaBottom"/>
                    <a:pathLst>
                      <a:path fill="none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</a:path>
                      <a:path stroke="0" w="21600" h="20632">
                        <a:moveTo>
                          <a:pt x="6393" y="0"/>
                        </a:moveTo>
                        <a:cubicBezTo>
                          <a:pt x="15436" y="2802"/>
                          <a:pt x="21600" y="11165"/>
                          <a:pt x="21600" y="20632"/>
                        </a:cubicBezTo>
                        <a:lnTo>
                          <a:pt x="0" y="20632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81" name="Text Box 51"/>
                <p:cNvSpPr/>
                <p:nvPr/>
              </p:nvSpPr>
              <p:spPr>
                <a:xfrm>
                  <a:off x="1970280" y="6428160"/>
                  <a:ext cx="1241280" cy="231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4.5 mL Sterile Saline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52"/>
              <p:cNvSpPr/>
              <p:nvPr/>
            </p:nvSpPr>
            <p:spPr>
              <a:xfrm>
                <a:off x="1295280" y="6023160"/>
                <a:ext cx="1279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" name="Group 182"/>
              <p:cNvGrpSpPr/>
              <p:nvPr/>
            </p:nvGrpSpPr>
            <p:grpSpPr>
              <a:xfrm>
                <a:off x="1966320" y="5312160"/>
                <a:ext cx="470160" cy="685440"/>
                <a:chOff x="1966320" y="5312160"/>
                <a:chExt cx="470160" cy="685440"/>
              </a:xfrm>
            </p:grpSpPr>
            <p:sp>
              <p:nvSpPr>
                <p:cNvPr id="184" name="Rectangle 54"/>
                <p:cNvSpPr/>
                <p:nvPr/>
              </p:nvSpPr>
              <p:spPr>
                <a:xfrm flipH="1" rot="8848200">
                  <a:off x="2057400" y="5299560"/>
                  <a:ext cx="58680" cy="35676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AutoShape 55"/>
                <p:cNvSpPr/>
                <p:nvPr/>
              </p:nvSpPr>
              <p:spPr>
                <a:xfrm flipH="1" rot="8848200">
                  <a:off x="2257920" y="5587200"/>
                  <a:ext cx="69840" cy="42444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6" name="Text Box 132"/>
          <p:cNvSpPr/>
          <p:nvPr/>
        </p:nvSpPr>
        <p:spPr>
          <a:xfrm>
            <a:off x="1501200" y="800640"/>
            <a:ext cx="3775680" cy="307080"/>
          </a:xfrm>
          <a:prstGeom prst="rect">
            <a:avLst/>
          </a:prstGeom>
          <a:solidFill>
            <a:srgbClr val="00826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GIT™ 960 PZA Preparation &amp; Inocul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3651120" y="6981840"/>
            <a:ext cx="281952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4.  Remove 0.5 mL of the 1:10 dilution and inoculate the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Growth Contro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ube. Invert to mi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ve 0.5 mL of inoculum from the top 1/3 of the organism suspension  tube (undiluted or 1:5 dilution) and inoculate the PZA drug tube. Invert to 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ubes into appropriate AST Set Carrier and enter into BACTEC MGIT 960 instrumen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PZA as the carrier set definitio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28"/>
          <p:cNvSpPr/>
          <p:nvPr/>
        </p:nvSpPr>
        <p:spPr>
          <a:xfrm>
            <a:off x="228600" y="7313760"/>
            <a:ext cx="107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.5 mL of 1:10 dilu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52"/>
          <p:cNvSpPr/>
          <p:nvPr/>
        </p:nvSpPr>
        <p:spPr>
          <a:xfrm rot="14118600">
            <a:off x="1418760" y="7241760"/>
            <a:ext cx="58680" cy="357120"/>
          </a:xfrm>
          <a:prstGeom prst="rect">
            <a:avLst/>
          </a:prstGeom>
          <a:solidFill>
            <a:srgbClr val="80808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3678120" y="3714840"/>
            <a:ext cx="2819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345960"/>
                <a:tab algn="l" pos="519120"/>
                <a:tab algn="l" pos="692280"/>
                <a:tab algn="l" pos="865080"/>
                <a:tab algn="l" pos="1038240"/>
                <a:tab algn="l" pos="1211400"/>
                <a:tab algn="l" pos="1384200"/>
                <a:tab algn="l" pos="1557360"/>
                <a:tab algn="l" pos="1730520"/>
                <a:tab algn="l" pos="1903320"/>
                <a:tab algn="l" pos="2076480"/>
                <a:tab algn="l" pos="2249640"/>
                <a:tab algn="l" pos="2422440"/>
                <a:tab algn="l" pos="2595600"/>
                <a:tab algn="l" pos="2768760"/>
                <a:tab algn="l" pos="2941560"/>
                <a:tab algn="l" pos="3114720"/>
                <a:tab algn="l" pos="3287880"/>
                <a:tab algn="l" pos="3460680"/>
                <a:tab algn="l" pos="36338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100 µL of PZA drug to the tube labeled PZA  (</a:t>
            </a:r>
            <a:r>
              <a:rPr b="1" lang="en-US" sz="1000" spc="-1" strike="noStrike">
                <a:solidFill>
                  <a:srgbClr val="c00000"/>
                </a:solidFill>
                <a:latin typeface="Arial"/>
              </a:rPr>
              <a:t>NOT to GC tub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" name="Group 214"/>
          <p:cNvGrpSpPr/>
          <p:nvPr/>
        </p:nvGrpSpPr>
        <p:grpSpPr>
          <a:xfrm>
            <a:off x="810360" y="3400560"/>
            <a:ext cx="2279160" cy="1450800"/>
            <a:chOff x="810360" y="3400560"/>
            <a:chExt cx="2279160" cy="1450800"/>
          </a:xfrm>
        </p:grpSpPr>
        <p:grpSp>
          <p:nvGrpSpPr>
            <p:cNvPr id="192" name="Group 192"/>
            <p:cNvGrpSpPr/>
            <p:nvPr/>
          </p:nvGrpSpPr>
          <p:grpSpPr>
            <a:xfrm>
              <a:off x="810360" y="3767400"/>
              <a:ext cx="1329480" cy="1083960"/>
              <a:chOff x="810360" y="3767400"/>
              <a:chExt cx="1329480" cy="1083960"/>
            </a:xfrm>
          </p:grpSpPr>
          <p:grpSp>
            <p:nvGrpSpPr>
              <p:cNvPr id="193" name="Group 193"/>
              <p:cNvGrpSpPr/>
              <p:nvPr/>
            </p:nvGrpSpPr>
            <p:grpSpPr>
              <a:xfrm>
                <a:off x="1017720" y="3767400"/>
                <a:ext cx="136440" cy="711000"/>
                <a:chOff x="1017720" y="3767400"/>
                <a:chExt cx="136440" cy="711000"/>
              </a:xfrm>
            </p:grpSpPr>
            <p:sp>
              <p:nvSpPr>
                <p:cNvPr id="194" name="AutoShape 194"/>
                <p:cNvSpPr/>
                <p:nvPr/>
              </p:nvSpPr>
              <p:spPr>
                <a:xfrm>
                  <a:off x="101772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Freeform 195"/>
                <p:cNvSpPr/>
                <p:nvPr/>
              </p:nvSpPr>
              <p:spPr>
                <a:xfrm>
                  <a:off x="102852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Line 196"/>
                <p:cNvSpPr/>
                <p:nvPr/>
              </p:nvSpPr>
              <p:spPr>
                <a:xfrm flipV="1">
                  <a:off x="102852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Line 197"/>
                <p:cNvSpPr/>
                <p:nvPr/>
              </p:nvSpPr>
              <p:spPr>
                <a:xfrm flipV="1">
                  <a:off x="114300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" name="Text Box 198"/>
              <p:cNvSpPr/>
              <p:nvPr/>
            </p:nvSpPr>
            <p:spPr>
              <a:xfrm>
                <a:off x="810360" y="448308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Group 199"/>
              <p:cNvGrpSpPr/>
              <p:nvPr/>
            </p:nvGrpSpPr>
            <p:grpSpPr>
              <a:xfrm>
                <a:off x="1870200" y="3767400"/>
                <a:ext cx="136440" cy="711000"/>
                <a:chOff x="1870200" y="3767400"/>
                <a:chExt cx="136440" cy="711000"/>
              </a:xfrm>
            </p:grpSpPr>
            <p:sp>
              <p:nvSpPr>
                <p:cNvPr id="200" name="AutoShape 200"/>
                <p:cNvSpPr/>
                <p:nvPr/>
              </p:nvSpPr>
              <p:spPr>
                <a:xfrm>
                  <a:off x="1870200" y="376740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201"/>
                <p:cNvSpPr/>
                <p:nvPr/>
              </p:nvSpPr>
              <p:spPr>
                <a:xfrm>
                  <a:off x="1881000" y="438048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202"/>
                <p:cNvSpPr/>
                <p:nvPr/>
              </p:nvSpPr>
              <p:spPr>
                <a:xfrm flipV="1">
                  <a:off x="1881000" y="390924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03"/>
                <p:cNvSpPr/>
                <p:nvPr/>
              </p:nvSpPr>
              <p:spPr>
                <a:xfrm flipV="1">
                  <a:off x="1995480" y="390996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" name="Text Box 204"/>
              <p:cNvSpPr/>
              <p:nvPr/>
            </p:nvSpPr>
            <p:spPr>
              <a:xfrm>
                <a:off x="1736640" y="455148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" name="Group 205"/>
            <p:cNvGrpSpPr/>
            <p:nvPr/>
          </p:nvGrpSpPr>
          <p:grpSpPr>
            <a:xfrm>
              <a:off x="2313000" y="3400560"/>
              <a:ext cx="776520" cy="731520"/>
              <a:chOff x="2313000" y="3400560"/>
              <a:chExt cx="776520" cy="731520"/>
            </a:xfrm>
          </p:grpSpPr>
          <p:sp>
            <p:nvSpPr>
              <p:cNvPr id="206" name="Text Box 206"/>
              <p:cNvSpPr/>
              <p:nvPr/>
            </p:nvSpPr>
            <p:spPr>
              <a:xfrm>
                <a:off x="2313000" y="3900960"/>
                <a:ext cx="77652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100 µl Drug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Group 207"/>
              <p:cNvGrpSpPr/>
              <p:nvPr/>
            </p:nvGrpSpPr>
            <p:grpSpPr>
              <a:xfrm>
                <a:off x="2378160" y="3400560"/>
                <a:ext cx="680040" cy="501120"/>
                <a:chOff x="2378160" y="3400560"/>
                <a:chExt cx="680040" cy="501120"/>
              </a:xfrm>
            </p:grpSpPr>
            <p:sp>
              <p:nvSpPr>
                <p:cNvPr id="208" name="Rectangle 208"/>
                <p:cNvSpPr/>
                <p:nvPr/>
              </p:nvSpPr>
              <p:spPr>
                <a:xfrm rot="14118600">
                  <a:off x="2864880" y="334764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AutoShape 209"/>
                <p:cNvSpPr/>
                <p:nvPr/>
              </p:nvSpPr>
              <p:spPr>
                <a:xfrm rot="14118600">
                  <a:off x="2536920" y="354024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0" name="Group 229"/>
          <p:cNvGrpSpPr/>
          <p:nvPr/>
        </p:nvGrpSpPr>
        <p:grpSpPr>
          <a:xfrm>
            <a:off x="705600" y="7385040"/>
            <a:ext cx="2208960" cy="1657080"/>
            <a:chOff x="705600" y="7385040"/>
            <a:chExt cx="2208960" cy="1657080"/>
          </a:xfrm>
        </p:grpSpPr>
        <p:sp>
          <p:nvSpPr>
            <p:cNvPr id="211" name="AutoShape 153"/>
            <p:cNvSpPr/>
            <p:nvPr/>
          </p:nvSpPr>
          <p:spPr>
            <a:xfrm rot="14118600">
              <a:off x="1091160" y="7434720"/>
              <a:ext cx="69840" cy="423720"/>
            </a:xfrm>
            <a:prstGeom prst="triangle">
              <a:avLst>
                <a:gd name="adj" fmla="val 49995"/>
              </a:avLst>
            </a:prstGeom>
            <a:solidFill>
              <a:srgbClr val="ddddd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2" name="Group 162"/>
            <p:cNvGrpSpPr/>
            <p:nvPr/>
          </p:nvGrpSpPr>
          <p:grpSpPr>
            <a:xfrm>
              <a:off x="1886040" y="7385040"/>
              <a:ext cx="1028520" cy="1121040"/>
              <a:chOff x="1886040" y="7385040"/>
              <a:chExt cx="1028520" cy="1121040"/>
            </a:xfrm>
          </p:grpSpPr>
          <p:sp>
            <p:nvSpPr>
              <p:cNvPr id="213" name="Text Box 123"/>
              <p:cNvSpPr/>
              <p:nvPr/>
            </p:nvSpPr>
            <p:spPr>
              <a:xfrm>
                <a:off x="1886040" y="8000640"/>
                <a:ext cx="102852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0.5 mL of Organism Suspension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" name="Group 154"/>
              <p:cNvGrpSpPr/>
              <p:nvPr/>
            </p:nvGrpSpPr>
            <p:grpSpPr>
              <a:xfrm>
                <a:off x="1922760" y="7385040"/>
                <a:ext cx="680040" cy="501120"/>
                <a:chOff x="1922760" y="7385040"/>
                <a:chExt cx="680040" cy="501120"/>
              </a:xfrm>
            </p:grpSpPr>
            <p:sp>
              <p:nvSpPr>
                <p:cNvPr id="215" name="Rectangle 155"/>
                <p:cNvSpPr/>
                <p:nvPr/>
              </p:nvSpPr>
              <p:spPr>
                <a:xfrm rot="14118600">
                  <a:off x="2409480" y="7332120"/>
                  <a:ext cx="58680" cy="357120"/>
                </a:xfrm>
                <a:prstGeom prst="rect">
                  <a:avLst/>
                </a:prstGeom>
                <a:solidFill>
                  <a:srgbClr val="808080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AutoShape 156"/>
                <p:cNvSpPr/>
                <p:nvPr/>
              </p:nvSpPr>
              <p:spPr>
                <a:xfrm rot="14118600">
                  <a:off x="2081520" y="7524720"/>
                  <a:ext cx="70200" cy="423720"/>
                </a:xfrm>
                <a:prstGeom prst="triangle">
                  <a:avLst>
                    <a:gd name="adj" fmla="val 49995"/>
                  </a:avLst>
                </a:prstGeom>
                <a:solidFill>
                  <a:srgbClr val="dddddd"/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Group 216"/>
            <p:cNvGrpSpPr/>
            <p:nvPr/>
          </p:nvGrpSpPr>
          <p:grpSpPr>
            <a:xfrm>
              <a:off x="705600" y="7958160"/>
              <a:ext cx="1329480" cy="1083960"/>
              <a:chOff x="705600" y="7958160"/>
              <a:chExt cx="1329480" cy="1083960"/>
            </a:xfrm>
          </p:grpSpPr>
          <p:grpSp>
            <p:nvGrpSpPr>
              <p:cNvPr id="218" name="Group 217"/>
              <p:cNvGrpSpPr/>
              <p:nvPr/>
            </p:nvGrpSpPr>
            <p:grpSpPr>
              <a:xfrm>
                <a:off x="912960" y="7958160"/>
                <a:ext cx="136440" cy="711000"/>
                <a:chOff x="912960" y="7958160"/>
                <a:chExt cx="136440" cy="711000"/>
              </a:xfrm>
            </p:grpSpPr>
            <p:sp>
              <p:nvSpPr>
                <p:cNvPr id="219" name="AutoShape 218"/>
                <p:cNvSpPr/>
                <p:nvPr/>
              </p:nvSpPr>
              <p:spPr>
                <a:xfrm>
                  <a:off x="91296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219"/>
                <p:cNvSpPr/>
                <p:nvPr/>
              </p:nvSpPr>
              <p:spPr>
                <a:xfrm>
                  <a:off x="92376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Line 220"/>
                <p:cNvSpPr/>
                <p:nvPr/>
              </p:nvSpPr>
              <p:spPr>
                <a:xfrm flipV="1">
                  <a:off x="92376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Line 221"/>
                <p:cNvSpPr/>
                <p:nvPr/>
              </p:nvSpPr>
              <p:spPr>
                <a:xfrm flipV="1">
                  <a:off x="103824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3" name="Text Box 222"/>
              <p:cNvSpPr/>
              <p:nvPr/>
            </p:nvSpPr>
            <p:spPr>
              <a:xfrm>
                <a:off x="705600" y="8673840"/>
                <a:ext cx="551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rowth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ontrol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4" name="Group 223"/>
              <p:cNvGrpSpPr/>
              <p:nvPr/>
            </p:nvGrpSpPr>
            <p:grpSpPr>
              <a:xfrm>
                <a:off x="1765440" y="7958160"/>
                <a:ext cx="136440" cy="711000"/>
                <a:chOff x="1765440" y="7958160"/>
                <a:chExt cx="136440" cy="711000"/>
              </a:xfrm>
            </p:grpSpPr>
            <p:sp>
              <p:nvSpPr>
                <p:cNvPr id="225" name="AutoShape 224"/>
                <p:cNvSpPr/>
                <p:nvPr/>
              </p:nvSpPr>
              <p:spPr>
                <a:xfrm>
                  <a:off x="1765440" y="7958160"/>
                  <a:ext cx="136440" cy="149400"/>
                </a:xfrm>
                <a:prstGeom prst="can">
                  <a:avLst>
                    <a:gd name="adj" fmla="val 25000"/>
                  </a:avLst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225"/>
                <p:cNvSpPr/>
                <p:nvPr/>
              </p:nvSpPr>
              <p:spPr>
                <a:xfrm>
                  <a:off x="1776240" y="8571240"/>
                  <a:ext cx="115200" cy="97920"/>
                </a:xfrm>
                <a:custGeom>
                  <a:avLst/>
                  <a:gdLst>
                    <a:gd name="textAreaLeft" fmla="*/ 0 w 115200"/>
                    <a:gd name="textAreaRight" fmla="*/ 115560 w 115200"/>
                    <a:gd name="textAreaTop" fmla="*/ 0 h 97920"/>
                    <a:gd name="textAreaBottom" fmla="*/ 98280 h 97920"/>
                  </a:gdLst>
                  <a:ahLst/>
                  <a:rect l="textAreaLeft" t="textAreaTop" r="textAreaRight" b="textAreaBottom"/>
                  <a:pathLst>
                    <a:path w="177" h="139">
                      <a:moveTo>
                        <a:pt x="0" y="6"/>
                      </a:moveTo>
                      <a:cubicBezTo>
                        <a:pt x="0" y="18"/>
                        <a:pt x="0" y="60"/>
                        <a:pt x="1" y="76"/>
                      </a:cubicBezTo>
                      <a:cubicBezTo>
                        <a:pt x="2" y="92"/>
                        <a:pt x="4" y="97"/>
                        <a:pt x="6" y="103"/>
                      </a:cubicBezTo>
                      <a:cubicBezTo>
                        <a:pt x="8" y="109"/>
                        <a:pt x="10" y="112"/>
                        <a:pt x="13" y="115"/>
                      </a:cubicBezTo>
                      <a:cubicBezTo>
                        <a:pt x="16" y="118"/>
                        <a:pt x="22" y="121"/>
                        <a:pt x="25" y="123"/>
                      </a:cubicBezTo>
                      <a:cubicBezTo>
                        <a:pt x="28" y="125"/>
                        <a:pt x="30" y="125"/>
                        <a:pt x="34" y="127"/>
                      </a:cubicBezTo>
                      <a:cubicBezTo>
                        <a:pt x="38" y="129"/>
                        <a:pt x="45" y="134"/>
                        <a:pt x="50" y="136"/>
                      </a:cubicBezTo>
                      <a:cubicBezTo>
                        <a:pt x="55" y="138"/>
                        <a:pt x="58" y="137"/>
                        <a:pt x="63" y="137"/>
                      </a:cubicBezTo>
                      <a:cubicBezTo>
                        <a:pt x="68" y="137"/>
                        <a:pt x="73" y="139"/>
                        <a:pt x="78" y="139"/>
                      </a:cubicBezTo>
                      <a:cubicBezTo>
                        <a:pt x="83" y="139"/>
                        <a:pt x="87" y="139"/>
                        <a:pt x="92" y="139"/>
                      </a:cubicBezTo>
                      <a:cubicBezTo>
                        <a:pt x="97" y="139"/>
                        <a:pt x="105" y="138"/>
                        <a:pt x="111" y="137"/>
                      </a:cubicBezTo>
                      <a:cubicBezTo>
                        <a:pt x="117" y="136"/>
                        <a:pt x="123" y="137"/>
                        <a:pt x="128" y="135"/>
                      </a:cubicBezTo>
                      <a:cubicBezTo>
                        <a:pt x="133" y="133"/>
                        <a:pt x="137" y="129"/>
                        <a:pt x="142" y="127"/>
                      </a:cubicBezTo>
                      <a:cubicBezTo>
                        <a:pt x="147" y="125"/>
                        <a:pt x="152" y="123"/>
                        <a:pt x="157" y="120"/>
                      </a:cubicBezTo>
                      <a:cubicBezTo>
                        <a:pt x="162" y="117"/>
                        <a:pt x="168" y="111"/>
                        <a:pt x="171" y="106"/>
                      </a:cubicBezTo>
                      <a:cubicBezTo>
                        <a:pt x="174" y="101"/>
                        <a:pt x="175" y="95"/>
                        <a:pt x="176" y="91"/>
                      </a:cubicBezTo>
                      <a:cubicBezTo>
                        <a:pt x="177" y="87"/>
                        <a:pt x="176" y="94"/>
                        <a:pt x="176" y="79"/>
                      </a:cubicBezTo>
                      <a:cubicBezTo>
                        <a:pt x="176" y="64"/>
                        <a:pt x="176" y="16"/>
                        <a:pt x="176" y="0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Line 226"/>
                <p:cNvSpPr/>
                <p:nvPr/>
              </p:nvSpPr>
              <p:spPr>
                <a:xfrm flipV="1">
                  <a:off x="1776240" y="810000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Line 227"/>
                <p:cNvSpPr/>
                <p:nvPr/>
              </p:nvSpPr>
              <p:spPr>
                <a:xfrm flipV="1">
                  <a:off x="1890720" y="8100720"/>
                  <a:ext cx="0" cy="473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228"/>
              <p:cNvSpPr/>
              <p:nvPr/>
            </p:nvSpPr>
            <p:spPr>
              <a:xfrm>
                <a:off x="1631880" y="8742240"/>
                <a:ext cx="403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ZA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Rectangle 232"/>
          <p:cNvSpPr/>
          <p:nvPr/>
        </p:nvSpPr>
        <p:spPr>
          <a:xfrm>
            <a:off x="1504800" y="447840"/>
            <a:ext cx="374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P – International Laboratory Branch, Atlanta, G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3T21:17:32Z</dcterms:created>
  <dc:creator>Susan Meade</dc:creator>
  <dc:description/>
  <dc:language>en-US</dc:language>
  <cp:lastModifiedBy>Centers for Disease Control &amp; Prevention</cp:lastModifiedBy>
  <cp:lastPrinted>2001-02-07T17:56:47Z</cp:lastPrinted>
  <dcterms:modified xsi:type="dcterms:W3CDTF">2011-05-13T09:53:10Z</dcterms:modified>
  <cp:revision>65</cp:revision>
  <dc:subject/>
  <dc:title>PZA Workflo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