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2381-EB63-48DB-8F42-14C256EC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3C1C-3289-4DB8-AA96-89673E20B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C86-70C5-4FB0-8B12-017522A8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C3F2-49B4-4618-B45A-BBF0E76B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49649-275F-4D38-8F68-3ABEE0302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1B25-C487-4412-92B7-780B0FF2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465FC-3018-4854-8E1A-73DBA4F1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9C3-C86B-44B7-886B-153E0791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8E8A-6A66-4B03-9619-3DD4AF6E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6DD38-B3C0-4744-A3BB-7E132DB1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FFD79-73C7-4AE8-80E4-CEC99CC5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C12F-0A68-4556-8DCD-EC2BED969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3823-FB68-473B-B1FB-310296F6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46832-9F09-45A3-A0CC-F8124CA4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4133F-0E40-43C1-B955-18AACCAB8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1867-171C-44AA-86D4-B5051E5EE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70098-88B2-4FC5-A98A-4DAD50C04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3CFCE-8393-42C5-8283-06FAF7560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86BDD-BF46-49BB-B23C-131AC8F8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6EAD5-FFB6-459F-A650-DA0C7A23A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1D060-82E1-4397-BCB7-C0CEFE67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87CE-19C1-413E-88B3-6688B8AB4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E31-E0AE-482D-85A2-48D9F132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A01B-EFF7-4214-A3B6-72F3C17D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DDDD37-7263-4432-B5E8-A2EA36FB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34739-E468-421B-9F80-E1B941E4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46538-5EE7-4EEB-BB7F-31DB983F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E5DFA-2143-48A5-9EE9-1238DC11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D22C0-D72A-4E3C-BDC9-6450168F5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AA0C0-75A2-4FBE-A493-0429D6638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5623-A043-4BF1-ABD4-506C0059C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379-82A1-4C0B-8F3C-80BDD1BE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E420-EDD5-41CC-957C-0DFE8FDB2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40BE-A0EC-4B8F-9DF4-34E71923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FFF8-1312-4B0F-8E8E-F9C7EDBC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AC3A-3560-4CFC-8AD8-36ECEEA8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956A-4494-470F-B6EB-95C9879958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E9B26-A9DA-494B-AC9F-60CAEE2EE9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8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" name="Picture 6" descr="LogoColour"/>
          <p:cNvPicPr/>
          <p:nvPr/>
        </p:nvPicPr>
        <p:blipFill>
          <a:blip r:embed="rId2"/>
          <a:stretch/>
        </p:blipFill>
        <p:spPr>
          <a:xfrm>
            <a:off x="6572160" y="6215040"/>
            <a:ext cx="1008000" cy="5065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7489A-72B0-4235-9D24-413D3A5D69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8820000" cy="14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cription - transl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7497-5489-4307-9B89-C39FD6E5A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666880" y="2190600"/>
            <a:ext cx="381024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passes through the sections of the ribos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bosome reads the code in 3 letter words (codon) in the genetic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ptide chain is built as amino acids are added to the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de and have various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55DAB-E62A-4CC2-9D71-57E33109E6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4648320" y="2286000"/>
            <a:ext cx="388620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5434200" cy="13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1929-E6F7-474F-AA9F-5F4A3881E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2714760" y="3429000"/>
            <a:ext cx="292896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cterial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every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loop of stable chromosomal DNA stored in the nucleoid of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double-stra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of DNA v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d i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-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-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be a few million base p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CFE0-9439-4E69-93A6-44F96611F1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"/>
          <p:cNvPicPr/>
          <p:nvPr/>
        </p:nvPicPr>
        <p:blipFill>
          <a:blip r:embed="rId1"/>
          <a:stretch/>
        </p:blipFill>
        <p:spPr>
          <a:xfrm>
            <a:off x="4648320" y="2228760"/>
            <a:ext cx="3886200" cy="3162240"/>
          </a:xfrm>
          <a:prstGeom prst="rect">
            <a:avLst/>
          </a:prstGeom>
          <a:ln w="0">
            <a:noFill/>
          </a:ln>
        </p:spPr>
      </p:pic>
      <p:sp>
        <p:nvSpPr>
          <p:cNvPr id="186" name="Up Arrow 10"/>
          <p:cNvSpPr/>
          <p:nvPr/>
        </p:nvSpPr>
        <p:spPr>
          <a:xfrm rot="19715400">
            <a:off x="6519600" y="4074840"/>
            <a:ext cx="484200" cy="1395360"/>
          </a:xfrm>
          <a:prstGeom prst="upArrow">
            <a:avLst>
              <a:gd name="adj1" fmla="val 50000"/>
              <a:gd name="adj2" fmla="val 49991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lecular identification of mycobacter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conserved regions of DNA allow for species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es are conserved within a species or complex, but differ from other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 with sequence differences that are used for ident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S r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S – 23S ITS (internal transcribed spacer) re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p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D5469-5421-4DCB-A7EA-9B3D3E4993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210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TB complex can be differentiated from other mycobacterial spe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00040" y="1599840"/>
            <a:ext cx="80344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of the TB complex have identical DNA sequences in these 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mycobacterial species have sequence differences in these regions and this is the basis for molecula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93E77-4F1D-4380-98A4-7732A3DBC7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identification method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500040" y="1499760"/>
            <a:ext cx="803448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 prob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 to DNA or RNA from growth-amplified cells (need isolates for t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Probe AccuProbes bind ribosomal 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AT (nucleic acid amplification tes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zymatic amplification of DNA or RNA (PC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 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 brew assays, other commercial k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F26A-7632-43DF-A0E4-82A8C25CC3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arget and prob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cleic acid sequences or amplified product (amplicon) from the specimen or isolate to be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mall molecule of nucleic acid (DNA or RNA) used to identify complementary nucleic acid sequences in the target by hybrid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47D9-3037-4889-8151-5AB265BC7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be: Target detec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609480" y="1428480"/>
            <a:ext cx="792504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e is in solu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hybrid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e is not labe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und to a solid support (membrane or pl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is labelled during amplification by PC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copy is labell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plicons are in 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BB7E-2A1B-4852-96EE-AC7B4F0335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C13-DC62-4D5F-AE29-B8BCCAFB17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biology basic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oxyribo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cleic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d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 in all 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cobac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a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BB5-555E-49F7-B14D-DAE583CC58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What is DNA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sed of two strands of nucleotide units bound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der of the nucleic subunits in the structure represents all of the genetic information carried by a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ntains genetic information and instructions for the development and functioning of all living 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lo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karyotes – nucle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karyotes – cytopla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6E3F-7ED4-4E6E-B3C2-1AC88B89D3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four letters in the code: A T C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de is stored in the sequence of bases in the DNA st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s: the bases (letters) are arranged in specific  orders and functional s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gene may have thousands of nucleot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NA strand has thousands of g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equence of bases are interpreted into instructions for every action that happens in the c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C9EF-055F-4CCB-A5E1-C2F9D1D92D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s of DN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-term storage of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Co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ructions to build necessary components of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al character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ansmission of genetic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6F42-79CD-4688-BD80-6B48FE6974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2268360" y="4724280"/>
            <a:ext cx="338940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made of two long strands of polymers called nucleot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otides are monomers, the building blocks of DNA and are composed of three par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cleobase or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yclic nitrogen-containing compo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types: Adenine (A), cytosine (C), Guanine (G), and Thymine 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base is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-carbon sug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oxy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99"/>
              </a:spcBef>
              <a:buClr>
                <a:srgbClr val="99ccff"/>
              </a:buClr>
              <a:buSzPct val="7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osphate group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NA has the same composition but a different 5-carbon sugar- rib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6040" indent="-44784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8665-22E8-422D-AB43-414AB1698A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4067280" y="4437000"/>
            <a:ext cx="4093920" cy="1440000"/>
          </a:xfrm>
          <a:prstGeom prst="rect">
            <a:avLst/>
          </a:prstGeom>
          <a:ln w="0">
            <a:noFill/>
          </a:ln>
        </p:spPr>
      </p:pic>
      <p:cxnSp>
        <p:nvCxnSpPr>
          <p:cNvPr id="151" name="Curved Connector 7"/>
          <p:cNvCxnSpPr/>
          <p:nvPr/>
        </p:nvCxnSpPr>
        <p:spPr>
          <a:xfrm flipV="1" rot="10800000">
            <a:off x="6155640" y="4508280"/>
            <a:ext cx="864360" cy="28944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2" name="Curved Connector 18"/>
          <p:cNvCxnSpPr/>
          <p:nvPr/>
        </p:nvCxnSpPr>
        <p:spPr>
          <a:xfrm rot="10800000">
            <a:off x="6155640" y="4796640"/>
            <a:ext cx="937440" cy="432720"/>
          </a:xfrm>
          <a:prstGeom prst="curvedConnector5">
            <a:avLst>
              <a:gd name="adj1" fmla="val 28121"/>
              <a:gd name="adj2" fmla="val 49958"/>
              <a:gd name="adj3" fmla="val 28121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2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cleot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e base per nucleotide (A,T,G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ur bases are classified into two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rines (A,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rimidines (T,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 base can be next to each other on the str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wo DNA strands bind together to form a double hel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only binds t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only binds to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strands are complementary to each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89A36-420E-447F-81DD-BD1A7AEB5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dna-2"/>
          <p:cNvPicPr/>
          <p:nvPr/>
        </p:nvPicPr>
        <p:blipFill>
          <a:blip r:embed="rId1"/>
          <a:srcRect l="0" t="5764" r="6378" b="0"/>
          <a:stretch/>
        </p:blipFill>
        <p:spPr>
          <a:xfrm>
            <a:off x="4786200" y="2286000"/>
            <a:ext cx="3567240" cy="378612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6866280" y="1643040"/>
            <a:ext cx="171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equence of nucleoti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8"/>
          <p:cNvCxnSpPr/>
          <p:nvPr/>
        </p:nvCxnSpPr>
        <p:spPr>
          <a:xfrm flipH="1">
            <a:off x="6357600" y="1999080"/>
            <a:ext cx="1000800" cy="786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1"/>
          <p:cNvCxnSpPr>
            <a:stCxn id="157" idx="2"/>
          </p:cNvCxnSpPr>
          <p:nvPr/>
        </p:nvCxnSpPr>
        <p:spPr>
          <a:xfrm flipH="1">
            <a:off x="6143040" y="1905120"/>
            <a:ext cx="1580040" cy="452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composition (3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091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is usually found as a double helix where two strands of nucleotides are wrapped around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rands are anti-parall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strand runs 5’ to 3’, the complementary strand runs 3’ to 5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9D4AC-D713-4CE7-B3DF-5D5365FC19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4857840" y="1571760"/>
            <a:ext cx="3340080" cy="4419360"/>
          </a:xfrm>
          <a:prstGeom prst="rect">
            <a:avLst/>
          </a:prstGeom>
          <a:ln w="0">
            <a:noFill/>
          </a:ln>
        </p:spPr>
      </p:pic>
      <p:sp>
        <p:nvSpPr>
          <p:cNvPr id="164" name="Right Arrow 9"/>
          <p:cNvSpPr/>
          <p:nvPr/>
        </p:nvSpPr>
        <p:spPr>
          <a:xfrm flipV="1">
            <a:off x="4714920" y="1785240"/>
            <a:ext cx="331920" cy="96840"/>
          </a:xfrm>
          <a:prstGeom prst="rightArrow">
            <a:avLst>
              <a:gd name="adj1" fmla="val 50000"/>
              <a:gd name="adj2" fmla="val 5001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00" bIns="1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ight Arrow 10"/>
          <p:cNvSpPr/>
          <p:nvPr/>
        </p:nvSpPr>
        <p:spPr>
          <a:xfrm>
            <a:off x="4572000" y="5286240"/>
            <a:ext cx="642960" cy="14292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11"/>
          <p:cNvSpPr/>
          <p:nvPr/>
        </p:nvSpPr>
        <p:spPr>
          <a:xfrm>
            <a:off x="7643880" y="1928880"/>
            <a:ext cx="500040" cy="71280"/>
          </a:xfrm>
          <a:prstGeom prst="leftArrow">
            <a:avLst>
              <a:gd name="adj1" fmla="val 50000"/>
              <a:gd name="adj2" fmla="val 50113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eft Arrow 12"/>
          <p:cNvSpPr/>
          <p:nvPr/>
        </p:nvSpPr>
        <p:spPr>
          <a:xfrm>
            <a:off x="7929720" y="5286240"/>
            <a:ext cx="642960" cy="142920"/>
          </a:xfrm>
          <a:prstGeom prst="leftArrow">
            <a:avLst>
              <a:gd name="adj1" fmla="val 50000"/>
              <a:gd name="adj2" fmla="val 49986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NA translation (1)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formation is coded in DNA in the order of the chemical letters of which DNA is made (A T 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ction of DNA is transcribed into RNA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NA is a working copy of the DNA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U G C where U replaces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NA is translated into amino acids at the ribos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ino aci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equence of three nucleotide letters (triplets) codes for a specific amino ac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eins: a sequence of amino ac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code is based on the order of nucleotide triplets (CTT, ATT CTG etc.) in a gene, which specify th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of particular amino acids in a prote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404-B28B-408E-8577-277277F6B4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RAGENA, Jean de Dieu</cp:lastModifiedBy>
  <dcterms:modified xsi:type="dcterms:W3CDTF">2012-10-24T22:14:14Z</dcterms:modified>
  <cp:revision>631</cp:revision>
  <dc:subject/>
  <dc:title>PowerPoint Presentation</dc:title>
</cp:coreProperties>
</file>