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7536-E10E-4900-AA67-9B7140D75AD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DC25-59FA-4754-8CFE-E6A381CF975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1DEE-8CC4-40B1-A890-F0901D22C22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0C7F3-D71E-4527-94B9-78B126FCBAF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0BC1-B0C1-42C4-ACDC-FB1F25401A1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1C6A-5AB3-46F8-A9D0-ED8E930348F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50111-D0AD-4E01-A409-AEA9328982AC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EB218-7AFA-4E47-9A5F-89038F13140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B55A8-5DD6-4D57-94F7-2800785DAAD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49C-4C98-4052-A96C-DF43689CAAD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32D3-3D33-44A8-A7E0-2E751A25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85B7-7683-4D80-8A6F-D360C226C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A90-64CB-436E-BF1E-D5EEE79B3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6417-251D-4A19-AE9F-8361BA77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ACDE1-0197-495D-90C1-39692B9E8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6756-EBBB-4B90-8831-855176DDE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A899C-32C0-403D-8845-B642318F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D5B1-B840-44D3-A9C0-5CFCF372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FACB9-5F0A-412E-8076-685C8E14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E485-AA53-481E-A1B6-ED8E9BD6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753EA-A715-44E8-B241-2D1254ED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25F-F0C5-4FA9-BBF9-F8F30880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C1673-A213-4B59-87C8-7900C6FA0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9ADB-50A0-45AE-958A-B72412CF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49F8F-9825-42AC-9674-99B2A26F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0EAC0-2497-4323-A253-AD6D6D9AD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C1723-E398-4D89-A5F7-3133C8863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A49D-361D-42E8-BE57-BD1F38C1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DD5-381A-47C9-B7EC-ABB2C9D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421-6E69-4C71-9339-737CC7064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3288-2E92-4E38-9915-8C48FF4C1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6921-E550-4837-BA31-E6F1C4696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105B-20CD-45D9-B44C-93F3A10FA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5536-F6FF-414F-BB67-83408BB1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E9A2-A718-40EB-9694-13D8F555A6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6691-C937-4781-8590-A028B0ECBD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57280" y="928800"/>
            <a:ext cx="794376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econd-line drug preparation for MGIT 960 D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65E8-897F-4BC5-91D9-8EE5CA0107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FX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t 040M1313V: 100% purity (no potency-adjustment necess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vent &amp; diluent: sterile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GIT DST tubes contain 8.4 ml to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8.4 ml × 2 µg/ml = 16.8 µg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0.1 ml ×168 µg/ml added per MGIT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95 ml sterile d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× 168 µg/ml = 1000 µg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5073-BDD6-40C8-BB7B-2555955D2D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486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floxacin preparation: DMP formul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 available: cellulose acetate, 0.2 or 0.22 µ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ttach syringe filter to a 10 ml syringe; filter-sterilize into sterile cryovials and freeze immedi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w just prior to use and do not re-freeze; discard any leftover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899C-CC12-46E7-9407-EF7EDDD3495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698C-B4B2-4FFA-AE91-A47D3EA614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60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ral drug preparation conside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may be prepared in stock solutions that are stored frozen and later thawed and diluted for use; solvents are not always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 solutions must be sterile-filtered prior to addition to MGIT tubes, eithe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e 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ck solutions or diluted working sol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lter membranes must be compatible with final drug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7BA-304E-4472-BFF3-BAB0C4325D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8548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1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832360" cy="464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2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12C-80B7-4796-B070-AD8F85ABB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 Membrane Guide (2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6227640" y="1341360"/>
            <a:ext cx="2657520" cy="2019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"/>
          <p:cNvPicPr/>
          <p:nvPr/>
        </p:nvPicPr>
        <p:blipFill>
          <a:blip r:embed="rId2"/>
          <a:stretch/>
        </p:blipFill>
        <p:spPr>
          <a:xfrm>
            <a:off x="324000" y="1622520"/>
            <a:ext cx="5832360" cy="10047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832360" cy="207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468360" y="3429000"/>
            <a:ext cx="79200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prepared in a non-aqueous solvent but diluted in distilled H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 may be filtered through a membrane compatible with water but not the initial sol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l filter membranes in the above tables are compatible with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50CE-4579-4627-BD89-892CED9E22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tency/pu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500040" y="1571760"/>
            <a:ext cx="795960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re purchased as powders that vary in activity from lot to 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ctivity of a specific drug lot is listed as potency or purit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the Certificate of Analysis (C of A) supplied by the ven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ugs at or near 100% potency may be weighed out without adjustment (it can be assumed that 10 mg powder = 10 mg active dru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var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cies may not be close to 100% becau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ther materials in the powder, such as impurities, preservatives or solubiliz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cy standards may be decades old and drug manufacturing processes have changed since the standards we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otency adjus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potency of a given drug is 74.5% (or 0.745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µg/ml), how would you prep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0 ml of a 1%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1 gram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× 10 ml = 0.1 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y adjustment: 0.1 grams/0.745 = 0.134 grams pow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eigh out 0.134 grams powder and dissolve in 10 ml for a 1% potency-adjusted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E0D9-28BC-41A9-B6CD-05EC6CC39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9280" y="285480"/>
            <a:ext cx="8307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day’s second-line drug prepara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500040" y="1571760"/>
            <a:ext cx="7929720" cy="45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ritical concentrations for MGIT960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ond-line anti-TB drugs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e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om WHO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rmulations are from NHLS Diagnostic Media Products (DM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hionamide (ETH): Sigma E6005, critical concentration = 5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2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3498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loxacin (OFX): Sigma O8757, critical concentration = 2 µg/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E591E-C79D-47D4-9C38-9FC0EF1697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971640" y="189000"/>
            <a:ext cx="68212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53:02Z</dcterms:modified>
  <cp:revision>345</cp:revision>
  <dc:subject/>
  <dc:title>PowerPoint Presentation</dc:title>
</cp:coreProperties>
</file>