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11.wmf" ContentType="image/x-wmf"/>
  <Override PartName="/ppt/media/image8.jpeg" ContentType="image/jpeg"/>
  <Override PartName="/ppt/media/image9.jpeg" ContentType="image/jpeg"/>
  <Override PartName="/ppt/media/image10.png" ContentType="image/png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DB36-061C-4ACD-B39C-6EEBBAE5BF0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384D-00D4-4174-BB2B-17B6F5D30F6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FF555-4640-4B6E-B982-E6B6F1152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076C-77AA-4B0F-B703-B6C6C6C8DD1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A065-5728-4652-9810-EB5CA1818A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A8CC-F8F9-48FE-A0EA-67789A5D3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B25B-55BE-4097-A9E5-586638BA77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F82E-CF16-4B4C-A443-773F3D545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read slide 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C0B0-6EB6-438D-BF85-DC124EEF2C1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2107-6300-4609-9B0A-1C6CF1C7B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925-D041-4FFA-BCC6-63E9EB92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89F8-ECF4-4F62-AE68-FD448316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7802-4F36-4EBB-9973-D9245F2B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A247-175A-43C9-9ADC-D128B31BD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01CF-3110-4938-B8BC-E487D40D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8585-418E-45B8-9D7A-8777E940F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5222-FF9A-4D2F-A9C5-2FF7B40F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E202-4753-49AF-BCE3-887471CE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31515-0EB8-419C-895F-2BB460929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E494-D2E3-4D4B-AD79-908711AB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D6DA7-7441-4756-9BB3-D0B6DC04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DC8D-A392-4F04-8C76-98A140CFA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74F4-46EC-4A61-8B97-45CD3AAF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444D-533C-482A-8091-5A1B8791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A70C-CA04-4F70-B14F-077BE2A2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3B81-2554-4F8B-8775-CE807D3E8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9B0E-7B7C-4686-8E90-80B626435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F82-FB9B-477E-9BBB-04D15C034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9105-7DFA-4421-8B3C-CE71F6F5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A5A6-9B3C-4C27-A925-845DDCD99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F202-171C-4379-A372-BB38F2643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6210-7A55-4947-86BF-C687951D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410B-4049-4104-A6AB-8F5DA6489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5F62-DAD1-4621-BCAC-1AFCDAE1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3C4F-B765-44B1-8AF5-807343070E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2A3D-9AAA-4244-AD40-BF576CE3B3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s9(PZAchart).ppt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1125360"/>
            <a:ext cx="749016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noculum and drug preparation for the MGIT 960 DST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795760" y="3141720"/>
            <a:ext cx="307800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455040" y="1576440"/>
            <a:ext cx="3798360" cy="4365360"/>
            <a:chOff x="455040" y="1576440"/>
            <a:chExt cx="3798360" cy="4365360"/>
          </a:xfrm>
        </p:grpSpPr>
        <p:grpSp>
          <p:nvGrpSpPr>
            <p:cNvPr id="124" name="Group 5"/>
            <p:cNvGrpSpPr/>
            <p:nvPr/>
          </p:nvGrpSpPr>
          <p:grpSpPr>
            <a:xfrm>
              <a:off x="1552320" y="1576440"/>
              <a:ext cx="226800" cy="1287360"/>
              <a:chOff x="1552320" y="1576440"/>
              <a:chExt cx="226800" cy="1287360"/>
            </a:xfrm>
          </p:grpSpPr>
          <p:sp>
            <p:nvSpPr>
              <p:cNvPr id="125" name="AutoShape 6"/>
              <p:cNvSpPr/>
              <p:nvPr/>
            </p:nvSpPr>
            <p:spPr>
              <a:xfrm>
                <a:off x="1552320" y="1576440"/>
                <a:ext cx="226800" cy="2696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7"/>
              <p:cNvSpPr/>
              <p:nvPr/>
            </p:nvSpPr>
            <p:spPr>
              <a:xfrm>
                <a:off x="1570680" y="2685960"/>
                <a:ext cx="189720" cy="177840"/>
              </a:xfrm>
              <a:custGeom>
                <a:avLst/>
                <a:gdLst>
                  <a:gd name="textAreaLeft" fmla="*/ 0 w 189720"/>
                  <a:gd name="textAreaRight" fmla="*/ 190080 w 189720"/>
                  <a:gd name="textAreaTop" fmla="*/ 0 h 177840"/>
                  <a:gd name="textAreaBottom" fmla="*/ 178200 h 1778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Line 8"/>
              <p:cNvSpPr/>
              <p:nvPr/>
            </p:nvSpPr>
            <p:spPr>
              <a:xfrm flipV="1">
                <a:off x="1570680" y="1834920"/>
                <a:ext cx="0" cy="85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9"/>
              <p:cNvSpPr/>
              <p:nvPr/>
            </p:nvSpPr>
            <p:spPr>
              <a:xfrm flipV="1">
                <a:off x="1760400" y="183492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10"/>
            <p:cNvGrpSpPr/>
            <p:nvPr/>
          </p:nvGrpSpPr>
          <p:grpSpPr>
            <a:xfrm>
              <a:off x="3706560" y="2301120"/>
              <a:ext cx="226440" cy="1288080"/>
              <a:chOff x="3706560" y="2301120"/>
              <a:chExt cx="226440" cy="1288080"/>
            </a:xfrm>
          </p:grpSpPr>
          <p:sp>
            <p:nvSpPr>
              <p:cNvPr id="130" name="AutoShape 11"/>
              <p:cNvSpPr/>
              <p:nvPr/>
            </p:nvSpPr>
            <p:spPr>
              <a:xfrm>
                <a:off x="3706560" y="2301120"/>
                <a:ext cx="226440" cy="270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>
                <a:off x="3724920" y="3410640"/>
                <a:ext cx="189360" cy="178560"/>
              </a:xfrm>
              <a:custGeom>
                <a:avLst/>
                <a:gdLst>
                  <a:gd name="textAreaLeft" fmla="*/ 0 w 189360"/>
                  <a:gd name="textAreaRight" fmla="*/ 189720 w 189360"/>
                  <a:gd name="textAreaTop" fmla="*/ 0 h 178560"/>
                  <a:gd name="textAreaBottom" fmla="*/ 178920 h 1785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"/>
              <p:cNvSpPr/>
              <p:nvPr/>
            </p:nvSpPr>
            <p:spPr>
              <a:xfrm flipV="1">
                <a:off x="3724920" y="2559960"/>
                <a:ext cx="0" cy="8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"/>
              <p:cNvSpPr/>
              <p:nvPr/>
            </p:nvSpPr>
            <p:spPr>
              <a:xfrm flipV="1">
                <a:off x="3914280" y="2559600"/>
                <a:ext cx="0" cy="85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Line 15"/>
            <p:cNvSpPr/>
            <p:nvPr/>
          </p:nvSpPr>
          <p:spPr>
            <a:xfrm>
              <a:off x="2186280" y="2157480"/>
              <a:ext cx="1266480" cy="57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6"/>
            <p:cNvSpPr/>
            <p:nvPr/>
          </p:nvSpPr>
          <p:spPr>
            <a:xfrm>
              <a:off x="3526920" y="3610440"/>
              <a:ext cx="7264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7"/>
            <p:cNvSpPr/>
            <p:nvPr/>
          </p:nvSpPr>
          <p:spPr>
            <a:xfrm>
              <a:off x="1649520" y="3360600"/>
              <a:ext cx="4788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8"/>
            <p:cNvSpPr/>
            <p:nvPr/>
          </p:nvSpPr>
          <p:spPr>
            <a:xfrm flipH="1">
              <a:off x="2050920" y="3583800"/>
              <a:ext cx="1269720" cy="92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19"/>
            <p:cNvGrpSpPr/>
            <p:nvPr/>
          </p:nvGrpSpPr>
          <p:grpSpPr>
            <a:xfrm>
              <a:off x="1151280" y="2249640"/>
              <a:ext cx="303120" cy="347040"/>
              <a:chOff x="1151280" y="2249640"/>
              <a:chExt cx="303120" cy="347040"/>
            </a:xfrm>
          </p:grpSpPr>
          <p:sp>
            <p:nvSpPr>
              <p:cNvPr id="139" name="Text Box 20"/>
              <p:cNvSpPr/>
              <p:nvPr/>
            </p:nvSpPr>
            <p:spPr>
              <a:xfrm>
                <a:off x="1174320" y="22881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Oval 21"/>
              <p:cNvSpPr/>
              <p:nvPr/>
            </p:nvSpPr>
            <p:spPr>
              <a:xfrm>
                <a:off x="1151280" y="2249640"/>
                <a:ext cx="303120" cy="3470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22"/>
            <p:cNvGrpSpPr/>
            <p:nvPr/>
          </p:nvGrpSpPr>
          <p:grpSpPr>
            <a:xfrm>
              <a:off x="1774440" y="3621240"/>
              <a:ext cx="303120" cy="347760"/>
              <a:chOff x="1774440" y="3621240"/>
              <a:chExt cx="303120" cy="347760"/>
            </a:xfrm>
          </p:grpSpPr>
          <p:sp>
            <p:nvSpPr>
              <p:cNvPr id="142" name="Text Box 23"/>
              <p:cNvSpPr/>
              <p:nvPr/>
            </p:nvSpPr>
            <p:spPr>
              <a:xfrm>
                <a:off x="1797480" y="36687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Oval 24"/>
              <p:cNvSpPr/>
              <p:nvPr/>
            </p:nvSpPr>
            <p:spPr>
              <a:xfrm>
                <a:off x="1774440" y="3621240"/>
                <a:ext cx="303120" cy="3477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25"/>
            <p:cNvGrpSpPr/>
            <p:nvPr/>
          </p:nvGrpSpPr>
          <p:grpSpPr>
            <a:xfrm>
              <a:off x="3141720" y="2942280"/>
              <a:ext cx="303120" cy="345240"/>
              <a:chOff x="3141720" y="2942280"/>
              <a:chExt cx="303120" cy="345240"/>
            </a:xfrm>
          </p:grpSpPr>
          <p:sp>
            <p:nvSpPr>
              <p:cNvPr id="145" name="Text Box 26"/>
              <p:cNvSpPr/>
              <p:nvPr/>
            </p:nvSpPr>
            <p:spPr>
              <a:xfrm>
                <a:off x="3159360" y="299304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Oval 27"/>
              <p:cNvSpPr/>
              <p:nvPr/>
            </p:nvSpPr>
            <p:spPr>
              <a:xfrm>
                <a:off x="3141720" y="2942280"/>
                <a:ext cx="303120" cy="345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Text Box 28"/>
            <p:cNvSpPr/>
            <p:nvPr/>
          </p:nvSpPr>
          <p:spPr>
            <a:xfrm>
              <a:off x="999720" y="289368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29"/>
            <p:cNvSpPr/>
            <p:nvPr/>
          </p:nvSpPr>
          <p:spPr>
            <a:xfrm>
              <a:off x="3202200" y="1857960"/>
              <a:ext cx="1825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0"/>
            <p:cNvSpPr/>
            <p:nvPr/>
          </p:nvSpPr>
          <p:spPr>
            <a:xfrm>
              <a:off x="455040" y="366624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31"/>
            <p:cNvGrpSpPr/>
            <p:nvPr/>
          </p:nvGrpSpPr>
          <p:grpSpPr>
            <a:xfrm>
              <a:off x="1663920" y="4654080"/>
              <a:ext cx="1688400" cy="1287720"/>
              <a:chOff x="1663920" y="4654080"/>
              <a:chExt cx="1688400" cy="1287720"/>
            </a:xfrm>
          </p:grpSpPr>
          <p:grpSp>
            <p:nvGrpSpPr>
              <p:cNvPr id="151" name="Group 32"/>
              <p:cNvGrpSpPr/>
              <p:nvPr/>
            </p:nvGrpSpPr>
            <p:grpSpPr>
              <a:xfrm>
                <a:off x="1663920" y="4654080"/>
                <a:ext cx="226440" cy="1287720"/>
                <a:chOff x="1663920" y="4654080"/>
                <a:chExt cx="226440" cy="1287720"/>
              </a:xfrm>
            </p:grpSpPr>
            <p:sp>
              <p:nvSpPr>
                <p:cNvPr id="152" name="AutoShape 33"/>
                <p:cNvSpPr/>
                <p:nvPr/>
              </p:nvSpPr>
              <p:spPr>
                <a:xfrm>
                  <a:off x="1663920" y="4654080"/>
                  <a:ext cx="226440" cy="2700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Freeform 34"/>
                <p:cNvSpPr/>
                <p:nvPr/>
              </p:nvSpPr>
              <p:spPr>
                <a:xfrm>
                  <a:off x="1682280" y="5763960"/>
                  <a:ext cx="189360" cy="177840"/>
                </a:xfrm>
                <a:custGeom>
                  <a:avLst/>
                  <a:gdLst>
                    <a:gd name="textAreaLeft" fmla="*/ 0 w 189360"/>
                    <a:gd name="textAreaRight" fmla="*/ 189720 w 189360"/>
                    <a:gd name="textAreaTop" fmla="*/ 0 h 177840"/>
                    <a:gd name="textAreaBottom" fmla="*/ 178200 h 17784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Line 35"/>
                <p:cNvSpPr/>
                <p:nvPr/>
              </p:nvSpPr>
              <p:spPr>
                <a:xfrm flipV="1">
                  <a:off x="1682280" y="4912920"/>
                  <a:ext cx="0" cy="856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Line 36"/>
                <p:cNvSpPr/>
                <p:nvPr/>
              </p:nvSpPr>
              <p:spPr>
                <a:xfrm flipV="1">
                  <a:off x="1871640" y="4912560"/>
                  <a:ext cx="0" cy="859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" name="Text Box 37"/>
              <p:cNvSpPr/>
              <p:nvPr/>
            </p:nvSpPr>
            <p:spPr>
              <a:xfrm>
                <a:off x="2362320" y="552600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7" name="Text Box 40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inoculum from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7248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nies from solid media must b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days old from time of visible grow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6429600" cy="26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14"/>
          <p:cNvGrpSpPr/>
          <p:nvPr/>
        </p:nvGrpSpPr>
        <p:grpSpPr>
          <a:xfrm>
            <a:off x="5105520" y="2514600"/>
            <a:ext cx="3744000" cy="2286000"/>
            <a:chOff x="5105520" y="2514600"/>
            <a:chExt cx="3744000" cy="2286000"/>
          </a:xfrm>
        </p:grpSpPr>
        <p:sp>
          <p:nvSpPr>
            <p:cNvPr id="164" name="Oval 6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8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9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10"/>
            <p:cNvSpPr/>
            <p:nvPr/>
          </p:nvSpPr>
          <p:spPr>
            <a:xfrm>
              <a:off x="5857200" y="2651040"/>
              <a:ext cx="2992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1 ml culture suspension a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.0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3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307440" y="581328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3"/>
          <p:cNvGrpSpPr/>
          <p:nvPr/>
        </p:nvGrpSpPr>
        <p:grpSpPr>
          <a:xfrm>
            <a:off x="388800" y="4267080"/>
            <a:ext cx="322200" cy="1560240"/>
            <a:chOff x="388800" y="4267080"/>
            <a:chExt cx="322200" cy="1560240"/>
          </a:xfrm>
        </p:grpSpPr>
        <p:sp>
          <p:nvSpPr>
            <p:cNvPr id="171" name="AutoShape 4"/>
            <p:cNvSpPr/>
            <p:nvPr/>
          </p:nvSpPr>
          <p:spPr>
            <a:xfrm rot="16200000">
              <a:off x="508320" y="5655960"/>
              <a:ext cx="82800" cy="259920"/>
            </a:xfrm>
            <a:custGeom>
              <a:avLst/>
              <a:gdLst>
                <a:gd name="textAreaLeft" fmla="*/ 12240 w 82800"/>
                <a:gd name="textAreaRight" fmla="*/ 59400 w 82800"/>
                <a:gd name="textAreaTop" fmla="*/ 61200 h 259920"/>
                <a:gd name="textAreaBottom" fmla="*/ 19872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554" y="2782"/>
                    <a:pt x="15507" y="5080"/>
                    <a:pt x="15507" y="10800"/>
                  </a:cubicBezTo>
                  <a:cubicBezTo>
                    <a:pt x="15507" y="16520"/>
                    <a:pt x="18554" y="188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cc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5"/>
            <p:cNvSpPr/>
            <p:nvPr/>
          </p:nvSpPr>
          <p:spPr>
            <a:xfrm>
              <a:off x="419760" y="4861800"/>
              <a:ext cx="259920" cy="6552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AutoShape 6"/>
            <p:cNvSpPr/>
            <p:nvPr/>
          </p:nvSpPr>
          <p:spPr>
            <a:xfrm>
              <a:off x="388800" y="4267080"/>
              <a:ext cx="322200" cy="246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383838"/>
                </a:gs>
                <a:gs pos="50000">
                  <a:srgbClr val="b2b2b2"/>
                </a:gs>
                <a:gs pos="100000">
                  <a:srgbClr val="383838"/>
                </a:gs>
              </a:gsLst>
              <a:lin ang="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7"/>
            <p:cNvSpPr/>
            <p:nvPr/>
          </p:nvSpPr>
          <p:spPr>
            <a:xfrm>
              <a:off x="417600" y="4464360"/>
              <a:ext cx="266400" cy="136260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362600"/>
                <a:gd name="textAreaBottom" fmla="*/ 1362960 h 136260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Text Box 8"/>
          <p:cNvSpPr/>
          <p:nvPr/>
        </p:nvSpPr>
        <p:spPr>
          <a:xfrm>
            <a:off x="1580400" y="5813280"/>
            <a:ext cx="178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       I       R     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9"/>
          <p:cNvGrpSpPr/>
          <p:nvPr/>
        </p:nvGrpSpPr>
        <p:grpSpPr>
          <a:xfrm>
            <a:off x="1614600" y="4267080"/>
            <a:ext cx="1712160" cy="1559520"/>
            <a:chOff x="1614600" y="4267080"/>
            <a:chExt cx="1712160" cy="1559520"/>
          </a:xfrm>
        </p:grpSpPr>
        <p:grpSp>
          <p:nvGrpSpPr>
            <p:cNvPr id="177" name="Group 10"/>
            <p:cNvGrpSpPr/>
            <p:nvPr/>
          </p:nvGrpSpPr>
          <p:grpSpPr>
            <a:xfrm>
              <a:off x="1614600" y="4267080"/>
              <a:ext cx="320760" cy="1559520"/>
              <a:chOff x="1614600" y="4267080"/>
              <a:chExt cx="320760" cy="1559520"/>
            </a:xfrm>
          </p:grpSpPr>
          <p:sp>
            <p:nvSpPr>
              <p:cNvPr id="178" name="AutoShape 11"/>
              <p:cNvSpPr/>
              <p:nvPr/>
            </p:nvSpPr>
            <p:spPr>
              <a:xfrm rot="16200000">
                <a:off x="17330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12"/>
              <p:cNvSpPr/>
              <p:nvPr/>
            </p:nvSpPr>
            <p:spPr>
              <a:xfrm>
                <a:off x="16452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13"/>
              <p:cNvSpPr/>
              <p:nvPr/>
            </p:nvSpPr>
            <p:spPr>
              <a:xfrm>
                <a:off x="16146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16434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5"/>
            <p:cNvGrpSpPr/>
            <p:nvPr/>
          </p:nvGrpSpPr>
          <p:grpSpPr>
            <a:xfrm>
              <a:off x="2078280" y="4267080"/>
              <a:ext cx="320760" cy="1559520"/>
              <a:chOff x="2078280" y="4267080"/>
              <a:chExt cx="320760" cy="1559520"/>
            </a:xfrm>
          </p:grpSpPr>
          <p:sp>
            <p:nvSpPr>
              <p:cNvPr id="183" name="AutoShape 16"/>
              <p:cNvSpPr/>
              <p:nvPr/>
            </p:nvSpPr>
            <p:spPr>
              <a:xfrm rot="16200000">
                <a:off x="219672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Oval 17"/>
              <p:cNvSpPr/>
              <p:nvPr/>
            </p:nvSpPr>
            <p:spPr>
              <a:xfrm>
                <a:off x="210888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AutoShape 18"/>
              <p:cNvSpPr/>
              <p:nvPr/>
            </p:nvSpPr>
            <p:spPr>
              <a:xfrm>
                <a:off x="207828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210708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Group 20"/>
            <p:cNvGrpSpPr/>
            <p:nvPr/>
          </p:nvGrpSpPr>
          <p:grpSpPr>
            <a:xfrm>
              <a:off x="2541960" y="4267080"/>
              <a:ext cx="320760" cy="1559520"/>
              <a:chOff x="2541960" y="4267080"/>
              <a:chExt cx="320760" cy="1559520"/>
            </a:xfrm>
          </p:grpSpPr>
          <p:sp>
            <p:nvSpPr>
              <p:cNvPr id="188" name="AutoShape 21"/>
              <p:cNvSpPr/>
              <p:nvPr/>
            </p:nvSpPr>
            <p:spPr>
              <a:xfrm rot="16200000">
                <a:off x="266040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22"/>
              <p:cNvSpPr/>
              <p:nvPr/>
            </p:nvSpPr>
            <p:spPr>
              <a:xfrm>
                <a:off x="257256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AutoShape 23"/>
              <p:cNvSpPr/>
              <p:nvPr/>
            </p:nvSpPr>
            <p:spPr>
              <a:xfrm>
                <a:off x="254196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257076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25"/>
            <p:cNvGrpSpPr/>
            <p:nvPr/>
          </p:nvGrpSpPr>
          <p:grpSpPr>
            <a:xfrm>
              <a:off x="3006000" y="4267080"/>
              <a:ext cx="320760" cy="1559520"/>
              <a:chOff x="3006000" y="4267080"/>
              <a:chExt cx="320760" cy="1559520"/>
            </a:xfrm>
          </p:grpSpPr>
          <p:sp>
            <p:nvSpPr>
              <p:cNvPr id="193" name="AutoShape 26"/>
              <p:cNvSpPr/>
              <p:nvPr/>
            </p:nvSpPr>
            <p:spPr>
              <a:xfrm rot="16200000">
                <a:off x="3124440" y="5655600"/>
                <a:ext cx="82440" cy="258480"/>
              </a:xfrm>
              <a:custGeom>
                <a:avLst/>
                <a:gdLst>
                  <a:gd name="textAreaLeft" fmla="*/ 12240 w 82440"/>
                  <a:gd name="textAreaRight" fmla="*/ 59400 w 82440"/>
                  <a:gd name="textAreaTop" fmla="*/ 61200 h 258480"/>
                  <a:gd name="textAreaBottom" fmla="*/ 197280 h 258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8554" y="2782"/>
                      <a:pt x="15507" y="5080"/>
                      <a:pt x="15507" y="10800"/>
                    </a:cubicBezTo>
                    <a:cubicBezTo>
                      <a:pt x="15507" y="16520"/>
                      <a:pt x="18554" y="18818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cc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27"/>
              <p:cNvSpPr/>
              <p:nvPr/>
            </p:nvSpPr>
            <p:spPr>
              <a:xfrm>
                <a:off x="3036600" y="4861800"/>
                <a:ext cx="258480" cy="65520"/>
              </a:xfrm>
              <a:prstGeom prst="ellipse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AutoShape 28"/>
              <p:cNvSpPr/>
              <p:nvPr/>
            </p:nvSpPr>
            <p:spPr>
              <a:xfrm>
                <a:off x="3006000" y="4267080"/>
                <a:ext cx="320760" cy="246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383838"/>
                  </a:gs>
                  <a:gs pos="50000">
                    <a:srgbClr val="b2b2b2"/>
                  </a:gs>
                  <a:gs pos="100000">
                    <a:srgbClr val="383838"/>
                  </a:gs>
                </a:gsLst>
                <a:lin ang="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3034800" y="4464360"/>
                <a:ext cx="265320" cy="1362240"/>
              </a:xfrm>
              <a:custGeom>
                <a:avLst/>
                <a:gdLst>
                  <a:gd name="textAreaLeft" fmla="*/ 0 w 265320"/>
                  <a:gd name="textAreaRight" fmla="*/ 265680 w 265320"/>
                  <a:gd name="textAreaTop" fmla="*/ 0 h 1362240"/>
                  <a:gd name="textAreaBottom" fmla="*/ 1362240 h 1362240"/>
                </a:gdLst>
                <a:ahLst/>
                <a:rect l="textAreaLeft" t="textAreaTop" r="textAreaRight" b="textAreaBottom"/>
                <a:pathLst>
                  <a:path w="119" h="724">
                    <a:moveTo>
                      <a:pt x="0" y="0"/>
                    </a:moveTo>
                    <a:lnTo>
                      <a:pt x="0" y="679"/>
                    </a:lnTo>
                    <a:lnTo>
                      <a:pt x="1" y="690"/>
                    </a:lnTo>
                    <a:lnTo>
                      <a:pt x="4" y="697"/>
                    </a:lnTo>
                    <a:lnTo>
                      <a:pt x="9" y="704"/>
                    </a:lnTo>
                    <a:lnTo>
                      <a:pt x="16" y="710"/>
                    </a:lnTo>
                    <a:lnTo>
                      <a:pt x="25" y="716"/>
                    </a:lnTo>
                    <a:lnTo>
                      <a:pt x="37" y="721"/>
                    </a:lnTo>
                    <a:lnTo>
                      <a:pt x="48" y="723"/>
                    </a:lnTo>
                    <a:lnTo>
                      <a:pt x="60" y="724"/>
                    </a:lnTo>
                    <a:lnTo>
                      <a:pt x="72" y="722"/>
                    </a:lnTo>
                    <a:lnTo>
                      <a:pt x="83" y="719"/>
                    </a:lnTo>
                    <a:lnTo>
                      <a:pt x="93" y="715"/>
                    </a:lnTo>
                    <a:lnTo>
                      <a:pt x="102" y="709"/>
                    </a:lnTo>
                    <a:lnTo>
                      <a:pt x="109" y="703"/>
                    </a:lnTo>
                    <a:lnTo>
                      <a:pt x="113" y="697"/>
                    </a:lnTo>
                    <a:lnTo>
                      <a:pt x="117" y="689"/>
                    </a:lnTo>
                    <a:lnTo>
                      <a:pt x="119" y="679"/>
                    </a:lnTo>
                    <a:lnTo>
                      <a:pt x="119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ation of SI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038120" y="129528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e 5 MGIT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MGI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8 ml SIRE supp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1 ml of corresponding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inoculum to drug tub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0.5 ml 1:100 dilution GC suspension to GC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times by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 in proper DST carrier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o MGIT 960 instru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2"/>
          <p:cNvSpPr/>
          <p:nvPr/>
        </p:nvSpPr>
        <p:spPr>
          <a:xfrm flipH="1">
            <a:off x="532800" y="1981080"/>
            <a:ext cx="1066680" cy="3124440"/>
          </a:xfrm>
          <a:custGeom>
            <a:avLst/>
            <a:gdLst>
              <a:gd name="textAreaLeft" fmla="*/ 156240 w 1066680"/>
              <a:gd name="textAreaRight" fmla="*/ 910440 w 1066680"/>
              <a:gd name="textAreaTop" fmla="*/ 457560 h 3124440"/>
              <a:gd name="textAreaBottom" fmla="*/ 2666880 h 3124440"/>
            </a:gdLst>
            <a:ahLst/>
            <a:rect l="textAreaLeft" t="textAreaTop" r="textAreaRight" b="textAreaBottom"/>
            <a:pathLst>
              <a:path w="21600" h="21600">
                <a:moveTo>
                  <a:pt x="20770" y="11391"/>
                </a:moveTo>
                <a:cubicBezTo>
                  <a:pt x="20782" y="11194"/>
                  <a:pt x="20788" y="10997"/>
                  <a:pt x="20788" y="10800"/>
                </a:cubicBezTo>
                <a:cubicBezTo>
                  <a:pt x="20788" y="5283"/>
                  <a:pt x="16316" y="812"/>
                  <a:pt x="10800" y="812"/>
                </a:cubicBezTo>
                <a:cubicBezTo>
                  <a:pt x="9721" y="811"/>
                  <a:pt x="8650" y="986"/>
                  <a:pt x="7628" y="1328"/>
                </a:cubicBezTo>
                <a:lnTo>
                  <a:pt x="7370" y="558"/>
                </a:lnTo>
                <a:cubicBezTo>
                  <a:pt x="8476" y="188"/>
                  <a:pt x="963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013"/>
                  <a:pt x="21593" y="11226"/>
                  <a:pt x="21581" y="11440"/>
                </a:cubicBezTo>
                <a:lnTo>
                  <a:pt x="24276" y="11600"/>
                </a:lnTo>
                <a:lnTo>
                  <a:pt x="20990" y="14516"/>
                </a:lnTo>
                <a:lnTo>
                  <a:pt x="18075" y="11231"/>
                </a:lnTo>
                <a:lnTo>
                  <a:pt x="20770" y="11391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Group 33"/>
          <p:cNvGrpSpPr/>
          <p:nvPr/>
        </p:nvGrpSpPr>
        <p:grpSpPr>
          <a:xfrm>
            <a:off x="1752480" y="1981080"/>
            <a:ext cx="2438640" cy="3124440"/>
            <a:chOff x="1752480" y="1981080"/>
            <a:chExt cx="2438640" cy="3124440"/>
          </a:xfrm>
        </p:grpSpPr>
        <p:sp>
          <p:nvSpPr>
            <p:cNvPr id="201" name="AutoShape 34"/>
            <p:cNvSpPr/>
            <p:nvPr/>
          </p:nvSpPr>
          <p:spPr>
            <a:xfrm flipH="1">
              <a:off x="17524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AutoShape 35"/>
            <p:cNvSpPr/>
            <p:nvPr/>
          </p:nvSpPr>
          <p:spPr>
            <a:xfrm flipH="1">
              <a:off x="22096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AutoShape 36"/>
            <p:cNvSpPr/>
            <p:nvPr/>
          </p:nvSpPr>
          <p:spPr>
            <a:xfrm flipH="1">
              <a:off x="26668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AutoShape 37"/>
            <p:cNvSpPr/>
            <p:nvPr/>
          </p:nvSpPr>
          <p:spPr>
            <a:xfrm flipH="1">
              <a:off x="3124080" y="1981080"/>
              <a:ext cx="1067040" cy="3124440"/>
            </a:xfrm>
            <a:custGeom>
              <a:avLst/>
              <a:gdLst>
                <a:gd name="textAreaLeft" fmla="*/ 155520 w 1067040"/>
                <a:gd name="textAreaRight" fmla="*/ 911520 w 1067040"/>
                <a:gd name="textAreaTop" fmla="*/ 457200 h 3124440"/>
                <a:gd name="textAreaBottom" fmla="*/ 2667240 h 312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IRE inoculation overview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3760" y="1643040"/>
            <a:ext cx="90489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ing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D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D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susceptibility test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is active only at low pH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in vit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test must be performed in low p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 for PZA testing has pH of 5.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is pH, many strains grow poorly or not at al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C PZA medium is around pH 5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supplement required to enhance ability of organisms to grown at this 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741240" y="6099120"/>
            <a:ext cx="4351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CLSI, M24-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0066"/>
                </a:solidFill>
                <a:latin typeface="Arial"/>
              </a:rPr>
              <a:t>BACTEC PZA package ins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ZA susceptibility test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ZA medium is a modified 7H9 broth with a reduced pH of 5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ement is enric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from SIRE AST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t drug concentration 100 µg/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interpretable after 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ative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d with BACTEC 460 Gold Standard (CLSI recommenda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dru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2209680"/>
          <a:ext cx="7772400" cy="177012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Approx. lyophilized drug/v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Pyrazinamide (PZ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0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void exposure to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quid-based DST syste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thods incorporate a means of quantifying growth in the presence of a drug compared to a growth control with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characteristics in the medium are used as the basis for evaluation (dru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o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growth characteristic is observed for the entire organism population and for 1% of the organism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PZA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5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constitution of lyophilized drug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6" descr="PZA"/>
          <p:cNvPicPr/>
          <p:nvPr/>
        </p:nvPicPr>
        <p:blipFill>
          <a:blip r:embed="rId1"/>
          <a:stretch/>
        </p:blipFill>
        <p:spPr>
          <a:xfrm>
            <a:off x="5943600" y="2362320"/>
            <a:ext cx="2503440" cy="266688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inoculum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4876920" y="1600200"/>
            <a:ext cx="38862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 =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ay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cubate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t least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one more day after posi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lphaUcPeriod" startAt="2"/>
              <a:tabLst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Go directly to preparation &amp; inoc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Day of positivity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= 3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lute 1 ml of positive broth into 4 ml sterile sa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(1:5 dilu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8"/>
          <p:cNvGrpSpPr/>
          <p:nvPr/>
        </p:nvGrpSpPr>
        <p:grpSpPr>
          <a:xfrm>
            <a:off x="621000" y="1576440"/>
            <a:ext cx="3748680" cy="4517640"/>
            <a:chOff x="621000" y="1576440"/>
            <a:chExt cx="3748680" cy="4517640"/>
          </a:xfrm>
        </p:grpSpPr>
        <p:grpSp>
          <p:nvGrpSpPr>
            <p:cNvPr id="224" name="Group 39"/>
            <p:cNvGrpSpPr/>
            <p:nvPr/>
          </p:nvGrpSpPr>
          <p:grpSpPr>
            <a:xfrm>
              <a:off x="1712880" y="1576440"/>
              <a:ext cx="225000" cy="1332360"/>
              <a:chOff x="1712880" y="1576440"/>
              <a:chExt cx="225000" cy="1332360"/>
            </a:xfrm>
          </p:grpSpPr>
          <p:sp>
            <p:nvSpPr>
              <p:cNvPr id="225" name="AutoShape 40"/>
              <p:cNvSpPr/>
              <p:nvPr/>
            </p:nvSpPr>
            <p:spPr>
              <a:xfrm>
                <a:off x="1712880" y="1576440"/>
                <a:ext cx="225000" cy="27936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41"/>
              <p:cNvSpPr/>
              <p:nvPr/>
            </p:nvSpPr>
            <p:spPr>
              <a:xfrm>
                <a:off x="1731240" y="2724840"/>
                <a:ext cx="188280" cy="183960"/>
              </a:xfrm>
              <a:custGeom>
                <a:avLst/>
                <a:gdLst>
                  <a:gd name="textAreaLeft" fmla="*/ 0 w 188280"/>
                  <a:gd name="textAreaRight" fmla="*/ 188640 w 1882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42"/>
              <p:cNvSpPr/>
              <p:nvPr/>
            </p:nvSpPr>
            <p:spPr>
              <a:xfrm flipV="1">
                <a:off x="1731240" y="184392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43"/>
              <p:cNvSpPr/>
              <p:nvPr/>
            </p:nvSpPr>
            <p:spPr>
              <a:xfrm flipV="1">
                <a:off x="1919520" y="184428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44"/>
            <p:cNvGrpSpPr/>
            <p:nvPr/>
          </p:nvGrpSpPr>
          <p:grpSpPr>
            <a:xfrm>
              <a:off x="3850560" y="2326320"/>
              <a:ext cx="224640" cy="1333080"/>
              <a:chOff x="3850560" y="2326320"/>
              <a:chExt cx="224640" cy="1333080"/>
            </a:xfrm>
          </p:grpSpPr>
          <p:sp>
            <p:nvSpPr>
              <p:cNvPr id="230" name="AutoShape 45"/>
              <p:cNvSpPr/>
              <p:nvPr/>
            </p:nvSpPr>
            <p:spPr>
              <a:xfrm>
                <a:off x="3850560" y="2326320"/>
                <a:ext cx="224640" cy="27972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46"/>
              <p:cNvSpPr/>
              <p:nvPr/>
            </p:nvSpPr>
            <p:spPr>
              <a:xfrm>
                <a:off x="3868920" y="3474720"/>
                <a:ext cx="187920" cy="184680"/>
              </a:xfrm>
              <a:custGeom>
                <a:avLst/>
                <a:gdLst>
                  <a:gd name="textAreaLeft" fmla="*/ 0 w 187920"/>
                  <a:gd name="textAreaRight" fmla="*/ 188280 w 187920"/>
                  <a:gd name="textAreaTop" fmla="*/ 0 h 184680"/>
                  <a:gd name="textAreaBottom" fmla="*/ 185040 h 1846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47"/>
              <p:cNvSpPr/>
              <p:nvPr/>
            </p:nvSpPr>
            <p:spPr>
              <a:xfrm flipV="1">
                <a:off x="3868920" y="2593800"/>
                <a:ext cx="0" cy="88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48"/>
              <p:cNvSpPr/>
              <p:nvPr/>
            </p:nvSpPr>
            <p:spPr>
              <a:xfrm flipV="1">
                <a:off x="4056840" y="2594160"/>
                <a:ext cx="0" cy="88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Line 49"/>
            <p:cNvSpPr/>
            <p:nvPr/>
          </p:nvSpPr>
          <p:spPr>
            <a:xfrm>
              <a:off x="2341800" y="2177640"/>
              <a:ext cx="1256760" cy="59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 Box 50"/>
            <p:cNvSpPr/>
            <p:nvPr/>
          </p:nvSpPr>
          <p:spPr>
            <a:xfrm>
              <a:off x="3695040" y="370476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 -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51"/>
            <p:cNvSpPr/>
            <p:nvPr/>
          </p:nvSpPr>
          <p:spPr>
            <a:xfrm>
              <a:off x="1801080" y="3425760"/>
              <a:ext cx="63720" cy="11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52"/>
            <p:cNvSpPr/>
            <p:nvPr/>
          </p:nvSpPr>
          <p:spPr>
            <a:xfrm flipH="1">
              <a:off x="2211120" y="3663360"/>
              <a:ext cx="1253160" cy="94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53"/>
            <p:cNvGrpSpPr/>
            <p:nvPr/>
          </p:nvGrpSpPr>
          <p:grpSpPr>
            <a:xfrm>
              <a:off x="1315080" y="2273040"/>
              <a:ext cx="300600" cy="359280"/>
              <a:chOff x="1315080" y="2273040"/>
              <a:chExt cx="300600" cy="359280"/>
            </a:xfrm>
          </p:grpSpPr>
          <p:sp>
            <p:nvSpPr>
              <p:cNvPr id="239" name="Text Box 54"/>
              <p:cNvSpPr/>
              <p:nvPr/>
            </p:nvSpPr>
            <p:spPr>
              <a:xfrm>
                <a:off x="1338120" y="2319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Oval 55"/>
              <p:cNvSpPr/>
              <p:nvPr/>
            </p:nvSpPr>
            <p:spPr>
              <a:xfrm>
                <a:off x="1315080" y="2273040"/>
                <a:ext cx="300600" cy="3592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1" name="Group 56"/>
            <p:cNvGrpSpPr/>
            <p:nvPr/>
          </p:nvGrpSpPr>
          <p:grpSpPr>
            <a:xfrm>
              <a:off x="1933200" y="3692880"/>
              <a:ext cx="300600" cy="360000"/>
              <a:chOff x="1933200" y="3692880"/>
              <a:chExt cx="300600" cy="360000"/>
            </a:xfrm>
          </p:grpSpPr>
          <p:sp>
            <p:nvSpPr>
              <p:cNvPr id="242" name="Text Box 57"/>
              <p:cNvSpPr/>
              <p:nvPr/>
            </p:nvSpPr>
            <p:spPr>
              <a:xfrm>
                <a:off x="1954800" y="37450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58"/>
              <p:cNvSpPr/>
              <p:nvPr/>
            </p:nvSpPr>
            <p:spPr>
              <a:xfrm>
                <a:off x="1933200" y="3692880"/>
                <a:ext cx="300600" cy="3600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Group 59"/>
            <p:cNvGrpSpPr/>
            <p:nvPr/>
          </p:nvGrpSpPr>
          <p:grpSpPr>
            <a:xfrm>
              <a:off x="3290040" y="2989800"/>
              <a:ext cx="300600" cy="357120"/>
              <a:chOff x="3290040" y="2989800"/>
              <a:chExt cx="300600" cy="357120"/>
            </a:xfrm>
          </p:grpSpPr>
          <p:sp>
            <p:nvSpPr>
              <p:cNvPr id="245" name="Text Box 60"/>
              <p:cNvSpPr/>
              <p:nvPr/>
            </p:nvSpPr>
            <p:spPr>
              <a:xfrm>
                <a:off x="3306240" y="304812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Oval 61"/>
              <p:cNvSpPr/>
              <p:nvPr/>
            </p:nvSpPr>
            <p:spPr>
              <a:xfrm>
                <a:off x="3290040" y="2989800"/>
                <a:ext cx="300600" cy="3571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Text Box 62"/>
            <p:cNvSpPr/>
            <p:nvPr/>
          </p:nvSpPr>
          <p:spPr>
            <a:xfrm>
              <a:off x="1116000" y="2946240"/>
              <a:ext cx="1393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3"/>
            <p:cNvSpPr/>
            <p:nvPr/>
          </p:nvSpPr>
          <p:spPr>
            <a:xfrm>
              <a:off x="3347640" y="1873800"/>
              <a:ext cx="18324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 Box 64"/>
            <p:cNvSpPr/>
            <p:nvPr/>
          </p:nvSpPr>
          <p:spPr>
            <a:xfrm>
              <a:off x="621000" y="374580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0" name="Group 65"/>
            <p:cNvGrpSpPr/>
            <p:nvPr/>
          </p:nvGrpSpPr>
          <p:grpSpPr>
            <a:xfrm>
              <a:off x="1823400" y="4761360"/>
              <a:ext cx="1661760" cy="1332720"/>
              <a:chOff x="1823400" y="4761360"/>
              <a:chExt cx="1661760" cy="1332720"/>
            </a:xfrm>
          </p:grpSpPr>
          <p:grpSp>
            <p:nvGrpSpPr>
              <p:cNvPr id="251" name="Group 66"/>
              <p:cNvGrpSpPr/>
              <p:nvPr/>
            </p:nvGrpSpPr>
            <p:grpSpPr>
              <a:xfrm>
                <a:off x="1823400" y="4761360"/>
                <a:ext cx="224640" cy="1332720"/>
                <a:chOff x="1823400" y="4761360"/>
                <a:chExt cx="224640" cy="1332720"/>
              </a:xfrm>
            </p:grpSpPr>
            <p:sp>
              <p:nvSpPr>
                <p:cNvPr id="252" name="AutoShape 67"/>
                <p:cNvSpPr/>
                <p:nvPr/>
              </p:nvSpPr>
              <p:spPr>
                <a:xfrm>
                  <a:off x="1823400" y="4761360"/>
                  <a:ext cx="224640" cy="27936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68"/>
                <p:cNvSpPr/>
                <p:nvPr/>
              </p:nvSpPr>
              <p:spPr>
                <a:xfrm>
                  <a:off x="1841760" y="5910120"/>
                  <a:ext cx="187920" cy="183960"/>
                </a:xfrm>
                <a:custGeom>
                  <a:avLst/>
                  <a:gdLst>
                    <a:gd name="textAreaLeft" fmla="*/ 0 w 187920"/>
                    <a:gd name="textAreaRight" fmla="*/ 188280 w 187920"/>
                    <a:gd name="textAreaTop" fmla="*/ 0 h 183960"/>
                    <a:gd name="textAreaBottom" fmla="*/ 184320 h 18396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Line 69"/>
                <p:cNvSpPr/>
                <p:nvPr/>
              </p:nvSpPr>
              <p:spPr>
                <a:xfrm flipV="1">
                  <a:off x="1841760" y="5028840"/>
                  <a:ext cx="0" cy="886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0"/>
                <p:cNvSpPr/>
                <p:nvPr/>
              </p:nvSpPr>
              <p:spPr>
                <a:xfrm flipV="1">
                  <a:off x="2029680" y="5028840"/>
                  <a:ext cx="0" cy="88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6" name="Text Box 71"/>
              <p:cNvSpPr/>
              <p:nvPr/>
            </p:nvSpPr>
            <p:spPr>
              <a:xfrm>
                <a:off x="2533320" y="56692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oculum from solid mediu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)  Use growth on solid medium </a:t>
            </a:r>
            <a:r>
              <a:rPr b="0" lang="en-US" sz="2400" spc="-1" strike="noStrike" u="sng">
                <a:solidFill>
                  <a:srgbClr val="000066"/>
                </a:solidFill>
                <a:uFillTx/>
                <a:latin typeface="Arial"/>
              </a:rPr>
              <a:t>&lt;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14 days 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)  Make suspension &gt;1.0 McFarland turbidity standard in MGIT broth containing 8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0 glass b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)  Vortex for 2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)  Allow to sit 20 minutes for large clump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5)  Transfer supernatant fluid to another sterile tube and allow to sit for anoth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6)  Transfer supernatant fluid to another sterile tube and adjust turbidity to 0.5 McFarland turbidit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7)  Dilute 1 ml of final suspension in 4 ml sterile saline and m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PZ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5638680"/>
            <a:ext cx="858600" cy="9144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ZA growth control suspens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62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wth contro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1:10 dilution of working susp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oculate 0.5 ml of 1:10 dilution to tube containing no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5105520" y="2514600"/>
            <a:ext cx="3677760" cy="2286000"/>
            <a:chOff x="5105520" y="2514600"/>
            <a:chExt cx="3677760" cy="2286000"/>
          </a:xfrm>
        </p:grpSpPr>
        <p:sp>
          <p:nvSpPr>
            <p:cNvPr id="263" name="Oval 5"/>
            <p:cNvSpPr/>
            <p:nvPr/>
          </p:nvSpPr>
          <p:spPr>
            <a:xfrm>
              <a:off x="5135400" y="4046400"/>
              <a:ext cx="24480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6"/>
            <p:cNvSpPr/>
            <p:nvPr/>
          </p:nvSpPr>
          <p:spPr>
            <a:xfrm>
              <a:off x="5132520" y="3735360"/>
              <a:ext cx="252360" cy="106524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065240"/>
                <a:gd name="textAreaBottom" fmla="*/ 1065600 h 1065240"/>
              </a:gdLst>
              <a:ahLst/>
              <a:rect l="textAreaLeft" t="textAreaTop" r="textAreaRight" b="textAreaBottom"/>
              <a:pathLst>
                <a:path w="119" h="724">
                  <a:moveTo>
                    <a:pt x="0" y="0"/>
                  </a:moveTo>
                  <a:lnTo>
                    <a:pt x="0" y="679"/>
                  </a:lnTo>
                  <a:lnTo>
                    <a:pt x="1" y="690"/>
                  </a:lnTo>
                  <a:lnTo>
                    <a:pt x="4" y="697"/>
                  </a:lnTo>
                  <a:lnTo>
                    <a:pt x="9" y="704"/>
                  </a:lnTo>
                  <a:lnTo>
                    <a:pt x="16" y="710"/>
                  </a:lnTo>
                  <a:lnTo>
                    <a:pt x="25" y="716"/>
                  </a:lnTo>
                  <a:lnTo>
                    <a:pt x="37" y="721"/>
                  </a:lnTo>
                  <a:lnTo>
                    <a:pt x="48" y="723"/>
                  </a:lnTo>
                  <a:lnTo>
                    <a:pt x="60" y="724"/>
                  </a:lnTo>
                  <a:lnTo>
                    <a:pt x="72" y="722"/>
                  </a:lnTo>
                  <a:lnTo>
                    <a:pt x="83" y="719"/>
                  </a:lnTo>
                  <a:lnTo>
                    <a:pt x="93" y="715"/>
                  </a:lnTo>
                  <a:lnTo>
                    <a:pt x="102" y="709"/>
                  </a:lnTo>
                  <a:lnTo>
                    <a:pt x="109" y="703"/>
                  </a:lnTo>
                  <a:lnTo>
                    <a:pt x="113" y="697"/>
                  </a:lnTo>
                  <a:lnTo>
                    <a:pt x="117" y="689"/>
                  </a:lnTo>
                  <a:lnTo>
                    <a:pt x="119" y="679"/>
                  </a:lnTo>
                  <a:lnTo>
                    <a:pt x="119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AutoShape 7"/>
            <p:cNvSpPr/>
            <p:nvPr/>
          </p:nvSpPr>
          <p:spPr>
            <a:xfrm flipH="1">
              <a:off x="5257800" y="2514600"/>
              <a:ext cx="1295280" cy="1371600"/>
            </a:xfrm>
            <a:custGeom>
              <a:avLst/>
              <a:gdLst>
                <a:gd name="textAreaLeft" fmla="*/ 188640 w 1295280"/>
                <a:gd name="textAreaRight" fmla="*/ 1106640 w 1295280"/>
                <a:gd name="textAreaTop" fmla="*/ 201600 h 1371600"/>
                <a:gd name="textAreaBottom" fmla="*/ 1170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0770" y="11391"/>
                  </a:moveTo>
                  <a:cubicBezTo>
                    <a:pt x="20782" y="11194"/>
                    <a:pt x="20788" y="10997"/>
                    <a:pt x="20788" y="10800"/>
                  </a:cubicBezTo>
                  <a:cubicBezTo>
                    <a:pt x="20788" y="5283"/>
                    <a:pt x="16316" y="812"/>
                    <a:pt x="10800" y="812"/>
                  </a:cubicBezTo>
                  <a:cubicBezTo>
                    <a:pt x="9721" y="811"/>
                    <a:pt x="8650" y="986"/>
                    <a:pt x="7628" y="1328"/>
                  </a:cubicBezTo>
                  <a:lnTo>
                    <a:pt x="7370" y="558"/>
                  </a:lnTo>
                  <a:cubicBezTo>
                    <a:pt x="8476" y="188"/>
                    <a:pt x="9634" y="-1"/>
                    <a:pt x="10800" y="0"/>
                  </a:cubicBezTo>
                  <a:cubicBezTo>
                    <a:pt x="16764" y="0"/>
                    <a:pt x="21600" y="4835"/>
                    <a:pt x="21600" y="10800"/>
                  </a:cubicBezTo>
                  <a:cubicBezTo>
                    <a:pt x="21600" y="11013"/>
                    <a:pt x="21593" y="11226"/>
                    <a:pt x="21581" y="11440"/>
                  </a:cubicBezTo>
                  <a:lnTo>
                    <a:pt x="24276" y="11600"/>
                  </a:lnTo>
                  <a:lnTo>
                    <a:pt x="20990" y="14516"/>
                  </a:lnTo>
                  <a:lnTo>
                    <a:pt x="18075" y="11231"/>
                  </a:lnTo>
                  <a:lnTo>
                    <a:pt x="20770" y="11391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8"/>
            <p:cNvSpPr/>
            <p:nvPr/>
          </p:nvSpPr>
          <p:spPr>
            <a:xfrm>
              <a:off x="5857920" y="2651040"/>
              <a:ext cx="2925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 a test tube, mix by inver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.5 ml culture suspens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4.5 ml sterile sali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Oval 9"/>
            <p:cNvSpPr/>
            <p:nvPr/>
          </p:nvSpPr>
          <p:spPr>
            <a:xfrm>
              <a:off x="5105520" y="3733920"/>
              <a:ext cx="244440" cy="5076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ading DST se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72840" y="1455480"/>
            <a:ext cx="60418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y DST sets to the instrument in the DST transport 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desired drawer and scan DST Set Carrier’s barcode label and isolate label on first tub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 DST set definition on instrument display and change if appropri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insert the tube set into the indicated 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C in the left-most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at all the tubes AND carriers are fully seated in th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dra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7" descr="2"/>
          <p:cNvPicPr/>
          <p:nvPr/>
        </p:nvPicPr>
        <p:blipFill>
          <a:blip r:embed="rId1"/>
          <a:stretch/>
        </p:blipFill>
        <p:spPr>
          <a:xfrm>
            <a:off x="6572160" y="2928960"/>
            <a:ext cx="2386080" cy="24512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200" spc="-1" strike="noStrike">
                <a:solidFill>
                  <a:srgbClr val="ffffff"/>
                </a:solidFill>
                <a:latin typeface="Arial"/>
              </a:rPr>
              <a:t>Summary poi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480" y="1366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ly label tu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dd the exact volume of SIRE supplement, drugs and ino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hydrate drugs with the correct diluent and 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ver add any drug to the G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pure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for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ultures not older than 5 (for MGIT) and 14 (for solid) d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clumps, mix suspensions and inoculated vials prop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9533-2E43-4E8C-BCE2-C2FF49C01273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d cultures from TB patients are subjected to growth in the presence of known concentration of a test dr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ciple of MGIT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4" descr="SIRE vials"/>
          <p:cNvPicPr/>
          <p:nvPr/>
        </p:nvPicPr>
        <p:blipFill>
          <a:blip r:embed="rId1"/>
          <a:stretch/>
        </p:blipFill>
        <p:spPr>
          <a:xfrm>
            <a:off x="1168560" y="3656160"/>
            <a:ext cx="1498320" cy="160164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6" name="Picture 5" descr="PZA"/>
          <p:cNvPicPr/>
          <p:nvPr/>
        </p:nvPicPr>
        <p:blipFill>
          <a:blip r:embed="rId2"/>
          <a:stretch/>
        </p:blipFill>
        <p:spPr>
          <a:xfrm>
            <a:off x="5489640" y="3657600"/>
            <a:ext cx="1501560" cy="160020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3048120" y="3675240"/>
            <a:ext cx="1981080" cy="15825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IRE susceptibility testing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GIT 96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days qualitative test (from solid or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 in fluorescence interpreted as “Growth Units” (GU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sceptibility results and GU values are printed on the Unloaded AST Set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strument Inventory Report prints GU values for all ongoing AST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igerate lyophilized drugs a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 prior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stituted drug solutions may be frozen in aliquots at -20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or lower and stored for up to 6 months or up to the date of original expiry, whichever comes soo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 tha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480" y="14479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nstitute each critical concentration drug vial wit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 ml of sterile distilled/deionized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 thoroughly and make sure drug is completely diss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constitution of SIRE lyophilized drug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SIRE vials"/>
          <p:cNvPicPr/>
          <p:nvPr/>
        </p:nvPicPr>
        <p:blipFill>
          <a:blip r:embed="rId1"/>
          <a:stretch/>
        </p:blipFill>
        <p:spPr>
          <a:xfrm>
            <a:off x="6095880" y="2209680"/>
            <a:ext cx="2495520" cy="2660760"/>
          </a:xfrm>
          <a:prstGeom prst="rect">
            <a:avLst/>
          </a:prstGeom>
          <a:ln w="9360">
            <a:solidFill>
              <a:srgbClr val="9999ff"/>
            </a:solidFill>
            <a:miter/>
          </a:ln>
          <a:effectLst>
            <a:outerShdw dist="53966" dir="2700000" blurRad="0" rotWithShape="0">
              <a:srgbClr val="9999ff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IRE drug critical concent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762120" y="1371600"/>
          <a:ext cx="7772400" cy="4186080"/>
        </p:xfrm>
        <a:graphic>
          <a:graphicData uri="http://schemas.openxmlformats.org/drawingml/2006/table">
            <a:tbl>
              <a:tblPr/>
              <a:tblGrid>
                <a:gridCol w="3504960"/>
                <a:gridCol w="4267440"/>
              </a:tblGrid>
              <a:tr h="884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Drug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Critical Concent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Streptomycin (ST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Isoniazid (INH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0.1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Rifampin (RIF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1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Ethambutol (EMB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5.0 </a:t>
                      </a:r>
                      <a:r>
                        <a:rPr b="1" lang="en-US" sz="2800" spc="-1" strike="noStrike">
                          <a:solidFill>
                            <a:srgbClr val="330066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330066"/>
                          </a:solidFill>
                          <a:latin typeface="Arial"/>
                        </a:rPr>
                        <a:t>g/ml of medi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C MGIT 960 SIRE k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vials of MGIT 960 SIRE supp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xchange with MGIT growth sup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itical concentrations of S, I, R, E drug in lyophilized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of tests/kit = maximum of 100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Organism inoculum for MGIT 960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GIT 960 s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tubes from cul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detection subculture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seeds from day of posi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1 to day 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0.5 McFarland organis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B3D7-503F-4EEC-9DE3-944B79E2DC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8:05Z</dcterms:modified>
  <cp:revision>212</cp:revision>
  <dc:subject/>
  <dc:title>PowerPoint Presentation</dc:title>
</cp:coreProperties>
</file>