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9.jpeg" ContentType="image/jpeg"/>
  <Override PartName="/ppt/media/image17.png" ContentType="image/png"/>
  <Override PartName="/ppt/media/image16.png" ContentType="image/png"/>
  <Override PartName="/ppt/media/image15.wmf" ContentType="image/x-wmf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19.jpeg" ContentType="image/jpeg"/>
  <Override PartName="/ppt/media/image6.wmf" ContentType="image/x-wmf"/>
  <Override PartName="/ppt/media/image11.wmf" ContentType="image/x-wmf"/>
  <Override PartName="/ppt/media/image7.jpeg" ContentType="image/jpeg"/>
  <Override PartName="/ppt/media/image20.png" ContentType="image/png"/>
  <Override PartName="/ppt/media/image18.png" ContentType="image/pn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B2886-F2EE-4154-A9DC-8C04F4762CD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4CA9A-B5D5-43A5-9F8C-0E0AA865AD6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written checklists avoids the unnecessary interruption of work in the BSC that can compromise the quality of the specimen testing or the biosafety of laboratory staff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2A586-19BE-428C-BB6F-CAF234F95A4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99"/>
                </a:solidFill>
                <a:latin typeface="Arial"/>
              </a:rPr>
              <a:t>Place absorbent paper towelling on the work surface to minimize the potential of exposure to infectious material or cross contamination in case of a spil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locking the grill disrupts the integrity of the cabinet air barrier and  can compromise both staff and product protectio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Keeping clean materials at least 12 cm away from aerosol-generating activities will minimise the potential for cross-contamin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D868D-5F87-4A55-8C4D-B85E9B0AB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6BA59-3250-4F41-B70D-AEAFD0DA7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E4A4B-AD2D-4648-96C5-D3B932FBD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8A870-1540-4B7C-B5E5-D0D1FA12E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CF0BA-8F7E-49DF-9D15-81268FB36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CCDFC-9070-4EB7-9A16-7EFF17508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6FD83-4EE4-4373-AFE0-ACF29FA99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3BCE5-4C7C-419C-B840-9DC1A13EE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F405A-FB1C-48C4-9681-6AE8CF1C1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80D47-4E1D-4E83-AC5E-F8C816CC6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FBA1B-FADE-4A1C-AF22-6D035163E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77621-CC07-43E3-9977-4AEE06FD7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D7BA5-6B07-4714-99E1-C4FFC6816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E956C-B567-4F60-B46C-F0B04D85B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308A4-5E57-4378-AFDF-07F173FC1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8FCB4-0AC9-4BFF-B178-EEFC4ADF6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B6B3A-2706-4AE8-8B4E-458739A23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BE666-027D-47F6-B214-1D28F9386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F9EA0-96C7-4C50-B8D4-7395383EA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CDE15-1386-486C-A4A4-AE6F22387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BF8AF-20E1-43F1-BD7C-340D0382C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39B86-3CFB-4D30-827E-34BE41A0B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D0204-F7C7-4AB3-94F5-62FC1915B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D1F08-19D1-4F18-B08A-E78BF63B0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22648-AB1A-40AA-B48F-3E339AD3D1B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8F97F-4740-4C3B-8D1A-09A76F947FD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15.wmf"/><Relationship Id="rId4" Type="http://schemas.openxmlformats.org/officeDocument/2006/relationships/image" Target="../media/image2.wmf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image" Target="../media/image2.wmf"/><Relationship Id="rId6" Type="http://schemas.openxmlformats.org/officeDocument/2006/relationships/image" Target="../media/image3.wmf"/><Relationship Id="rId7" Type="http://schemas.openxmlformats.org/officeDocument/2006/relationships/image" Target="../media/image16.png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9.jpeg"/><Relationship Id="rId3" Type="http://schemas.openxmlformats.org/officeDocument/2006/relationships/image" Target="../media/image1.png"/><Relationship Id="rId4" Type="http://schemas.openxmlformats.org/officeDocument/2006/relationships/image" Target="../media/image2.wmf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1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image" Target="../media/image1.png"/><Relationship Id="rId4" Type="http://schemas.openxmlformats.org/officeDocument/2006/relationships/image" Target="../media/image2.wmf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2.wmf"/><Relationship Id="rId5" Type="http://schemas.openxmlformats.org/officeDocument/2006/relationships/image" Target="../media/image3.wmf"/><Relationship Id="rId6" Type="http://schemas.openxmlformats.org/officeDocument/2006/relationships/image" Target="../media/image1.png"/><Relationship Id="rId7" Type="http://schemas.openxmlformats.org/officeDocument/2006/relationships/image" Target="../media/image2.wmf"/><Relationship Id="rId8" Type="http://schemas.openxmlformats.org/officeDocument/2006/relationships/image" Target="../media/image3.wmf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image" Target="../media/image2.wmf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image" Target="../media/image2.wmf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240" y="1459080"/>
            <a:ext cx="8915400" cy="14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GenoType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®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TBDR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plus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VER 2.0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GenoType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®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TBDR</a:t>
            </a: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sl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VER 2.0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Specimen preparation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5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2320" y="282600"/>
            <a:ext cx="80150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ample preparation of</a:t>
            </a: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iquid cultures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Text Box 5"/>
          <p:cNvSpPr/>
          <p:nvPr/>
        </p:nvSpPr>
        <p:spPr>
          <a:xfrm>
            <a:off x="2914560" y="1413000"/>
            <a:ext cx="5473800" cy="50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>
              <a:lnSpc>
                <a:spcPct val="95000"/>
              </a:lnSpc>
              <a:spcBef>
                <a:spcPts val="1349"/>
              </a:spcBef>
              <a:buClr>
                <a:srgbClr val="00006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Label 1.5 ml screw-cap conical tubes (not the caps) for each s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5000"/>
              </a:lnSpc>
              <a:spcBef>
                <a:spcPts val="788"/>
              </a:spcBef>
              <a:buClr>
                <a:srgbClr val="00006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5000"/>
              </a:lnSpc>
              <a:spcBef>
                <a:spcPts val="1349"/>
              </a:spcBef>
              <a:buClr>
                <a:srgbClr val="00006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Vortex liquid culture tube to homogenize sample for 1 minute. Let tube stand for 10 minutes before opening to allow aerosols to set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5000"/>
              </a:lnSpc>
              <a:spcBef>
                <a:spcPts val="788"/>
              </a:spcBef>
              <a:buClr>
                <a:srgbClr val="00006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5000"/>
              </a:lnSpc>
              <a:spcBef>
                <a:spcPts val="1349"/>
              </a:spcBef>
              <a:buClr>
                <a:srgbClr val="00006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ransfer 1 ml of liquid </a:t>
            </a:r>
            <a:r>
              <a:rPr b="0" i="1" lang="en-US" sz="2400" spc="-1" strike="noStrike">
                <a:solidFill>
                  <a:srgbClr val="000066"/>
                </a:solidFill>
                <a:latin typeface="Arial"/>
              </a:rPr>
              <a:t>M. tuberculosis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ulture into 1.5 ml conical tubes; change transfer pipettes between sa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5000"/>
              </a:lnSpc>
              <a:spcBef>
                <a:spcPts val="612"/>
              </a:spcBef>
              <a:buClr>
                <a:srgbClr val="00006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5000"/>
              </a:lnSpc>
              <a:spcBef>
                <a:spcPts val="6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6"/>
          <p:cNvSpPr/>
          <p:nvPr/>
        </p:nvSpPr>
        <p:spPr>
          <a:xfrm>
            <a:off x="113760" y="758880"/>
            <a:ext cx="822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3300"/>
                </a:solidFill>
                <a:latin typeface="Arial"/>
              </a:rPr>
              <a:t>Infectious material: all steps have to be performed in a BSC at BSL3 Labora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9" descr="biohazardsign"/>
          <p:cNvPicPr/>
          <p:nvPr/>
        </p:nvPicPr>
        <p:blipFill>
          <a:blip r:embed="rId1"/>
          <a:stretch/>
        </p:blipFill>
        <p:spPr>
          <a:xfrm>
            <a:off x="7596360" y="260280"/>
            <a:ext cx="576000" cy="522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69" name="Picture 10" descr="LogoColour"/>
          <p:cNvPicPr/>
          <p:nvPr/>
        </p:nvPicPr>
        <p:blipFill>
          <a:blip r:embed="rId2"/>
          <a:stretch/>
        </p:blipFill>
        <p:spPr>
          <a:xfrm>
            <a:off x="8317080" y="6442200"/>
            <a:ext cx="826920" cy="4158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2" descr=""/>
          <p:cNvPicPr/>
          <p:nvPr/>
        </p:nvPicPr>
        <p:blipFill>
          <a:blip r:embed="rId3"/>
          <a:stretch/>
        </p:blipFill>
        <p:spPr>
          <a:xfrm>
            <a:off x="971640" y="2205000"/>
            <a:ext cx="1222200" cy="3189240"/>
          </a:xfrm>
          <a:prstGeom prst="rect">
            <a:avLst/>
          </a:prstGeom>
          <a:ln w="28440">
            <a:solidFill>
              <a:srgbClr val="6666cc"/>
            </a:solidFill>
            <a:miter/>
          </a:ln>
        </p:spPr>
      </p:pic>
      <p:pic>
        <p:nvPicPr>
          <p:cNvPr id="171" name="Picture 13" descr=""/>
          <p:cNvPicPr/>
          <p:nvPr/>
        </p:nvPicPr>
        <p:blipFill>
          <a:blip r:embed="rId4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4" descr=""/>
          <p:cNvPicPr/>
          <p:nvPr/>
        </p:nvPicPr>
        <p:blipFill>
          <a:blip r:embed="rId5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NA extraction option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on 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ract DNA in BSL3 la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on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t kill samples in a dry oven at 80 °C for 1 hour or incubate for 15min at 95°C in a water bat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fer samples to BSL2 lab for DNA extraction and remainder of LPA proced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7480" y="-27000"/>
            <a:ext cx="80150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NA extraction: Option One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9640" y="1465200"/>
            <a:ext cx="7920000" cy="31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6040" indent="-176040">
              <a:lnSpc>
                <a:spcPct val="85000"/>
              </a:lnSpc>
              <a:spcBef>
                <a:spcPts val="45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Pellet bacteria by centrifuging specimen for 15 min at 10,000 x 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85000"/>
              </a:lnSpc>
              <a:spcBef>
                <a:spcPts val="45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Use  table top centrifuge with an aerosol-tight rot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in the BSL3 la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85000"/>
              </a:lnSpc>
              <a:spcBef>
                <a:spcPts val="45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Mark the top side of the tubes as they are placed in the rotor. Pellet is located on the bottom of the tube, opposite to mark on t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85000"/>
              </a:lnSpc>
              <a:spcBef>
                <a:spcPts val="45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Let the vials stand in the rack for 1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  <a:ea typeface="Arial"/>
              </a:rPr>
              <a:t>–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2 min to avoid aerosol generation when opening tubes under a BS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85000"/>
              </a:lnSpc>
              <a:spcBef>
                <a:spcPts val="45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arefully aspirate the supernatant (without removing the pellet) with a 1 ml pipette with filtered tips; change tips between sample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85000"/>
              </a:lnSpc>
              <a:spcBef>
                <a:spcPts val="45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Add 100 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  <a:ea typeface="Arial"/>
              </a:rPr>
              <a:t>µl 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Lysis buffer (A-Lys) to pellet using a 200 </a:t>
            </a:r>
            <a:r>
              <a:rPr b="0" lang="en-US" sz="1800" spc="-1" strike="noStrike">
                <a:solidFill>
                  <a:srgbClr val="000066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l pipette with filtered tips; change tip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85000"/>
              </a:lnSpc>
              <a:spcBef>
                <a:spcPts val="45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Vortex tubes until pellet is completely resuspende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5"/>
          <p:cNvSpPr/>
          <p:nvPr/>
        </p:nvSpPr>
        <p:spPr>
          <a:xfrm>
            <a:off x="5760" y="785880"/>
            <a:ext cx="822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3300"/>
                </a:solidFill>
                <a:latin typeface="Arial"/>
              </a:rPr>
              <a:t>Infectious material: all steps have to be performed in a BSC at BSL3 Labora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15" descr="biohazardsign"/>
          <p:cNvPicPr/>
          <p:nvPr/>
        </p:nvPicPr>
        <p:blipFill>
          <a:blip r:embed="rId1"/>
          <a:stretch/>
        </p:blipFill>
        <p:spPr>
          <a:xfrm>
            <a:off x="7524720" y="260280"/>
            <a:ext cx="576360" cy="522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79" name="Picture 16" descr="LogoColour"/>
          <p:cNvPicPr/>
          <p:nvPr/>
        </p:nvPicPr>
        <p:blipFill>
          <a:blip r:embed="rId2"/>
          <a:stretch/>
        </p:blipFill>
        <p:spPr>
          <a:xfrm>
            <a:off x="7792920" y="6248520"/>
            <a:ext cx="1008360" cy="50616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8" descr=""/>
          <p:cNvPicPr/>
          <p:nvPr/>
        </p:nvPicPr>
        <p:blipFill>
          <a:blip r:embed="rId3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9" descr=""/>
          <p:cNvPicPr/>
          <p:nvPr/>
        </p:nvPicPr>
        <p:blipFill>
          <a:blip r:embed="rId4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20" descr=""/>
          <p:cNvPicPr/>
          <p:nvPr/>
        </p:nvPicPr>
        <p:blipFill>
          <a:blip r:embed="rId5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21" descr=""/>
          <p:cNvPicPr/>
          <p:nvPr/>
        </p:nvPicPr>
        <p:blipFill>
          <a:blip r:embed="rId6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  <p:grpSp>
        <p:nvGrpSpPr>
          <p:cNvPr id="184" name="Gruppieren 6"/>
          <p:cNvGrpSpPr/>
          <p:nvPr/>
        </p:nvGrpSpPr>
        <p:grpSpPr>
          <a:xfrm>
            <a:off x="1671480" y="4444920"/>
            <a:ext cx="3811320" cy="1722960"/>
            <a:chOff x="1671480" y="4444920"/>
            <a:chExt cx="3811320" cy="1722960"/>
          </a:xfrm>
        </p:grpSpPr>
        <p:pic>
          <p:nvPicPr>
            <p:cNvPr id="185" name="Grafik 4" descr="Ein Bild, das Tisch, klein, weiß, sitzend enthält.&#10;&#10;Automatisch generierte Beschreibung"/>
            <p:cNvPicPr/>
            <p:nvPr/>
          </p:nvPicPr>
          <p:blipFill>
            <a:blip r:embed="rId7"/>
            <a:srcRect l="0" t="0" r="0" b="15521"/>
            <a:stretch/>
          </p:blipFill>
          <p:spPr>
            <a:xfrm>
              <a:off x="1671480" y="4444920"/>
              <a:ext cx="2443320" cy="17082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86" name="Gruppieren 5"/>
            <p:cNvGrpSpPr/>
            <p:nvPr/>
          </p:nvGrpSpPr>
          <p:grpSpPr>
            <a:xfrm>
              <a:off x="3971160" y="5331240"/>
              <a:ext cx="1511640" cy="836640"/>
              <a:chOff x="3971160" y="5331240"/>
              <a:chExt cx="1511640" cy="836640"/>
            </a:xfrm>
          </p:grpSpPr>
          <p:sp>
            <p:nvSpPr>
              <p:cNvPr id="187" name="Text Box 10"/>
              <p:cNvSpPr/>
              <p:nvPr/>
            </p:nvSpPr>
            <p:spPr>
              <a:xfrm>
                <a:off x="4284360" y="5860800"/>
                <a:ext cx="646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pell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Text Box 11"/>
              <p:cNvSpPr/>
              <p:nvPr/>
            </p:nvSpPr>
            <p:spPr>
              <a:xfrm>
                <a:off x="4284000" y="5331240"/>
                <a:ext cx="11988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supernatan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Line 12"/>
              <p:cNvSpPr/>
              <p:nvPr/>
            </p:nvSpPr>
            <p:spPr>
              <a:xfrm flipH="1" flipV="1">
                <a:off x="3971160" y="5343480"/>
                <a:ext cx="287280" cy="144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Line 9"/>
              <p:cNvSpPr/>
              <p:nvPr/>
            </p:nvSpPr>
            <p:spPr>
              <a:xfrm>
                <a:off x="4087080" y="5946480"/>
                <a:ext cx="215640" cy="71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1981080" y="1499760"/>
            <a:ext cx="6624720" cy="502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6040" indent="-176040">
              <a:lnSpc>
                <a:spcPct val="80000"/>
              </a:lnSpc>
              <a:spcBef>
                <a:spcPts val="737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66"/>
                </a:solidFill>
                <a:latin typeface="Arial"/>
              </a:rPr>
              <a:t>Wipe tubes with disinfectant before removing them from the BSC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80000"/>
              </a:lnSpc>
              <a:spcBef>
                <a:spcPts val="737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66"/>
                </a:solidFill>
                <a:latin typeface="Arial"/>
              </a:rPr>
              <a:t>Incubate tubes in a heat block or water bath at 95 </a:t>
            </a:r>
            <a:r>
              <a:rPr b="0" lang="en-US" sz="1700" spc="-1" strike="noStrike">
                <a:solidFill>
                  <a:srgbClr val="000066"/>
                </a:solidFill>
                <a:latin typeface="Arial"/>
                <a:ea typeface="Arial"/>
              </a:rPr>
              <a:t>°</a:t>
            </a:r>
            <a:r>
              <a:rPr b="0" lang="en-US" sz="1700" spc="-1" strike="noStrike">
                <a:solidFill>
                  <a:srgbClr val="000066"/>
                </a:solidFill>
                <a:latin typeface="Arial"/>
              </a:rPr>
              <a:t>C for 5 min to kill MTBC and disrupt cell wal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80000"/>
              </a:lnSpc>
              <a:spcBef>
                <a:spcPts val="737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66"/>
                </a:solidFill>
                <a:latin typeface="Arial"/>
              </a:rPr>
              <a:t>Always check temperature before incubation!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80000"/>
              </a:lnSpc>
              <a:spcBef>
                <a:spcPts val="737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66"/>
                </a:solidFill>
                <a:latin typeface="Arial"/>
              </a:rPr>
              <a:t>Water bath temperature is more accurate than temperature in heat block!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80000"/>
              </a:lnSpc>
              <a:spcBef>
                <a:spcPts val="737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66"/>
                </a:solidFill>
                <a:latin typeface="Arial"/>
              </a:rPr>
              <a:t>Heat block diminishes the chance of contamination from the wate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80000"/>
              </a:lnSpc>
              <a:spcBef>
                <a:spcPts val="737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66"/>
                </a:solidFill>
                <a:latin typeface="Arial"/>
              </a:rPr>
              <a:t>Discard water after each us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80000"/>
              </a:lnSpc>
              <a:spcBef>
                <a:spcPts val="737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66"/>
                </a:solidFill>
                <a:latin typeface="Arial"/>
              </a:rPr>
              <a:t>Clean water bath with 1.5% freshly prepared bleach (20 min) followed by 70% alcoho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76040" indent="0">
              <a:lnSpc>
                <a:spcPct val="80000"/>
              </a:lnSpc>
              <a:spcBef>
                <a:spcPts val="7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80000"/>
              </a:lnSpc>
              <a:spcBef>
                <a:spcPts val="737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3300"/>
                </a:solidFill>
                <a:latin typeface="Arial"/>
              </a:rPr>
              <a:t>MTB in drops inside vial caps may remain viable!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80000"/>
              </a:lnSpc>
              <a:spcBef>
                <a:spcPts val="737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3300"/>
                </a:solidFill>
                <a:latin typeface="Arial"/>
              </a:rPr>
              <a:t>Use of a small oven may be the best and safest solution (80 </a:t>
            </a:r>
            <a:r>
              <a:rPr b="0" lang="en-US" sz="1700" spc="-1" strike="noStrike">
                <a:solidFill>
                  <a:srgbClr val="ff3300"/>
                </a:solidFill>
                <a:latin typeface="Arial"/>
                <a:ea typeface="Arial"/>
              </a:rPr>
              <a:t>°C for 1h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80000"/>
              </a:lnSpc>
              <a:spcBef>
                <a:spcPts val="737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3300"/>
                </a:solidFill>
                <a:latin typeface="Arial"/>
              </a:rPr>
              <a:t>If heat-kill was properly carried out, specimen is considered non-infectious after this poin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5"/>
          <p:cNvSpPr/>
          <p:nvPr/>
        </p:nvSpPr>
        <p:spPr>
          <a:xfrm>
            <a:off x="540000" y="3440160"/>
            <a:ext cx="12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ter ba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7"/>
          <p:cNvSpPr/>
          <p:nvPr/>
        </p:nvSpPr>
        <p:spPr>
          <a:xfrm>
            <a:off x="5760" y="765000"/>
            <a:ext cx="822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3300"/>
                </a:solidFill>
                <a:latin typeface="Arial"/>
              </a:rPr>
              <a:t>Infectious material: all steps have to be performed in a BSC at BSL3 Labora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8"/>
          <p:cNvSpPr/>
          <p:nvPr/>
        </p:nvSpPr>
        <p:spPr>
          <a:xfrm>
            <a:off x="87480" y="-27000"/>
            <a:ext cx="8015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pecimen preparation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11" descr="biohazardsign"/>
          <p:cNvPicPr/>
          <p:nvPr/>
        </p:nvPicPr>
        <p:blipFill>
          <a:blip r:embed="rId1"/>
          <a:stretch/>
        </p:blipFill>
        <p:spPr>
          <a:xfrm>
            <a:off x="7451640" y="260280"/>
            <a:ext cx="576360" cy="522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96" name="Picture 13" descr="LogoColour"/>
          <p:cNvPicPr/>
          <p:nvPr/>
        </p:nvPicPr>
        <p:blipFill>
          <a:blip r:embed="rId2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4" descr=""/>
          <p:cNvPicPr/>
          <p:nvPr/>
        </p:nvPicPr>
        <p:blipFill>
          <a:blip r:embed="rId3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5" descr=""/>
          <p:cNvPicPr/>
          <p:nvPr/>
        </p:nvPicPr>
        <p:blipFill>
          <a:blip r:embed="rId4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  <p:pic>
        <p:nvPicPr>
          <p:cNvPr id="199" name="Grafik 2" descr="Ein Bild, das Tisch, Anzeige, Telefon enthält.&#10;&#10;Automatisch generierte Beschreibung"/>
          <p:cNvPicPr/>
          <p:nvPr/>
        </p:nvPicPr>
        <p:blipFill>
          <a:blip r:embed="rId5"/>
          <a:srcRect l="0" t="16495" r="0" b="14154"/>
          <a:stretch/>
        </p:blipFill>
        <p:spPr>
          <a:xfrm>
            <a:off x="468360" y="1503360"/>
            <a:ext cx="1481040" cy="185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468000" y="1341360"/>
            <a:ext cx="801540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170640" indent="-170640">
              <a:lnSpc>
                <a:spcPct val="95000"/>
              </a:lnSpc>
              <a:spcBef>
                <a:spcPts val="9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Briefly spin dow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0640" indent="-170640">
              <a:lnSpc>
                <a:spcPct val="95000"/>
              </a:lnSpc>
              <a:spcBef>
                <a:spcPts val="9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Add 100 µl Neutralization Buffer (A-NB) and vortex sample for 5 sec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0640" indent="-170640">
              <a:lnSpc>
                <a:spcPct val="95000"/>
              </a:lnSpc>
              <a:spcBef>
                <a:spcPts val="9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pin down for 5 min at full speed in a table top centrifu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0640" indent="-170640">
              <a:lnSpc>
                <a:spcPct val="95000"/>
              </a:lnSpc>
              <a:spcBef>
                <a:spcPts val="9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 table top centrifuge with an aerosol-tight ro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0640" indent="-170640">
              <a:lnSpc>
                <a:spcPct val="95000"/>
              </a:lnSpc>
              <a:spcBef>
                <a:spcPts val="9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Transfer supernatant containing DNA to new 1.5 ml screw-cap vials using a 1 ml pipette with filtered tips; change tips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0640" indent="-170640">
              <a:lnSpc>
                <a:spcPct val="95000"/>
              </a:lnSpc>
              <a:spcBef>
                <a:spcPts val="9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o not stir up pellet – cell debris to disc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0640" indent="-170640">
              <a:lnSpc>
                <a:spcPct val="95000"/>
              </a:lnSpc>
              <a:spcBef>
                <a:spcPts val="9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Freeze leftover specimens at -20 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°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0640" indent="-170640">
              <a:lnSpc>
                <a:spcPct val="95000"/>
              </a:lnSpc>
              <a:spcBef>
                <a:spcPts val="9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Specimens may be kept at 4 °C for 24 - 48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0640" indent="-170640">
              <a:lnSpc>
                <a:spcPct val="95000"/>
              </a:lnSpc>
              <a:spcBef>
                <a:spcPts val="9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  <a:ea typeface="Arial"/>
              </a:rPr>
              <a:t>DNA ready for addition to master mix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7"/>
          <p:cNvSpPr/>
          <p:nvPr/>
        </p:nvSpPr>
        <p:spPr>
          <a:xfrm>
            <a:off x="0" y="0"/>
            <a:ext cx="8015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pecimen preparatio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14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sp>
        <p:nvSpPr>
          <p:cNvPr id="203" name="Text Box 15"/>
          <p:cNvSpPr/>
          <p:nvPr/>
        </p:nvSpPr>
        <p:spPr>
          <a:xfrm>
            <a:off x="4646520" y="4813200"/>
            <a:ext cx="2232000" cy="763560"/>
          </a:xfrm>
          <a:prstGeom prst="rect">
            <a:avLst/>
          </a:prstGeom>
          <a:solidFill>
            <a:srgbClr val="d9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!</a:t>
            </a: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 Always use screw-cap, not flip-cap, vials in order to avoid contamin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18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19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  <p:pic>
        <p:nvPicPr>
          <p:cNvPr id="206" name="Grafik 2" descr="Ein Bild, das Tisch, klein, Mann, blau enthält.&#10;&#10;Automatisch generierte Beschreibung"/>
          <p:cNvPicPr/>
          <p:nvPr/>
        </p:nvPicPr>
        <p:blipFill>
          <a:blip r:embed="rId4"/>
          <a:srcRect l="0" t="0" r="0" b="13783"/>
          <a:stretch/>
        </p:blipFill>
        <p:spPr>
          <a:xfrm>
            <a:off x="1128600" y="4665600"/>
            <a:ext cx="3416400" cy="147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539640" y="1413000"/>
            <a:ext cx="3889440" cy="42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159120" indent="-159120">
              <a:lnSpc>
                <a:spcPct val="95000"/>
              </a:lnSpc>
              <a:spcBef>
                <a:spcPts val="1012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Decontaminate any materials (vials, tubes, etc.) before removal from the BS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59120" indent="-159120">
              <a:lnSpc>
                <a:spcPct val="95000"/>
              </a:lnSpc>
              <a:spcBef>
                <a:spcPts val="1012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lean pipettes, racks, instruments and the BSC with freshly diluted 1.5% bleach (20 minutes), followed by 70% alcohol wa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59120" indent="-159120">
              <a:lnSpc>
                <a:spcPct val="95000"/>
              </a:lnSpc>
              <a:spcBef>
                <a:spcPts val="1012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Use area-dedicated wash bottles or beakers (separate beakers for surface cleaning and instrument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59120" indent="-159120">
              <a:lnSpc>
                <a:spcPct val="95000"/>
              </a:lnSpc>
              <a:spcBef>
                <a:spcPts val="1012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Do not take anything from this area to Reagent Preparation Are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59120" indent="-159120">
              <a:lnSpc>
                <a:spcPct val="95000"/>
              </a:lnSpc>
              <a:spcBef>
                <a:spcPts val="1012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onsider performing specimen preparation on a separate day to enable unidirectional workflow between ar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277920" y="247680"/>
            <a:ext cx="8015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Working in a BSC (Clean-up)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6" descr="biohazardsign"/>
          <p:cNvPicPr/>
          <p:nvPr/>
        </p:nvPicPr>
        <p:blipFill>
          <a:blip r:embed="rId1"/>
          <a:stretch/>
        </p:blipFill>
        <p:spPr>
          <a:xfrm>
            <a:off x="7524720" y="279360"/>
            <a:ext cx="576360" cy="522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210" name="Picture 7" descr="IMG_4057"/>
          <p:cNvPicPr/>
          <p:nvPr/>
        </p:nvPicPr>
        <p:blipFill>
          <a:blip r:embed="rId2"/>
          <a:stretch/>
        </p:blipFill>
        <p:spPr>
          <a:xfrm>
            <a:off x="4572000" y="1989000"/>
            <a:ext cx="3887640" cy="3246480"/>
          </a:xfrm>
          <a:prstGeom prst="rect">
            <a:avLst/>
          </a:prstGeom>
          <a:ln w="38160">
            <a:solidFill>
              <a:srgbClr val="ff5050"/>
            </a:solidFill>
            <a:miter/>
          </a:ln>
        </p:spPr>
      </p:pic>
      <p:pic>
        <p:nvPicPr>
          <p:cNvPr id="211" name="Picture 9" descr="LogoColour"/>
          <p:cNvPicPr/>
          <p:nvPr/>
        </p:nvPicPr>
        <p:blipFill>
          <a:blip r:embed="rId3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10" descr=""/>
          <p:cNvPicPr/>
          <p:nvPr/>
        </p:nvPicPr>
        <p:blipFill>
          <a:blip r:embed="rId4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11" descr=""/>
          <p:cNvPicPr/>
          <p:nvPr/>
        </p:nvPicPr>
        <p:blipFill>
          <a:blip r:embed="rId5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NA extraction: Option Tw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at-kill samples in BSL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ntrifu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ove DNA supernatant to new 1.5 ml conical screw cap tub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eeze DNA until ready to add to master m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ntamination control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ecimen preparation are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94920" y="1412640"/>
            <a:ext cx="828036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ol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Tools and instruments used here have to be labelled accordingly and </a:t>
            </a:r>
            <a:r>
              <a:rPr b="0" i="1" lang="en-US" sz="1600" spc="-1" strike="noStrike">
                <a:solidFill>
                  <a:srgbClr val="000066"/>
                </a:solidFill>
                <a:latin typeface="Arial"/>
              </a:rPr>
              <a:t>should not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 be used elsew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Never take anything from this site to the Reagent Preparation Are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You may only take the PCR tubes in an aluminum foil-covered beaker to Amplification/Detection Area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o not bring this beaker back to Specimen or Reagent Preparation Area. Wash and autoclave before reus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Always use filtered ti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o not try to put cotton plugs into unfiltered ti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66"/>
                </a:solidFill>
                <a:latin typeface="Arial"/>
              </a:rPr>
              <a:t>Do not use flip-cap tubes, always use screw-cap tub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od Laboratory Practic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o specimen preparation on a separate day (earlier) and freeze extracted D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Proceed with reagent preparation and amplification/detection on the following d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This way work can be unidirectio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Add DNA extract to PCR tubes in a PCR hood, use BSC only for DNA extra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If applicable, dedicate a BSC only for molecular 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18108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Change gloves if they get contaminated by specime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4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ntamination control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ecimen preparation are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94920" y="1484280"/>
            <a:ext cx="799452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6760" indent="-266760">
              <a:spcBef>
                <a:spcPts val="6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g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182520">
              <a:spcBef>
                <a:spcPts val="499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Use 70% alcohol instead of distilled water for cleaning to avoid contamination of distilled water stoc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182520">
              <a:spcBef>
                <a:spcPts val="499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Aliquot sterile molecular grade water into 15 ml tub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182520">
              <a:spcBef>
                <a:spcPts val="499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Use an Eppendorf repeat pipette with individually wrapped, sterile combi-tips for aliquoting, if possi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6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oratory clean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182520">
              <a:spcBef>
                <a:spcPts val="499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Always properly clean the work area after completing the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182520">
              <a:spcBef>
                <a:spcPts val="499"/>
              </a:spcBef>
              <a:buClr>
                <a:srgbClr val="99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Establish a regular (e.g. weekly) and thorough laboratory cleaning protocol (floors, doors, wall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4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5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6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800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Organize your work (use checkli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Work unidirectionally (laboratory layou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Develop and follow SOP for procedure and instrument mainten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Keep tools and workplace clea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4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5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6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964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Content outlin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79246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A"/>
              </a:rPr>
              <a:t>PCR laboratory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A"/>
              </a:rPr>
              <a:t>Check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A"/>
              </a:rPr>
              <a:t>Personal protective equipment (PP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A"/>
              </a:rPr>
              <a:t>Working in a Biological Safety Cabinet (B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A"/>
              </a:rPr>
              <a:t>Specimen preparation for PC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A"/>
              </a:rPr>
              <a:t>Contamination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"/>
              </a:rPr>
              <a:t>Acknowledge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90322-7F58-4117-918E-AB6F33A21491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6" descr=""/>
          <p:cNvPicPr/>
          <p:nvPr/>
        </p:nvPicPr>
        <p:blipFill>
          <a:blip r:embed="rId1"/>
          <a:stretch/>
        </p:blipFill>
        <p:spPr>
          <a:xfrm>
            <a:off x="1258920" y="1413000"/>
            <a:ext cx="4102200" cy="147312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7" descr=""/>
          <p:cNvPicPr/>
          <p:nvPr/>
        </p:nvPicPr>
        <p:blipFill>
          <a:blip r:embed="rId2"/>
          <a:stretch/>
        </p:blipFill>
        <p:spPr>
          <a:xfrm>
            <a:off x="1187280" y="2924280"/>
            <a:ext cx="2089440" cy="151272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5" descr="LogoColour"/>
          <p:cNvPicPr/>
          <p:nvPr/>
        </p:nvPicPr>
        <p:blipFill>
          <a:blip r:embed="rId3"/>
          <a:stretch/>
        </p:blipFill>
        <p:spPr>
          <a:xfrm>
            <a:off x="2340000" y="4869000"/>
            <a:ext cx="2808360" cy="108252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2" descr=""/>
          <p:cNvPicPr/>
          <p:nvPr/>
        </p:nvPicPr>
        <p:blipFill>
          <a:blip r:embed="rId4"/>
          <a:stretch/>
        </p:blipFill>
        <p:spPr>
          <a:xfrm>
            <a:off x="4859280" y="2924280"/>
            <a:ext cx="302580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ptimal PCR laboratory layou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Picture 3" descr=""/>
          <p:cNvPicPr/>
          <p:nvPr/>
        </p:nvPicPr>
        <p:blipFill>
          <a:blip r:embed="rId1"/>
          <a:stretch/>
        </p:blipFill>
        <p:spPr>
          <a:xfrm>
            <a:off x="1116000" y="1346040"/>
            <a:ext cx="6553080" cy="5267520"/>
          </a:xfrm>
          <a:prstGeom prst="rect">
            <a:avLst/>
          </a:prstGeom>
          <a:ln w="0">
            <a:noFill/>
          </a:ln>
        </p:spPr>
      </p:pic>
      <p:sp>
        <p:nvSpPr>
          <p:cNvPr id="110" name="Oval 4"/>
          <p:cNvSpPr/>
          <p:nvPr/>
        </p:nvSpPr>
        <p:spPr>
          <a:xfrm>
            <a:off x="1116000" y="4581360"/>
            <a:ext cx="1224000" cy="216072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2414160" y="4797360"/>
            <a:ext cx="184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NA-“dirty” a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6"/>
          <p:cNvSpPr/>
          <p:nvPr/>
        </p:nvSpPr>
        <p:spPr>
          <a:xfrm>
            <a:off x="1844640" y="278748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NA-f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7"/>
          <p:cNvSpPr/>
          <p:nvPr/>
        </p:nvSpPr>
        <p:spPr>
          <a:xfrm>
            <a:off x="6221880" y="5013360"/>
            <a:ext cx="1160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mplicon-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ty” are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8" descr="LogoColour"/>
          <p:cNvPicPr/>
          <p:nvPr/>
        </p:nvPicPr>
        <p:blipFill>
          <a:blip r:embed="rId2"/>
          <a:stretch/>
        </p:blipFill>
        <p:spPr>
          <a:xfrm>
            <a:off x="8388360" y="6478560"/>
            <a:ext cx="755640" cy="3794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9" descr=""/>
          <p:cNvPicPr/>
          <p:nvPr/>
        </p:nvPicPr>
        <p:blipFill>
          <a:blip r:embed="rId3"/>
          <a:stretch/>
        </p:blipFill>
        <p:spPr>
          <a:xfrm>
            <a:off x="0" y="6554880"/>
            <a:ext cx="841320" cy="3031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0" descr=""/>
          <p:cNvPicPr/>
          <p:nvPr/>
        </p:nvPicPr>
        <p:blipFill>
          <a:blip r:embed="rId4"/>
          <a:stretch/>
        </p:blipFill>
        <p:spPr>
          <a:xfrm>
            <a:off x="4284720" y="6566040"/>
            <a:ext cx="431640" cy="29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Working in BSC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68360" y="2133360"/>
            <a:ext cx="3456000" cy="29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Prepare a written checklist of materials and tools nee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Prepare a worksheet with list of specimens (identifiers) to be tes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Object 9"/>
          <p:cNvGraphicFramePr/>
          <p:nvPr/>
        </p:nvGraphicFramePr>
        <p:xfrm>
          <a:off x="4067280" y="1539720"/>
          <a:ext cx="5618160" cy="4913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0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67280" y="1539720"/>
                    <a:ext cx="5618160" cy="491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1" name="Picture 11" descr="LogoColour"/>
          <p:cNvPicPr/>
          <p:nvPr/>
        </p:nvPicPr>
        <p:blipFill>
          <a:blip r:embed="rId3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2" descr=""/>
          <p:cNvPicPr/>
          <p:nvPr/>
        </p:nvPicPr>
        <p:blipFill>
          <a:blip r:embed="rId4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3" descr=""/>
          <p:cNvPicPr/>
          <p:nvPr/>
        </p:nvPicPr>
        <p:blipFill>
          <a:blip r:embed="rId5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94760" y="42696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Use appropriate BSL3 PPE</a:t>
            </a: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Gow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Must have solid front and can be tied in the b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Long-sleeved with elastic cuff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Must be either autoclavable/washable (soak in bleach) or dispos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Respi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N-9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Glo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ingle-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Group 4"/>
          <p:cNvGrpSpPr/>
          <p:nvPr/>
        </p:nvGrpSpPr>
        <p:grpSpPr>
          <a:xfrm>
            <a:off x="5154480" y="1434960"/>
            <a:ext cx="3430440" cy="2590920"/>
            <a:chOff x="5154480" y="1434960"/>
            <a:chExt cx="3430440" cy="2590920"/>
          </a:xfrm>
        </p:grpSpPr>
        <p:pic>
          <p:nvPicPr>
            <p:cNvPr id="127" name="Picture 5" descr="camice"/>
            <p:cNvPicPr/>
            <p:nvPr/>
          </p:nvPicPr>
          <p:blipFill>
            <a:blip r:embed="rId1"/>
            <a:srcRect l="15999" t="0" r="10264" b="0"/>
            <a:stretch/>
          </p:blipFill>
          <p:spPr>
            <a:xfrm>
              <a:off x="5154480" y="1752120"/>
              <a:ext cx="1541160" cy="1953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" name="Picture 6" descr="surgical gown2"/>
            <p:cNvPicPr/>
            <p:nvPr/>
          </p:nvPicPr>
          <p:blipFill>
            <a:blip r:embed="rId2"/>
            <a:stretch/>
          </p:blipFill>
          <p:spPr>
            <a:xfrm>
              <a:off x="6854760" y="1434960"/>
              <a:ext cx="1730160" cy="25909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29" name="Picture 7" descr="masks"/>
          <p:cNvPicPr/>
          <p:nvPr/>
        </p:nvPicPr>
        <p:blipFill>
          <a:blip r:embed="rId3"/>
          <a:srcRect l="14273" t="20464" r="14538" b="14125"/>
          <a:stretch/>
        </p:blipFill>
        <p:spPr>
          <a:xfrm>
            <a:off x="5003640" y="3932280"/>
            <a:ext cx="2681280" cy="22525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9" descr=""/>
          <p:cNvPicPr/>
          <p:nvPr/>
        </p:nvPicPr>
        <p:blipFill>
          <a:blip r:embed="rId4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0" descr=""/>
          <p:cNvPicPr/>
          <p:nvPr/>
        </p:nvPicPr>
        <p:blipFill>
          <a:blip r:embed="rId5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1" descr="LogoColour"/>
          <p:cNvPicPr/>
          <p:nvPr/>
        </p:nvPicPr>
        <p:blipFill>
          <a:blip r:embed="rId6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2" descr=""/>
          <p:cNvPicPr/>
          <p:nvPr/>
        </p:nvPicPr>
        <p:blipFill>
          <a:blip r:embed="rId7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3" descr=""/>
          <p:cNvPicPr/>
          <p:nvPr/>
        </p:nvPicPr>
        <p:blipFill>
          <a:blip r:embed="rId8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82760" y="228600"/>
            <a:ext cx="6968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SL 3 PPE is suitable for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13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pecimen 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pecimen inoc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Manipulating cul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entrifu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noculation of D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Making smears from cultures and processed specim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Biochemical testing to identify T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Preparing samples for PCR (before heat-kil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4" descr="LogoColour"/>
          <p:cNvPicPr/>
          <p:nvPr/>
        </p:nvPicPr>
        <p:blipFill>
          <a:blip r:embed="rId1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5" descr=""/>
          <p:cNvPicPr/>
          <p:nvPr/>
        </p:nvPicPr>
        <p:blipFill>
          <a:blip r:embed="rId2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6" descr=""/>
          <p:cNvPicPr/>
          <p:nvPr/>
        </p:nvPicPr>
        <p:blipFill>
          <a:blip r:embed="rId3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412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Working in BSC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84280"/>
            <a:ext cx="360036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6040" indent="-176040">
              <a:lnSpc>
                <a:spcPct val="90000"/>
              </a:lnSpc>
              <a:spcBef>
                <a:spcPts val="9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Decontaminate the BSC with freshly diluted 1.5% bleach (20 min), followed by 70% alcoh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0000"/>
              </a:lnSpc>
              <a:spcBef>
                <a:spcPts val="788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over the working area with paper towels and use suitable disinfecta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0000"/>
              </a:lnSpc>
              <a:spcBef>
                <a:spcPts val="9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Use a discard container with a plastic bag and freshly diluted 1.5% bl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0000"/>
              </a:lnSpc>
              <a:spcBef>
                <a:spcPts val="9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DO NOT block the gr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0000"/>
              </a:lnSpc>
              <a:spcBef>
                <a:spcPts val="9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Perform all operations at least 12 cm away from the front grill on the work su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0000"/>
              </a:lnSpc>
              <a:spcBef>
                <a:spcPts val="901"/>
              </a:spcBef>
              <a:buClr>
                <a:srgbClr val="99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Place all materials and aerosol-generating equipment away from the front gr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4" descr="IMG_4028"/>
          <p:cNvPicPr/>
          <p:nvPr/>
        </p:nvPicPr>
        <p:blipFill>
          <a:blip r:embed="rId1"/>
          <a:stretch/>
        </p:blipFill>
        <p:spPr>
          <a:xfrm>
            <a:off x="4140360" y="1916280"/>
            <a:ext cx="4392360" cy="3295440"/>
          </a:xfrm>
          <a:prstGeom prst="rect">
            <a:avLst/>
          </a:prstGeom>
          <a:ln w="38160">
            <a:solidFill>
              <a:srgbClr val="ff5050"/>
            </a:solidFill>
            <a:miter/>
          </a:ln>
        </p:spPr>
      </p:pic>
      <p:pic>
        <p:nvPicPr>
          <p:cNvPr id="143" name="Picture 6" descr="LogoColour"/>
          <p:cNvPicPr/>
          <p:nvPr/>
        </p:nvPicPr>
        <p:blipFill>
          <a:blip r:embed="rId2"/>
          <a:stretch/>
        </p:blipFill>
        <p:spPr>
          <a:xfrm>
            <a:off x="8136000" y="6351480"/>
            <a:ext cx="1008000" cy="5065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7" descr=""/>
          <p:cNvPicPr/>
          <p:nvPr/>
        </p:nvPicPr>
        <p:blipFill>
          <a:blip r:embed="rId3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8" descr=""/>
          <p:cNvPicPr/>
          <p:nvPr/>
        </p:nvPicPr>
        <p:blipFill>
          <a:blip r:embed="rId4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3760" y="43920"/>
            <a:ext cx="8337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eparation of</a:t>
            </a:r>
            <a:r>
              <a:rPr b="0" lang="en-US" sz="3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nical specimens 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Picture 15" descr=""/>
          <p:cNvPicPr/>
          <p:nvPr/>
        </p:nvPicPr>
        <p:blipFill>
          <a:blip r:embed="rId1"/>
          <a:stretch/>
        </p:blipFill>
        <p:spPr>
          <a:xfrm>
            <a:off x="1042920" y="2492280"/>
            <a:ext cx="1360440" cy="3211560"/>
          </a:xfrm>
          <a:prstGeom prst="rect">
            <a:avLst/>
          </a:prstGeom>
          <a:ln w="28440">
            <a:solidFill>
              <a:srgbClr val="6666cc"/>
            </a:solidFill>
            <a:miter/>
          </a:ln>
        </p:spPr>
      </p:pic>
      <p:sp>
        <p:nvSpPr>
          <p:cNvPr id="148" name="Text Box 16"/>
          <p:cNvSpPr/>
          <p:nvPr/>
        </p:nvSpPr>
        <p:spPr>
          <a:xfrm>
            <a:off x="2914560" y="1989000"/>
            <a:ext cx="5473800" cy="38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>
              <a:lnSpc>
                <a:spcPct val="95000"/>
              </a:lnSpc>
              <a:spcBef>
                <a:spcPts val="1125"/>
              </a:spcBef>
              <a:buClr>
                <a:srgbClr val="00006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Label 1.5 ml screw-cap conical tubes (</a:t>
            </a:r>
            <a:r>
              <a:rPr b="0" i="1" lang="en-US" sz="2000" spc="-1" strike="noStrike" u="sng">
                <a:solidFill>
                  <a:srgbClr val="000066"/>
                </a:solidFill>
                <a:uFillTx/>
                <a:latin typeface="Arial"/>
              </a:rPr>
              <a:t>not</a:t>
            </a:r>
            <a:r>
              <a:rPr b="0" lang="en-US" sz="2000" spc="-1" strike="noStrike" u="sng">
                <a:solidFill>
                  <a:srgbClr val="000066"/>
                </a:solidFill>
                <a:uFillTx/>
                <a:latin typeface="Arial"/>
              </a:rPr>
              <a:t>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the caps) for each specim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5000"/>
              </a:lnSpc>
              <a:spcBef>
                <a:spcPts val="1125"/>
              </a:spcBef>
              <a:buClr>
                <a:srgbClr val="00006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Vortex decontaminated clinical specimen for 1 m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5000"/>
              </a:lnSpc>
              <a:spcBef>
                <a:spcPts val="1125"/>
              </a:spcBef>
              <a:buClr>
                <a:srgbClr val="00006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Process only one specimen at a time; do not leave open containers or centrifuge tubes in the BS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5000"/>
              </a:lnSpc>
              <a:spcBef>
                <a:spcPts val="1125"/>
              </a:spcBef>
              <a:buClr>
                <a:srgbClr val="00006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Transfer 500 </a:t>
            </a:r>
            <a:r>
              <a:rPr b="0" lang="en-US" sz="2000" spc="-1" strike="noStrike">
                <a:solidFill>
                  <a:srgbClr val="000066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l decontaminated clinical specimen into 1.5 ml conical screw-capped vial; change tips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7"/>
          <p:cNvSpPr/>
          <p:nvPr/>
        </p:nvSpPr>
        <p:spPr>
          <a:xfrm>
            <a:off x="5760" y="765000"/>
            <a:ext cx="822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3300"/>
                </a:solidFill>
                <a:latin typeface="Arial"/>
              </a:rPr>
              <a:t>Infectious material: all steps have to be performed in a BSC at BSL3 Labora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19"/>
          <p:cNvSpPr/>
          <p:nvPr/>
        </p:nvSpPr>
        <p:spPr>
          <a:xfrm flipH="1">
            <a:off x="1835280" y="3068640"/>
            <a:ext cx="1079280" cy="1008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20"/>
          <p:cNvSpPr/>
          <p:nvPr/>
        </p:nvSpPr>
        <p:spPr>
          <a:xfrm>
            <a:off x="682560" y="1341360"/>
            <a:ext cx="770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Clinical specimens have to be decontaminated by N-acetyl-L-cysteine/NaOH method before specimen prep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22" descr="biohazardsign"/>
          <p:cNvPicPr/>
          <p:nvPr/>
        </p:nvPicPr>
        <p:blipFill>
          <a:blip r:embed="rId2"/>
          <a:stretch/>
        </p:blipFill>
        <p:spPr>
          <a:xfrm>
            <a:off x="7596360" y="333360"/>
            <a:ext cx="576000" cy="522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53" name="Picture 23" descr="LogoColour"/>
          <p:cNvPicPr/>
          <p:nvPr/>
        </p:nvPicPr>
        <p:blipFill>
          <a:blip r:embed="rId3"/>
          <a:stretch/>
        </p:blipFill>
        <p:spPr>
          <a:xfrm>
            <a:off x="8317080" y="6442200"/>
            <a:ext cx="826920" cy="4158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24" descr=""/>
          <p:cNvPicPr/>
          <p:nvPr/>
        </p:nvPicPr>
        <p:blipFill>
          <a:blip r:embed="rId4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25" descr=""/>
          <p:cNvPicPr/>
          <p:nvPr/>
        </p:nvPicPr>
        <p:blipFill>
          <a:blip r:embed="rId5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9" descr=""/>
          <p:cNvPicPr/>
          <p:nvPr/>
        </p:nvPicPr>
        <p:blipFill>
          <a:blip r:embed="rId1"/>
          <a:stretch/>
        </p:blipFill>
        <p:spPr>
          <a:xfrm>
            <a:off x="900000" y="2205000"/>
            <a:ext cx="1176480" cy="2933640"/>
          </a:xfrm>
          <a:prstGeom prst="rect">
            <a:avLst/>
          </a:prstGeom>
          <a:ln w="28440">
            <a:solidFill>
              <a:srgbClr val="6666cc"/>
            </a:solidFill>
            <a:miter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4560" y="26028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ple preparation of isolates on solid culture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4"/>
          <p:cNvSpPr/>
          <p:nvPr/>
        </p:nvSpPr>
        <p:spPr>
          <a:xfrm>
            <a:off x="2986200" y="1596960"/>
            <a:ext cx="5473440" cy="45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>
              <a:lnSpc>
                <a:spcPct val="90000"/>
              </a:lnSpc>
              <a:spcBef>
                <a:spcPts val="1012"/>
              </a:spcBef>
              <a:buClr>
                <a:srgbClr val="00006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Label 1.5 ml screw cap conical tubes (not the caps) for each sa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0000"/>
              </a:lnSpc>
              <a:spcBef>
                <a:spcPts val="561"/>
              </a:spcBef>
              <a:buClr>
                <a:srgbClr val="00006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0000"/>
              </a:lnSpc>
              <a:spcBef>
                <a:spcPts val="1012"/>
              </a:spcBef>
              <a:buClr>
                <a:srgbClr val="00006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ollect bacteria with an inoculation loop and suspend in 100 μl of Lysis Buffer (A-LYS); change loops between samples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0000"/>
              </a:lnSpc>
              <a:spcBef>
                <a:spcPts val="1012"/>
              </a:spcBef>
              <a:buClr>
                <a:srgbClr val="00006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Do not scrape the surface of the medium since components of egg-based medium can inhibit PCR re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0000"/>
              </a:lnSpc>
              <a:spcBef>
                <a:spcPts val="561"/>
              </a:spcBef>
              <a:buClr>
                <a:srgbClr val="00006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0000"/>
              </a:lnSpc>
              <a:spcBef>
                <a:spcPts val="1012"/>
              </a:spcBef>
              <a:buClr>
                <a:srgbClr val="00006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Vortex suspension for 1 minute to break up clum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0000"/>
              </a:lnSpc>
              <a:spcBef>
                <a:spcPts val="561"/>
              </a:spcBef>
              <a:buClr>
                <a:srgbClr val="00006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0000"/>
              </a:lnSpc>
              <a:spcBef>
                <a:spcPts val="1012"/>
              </a:spcBef>
              <a:buClr>
                <a:srgbClr val="000066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Centrifuge for 15 min at 10,000 x g or 1 ml liquid mediu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5"/>
          <p:cNvSpPr/>
          <p:nvPr/>
        </p:nvSpPr>
        <p:spPr>
          <a:xfrm>
            <a:off x="113760" y="758880"/>
            <a:ext cx="822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3300"/>
                </a:solidFill>
                <a:latin typeface="Arial"/>
              </a:rPr>
              <a:t>Infectious material: all steps have to be performed in a BSC at BSL3 Labora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6"/>
          <p:cNvSpPr/>
          <p:nvPr/>
        </p:nvSpPr>
        <p:spPr>
          <a:xfrm flipH="1">
            <a:off x="1834920" y="3789360"/>
            <a:ext cx="1176120" cy="503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7" descr="biohazardsign"/>
          <p:cNvPicPr/>
          <p:nvPr/>
        </p:nvPicPr>
        <p:blipFill>
          <a:blip r:embed="rId2"/>
          <a:stretch/>
        </p:blipFill>
        <p:spPr>
          <a:xfrm>
            <a:off x="7667640" y="260280"/>
            <a:ext cx="576360" cy="522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62" name="Picture 8" descr="LogoColour"/>
          <p:cNvPicPr/>
          <p:nvPr/>
        </p:nvPicPr>
        <p:blipFill>
          <a:blip r:embed="rId3"/>
          <a:stretch/>
        </p:blipFill>
        <p:spPr>
          <a:xfrm>
            <a:off x="8317080" y="6442200"/>
            <a:ext cx="826920" cy="4158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1" descr=""/>
          <p:cNvPicPr/>
          <p:nvPr/>
        </p:nvPicPr>
        <p:blipFill>
          <a:blip r:embed="rId4"/>
          <a:stretch/>
        </p:blipFill>
        <p:spPr>
          <a:xfrm>
            <a:off x="0" y="6353280"/>
            <a:ext cx="1403280" cy="5047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2" descr=""/>
          <p:cNvPicPr/>
          <p:nvPr/>
        </p:nvPicPr>
        <p:blipFill>
          <a:blip r:embed="rId5"/>
          <a:stretch/>
        </p:blipFill>
        <p:spPr>
          <a:xfrm>
            <a:off x="4284720" y="6370560"/>
            <a:ext cx="720720" cy="4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agliani Elisa</cp:lastModifiedBy>
  <dcterms:modified xsi:type="dcterms:W3CDTF">2020-06-12T09:52:40Z</dcterms:modified>
  <cp:revision>394</cp:revision>
  <dc:subject/>
  <dc:title>PowerPoint Presentation</dc:title>
</cp:coreProperties>
</file>