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2AC8-3EBB-4A7A-8C8B-FE2A78979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7D1C-B6A8-4C22-A146-073FED79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4F9E-987C-426A-A5CE-9F1509430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C34D-103F-4250-9725-7D516F687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24BA-CFCB-44BA-BBF8-46BE14626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1677F-1693-4A69-BC84-05C26605A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8DB78-EAE7-468B-BAF9-F4FA813C0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2413-F7A2-456B-A677-A2FED3DB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8FF56-8731-4F63-A014-C93DDC68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B35BB-34B6-4829-BF6B-3F5D1DF1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399E-D205-4488-B3C9-68A2E4D3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42AA-EC8B-45F4-94FE-1DD4F0E5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CC07-B0AB-4F27-B7CF-BC84CEC2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B106C-8884-47E8-99F4-6AC1AACB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04D53-A8E6-4463-B347-651FFE1B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5DAA-0FFC-42FD-BF7E-BC7011172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3F9FF-5BE2-4B86-B822-F7359249A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E1BDD-2CDC-4423-8D31-359F913C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EA68-CEC2-47DC-90EA-FBCA860A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2104-8F53-415E-ACB4-4A7532D7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F543-E766-48D5-85F5-4E25FF2B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FBDA-23B1-4204-A124-D98938E8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0562-3B44-485D-BF87-0AB539D3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4077-160A-4733-AF87-1362B6DB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5137-CE42-4244-89AF-E224217EF7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4C74-4FFF-4687-8EBB-64E58A45CF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PCR laboratory layou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 practice for placing laboratory equipment for molecular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How would you designate each space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6" descr="0 PCR Laboratory with Answers empty"/>
          <p:cNvPicPr/>
          <p:nvPr/>
        </p:nvPicPr>
        <p:blipFill>
          <a:blip r:embed="rId1"/>
          <a:stretch/>
        </p:blipFill>
        <p:spPr>
          <a:xfrm>
            <a:off x="1676520" y="1523880"/>
            <a:ext cx="55213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rea 1: Reagent preparation room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6" descr="0 a PCR Laboratory with Answers w defines spaces"/>
          <p:cNvPicPr/>
          <p:nvPr/>
        </p:nvPicPr>
        <p:blipFill>
          <a:blip r:embed="rId1"/>
          <a:stretch/>
        </p:blipFill>
        <p:spPr>
          <a:xfrm>
            <a:off x="1905120" y="1523880"/>
            <a:ext cx="563868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rea 2: Specimen preparation room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12" descr="Area 1 reagent prep"/>
          <p:cNvPicPr/>
          <p:nvPr/>
        </p:nvPicPr>
        <p:blipFill>
          <a:blip r:embed="rId1"/>
          <a:stretch/>
        </p:blipFill>
        <p:spPr>
          <a:xfrm>
            <a:off x="1600200" y="1432080"/>
            <a:ext cx="5943600" cy="47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ea 3: Amplification/detection room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7" descr="Area 2 specimen prep"/>
          <p:cNvPicPr/>
          <p:nvPr/>
        </p:nvPicPr>
        <p:blipFill>
          <a:blip r:embed="rId1"/>
          <a:stretch/>
        </p:blipFill>
        <p:spPr>
          <a:xfrm>
            <a:off x="1523880" y="1447920"/>
            <a:ext cx="586764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Anteroom</a:t>
            </a: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What equipment is needed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9" descr="Area 3 amplification-detection"/>
          <p:cNvPicPr/>
          <p:nvPr/>
        </p:nvPicPr>
        <p:blipFill>
          <a:blip r:embed="rId1"/>
          <a:stretch/>
        </p:blipFill>
        <p:spPr>
          <a:xfrm>
            <a:off x="1600200" y="1371600"/>
            <a:ext cx="5943600" cy="47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e are the major pieces of laboratory equipment necessary to run molecular assays for TB identific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7" descr="Anteroom"/>
          <p:cNvPicPr/>
          <p:nvPr/>
        </p:nvPicPr>
        <p:blipFill>
          <a:blip r:embed="rId1"/>
          <a:stretch/>
        </p:blipFill>
        <p:spPr>
          <a:xfrm>
            <a:off x="1676520" y="1447920"/>
            <a:ext cx="586728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…movement i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one direc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for samples and PEO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914400" y="1600200"/>
            <a:ext cx="5334120" cy="1143000"/>
          </a:xfrm>
          <a:prstGeom prst="rect">
            <a:avLst/>
          </a:prstGeom>
          <a:noFill/>
          <a:ln w="936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gent preparation room / Clean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990720" y="3124080"/>
            <a:ext cx="5181480" cy="1219320"/>
          </a:xfrm>
          <a:prstGeom prst="rect">
            <a:avLst/>
          </a:prstGeom>
          <a:noFill/>
          <a:ln w="9360">
            <a:solidFill>
              <a:srgbClr val="707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preparation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1295280" y="3657600"/>
            <a:ext cx="11430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cimen prepa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1905120" y="2133720"/>
            <a:ext cx="9144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gent sto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3124080" y="2133720"/>
            <a:ext cx="1143000" cy="457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agent  prepa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2"/>
          <p:cNvSpPr/>
          <p:nvPr/>
        </p:nvSpPr>
        <p:spPr>
          <a:xfrm>
            <a:off x="4419720" y="2133720"/>
            <a:ext cx="1218960" cy="5331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ster Mix prepa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2743200" y="3657600"/>
            <a:ext cx="106668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NA extr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4343400" y="3657600"/>
            <a:ext cx="152388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samples to master m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Straight Arrow Connector 16"/>
          <p:cNvCxnSpPr>
            <a:stCxn id="108" idx="3"/>
            <a:endCxn id="112" idx="1"/>
          </p:cNvCxnSpPr>
          <p:nvPr/>
        </p:nvCxnSpPr>
        <p:spPr>
          <a:xfrm>
            <a:off x="2437920" y="3924360"/>
            <a:ext cx="3056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5" name="Straight Arrow Connector 18"/>
          <p:cNvCxnSpPr>
            <a:stCxn id="112" idx="3"/>
            <a:endCxn id="113" idx="1"/>
          </p:cNvCxnSpPr>
          <p:nvPr/>
        </p:nvCxnSpPr>
        <p:spPr>
          <a:xfrm>
            <a:off x="3809880" y="3924360"/>
            <a:ext cx="5342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6" name="Rectangle 19"/>
          <p:cNvSpPr/>
          <p:nvPr/>
        </p:nvSpPr>
        <p:spPr>
          <a:xfrm>
            <a:off x="990720" y="4800600"/>
            <a:ext cx="5333760" cy="1066680"/>
          </a:xfrm>
          <a:prstGeom prst="rect">
            <a:avLst/>
          </a:prstGeom>
          <a:noFill/>
          <a:ln w="936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0"/>
          <p:cNvSpPr/>
          <p:nvPr/>
        </p:nvSpPr>
        <p:spPr>
          <a:xfrm>
            <a:off x="1447920" y="5257800"/>
            <a:ext cx="144756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mplification (PC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1"/>
          <p:cNvSpPr/>
          <p:nvPr/>
        </p:nvSpPr>
        <p:spPr>
          <a:xfrm>
            <a:off x="4419720" y="5257800"/>
            <a:ext cx="160020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brid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22"/>
          <p:cNvSpPr/>
          <p:nvPr/>
        </p:nvSpPr>
        <p:spPr>
          <a:xfrm>
            <a:off x="1224000" y="4800600"/>
            <a:ext cx="34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plification and detection 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Straight Arrow Connector 24"/>
          <p:cNvCxnSpPr>
            <a:stCxn id="117" idx="3"/>
            <a:endCxn id="118" idx="1"/>
          </p:cNvCxnSpPr>
          <p:nvPr/>
        </p:nvCxnSpPr>
        <p:spPr>
          <a:xfrm>
            <a:off x="2895480" y="5524560"/>
            <a:ext cx="15249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1" name="Down Arrow 28"/>
          <p:cNvSpPr/>
          <p:nvPr/>
        </p:nvSpPr>
        <p:spPr>
          <a:xfrm>
            <a:off x="4267080" y="2819520"/>
            <a:ext cx="45720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Down Arrow 29"/>
          <p:cNvSpPr/>
          <p:nvPr/>
        </p:nvSpPr>
        <p:spPr>
          <a:xfrm>
            <a:off x="4343400" y="4419720"/>
            <a:ext cx="380880" cy="2286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Up Arrow 30"/>
          <p:cNvSpPr/>
          <p:nvPr/>
        </p:nvSpPr>
        <p:spPr>
          <a:xfrm>
            <a:off x="2209680" y="2819520"/>
            <a:ext cx="457200" cy="228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Up Arrow 31"/>
          <p:cNvSpPr/>
          <p:nvPr/>
        </p:nvSpPr>
        <p:spPr>
          <a:xfrm>
            <a:off x="2286000" y="4419720"/>
            <a:ext cx="457200" cy="2286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urved Right Arrow 41"/>
          <p:cNvSpPr/>
          <p:nvPr/>
        </p:nvSpPr>
        <p:spPr>
          <a:xfrm flipH="1" flipV="1">
            <a:off x="6324480" y="1828800"/>
            <a:ext cx="1447920" cy="3733920"/>
          </a:xfrm>
          <a:custGeom>
            <a:avLst/>
            <a:gdLst>
              <a:gd name="textAreaLeft" fmla="*/ 193680 w 1447920"/>
              <a:gd name="textAreaRight" fmla="*/ 1254240 w 1447920"/>
              <a:gd name="textAreaTop" fmla="*/ 797760 h 3733920"/>
              <a:gd name="textAreaBottom" fmla="*/ 2755440 h 3733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30" stAng="-5400000" swAng="-5400000"/>
                <a:lnTo>
                  <a:pt x="0" y="11324"/>
                </a:lnTo>
                <a:arcTo wR="21600" hR="9230" stAng="10800000" swAng="-3531405"/>
                <a:lnTo>
                  <a:pt x="16200" y="21307"/>
                </a:lnTo>
                <a:lnTo>
                  <a:pt x="21600" y="19506"/>
                </a:lnTo>
                <a:lnTo>
                  <a:pt x="16200" y="17119"/>
                </a:lnTo>
                <a:lnTo>
                  <a:pt x="16200" y="18166"/>
                </a:lnTo>
                <a:arcTo wR="21600" hR="9230" stAng="7268595" swAng="3363820"/>
                <a:lnTo>
                  <a:pt x="139" y="10277"/>
                </a:lnTo>
                <a:arcTo wR="21600" hR="9230" stAng="-10632415" swAng="5232415"/>
                <a:close/>
              </a:path>
              <a:path fill="darkenLess" w="21600" h="21600">
                <a:moveTo>
                  <a:pt x="21600" y="0"/>
                </a:moveTo>
                <a:arcTo wR="21600" hR="9230" stAng="-5400000" swAng="-5400000"/>
                <a:lnTo>
                  <a:pt x="0" y="9230"/>
                </a:lnTo>
                <a:arcTo wR="21600" hR="9230" stAng="10800000" swAng="-167585"/>
                <a:lnTo>
                  <a:pt x="139" y="10277"/>
                </a:lnTo>
                <a:arcTo wR="21600" hR="9230" stAng="-10632415" swAng="523241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ave 42"/>
          <p:cNvSpPr/>
          <p:nvPr/>
        </p:nvSpPr>
        <p:spPr>
          <a:xfrm>
            <a:off x="7162920" y="137160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F2D07-E2D3-4A2E-81F3-194CF70E227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19:10:40Z</dcterms:created>
  <dc:creator>kyle tholen</dc:creator>
  <dc:description/>
  <dc:language>en-US</dc:language>
  <cp:lastModifiedBy>Philip</cp:lastModifiedBy>
  <dcterms:modified xsi:type="dcterms:W3CDTF">2012-01-26T09:50:10Z</dcterms:modified>
  <cp:revision>13</cp:revision>
  <dc:subject/>
  <dc:title>PCR Laboratory Layout</dc:title>
</cp:coreProperties>
</file>