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4D483-93C8-4672-9190-0C81725F0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C96E-3996-4446-9B6F-F65B927EE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7BB7-51A6-4F63-83C6-9E25D4DB3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7C38-6475-478D-B466-60D273056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0615-C894-47C7-BBF6-948728661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D46B8-E358-498D-A112-2CCC5783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D5DB-EA55-4C20-8B9C-008338A4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EB8C-5AFE-4BAF-9208-BAA0EA89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D5B4B-9397-4422-9B58-E8B31F18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3543-91BD-49AA-B8FC-6F0D4B60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83347-08E3-49EE-B58B-9865CF085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97DF-CCDE-4472-8C2F-0793EA8FF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E6F1-27E4-41C4-81A9-8F870CBD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19E0-F09A-4737-9F70-1A50411A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DFDD-49CC-430D-875C-00945190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2838E-CF12-4C1A-A5F3-52550103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5661-92F8-4908-9542-7C77F4934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0F74-0832-4AC4-BF5F-F560A31B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3ECA-5A45-423C-9C5F-350ED376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C6BA-E0F0-433E-A2F3-6C24262AF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C282-ECB0-4135-AFDB-C3D7F420F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315E-1F5C-4F8A-ACC3-904BD006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4139-6814-4F38-AA51-F41F05E4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15CB-F152-466E-9A25-2545D11E4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EF0AB-7A27-4C32-AB61-F8AA91958F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4B6D-044B-4B26-BD98-3E39AD273F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061B-85AE-4D7C-BE07-2413B93C61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427040"/>
            <a:ext cx="800100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TEC MGIT 960 DST troubleshoo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8E7C-59FC-4611-B255-3A9387A69E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ST troubleshoo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se resis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e is contaminated or mixed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inoculum was too he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was not properly dil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nsion was not homogeneous or had clu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control dilution was too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th control grew too slow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was not reconstitut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was not stor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was not added to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GIT tube was not mixed properly after the addition of the organism susp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could be borderline-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ST troubleshooting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5FA5B-C94B-4617-B2D0-C7359C3526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erform definitive identific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ZN smear on positive MGIT tu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MT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NTMs show resistance to anti-mycobacterial  dru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B603-64C1-4090-BF07-1C51671ABF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erify purity of inocul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rm inoculum p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sm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 cellular morphology on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TBC mixed with N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ion (fungus and bacter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od plate for contamination che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brook 7H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out mixed mycobacterial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6D24-64C8-4F11-9682-CAFAFFE302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erify resistance profil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resistance to a dru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irm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not added to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 0.1 ml of drug added to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um selected from the bottom of seed tube or clumps were not allowed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culate a MGIT 960 seed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t DST panel with resistant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8B08-7F97-4048-8F17-9944112C52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ZN on growing drug-containing tub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Middlebrook 7H10 is not available to confirm mycobacteria p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on resistant drug-containing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that only one type of cellular morphology is 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need to reset DST to verify drug was added to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12993-CE04-47E2-AFC4-DB22207FBB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1D77-D683-408F-9663-5DE339F19D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ST troubleshooting: When to re-tes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-interpre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-resistance (especially RIF, EMB &amp; PZ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disagree with previous testing from the sam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rderline resistance/susceptibil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is a new untreated case and shows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organisms fail to give expec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xpected high number of resistant isolates in a b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8307-2A9D-4068-BB0E-5C57E09DAC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oubleshooting 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sm suspensio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 homogeneous, without cl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 must be taken when preparing di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must be reconstituted and stored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e tubes and pipettes must be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pipettes must be used, not disposable transfer 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 of DST is critical to ensure test is functioning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be performed on all new lots of DST reagents and MGIT tubes and weekly with each batch of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923A-427D-46B7-B432-E5A110BB06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B5AF2-BC6E-47FA-9FAE-2DC727FAEB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186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right equipment used correct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the right equipment/supp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nly sterile tubes and 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e glass beads to break up clumps in inoculum from soli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brated pipet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addition to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 McFarland standard with same tube diameter as inoculum tube and same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in 7H9, use 7H9 blank in densito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rtex well and allow clumps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not select inoculum from bottom of tube or over inoculate tubes with clumps of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058D-5A8F-49A6-991A-FC7023E59C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 the correct reage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A test medium and MGIT 7 ml tubes are not interchangeable when testing SIRE and PZA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A supplement and SIRE supplement are not interchange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use supplement other than that supplied with the drugs – no PANTA or other growth sup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reconstit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rile distilled/deionize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drug dissolves complete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 reconstituted drug at -20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up to 6 months, but do not exceed original expiration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awed, reconstituted drug the same day; discard any unused por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07B9F-0D9A-4DBD-A89F-BE565438E2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 the correct inocul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 with the right ino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e culture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ant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4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MGIT tu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y MGIT 960 called ‘positive’ plus 1 day to 5 days from date of posi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ogeneous ino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erile glass beads and vortex to break up organism clu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nly supernatant for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high or too low an inoculum may give erroneous results or un-interpretabl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dilutions according to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ccurate pipette to add inoculum to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Error report for DST se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nditions occur that may affect the test results; the instrument will report this as an error 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 tubes become positive in less than 4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um too he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 tubes remain negative up to 21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oculum too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72191-D0B8-4292-9F5F-37AF0C415D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valid DST sets ‘X’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Growth control is not positive within 13 days (SIRE) or 21 days (PZ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Assumption is made that set is under-inocul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Growth control is positive too soon (&lt; 4 day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PMingLiU"/>
              </a:rPr>
              <a:t>Assumption is made that set is over-inoculated or conta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PMingLiU"/>
              </a:rPr>
              <a:t>ANY tube is missing in carr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EEC24-B461-443C-824C-A211B5252D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9C8D-B675-4B3F-BC9A-C535E3BDA1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ST interpretation of DST resul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alid results ‘X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inoculum was too he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from MGIT tube, ‘Day’ 3 to 5 must be dil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from solid m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be must be allowed to settle – over-inoculation and minimize aeros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just suspension from solid to 0.5 McFa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pecimen not vortex-mixed completely; clumps still present in sus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Control suspensions for SIRE and PZA are different (1:100 vs 1: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17B1-2428-463E-8475-44712E95D4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ST troubleshooting: Non-interprete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ment took too long to interpret results (SIRE &gt;14 days; PZA &gt;21 day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inoculum too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ise pipettes must be used for dilutions and addition to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transfer pipet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orking with soli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dia may have been picked up, which interferes with reading 0.5 McFar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ulture too 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in proper growth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8760-9EDC-40CD-A52B-9F58733589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ST troubleshoo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lse suscep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inoculum is too l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ing suspension must be &gt; 1.0 McFa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spension not homogene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e too 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control dilution was too he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th control grew too 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 proper amount of supplement added to tub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s supplement properly stor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 not reconstituted proper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much drug added to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e tube caps on tight? If not, oxygen can leak into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PZA medium and PZA supplement can be used for PZA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could be borderline-resi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4:48:26Z</dcterms:created>
  <dc:creator>hellmann</dc:creator>
  <dc:description/>
  <dc:language>en-US</dc:language>
  <cp:lastModifiedBy>Philip</cp:lastModifiedBy>
  <dcterms:modified xsi:type="dcterms:W3CDTF">2012-01-26T09:49:00Z</dcterms:modified>
  <cp:revision>33</cp:revision>
  <dc:subject/>
  <dc:title>BACTEC MGIT 960 DST Quality Control</dc:title>
</cp:coreProperties>
</file>