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C4C-FE82-4D0F-B6C3-F8B7489D2F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E268-C86D-477E-8302-CC16EC83CA8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4595-B75B-4EDA-A3DF-31DBBF53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A80-457A-4688-98D2-95A7714A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803C-ACB4-45E0-AB36-B5F0B448E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DFD-ADD2-4A37-A43E-9F08530D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CB77-E748-4ACF-8079-834F9AB6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E0606-FB20-4E22-87E6-C604C771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68A3-9BAF-44B0-B36B-44A718E24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F99B-878E-4148-8EE3-FE3ADB26D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23395-ACA1-423A-B3E6-9CC31ED9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E6A9-5BCA-46E7-8207-62AC648D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9322-1EB2-4168-B893-105682DE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54A4-6CD1-41F2-A637-ABD7A2CAA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34C02-2428-440B-91E1-267F4625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5DAB-95BC-4C8E-8898-A54F042AF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29D0-CF21-4C38-B353-69699A476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1588-7425-4BB9-90E4-FEDF53BC6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905F-AA94-433F-9D5D-9B4A46ACA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AC00-4DCE-4CDF-801A-DEE4ABEB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808E-9EEF-407A-AE59-381E77E8C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2E50-3C60-42F1-833E-E3CD3018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211D-3989-484B-B588-FCE1ECF0C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CA48-A7C8-4282-9E86-5CBFBA302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96E-4D04-42E1-99E0-4D0D3D52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0A1-2813-497B-A45F-E4A9EBD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FD77B-DAE8-45A8-8FA9-CB3AEC1CCE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7FA8-03F3-478B-9F86-D7B42F0614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120" y="1413000"/>
            <a:ext cx="89154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plus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br>
              <a:rPr sz="3600"/>
            </a:b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GenoType</a:t>
            </a:r>
            <a:r>
              <a:rPr b="0" lang="en-US" sz="3600" spc="-1" strike="noStrike" baseline="30000">
                <a:solidFill>
                  <a:srgbClr val="ffff99"/>
                </a:solidFill>
                <a:latin typeface="Arial"/>
              </a:rPr>
              <a:t>®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MTBDR</a:t>
            </a:r>
            <a:r>
              <a:rPr b="0" i="1" lang="en-US" sz="3600" spc="-1" strike="noStrike">
                <a:solidFill>
                  <a:srgbClr val="ffff99"/>
                </a:solidFill>
                <a:latin typeface="Arial"/>
              </a:rPr>
              <a:t>sl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VER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Reagent preparation</a:t>
            </a: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412640"/>
            <a:ext cx="7707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ols and instruments that are used here have to be labelled accordingly and cannot be used elsew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CR tubes can only be taken to specimen preparation area in an aluminum foil-covered beak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bring back this beaker to reagent preparation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0.5 ml or 0.2 ml individual PCR tubes instead of 0.2 ml str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PCR hood with U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134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hange shoes or use shoe cover before entering clean room  Autoclave and calibrate pipettes regul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90000"/>
              </a:lnSpc>
              <a:spcBef>
                <a:spcPts val="1012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fter you have finished working in the specimen preparation area, do not come back and clean the reagent preparation area work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gent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481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epare fresh Na-hypochlorite s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eck undiluted bleach concen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nal concentration of hypochlorite should not fall below 1.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Working solutions of 5 g/l are necessary for dealing with biohazard spil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ontainers containing bleach CANNOT be autoclaved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 avoid contamination of distilled water stocks, use 70% alcohol instead of distilled water for clea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an Eppendorf repeat pipettor with individually wrapped sterile combi tips for aliquoting, if pos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876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85840">
              <a:lnSpc>
                <a:spcPct val="80000"/>
              </a:lnSpc>
              <a:spcBef>
                <a:spcPts val="7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688080" y="2133720"/>
            <a:ext cx="2033640" cy="236520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59" name="Picture 5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1E74C-97D5-4752-A131-A33EC719474C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344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99"/>
                </a:solidFill>
                <a:latin typeface="Arial"/>
              </a:rPr>
              <a:t>Content outl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773360"/>
            <a:ext cx="7416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alculation of volume of master mix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Reagent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Optimal PCR laboratory layou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553080" cy="526716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 rot="5400000">
            <a:off x="1943640" y="224640"/>
            <a:ext cx="2592360" cy="4968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78640" y="285264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532720" y="6551640"/>
            <a:ext cx="611280" cy="306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1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ation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3959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heets used in Specimen Preparation area should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no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be brought over to this are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25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worksheet to calculate the volume master mix ingred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18"/>
          <p:cNvGraphicFramePr/>
          <p:nvPr/>
        </p:nvGraphicFramePr>
        <p:xfrm>
          <a:off x="4552920" y="1657440"/>
          <a:ext cx="3921120" cy="416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1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2920" y="1657440"/>
                    <a:ext cx="3921120" cy="41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20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2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ion of components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0" y="1628640"/>
            <a:ext cx="39607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termine the number of specimens and controls (number of samples to be analyzed plus control samp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10µl AM-A; 35µl AM-B; 5 µl DNA (after DNA extraction with GenoLyse) or 10µl DNA (after DNA extraction with GXT DNA/RNA Extraction K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inal volume: 50µl (GenoLyse) or 55 µl (GXT DNA/RN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volume of master mix is 45 µl per speci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29" name="Grafik 2" descr="Ein Bild, das Tasse, Zahnbürste, klein, Tisch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520560" y="2266920"/>
            <a:ext cx="40514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3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ting up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ut on gloves and laboratory co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contaminate work area with freshly diluted 1.5% bleach (20 min), followed by 70% alcoh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over the work area with clean paper tow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4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ster mix preparation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132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tore molecular grade water, and other reagents, in the DNA-fre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ompletely thaw all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ipette calculated amount of different components of master mix into 1.5 ml conical screw-cap vial using filtered t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hange tips between re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use a new aliquot of molecular grade water for negative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epare a master mix containing AM-A and AM-B and mix carefully but thoroughly (do not vorte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open only one reagent vial at a time, and place vials back in mini cooler after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lease note that the master mix needs to be prepared freshly each time and needs to be processed quick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5)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ensing master mix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7920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Label PCR tubes in line with numbers of specimens and controls on your workshe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lace PCR tubes onto the PCR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pense 4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master mix into each PCR tube using filtered t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5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µl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of same sterile, molecular grade water used to prepare master mix into negative control PCR tu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lose PCR tubes with PCR tube caps and place them in a sterile tube r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45" name="Grafik 2" descr="Ein Bild, das Essen, Messer enthält.&#10;&#10;Automatisch generierte Beschreibung"/>
          <p:cNvPicPr/>
          <p:nvPr/>
        </p:nvPicPr>
        <p:blipFill>
          <a:blip r:embed="rId4"/>
          <a:stretch/>
        </p:blipFill>
        <p:spPr>
          <a:xfrm>
            <a:off x="1476360" y="1436760"/>
            <a:ext cx="561672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Reagent preparation (6)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-up of workplac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NA-free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000" y="2104920"/>
            <a:ext cx="792468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fter each use, clean pipettes, racks, instruments and the workstation with freshly diluted 1.5% bleach (20 minutes), followed by 70% alcohol and UV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95000"/>
              </a:lnSpc>
              <a:spcBef>
                <a:spcPts val="1199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108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10:04:15Z</dcterms:modified>
  <cp:revision>374</cp:revision>
  <dc:subject/>
  <dc:title>PowerPoint Presentation</dc:title>
</cp:coreProperties>
</file>