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6.wmf" ContentType="image/x-wmf"/>
  <Override PartName="/ppt/media/image17.png" ContentType="image/pn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D3C3-45E4-4488-9D6B-FA4464386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5C04-EFE8-430F-BFDA-66F2B0BEC3C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C5D7-0BA3-4A6E-8C6E-D547EFA28AA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2E61-5D0F-4361-A842-0A83E54851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601B-4384-4FAF-890B-CB862DDABA5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AA8-95F9-4AD3-AE95-EB7040FF255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46049-6E8C-4117-8186-2D08F455145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B5F8-31A5-4257-ADBF-F2A1582A5E9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D0F0-5B5C-40DA-9306-46FCA844428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96A50-5E00-4ECA-A456-3C55C79977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16DB-4C67-488A-8011-3D07C2E2688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69186-1FF1-40ED-8C7C-0A9994FD0A8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BBA-15D4-48F1-8DEF-4C0E84A646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B1C79-AC5A-4DAC-8C49-60F9A44B7B1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D0E-DED2-4B36-9C72-9A35F8316B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3C98-AB48-4DBE-86BA-193BC99E34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63050-11FD-4299-BDCE-5A4693A87B1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39C4-5989-458E-88B8-5AF0186C5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984-70A3-4B14-80CD-658ADBB4F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F912-77F4-45F3-A2E1-564F7A6F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FC8D9-B9BC-4EA6-8615-DE93AC83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951CB-1FD2-4390-93C1-6FB7C733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6D01C-B822-4D0C-87F4-90FE42DE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9CF5-28FE-4295-956F-A5F456FF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5E5A-D79B-4415-A722-BD2512A7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E7849-076D-4523-963D-C3ECD9F8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94922-6504-473E-A842-9E797804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85105-F8C7-4DE0-B6AA-E2F0F0DB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EA62-E876-4931-80F0-EFCCC60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78F0-BE98-47A7-A0BB-6274DA50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C300B-0B62-4008-ACA3-3168AC3F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9DC0-FE9D-4B58-A138-61444189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11EE-79AF-4064-83E5-61288CA4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009B-6976-4475-8E86-C5F7FFBFC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D438-3D03-4AB9-A942-744D3754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3A37-265C-4713-AA67-A4E09643F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69D-5EBF-4B98-93E3-AE8DB2E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921F-C40C-4320-9242-C06C19D7D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18E3-B86A-4F79-965F-E0773B04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AD35-D32D-48D3-B38E-EEBB2E723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EED9-47D2-4D26-8592-C45882BC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AB00-1B69-4530-B799-AF5B28D5C6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C355-E130-4542-B6D3-79A73D96D3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iosafety in the molecular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1481040"/>
            <a:ext cx="81532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pe with a clean cloth afte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use on the log sheet provided by the individual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 maintenance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16C0-FA86-4277-BEC5-E924B7E2EFB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337440" y="142920"/>
            <a:ext cx="2584440" cy="2786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6191280" y="3197160"/>
            <a:ext cx="2502000" cy="30337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80960" y="1357200"/>
            <a:ext cx="847728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e contents uniform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x reagen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Title 2" descr=""/>
          <p:cNvPicPr/>
          <p:nvPr/>
        </p:nvPicPr>
        <p:blipFill>
          <a:blip r:embed="rId3"/>
          <a:stretch/>
        </p:blipFill>
        <p:spPr>
          <a:xfrm>
            <a:off x="487440" y="285912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133" name="Content Placeholder 1"/>
          <p:cNvSpPr/>
          <p:nvPr/>
        </p:nvSpPr>
        <p:spPr>
          <a:xfrm>
            <a:off x="380880" y="4000680"/>
            <a:ext cx="847728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Temperature stability for liquid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t is crucial to heat samples i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order to totally lyse cells and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Arial"/>
              </a:rPr>
              <a:t>inactivate living cel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65040" indent="-255600">
              <a:spcBef>
                <a:spcPts val="400"/>
              </a:spcBef>
              <a:buClr>
                <a:srgbClr val="99ccf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285F-0A75-4245-A781-4610B8DBB41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6840" y="1481040"/>
            <a:ext cx="80154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rtex must be disinfected on a regular ba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in the waterbath must be replaced wee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with mild deter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heating element cove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Vortex and water bath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A49A-699F-4605-9570-A8576E800B2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s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temperature with calibrated thermometer in an oil filled tub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t several tubes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the heating blo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70% ethanol afte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eating block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5581800" y="3063960"/>
            <a:ext cx="3348000" cy="3579840"/>
          </a:xfrm>
          <a:prstGeom prst="rect">
            <a:avLst/>
          </a:prstGeom>
          <a:ln w="0">
            <a:noFill/>
          </a:ln>
        </p:spPr>
      </p:pic>
      <p:sp>
        <p:nvSpPr>
          <p:cNvPr id="14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05AE-2B10-4C6C-B44F-ADD9C4BF960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ry ove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 °C for 1 hour to kill tubercle bacil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use instead of heating block and 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thermometer to record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specimen racks inside oven and do not remove once temperature is s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fer specimen tubes to heated ra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s required with 1%-1.5% bleach and 70% alcohol (turn off before clea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4CEB-17AA-4003-A163-5221B3968CC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6858000" y="533520"/>
            <a:ext cx="187632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481040"/>
            <a:ext cx="82296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in the ‘clean room’/DNA-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preparation of the “master mi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NA in this 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5943600" y="3301920"/>
            <a:ext cx="2176560" cy="2830680"/>
          </a:xfrm>
          <a:prstGeom prst="rect">
            <a:avLst/>
          </a:prstGeom>
          <a:ln w="0">
            <a:noFill/>
          </a:ln>
        </p:spPr>
      </p:pic>
      <p:sp>
        <p:nvSpPr>
          <p:cNvPr id="14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BF7A5-C834-4BDE-B0FB-2459DCF9484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66480" y="1481040"/>
            <a:ext cx="839628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before and after with bleach (prepared daily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witch on the UV light after 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 sure the UV light is switched off while working in the PCR hoo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llocate equipment for the “clean room” and DO NOT USE IN OTHER ROO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 not enter the clean room after DNA extraction/entering of amplification roo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CR hood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F61E1-9650-4995-9B75-81C3A541E0A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357120" y="1481040"/>
            <a:ext cx="84060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ed for the amplification of the specific gene target by polymerase chain re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accuracy – amplification profiles can be modified to optimize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ping rate (2.2°C/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 off and unplug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outside hous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anol and wipe clean after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ermocycle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3" descr=""/>
          <p:cNvPicPr/>
          <p:nvPr/>
        </p:nvPicPr>
        <p:blipFill>
          <a:blip r:embed="rId1"/>
          <a:stretch/>
        </p:blipFill>
        <p:spPr>
          <a:xfrm>
            <a:off x="5943600" y="3429000"/>
            <a:ext cx="2193840" cy="2308320"/>
          </a:xfrm>
          <a:prstGeom prst="rect">
            <a:avLst/>
          </a:prstGeom>
          <a:ln w="0">
            <a:noFill/>
          </a:ln>
        </p:spPr>
      </p:pic>
      <p:sp>
        <p:nvSpPr>
          <p:cNvPr id="15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CFD54-FE5F-404C-B152-428B76C4258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533520" y="1481040"/>
            <a:ext cx="82533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for use with DNA strips in reverse hybridization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ual proced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for the Hain molecular diagnostic ass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y incubation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o water ba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need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12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5003" t="1247" r="21877" b="8750"/>
          <a:stretch/>
        </p:blipFill>
        <p:spPr>
          <a:xfrm>
            <a:off x="6324480" y="4076640"/>
            <a:ext cx="1986120" cy="1833480"/>
          </a:xfrm>
          <a:prstGeom prst="rect">
            <a:avLst/>
          </a:prstGeom>
          <a:ln w="0">
            <a:noFill/>
          </a:ln>
        </p:spPr>
      </p:pic>
      <p:sp>
        <p:nvSpPr>
          <p:cNvPr id="16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2CF8-CE25-4C68-A422-9298732D01A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481040"/>
            <a:ext cx="50292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after use (when in regular u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off and unplug before clea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 outside housing with 70% ethanol, wipe 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winCubator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"/>
          <p:cNvPicPr/>
          <p:nvPr/>
        </p:nvPicPr>
        <p:blipFill>
          <a:blip r:embed="rId1"/>
          <a:stretch/>
        </p:blipFill>
        <p:spPr>
          <a:xfrm>
            <a:off x="5659560" y="2154240"/>
            <a:ext cx="2939760" cy="3960720"/>
          </a:xfrm>
          <a:prstGeom prst="rect">
            <a:avLst/>
          </a:prstGeom>
          <a:ln w="0">
            <a:noFill/>
          </a:ln>
        </p:spPr>
      </p:pic>
      <p:sp>
        <p:nvSpPr>
          <p:cNvPr id="16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D371-DA6D-4CBE-AB53-5422D977E33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2DD8A-10C1-46FE-B6B5-C9F5947A4FF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ffffff"/>
                </a:solidFill>
                <a:latin typeface="Arial"/>
              </a:rPr>
              <a:t>Which BSL for TB laboratory activities?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1 – AFB smear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use countertop if airflow is directed away from  laboratory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exhaust fan to draw air away from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C pre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– Specimen processing for TB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ty centrifuge cups opened only in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BSL2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–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 Molecular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ree areas with separate air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LIVE MTB; dead cell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SL2 and/or BSL3 – MTB Culture: Identification and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work performed in a BS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olation and air exhaust needed for manipulating large quantities of live M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47400" y="142848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T-Blot 48 is a fully automated system for hybridiz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ation of assay (programm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"/>
          <p:cNvPicPr/>
          <p:nvPr/>
        </p:nvPicPr>
        <p:blipFill>
          <a:blip r:embed="rId1"/>
          <a:srcRect l="1403" t="5622" r="12813" b="13748"/>
          <a:stretch/>
        </p:blipFill>
        <p:spPr>
          <a:xfrm>
            <a:off x="2438280" y="3276720"/>
            <a:ext cx="3857760" cy="2719440"/>
          </a:xfrm>
          <a:prstGeom prst="rect">
            <a:avLst/>
          </a:prstGeom>
          <a:ln w="0">
            <a:noFill/>
          </a:ln>
        </p:spPr>
      </p:pic>
      <p:sp>
        <p:nvSpPr>
          <p:cNvPr id="16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2A69-0554-47BB-B57A-6C9E94FC32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07440" y="176040"/>
            <a:ext cx="840132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anner: The strips can be scanned and interpreted in less than 1 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1"/>
          <a:stretch/>
        </p:blipFill>
        <p:spPr>
          <a:xfrm>
            <a:off x="1785960" y="1447920"/>
            <a:ext cx="5572080" cy="4724280"/>
          </a:xfrm>
          <a:prstGeom prst="rect">
            <a:avLst/>
          </a:prstGeom>
          <a:ln w="0">
            <a:noFill/>
          </a:ln>
        </p:spPr>
      </p:pic>
      <p:sp>
        <p:nvSpPr>
          <p:cNvPr id="17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C65-63E0-40E9-B3D4-83E81187CB2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6840" y="1797120"/>
            <a:ext cx="864396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machine after use (when in regular use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move reagents after the last run of the day – wash, take “connectors” out of water at the back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o not leave the connectors in wat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ean outside housing with ethan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ash trays first with soapy and then again only with water after each ru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GT-Blot 48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E0A0-BEB6-461F-B840-334E98F1089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OD LABORATORY PRACTICE AT ALL TIM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AKE CARE OF YOUR MACHI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097C-F38F-4827-8E83-9A7DF81666D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8EFB-34B6-497B-BFE4-31117A3AFE3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B culture laborato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0520" y="1599840"/>
            <a:ext cx="8153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llow all biosafety protocols for work in the MTB culture l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 samples for molecular 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infect outside of tubes before removing from B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 kill samples if DNA extraction occurs in the moderate-risk TB labora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2CDE-08FD-43C0-BA4F-7A0C1BCB235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lecular laboratori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parate ro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ixing of air between the three ro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haring of supplies, laboratory coats and glo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laboratory practic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aerosol generation – cross conta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infect areas with freshly prepared 1%-1.5% concentration of bl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 concentration of hypochlorite in bl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7046-3C4C-41CD-815C-1E29CFAE9B27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CCD6-B343-43BA-B8E8-057BAD1890A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P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33540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laboratory areas with PPE stored in each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nt-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sle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shable cloth or dispos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ex-f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Elom and Mosun staining"/>
          <p:cNvPicPr/>
          <p:nvPr/>
        </p:nvPicPr>
        <p:blipFill>
          <a:blip r:embed="rId1"/>
          <a:stretch/>
        </p:blipFill>
        <p:spPr>
          <a:xfrm>
            <a:off x="4162320" y="1366920"/>
            <a:ext cx="360684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infectant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shly prepared 1%-1.5% b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by a 70% ethanol wash inside the BSC and where metal surfaces are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ic acid cont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3535-7B12-416E-BD99-014F4B930FE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Equipmen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noType MTBDRplus VER 2.0 equi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59984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 b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ating block/dry o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952520" y="1599840"/>
            <a:ext cx="38862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CR h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mocyc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inCub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T-Blot 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4FED-4249-43CF-878A-558245C329E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1447920"/>
            <a:ext cx="817560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by centripet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(revolutions per minute) or x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PM = the number of full rotations completed in one min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g = centrifugal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dimentation of cells is to one side of the tube – </a:t>
            </a:r>
            <a:r>
              <a:rPr b="0" lang="en-US" sz="2800" spc="-1" strike="noStrike" u="sng">
                <a:solidFill>
                  <a:srgbClr val="192626"/>
                </a:solidFill>
                <a:uFillTx/>
                <a:latin typeface="Arial"/>
              </a:rPr>
              <a:t>mark tube for pellet orientation before centrifug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sizes: microcentrifuge/picofuge        (0.2 ml – 2.0 ml)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entrifug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rcRect l="0" t="16879" r="49376" b="15632"/>
          <a:stretch/>
        </p:blipFill>
        <p:spPr>
          <a:xfrm>
            <a:off x="5486400" y="2933640"/>
            <a:ext cx="831960" cy="990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7010280" y="304920"/>
            <a:ext cx="1622520" cy="1904760"/>
          </a:xfrm>
          <a:prstGeom prst="rect">
            <a:avLst/>
          </a:prstGeom>
          <a:ln w="0">
            <a:noFill/>
          </a:ln>
        </p:spPr>
      </p:pic>
      <p:sp>
        <p:nvSpPr>
          <p:cNvPr id="12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71CE8-0A9B-4265-B4B1-1AA88FA9512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3T13:26:37Z</dcterms:created>
  <dc:creator>Linda Parsons</dc:creator>
  <dc:description/>
  <dc:language>en-US</dc:language>
  <cp:lastModifiedBy>Tagliani Elisa</cp:lastModifiedBy>
  <dcterms:modified xsi:type="dcterms:W3CDTF">2020-06-12T10:11:24Z</dcterms:modified>
  <cp:revision>58</cp:revision>
  <dc:subject/>
  <dc:title>Slide 1</dc:title>
</cp:coreProperties>
</file>