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3B47-4957-4B5F-9443-0852A1A9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6E3C-E278-4BFE-99CF-F25612FBE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D842-E364-45AA-B576-9A2C44966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BF22-708E-4031-AA5B-3CCE6044B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6B8-3837-4AC2-9B3C-7F66F0A5F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FF82B-49D8-44AF-8E5B-A69E9245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E560-E8B1-49EA-B594-7D22B9FA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B66F-A49B-49AF-91B8-C3555F18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B5782-E995-42D2-AE58-01248B91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A0FEB-6A53-4C22-BD74-0ECFD116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69753-F118-4F54-8E40-9E4C3E78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9580-45FA-47F2-B1BC-23FAB2B79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7A24-ADCA-4498-ADE1-6E59B9B8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8A647-8C29-491A-866F-FDE8BFF29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775D5-F15A-48C4-A292-18886F4D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C47D6-3BF9-4FD7-86A9-76D177D9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2B951-238C-4961-BBA9-E1DEAB2D5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17A-4DDE-4632-95A0-75CE49FE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03F8-F4C1-4CAC-BD47-EFAC9A73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5FD-B165-4811-94F9-521F223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2CE-671F-4439-82D1-2E4CDC07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785-91A0-432A-9CCA-6F20B567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6515-C511-445C-93C2-37CC6F079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0530-AE3A-45C9-A6BF-8BF9D4B9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D576C-91CF-4E9A-9C4A-BFC887F67C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28BC-514D-4074-A09B-7334240A61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F8160-C4ED-4147-B640-C0B06BD73F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BACTEC MGIT 960</a:t>
            </a:r>
            <a:br>
              <a:rPr sz="4600"/>
            </a:b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quality control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9549-CEBC-466D-BF59-93B1D91D5A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6EACB-89A9-4527-9FB3-C84CBBB85D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y QC reagents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D thoroughly tests all BACTEC MGIT 960 DST products prior to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 why test at your fac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 may be mishandled during sh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iotic potency may decr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s ability of laboratory to perform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m prepa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AF54-ABC2-48AD-9A8D-A9CCD7695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™ MGIT™ 960 DST </a:t>
            </a:r>
            <a:br>
              <a:rPr sz="4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 quality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shipment or lot number of drug kits before use with patient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ekly SIRE and PZA DST Q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validated, otherwise set up a QC DST set each time DSTs are inocul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C organis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CC 27294 (H37R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RE dru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concentrations tested should be the same as those used for routine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concentrations of INH used for patients; QC both concentr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7BE3-6240-4FFE-87C4-64D182E998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organis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e culture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CC 27294 (H37RV) or well-characterized pan-susceptible MTB s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GIT 960 tub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days after flagged positive by instru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itional organisms may be tested to supplement BD QC recommend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want to inoculate a known mono-resistant strain of M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2340-3D65-473F-BBF4-B79D8768D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200" spc="-1" strike="noStrike">
                <a:solidFill>
                  <a:srgbClr val="ffffff"/>
                </a:solidFill>
                <a:latin typeface="Arial"/>
              </a:rPr>
              <a:t>Drug and organis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e should be taken to ensure proper reconstitution of lyophilized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ong drug concen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preparation significantly impacts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er dilution of organism for drug and growth control tube is crit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pension must be well mixed and homogeneous without clu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QC organism suspension in the same way as patient isolate susp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e SIRE and PZA DS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hydrate drugs with sterile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aliquots of prepared drugs from fre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expiration 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inoculum and di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s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27CB-4363-43BB-B764-4E69A3F90C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F953-3654-4C29-8EFE-3AD5E4BE02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try of tubes into MGIT 9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DST set carrier into the BACTEC MGIT 960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pretation of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 will interpret results between         days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should read susceptible for all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proper results are not observed, repeat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4F472-D9A7-4280-9EF0-22C26A436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and PZA QC recor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lot numbers of MGIT 960 tubes, drugs and drug supple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QC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 for a minimum of two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CF6D-9075-4608-88CC-7F66C198EB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QC 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f DST is critical to ensure test is functioning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be performed on all new lots or new shipment of SIRE and PZA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C organism suspension can be prepared from MGIT tube or sol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 suspensio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u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homogeneous, i.e. without clu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rile tubes and pipettes must be us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alibrated pipettes to inoculate drugs to media tubes, not disposable transfer pipet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14:48:26Z</dcterms:created>
  <dc:creator>hellmann</dc:creator>
  <dc:description/>
  <dc:language>en-US</dc:language>
  <cp:lastModifiedBy>Philip</cp:lastModifiedBy>
  <dcterms:modified xsi:type="dcterms:W3CDTF">2012-01-26T09:48:44Z</dcterms:modified>
  <cp:revision>26</cp:revision>
  <dc:subject/>
  <dc:title>BACTEC MGIT 960 DST Quality Control</dc:title>
</cp:coreProperties>
</file>