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AA21-AD47-498F-B740-260D05ED263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B694-9E1D-4887-9060-CDA2DE9EBC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DFB-751D-4D66-A2E8-803A692D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675F-F002-474F-9F95-04148F47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265D-90E5-4390-B750-CCB7BAF83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D4D9-DDAE-408C-8B79-8779386D1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DEC9-4E42-434C-86C2-79C53873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A643-3BE4-4467-9245-A0983B3D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50CF-855E-455F-A849-6F53FF6F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61BB-BE25-49F2-A010-61FB1241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73C02-DC70-46B7-9238-DCE0DD2CD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3EFB-ECD9-41AC-890A-54E21463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CD180-C7BE-44FD-992F-B5B42160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0380-2D5D-4561-8BDB-61CF0D1BF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48DD7-176B-4881-AA6E-65E7F20A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919D-DEDB-49B5-B4C6-181DB280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12A70-59D5-48C7-926A-D749502B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3A3E-C8E6-4E54-8EFC-1CD76B9E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4D7A-44F8-45F5-B42E-15B5744C9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114C9-E818-477B-BCEF-510E7CABB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F74F0-B7A2-4DD8-9A42-04B0A39A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22905-0351-4374-818E-67EB4AAF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6C7CD2-2E9B-44F3-8E1E-4C997A658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95FD5-0E28-42A0-A464-9B7EB0A9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B7A9-4D39-4E4C-909C-E12B19D08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FF5CD-6E92-4799-860B-10BEBBEB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BAE56-F124-46C2-85EC-29C0BD34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59927-CFD5-4CF1-AD4D-0256E954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1489A-1456-4195-9A51-45BDF85E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DAD44-35D0-42B2-A660-89F3934E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5F7FE0-AE6D-4BD1-9CBC-3E1645E3B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DD613-3DA2-49CC-A5D0-54DA17666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7A1F-D95E-4EC9-97E7-387099D1E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318F-28EF-4FB7-B817-E704B8E7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2DD4-67A6-40A9-8AAE-64133D58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EDC8-1AB2-4E38-8423-C55CF5D8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8869-01E1-40BD-AE52-516DBF2C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8BFB-339E-4A71-999C-8A9D19ED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DE81-B98C-48C0-8470-5D6FEDEF3B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97DE2-9E6A-4859-9A8F-2CF1916088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A117-8E3B-4248-99FA-48A499C030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 of drug resistance to antituberculosis dru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4"/>
          <p:cNvSpPr/>
          <p:nvPr/>
        </p:nvSpPr>
        <p:spPr>
          <a:xfrm>
            <a:off x="457200" y="155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urrent four-drug TB therapy </a:t>
            </a:r>
            <a:br>
              <a:rPr sz="40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first-line, most effective dru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380880" y="1523880"/>
            <a:ext cx="8305920" cy="47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ments for effective 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 with multiple antibio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therapy – 6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two months with RMP, INH and PZA and either EMB or S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four months with RMP and I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regim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s antibacterial ac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hibits development of resist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minates persisting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bjectives of antituberculosis thera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ckly kill large numbers of rapidly growing bacilli in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e the patient and increase chances of survi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uce the infectiousness of pat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ent the emergence of drug-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ilization (elimination) of the dormant but still viable bacilli from the infected t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void therapeutic failure and rela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duce the chance of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artmentalization of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the infected tissue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umber of rapidly dividing bacilli in pulmonary ca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illi multiplying less rapidly due to local adverse conditions (most often acidi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rmant but still viable bacilli (often sequestered in granulo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ti-TB drugs act on different populations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143320" y="1395360"/>
            <a:ext cx="3809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ugs that kill Population A are considered to have rapi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tericidal Activ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measured by rapidity of sputum and culture conversion (from + to 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drugs are most effective in preventing the emergence of drug resistant cells that arise in the large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6"/>
          <p:cNvSpPr/>
          <p:nvPr/>
        </p:nvSpPr>
        <p:spPr>
          <a:xfrm>
            <a:off x="571680" y="1371600"/>
            <a:ext cx="144756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7"/>
          <p:cNvSpPr/>
          <p:nvPr/>
        </p:nvSpPr>
        <p:spPr>
          <a:xfrm rot="5400000">
            <a:off x="110448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8"/>
          <p:cNvSpPr/>
          <p:nvPr/>
        </p:nvSpPr>
        <p:spPr>
          <a:xfrm rot="5400000">
            <a:off x="243828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>
            <a:off x="64764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3"/>
          <p:cNvSpPr/>
          <p:nvPr/>
        </p:nvSpPr>
        <p:spPr>
          <a:xfrm flipV="1">
            <a:off x="240048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194400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4287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58644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88020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rilizing effec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9600" y="1599840"/>
            <a:ext cx="4191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that are more effective against Populations B and C are regarded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tency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ity is reflected by a high cure rate with limited relapses in patients completing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4583160" y="1371600"/>
            <a:ext cx="1447920" cy="373392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14"/>
          <p:cNvSpPr/>
          <p:nvPr/>
        </p:nvSpPr>
        <p:spPr>
          <a:xfrm rot="5400000">
            <a:off x="5115960" y="3504960"/>
            <a:ext cx="914400" cy="19810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15"/>
          <p:cNvSpPr/>
          <p:nvPr/>
        </p:nvSpPr>
        <p:spPr>
          <a:xfrm rot="5400000">
            <a:off x="6450120" y="3009960"/>
            <a:ext cx="533520" cy="41148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6"/>
          <p:cNvSpPr/>
          <p:nvPr/>
        </p:nvSpPr>
        <p:spPr>
          <a:xfrm>
            <a:off x="4659480" y="55627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641196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5955840" y="559908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8013240" y="5576760"/>
            <a:ext cx="10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th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0"/>
          <p:cNvSpPr/>
          <p:nvPr/>
        </p:nvSpPr>
        <p:spPr>
          <a:xfrm>
            <a:off x="4598280" y="2781360"/>
            <a:ext cx="1428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4891680" y="4341960"/>
            <a:ext cx="142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ulatio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5"/>
          <p:cNvSpPr/>
          <p:nvPr/>
        </p:nvSpPr>
        <p:spPr>
          <a:xfrm>
            <a:off x="5143680" y="714240"/>
            <a:ext cx="3857400" cy="600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Object 2"/>
          <p:cNvGraphicFramePr/>
          <p:nvPr/>
        </p:nvGraphicFramePr>
        <p:xfrm>
          <a:off x="304920" y="762120"/>
          <a:ext cx="4690800" cy="563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690800" cy="563868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7" name="Text Box 6"/>
          <p:cNvSpPr/>
          <p:nvPr/>
        </p:nvSpPr>
        <p:spPr>
          <a:xfrm>
            <a:off x="293400" y="6477120"/>
            <a:ext cx="434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ed from: Somoskovi et al. Respir Res 2001, 2: 164-16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-9360" y="152280"/>
            <a:ext cx="97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rst-line antituberculosis drugs and their mechanisms of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5257800" y="837720"/>
            <a:ext cx="373392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catalase (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imary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dru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ocks the synthesis of cell wall, acts on other targets in ce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st effective anti-TB drug with both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ctericid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ctiv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hibits bacterial RNA transcription by binding to RNA polymer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lent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eriliz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effect on Population B (in an acidic environ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-drug, must be activated by pyrazinamid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feres with fatty acid synthe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ural drug resistance in the MTB comp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TB complex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tuberculosis, 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cine strai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C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rely seen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africanum, M. canettii, M. microti, M. caprae, M. pinniped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ural resistance to antibio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phobic cell envelope (permeability barrier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 efflux systems and drug-modifying enzy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mp toxic substances out of cell and produce enzymes to change the drug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ZA resistance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. canettii, M.bov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CG (other members are usually susceptible to P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on types of resistance to first-line drugs – WHO class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newly identifi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imary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ug resistance in previously treated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ly defin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quired drug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resistance between different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are chemically related (similar stru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ugs have the same or similar target within the bacterial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famycins, aminoglycosides, fluoroquinol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sistance in TB to more than one dru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y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to more than one antituberculosis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drug resistant TB (M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ns of TB resistant at least to INH and R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in treatment failure and fatal outcomes more often than with resistance to other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vely drug resistant TB (XDR-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DR-TB also resistant to any of the fluoroquinolones and to at least one injectabl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ntrea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3"/>
          <p:cNvSpPr/>
          <p:nvPr/>
        </p:nvSpPr>
        <p:spPr>
          <a:xfrm>
            <a:off x="0" y="1428840"/>
            <a:ext cx="8929800" cy="542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-142920" y="309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lection of drug resistant mutants in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14200" y="1428840"/>
            <a:ext cx="8605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taneous mutations occur in the DNA of all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tions can change the structure of a protein that is a drug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in still functions, but is no longer inactivated by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s, TB can grow in the presence of th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s linked to large bacterial popul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tants resistant to any drug occur on average once in every 100 million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B in the lung, cavities often contain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cavitary lesions contain about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ganis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76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using two antibiotics, chances for both targets to be mutated is extremely small (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-16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25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otherapy led to selection of drug-resistant populations in cavitary disease more often than in cases with non-cavitary le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rationale for treatment regimens with more than one dr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the objectives and rationale of combined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basic definitions of drug resistance in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how drug resistance devel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 the rationale for using a critical concentration of drug in laboratory ass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the rationale for determining the  proportion of resistant bacteria that is clinically significa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128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factors influencing the development of drug resi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80880" y="1366560"/>
            <a:ext cx="830592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etabolism of bacilli shifted to dorm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aired/decreased drug uptake by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ce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netration of drugs to various body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optimal concentration of drugs at some s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ired drug absorption due to underlying host conditions such as HIV/A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with inappropriate drugs, combinations or do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ion or irregular treat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plete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d number of doses not taken (patient non-complia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allenges for TB drug susceptibility test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the critical concentrations of drugs necessary to eliminate the growth of susceptible (wild type) strains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susceptibility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what proportion of cells in a popul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uld need to be resistant to a drug in order for that strain to be interpreted as resi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0920"/>
            <a:ext cx="868680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f drugs used for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B drug susceptibility te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the concentration of drug that inhibits the growth of wild type strains without appreciably affecting the growth of resistant ce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itical concentra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drugs were found to vary dependent upon the media used (especially solid vs liqui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6760" y="31680"/>
            <a:ext cx="8247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rmination of clinically significant proportion of resistant bac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ly significant propor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vitr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of resistant cells in the presence of the critical concentration of the drug that is equal to or greater than 1% of the growth of the total population in the absence of the dr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ence of 1% resistant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s a significant increase in resistan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assays are based on this as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85840" y="1425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ortion method for determining drug resistance i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600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assay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a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growth of a 1:100 dilution of the TB isolate on media without drug (Growth Control) to the growth of the undiluted suspension on media containing each dru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undiluted suspension grows faster or more abundantly in the presence of the drug than the Growth Control, the isolate is considered to contain a resistant population of greater than 1%, and is reported as resistan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52400"/>
            <a:ext cx="83818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d antituberculosis therapy is the cornerstone of effective treatment and prevention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rst-line antituberculosis drugs are INH, RMP, PZA and sometimes EMB and S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y exhibit natural resistance to certain antibiotics and may develop resistance to antituberculosis agents due to spontaneous mutations in genes encoding drug targets or drug-activating enzym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tomical, metabolic compartmentalization, mutation rates and increase in the bacterial load in the lesion may also highly influence the emergence of drug resi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ake home messages (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3059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recommends use of the phrase “drug resistance among new cases” instead of primary resistance, and “drug resistance among previously treated patients” instead of acquired resist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concentration is the amount of drug in the medium that inhibits the growth of susceptible organisms but not that of the resistant mu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inically significant proportion of resistant mutants (determined to be greater than 1% of the population) indicates the magnitude of drug resistant cells that either predict or reflect therapeutic fail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Acknowledgeme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C95A8-1ACE-44BF-B750-4F8EB049CD6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4102200" cy="14731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2"/>
          <a:stretch/>
        </p:blipFill>
        <p:spPr>
          <a:xfrm>
            <a:off x="1187280" y="2924280"/>
            <a:ext cx="2089440" cy="15127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LogoColour"/>
          <p:cNvPicPr/>
          <p:nvPr/>
        </p:nvPicPr>
        <p:blipFill>
          <a:blip r:embed="rId3"/>
          <a:stretch/>
        </p:blipFill>
        <p:spPr>
          <a:xfrm>
            <a:off x="2340000" y="4869000"/>
            <a:ext cx="2808360" cy="1082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4"/>
          <a:stretch/>
        </p:blipFill>
        <p:spPr>
          <a:xfrm>
            <a:off x="4859280" y="2924280"/>
            <a:ext cx="3025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ntent outl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71320" y="1514520"/>
            <a:ext cx="87627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story and objectives of antituberculosis 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tmentaliza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. tuberculos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ected t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tericidal and sterilizing activity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-line antituberculosis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definition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and genetic basis of drug re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of critical concentrations and proportion of resistant bacteria to prediction of treatment failu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5714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evalence of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DR and XDR tuberculosis</a:t>
            </a:r>
            <a:br>
              <a:rPr sz="1400"/>
            </a:b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avigli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M.C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and Smi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I.M.,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g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d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35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656-9</a:t>
            </a:r>
            <a:br>
              <a:rPr sz="28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676520" y="1579680"/>
            <a:ext cx="5715000" cy="4059000"/>
          </a:xfrm>
          <a:prstGeom prst="rect">
            <a:avLst/>
          </a:prstGeom>
          <a:ln w="28440">
            <a:solidFill>
              <a:srgbClr val="ff5050"/>
            </a:solidFill>
            <a:miter/>
          </a:ln>
        </p:spPr>
      </p:pic>
      <p:sp>
        <p:nvSpPr>
          <p:cNvPr id="151" name="Rectangle 6"/>
          <p:cNvSpPr/>
          <p:nvPr/>
        </p:nvSpPr>
        <p:spPr>
          <a:xfrm>
            <a:off x="457200" y="27468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ug-resistant tuberculosis is present world wide wherever treatment is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Distribution of MDR TB in new cases, 1994-2009 (WHO)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92000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1DF9-2541-499F-B9EF-4C1D6B47A51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ribution of MDR TB  among previously treated TB cases, 1994-2009 (WH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39640" y="1600200"/>
            <a:ext cx="8353440" cy="4419720"/>
          </a:xfrm>
          <a:prstGeom prst="rect">
            <a:avLst/>
          </a:prstGeom>
          <a:ln w="0">
            <a:noFill/>
          </a:ln>
        </p:spPr>
      </p:pic>
      <p:sp>
        <p:nvSpPr>
          <p:cNvPr id="15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34CFB-F04A-4BA3-BB0C-909BA198E4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Distribution of XDR TB - WHO 2010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647960" y="1599840"/>
            <a:ext cx="3886200" cy="4419720"/>
          </a:xfrm>
          <a:prstGeom prst="rect">
            <a:avLst/>
          </a:prstGeom>
          <a:ln w="0">
            <a:noFill/>
          </a:ln>
        </p:spPr>
      </p:pic>
      <p:pic>
        <p:nvPicPr>
          <p:cNvPr id="160" name="Content Placeholder 4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7925040" cy="4419360"/>
          </a:xfrm>
          <a:prstGeom prst="rect">
            <a:avLst/>
          </a:prstGeom>
          <a:ln w="0">
            <a:noFill/>
          </a:ln>
        </p:spPr>
      </p:pic>
      <p:sp>
        <p:nvSpPr>
          <p:cNvPr id="16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74D9-01B3-44A5-9A39-34A09F310E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468360" y="189000"/>
            <a:ext cx="82296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story of antituberculosis therap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28600" y="1371600"/>
            <a:ext cx="85345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drugs introduced for TB therapy in 19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ptomycin (SM) and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aminosalicylic acid (P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either SM or PAS alone in treatment of TB was initially found to reduce deaths among treated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on, it was found that single drug therapy resulted in emergence of drug resistant strains in ~70% of the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mbining SM + PAS the resistance rate was reduced to 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214200" y="712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roduction of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re effective antituberculosis dru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80880" y="1928880"/>
            <a:ext cx="84582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niazid (INH), more potent drug,19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ation therapy – SM + PAS + INH (1950s) proved highly effective in preventing emergence of res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, 18-months of treatment required to ensure adequate c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azinamide (PZA), Ethambutol (EMB) and Rifampin (R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ZA (1952), EMB (1962) and RMP (1963) effectively combined with INH for combination thera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kos Somoskovi</dc:creator>
  <dc:description/>
  <dc:language>en-US</dc:language>
  <cp:lastModifiedBy>Philip</cp:lastModifiedBy>
  <dcterms:modified xsi:type="dcterms:W3CDTF">2012-01-26T09:46:46Z</dcterms:modified>
  <cp:revision>147</cp:revision>
  <dc:subject/>
  <dc:title>PowerPoint Presentation</dc:title>
</cp:coreProperties>
</file>