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0144-362C-45AA-8FD5-AB60590C3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78CC-78D3-4ECA-B8CE-144DC1247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8D36-E59C-482B-9F16-7691922C2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705B-6B63-48E7-860D-C17942C0F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2FA9-6A04-495B-9D8A-E3C4D5516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04F4-7590-4B26-AFC5-EA7471C18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D50D-1A74-476E-BBA6-4BBEBD809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CC4F-78EE-4157-B0D3-31CFEDA3D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0939-EFF2-473A-93F0-7901D61E4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574A-2BBA-47CC-AA91-21A06932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FECD-CD88-4922-86D3-C9E9DCE5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6AB5-033B-4A6E-BED9-A712C049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C8CFB-613E-4257-B3AB-FC293B63A2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maherd@who.ch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692280"/>
            <a:ext cx="80643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ordinating Board meetin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, 15-15 October 2004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Millennium Development Goals Project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quest to Coordinating Board to endorse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2920" y="1268280"/>
            <a:ext cx="8893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recommendations of the working group on TB (Working Group report, p9-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inclusion of "TB" in MDG 6, thus "combat HIV/AIDS, TB, malaria and other diseases" (overall MDGs report, p3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raft General Assembly resolution point 37 "to request a revision of the targets and indicators for monitoring the MDGs to make them consistent with the technical recommendations of the UN Millennium Project Task Forces and other experts, by mid-2006" (overall MDGs report, p3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evelopment of advocacy strategy by WG on A &amp; C (in collaboration with MDGs Campaign) to push main TB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) launch of MDGs report in January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) UN special summit on MDGs in September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.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Coordination with second Global Plan to Stop TB (2006-2015) (WHA May 200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ments on overall report </a:t>
            </a:r>
            <a:br>
              <a:rPr sz="3200"/>
            </a:b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"Global Plan to achieve the MDGs"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2920" y="255420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comments@unmillenniumproject.or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illennium Development Goal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125360"/>
            <a:ext cx="85881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dopted at the UN Millennium Summit, September 2000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radicate extreme poverty and hun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chieve universal primary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Promote gender equality and empower wo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Reduce child mort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mprove maternal h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Combat HIV/AIDS, malaria and other dise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nsure environment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 global partnership for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UN summit Sept 2005 will review progress towards MDG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DGs Pro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2920" y="1125360"/>
            <a:ext cx="8893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Key featur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launched by UN Sec-Gen to recommend the best strategies for achieving the MD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Project runs from 2002 –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directed by J Sachs (Special Adviser to the UN Sec-Gen on the MD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overall report "Global Plan to achieve the MDGs" for launch in Jan 2005 (unmillenniumproject.org) and endorsement at special UN summit in September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10 task forces, including 2 on heal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) Task force 4: child and maternal health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i) Task force 5: HIV, malaria, TB, other major diseases and access to essential medic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243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Members of working group on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8120" y="620640"/>
            <a:ext cx="83818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Billo (IUAT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 Broekmans (KNCV) w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king group chair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Castro (CDC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Espinal (Stop TB Partnership secretari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Evans (Global Programme on Evidence for Policy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Floyd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(Stop TB Department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 Harries (Malaw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 Hopewell (San Francisco General Hospital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Maher (Stop TB Department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 Narayanan (TB Research Centre, Chennai, Ind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Perelman (TB Institute, Mosco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Raviglione (WHO Stop TB Depar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Schwalbe (Open Society Institute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 Tapia (Ministry of Health, Mex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Weil (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HO Stop TB Depar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cretariat: J Paluzzi (Partners in Health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riter: K Ca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working group on TB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(part of task force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628640"/>
            <a:ext cx="858816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 of repo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utlines strategies to reach 2015 global TB control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flects overall MDGs theme of poverty re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recommendations of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s ongoing work to develop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Global Plan to Stop TB (2006-201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working group on TB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(part of task force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1628640"/>
            <a:ext cx="858816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Finalisation of report of the working group on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 February 2004 – interim report posted on 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8 October 2004 – deadline for comments from revie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9 November 2004 – submission of final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anuary 2005 – launch of task force reports with overall MDGs project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The report of the Working Group on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2920" y="1700280"/>
            <a:ext cx="8893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Introduction to the MD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Global TB epidemic and status of TB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overty, gender, children and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oving forward to achieve the 2015 TB tar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Finan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eeting the TB target in MDG project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Recommend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nnexes: including country case studies (Cambodia, Dominican Republic, Ethiopia, Keny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82240"/>
            <a:ext cx="9144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commendations of the Working Group on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2920" y="1700280"/>
            <a:ext cx="88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romote access for all to high quality TB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ddress the TB/HIV emergency 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Engage all primary care providers in high quality TB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artner with communities to stop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ccelerate the development of critically needed new tools and appro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Support the Global Plan to Stop TB 2006-20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ments on the TB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2920" y="2554200"/>
            <a:ext cx="88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Comments p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to Dermot Maher (</a:t>
            </a: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maherd@who.ch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) to compile and send to Task Force secretariat by Friday 22 Octo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08T12:30:08Z</dcterms:modified>
  <cp:revision>92</cp:revision>
  <dc:subject/>
  <dc:title>Africa: HIV is driving the TB epidemic TB notification rates, 1980-1998</dc:title>
</cp:coreProperties>
</file>