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80F0-B490-4E09-85F5-FC762AB62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7451-A334-4423-8AF3-D0A9194DC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7CBD-0CAD-4A6F-9C49-73D6959AF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8CE1-CF91-41F6-8C56-6C5653E59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6C06E-B5F2-4489-89D1-6F8A509F7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1ED37-10FD-446F-A9E2-EC72417AF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27B10-E696-460E-B393-BBB2579C9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35AE0-0B5F-45F1-B11B-BD5F18D8D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5BE74-81E3-442D-918C-867A1A1BB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4F1FE-01E3-4F23-82E4-C927CB043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D0792-C91F-496F-AF62-D550403E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9F18-6961-41B9-90EF-BDB0BB6E0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D5AA7-74A4-47E8-8C58-1EA86636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658FA-DECE-4961-A60E-1A7831F2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16996-A164-44A4-A308-70D43AC1C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E80A3-06BB-4D0A-9680-16191D2F7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4E56C-B5F9-4521-8BF8-CD99305D0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CC09-438D-4961-971B-D99A406C1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602D-CB2B-41EC-8C3C-9C17C5F18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21E8-53C2-44DB-81FC-18ACC333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80EB-6FA2-41F0-A8F8-34AC7E960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EB8B-94C7-4142-A612-E5E84BEE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DADB-C464-46CC-A7DF-67650AA7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2AEF-9C2C-42C2-A952-16405388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3231D-3D4B-41FC-99D3-6538968369E4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B3E51-6FA3-4BE7-A1C7-66EDEA90D9B9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4920" y="2060640"/>
            <a:ext cx="8496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宋体"/>
              </a:rPr>
              <a:t>Advocacy and Communications Working Group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宋体"/>
              </a:rPr>
              <a:t>Plenary Discussio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Joanne Carter, Chair A.I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15 October 2004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7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964720" cy="475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Progress since last CB meeting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Basic Framework draft (main objectives, functions, structure, main work stream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Proposed roster of initial members (65</a:t>
            </a:r>
            <a:r>
              <a:rPr b="0" lang="en-GB" sz="2400" spc="-1" strike="noStrike" u="sng">
                <a:solidFill>
                  <a:srgbClr val="720000"/>
                </a:solidFill>
                <a:uFillTx/>
                <a:latin typeface="Tahoma"/>
                <a:ea typeface="宋体"/>
              </a:rPr>
              <a:t>+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Development of new alliances – HIV/AIDS, MDGs Campaig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First formal meeting of ACWG set for Dec 04/Jan 05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Informal pre-meeting at IUATLD conference to discuss agenda and expected outcom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  <a:ea typeface="宋体"/>
              </a:rPr>
              <a:t> 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727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58560" y="1484280"/>
            <a:ext cx="8785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Proposed structural featur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1. Chair with permanent seat on C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2. Two initial sub-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Global advocacy for resource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Country level advocacy, communication and social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3. Focal points for all 6 technical W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Critical to ensure close coordination in cross-cutting rol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4. Stronger representation for patients  and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Basic Framework to be approved and Chair/vice-chairs elected in first formal meeting of W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608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1413000"/>
            <a:ext cx="8526600" cy="76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Key immediate prior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Resource mob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enerate more robust numbers on funding g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Close collaboration with Resource Mobilization Task Fo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Target key national, multilateral and private sector don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2.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Develop short-and long-term advocacy strategy aroun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2005 targets and MDG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lobal Plan 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World TB D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3.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Rapid scale up of support to countries for AC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TA for GFATM proposals/ISAC – Nov 04 worksh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uidance, tools, training for emerging national partnershi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Mobilization of new advocacy partners at regional and country lev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119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1844640"/>
            <a:ext cx="8381880" cy="39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Request for C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Feedback on formation process, structure, key prior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2.  Technical WG chairs need to assign focal points to ACW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luhanm</cp:lastModifiedBy>
  <dcterms:modified xsi:type="dcterms:W3CDTF">2004-10-19T10:57:18Z</dcterms:modified>
  <cp:revision>21</cp:revision>
  <dc:subject/>
  <dc:title>Financial situation,  Budget &amp; plans 2005</dc:title>
</cp:coreProperties>
</file>