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2651B-082B-4823-BDF8-A8BDC9FA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E8B51-8FE1-488F-8A81-CD289DE8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C05A7-C179-412F-B08A-719CDAD6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50F8D-9AC2-46B3-9A3B-939E214A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2ADE5-FF02-44D1-B699-0D1E443F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1FD05-5592-42DA-A9F9-51FD4E47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CD5ED-4991-42B5-BD94-60319B08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CD3E3-EC03-48FB-9D51-EA312371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7A323-2F91-453E-94E9-74E1BCE7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FA364-8AC9-4265-9A8F-B3F13AF6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2ADCC-4673-40AA-A617-9F2C4993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5639F-875B-4B0C-BE52-C74954A1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6360" y="624852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4"/>
          </p:nvPr>
        </p:nvSpPr>
        <p:spPr>
          <a:xfrm>
            <a:off x="2843280" y="616572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4DAC-0BFB-4287-A38D-E4330B81E3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ational and regional initiative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039320" y="2202840"/>
            <a:ext cx="68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rtnerships to Stop TB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Partnerships in countri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retariat develops support products for countri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ocacy &amp; Communicat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mmunication Handbook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eds Assessment : Uganda, Brazil, Indonesia, Pakistan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 &amp; ISAC country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hip IT product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et, online discussion etc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obilization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thical guidelines, how link with CCMs, donors and business sector, innovative approach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 Reg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Partnership to Stop TB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p TB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Asian Republics Sub-Regional Partnership under development with stakeholder analy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outh East Asia and Afric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action of the Advocacy and Communic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ffective 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in forces with other initiatives and partnerships (GFATM, 3by5, RBM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and international political platforms to get TB on the agenda (European Union, ASEAN, SAARC, ADEAN, African Union, NEPAD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07T11:32:42Z</dcterms:modified>
  <cp:revision>206</cp:revision>
  <dc:subject/>
  <dc:title>Secretariat, 2003 Progress Report</dc:title>
</cp:coreProperties>
</file>