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96070-0963-46CB-BA3D-F5C3BD2B5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DE2D2-0241-4B84-8799-E2A7AAD4D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8B561-759C-4B7C-94E1-C779F9307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F2531-6BFB-4B13-B8DB-B733BFA1C3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40583-08D9-4C78-BBF7-814D7C019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2A20E-9C4B-41F2-8D08-C59E95232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27569-727E-4767-AFBC-222040744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CEB63-9A51-469D-8FC5-15F1B3DB4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8AAF9-9674-478B-9FD1-3208D221E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5F672-795C-446F-AA29-4AF9B50AF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06A2B-ACA4-4EF0-9FA6-C453B2045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153D9-9BCD-4396-BB20-AF6BA3D79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Country Progress</a:t>
            </a:r>
            <a:br>
              <a:rPr sz="4000"/>
            </a:b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52320"/>
            <a:ext cx="74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hair Dr. Miaka Bil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Rapporteur Dr. Karam S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3T23:33:41Z</dcterms:modified>
  <cp:revision>178</cp:revision>
  <dc:subject/>
  <dc:title>Secretariat, 2003 Progress Report</dc:title>
</cp:coreProperties>
</file>