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D1F8-40F1-47A3-8855-961C77930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for the Health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acting demands of TB control prompt us to consider it even from the perspective of the patient, his/her relatives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realize the need for a partnership between the H.S.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inciples may guide this partnershi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DOTS coverage in 1995, yet, poor treatment outcome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E33-6541-4CC7-81BA-A0F79DD4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CAF-4904-45EC-AFC6-07779826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7B4-C494-4C97-8032-CA1D9268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44C-37B3-41C1-9D60-D5BF95A9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5990-27F4-48A0-86D0-2931BA18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5ECA-EE85-433D-9D6F-36BA3DDE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3A8D-FFA6-4683-8161-90D1B150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3822-04BB-4AEC-A629-B8436E61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C50C-DA10-44E6-BCAD-013A1384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7617-C4E5-4B3B-B9A6-06207C56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3357-5586-4544-B44F-49F04960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010-6AC3-486A-98E9-7855A709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3F2B-28DB-40A6-9A43-8B55ED57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7EB1-6454-417A-9154-2F705BEC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8B18-1EE2-4FEE-A146-EDA7679D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3AAE-E907-4194-B01C-6A0FCD35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9291-41F7-4954-BBB4-450B56AF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396-2463-4F47-831B-46A7EC50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F28-63AD-4542-A5CF-B28ADF33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B50-52B1-4F1D-957D-7F64694F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28A-2472-48D3-93CC-194A6296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083-9954-400A-A4B2-57EB7B08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D4E9-0FDE-4FD9-AD40-66D9D70F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8EA-92DA-49CA-9957-2C5C8C58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05480" y="4680"/>
            <a:ext cx="18998280" cy="27381240"/>
            <a:chOff x="-9105480" y="4680"/>
            <a:chExt cx="18998280" cy="273812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48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054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3944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8C30-228B-4EAE-871E-60ECB23AD2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01562120" y="1463760"/>
            <a:ext cx="186315840" cy="21589560"/>
            <a:chOff x="-101562120" y="1463760"/>
            <a:chExt cx="186315840" cy="21589560"/>
          </a:xfrm>
        </p:grpSpPr>
        <p:sp>
          <p:nvSpPr>
            <p:cNvPr id="45" name=""/>
            <p:cNvSpPr/>
            <p:nvPr/>
          </p:nvSpPr>
          <p:spPr>
            <a:xfrm>
              <a:off x="3544200" y="2709720"/>
              <a:ext cx="636156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01562120" y="1463760"/>
              <a:ext cx="18631584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40292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E489-CB9A-4393-A9CB-29B2524056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404640"/>
            <a:ext cx="900108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FATM Coordination at country level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paration for Round 5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80880" y="2276280"/>
            <a:ext cx="67323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support for GF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structural element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TB activities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880" y="18446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SimSun"/>
              </a:rPr>
              <a:t>Estimated costing of the exercise in two phases: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0520" y="1484280"/>
          <a:ext cx="8785080" cy="4794120"/>
        </p:xfrm>
        <a:graphic>
          <a:graphicData uri="http://schemas.openxmlformats.org/drawingml/2006/table">
            <a:tbl>
              <a:tblPr/>
              <a:tblGrid>
                <a:gridCol w="2666880"/>
                <a:gridCol w="741240"/>
                <a:gridCol w="1355760"/>
                <a:gridCol w="204840"/>
                <a:gridCol w="1079640"/>
                <a:gridCol w="1382760"/>
                <a:gridCol w="13539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1 - Worksh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ra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per di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articip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18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acilita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3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Conference facilities at WH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ffee bre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,0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lation (English, French, Spanis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9,96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ocuments production, station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$ </a:t>
                      </a: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165,554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9800" y="620640"/>
            <a:ext cx="8753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2 – Country Visit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0160" y="1252440"/>
          <a:ext cx="9505800" cy="1641600"/>
        </p:xfrm>
        <a:graphic>
          <a:graphicData uri="http://schemas.openxmlformats.org/drawingml/2006/table">
            <a:tbl>
              <a:tblPr/>
              <a:tblGrid>
                <a:gridCol w="1357200"/>
                <a:gridCol w="814320"/>
                <a:gridCol w="1647720"/>
                <a:gridCol w="1195560"/>
                <a:gridCol w="1273320"/>
                <a:gridCol w="1569960"/>
                <a:gridCol w="164772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ult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ge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,00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0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5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6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80000" y="3141720"/>
            <a:ext cx="83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We are not charging countries in which WHO staff already exist and will assis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5840" y="4149720"/>
            <a:ext cx="8915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vering workshop costs already raised with partn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untry missions still sou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333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52833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5240" y="52833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3,035,8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9480" y="52833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4160" y="52833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1 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3680" y="5283360"/>
            <a:ext cx="1320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5283360"/>
            <a:ext cx="8938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967280"/>
            <a:ext cx="177948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45240" y="4967280"/>
            <a:ext cx="16351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,618,3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9480" y="4967280"/>
            <a:ext cx="135576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160" y="4967280"/>
            <a:ext cx="14353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46497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240" y="46497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67,850,1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9480" y="46497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4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54160" y="46497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3680" y="4649760"/>
            <a:ext cx="13204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4649760"/>
            <a:ext cx="8938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0360" y="433224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5240" y="433224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,414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9480" y="433224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4160" y="433224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4016520"/>
            <a:ext cx="177948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45240" y="4016520"/>
            <a:ext cx="16351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15,020,9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480" y="4016520"/>
            <a:ext cx="135576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4160" y="4016520"/>
            <a:ext cx="14353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5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33680" y="4016520"/>
            <a:ext cx="13204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4016520"/>
            <a:ext cx="8938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69900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0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45240" y="369900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4,762,7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9480" y="369900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54160" y="369900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338148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7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338148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6,425,4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9480" y="338148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4160" y="338148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3680" y="3381480"/>
            <a:ext cx="13204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800" y="3381480"/>
            <a:ext cx="8938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2013120"/>
            <a:ext cx="1779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B % of all approved 2-year funding 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5240" y="2013120"/>
            <a:ext cx="16351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2-yea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funding for T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(US $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2013120"/>
            <a:ext cx="135576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TB%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l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13120"/>
            <a:ext cx="14353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SimSun"/>
              </a:rPr>
              <a:t>*</a:t>
            </a: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33680" y="2013120"/>
            <a:ext cx="1320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ot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800" y="2013120"/>
            <a:ext cx="8938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Rou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800" y="1486080"/>
            <a:ext cx="8420040" cy="52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Summary of GFATM approvals, rounds 1-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 components and Amount of fund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800" y="14860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56008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5984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800" y="20131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800" y="33814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36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41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94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524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800" y="40165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4160" y="369900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46497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33224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800" y="52833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4160" y="496728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880" y="11984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5877000"/>
            <a:ext cx="8712360" cy="7038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* TB/HIV component refers to stand alone proposals only. TB/HIV activities received approval in 28 countries in total,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he majority as part of a TB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4520" y="1906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In R4, countries receiving TA missions that lasted fewer than five days had a lower success rate (30%) than those that lasted five days or more (64%).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WHO assisted in 35 countries, with overall success rate of 49%; w/out WHO assistance success rate was 14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B control expenditure in HBCs too low: US$ ~850 million in 2002, vs. estimated US$ 976 – sum required to reach 70% case detection by 200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By end 2003, the GFATM approved grants (for up to 5yrs) of US$ 608 million for TB, and US$ 319 million for TB/HIV, in 56 countr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First 2yrs total is US$ 294 million for TB, and US$ 90 million for TB/HIV, but only 16% had been disbursed by end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880" y="148428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753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paration for GFATM Round 5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20040" cy="478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termine, in collaboration with WHO ROs and technical partners, the list of countries intending to 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tch those countries with appropriate individuals to provide technical assist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ld a workshop in Nov '04 to brief the persons assisting countries in all elements to consider when preparing a propos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rganize country visits, where needed, by those assisting countr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880" y="112536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5800" y="457200"/>
            <a:ext cx="918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untries intending to appl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6000" y="1628640"/>
            <a:ext cx="969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R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swana, Cap Verde, Comoros, DR Congo, Congo, Equatorial Guinea, Eritrea, Gabon, Gambia, Ghana, Mozambique, Niger, Nigeria, São Tomé and Principe, Senegal, SA, Tanzania, Zimbab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ze, Brazil, Guatemala, Mexico, Suri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ran, Morocco, Su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ania, Armenia, Azerbaijan, Belarus, Bosnia and Herzegovina, Bulgaria, Kazakhstan, Macedonia, Turkey, Turkmenistan, 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a, Indonesia, Bangladesh, Myanmar, Thailand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P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odia, Pacific Islands, PNG (?), Philippines, Viet 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9528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0160" y="404280"/>
            <a:ext cx="875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1413000"/>
            <a:ext cx="8915400" cy="4797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va, 22 – 26 Nov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e WG with people from all technical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weekly mee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acilitator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/STB (conceptual framewor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FATM (procedures, guidelines, appl. fo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rtfolio managers (case stud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520" y="119700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8880" y="404640"/>
            <a:ext cx="875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1484280"/>
            <a:ext cx="8915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nt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s on conceptu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FATM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5 guidelines and application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udget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 of cas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successes and fail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19700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8880" y="260280"/>
            <a:ext cx="892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880" y="1052640"/>
            <a:ext cx="9360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444600" indent="-4446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Development of a conceptual framework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to provide a guide to countries that want to consider including a particular technical area in the proposal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Range of components/activities and their ration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Suggested budget lines by activ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Costing to be determined at country-leve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Flowchart with logical sequence of ev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Main process indicat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orking tool for NTPs (…and TRP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99072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88640"/>
            <a:ext cx="8969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SimSun"/>
              </a:rPr>
              <a:t>Technical Areas for TB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580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Advocacy and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expa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Plus and GL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rug Resistance 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Monitoring &amp; E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lobal Dru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Laboratory serv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Involving all health car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National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2:50:58Z</dcterms:created>
  <dc:creator>Dr. Giuliano Gargioni</dc:creator>
  <dc:description/>
  <dc:language>en-US</dc:language>
  <cp:lastModifiedBy>diazv</cp:lastModifiedBy>
  <dcterms:modified xsi:type="dcterms:W3CDTF">2004-10-08T15:40:23Z</dcterms:modified>
  <cp:revision>47</cp:revision>
  <dc:subject/>
  <dc:title>Training</dc:title>
</cp:coreProperties>
</file>