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3ED9F-96FB-46BA-904F-B98CA41A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0C17-5C20-44A4-AB2F-61A4FE90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39B78-80FE-4437-9F58-96FDAADA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A244-A2B0-40B3-9C88-570FF0B4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3E82-0419-4A48-9FDD-6215E5EC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0F9E-B1F5-4B01-97CE-898A5548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2896-850E-49F4-93CE-CD3BDF43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F7AE-70C0-42ED-B7B0-EA564C65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C5B7-7D34-4A79-BDC2-9B971EC5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56D6-DED6-486B-9CEA-6257842F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CBCA-397E-45FD-8AE2-117DF329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A5DBB-EA5B-46A3-88A9-F46A3C1C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4633-AF7E-4EB0-911D-ECB40EAB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5D01-70E4-4384-BC2A-64F4D25E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1AC4-0530-494F-9E59-00B89DC8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D7CD-8962-406A-B204-C9A92FEB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42B9-C159-4B6A-BAF4-01AD3F46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84F40-0AE6-4635-9E24-A47979B4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5766-1326-44FC-95B5-4157FBBB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9DDF6-C78A-4E22-97FB-BA1EC93A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3483-90E0-4B68-8FAA-5E848BB1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16D34-E7BB-4420-AE4D-96C246FD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C25AF-F4E7-4CF5-A195-A7107829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9D752-CACB-46D1-9398-ED997AEC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A2E4-0469-4B9D-A33F-5739FCA3608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9214-113B-44B4-9B43-5B5896974A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: Short summa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hael L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ctober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ild political will for achieving the MD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 people's actions in holding their governments accountable to the Millennium P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ampaig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with coalitions and partnerships in 3 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ssroots advoc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and public awar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icy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partners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rth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arliamentarian Network of WB's Implementation Watch, MDG organizations in USA, UK, Italy, Spain, Ireland, 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SO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xfam, Amnesty Int'l, Trade Justice Movement, Social Watch, Civicus, Global Campaign for Education, People's Health Movement, World AIDS Campaign, Save the Children, Global Movement for Children, Plan Inter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aith-based Group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Caritas, Cidse, Micah Challenge, Vatican Commission Justicia &amp; Pax, World Parliament for Relig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 BBC Trust, All Africa.com, EFE, IPS, On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ve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Barcelona Forum, Rome Marathon, Olympics, Rock in 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Events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N Heads of State meeting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G8 meeting with development and MDGs focus, Jun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ha Round: Global Week of Action (Apr 05), Ministe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eeting (Dec 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inancing for achieving the MDGs: Lula/Chirac summit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uth-South and North-South linkages linked to World Social Forum and other initia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gagement with Stop TB Partn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gh-level meetings with STB Global Ambassador Rahman in NYC, Apr 04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mpaign Director Salil Shetty to address IUATLD world conference in Paris, Oct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ahman to participate in India national MDG campaign meeting, Nov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DG Campaign regional partners and in selected countries  to mobilize for WTBD, Mar 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9:05:18Z</dcterms:created>
  <dc:creator>luhanm</dc:creator>
  <dc:description/>
  <dc:language>en-US</dc:language>
  <cp:lastModifiedBy>luhanm</cp:lastModifiedBy>
  <dcterms:modified xsi:type="dcterms:W3CDTF">2004-10-11T16:14:43Z</dcterms:modified>
  <cp:revision>2</cp:revision>
  <dc:subject/>
  <dc:title>MDGs Campaign: Short summary</dc:title>
</cp:coreProperties>
</file>