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6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84F6-59A1-4630-8FBF-ADAA5779B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S for the Health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acting demands of TB control prompt us to consider it even from the perspective of the patient, his/her relatives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ay realize the need for a partnership between the H.S.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rinciples may guide this partnershi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DOTS coverage in 1995, yet, poor treatment outcome ind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BD33-25BF-46EC-9950-686D1AC6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E518-8B93-48C0-B5B0-725EB75A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9844-6D7C-473E-AC0D-0C64BB61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46E6-FEDF-42EC-817E-759EA0C4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775A-D1A6-41BA-B3DD-AC4EF21C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A291-A3C6-478E-9C8D-0DBF3D5E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42A6-E070-42BB-A4B8-6FD099B8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5337-5BD3-42FC-8496-73A12631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B722-6C99-4A61-B55A-0DC636AF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FB3E-CAFB-4D6C-A1CB-16E30C91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9981-5F2A-4D3E-941D-337CB51D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244B-D93E-4738-B7BA-76839A33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B049-EF83-475B-9591-9ABF583C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D953-43E9-4EE6-9393-10189CCF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3610-5B53-4778-950F-1CD18953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96D3-9919-467C-8FBB-90601825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FEFF-08D4-48AA-8C8F-E84312DD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9BF6-78DF-4F0F-B2D2-57B2170C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41DD-AD6C-46C0-BEFB-01F4AC55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A01B-6C46-49BD-A24B-6BDF749C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A388-BC5F-4E94-AFC8-96F830FC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35EB-6B54-45E8-ACE2-2F53042B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8FD6-CA39-4775-B4FD-929E9B11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AFF2-3EF7-4698-92D4-7D21D87B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05480" y="4680"/>
            <a:ext cx="18998280" cy="27381240"/>
            <a:chOff x="-9105480" y="4680"/>
            <a:chExt cx="18998280" cy="27381240"/>
          </a:xfrm>
        </p:grpSpPr>
        <p:sp>
          <p:nvSpPr>
            <p:cNvPr id="1" name=""/>
            <p:cNvSpPr/>
            <p:nvPr/>
          </p:nvSpPr>
          <p:spPr>
            <a:xfrm>
              <a:off x="5836320" y="1585800"/>
              <a:ext cx="405648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1054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3944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1983-3D10-46BB-9218-B6048216B1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101562120" y="1463760"/>
            <a:ext cx="186315840" cy="21589560"/>
            <a:chOff x="-101562120" y="1463760"/>
            <a:chExt cx="186315840" cy="21589560"/>
          </a:xfrm>
        </p:grpSpPr>
        <p:sp>
          <p:nvSpPr>
            <p:cNvPr id="45" name=""/>
            <p:cNvSpPr/>
            <p:nvPr/>
          </p:nvSpPr>
          <p:spPr>
            <a:xfrm>
              <a:off x="3544200" y="2709720"/>
              <a:ext cx="636156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101562120" y="1463760"/>
              <a:ext cx="18631584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148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40292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BC62-DE98-4F9D-8CB3-629EA1AD23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5440" y="404640"/>
            <a:ext cx="9001080" cy="13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GFATM Coordination at country level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eparation for Round 5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80880" y="2276280"/>
            <a:ext cx="6732360" cy="26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king support for GF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a structural element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STB activities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8880" y="18446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SimSun"/>
              </a:rPr>
              <a:t>Estimated costing of the exercise in two phases: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60520" y="1484280"/>
          <a:ext cx="8785080" cy="4794120"/>
        </p:xfrm>
        <a:graphic>
          <a:graphicData uri="http://schemas.openxmlformats.org/drawingml/2006/table">
            <a:tbl>
              <a:tblPr/>
              <a:tblGrid>
                <a:gridCol w="2666880"/>
                <a:gridCol w="741240"/>
                <a:gridCol w="1355760"/>
                <a:gridCol w="204840"/>
                <a:gridCol w="1079640"/>
                <a:gridCol w="1382760"/>
                <a:gridCol w="135396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1 - Worksh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N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ra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d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per di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articipa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18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Facilita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3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4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Conference facilities at WHO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ffee brea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,09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7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ranslation (English, French, Spanis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9,96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ocuments production, statione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$ </a:t>
                      </a: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165,554</a:t>
                      </a: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9800" y="620640"/>
            <a:ext cx="87534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2 – Country Visit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00160" y="1252440"/>
          <a:ext cx="9505800" cy="1641600"/>
        </p:xfrm>
        <a:graphic>
          <a:graphicData uri="http://schemas.openxmlformats.org/drawingml/2006/table">
            <a:tbl>
              <a:tblPr/>
              <a:tblGrid>
                <a:gridCol w="1357200"/>
                <a:gridCol w="814320"/>
                <a:gridCol w="1647720"/>
                <a:gridCol w="1195560"/>
                <a:gridCol w="1273320"/>
                <a:gridCol w="1569960"/>
                <a:gridCol w="164772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a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sult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rge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unt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,00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0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5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60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180000" y="3141720"/>
            <a:ext cx="83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SimSun"/>
              </a:rPr>
              <a:t>We are not charging countries in which WHO staff already exist and will assis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5840" y="4149720"/>
            <a:ext cx="89154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vering workshop costs already raised with partn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untry missions still sough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333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80360" y="52833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45240" y="52833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3,035,87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89480" y="52833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0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4160" y="52833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1 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33680" y="5283360"/>
            <a:ext cx="1320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9800" y="5283360"/>
            <a:ext cx="8938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967280"/>
            <a:ext cx="177948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45240" y="4967280"/>
            <a:ext cx="16351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,618,3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89480" y="4967280"/>
            <a:ext cx="135576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54160" y="4967280"/>
            <a:ext cx="14353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80360" y="46497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45240" y="46497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67,850,15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89480" y="46497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4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54160" y="46497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33680" y="4649760"/>
            <a:ext cx="13204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9800" y="4649760"/>
            <a:ext cx="8938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80360" y="433224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45240" y="433224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,414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89480" y="433224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4160" y="433224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4016520"/>
            <a:ext cx="177948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45240" y="4016520"/>
            <a:ext cx="16351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15,020,9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89480" y="4016520"/>
            <a:ext cx="135576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4160" y="4016520"/>
            <a:ext cx="14353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5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33680" y="4016520"/>
            <a:ext cx="13204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9800" y="4016520"/>
            <a:ext cx="8938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80360" y="369900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0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45240" y="369900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4,762,73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89480" y="369900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54160" y="369900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80360" y="338148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7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45240" y="338148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6,425,4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89480" y="338148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54160" y="338148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3680" y="3381480"/>
            <a:ext cx="13204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800" y="3381480"/>
            <a:ext cx="8938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2013120"/>
            <a:ext cx="1779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B % of all approved 2-year funding 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45240" y="2013120"/>
            <a:ext cx="16351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2-yea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funding for T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(US $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2013120"/>
            <a:ext cx="135576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TB%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l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component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54160" y="2013120"/>
            <a:ext cx="14353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SimSun"/>
              </a:rPr>
              <a:t>*</a:t>
            </a: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33680" y="2013120"/>
            <a:ext cx="1320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ot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800" y="2013120"/>
            <a:ext cx="8938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Roun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800" y="1486080"/>
            <a:ext cx="8420040" cy="527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Summary of GFATM approvals, rounds 1-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 components and Amount of fundin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800" y="14860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800" y="56008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80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5984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800" y="20131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800" y="33814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336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541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894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4524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803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9800" y="40165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54160" y="369900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800" y="46497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54160" y="433224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800" y="52833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54160" y="496728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8880" y="11984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1960" y="5877000"/>
            <a:ext cx="8712360" cy="70380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* TB/HIV component refers to stand alone proposals only. TB/HIV activities received approval in 28 countries in total,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he majority as part of a TB propos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04520" y="1906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In R4, countries receiving TA missions that lasted fewer than five days had a lower success rate (30%) than those that lasted five days or more (64%).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 WHO assisted in 35 countries, with overall success rate of 49%; w/out WHO assistance success rate was 14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B control expenditure in HBCs too low: US$ ~850 million in 2002, vs. estimated US$ 976 – sum required to reach 70% case detection by 200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By end 2003, the GFATM approved grants (for up to 5yrs) of US$ 608 million for TB, and US$ 319 million for TB/HIV, in 56 countr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First 2yrs total is US$ 294 million for TB, and US$ 90 million for TB/HIV, but only 16% had been disbursed by end 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8880" y="148428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8520" y="404640"/>
            <a:ext cx="8753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eparation for GFATM Round 5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4520" y="1557360"/>
            <a:ext cx="8420040" cy="478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termine, in collaboration with WHO ROs and technical partners, the list of countries intending to app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tch those countries with appropriate individuals to provide technical assista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old a workshop in Nov '04 to brief the persons assisting countries in all elements to consider when preparing a propos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rganize country visits, where needed, by those assisting countrie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8880" y="112536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15800" y="457200"/>
            <a:ext cx="918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untries intending to apply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6000" y="1628640"/>
            <a:ext cx="969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FR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tswana, Cap Verde, Comoros, DR Congo, Congo, Equatorial Guinea, Eritrea, Gabon, Gambia, Ghana, Mozambique, Niger, Nigeria, São Tomé and Principe, Senegal, SA, Tanzania, Zimbab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ize, Brazil, Guatemala, Mexico, Surin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M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ran, Morocco, Sud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bania, Armenia, Azerbaijan, Belarus, Bosnia and Herzegovina, Bulgaria, Kazakhstan, Macedonia, Turkey, Turkmenistan, Ukra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A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a, Indonesia, Bangladesh, Myanmar, Thailand (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P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mbodia, Pacific Islands, PNG (?), Philippines, Viet N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29528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60160" y="404280"/>
            <a:ext cx="8753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1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88520" y="1413000"/>
            <a:ext cx="8915400" cy="4797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neva, 22 – 26 Nov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re WG with people from all technical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weekly mee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acilitators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/STB (conceptual framework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FATM (procedures, guidelines, appl. fo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ortfolio managers (case stud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0520" y="119700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8880" y="404640"/>
            <a:ext cx="875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8880" y="1484280"/>
            <a:ext cx="8915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ont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s on conceptual frame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GFATM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5 guidelines and application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Budget pre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 of case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(successes and failur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8880" y="119700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8880" y="260280"/>
            <a:ext cx="8928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2880" y="1052640"/>
            <a:ext cx="93600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444600" indent="-44460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Development of a conceptual framework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to provide a guide to countries that want to consider including a particular technical area in the proposal</a:t>
            </a: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Range of components/activities and their ration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Suggested budget lines by activ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Costing to be determined at country-level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Flowchart with logical sequence of ev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Main process indicato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orking tool for NTPs (…and TRP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99072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5440" y="188640"/>
            <a:ext cx="8969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  <a:ea typeface="SimSun"/>
              </a:rPr>
              <a:t>Technical Areas for TB: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15800" y="90792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Advocacy and commun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expan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Plus and GL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rug Resistance Surveil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Monitoring &amp; Evalu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lobal Drug Fac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Laboratory servic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Involving all health care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National Partn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7T12:50:58Z</dcterms:created>
  <dc:creator>Dr. Giuliano Gargioni</dc:creator>
  <dc:description/>
  <dc:language>en-US</dc:language>
  <cp:lastModifiedBy>diazv</cp:lastModifiedBy>
  <dcterms:modified xsi:type="dcterms:W3CDTF">2004-10-08T15:40:23Z</dcterms:modified>
  <cp:revision>47</cp:revision>
  <dc:subject/>
  <dc:title>Training</dc:title>
</cp:coreProperties>
</file>