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226C-8B6F-41AE-9212-9E55E736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E162-6348-417C-A3B2-3204CA68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948A-4C5F-4B21-B1F6-DFE5C1A9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6D76-ECC8-451A-9CCF-81C84E48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2D61-4AC7-465D-80E5-E7271886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E07-4CF5-4C1D-AB93-A1625C49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6634-308A-4FC6-AFC2-61CE9B23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F77C-A361-408D-A2EE-00B0A0C2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CE64-7982-4C14-80CA-8391F38C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60AC-A511-48A4-A87F-6ED27035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AD67-29F6-4256-9A0A-78CA51F8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7729-E6A1-4516-AA69-ECD061BA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869B-755A-42F3-AC53-A076480A4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1341000"/>
            <a:ext cx="7632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approved Financial Policy being applied which led to better control through  improved financial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transactions of GDF streaml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Working Groups given resources to catalyse thei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lk of the contributions from Bilateral Government sources-85.5% of the total income of US$13.8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total expenditure of US$10.8 million TB Control Drugs cost 78% while other partnership activities cost 23% of the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ed income for the whole year US$23.1 million, projected expenditure US$ 23.6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ed shortfall for 2005 25 million based on Targeted Work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rted effort to be made for mobilising more resources by targeting more donors in the current donor segments and by exploring new donor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ed catalytic support to all Working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 draft of the Global Plan to control TB to provide overall business plan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with GFATM to become clo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and Communication effort to be intensified considerable to increase political support and enhance public awarenes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8:56:30Z</dcterms:created>
  <dc:creator>vijaya</dc:creator>
  <dc:description/>
  <dc:language>en-US</dc:language>
  <cp:lastModifiedBy>vijaya</cp:lastModifiedBy>
  <dcterms:modified xsi:type="dcterms:W3CDTF">2004-10-04T09:49:34Z</dcterms:modified>
  <cp:revision>6</cp:revision>
  <dc:subject/>
  <dc:title>Highlights</dc:title>
</cp:coreProperties>
</file>