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A44-3132-4934-A058-BFD6ACFD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D04-5FCB-414A-B926-567EFFA8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7E2A-BE58-4E1D-B8E1-2971A85F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A6D-E86C-417A-B081-B79F6E12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7A4E-275D-4CF0-835A-B84EAFEE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AA86-9CDE-4819-A6B3-830966C1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9298-28F7-4A7C-A815-339BE9D4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C72-26DD-4B49-80B1-01402C93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EB1C-8D86-4877-9A32-F8CE53EE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CD61-1E13-486F-BEFB-978F56F8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9B5C-596B-4994-B0B2-123A647E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7BA1-53C3-46A6-8FA2-CB65CF1B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519A-8E5F-4EAE-8EDE-E9C99FD0B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0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Meeting of chairpersons of Working Groups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aturday 16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3516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view of progress in developing the Global Plan 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ntribution of Working Groups to the Global Plan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ime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120" y="162864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ime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8120" y="765000"/>
            <a:ext cx="84549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– March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scenarios and inter-active planning process with Working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ach WG should identify a focal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 – May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by each Working Group of workplan, 2006-2015, guided by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- Jun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nalisation of Global Plan, 2006-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take-home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29:12Z</dcterms:modified>
  <cp:revision>93</cp:revision>
  <dc:subject/>
  <dc:title>Africa: HIV is driving the TB epidemic TB notification rates, 1980-1998</dc:title>
</cp:coreProperties>
</file>