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663600" cy="983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7731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874800" y="738000"/>
            <a:ext cx="4914720" cy="368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66720" y="4670280"/>
            <a:ext cx="53294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7731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8FD2B-715E-4A0F-B19C-620DF24ADA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7731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9CA89-897D-4674-85FB-F8C1470B22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-3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-3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7731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888480" y="4670280"/>
            <a:ext cx="48848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37731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85B36-60D7-4A36-A244-A2A7F0B7FE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-3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-3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7731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888480" y="4670280"/>
            <a:ext cx="48848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37731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847F8-0FCE-4563-8EF8-C35048E63A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-3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-3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7731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888480" y="4670280"/>
            <a:ext cx="48848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37731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4BDB8-FD7A-45E4-B93F-2690608B3F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-3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-3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7731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888480" y="4670280"/>
            <a:ext cx="48848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37731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13055-E17C-4AEE-A715-4D51E23C6D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-3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-3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7731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888480" y="4670280"/>
            <a:ext cx="48848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37731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3FD81-A9ED-438E-B37F-831F6DEF44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-3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-3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7731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888480" y="4670280"/>
            <a:ext cx="48848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37731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560F5-F600-443E-A891-CAF5FCB11E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-3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-3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7731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888480" y="4670280"/>
            <a:ext cx="48848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DC2ED-42D4-40FF-8874-F48B7B71C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ED0C2-9A4C-4C5E-A718-320E2F480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CC11B-8472-49E5-8F4A-24BBAA82C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E34F8-833E-4E22-B573-DB661FF04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44271-CFD0-4645-A48E-FABE0A0B8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D03F2-5F0C-46C8-80EB-1C2F3887F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6F0D3-4A2B-4094-B409-2FD89788F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58D49-0BF4-432D-970C-035FFDCEC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8106B-BCE8-43A7-BF1A-153DE3645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47770-81CE-4BCE-8194-FA6516E51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7935D-3218-42C5-B3B6-A54117BEE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FBC12-6C20-46A3-9D07-7835B85DC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DC572-2522-4D5B-A232-843CAE705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8BB53-3572-4A8B-9815-9078A0A5C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5D3B9-DD2E-4A72-9AC7-7865F983A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4E365-A43A-45D0-8A59-005E1580E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62ECB-0EF8-4F7C-82F9-B5C289870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C70DA-8556-4453-96D3-66227C23E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E2A18-07CD-4105-963E-9F035F85A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163D8-EA7E-485D-B55F-A0A7F4FB4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A2C27-480E-4301-882B-EA95D812F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2F566-9E80-4D46-804E-BEE21F865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498E6-9C2A-4D11-BD11-0B0CDCF3D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42A12-8EF2-43B0-86DB-50231798A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90B57-47DA-4D14-90AA-85CF82C4133E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4306B-8A54-4FAF-8817-5901CD3FECDE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72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323640" y="1483920"/>
            <a:ext cx="806436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cc"/>
                </a:solidFill>
                <a:latin typeface="Tahoma"/>
                <a:ea typeface="宋体"/>
              </a:rPr>
              <a:t>Resource Mobilisation Action Plan </a:t>
            </a:r>
            <a:endParaRPr b="1" lang="en-US" sz="3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cc"/>
                </a:solidFill>
                <a:latin typeface="Tahoma"/>
                <a:ea typeface="宋体"/>
              </a:rPr>
              <a:t>2004-2005</a:t>
            </a:r>
            <a:endParaRPr b="1" lang="en-US" sz="3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  <a:ea typeface="宋体"/>
              </a:rPr>
              <a:t>Irene Koek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  <a:ea typeface="宋体"/>
              </a:rPr>
              <a:t> 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Chair 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Resource Mobilisation Task Force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Stop TB Partnership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7th Coordinating Board Meeting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14 October 2004 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Beijing, China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280" y="189000"/>
            <a:ext cx="5329440" cy="95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Background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78920" y="1412640"/>
            <a:ext cx="8713800" cy="489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Based on the 2003 Resource Mobilisation Strategy and modified to reflect changes in the environment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Seeks to generate resources for the Partnership as a whole and the Secretariat-management programs in particular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Need: US$3.77 billion for the Partnership as a whole and US$40.6 million for the programs managed directly by the Secretariat (GDF, working groups, etc.)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9280" y="189000"/>
            <a:ext cx="5400720" cy="95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Action Plan Objectives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78920" y="1412640"/>
            <a:ext cx="8713800" cy="489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Develop a set of support structures and formal processes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Ensure donors recognise the challenge of TB control and give high priority to supporting Stop TB Partnership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Increase flow of resources from the existing supporters of the Stop TB Partnership in a timely manner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Develop new fund-raising products and approach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9280" y="189000"/>
            <a:ext cx="5400720" cy="95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Objective 1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79280" y="1412640"/>
            <a:ext cx="8964720" cy="489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402fc"/>
                </a:solidFill>
                <a:latin typeface="Arial"/>
              </a:rPr>
              <a:t>Develop a set of support structures &amp; formal processe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71136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Complete baseline information on donors and resources contributed by them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Establish strategic alliance between Stop TB and other development oriented institutions/initiativ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2" marL="1422360" indent="-50796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Arial"/>
              </a:rPr>
              <a:t>RBM, UNAIDS, GFATM etc.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Re-examine and revamp the Resource Mobilisation Directory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Use internet for fund raising</a:t>
            </a: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50560" y="189000"/>
            <a:ext cx="5329080" cy="95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Objective 2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78920" y="1412640"/>
            <a:ext cx="8713800" cy="489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402fc"/>
                </a:solidFill>
                <a:latin typeface="Arial"/>
              </a:rPr>
              <a:t>Increase donors recognition &amp; support for the Stop TB Partnership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Collaborate with the Communication and Advocacy working group to develop a global communication strategy that has fund raising as an integral part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9280" y="189000"/>
            <a:ext cx="5329440" cy="95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Objective 3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79280" y="1412640"/>
            <a:ext cx="8964720" cy="504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402fc"/>
                </a:solidFill>
                <a:latin typeface="Arial"/>
              </a:rPr>
              <a:t>Increase resource flow from the existing supporters in a timely manner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Build support from bilateral government donor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Develop closer ties with GFATM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Cultivate support from the EU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Identify several private foundations/commercial enterprises to engage as new supporters and donor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Establish links with fraternal organisations like the Rotary International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90000"/>
              </a:lnSpc>
              <a:spcBef>
                <a:spcPts val="2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Explore the possibility of securing the support of high net worth individuals</a:t>
            </a:r>
            <a:r>
              <a:rPr b="1" lang="en-GB" sz="800" spc="-1" strike="noStrike">
                <a:solidFill>
                  <a:srgbClr val="72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9280" y="189000"/>
            <a:ext cx="5400720" cy="95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Objective 4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79280" y="1412640"/>
            <a:ext cx="8569440" cy="43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2396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402fc"/>
                </a:solidFill>
                <a:latin typeface="Arial"/>
              </a:rPr>
              <a:t>Develop new fund raising products and approache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72396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723960" indent="-72396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Determine the type of products that will appeal to       donors and that will make the case clearly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23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23960" indent="-72396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Explore cause-related marketing with some large multinational enterpris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23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23960" indent="-72396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Explore the concept of planned giving for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23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high-net worth individual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903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903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9280" y="189000"/>
            <a:ext cx="5400720" cy="95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Recommendations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8785440" cy="496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720000"/>
                </a:solidFill>
                <a:latin typeface="Arial"/>
              </a:rPr>
              <a:t>Convert the Resource Mobilisation Task Force into and </a:t>
            </a:r>
            <a:r>
              <a:rPr b="1" i="1" lang="en-GB" sz="2000" spc="-1" strike="noStrike">
                <a:solidFill>
                  <a:srgbClr val="720000"/>
                </a:solidFill>
                <a:latin typeface="Arial"/>
              </a:rPr>
              <a:t>ad hoc</a:t>
            </a:r>
            <a:r>
              <a:rPr b="1" lang="en-GB" sz="2000" spc="-1" strike="noStrike">
                <a:solidFill>
                  <a:srgbClr val="720000"/>
                </a:solidFill>
                <a:latin typeface="Arial"/>
              </a:rPr>
              <a:t> advisory group available to the Secretariat and the Board on an as needed basis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720000"/>
                </a:solidFill>
                <a:latin typeface="Arial"/>
              </a:rPr>
              <a:t>Operationalise the Resource Mobilisation Action Plan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1066680" indent="-6094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Arial"/>
              </a:rPr>
              <a:t>Allocate responsibilities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1066680" indent="-6094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Arial"/>
              </a:rPr>
              <a:t>Agree a sequenced schedule of work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1066680" indent="-6094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Arial"/>
              </a:rPr>
              <a:t>Agree a time line with all concerned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1066680" indent="-6094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Arial"/>
              </a:rPr>
              <a:t>Agree on resources to be allocated for the plan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1066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720000"/>
                </a:solidFill>
                <a:latin typeface="Arial"/>
              </a:rPr>
              <a:t>Execute the Action Plan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720000"/>
                </a:solidFill>
                <a:latin typeface="Arial"/>
              </a:rPr>
              <a:t>Update the plan based on a feedback in November 2005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3T15:56:53Z</dcterms:created>
  <dc:creator>Robert Hernandez</dc:creator>
  <dc:description/>
  <dc:language>en-US</dc:language>
  <cp:lastModifiedBy>vijaya</cp:lastModifiedBy>
  <dcterms:modified xsi:type="dcterms:W3CDTF">2004-10-21T14:44:33Z</dcterms:modified>
  <cp:revision>33</cp:revision>
  <dc:subject/>
  <dc:title>Financial situation,  Budget &amp; plans 2005</dc:title>
</cp:coreProperties>
</file>