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CEA2-4485-4CF7-A982-09AF28DF7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B216-385D-4B42-9708-39AB06AF5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6E15-4169-4DA2-A3BE-61869A829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CD00-FB55-4151-9EAF-14B5561ED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AB006-4FB2-4E41-9D8C-B1D0D7902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C202E-0296-4AD6-BD71-EEF2F2055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DACA5-756B-43E3-8750-4C26CDAF6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DEB9A-F39F-4420-BDC1-39288F942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BD9D4-1E3D-4E3B-B191-1DFB9055E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0E517-5577-47E3-89EC-EB70CB1B3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5B4F5-CE45-41A7-91B2-05FFC0C5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B34F-B4E8-44F9-8495-F4730CCDB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0F3EC-18E9-4FD1-9D5B-EFB12D72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C0CFB-36F2-4E10-B658-1EBBE9B5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9F7BF-F4AD-4AE6-99AB-1B14146E9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C8A9B-09C8-4B3A-84FF-D88A3C518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7369F-A1CB-483E-BCBD-853838964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E1BD-F608-447C-9110-B011CABA5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D5AC-ED3F-42AA-B3AD-804766048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FD73-21B1-4EAA-9A79-998825279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4E57-B9E7-44F5-9651-338EBB9C1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EE44-54D0-42A2-821D-FB2C58BD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32B4-FD98-499D-8F48-B29C32CB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03F0-15B4-42A0-B328-613879DC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6F98A-245C-4F0C-8AAD-ACC4B262626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B8A8E-FFC7-4E40-8DDE-9D9FEFE2B24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twork for Action on TB and Poverty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3931920"/>
            <a:ext cx="84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Arial"/>
              </a:rPr>
              <a:t>Promote access to DOTS and TB contro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Arial"/>
              </a:rPr>
              <a:t>programmes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hat is the Network Action on TB and Poverty ?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-360" y="1557360"/>
            <a:ext cx="8893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A platform for TB control and Poverty experts to create a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synergy for coordinated action in support of poor countri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08440" indent="-221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Action and output oriented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551960" indent="-2214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Tahoma"/>
              </a:rPr>
              <a:t>Increase case detection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3" marL="1551960" indent="-2214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Tahoma"/>
              </a:rPr>
              <a:t>Increase cure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2" marL="1108440" indent="-221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Evidence and performance based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08440" indent="-221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Linking TB control with global and local poverty alleviation initiative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Managed by th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National Tuberculosis Programme of Malawi, in conjunction with the local NGO Reach Trust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Active participation from the DOTS Expansion Working Group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Why do we need ..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15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istribution of TB is higher among the poor than the non poor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 algn="just">
              <a:lnSpc>
                <a:spcPct val="12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Not easy access for the poor to health services due to: 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 algn="just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athways to diagnosis of TB patients extended due to repeated visits to different care providers, regardless of socio-economic statu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 algn="just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The poor spend proportionally more on accessing TB diagnosi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 algn="just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The poor are sometimes actively excluded from TB service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OTS can help to fight poverty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ro-poor access to DOTS helps reaching the TB targets of case finding and cure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Network Operations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2004-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640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gage key stakeholders to promote action on TB and Poverty prioritising the AFRO reg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rican case studies will be presented at the IUATLD Pari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eting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ster research to inform TB control operations and polic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vocate pro-poor approaches using DOTS and link up with other initiatives and funding (e.g. Fidelis)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Network Product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2004-2005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novative pro-poor approaches in DOTS applied in countr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O Guide on TB and Poverty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licy framework for mainstreaming of poverty in TB control in countr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&amp;E on poverty mainstreaming in countr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erational research on demand from countr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nks and exchanges with other health equity initiativ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ponds to the demand from countries on how to mainstream TB poverty in DOTS and TB control programmes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rmative paper on TB and Poverty as policy guiding tool and practical roadmap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s strategic and practical guidance to countri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WHO Guide on TB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nd Poverty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Future Plans 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780120" indent="-780120">
              <a:lnSpc>
                <a:spcPct val="100000"/>
              </a:lnSpc>
              <a:spcBef>
                <a:spcPts val="700"/>
              </a:spcBef>
              <a:spcAft>
                <a:spcPts val="3501"/>
              </a:spcAft>
              <a:buClr>
                <a:srgbClr val="ff3300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aunching the WHO guide on TB and Poverty for NTP manager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80120" indent="-780120">
              <a:lnSpc>
                <a:spcPct val="100000"/>
              </a:lnSpc>
              <a:spcBef>
                <a:spcPts val="700"/>
              </a:spcBef>
              <a:spcAft>
                <a:spcPts val="3501"/>
              </a:spcAft>
              <a:buClr>
                <a:srgbClr val="ff3300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panding TB Poverty related activities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80120" indent="-780120">
              <a:lnSpc>
                <a:spcPct val="100000"/>
              </a:lnSpc>
              <a:spcBef>
                <a:spcPts val="700"/>
              </a:spcBef>
              <a:spcAft>
                <a:spcPts val="3501"/>
              </a:spcAft>
              <a:buClr>
                <a:srgbClr val="ff3300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acilitate representation for the network to the other working group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80120" indent="-780120">
              <a:lnSpc>
                <a:spcPct val="100000"/>
              </a:lnSpc>
              <a:spcBef>
                <a:spcPts val="700"/>
              </a:spcBef>
              <a:spcAft>
                <a:spcPts val="3501"/>
              </a:spcAft>
              <a:buClr>
                <a:srgbClr val="ff3300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mote special features on TB and Poverty at national/regional meetings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80120" indent="0">
              <a:lnSpc>
                <a:spcPct val="100000"/>
              </a:lnSpc>
              <a:spcBef>
                <a:spcPts val="700"/>
              </a:spcBef>
              <a:spcAft>
                <a:spcPts val="35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Nils Billo</cp:lastModifiedBy>
  <cp:lastPrinted>2004-03-17T17:37:17Z</cp:lastPrinted>
  <dcterms:modified xsi:type="dcterms:W3CDTF">2004-10-14T00:25:33Z</dcterms:modified>
  <cp:revision>176</cp:revision>
  <dc:subject/>
  <dc:title>Secretariat, 2003 Progress Report</dc:title>
</cp:coreProperties>
</file>