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0F7-B22E-442A-80A1-524B3C8B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E2D-1DEC-4295-9297-EF5B3AE8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B8F9-1CEF-44FF-AF1D-73682E8E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162-22A8-4802-B503-0A8AE60C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961F-8E39-47EF-A2C2-F93448E3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999-0EF3-42FE-A870-4CC61338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BAC-E43D-4059-9B3F-D7960561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F13B-9A55-41D2-8F4D-31FA8FA2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E88C-0FCD-40E9-92D4-BD19DE66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5A37-CCF9-494D-8B84-DDB8B935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626-FC0F-4632-A4B9-4E91E2C7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58A-3926-4C0A-8A28-F95A75A2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240F-1328-426A-AD92-60C0EA711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hen to launch the Global Pl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120" y="1125360"/>
            <a:ext cx="87058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nerate media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ow how the Global Plan responds to calls to achieve the 2015 TB control targets (World Health Assembly resolution May 2005, UNGASS on MDGs 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tween WHA (May 2005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UNGASS (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ld TB Day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op TB Partners' Forum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provide a pre-publication version at UNGASS and launch the document  in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Who can champion the Global Pl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8120" y="1125360"/>
            <a:ext cx="8705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osed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o Stop TB?</a:t>
            </a:r>
            <a:br>
              <a:rPr sz="3600"/>
            </a:br>
            <a:br>
              <a:rPr sz="48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19700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5 (World Health Assemb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tect 70% of smear-positiv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reat successfully 85% of all such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15 (Millennium Development Go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crease TB prevalence and deaths by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ement of the impact targets (prevalenc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deaths) depends on sustained achievement of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rocess targets (case detection and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su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 global plan: 2000-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cribed mechanisms, activities and resources needed to accelerate progress towards 200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s of action of 6 Stop TB working gr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-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B/H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c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76832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mbers of steering committ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12536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Adeyi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Ahmed (Bangladesh Rural Advancement Committ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Freire (Alliance for TB drug develo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Omaswa (Ministry of Health, Uga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Shah (National TB Programme, Pakist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5:51Z</dcterms:modified>
  <cp:revision>91</cp:revision>
  <dc:subject/>
  <dc:title>Africa: HIV is driving the TB epidemic TB notification rates, 1980-1998</dc:title>
</cp:coreProperties>
</file>