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BA6C-9AFD-43E1-89B9-C3AD360D9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re competitive and uncertain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cording to the Bank, health ODA in 2002 is about $ 8.1 bill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iven new health funding initiatives (GFATM, PEPFAR, MCA ), health funding is expected to continue to rise in the coming years BUT there is no grante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around 80 global health initiatives at this mo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/AIDS is drawing the most significant atten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caling up resource mobilization eff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have to do more – The estimated financial gap for Stop TB is about $25 million in 2005 and getting wider in the coming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eting the overall MDG needs requires an annual ODA average of $156 billion from 2005 through 2007 and $188 billion from 2013 through 2015. (In 2003, the total amount of ODA worldwide was $68 bill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uilding public trust and confidence on the Partn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ublic and donor expectation is high and multidimensional, including an ethical aspect of performa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ay down a set of basic princip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aim to set out minimum principles for establishing system-wide standards for resource mobilization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municate with all stakeholder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are a mean to communicate with our beneficiaries, partners, donors, supporters, and all other stakeholders to promote a better understanding of the Stop TB resource mobilization operation.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sure resource mobilization is mission-driven and aligned with the Partnership's vision and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 a quality-control and accountability promotion measu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aim to hold our resource mobilization effort to a higher quality standard and establish it in a wider framework of the mission, vision, and values of the Stop TB Partnership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e must be accountable not only financially but also technically: be accountable for utilising the resources entrusted to it for achieving stated results and goal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cooperation with the Resource Mobilization Task Force, the Donation review committee will monitor the implementation of the Guidelines at the Secretariat level.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view committee will be composed of 3-4 members from a community of our stakehold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imary functions are twofold: To review donation practice at the Secretariat; and to monitor and evaluate the overall implementation process for further improv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ugh a detailed implementation plan has to be prepared later, some of the key actions we need to take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disseminate the Guidelines for comments and "buy-in" from partners engaged in resource mobilization with potential TA from the Secre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prepare a TOR for the Donation Review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circulate the Guidelines to a wider groups of stakeholders and pee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C2A6-FD05-40F0-93BD-48D557248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5C8B-500D-4AEA-B5EA-3ABEA014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D592-06A1-49A0-8E6F-3F28331E6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D50C-D839-4DB1-A079-EEA0BF4BF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BB20-A693-4F48-886C-921085C08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EA93-C0EC-4363-926E-4D016A57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C395-AEAC-4EB4-8D55-6717400E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C6B2-D224-431E-BD03-BD707499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DD28-9958-458A-B647-FA60DE7F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BF22-1C2E-471D-BD31-E0F2F540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5BEC-9B06-42B0-A2AA-69BC2AF6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FA55-0D24-444F-BA75-C24C8375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BFA2-764E-40D0-A09F-E04865B6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1780-2E4F-4116-A69E-F84E7A58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0A7C-68E9-4340-9F16-6EBA9042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357B-E1FB-44AA-ADE9-A8DE5F674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4504-8CBC-4CF2-9EE2-8D767CC1D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A0E2-3623-4963-A3F7-CE53D8AA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313E-45B2-45FE-A175-CFAB5E68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A988-0728-47F0-A841-5628128E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CF35-BFFB-46EA-B445-07DAB9E1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D8CC-24BB-4452-AF23-B2DB581F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9127-64DA-4051-B656-828A6136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F89B-F986-4C07-BC68-A4EFEE89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EC3F-24AF-4B38-90F6-2BF21E4AF99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DEB4-30B5-466D-A817-F34660B591B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713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</a:rPr>
              <a:t>Ethical Guidelines for Resource Mobilization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宋体"/>
              </a:rPr>
              <a:t>Irene Koe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sation Task Forc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Need for Guidelin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Purpos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Key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Implementation and Review Proces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What are Next Steps?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Need for Guidelin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quested by Coordinating Bo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mand for accountability and transparency  from regulatory bodies and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More competitive and uncertain environ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Scaling up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More donors from the existing donor seg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w Donor Segment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uilding public trust and confidence on the Partnership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urpose of Ethical Guidelin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Lay down a set of readily understood basic principl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municate the agreed principles that underpin resource mobilisation to all stakeholders  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resource mobilization i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mission-drive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ligned to Partnership valu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Key Principles of Ethical Guidelin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iance with legal requirements in countries where resources are being mobilis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 donations from profits resulting from illegal activities or from products that contribute to lung diseas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maining within the scope of the mandate of the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Key Principles of Ethical Guidelines (Contd.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mislead with incorrect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o be open in all activities and address any conflict of intere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over, or understate the situation with respect to financial requirements or the burden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WHO guidelines for donations in kind, drug donations and working with the Private Sec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view Committe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small, flexible review committee to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Provide advice on acceptance of contributions from new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eview the guidelines on a routine basis and make recommendations to the Coordinating Board for further rev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commendations for the Coordinating Board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 the guidelin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pply the endorsed guidelines with immediate effec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irculate the Guidelines to those involved in resource mobilisation and peer bod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vijaya</cp:lastModifiedBy>
  <dcterms:modified xsi:type="dcterms:W3CDTF">2004-10-21T14:43:00Z</dcterms:modified>
  <cp:revision>70</cp:revision>
  <dc:subject/>
  <dc:title>Slide 1</dc:title>
</cp:coreProperties>
</file>