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AC37-F236-424B-9584-6FDCD6BE0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you can see, some very practical improvements in TB control have been achieved through the work of the GD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me just highlight that 100 country evaluations is an amazing amount of work for a small t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evaluations are one of the reasons why the GDF should not be thought of as another drug wholesal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ountry receiving grants is examined to ensure they are able to use the drugs properly and then examined to ensure they did use the drugs proper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process any area of weakness in the programme is identified and appeals made, on behalf of the country, to technical partners for help in making improv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untry ends up with a better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961D-312A-47D3-8ACA-687101F7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7F13-653D-4321-889E-05D5AAD8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51D5-DC57-4435-900E-41D50E05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0069-7EAE-4586-80F2-63BEB88B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B735-31D7-44E5-AB4E-40EF2501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6367-3153-4A2C-886B-D2276960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02E-F2EC-48F1-A75D-19E39CC8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65CD-C18B-4282-8177-2458A364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A5B9-CBCB-401C-953F-A4F10DF5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B524-AFB3-4FB3-9208-D06DED8A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24F-6574-458B-A9F5-01AC27E1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B96C-A3F6-41A2-9355-CF9365E7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650C-0BB2-4347-A002-02F620AD0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5280" y="260280"/>
            <a:ext cx="83883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gs delivered t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5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untrie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llion pat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evaluations organized by GDF/STB Partn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TS Coverage - average increas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DF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ity -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8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recipients increased expenditure on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- Average drug cost per patient: ~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$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urement -  lead time met fo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7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cou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batches passed independent Q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164360" y="4005360"/>
          <a:ext cx="1830240" cy="22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4005360"/>
                    <a:ext cx="183024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971640" y="404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GDF Achiev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Arial"/>
              </a:rPr>
              <a:t>GDF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Maintain the Gai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coverage, program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price, quality an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Fill new g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transitional grants, non-traditional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vide new servi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ediatrics, diagnostics, expanded monit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Improve Drug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2005 Training in AFRO, SEARO, EMRO,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1:49:27Z</dcterms:created>
  <dc:creator>evansp</dc:creator>
  <dc:description/>
  <dc:language>en-US</dc:language>
  <cp:lastModifiedBy>heitkampp</cp:lastModifiedBy>
  <dcterms:modified xsi:type="dcterms:W3CDTF">2004-10-04T13:46:13Z</dcterms:modified>
  <cp:revision>9</cp:revision>
  <dc:subject/>
  <dc:title>Slide 1</dc:title>
</cp:coreProperties>
</file>