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7A0B3-AFA8-41D3-B605-6892057AD8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4704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12129-6D81-4576-8017-2409F3943D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E02B2-B31E-4991-9A56-6AE60B7D4C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3D51B-A6DA-4105-960D-B2E2CFA166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97113-0670-4A65-999A-3BC8F7B527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4704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2C7C1-1294-45A9-8029-C0C193669E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4383B-6D31-49B6-BC96-B8E24BC227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6E834-73B5-49B4-B032-527F88A6BA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F9B0F-6699-42A3-B28A-195A9D5943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6AECA-4168-4939-A1BE-E9C06114FD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8A4EE-5FD0-4AFE-A9A9-E8CCD750A4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B67A6-0A58-431C-8986-1208CB1ABB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124000" y="6237000"/>
            <a:ext cx="5688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op TB Coordinating Board Meeting, Beijing 14 – 15 October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459280" y="6308280"/>
            <a:ext cx="52236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#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op TB Coordinating Board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eijing 14 – 15 October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High Level Missions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4506480"/>
            <a:ext cx="748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A tool of the STB Coordinating Board  for political advoca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roposed procedures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Secretariat prepares, based on the request, the draft Terms of Referen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HLM members finalise and the Chair of CB approves the Terms of Referen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Secretariat prepares with the host the detailed program, press events and provides logistical liais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Host is responsible for actual program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HLM rapporteur prepares joint report after the visit to full CB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HLM members report back to their respective constituenc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Discussion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Expanded Purpose of HLM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Not only just TB burden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Includes international and global governance attendan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easible number of HLMs per yea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Selection of HLM members based on constituenc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Preparation by secretariat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Reporting and feed back to constituenc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Who will pay for the expenses?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urposes of High Level Mission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General: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o represent the Global Stop TB Partnership (incl. its component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o enhance the profile of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o advocate effective TB control using international standards and strateg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o highlight Stop TB achievement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Specific</a:t>
            </a: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o generate additional support for TB control and DOTS among key decision mak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o obtain political commit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High Level Missions to go where….?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TB burden countri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regional and international meetings with relevant agenda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regional, international or global political governance entiti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new governmental donor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(global) summit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Why High Level Missions in the international and global arena?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demonstrate the global solidarity of Stop TB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increase awareness about TB contro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put TB on the relevant political agenda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generate political and macro-economic interests, resulting in additional funding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50560" y="1557360"/>
            <a:ext cx="87138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S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me NTPs meet specific constraints beyond their influence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Why High Level Missions to countries?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3141720"/>
            <a:ext cx="38163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5330880"/>
            <a:ext cx="3745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2175120"/>
            <a:ext cx="28796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w priority for T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w TB allocation in bud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ing with other programs and part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780000" y="2176200"/>
            <a:ext cx="4824360" cy="26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Lack of political aware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Lack of political commi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4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Health policy indif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Lack of social aware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he underlying proces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42160" cy="36734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When meeting and discussing with the key politicians and decision makers, the crucial issues of TB control are presented from an </a:t>
            </a: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international and global perspective.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he issues are likely to be taken more seriously and with a different dimension than if it comes from a lower level voice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5584320"/>
            <a:ext cx="8642160" cy="581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Using high level political peer pres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What happened up till now?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High Level Missions to countries </a:t>
            </a:r>
            <a:r>
              <a:rPr b="1" i="1" lang="en-GB" sz="3200" spc="-1" strike="noStrike">
                <a:solidFill>
                  <a:srgbClr val="720000"/>
                </a:solidFill>
                <a:latin typeface="Tahoma"/>
              </a:rPr>
              <a:t>only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 like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Indonesia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Bangladesh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Nigeria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Participation on basis of individual interest and availability of CB member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No prior Terms of Reference or briefing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No reporting back to the Coordinating Board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Proposal: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Making High Level Missions effectiv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Decis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CB decides on HLMs based on substantiated requests from countries or partners and selects </a:t>
            </a:r>
            <a:r>
              <a:rPr b="1" i="1" lang="en-GB" sz="2000" spc="-1" strike="noStrike">
                <a:solidFill>
                  <a:srgbClr val="720000"/>
                </a:solidFill>
                <a:latin typeface="Tahoma"/>
              </a:rPr>
              <a:t>constituencies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 to participat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Prepar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Prepare TOR and determine expected outcome and results; detailed programm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Detailed briefing document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Actual visi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Being open, sensitive, constructive and diplomatic; demonstrate joint purpose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Reportin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Joint report with conclusions and recommendations to the full Coordinating Boar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roposed procedures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CB invites HLM members based on their respective </a:t>
            </a:r>
            <a:r>
              <a:rPr b="1" i="1" lang="en-GB" sz="3200" spc="-1" strike="noStrike">
                <a:solidFill>
                  <a:srgbClr val="720000"/>
                </a:solidFill>
                <a:latin typeface="Tahoma"/>
              </a:rPr>
              <a:t>constituency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 and allows for a representative to participat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Secretariat participates in the HLM with one high level staff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HLM members agree on a spokesperson and a rapporteur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diazv</cp:lastModifiedBy>
  <cp:lastPrinted>2004-03-17T17:37:17Z</cp:lastPrinted>
  <dcterms:modified xsi:type="dcterms:W3CDTF">2004-10-07T17:02:39Z</dcterms:modified>
  <cp:revision>176</cp:revision>
  <dc:subject/>
  <dc:title>Secretariat, 2003 Progress Report</dc:title>
</cp:coreProperties>
</file>