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426F9-645A-4F37-8207-A4AEB4DE4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54733-CD83-4F7B-8A79-50E543DB7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61073-15B0-4BD2-941A-ACADA1640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E38D0-3B58-44E7-81B4-CFCFA5A22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862D8-B54B-40E1-9098-4353BADCB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FC027-3379-40D5-8CF9-19F1A442D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E023B-6921-466E-A0C7-D2EDA4535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F8E3D-C116-466F-B169-3B96BAACE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B3747-3476-4572-8759-A694A5EE0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157E3-74E4-4D27-A949-0B4ACDEA5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10621-3FE3-4334-AFFE-BDFB4DE3E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317C7-A4A3-42F8-B8D3-BFD9B4B5E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DE14C-89EB-4084-BC98-625348DA8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5D22A-EF0B-480E-8EF0-6A5354D49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B811C-552A-4494-A8E2-DCA2BE2CD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845AF-0AE4-41FE-AE02-316CF65B4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76F02-150F-48FD-9C04-CD5F02272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5BAAF-5923-41AE-B142-0F9E8059A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D9A1E-BED7-45D4-9547-A8F13BC7E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33546-1DC2-4F85-BF90-78B985999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507A0-DD4A-42EA-8DF8-D258AED45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745B7-72D0-4F9C-B904-B2D30CEF8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8222B-AEAF-4676-9C0A-4AF56AC40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4014D-37D7-44BD-A2CF-B6D2C3085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F2CB2-BA69-4715-965C-FA4A1028B9C6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07EE4-6E01-473B-9799-8FBEA6CBD14C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72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324000" y="2276640"/>
            <a:ext cx="8496000" cy="32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cc"/>
                </a:solidFill>
                <a:latin typeface="Tahoma"/>
                <a:ea typeface="宋体"/>
              </a:rPr>
              <a:t>Highlights 2004 &amp; Priorities 2005: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  <a:ea typeface="宋体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  <a:ea typeface="宋体"/>
              </a:rPr>
              <a:t>National partnerships, TB &amp; Poverty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  <a:ea typeface="宋体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Tahoma"/>
                <a:ea typeface="宋体"/>
              </a:rPr>
              <a:t>Second Global Plan to Stop TB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  <a:ea typeface="宋体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Tahoma"/>
                <a:ea typeface="宋体"/>
              </a:rPr>
              <a:t>Global TB Drug Facility (GDF)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  <a:ea typeface="宋体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Tahoma"/>
                <a:ea typeface="宋体"/>
              </a:rPr>
              <a:t>Advocacy &amp; Communication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  <a:ea typeface="宋体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Tahoma"/>
                <a:ea typeface="宋体"/>
              </a:rPr>
              <a:t>Finances &amp; Resources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6877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Advocacy and Communication Priorities end-2004 and 2005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850752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Activate Advocacy and Communication Working Group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Intensify advocacy efforts in Canada, Japan, USA, UK, European Union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Increase funding for TB and TB/HIV in Round 5 of GFATM and incorporate AC activities into key HBC proposals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Catalyze AC activities with HIV/AIDS groups to accelerate uptake of TB/HIV collaborative activities at country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Conduct 4 regional AC needs assessments/trainings (AMRO, AFRO, EURO, WPRO) and 4 at country level (Brazil, Indonesia, Pakistan, Uganda)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533520" y="4038480"/>
            <a:ext cx="48765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380880" y="1371240"/>
            <a:ext cx="8367840" cy="50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10" name=""/>
          <p:cNvSpPr/>
          <p:nvPr/>
        </p:nvSpPr>
        <p:spPr>
          <a:xfrm>
            <a:off x="3419640" y="1989000"/>
            <a:ext cx="1295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50920" y="1413000"/>
            <a:ext cx="8424720" cy="46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CB approved Financial Policy being applied which led to better control through  improved financial management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Financial transactions of GDF streamlin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All Working Groups given resources to catalyse their wo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Bulk of the contributions from Bilateral Government sources-85.5% of the total income of US$13.8mill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title"/>
          </p:nvPr>
        </p:nvSpPr>
        <p:spPr>
          <a:xfrm>
            <a:off x="-360" y="-360"/>
            <a:ext cx="53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Financial Performance &amp; Resource Administration 2004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533520" y="4038480"/>
            <a:ext cx="48765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380880" y="1371240"/>
            <a:ext cx="8367840" cy="50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3419640" y="1989000"/>
            <a:ext cx="1295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50920" y="1413000"/>
            <a:ext cx="8424720" cy="46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Bulk of the contributions from Bilateral Government sources-85.5% of the total income of US$13.8mill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Of the total expenditure of US$10.8 million, TB Control Drugs cost 78%, while other partnership activities cost 22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Projected income for the whole year US$23.1 million, projected expenditure US$ 23.6 million (as per the Operational Work pla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-360" y="-360"/>
            <a:ext cx="53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Financial Performance and Resource Administration 2004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3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Financial Performance and Resource Administration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Highlights 2005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"/>
          <p:cNvSpPr/>
          <p:nvPr/>
        </p:nvSpPr>
        <p:spPr>
          <a:xfrm>
            <a:off x="2627280" y="1341360"/>
            <a:ext cx="424836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79280" y="1484280"/>
            <a:ext cx="864072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Projected shortfall for 2005 is US$25 million based on Targeted Workpl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Concerted effort to be made for mobilising more resources b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Arial"/>
              </a:rPr>
              <a:t>targeting more donors in the current donor segment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Arial"/>
              </a:rPr>
              <a:t>exploring new donor segment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Arial"/>
              </a:rPr>
              <a:t>developing new resource mobilisation produc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Continued catalytic support to all Working Group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Closer ties with GFAT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4419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Partnership &amp; Poverty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79280" y="1557360"/>
            <a:ext cx="8964720" cy="475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2440" indent="-352440"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Establishment Secretariat of the Network for Action on TB and Poverty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901800" indent="-370080">
              <a:spcBef>
                <a:spcPts val="499"/>
              </a:spcBef>
              <a:buClr>
                <a:srgbClr val="ff99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A platform for TB control and opportunity for Poverty experts to create a synergy for coordinated action in support of countries and the poor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52440" indent="-352440"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WHO Guide for NTP managers on TB and Poverty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901800" indent="-370080">
              <a:spcBef>
                <a:spcPts val="451"/>
              </a:spcBef>
              <a:buClr>
                <a:srgbClr val="ff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720000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720000"/>
                </a:solidFill>
                <a:latin typeface="Tahoma"/>
              </a:rPr>
              <a:t>In response to the demand from countries, endorsed by the STAG and DEWG, WHO spearheads this normative publication on how to mainstream pro-poor approaches in DOTS and TB control programmes 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52440" indent="-352440"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National Partnerships: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901800" indent="-370080">
              <a:spcBef>
                <a:spcPts val="499"/>
              </a:spcBef>
              <a:buClr>
                <a:srgbClr val="ff9900"/>
              </a:buClr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Stop TB Pakistan (April '04)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901800" indent="-370080">
              <a:spcBef>
                <a:spcPts val="499"/>
              </a:spcBef>
              <a:buClr>
                <a:srgbClr val="ff9900"/>
              </a:buClr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Stop TB Mexico (Sept '04)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Partnership &amp; Poverty 2005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8785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4600" indent="-444600"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National Partnerships to Stop TB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901800" indent="-277920"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Uganda, Brazil, Russian Federation, (France, Croatia)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444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444600" indent="-444600"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Launching the WHO guide on TB and Poverty for NTP manager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444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444600" indent="-444600"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Expanding TB Poverty related activities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444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444600" indent="-444600"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(Sub-)Regional Partnerships: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901800" indent="-277920"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EURO :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2" marL="1957320" indent="-609480">
              <a:buClr>
                <a:srgbClr val="ff9900"/>
              </a:buClr>
              <a:buFont typeface="Wingdings" charset="2"/>
              <a:buChar char="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European Partnership to Stop TB (Stop TB Europe)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2" marL="1957320" indent="-609480">
              <a:buClr>
                <a:srgbClr val="ff9900"/>
              </a:buClr>
              <a:buFont typeface="Wingdings" charset="2"/>
              <a:buChar char="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CAR Sub-Regional Partnership under development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901800" indent="-277920"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SEARO / AFRO : under development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44000" y="138240"/>
            <a:ext cx="44276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Second Global Plan to Stop TB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04920" y="1413000"/>
            <a:ext cx="8659800" cy="486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Tahoma"/>
              </a:rPr>
              <a:t>Progress in first half of 200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85000"/>
              </a:lnSpc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Survey of partners' views on the first Global Pl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85000"/>
              </a:lnSpc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85000"/>
              </a:lnSpc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Development of outline of Global Plan endorsed by Coordinating Boa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85000"/>
              </a:lnSpc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85000"/>
              </a:lnSpc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Establishment of steering committee endorsed by Coordinating Boa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85000"/>
              </a:lnSpc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85000"/>
              </a:lnSpc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Initiation of work to develop scenarios for reaching MDG for T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85000"/>
              </a:lnSpc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85000"/>
              </a:lnSpc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Initiation of work on developing contribution of each Working Group to the Pl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2560" y="138240"/>
            <a:ext cx="4716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Second Global Plan 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to Stop TB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04920" y="141300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Tahoma"/>
              </a:rPr>
              <a:t>Key activities in second half of 2004 and in 2005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Scenarios completed for reaching MDG for TB (epidemiological forecasting and costing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Contributions of each Working Group to the Plan comple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Plan completed, reviewed widely and endorsed by Coordinating Boa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Plan finalised and published in time for UN summit on MDGs, September 200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Tahoma"/>
              </a:rPr>
              <a:t>GDF Achievements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0" y="1413000"/>
            <a:ext cx="87487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20000"/>
                </a:solidFill>
                <a:latin typeface="Tahoma"/>
              </a:rPr>
              <a:t>Drugs delivered to </a:t>
            </a:r>
            <a:r>
              <a:rPr b="1" lang="en-US" sz="2400" spc="-1" strike="noStrike">
                <a:solidFill>
                  <a:srgbClr val="ff9900"/>
                </a:solidFill>
                <a:latin typeface="Tahoma"/>
              </a:rPr>
              <a:t>51</a:t>
            </a:r>
            <a:r>
              <a:rPr b="1" lang="en-US" sz="2400" spc="-1" strike="noStrike">
                <a:solidFill>
                  <a:srgbClr val="720000"/>
                </a:solidFill>
                <a:latin typeface="Tahoma"/>
              </a:rPr>
              <a:t> countries </a:t>
            </a:r>
            <a:r>
              <a:rPr b="1" lang="en-US" sz="2400" spc="-1" strike="noStrike">
                <a:solidFill>
                  <a:srgbClr val="ff9900"/>
                </a:solidFill>
                <a:latin typeface="Tahoma"/>
              </a:rPr>
              <a:t>3.24</a:t>
            </a:r>
            <a:r>
              <a:rPr b="1" lang="en-US" sz="2400" spc="-1" strike="noStrike">
                <a:solidFill>
                  <a:srgbClr val="720000"/>
                </a:solidFill>
                <a:latin typeface="Tahoma"/>
              </a:rPr>
              <a:t> million patients.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Tahoma"/>
              </a:rPr>
              <a:t>100</a:t>
            </a:r>
            <a:r>
              <a:rPr b="1" lang="en-US" sz="2400" spc="-1" strike="noStrike">
                <a:solidFill>
                  <a:srgbClr val="720000"/>
                </a:solidFill>
                <a:latin typeface="Tahoma"/>
              </a:rPr>
              <a:t> country evaluations organized by GDF/STB Partners.</a:t>
            </a: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20000"/>
                </a:solidFill>
                <a:latin typeface="Tahoma"/>
              </a:rPr>
              <a:t>DOTS Coverage - average increase of </a:t>
            </a:r>
            <a:r>
              <a:rPr b="1" lang="en-US" sz="2400" spc="-1" strike="noStrike">
                <a:solidFill>
                  <a:srgbClr val="ff9900"/>
                </a:solidFill>
                <a:latin typeface="Tahoma"/>
              </a:rPr>
              <a:t>20%</a:t>
            </a:r>
            <a:r>
              <a:rPr b="1" lang="en-US" sz="2400" spc="-1" strike="noStrike">
                <a:solidFill>
                  <a:srgbClr val="720000"/>
                </a:solidFill>
                <a:latin typeface="Tahoma"/>
              </a:rPr>
              <a:t> per GDF country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20000"/>
                </a:solidFill>
                <a:latin typeface="Tahoma"/>
              </a:rPr>
              <a:t>Additionality -  </a:t>
            </a:r>
            <a:r>
              <a:rPr b="1" lang="en-US" sz="2400" spc="-1" strike="noStrike">
                <a:solidFill>
                  <a:srgbClr val="ff9900"/>
                </a:solidFill>
                <a:latin typeface="Tahoma"/>
              </a:rPr>
              <a:t>88%</a:t>
            </a:r>
            <a:r>
              <a:rPr b="1" lang="en-US" sz="2400" spc="-1" strike="noStrike">
                <a:solidFill>
                  <a:srgbClr val="720000"/>
                </a:solidFill>
                <a:latin typeface="Tahoma"/>
              </a:rPr>
              <a:t> GDF recipients increased expenditure on TB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20000"/>
                </a:solidFill>
                <a:latin typeface="Tahoma"/>
              </a:rPr>
              <a:t>Cost - Average drug cost per patient: </a:t>
            </a:r>
            <a:r>
              <a:rPr b="1" lang="en-US" sz="2400" spc="-1" strike="noStrike">
                <a:solidFill>
                  <a:srgbClr val="ff9900"/>
                </a:solidFill>
                <a:latin typeface="Tahoma"/>
              </a:rPr>
              <a:t>~$11</a:t>
            </a:r>
            <a:r>
              <a:rPr b="1" lang="en-US" sz="2400" spc="-1" strike="noStrike">
                <a:solidFill>
                  <a:srgbClr val="72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20000"/>
                </a:solidFill>
                <a:latin typeface="Tahoma"/>
              </a:rPr>
              <a:t>Procurement -  lead time met for </a:t>
            </a:r>
            <a:r>
              <a:rPr b="1" lang="en-US" sz="2400" spc="-1" strike="noStrike">
                <a:solidFill>
                  <a:srgbClr val="ff9900"/>
                </a:solidFill>
                <a:latin typeface="Tahoma"/>
              </a:rPr>
              <a:t>77%</a:t>
            </a:r>
            <a:r>
              <a:rPr b="1" lang="en-US" sz="2400" spc="-1" strike="noStrike">
                <a:solidFill>
                  <a:srgbClr val="720000"/>
                </a:solidFill>
                <a:latin typeface="Tahoma"/>
              </a:rPr>
              <a:t> of countries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20000"/>
                </a:solidFill>
                <a:latin typeface="Tahoma"/>
              </a:rPr>
              <a:t>Quality - </a:t>
            </a:r>
            <a:r>
              <a:rPr b="1" lang="en-US" sz="2400" spc="-1" strike="noStrike">
                <a:solidFill>
                  <a:srgbClr val="ff9900"/>
                </a:solidFill>
                <a:latin typeface="Tahoma"/>
              </a:rPr>
              <a:t>All </a:t>
            </a:r>
            <a:r>
              <a:rPr b="1" lang="en-US" sz="2400" spc="-1" strike="noStrike">
                <a:solidFill>
                  <a:srgbClr val="720000"/>
                </a:solidFill>
                <a:latin typeface="Tahoma"/>
              </a:rPr>
              <a:t>GDF batches passed independent QC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7958160" y="5157720"/>
          <a:ext cx="1185840" cy="17002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958160" y="5157720"/>
                    <a:ext cx="1185840" cy="170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Tahoma"/>
              </a:rPr>
              <a:t>GDF Future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20000"/>
                </a:solidFill>
                <a:latin typeface="Tahoma"/>
              </a:rPr>
              <a:t>Maintain the Gains: 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coverage, programme support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price, quality and service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20000"/>
                </a:solidFill>
                <a:latin typeface="Tahoma"/>
              </a:rPr>
              <a:t>Fill new gaps: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transitional grants, non-traditional users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20000"/>
                </a:solidFill>
                <a:latin typeface="Tahoma"/>
              </a:rPr>
              <a:t>Provide new services: 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paediatrics, diagnostics, expanded monitoring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20000"/>
                </a:solidFill>
                <a:latin typeface="Tahoma"/>
              </a:rPr>
              <a:t>Improve Drug Management 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2005 Training in AFRO, SEARO, EMRO, EURO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7812000" y="5084640"/>
          <a:ext cx="1332000" cy="17733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812000" y="5084640"/>
                    <a:ext cx="1332000" cy="177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640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Advocacy and Communication Achievements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50920" y="1557360"/>
            <a:ext cx="44719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720000"/>
                </a:solidFill>
                <a:latin typeface="Tahoma"/>
              </a:rPr>
              <a:t>USA Media Tour, 20-29 Sep 04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Purpose: 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Engage Congress for more TB funding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Increase media attention to TB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Plan full partners meeting for November 2004 for advocacy and legislative action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Developed in collaboration with CB members, RESULTS, ATS, Global Health Council, OSI, Global Alliance for TB Drug Development and other Stop TB partners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42920" y="2205000"/>
            <a:ext cx="40388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Outcomes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720000"/>
                </a:solidFill>
                <a:latin typeface="Tahoma"/>
              </a:rPr>
              <a:t>4 Cities in 7 days—DC,  NYC, Indianapolis and LA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720000"/>
                </a:solidFill>
                <a:latin typeface="Tahoma"/>
              </a:rPr>
              <a:t>5 meetings with Congressional staffers, Rep. Sherrod Brown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720000"/>
                </a:solidFill>
                <a:latin typeface="Tahoma"/>
              </a:rPr>
              <a:t>10 Editorial board meetings or interviews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720000"/>
                </a:solidFill>
                <a:latin typeface="Tahoma"/>
              </a:rPr>
              <a:t>5 Media stories and counting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720000"/>
                </a:solidFill>
                <a:latin typeface="Tahoma"/>
              </a:rPr>
              <a:t>4 Speaking engagements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720000"/>
                </a:solidFill>
                <a:latin typeface="Tahoma"/>
              </a:rPr>
              <a:t>Full US Partners meeting set for 14-15 November 2004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720000"/>
                </a:solidFill>
                <a:latin typeface="Tahoma"/>
              </a:rPr>
              <a:t>Last minute legislative push  planned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6877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Advocacy and Communication Achievements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850752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Tahoma"/>
              </a:rPr>
              <a:t>March-October 2004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720000"/>
                </a:solidFill>
                <a:latin typeface="Tahoma"/>
              </a:rPr>
              <a:t>Media promotion: </a:t>
            </a:r>
            <a:r>
              <a:rPr b="0" lang="en-GB" sz="1800" spc="-1" strike="noStrike">
                <a:solidFill>
                  <a:srgbClr val="720000"/>
                </a:solidFill>
                <a:latin typeface="Tahoma"/>
              </a:rPr>
              <a:t>Major TV and newspaper coverage of MDR-TB report -- Rahman appointment -- Partners Forum/WTBD -- Int'l AIDS Conference -- Lancet report on China --  TB/HIV meeting in Addis Ababa -- USA tour 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720000"/>
                </a:solidFill>
                <a:latin typeface="Tahoma"/>
              </a:rPr>
              <a:t>Global coverage of the Stop TB Partnership, and regional coverage of DOTS expansion in Africa and Asia, are now at their highest levels ever in major media.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720000"/>
                </a:solidFill>
                <a:latin typeface="Tahoma"/>
              </a:rPr>
              <a:t>Advocacy materials: </a:t>
            </a:r>
            <a:r>
              <a:rPr b="0" lang="en-GB" sz="1800" spc="-1" strike="noStrike">
                <a:solidFill>
                  <a:srgbClr val="720000"/>
                </a:solidFill>
                <a:latin typeface="Tahoma"/>
              </a:rPr>
              <a:t>Joint UNAIDS/Stop TB info pack on TB/HIV -- Progress Report on GPSTB -- 25 minute documentary film on BBC World TV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720000"/>
                </a:solidFill>
                <a:latin typeface="Tahoma"/>
              </a:rPr>
              <a:t>Partnership building: </a:t>
            </a:r>
            <a:r>
              <a:rPr b="0" lang="en-GB" sz="1800" spc="-1" strike="noStrike">
                <a:solidFill>
                  <a:srgbClr val="720000"/>
                </a:solidFill>
                <a:latin typeface="Tahoma"/>
              </a:rPr>
              <a:t>Well-established alliances with UNAIDS and HIV/AIDS community -- formation of Advocacy and Communication Working Group.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3T15:56:53Z</dcterms:created>
  <dc:creator>Robert Hernandez</dc:creator>
  <dc:description/>
  <dc:language>en-US</dc:language>
  <cp:lastModifiedBy>heitkampp</cp:lastModifiedBy>
  <dcterms:modified xsi:type="dcterms:W3CDTF">2004-10-05T09:56:54Z</dcterms:modified>
  <cp:revision>11</cp:revision>
  <dc:subject/>
  <dc:title>Financial situation,  Budget &amp; plans 2005</dc:title>
</cp:coreProperties>
</file>