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66EA-1FFE-41B8-8377-8B4A5656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E26-31C7-488D-B23E-45420B97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3C9-93E9-448B-BCDE-6D0ACDC6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E75-3230-48CC-9877-0B3B53ED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9CDF-A9E7-4EB0-BED5-B91216EE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E6CE-728F-4FEF-B21D-0E0B15F1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CFDC-FB2A-42F5-8D50-156BD178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ED2A-65E9-443A-B811-A901F44D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1E30-FEC9-4B54-AB05-F01D3691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7266-61BA-4D4D-ABE4-1CCF17A4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FCB1-F117-447C-BD25-3974FC1B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916-7FC5-43C2-9663-E2BC0B40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571A-F019-452C-8997-1BA7ED26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BC9A-FAF3-4D5F-B9DC-A15E272C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4BD4-B851-4B36-B513-D3DCEB3E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CE53-FDD1-4A9B-A503-46936082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A910-059C-4F7E-8717-5BDDAA59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65E-1794-4F80-91A0-ED821656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72A-25B3-438C-9891-412A5B78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3D1A-1DC4-4C65-B57E-F17216A7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DB3-C07C-406F-B3BA-91B5CFA1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F65-8300-4778-83BE-E25CDA1C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9249-D81B-4B17-BA34-D20949A1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D60-8C37-4947-A4EE-B7478788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142A-3236-4EC1-9248-4B4DD9C7C49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F905-8121-4390-A224-5A5ECD0A66A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for Action on TB and Poverty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93192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mote access to DOTS and TB contr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gramm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is the Network Action on TB and Poverty 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 platform for TB control and Poverty experts to create a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synergy for coordinated action in support of poor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ction and output orient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ase detec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ure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vidence and performance bas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Linking TB control with global and local poverty alleviation initiativ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Managed by t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National Tuberculosis Programme of Malawi, in conjunction with the local NGO Reach Tru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ctive participation from the DOTS Expansion Working Group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Why do we need .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istribution of TB is higher among the poor than the non poo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 algn="just">
              <a:lnSpc>
                <a:spcPct val="12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 easy access for the poor to health services due to: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athways to diagnosis of TB patients extended due to repeated visits to different care providers, regardless of socio-economic statu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spend proportionally more on accessing TB diagno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are sometimes actively excluded from TB servic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OTS can help to fight poverty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o-poor access to DOTS helps reaching the TB targets of case finding and c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twork Operation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age key stakeholders to promote action on TB and Poverty prioritising the AFRO reg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case studies will be presented at the IUATLD Par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ster research to inform TB control operations and poli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te pro-poor approaches using DOTS and link up with other initiatives and funding (e.g. Fidelis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etwork Product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novative pro-poor approaches in DOTS applied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Guide on TB and Poverty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framework for mainstreaming of poverty in TB control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&amp;E on poverty mainstreaming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ional research on demand from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s and exchanges with other health equity initiativ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ponds to the demand from countries on how to mainstream TB poverty in DOTS and TB control programm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tive paper on TB and Poverty as policy guiding tool and practical roadma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s strategic and practical guidance to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O Guide on TB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nd Pover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unching the WHO guide on TB and Poverty for NTP manag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anding TB Poverty related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acilitate representation for the network to the other working group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mote special features on TB and Poverty at national/regional meeting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Nils Billo</cp:lastModifiedBy>
  <cp:lastPrinted>2004-03-17T17:37:17Z</cp:lastPrinted>
  <dcterms:modified xsi:type="dcterms:W3CDTF">2004-10-14T00:25:33Z</dcterms:modified>
  <cp:revision>176</cp:revision>
  <dc:subject/>
  <dc:title>Secretariat, 2003 Progress Report</dc:title>
</cp:coreProperties>
</file>