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8057D-1B08-44BE-8EAC-44F224075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7BD8F-FD4F-49F5-AD71-4D093714C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5ABCD-A675-4893-88D9-A75915302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59B97-1950-4DDE-A04B-2D5A2AFEA3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7118B8-A10E-43F2-B586-0BD1BCA55C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71D798-260B-49D1-92E3-B2346249D4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DFF0F3-DFD3-443B-A98A-9BE42AE1EB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51FC0-CAD5-4D6D-A1AA-BC57170950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F91406-C77F-438F-99A5-6E4A55F51B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6B26F7-4696-4C36-B51C-42A9C2AE5B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5E55E-D178-4E21-B321-4858B01FE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479F9-5F40-410C-811E-6A2347EB8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E98D1-2957-48DC-A4B0-3C97B9EB1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1D0DD-5286-4B68-A676-D4A99F09E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6F4122-715E-4397-AA12-54A679B837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9D3373-468E-48F1-AC00-FCD54370D0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3112F7-EB47-48A5-8D31-58B903F010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CAF53-3068-4240-B190-0DCB25536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0B9F1-B84D-4BBA-8D84-0A7AFD86A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0F384-F2DF-4AEB-B422-F69D99E2B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36670-3D48-486A-91BC-7DF4EFD32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5F0AB-BBC9-4B2A-811E-FF47CF85E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06B4D-2539-493A-A7FF-2B9690142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2CCDD-09CA-4A29-B527-5011115B8D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05720" y="640080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1F7C4-B1B8-4D1A-9A6E-5096F977FFCC}"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5390E-8FD8-46DE-9309-7EF294F6072E}"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916280"/>
            <a:ext cx="7772400" cy="1008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untry Progress</a:t>
            </a:r>
            <a:endParaRPr b="1" lang="en-US" sz="5400" spc="-1" strike="noStrike">
              <a:solidFill>
                <a:srgbClr val="ffffcc"/>
              </a:solidFill>
              <a:latin typeface="Tahoma"/>
            </a:endParaRPr>
          </a:p>
        </p:txBody>
      </p:sp>
      <p:sp>
        <p:nvSpPr>
          <p:cNvPr id="83" name=""/>
          <p:cNvSpPr/>
          <p:nvPr/>
        </p:nvSpPr>
        <p:spPr>
          <a:xfrm>
            <a:off x="395280" y="3444480"/>
            <a:ext cx="8497800" cy="1556280"/>
          </a:xfrm>
          <a:prstGeom prst="rect">
            <a:avLst/>
          </a:prstGeom>
          <a:noFill/>
          <a:ln w="0">
            <a:noFill/>
          </a:ln>
        </p:spPr>
        <p:style>
          <a:lnRef idx="0"/>
          <a:fillRef idx="0"/>
          <a:effectRef idx="0"/>
          <a:fontRef idx="minor"/>
        </p:style>
        <p:txBody>
          <a:bodyPr lIns="90000" rIns="90000" tIns="46800" bIns="46800" anchor="b"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Report from break-out session 1</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08:30 – 12:15                      14 October 2004   </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ISAC</a:t>
            </a:r>
            <a:endParaRPr b="1" lang="en-US" sz="3600" spc="-1" strike="noStrike">
              <a:solidFill>
                <a:srgbClr val="ffffff"/>
              </a:solidFill>
              <a:latin typeface="Tahoma"/>
            </a:endParaRPr>
          </a:p>
        </p:txBody>
      </p:sp>
      <p:sp>
        <p:nvSpPr>
          <p:cNvPr id="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	</a:t>
            </a:r>
            <a:r>
              <a:rPr b="0" lang="en-GB" sz="2800" spc="-1" strike="noStrike">
                <a:solidFill>
                  <a:srgbClr val="720000"/>
                </a:solidFill>
                <a:latin typeface="Tahoma"/>
              </a:rPr>
              <a:t>ISAC is a crucial set of complimentary activities that is needed in countries to meet the increasing demand for technical assistance.</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echnical agencies cannot meet the demands from countries for technical assistance due to shortage of fund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the vital continuity of ISAC funded activities, sustainable long-term funding must be explored, including GFATM.</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for better Advocacy &amp; Communications strategy for ISAC.</a:t>
            </a:r>
            <a:r>
              <a:rPr b="0" lang="en-US" sz="2400" spc="-1" strike="noStrike">
                <a:solidFill>
                  <a:srgbClr val="720000"/>
                </a:solidFill>
                <a:latin typeface="Tahoma"/>
              </a:rPr>
              <a:t> </a:t>
            </a:r>
            <a:endParaRPr b="0" lang="en-US" sz="24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GFATM</a:t>
            </a:r>
            <a:endParaRPr b="1" lang="en-US" sz="3600" spc="-1" strike="noStrike">
              <a:solidFill>
                <a:srgbClr val="ffffff"/>
              </a:solidFill>
              <a:latin typeface="Tahoma"/>
            </a:endParaRPr>
          </a:p>
        </p:txBody>
      </p:sp>
      <p:sp>
        <p:nvSpPr>
          <p:cNvPr id="87" name="PlaceHolder 2"/>
          <p:cNvSpPr>
            <a:spLocks noGrp="1"/>
          </p:cNvSpPr>
          <p:nvPr>
            <p:ph/>
          </p:nvPr>
        </p:nvSpPr>
        <p:spPr>
          <a:xfrm>
            <a:off x="395280" y="1412640"/>
            <a:ext cx="8229600" cy="511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	</a:t>
            </a:r>
            <a:r>
              <a:rPr b="0" lang="en-GB" sz="2800" spc="-1" strike="noStrike">
                <a:solidFill>
                  <a:srgbClr val="720000"/>
                </a:solidFill>
                <a:latin typeface="Tahoma"/>
              </a:rPr>
              <a:t>Proportion of TB among all GFATM successful proposals is stable at 30%, but funds for TB is only 15%. </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sustainable support for countries, technical agencies should negotiate with GFATM and other donors their added value for good proposals and most effective use of fund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Publish a "model" proposal on the web for learn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GFATM's Technical Review Panel (TRP) needs to be informed on new policy and strategie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DOTS Expansion Working Group estimates that approx. USD. 500,000 is needed to provide TA-support to countries for Round 5.</a:t>
            </a:r>
            <a:endParaRPr b="0" lang="en-US" sz="2400" spc="-1" strike="noStrike">
              <a:solidFill>
                <a:srgbClr val="72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TB &amp; Poverty</a:t>
            </a:r>
            <a:endParaRPr b="1" lang="en-US" sz="3600" spc="-1" strike="noStrike">
              <a:solidFill>
                <a:srgbClr val="ffffff"/>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 Poverty focus in TB control must be expanded following the current strategy (Network and WHO Guide).</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Stop TB CB to issue a statement on its long-term commitment for the mainstreaming of poverty related issues in TB control activities.</a:t>
            </a:r>
            <a:endParaRPr b="0" lang="en-US" sz="2400" spc="-1" strike="noStrike">
              <a:solidFill>
                <a:srgbClr val="72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National Partnerships</a:t>
            </a:r>
            <a:endParaRPr b="1" lang="en-US" sz="3600" spc="-1" strike="noStrike">
              <a:solidFill>
                <a:srgbClr val="ffffff"/>
              </a:solidFill>
              <a:latin typeface="Tahoma"/>
            </a:endParaRPr>
          </a:p>
        </p:txBody>
      </p:sp>
      <p:sp>
        <p:nvSpPr>
          <p:cNvPr id="9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National partnerships, created with strong political support, are successful in mobilizing additional resources (both domestic and international).</a:t>
            </a:r>
            <a:endParaRPr b="0" lang="en-US" sz="2800" spc="-1" strike="noStrike">
              <a:solidFill>
                <a:srgbClr val="72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to measure the impact of the STB partnerships in countries, as to justify the costs and efforts.</a:t>
            </a:r>
            <a:endParaRPr b="0" lang="en-US" sz="24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HIV/AIDS programmes and activities must be included in  national partnerships to stop TB.</a:t>
            </a:r>
            <a:endParaRPr b="0" lang="en-US" sz="24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High Level Missions</a:t>
            </a:r>
            <a:endParaRPr b="1" lang="en-US" sz="3600" spc="-1" strike="noStrike">
              <a:solidFill>
                <a:srgbClr val="ffffff"/>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re is need to improve the structure and the procedures for High Level Missions to ensure its optimal strategic benefit for countries and to address decision makers in the global political area.</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Create a CB sub-committee to formulate the procedures for High Level Missions.</a:t>
            </a:r>
            <a:r>
              <a:rPr b="0" lang="en-US" sz="3200" spc="-1" strike="noStrike">
                <a:solidFill>
                  <a:srgbClr val="720000"/>
                </a:solidFill>
                <a:latin typeface="Tahoma"/>
              </a:rPr>
              <a:t> </a:t>
            </a:r>
            <a:endParaRPr b="0" lang="en-US" sz="3200" spc="-1" strike="noStrike">
              <a:solidFill>
                <a:srgbClr val="72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steenbergeng</cp:lastModifiedBy>
  <cp:lastPrinted>2004-03-17T17:37:17Z</cp:lastPrinted>
  <dcterms:modified xsi:type="dcterms:W3CDTF">2004-10-14T14:09:01Z</dcterms:modified>
  <cp:revision>177</cp:revision>
  <dc:subject/>
  <dc:title>Secretariat, 2003 Progress Report</dc:title>
</cp:coreProperties>
</file>