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BC5-721F-49A7-A6FA-759B087C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4DF3-B011-48D8-95B6-01D67777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21F-3B0D-4413-8705-E800BFB7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761-13A4-4087-9B6E-829E8A8E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5A4DA-4E22-411E-A3C7-A01C93F7B5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C41BD-9500-4309-A849-E76E6646E6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B724E-8BBC-4358-B3F3-50B895DA1C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43144-5BAB-4AA3-A325-E4E414FE0E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F4FFE-0F4A-4A47-AD32-F9E0AF945C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14779-7B7A-4947-894F-95991A5B9D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F2C4F-04F4-47BE-8A4E-4B7714CF86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EEC-01FA-4EE7-91E2-351814A9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2133A-E27C-44F6-9B50-0E7219B90F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7E674-9E14-4CC7-9C73-CDCB782A47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59C54-1408-489F-88AF-3F0D53C8AA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A72AC-3139-49F9-B052-57681723E2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DAF3A-82A7-412F-9C2E-6E6B66C75B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C73-2515-4B25-A62B-2AF50359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C33-0CA6-43CE-9307-6938418F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AC6-69EB-4402-8B90-32748BF6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88F-92B9-4517-8774-81FCCF13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687-3732-492E-BEBD-E306E91A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A10-D45A-405F-A22C-13BBEB97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359-3F81-40B0-BFB9-D96A3130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C131-E135-426F-9B9A-D799A8788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99564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956720" y="6453000"/>
            <a:ext cx="730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CB9E-9BEC-4380-9785-4992CE10AF6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6"/>
          </p:nvPr>
        </p:nvSpPr>
        <p:spPr>
          <a:xfrm>
            <a:off x="2700000" y="6165720"/>
            <a:ext cx="38163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High Level Mi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885840"/>
            <a:ext cx="84247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troducing procedures for high level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Dr. Karam S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Dec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opt Guiding Principles for the conduct of High Level 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Review and decide on the HLM calendar of events for 2005 - 200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High Level Mission (H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ing and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IGH LEVEL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gaging prominent partners / (CB members) to represent Stop TB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powerful political advocacy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rnational reputation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fluences key politicians &amp;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reates sustained leverage in support of Stop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aking HLM mor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upport of countries and internation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most appropriate support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most appropriate STB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imely to import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ing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frame work for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 is based on the actual purpose of the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of mission (HoM) is selected by CB on basis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enc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 partnershi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B Partnership Secretariat seni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and HoM draft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orsement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review preferably prior to 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prepares form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prepares confidenti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makes logistics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ctual vis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d of Mission (HoM) assures quality performance and best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attitude and diplomatic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ive image of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ed task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 is HLM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is HLM rappor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Reporting and follow-u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nsensus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conclusions &amp;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-back to 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(s) can be invited to provide follow-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4818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LM Calendar 2005 -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7559640" cy="5981760"/>
        </p:xfrm>
        <a:graphic>
          <a:graphicData uri="http://schemas.openxmlformats.org/drawingml/2006/table">
            <a:tbl>
              <a:tblPr/>
              <a:tblGrid>
                <a:gridCol w="3816360"/>
                <a:gridCol w="1942920"/>
                <a:gridCol w="18003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Summit Kharto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East Asi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Pacific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d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(PEPFAR, Congress, USA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3:59:03Z</dcterms:created>
  <dc:creator>steenbergeng</dc:creator>
  <dc:description/>
  <dc:language>en-US</dc:language>
  <cp:lastModifiedBy>bakerl</cp:lastModifiedBy>
  <dcterms:modified xsi:type="dcterms:W3CDTF">2005-04-27T11:03:42Z</dcterms:modified>
  <cp:revision>3</cp:revision>
  <dc:subject/>
  <dc:title>High Level Missions</dc:title>
</cp:coreProperties>
</file>