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2BB-BA0F-4F7B-9F76-4F735420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917A-5208-4D03-BD47-E2F7BD4A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75F-C744-4169-98DD-5074111C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11E-8EA3-4576-8D4D-783FB5C1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5B4-29A9-48B9-972A-636903B0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071-3B53-4FAB-9865-5A343211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7A5-E9A0-4F6F-87A6-08EFF536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C660-C16B-4B5F-9D0A-8EBFBE43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319-1FE9-4A47-B2B5-2460F639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E9F-90C0-4EA9-901B-EB501507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2B3-800F-46B5-94AA-45EE2269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D5C-8C22-449A-B173-9B0E3054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B97E-344F-42AC-985C-3C39B60BA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-8 Recommended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ly develop more robust number for TB funding need/gap based on GP 2 to be referenced in G-8 Commun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for communique on “closing the funding gap for TB control” and “supporting convening of Emergency African TB Financing Summit and monitoring of implementation of the Road Map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B and NGO support for above to G-8 and other don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 to Ethiopian PM to attend G-8 and  become champion for TB in Africa, make the case for intensified action for TB in Africa and financing the Road M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NGO efforts associated with ActionAid eff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Engagement of World Lea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ational Community—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ear presentation of GP2 resource needs before June—for G-8, GFATM Repl. Mtgs. Fair shares? Country/regional foc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M plan for GP2?????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 ID set of 7-8 RM priority donor countries (and multilaterals) with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 for CB efforts, regular support for NGO country efforts—ID targets, support adv. capacity, media, visits.  Coordinated effort on M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ies of focused advocacy docs from G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ID strategic TB champions and make specific requests—Mandela, Tutu, Sachs. Prioritize global leaders/for a—EU, WB, AU, Other Regional Summ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BC Country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e key HBCs—Africa, other priorities—ID core set of partners for each country, CB missions, NGO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plan for reaching 2-3 national leaders in target HB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for Eco Impact of TB (WB to under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Ev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 Sum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-8 (Ethiopian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. GFATM Replenishment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G Summit—ID some champions for 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F January 2006 release of GP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—op-ed HG/Mand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hs/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5:08:08Z</dcterms:created>
  <dc:creator>Geoff</dc:creator>
  <dc:description/>
  <dc:language>en-US</dc:language>
  <cp:lastModifiedBy>johnsoneb</cp:lastModifiedBy>
  <dcterms:modified xsi:type="dcterms:W3CDTF">2005-05-04T12:45:32Z</dcterms:modified>
  <cp:revision>4</cp:revision>
  <dc:subject/>
  <dc:title>G-8 Recommended Actions</dc:title>
</cp:coreProperties>
</file>