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9E70-66CD-47C5-B931-B8611DE5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9C95-7883-44F8-AA05-B1108A28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96C7-B9C5-4862-934A-06F7275D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399A-3784-4FDE-84EC-0D0658FF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124F-3C53-4DC3-BED0-ACDB3A36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2B86-1E55-4DE4-9455-611FF22C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BDA1-B35F-4D85-B193-9E5549CB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407C-AF50-411E-9F5E-17C5CE5A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85B5-BCFC-4694-829A-03199975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2D6-3063-4AD2-A137-7C012465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1E45-7DC0-4BC9-B4FC-2967B351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0DC8-7FD5-4162-895D-BE1E2F95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6772-BB50-4159-8341-779A40B42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000" y="836280"/>
            <a:ext cx="8820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eeting of the Steering Committee for the Global Plan to Stop TB 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(2006-2015)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2 May 2005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ddis Ababa</a:t>
            </a:r>
            <a:br>
              <a:rPr sz="4400"/>
            </a:br>
            <a:br>
              <a:rPr sz="44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1920"/>
            <a:ext cx="902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ach WG strategic plan </a:t>
            </a:r>
            <a:br>
              <a:rPr sz="4000"/>
            </a:b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– the bottom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75896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o does w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 what co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th what impa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to Stop TB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vision of what we can achieve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timulate research an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Global Plan to Stop TB (2006-2015): who has asked for it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econd ad hoc committee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MDGs Working Group on TB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B 2004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(and WHA 2005)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top TB Partnership Coordinating Boar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Global Plan to Stop TB (2006-2015): who has asked for it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onor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.g. GFATM replenishment meeting, Stockholm, 15-16 March 2005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"better articulation of resource needs to address diseases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 of WG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8120" y="1792440"/>
            <a:ext cx="870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: Coordinating Board requested each WG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 its work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a focal point for this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full engagement of all stakehold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 of WG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o development of pla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contribution of all the WGs is crucial to the successful development and implementation of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Global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Global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enefits for each WG of development of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141300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gages stak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rifies activities in line with strategic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ds prioritis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ies resource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vides a roadmap (activities, targets, timeli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ables monitoring of progress towards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lps resource mobi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eatures of WG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322280"/>
            <a:ext cx="88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ning elements: objectives, targets, indicators, activities, timelines, milestones, budget, M &amp;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plan is informed by epidemiological and cost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gration of activities of different WGs to produce regional sce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Likely format of Global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557360"/>
            <a:ext cx="870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ecutive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s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ing the targets for 2015: global and regional scenarios, R&amp;D scenarios, key strategic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tnership activities to achieve the goal: WG and secretariat strategic plans, with estimated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nitoring and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johnsoneb</cp:lastModifiedBy>
  <cp:lastPrinted>2003-06-23T18:01:16Z</cp:lastPrinted>
  <dcterms:modified xsi:type="dcterms:W3CDTF">2005-05-02T10:48:21Z</dcterms:modified>
  <cp:revision>119</cp:revision>
  <dc:subject/>
  <dc:title>Africa: HIV is driving the TB epidemic TB notification rates, 1980-1998</dc:title>
</cp:coreProperties>
</file>