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9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2.bin" ContentType="application/vnd.openxmlformats-officedocument.oleObject"/>
  <Override PartName="/ppt/embeddings/oleObject3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1404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37BB140-3711-4FF6-82A3-E6F3E310523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19840" y="6324480"/>
            <a:ext cx="18108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848720" y="5867280"/>
            <a:ext cx="609480" cy="581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package" Target="../embeddings/oleObject2.docx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package" Target="../embeddings/oleObject3.docx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668920" y="3881520"/>
            <a:ext cx="30542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Dr Mario Raviglione</a:t>
            </a:r>
            <a:br>
              <a:rPr sz="2000"/>
            </a:b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Director, STB/WH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Addis Abeb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3 May 200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599160" y="5419800"/>
          <a:ext cx="1287720" cy="132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99160" y="5419800"/>
                    <a:ext cx="128772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2346480" y="5472000"/>
            <a:ext cx="930240" cy="968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61120" y="711360"/>
            <a:ext cx="3687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The International Standard for TB Ca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274680" y="1247760"/>
            <a:ext cx="5087880" cy="381636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4520" y="334440"/>
            <a:ext cx="7772400" cy="15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Diagnosis (2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2880" y="195264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Microbiological evaluation (smear </a:t>
            </a:r>
            <a:r>
              <a:rPr b="1" lang="en-GB" sz="2000" spc="-1" strike="noStrike" u="sng">
                <a:solidFill>
                  <a:srgbClr val="001950"/>
                </a:solidFill>
                <a:uFillTx/>
                <a:latin typeface="Arial"/>
                <a:ea typeface="Arial Unicode MS"/>
              </a:rPr>
              <a:t>+</a:t>
            </a: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  culture) is essential for all patients (including children, extra-pulmonary, and persons with radiographic abnormaliti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07800" y="2195640"/>
            <a:ext cx="4361040" cy="391788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859280" y="4167360"/>
            <a:ext cx="3997440" cy="2538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"/>
          <p:cNvGraphicFramePr/>
          <p:nvPr/>
        </p:nvGraphicFramePr>
        <p:xfrm>
          <a:off x="668160" y="1670040"/>
          <a:ext cx="7747200" cy="58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8160" y="167004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4818240" y="4179960"/>
            <a:ext cx="4108320" cy="176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03840" y="4309920"/>
            <a:ext cx="233280" cy="236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650440" y="4309920"/>
            <a:ext cx="318960" cy="226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6581880"/>
            <a:ext cx="4108320" cy="176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2190600"/>
            <a:ext cx="4340160" cy="389124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17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Highlights (3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 u="sng">
                <a:solidFill>
                  <a:srgbClr val="001950"/>
                </a:solidFill>
                <a:uFillTx/>
                <a:latin typeface="Arial"/>
                <a:ea typeface="Arial Unicode MS"/>
              </a:rPr>
              <a:t>Treatment</a:t>
            </a: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Provider is responsible for prescribing an adequate regimen and ensuring adher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Preferred regimen: 6 months with RIF througho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Alternative regimen: 8 months with RIF in initial phase on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A patient-centered approach should be developed for all patients: a treatment supporter to ensure supervi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Patients to be monitored for response to therap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HIV testing for all patients and ARVs if indic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Assessment of likelihood of drug resistance/consultation for patients  at risk of having disease caused by resistant </a:t>
            </a:r>
            <a:r>
              <a:rPr b="1" i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M TB</a:t>
            </a: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25400" y="167004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5400" y="167004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895640" y="2155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The provider is responsible for prescribing an adequate regimen and ensuring adh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81160" y="2376360"/>
            <a:ext cx="4387680" cy="36547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671400" y="56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Treatment (1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725400" y="1886040"/>
          <a:ext cx="7907400" cy="6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5400" y="1886040"/>
                    <a:ext cx="7907400" cy="6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333360" y="2395440"/>
            <a:ext cx="4326120" cy="3627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43040" y="537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Treatment (2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66920" y="2357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 patient-centered, approach to treatment should be developed for all patients. A central element is support for adherence, including direct observ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>
            <a:lum bright="12000"/>
          </a:blip>
          <a:srcRect l="0" t="13812" r="0" b="0"/>
          <a:stretch/>
        </p:blipFill>
        <p:spPr>
          <a:xfrm>
            <a:off x="685800" y="2279520"/>
            <a:ext cx="3809880" cy="400392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graphicFrame>
        <p:nvGraphicFramePr>
          <p:cNvPr id="151" name=""/>
          <p:cNvGraphicFramePr/>
          <p:nvPr/>
        </p:nvGraphicFramePr>
        <p:xfrm>
          <a:off x="882720" y="1800360"/>
          <a:ext cx="7746840" cy="5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2720" y="180036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14440" y="334800"/>
            <a:ext cx="7859520" cy="18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</a:t>
            </a:r>
            <a:br>
              <a:rPr sz="3600"/>
            </a:b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Public Health Responsibilitie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9240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to see that high-risk contacts are evalu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for reporting c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25600" y="2651040"/>
            <a:ext cx="3970080" cy="386424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graphicFrame>
        <p:nvGraphicFramePr>
          <p:cNvPr id="159" name=""/>
          <p:cNvGraphicFramePr/>
          <p:nvPr/>
        </p:nvGraphicFramePr>
        <p:xfrm>
          <a:off x="569880" y="2338560"/>
          <a:ext cx="7747200" cy="5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9880" y="233856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520" y="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International Standards for Tuberculosis Ca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1886040"/>
            <a:ext cx="76392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Goal is to develop a set of essential standards that are applicable to all provider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Co-chairs: Phil Hopewell &amp; Mario Raviglion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Coordinated by A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Steering Committee of 28 members from 14 different countries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Evidence-based with 7 commissioned systematic review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Funded (Oct 1, 2004) by USAID / TBCTA (~$200,000 for 2 years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07960" y="1498680"/>
          <a:ext cx="7994520" cy="6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1498680"/>
                    <a:ext cx="7994520" cy="6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9600" y="274680"/>
            <a:ext cx="8458200" cy="11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Progress to Date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76160" y="1971720"/>
            <a:ext cx="808848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wo Steering Committee meetings he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cope, content outline determined, and 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wo drafts prepared to d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draft circulating to committee current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ven systematic reviews underway or finish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615960" y="1698480"/>
          <a:ext cx="7746840" cy="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960" y="1698480"/>
                    <a:ext cx="7746840" cy="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 for Tuberculosis Care: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Next Steps (1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Courier New"/>
              </a:rPr>
              <a:t>Present to the Public-Private Mix Sub group meeting, Manila, 4-6 April 2005  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Courier New"/>
              </a:rPr>
              <a:t>Present to Stop TB Coordinating Board, Addis Ababa, 3 May 2005 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Courier New"/>
              </a:rPr>
              <a:t>Present to STAG meeting, Geneva, 20-22 June 2005 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Courier New"/>
              </a:rPr>
              <a:t>Present to WHO regional and country advisors meeting, Geneva, 22-24 June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Courier New"/>
              </a:rPr>
              <a:t>“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Courier New"/>
              </a:rPr>
              <a:t>Marketing” for broad endorsement: TBCTA partners, NTPs, medical professional societies, nursing societies, academic programs in nursing and medicine, HIV/AIDS organizations to begin in Ju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7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 for Tuberculosis Care: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Next Steps (2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9840" y="1942920"/>
            <a:ext cx="8088120" cy="50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  <a:ea typeface="Courier New"/>
              </a:rPr>
              <a:t>Present to "megameeting" of the 3 implementation working groups of the Stop TB Partnership, France,  17-19 October 2005</a:t>
            </a:r>
            <a:br>
              <a:rPr sz="2200"/>
            </a:b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  <a:ea typeface="Courier New"/>
              </a:rPr>
              <a:t>Present to Stop TB Coordinating Board meeting, fall 2005</a:t>
            </a:r>
            <a:br>
              <a:rPr sz="2200"/>
            </a:b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  <a:ea typeface="Courier New"/>
              </a:rPr>
              <a:t>Draft reviewed by IUATLD international consultants</a:t>
            </a:r>
            <a:br>
              <a:rPr sz="2200"/>
            </a:b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  <a:ea typeface="Courier New"/>
              </a:rPr>
              <a:t>Present to special session at the IUATLD conference,  France, 20-22 October 2005</a:t>
            </a:r>
            <a:br>
              <a:rPr sz="2200"/>
            </a:b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  <a:ea typeface="Courier New"/>
              </a:rPr>
              <a:t>Final document by the end of the year</a:t>
            </a:r>
            <a:br>
              <a:rPr sz="2200"/>
            </a:b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  <a:ea typeface="Courier New"/>
              </a:rPr>
              <a:t>Journal publication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877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787320" y="1698480"/>
          <a:ext cx="7747200" cy="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698480"/>
                    <a:ext cx="7747200" cy="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81200" y="44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 for Tuberculosis Care: </a:t>
            </a:r>
            <a:br>
              <a:rPr sz="3600"/>
            </a:br>
            <a:r>
              <a:rPr b="1" lang="en-US" sz="3600" spc="-1" strike="noStrike" u="sng">
                <a:solidFill>
                  <a:srgbClr val="cc3300"/>
                </a:solidFill>
                <a:uFillTx/>
                <a:latin typeface="Arial"/>
              </a:rPr>
              <a:t>Requests to the Coordinating Board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00200" y="2257200"/>
            <a:ext cx="8145360" cy="37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ndorse concept of international stand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ovide input on process for endors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ovide input on ways to implement the standards at country leve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844560" y="222264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4560" y="222264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30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Highlights (1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 u="sng">
                <a:solidFill>
                  <a:srgbClr val="001950"/>
                </a:solidFill>
                <a:uFillTx/>
                <a:latin typeface="Arial"/>
                <a:ea typeface="Arial Unicode MS"/>
              </a:rPr>
              <a:t>Introduction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Standards apply to all providers in all sectors regardless of circumst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Standards apply to all patients of all ages, smear positive and negative, extra-pulmonary, MDR, TB/HI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All providers must recognize that they are assuming a public health function with a high degree of responsibility to the community and to the pati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Consistent with existing international guideli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811080" y="167004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1080" y="167004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43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Highlights (2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2480" y="1852560"/>
            <a:ext cx="808848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 u="sng">
                <a:solidFill>
                  <a:srgbClr val="001950"/>
                </a:solidFill>
                <a:uFillTx/>
                <a:latin typeface="Arial"/>
                <a:ea typeface="Arial Unicode MS"/>
              </a:rPr>
              <a:t>Diagnosis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Who should be evalu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Microbiological evaluation (smear + culture) is essential (including children extra-pulmonary, and persons with radiographic abnormaliti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Specific criteria for smear-negative ca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Assessment for HIV infection in persons at risk (based on epidemiological circumstances, risk group, or clinical finding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939960" y="167004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167004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85720" y="45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Diagnosis (1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227480" y="2195640"/>
            <a:ext cx="457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ll persons with otherwise  unexplained cough lasting for 2-3 weeks or more should be evaluated for tuberculos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49200" y="2478240"/>
          <a:ext cx="3722760" cy="33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0" y="2478240"/>
                    <a:ext cx="3722760" cy="3365280"/>
                  </a:xfrm>
                  <a:prstGeom prst="rect">
                    <a:avLst/>
                  </a:prstGeom>
                  <a:ln w="5724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611280" y="1785960"/>
          <a:ext cx="7746840" cy="58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178596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5:03:20Z</dcterms:created>
  <dc:creator>LamyQuiqueS</dc:creator>
  <dc:description/>
  <dc:language>en-US</dc:language>
  <cp:lastModifiedBy>bakerl</cp:lastModifiedBy>
  <cp:lastPrinted>2003-04-10T14:23:01Z</cp:lastPrinted>
  <dcterms:modified xsi:type="dcterms:W3CDTF">2005-04-27T13:47:40Z</dcterms:modified>
  <cp:revision>448</cp:revision>
  <dc:subject/>
  <dc:title>Progress in Global Tuberculosis Control 1995-97</dc:title>
</cp:coreProperties>
</file>