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FFFA-4C08-43D7-B940-73FFEA363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BA1E-D41F-46B6-8927-69923771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61F6-FA21-4B7D-8DF7-B27792868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D405-5C4C-4794-8E0F-AC842FDFF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342A-879D-490D-9FD4-3E9F181DF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7DB1-DE31-4A1E-8766-965F68B0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90E4-DDEA-4184-950D-F502345A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80F4-76FC-4B24-9587-ADA5EAB1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C883-7AB5-4B2B-854E-23E42B4B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510E-2F66-4DAF-9F39-A77E4CC8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15E1-14EE-466F-8D97-8E478530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9F52-620D-4D52-9EB3-6F915455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A1FF-FC37-454B-A44C-09768075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EB8C-8978-4FF4-A0E0-26EC58AF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F1D8-7859-44E8-BD74-B3E7A458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10DB-45E3-4557-B29C-542B7444E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B93A-3130-49F3-974C-6EF998BC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A54E-98E3-4517-AC9F-EFC7EA6D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92D8-83B2-4A38-AD79-65B70C20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2AAC-E8E8-468A-98BF-0948CAC4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FDEE-5561-4AE0-97F5-D02FE3AA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3E9E-6E9D-4E32-9C5E-1BF30C35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F848-DCF9-4F8F-8F5D-0E06B021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0331-6E1A-4F3D-899A-8234C982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165D-E6DE-4B9A-A61F-16A8F15A1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C703-5187-436E-836F-223BE46D6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tbproposalhelp@who.int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cc"/>
                </a:solidFill>
                <a:latin typeface="Arial"/>
              </a:rPr>
              <a:t>THE GFATM: </a:t>
            </a:r>
            <a:br>
              <a:rPr sz="4400"/>
            </a:br>
            <a:r>
              <a:rPr b="1" lang="en-GB" sz="4400" spc="-1" strike="noStrike">
                <a:solidFill>
                  <a:srgbClr val="ffffcc"/>
                </a:solidFill>
                <a:latin typeface="Arial"/>
              </a:rPr>
              <a:t>MAKING ROUND 5 COU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FATM Unit, TB Strategy and Operations, WHO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"Implementation"  Working Group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TOP TB Partnership Secretaria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HOW MUCH FOR T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ple: Bangladesh, Pakistan, Nigeria, Cambodia, Zimbabwe, Brazil, China, India Sudan, Vietnam  (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stimated TB Proposal Total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$290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62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TURE DIR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TB components in HIV propos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ening the capacity to strongly engage with the GFATM, and to plan TA in advance (Early Warning System coordin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coming implementation bottlenecks by providing support for project management, accounting, finance, logistics (HS strength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OR BOARD CONSI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Board is request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sources of fund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continue the GFATM focal point position in WHO in advance of Round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to strengthen assistance to countries (technical and CCM) in the lead up to R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e the profile of TB in engaging at political level and with the GF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all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utting 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Much for TB in R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62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ailable funding has increased 60% R1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ever, TB funding has not increa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proposals have been modest.  30% of all approved proposals are for TB yet overall funding for TB is 1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FATM reports global resource gaps for AIDS, Malaria, and TB at 77%, 17%, and 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92720" y="1146600"/>
            <a:ext cx="80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000000"/>
                </a:solidFill>
                <a:latin typeface="Arial"/>
                <a:ea typeface="SimSun"/>
              </a:rPr>
              <a:t>Figure 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5320" y="6442200"/>
            <a:ext cx="17496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900" spc="-1" strike="noStrike">
                <a:solidFill>
                  <a:srgbClr val="ffff66"/>
                </a:solidFill>
                <a:latin typeface="Tahoma"/>
                <a:ea typeface="SimSun"/>
              </a:rPr>
              <a:t>2 year budg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396720" y="6767640"/>
            <a:ext cx="59623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03280" y="1413000"/>
            <a:ext cx="7072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900" spc="-1" strike="noStrike">
                <a:solidFill>
                  <a:srgbClr val="ffff66"/>
                </a:solidFill>
                <a:latin typeface="Tahoma"/>
                <a:ea typeface="SimSun"/>
              </a:rPr>
              <a:t> 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  <a:ea typeface="SimSun"/>
              </a:rPr>
              <a:t>$583 M         $886 M        $623 M         $968 M         $306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8920" y="1793880"/>
          <a:ext cx="8588520" cy="48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793880"/>
                    <a:ext cx="858852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22732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27320" y="3262320"/>
            <a:ext cx="555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27320" y="326232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1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27320" y="2690640"/>
            <a:ext cx="6350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27320" y="2119320"/>
            <a:ext cx="5554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10000"/>
                </a:solidFill>
                <a:latin typeface="Arial"/>
                <a:ea typeface="SimSun"/>
              </a:rPr>
              <a:t>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27320" y="1874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8968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179388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  <a:ea typeface="SimSun"/>
              </a:rPr>
              <a:t>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205000"/>
            <a:ext cx="6271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3016080"/>
            <a:ext cx="5572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809960"/>
            <a:ext cx="5572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68880" y="1874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10000"/>
                </a:solidFill>
                <a:latin typeface="Arial"/>
                <a:ea typeface="SimSun"/>
              </a:rPr>
              <a:t>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68880" y="2282760"/>
            <a:ext cx="6984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68880" y="301608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3124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99160" y="492444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4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99160" y="1957320"/>
            <a:ext cx="709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31240" y="3098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99160" y="309888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4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031240" y="2282760"/>
            <a:ext cx="7887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031240" y="1793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031240" y="195732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70080" y="1025640"/>
            <a:ext cx="4827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396720" y="0"/>
            <a:ext cx="954072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Comparison across round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Two year approved budget by disease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191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FATM Unit – TBS – WHO -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 technical support throughout R5 proce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bproposalhelp@who.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S Workshop in Ca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shop "Strategic Approaches to R5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95360" y="291960"/>
            <a:ext cx="83566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orkshop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0040" y="1254240"/>
            <a:ext cx="8136000" cy="14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55640" y="1341360"/>
          <a:ext cx="7991640" cy="51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7991640" cy="51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7164360" y="3789360"/>
            <a:ext cx="1079640" cy="287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64360" y="371628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00"/>
                </a:solidFill>
                <a:latin typeface="Arial"/>
              </a:rPr>
              <a:t>Workshop Frame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14600" y="44197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4038480"/>
            <a:ext cx="198108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495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4038480"/>
            <a:ext cx="198144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4038480"/>
            <a:ext cx="198108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1148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R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4495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HAS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44197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1876320"/>
            <a:ext cx="2057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19051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19810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-CALL 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187632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RESULTS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92160" y="-208080"/>
            <a:ext cx="405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18900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STRATEGIC APPROACH TO R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4572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CUTTING 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8 countries plan to submit TB proposals in R5 (18HBC).  49 in R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8 countries are receiving technical support from Stop TB Partn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6 consultants trained and deployed in the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FRICA ROUND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4 Applying (8 HBC), 13 failed in R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KEY ROUND 5 PRIORITIES in AFRIC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igeria &amp; Zimbabw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09:18:59Z</dcterms:created>
  <dc:creator>johnsoneb</dc:creator>
  <dc:description/>
  <dc:language>en-US</dc:language>
  <cp:lastModifiedBy>johnsoneb</cp:lastModifiedBy>
  <dcterms:modified xsi:type="dcterms:W3CDTF">2005-05-11T09:02:35Z</dcterms:modified>
  <cp:revision>118</cp:revision>
  <dc:subject/>
  <dc:title>Slide 1</dc:title>
</cp:coreProperties>
</file>