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46C2-09AD-42B5-A57D-BBDAC6CB8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has been discussed earlier the prospect reaching for the MDG TB targets looks much more achievable in most parts of the world except for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oadmap complements the analytical document presented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take the following activities to enhance the importance and profile of TB as one of the leading health agenda in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launch a Stop TB Partnership for Africa to solicit unprecedented level of political commitment and multisectoral involvement at all levels to accelerate the implementation of TB contro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gh level missions should initiate the discussion of mainstreaming TB into development strategies such as the PR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TB causes an estimated  an economic loss of 4-7% of GDP annually in countries with a high burden of TB.  Likewise, the global cost of TB is estimated to be US$13 billion a yea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erefore, it needs to be mainstreamed in the development agenda of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4473-C82D-44FB-B70A-71C5029E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45B-D30B-4667-8BC7-B84116A8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A1B-5E65-4ABC-AE64-F18708E6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DB4-7C24-45E6-839F-605912F4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2F4B-6C3A-4BBD-8C8E-F43C16E9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A9CF-F7BE-4662-B2FD-AFFA6F93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2E3F-9D11-463C-B86A-B4C6DCD8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10BE-3A06-42DE-8F3E-7C9F7091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4DF7-F3B8-4AC8-9F48-E8E29397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315C-4C38-4AF9-9A09-0CA71A13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A200-65C8-4A05-B2C8-EA79D796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6C8-F840-4D6C-AD92-1684457B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C8DB-8FE6-470B-9765-7F810B3B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9106-D758-4B85-8CAA-638C2FA1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6EE4-5B8D-44AA-8CF7-42685578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29CB-1472-4F38-8FC8-F0FBE05D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D1C0-9113-46C0-AFF3-8439F04E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E89-4850-4A9D-A088-DCBCCFC8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AE6A-570A-4618-8C92-E969043B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AE1E-6073-4716-8AB4-40B9D020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709-6434-46F4-AC5A-3C2A277C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025-2138-4C6C-8859-0C8A39D5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BB5-68DC-46EB-81B4-CCB7CE93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497-EDB3-4402-92AF-602988AF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B5DE-000B-493F-BD1A-7ACC37C0B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EA0E-0333-4D8A-B9A1-500B9C0A6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Roadmap to intensify action to reach the TB MDGs in Africa.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2005-2007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raft for 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Why the Road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Provide recommendations and the </a:t>
            </a:r>
            <a:r>
              <a:rPr b="0" lang="en-GB" sz="3200" spc="-1" strike="noStrike">
                <a:solidFill>
                  <a:srgbClr val="cc0000"/>
                </a:solidFill>
                <a:latin typeface="Berlin Sans FB Demi"/>
              </a:rPr>
              <a:t>provisional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 financial needs for TB control in Africa for 2005-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alls for enhanced effort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B of Stop TB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African leaders and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Donors, technical agencies and 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Liaise with the AU and WHO/AFRO to make TB visible and to engage in NEPA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dvocate for an AU TB resolution in the context of M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The Chair of the CB (or his/her delegate) to regularly attend the Regional Committee (RC) of AF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ssign a focal point of the CB to engage in NEPAD related consul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reate a  task force to establish the Stop TB Partnership for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high level missions to five high burden countries and meet with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heads of state</a:t>
            </a:r>
            <a:r>
              <a:rPr b="0" lang="en-GB" sz="3200" spc="-1" strike="noStrike">
                <a:solidFill>
                  <a:srgbClr val="3333cc"/>
                </a:solidFill>
                <a:latin typeface="Berlin Sans FB Dem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and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ministers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the next Stop TB Partners Forum in Africa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The Coordinating Board shou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Organise an African TB financing summit to mobilise new and sustainable  financi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Reach out major institutions and bilateral agencies by meeting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Berlin Sans FB Demi"/>
              </a:rPr>
              <a:t>heads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of  the instit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supporting the Global Drug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African governments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Mainstream TB in their development age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P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SW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HI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trengthen TB control through DOTS and address health system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increase access to quality diagnosi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Strengthen community involvement in TB and TB/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engagement of NGOs and private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local drug manufacturing and proc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Implement collaborative TB/HIV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Interim Policy on Collaborative TB/HIV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Establish National Stop TB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Major donors, technical agencies and NGOs 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upport the proposed African TB financing summ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and increase support for Stop TB Partners working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ordinate their national leve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HIV/AIDS NGOs should embrace TB as one of their main work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Estimate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the Coordinating Board= 1.5 mill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African countries=  1, 140 m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Berlin Sans FB Demi"/>
              </a:rPr>
              <a:t>Provisional  figures built on the global plan II (2006-20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000000"/>
                </a:solidFill>
                <a:latin typeface="Berlin Sans FB Dem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1:13:30Z</dcterms:created>
  <dc:creator>getahunh</dc:creator>
  <dc:description/>
  <dc:language>en-US</dc:language>
  <cp:lastModifiedBy>johnsoneb</cp:lastModifiedBy>
  <dcterms:modified xsi:type="dcterms:W3CDTF">2005-05-11T07:59:49Z</dcterms:modified>
  <cp:revision>37</cp:revision>
  <dc:subject/>
  <dc:title>Roadmap to intensify action to reach the TB MDGs in Africa.  2005-2007 </dc:title>
</cp:coreProperties>
</file>