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B199-86AD-46EC-9B2F-D1BCE79E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E37-5555-4501-9AC9-A4C270DB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A73-57DC-44F1-9731-35464B76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31DC-7D86-486D-B07F-6A7D82D8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9A48-6A6C-4B80-A512-D6CE8831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CD8-B96F-4C19-A5A3-E46BF470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F46-583B-4BC0-AAA5-4D84ED7B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B8C1-DCD5-4A52-8F79-61CB38DD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7DEC-C89D-41FA-A931-BE4FE309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D5F-AADD-4DAB-A941-C57F5CE7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5CFA-29B1-45C9-B6E5-E1940BB2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A91-0511-4995-AFEB-B4579E3D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C5A2-2DC9-4C7B-AFB8-B520F2233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 of the Steering Committee for the Global Pl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2006-2015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p TB Diagnos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Giorgio Roscig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Objectives and Key Activities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 To develop new, improved tools for the detec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uberculosis disease, drug resistance and latent inf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use an evidence-based approach to determin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erformance characteristics of new, improved diagnostic tools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tection of tuberculosis disease, drug resistance and latent inf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demonstrate the epidemiological and economic impac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, improved diagnostic tools under programmatic conditions in devel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count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In collaboration with the STOP TB Partnership &amp; 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rograms, to delineate a strategy for the introduction and adoption of promi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B diagnostics into resource-constrained set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5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 comprehensive advocacy and information strategy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 and improved TB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argets for Test Introduction Leading to Sustainable Adoption: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129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Resource needs for enabling infrastructure (2006-2015) totals 1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ference material bank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Clinical Trial Training and Lab Strengthening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Pre-qualification Projec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4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gulatory Harmoniz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Analysis Updat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1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entry schemes based on situ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525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nalyse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WG secretariat/coordination and meeting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5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dvocacy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65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 towards Finalizing the Diagnostics WG Strategic Plan &amp; the WGs’ Contribution to the Global Plan II to STOP TB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852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rculation of the Draft Strategic Plan to all WG members for comment and direct input into Table 2, Key activities and Figure 5 (Targets for Test Introduc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aptation of existing mathematical model to better represent impact of new diagnostic tools o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ies of meetings with implementation working group representatives to determine which diagnostic test scenarios (Figure 5)  should be incorporated into core regional strategies and estimate their implementation cos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STOP TB Working Group on Diagnostics - Stakehol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00000" y="1916280"/>
            <a:ext cx="7488000" cy="4033440"/>
            <a:chOff x="900000" y="1916280"/>
            <a:chExt cx="7488000" cy="4033440"/>
          </a:xfrm>
        </p:grpSpPr>
        <p:sp>
          <p:nvSpPr>
            <p:cNvPr id="46" name=""/>
            <p:cNvSpPr/>
            <p:nvPr/>
          </p:nvSpPr>
          <p:spPr>
            <a:xfrm flipH="1" flipV="1">
              <a:off x="5171400" y="3984840"/>
              <a:ext cx="108288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065760" y="4255920"/>
              <a:ext cx="90252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5171400" y="2847240"/>
              <a:ext cx="84168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4509720" y="4538880"/>
              <a:ext cx="0" cy="65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983600" y="3908880"/>
              <a:ext cx="1382760" cy="38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5171400" y="3603240"/>
              <a:ext cx="6609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7560" y="2375640"/>
              <a:ext cx="1143000" cy="2041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20160" y="4604760"/>
              <a:ext cx="1744200" cy="6613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59400" y="2847240"/>
              <a:ext cx="2013840" cy="564120"/>
            </a:xfrm>
            <a:prstGeom prst="rect">
              <a:avLst/>
            </a:prstGeom>
            <a:solidFill>
              <a:srgbClr val="fee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 research institu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00000" y="4822200"/>
              <a:ext cx="2044440" cy="816480"/>
            </a:xfrm>
            <a:prstGeom prst="rect">
              <a:avLst/>
            </a:prstGeom>
            <a:solidFill>
              <a:srgbClr val="b76a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tional TB Programs/Reference Laborato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72840" y="2565000"/>
              <a:ext cx="2315160" cy="5648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ade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7920" y="5385600"/>
              <a:ext cx="763560" cy="564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60360" y="4138560"/>
              <a:ext cx="672480" cy="323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61200" bIns="61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n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52240" y="3755880"/>
              <a:ext cx="2068200" cy="64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national  Organiz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7920" y="2910960"/>
              <a:ext cx="781920" cy="973440"/>
            </a:xfrm>
            <a:prstGeom prst="ellipse">
              <a:avLst/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re W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27080" y="1916280"/>
              <a:ext cx="1591200" cy="389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ing 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98764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ion of the Stop TB WG on Diagno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o develop and introduce cost-effectiv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new diagnostic tools that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towards control of the global 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c in the quality of patient c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dvocate and sponsor increased investment from the public and private sector in basic science that supports the development of diagnostic technologi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ontinuous mapping of landscape for promising technologies and regular dialogue with diagnostic technology and test develop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Facilitation of improved public and private sector stakeholder collaboration leading towards accelerated diagnostic tool development, evaluation, demonstration and market entry (test introduction and sustainable adop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argeted investment and management of product development in priority are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Improve understanding, development and regulation of the diagnostics market in high burden countries aimed at encouraging application of potential new technologies to TB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easure the epidemiological and economic impact of new diagnostic tools in National TB Program sett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ssistance to  governments and public health agencies in developing countries to evaluate the utility and cost-effectiveness or local appropriateness of new diagnostics and develop effective implementation schemes that maximize patient accessibil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Diagnostics Tools for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50600" y="1271520"/>
            <a:ext cx="7565760" cy="4678200"/>
            <a:chOff x="750600" y="1271520"/>
            <a:chExt cx="7565760" cy="4678200"/>
          </a:xfrm>
        </p:grpSpPr>
        <p:grpSp>
          <p:nvGrpSpPr>
            <p:cNvPr id="69" name=""/>
            <p:cNvGrpSpPr/>
            <p:nvPr/>
          </p:nvGrpSpPr>
          <p:grpSpPr>
            <a:xfrm>
              <a:off x="750600" y="1271520"/>
              <a:ext cx="2106720" cy="4678200"/>
              <a:chOff x="750600" y="1271520"/>
              <a:chExt cx="2106720" cy="4678200"/>
            </a:xfrm>
          </p:grpSpPr>
          <p:sp>
            <p:nvSpPr>
              <p:cNvPr id="70" name=""/>
              <p:cNvSpPr/>
              <p:nvPr/>
            </p:nvSpPr>
            <p:spPr>
              <a:xfrm>
                <a:off x="750600" y="1271520"/>
                <a:ext cx="210672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Purpo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0600" y="1929240"/>
                <a:ext cx="210672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Case Dete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Drug Susceptibility Testing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Latent TB Infectio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791800" y="1271520"/>
              <a:ext cx="5524560" cy="4678200"/>
              <a:chOff x="2791800" y="1271520"/>
              <a:chExt cx="5524560" cy="4678200"/>
            </a:xfrm>
          </p:grpSpPr>
          <p:sp>
            <p:nvSpPr>
              <p:cNvPr id="73" name=""/>
              <p:cNvSpPr/>
              <p:nvPr/>
            </p:nvSpPr>
            <p:spPr>
              <a:xfrm>
                <a:off x="2791800" y="1271520"/>
                <a:ext cx="552456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Test Indic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91800" y="1929240"/>
                <a:ext cx="552456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high bacterial load   (SS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low bacterial load   (SS -, Cx 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extra-pulmonary and pediatric T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down of estimated TB cases by AFB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16000" y="1628640"/>
          <a:ext cx="691200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691200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Diagnostics Development Pipeline: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7:45:05Z</dcterms:created>
  <dc:creator>Giorgio</dc:creator>
  <dc:description/>
  <dc:language>en-US</dc:language>
  <cp:lastModifiedBy>johnsoneb</cp:lastModifiedBy>
  <dcterms:modified xsi:type="dcterms:W3CDTF">2005-05-02T10:36:36Z</dcterms:modified>
  <cp:revision>32</cp:revision>
  <dc:subject/>
  <dc:title>Slide 1</dc:title>
</cp:coreProperties>
</file>