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D1ED-5721-467E-9959-2614E803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E250-7C9C-431D-B483-F758293B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9378-424E-46C9-8662-0A51C095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BF38-D9C3-4946-B703-1F695329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B79E-2692-4E23-93DA-8E269888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1A43-7E4B-4401-A5AB-86D9263A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236F-F92D-4408-84B5-7E4BCC81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CC98-6AD5-4ADD-9CD7-6FC0D2CF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E1FB-AF70-48E4-925C-038C78ED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BBC8-4507-4AA3-BF5A-A9D40D9F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93AA-CB14-4735-A784-A591B9B0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DFFD-2149-402E-8333-19BEC963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43A4-33C7-4A26-9544-DBD1AD40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8BC1-A143-4918-8372-B910EB8F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E2B5-96BB-4EE1-AE5E-9C96E5D4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5C97-744D-4DA1-B41A-C1799284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7736-F1D0-447D-BADE-3EE49F05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CA5F-DD6E-487B-B83D-538529C1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01E0-4E90-4890-869C-742FDEDB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CAAD-3DF2-4925-85F1-ED5ED1BC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2631-B31C-435D-A430-0973C45F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7B52-074E-400E-9333-F81A18FA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9254-ABD6-4738-8B7D-BDA015A7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39C5-D66D-476D-B5EC-976836FB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916308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8200" y="0"/>
            <a:ext cx="8604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56480" y="6553080"/>
            <a:ext cx="224964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900640" y="6248160"/>
            <a:ext cx="57780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17BD-FD65-447B-8043-E41D9576AFA3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23800" y="1549440"/>
            <a:ext cx="883944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680" y="320688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7680" y="148284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42360" y="1246320"/>
            <a:ext cx="84240" cy="2235240"/>
          </a:xfrm>
          <a:custGeom>
            <a:avLst/>
            <a:gdLst>
              <a:gd name="textAreaLeft" fmla="*/ 12240 w 84240"/>
              <a:gd name="textAreaRight" fmla="*/ 72000 w 8424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0791">
                <a:moveTo>
                  <a:pt x="10800" y="0"/>
                </a:moveTo>
                <a:arcTo wR="10800" hR="10800" stAng="16200000" swAng="-5400000"/>
                <a:lnTo>
                  <a:pt x="0" y="559991"/>
                </a:lnTo>
                <a:arcTo wR="10800" hR="10800" stAng="10800000" swAng="-5400000"/>
                <a:lnTo>
                  <a:pt x="10800" y="57079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1600" y="1252440"/>
            <a:ext cx="83880" cy="2235240"/>
          </a:xfrm>
          <a:custGeom>
            <a:avLst/>
            <a:gdLst>
              <a:gd name="textAreaLeft" fmla="*/ 12240 w 83880"/>
              <a:gd name="textAreaRight" fmla="*/ 71640 w 8388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3231">
                <a:moveTo>
                  <a:pt x="10800" y="0"/>
                </a:moveTo>
                <a:arcTo wR="10800" hR="10800" stAng="16200000" swAng="-5400000"/>
                <a:lnTo>
                  <a:pt x="0" y="562431"/>
                </a:lnTo>
                <a:arcTo wR="10800" hR="10800" stAng="10800000" swAng="-5400000"/>
                <a:lnTo>
                  <a:pt x="10800" y="57323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67200" y="5783400"/>
            <a:ext cx="377028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37000" y="5734080"/>
            <a:ext cx="102888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752120"/>
            <a:ext cx="842004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8648-CA35-4913-AACE-273D2535A097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9068040" cy="2210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e9"/>
                </a:solidFill>
                <a:latin typeface="Times New Roman"/>
                <a:ea typeface="Times New Roman"/>
              </a:rPr>
              <a:t>PATIENTS PERSPECTIVE ON THE IMPLICATIONS OF TB CONTROL IN AFRICA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4800600"/>
            <a:ext cx="6933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resenter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– Lucy Chesire.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40384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2320" y="2971800"/>
            <a:ext cx="923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</a:rPr>
              <a:t>TB is a problem 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ut is a SOLUTION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o another PROBLEM.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1280" y="533520"/>
            <a:ext cx="51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64c"/>
                </a:solidFill>
                <a:latin typeface="Times New Roman"/>
              </a:rPr>
              <a:t>PARTING SHOT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.B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8839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2.3 m cases of T.B in Africa occurring yearly????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Have we lost the fight in Africa if not…what can we do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If T.B is curable, why are people still dying?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Patient Centered factor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B support groups ongoing but not active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tigma associated with HIV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overty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Food insecurity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B/HIV  infection = on average 50% of TB patients now are co-infected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842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osts in relation to work-ups to TB treatment. e.g Antibiotics, lab tests, x-ray etc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lay in seeking care by TB suspects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ill burden e.g Zimbabwe 14 pills for treatment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proach to D.C.T for TB patients.</a:t>
            </a:r>
            <a:r>
              <a:rPr b="0" lang="en-US" sz="40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21896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Patient Centered factors cont.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Health System Factor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9067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ack of drugs for MD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ack of policy on the management of MDR in most health institution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layed diagnosis e.g. Arthritis Vs TB of the kne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issed TB cases due to Doctors lack of knowledge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hortage of Human resource for health e.g affects TB control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TB Patients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When engaged and supported appropriately patients ca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85720" y="3428640"/>
            <a:ext cx="84200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ncrease effectiveness of health c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obilize the community in being the backbone of effective TB contro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rovide input on effective policy and practic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Provide support and conduct community TB led interventions (VCT, Psychosocial, TB support groups etc)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Reduce stigma and improve access to TB control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6094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TB Patients cont…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Way Forwar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3-D’s = Better Drugs,Diagnostics, Dignity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ontinuous patient involvement in c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unding for TB support group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nsure private sector involve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B/HIV collaboration (address constraints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ustained political commit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Long term financing for TB programm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18960" y="1600200"/>
            <a:ext cx="842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Quality assurance for diagnostic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obust patient tracking system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OTS plus programm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evelop M/E system to drugs adherence, especially smear-ves and extra pulmonary TB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treamline TB system to ensure follow up of patients at the TB clinics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ore  resources for DOTS expansion e.g. use of  community health workers for drugs distribution and follow-u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42640" y="5335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Way Forward cont…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3:08:19Z</dcterms:created>
  <dc:creator>Kacy 1</dc:creator>
  <dc:description/>
  <dc:language>en-US</dc:language>
  <cp:lastModifiedBy>administrator</cp:lastModifiedBy>
  <dcterms:modified xsi:type="dcterms:W3CDTF">2005-05-01T15:02:01Z</dcterms:modified>
  <cp:revision>25</cp:revision>
  <dc:subject/>
  <dc:title>PATIENTS PERSPECTIVE IN THE IMPLICATIONS OF TB CONTROL IN AFRICA. </dc:title>
</cp:coreProperties>
</file>