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2364-F7E3-4273-8164-E4501A98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A4FF-AE7D-400A-82C7-3A5462BC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0C5-2FDD-4703-9AC4-CA919619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5D4-1259-4973-B6A7-3DE8B5F4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B6B9-E5FF-460E-85FD-A2D48439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6D56-CFE9-4276-B2EC-80FBADAC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6F63-EE97-42D6-AB98-11ABA235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5C93-C756-4C87-99AC-FF54A719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D99F-5582-4E6A-ACF3-8A8F6D4A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8B46-A894-41A5-A8BA-EB2EFA05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76AE-8B71-4666-AAA0-AFBA8679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CB4-1937-441E-85BD-05C5A139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21EA-875B-4C37-A0F3-CBCCADB1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52E8-3FD6-48AB-8699-A3646F80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AEB3-CED8-4D26-861B-1BF34F51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63C4-F377-4EB2-B0FB-85713C41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2C02-E393-4212-869C-DC3151E3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C3E9-984C-4DB4-BBBB-52836AA6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BEF1-4E6F-45EB-B946-9C628A5E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0FB3-1A70-47AA-939D-CB56FD6E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FB7-056B-4842-B353-6824784E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E773-284A-4CF1-A49A-8E28A6AB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CBCB-5817-468F-BF50-6CE7B6EE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6F2-F56F-4F7C-B1BC-C8880E00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98FA-F237-4E67-A1DC-67DD99C28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C121-C00B-4AD4-BA8C-872D0D113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World Lea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A strategy for engagement with Heads of State and World Leaders was a recommendation of the Beijing Coordinating Board Meeting in October 200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o create TB champions among leading figures – but to go beyond Heads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dela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“we can not fight HIV/AIDS without also                                    fighting T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core group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burden countries - with special emphasis o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or/potential dono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38880" y="2514600"/>
            <a:ext cx="15019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to strengthen TB control activities in target countries to enable TB to maintain momentum and achieve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llennium Development Go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n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support TB control from the international development commun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ive political environ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00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D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ries see achieving TB control goals as part of their wider economic development agen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Identify and inform nodal leaders and opportunities to access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ng for TB Control needs to be sustainable with sufficient funds available for Technical Assista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 Health Assembly: Resolution on Sustainable Financing for TB contr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Awareness of Global Plan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inter-ministerial co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6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lit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friendly influential leaders (politicians, sports and entertainment stars etc) provide the framework to support our advocacy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rect and indirect channels to reach influential leaders: WB, EU, Wise men (Sachs, Sen etc), social experts, celebrities (including Stop TB Ambassadors), UN family (WHO, UNDP et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core groups of countries and leaders we MUST r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opportunities to access key political and other le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frican Commission, CHOGM, APEC, UNGASS, EU summit, G8, G77, WEF, World Social For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ic Planning to raise the profile of Global Plan 2006-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actical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champ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ed-up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 message (full nee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johnsoneb</cp:lastModifiedBy>
  <dcterms:modified xsi:type="dcterms:W3CDTF">2005-05-03T09:24:50Z</dcterms:modified>
  <cp:revision>39</cp:revision>
  <dc:subject/>
  <dc:title>Slide 1</dc:title>
</cp:coreProperties>
</file>