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FAF-7D23-42D4-8719-DC4182B9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91B-5B08-4DCA-860F-8F535478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F17-866B-4DCC-920C-609A33C0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CA3-31C3-4853-A1E3-7901DC35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4497-AAAE-4C96-BEE6-7B687C0A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EAE5-1CEB-447B-8184-8043DBC9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28E3-3EC4-4CB3-993F-247E9957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DE3B-E122-4056-A84B-C5CC4994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81F0-DFB3-40D7-9C91-6BAC52A4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5D8B-8BB8-4388-8131-0FF09828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25F1-DDE5-4BE2-8ADD-DB0D107B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F1E-EEBE-4B61-B359-D5AE8FA4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61EC-B1F2-497E-9C2D-0D8BA2FD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4777-2A1F-43AD-84A3-D173E51F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AD06-0639-4007-97E1-15AA73BC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9721-58CC-4A0C-8DFF-667BEA50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07B3-5FCA-433F-A1A8-88CD1520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11E1-B6F3-4C6D-A253-664D0EA5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B5C-9216-4612-A9E4-58340D87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4DF-C9E6-4576-8306-EA943D42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2D9E-4FBC-4A61-BFE1-1BD50886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E948-372F-4374-9612-C93DD8DA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1AA-806E-4C6C-A105-2369D49B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9EE-C5FF-4173-A646-D713E0DA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6CB0-D9BF-426C-A1B3-67CA51D4D4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A0DA-6DB0-44F2-9CD1-944E9B1E08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724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3200"/>
            </a:b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National TB Control Programme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7632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Stop TB Pakista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Progresses and challen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43280" y="2705040"/>
            <a:ext cx="16448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7D01-55EF-44F1-A74A-2C25E6948EC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STOP TB Pakistan: the partner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Pakistan being the host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-Agencies Coordination Committee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ons/institutions named by at least 2 part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ation of CCM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5EB-90C4-471C-8F09-96FC413C71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Progresses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 between WHO Pakistan  endors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s for set up of secretariat for one year secu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s of Executive secretary and one secretary  advert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plan for next six months developed on the basis of the available funds including mass media campaign by Good will ambassador (Dec 05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2653-1481-4C2F-8079-32D1DFAFEB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halleng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ling with Earthquake v/s T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ng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TB control activities in Pakistan sustainabl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151-27D7-4674-BF5D-56C66B0972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Future Needs of the Partnership Secretariat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s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stain Stop TB secretariat beyond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nhance the strength of the Secretariat (one Communication officer and one technical officer to be recruited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B12B-15B9-40FD-815F-85C99E5C55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Tahoma"/>
              </a:rPr>
              <a:t>Thank you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05320" y="3733920"/>
            <a:ext cx="191268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16C4-C558-448E-BAAD-8F48DB51AD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0600" y="0"/>
            <a:ext cx="736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slamic Republic of Pakista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:140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/3rd below poverty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among the HBC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d 250,000 new TB cases each ye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12E-746F-4825-B5BF-528A11561F6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Earth quake-8th October 20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           4 million affected in AJK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nd NWFP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&gt;86000 Deaths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2 million displace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7A8F-F205-4940-84EA-41353FB634F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66680" y="139860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B3B-47D3-4206-8156-1C75ADF7460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7772400" cy="516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B806-C105-42ED-93B6-0071A933FB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1320840"/>
            <a:ext cx="7696440" cy="44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76E4-13B8-49E9-A3BC-F9AD9F812B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Mr Wasim Akram presenting the National Stop TB Partnership</a:t>
            </a:r>
            <a:br>
              <a:rPr sz="32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ahore, 29th April 200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38280" y="2700360"/>
            <a:ext cx="4496040" cy="30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DE10-A9AA-4C74-A50C-3F9E3E1873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9800" y="536040"/>
            <a:ext cx="777096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top TB Pakistan to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bilise additional sustainable social &amp; polit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ordinate the implementation of the National strategy/plan developed by NTP for A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hance public and political perception of Stop TB Strate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gage non-traditional partners in the fight against TB and build alliances with other health and development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AF4-5193-4061-B818-4B11991D6A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talyzing approa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CC/ Social mobilization through GFA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private sector through GFATM/FIDELIS/ G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IACC by revisiting its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84F0-E795-443C-A94F-D870308A19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7:54:37Z</dcterms:created>
  <dc:creator/>
  <dc:description/>
  <dc:language>en-US</dc:language>
  <cp:lastModifiedBy>Waseem Abbas Qureshi</cp:lastModifiedBy>
  <cp:lastPrinted>1997-02-21T06:00:05Z</cp:lastPrinted>
  <dcterms:modified xsi:type="dcterms:W3CDTF">2005-11-10T13:33:34Z</dcterms:modified>
  <cp:revision>735</cp:revision>
  <dc:subject/>
  <dc:title>Tuberculosis Control and Prevention</dc:title>
</cp:coreProperties>
</file>