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83984-2796-4F13-BD99-EF35DAF8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8E0C0-FF6D-4701-9F51-C885E3DF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82C4D-AC77-47CA-AF23-F8E43447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A7F0F-6FDC-4676-8571-06AA8352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6D64-75AA-4C1C-BB0D-E006BF0A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BDEE-1B4A-4A1C-A3DD-230B13ED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6746-771C-49DC-909E-5E92C3FB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E457-7E50-4908-8173-AA5F0DA0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4100-995C-4229-9440-EECBCF5A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BA74-BADC-47C9-9A30-B7400B56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D0F7-442E-4811-9278-883E43F4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36999-CF1A-4980-A0A9-8FB4F7B6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6187-C655-446F-8FEE-05F81308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94AF-1737-4A2C-B0C0-506CFEB7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B23B-0E41-45B6-8BE8-460C7986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656E-1F60-47CA-8BDA-E380F7C5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9A16-6E9D-4C3D-AFB0-EC15549C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8A86E-A5CA-44A4-A710-124A47E6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5F65A-F133-4EFE-96AB-AFE3A9A5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3CD6B-FAEF-4EB1-BD15-BE86F395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7D654-02FD-45FD-B9C7-EC1FD602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053EB-DAD8-4F4E-811B-9B2D6CC1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15C0A-940C-453F-AFB4-7529739B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4EC82-1E3F-49AD-B49E-9FF5A482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5A45-5804-4C2C-A37B-0D19686BAC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B649-9426-4C73-B13F-C8D7613C38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640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UNFUNDED NEEDS 2006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NPT-D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ASSISI ITALY 10-11 Nov 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Garamond"/>
              </a:rPr>
              <a:t>Ministère de la sant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700280"/>
          <a:ext cx="8229600" cy="4824000"/>
        </p:xfrm>
        <a:graphic>
          <a:graphicData uri="http://schemas.openxmlformats.org/drawingml/2006/table">
            <a:tbl>
              <a:tblPr/>
              <a:tblGrid>
                <a:gridCol w="6264360"/>
                <a:gridCol w="19652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Équipement des bureaux (cplt et unité centr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2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s dépôt médicament cplt (22 CPL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 CDV de quelques Csdt (100 CSD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Transport  médicaments à l’intérieur du pays, et carbura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4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Supports d'in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4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DEFICITS COMPLEMETAIRES AU BUDGET 2006 en $us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989000"/>
          <a:ext cx="8218080" cy="3670920"/>
        </p:xfrm>
        <a:graphic>
          <a:graphicData uri="http://schemas.openxmlformats.org/drawingml/2006/table">
            <a:tbl>
              <a:tblPr/>
              <a:tblGrid>
                <a:gridCol w="6313680"/>
                <a:gridCol w="1904400"/>
              </a:tblGrid>
              <a:tr h="16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ûts des ARV pour 2006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(soumis dans la composante </a:t>
                      </a: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ih-Sida ;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nd mondi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319 1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pplémen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laire du personnel de la périphéri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pour 2006 (soumis dans la composante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appui aux structures des soins",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Fond mondi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Garamond"/>
              </a:rPr>
              <a:t>RDC: GENERALITES / DRC: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14360"/>
            <a:ext cx="44956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SUPERFICIE/SIZ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.345.000 k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OPULATION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58.000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&lt; 20 ans: 57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IB/GDP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en $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358 (’58), 100 (’85), 74 (‘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IDH/HDI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0,3655 (‘04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EMPLOI/EMPLOYMENT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6 % (‘98)  7 % (‘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REVENUS/INCOM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0,30 $ us/J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MAL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10 % (‘95)  16 % (’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18000" y="1295280"/>
            <a:ext cx="46260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77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ORGANIZATION DE LA SANTE / HEALTH SYSTEM ORGAN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600200"/>
            <a:ext cx="4773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udget annuel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Annual health budget: </a:t>
            </a:r>
            <a:r>
              <a:rPr b="1" lang="fr-FR" sz="2400" spc="-1" strike="noStrike">
                <a:solidFill>
                  <a:srgbClr val="ffffff"/>
                </a:solidFill>
                <a:latin typeface="Garamond"/>
              </a:rPr>
              <a:t>&lt; de 2% de 1000.000.000 $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olitique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soins de santé primaires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Health policy: primary health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515 zones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1/2 non fonctionne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515 health zones: 1/2 non-func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11 provinces, 20 CPLT, 991 CSDT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11 provinces, 20 CPLT, 991 TTC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788000" y="1700280"/>
          <a:ext cx="4356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00280"/>
                    <a:ext cx="4356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5e5ff"/>
                </a:solidFill>
                <a:latin typeface="Garamond"/>
              </a:rPr>
              <a:t>Five years plan budget 2006-20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TOTAL: 112.565.788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Received from GF: 36 M out of 43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Year 1 needs: 25 M and 5 M unfundeed p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3.319.123 USD for 41.000 coinfected patients ARV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1.000.000 USD for the support of basic health care system (personnel motivation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8000" y="122400"/>
            <a:ext cx="8856720" cy="65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16000" y="216000"/>
          <a:ext cx="9144000" cy="6807240"/>
        </p:xfrm>
        <a:graphic>
          <a:graphicData uri="http://schemas.openxmlformats.org/drawingml/2006/table">
            <a:tbl>
              <a:tblPr/>
              <a:tblGrid>
                <a:gridCol w="2916000"/>
                <a:gridCol w="6228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PARTENAIRES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TYPE DE PARTENARIAT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list institution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. GLOBAL FUN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du PNT (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et CPLT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. USAI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&amp;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, EQN, POE, MANIEMA, SANKUR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. GD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rovisionnement en m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icaments (2/3 des besoins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. CDC-ATLA. (UN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CHERCHE OPERATIONN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. UICTM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. OM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. LNA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 (MOSO) et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2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. Fondation Dami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10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. TLM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7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0. ALM, FOPERDA, UB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3 CPL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95400" y="646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UDGET ANNONCE PAR PARTENAIRES POUR 2006 en $US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1197000"/>
          <a:ext cx="8640720" cy="5322960"/>
        </p:xfrm>
        <a:graphic>
          <a:graphicData uri="http://schemas.openxmlformats.org/drawingml/2006/table">
            <a:tbl>
              <a:tblPr/>
              <a:tblGrid>
                <a:gridCol w="2808360"/>
                <a:gridCol w="1023840"/>
                <a:gridCol w="1000080"/>
                <a:gridCol w="330480"/>
                <a:gridCol w="669960"/>
                <a:gridCol w="922320"/>
                <a:gridCol w="877680"/>
                <a:gridCol w="1008000"/>
              </a:tblGrid>
              <a:tr h="11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ES OU RUBRIQUES DE DEPEN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dget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uvern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ê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tenai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mobiliser (c+d+e+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ter à mobiliser pour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08 0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9 3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5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69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9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6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4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8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2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123 7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5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âtiments, équipements (véhicules, labo/bureau, etc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9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01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047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75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3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8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325 6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 206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899 8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 135 9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EFICIT BUDGETAIRE PAR RUBRIQUES DE DEPENSE 2006 en $Us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435880" cy="4987800"/>
        </p:xfrm>
        <a:graphic>
          <a:graphicData uri="http://schemas.openxmlformats.org/drawingml/2006/table">
            <a:tbl>
              <a:tblPr/>
              <a:tblGrid>
                <a:gridCol w="6059520"/>
                <a:gridCol w="23763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1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1413000"/>
          <a:ext cx="8893080" cy="5360760"/>
        </p:xfrm>
        <a:graphic>
          <a:graphicData uri="http://schemas.openxmlformats.org/drawingml/2006/table">
            <a:tbl>
              <a:tblPr/>
              <a:tblGrid>
                <a:gridCol w="6708600"/>
                <a:gridCol w="2184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intermédiaire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ncitatives et motivations pour fournisseurs des soins membres de la communaut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0 9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du personnel supplémentaires aux csd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986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partiels médecins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4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Infirmiers cplt des grands  CSDT avec CDV (&gt; de 200 nc tb /an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er et recycler les prestataires des soins (médecins, laborantins, infirmiers) pour la prise e charge de la coinfe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4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53:50Z</dcterms:created>
  <dc:creator>Etienne Bahati </dc:creator>
  <dc:description/>
  <dc:language>en-US</dc:language>
  <cp:lastModifiedBy>SG</cp:lastModifiedBy>
  <dcterms:modified xsi:type="dcterms:W3CDTF">2005-11-10T06:27:56Z</dcterms:modified>
  <cp:revision>13</cp:revision>
  <dc:subject/>
  <dc:title>DEFICIT BUDGETAIRE 2006</dc:title>
</cp:coreProperties>
</file>