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CBD0-5CC6-4285-8238-805CAF62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2BC-A1C1-408D-A1AD-EFA024AF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833-A20A-4A26-A92B-C5EFE4BE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0CD-335B-4484-903F-F5966E9D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AC2F-9322-487F-BFD4-6A3BA04F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55BE-153E-493C-B4F2-EFD93DB4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0003-B714-4473-99C0-258A3908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E979-4533-46C2-9726-D2FA1D6E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2E7F-8227-46B6-91FF-4A57CCB8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7BAD-89C2-4FD9-A3BC-3F81D4B3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D4F3-E4DD-4712-ABCD-086D193D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5C95-85C1-4149-96CC-1E145361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328D-CA83-4A39-BB30-1C166D5F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25CB-23B1-4E06-99AA-73AA94B0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F1F4-3395-47F1-BBCB-8B997FC2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F5D9-0988-41F4-BD9B-B45D5A4B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CCA6-2CAC-42D0-98C5-7F52F7F3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252-9C9A-480D-A056-40120ABF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6F4-1795-421A-BFC7-2435B68F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33DA-86CE-4F0E-8E37-892339F7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0D1-5A13-4C0F-AE44-EA7AE1BA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A9CF-BA96-4DAB-9EAC-BE1CEE95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B97-D684-40CC-B190-4E2A7440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399A-0C30-4D30-9DA8-E8CB926B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B1D8-E65C-4553-828F-E360E98356B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CE06-F628-475F-A284-DF9EBE5E60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1280" y="1628640"/>
            <a:ext cx="896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GLOBAL PLAN: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COST OF GLOBAL TB CONTRO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ordinating Board Meeting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 November,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Financing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implic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Plan to be used for resource mobilis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national govern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65280" y="905040"/>
            <a:ext cx="422460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sentation o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obal Plan to Stop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080" y="1413000"/>
            <a:ext cx="86756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Outline of presentation o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ackground: the planned 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os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messag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Financing implic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en years' planned achievements: highligh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50 million people treated for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Stop TB Partnership targets for 2015 achieved global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remendous progress in all reg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First new TB drug for 40 years in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Diagnostics at point of care – rapid, sensitive and inexpensive TB diagnosis by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New, safe, effective and affordable vaccine by 201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Global Plan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Country needs, R &amp;D, external agenc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nvestment according to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Available funding and g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569080" cy="51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7138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96472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Key messag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A global plan for a global campaig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$56 billion investment yields large rewards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50 million TB patients trea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Need to collaborate with others to succe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The ultimate goal depends on continued innovation (in vaccines, drugs and diagnostic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We can get there! PLAN X RESOURCES = RESULT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maherd</cp:lastModifiedBy>
  <dcterms:modified xsi:type="dcterms:W3CDTF">2005-11-08T16:48:53Z</dcterms:modified>
  <cp:revision>146</cp:revision>
  <dc:subject/>
  <dc:title>Slide 1</dc:title>
</cp:coreProperties>
</file>