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C661-6B7F-4074-A8E1-C4FE9229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D0FD-8B89-4572-B5B3-40DA0ADE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2CD8-EE2C-4967-9619-62F32240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3D67-FC90-49CD-9A10-F57EBF32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B967-F956-4883-8A9B-9F22DE2A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CE97-AD66-4CD6-ADEE-413AB634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B1AB-5685-4A2F-A6DA-380630E9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FC4D-62A2-46BC-ACCB-63D1D7D7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3BC0-5F49-43EB-91AD-6A38F7E3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BA1A-AF16-4C62-A4F9-8CEE8BB3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880F-CCD5-4618-95A1-D551DC34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496F-5257-439E-81F5-5C400F5B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737E-3394-4783-B923-40EB92DDE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24360" y="228600"/>
            <a:ext cx="5067360" cy="6629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5410080" y="2133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3352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3, 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 cases of TB no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 2004: 105, 7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+ PTB:  41,467( 39% of all ca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: All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20/100,000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 S+ P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25/1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HIV prevalence in TB Patients  -over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DRTB – Less than 1% of smear + P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2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utum sm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icroscopy centres (1/54, 000 pop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49640" y="3952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xpected Donor Support to NLTP -200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066680"/>
          <a:ext cx="8229600" cy="5708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FATM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PFA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AID ( non PEPF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alian Gr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( Biennium)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DF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D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GAC/WHO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7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unding Needs - 20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295280"/>
          <a:ext cx="8229600" cy="5329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stimated Need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vailable Funds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ap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 8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2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Expansion and Qu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0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9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96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45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6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arious funding status for the TB          (TB/HIV) control effort in Ke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ignificant funding 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onal financial resources should be coupled with strengthened capacity to utilize the resources ( responsive in country fund disbursement system and additional H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9:49:39Z</dcterms:created>
  <dc:creator>Dr Chakaya</dc:creator>
  <dc:description/>
  <dc:language>en-US</dc:language>
  <cp:lastModifiedBy>user</cp:lastModifiedBy>
  <dcterms:modified xsi:type="dcterms:W3CDTF">2005-11-10T13:54:18Z</dcterms:modified>
  <cp:revision>4</cp:revision>
  <dc:subject/>
  <dc:title>Slide 1</dc:title>
</cp:coreProperties>
</file>