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EEB-7CE2-4784-BAD3-F6AE5882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FEA-C502-4F55-9928-EB396646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F24-E34D-4708-BAE2-00839FA0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B60-1C96-4148-951E-41AB8005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8108-6AC8-455A-A9FD-5DD8A7EF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B758-C4D6-4B41-A525-937AED60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5E76-451F-4741-A48F-40BEF365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217F-A6F9-4F9B-AC7A-73FB8887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0E39-8AEF-42DD-842B-815A7A06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EE97-0EBD-4AEA-B124-91FD9E3F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8ACF-827D-432D-B660-2B431A3B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84A-BA89-47EA-8482-F7565728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E045-A14E-4282-AF7F-CF891457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A067-92A2-4D72-9B1F-195B8002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6823-D26B-4DC9-8E20-91D0DFC4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8B6D-B61D-4B15-A16A-CD0311BE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D55E-87CC-446C-84FA-8C3B27E2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300-6314-403D-BAB5-BD04F78B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1DD-03D9-4972-9E51-B6983806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130-069B-43C6-B5F9-A9672F22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5DB-FB7E-4195-8FC7-32789CB5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4A1-E2C2-4E5B-A85B-DE958EDA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DFA-4737-4883-AAA7-AB004ECE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0DC-5F1B-41B8-B2D3-166F38FE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09C7-1A4B-4E12-A885-CEB3E25C9638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9815-4424-4FF9-A194-1C796FB2359D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Patient Char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equest to the CB is to endorse the draft of the Patient Charter and encourage the Secretariat to support the launch the final version of the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403280" y="6524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N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2nd draft of the Patients´ Charter of the Tuberculosis Comm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utline both the Rights and Responsibilities of those infected by TB and to empower people with the disease and their communities through this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 tandem with the International Standards for Tuberculosis Care – focus on a “patient-centred approa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right aspect: “Right to heal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principles for more accountability and mutual interaction among all stakeholders within TB control – from patients to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 righ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a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free and equitable access to TB-care, from diagnosis to treatment and cure according to patients need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Dign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be treated with respect and a quality health care in a dignifi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know what health care services are available  for T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clear and understandable information about the dis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information about diagnosis, treatment, drugs, side-eff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share experiences with peers and voluntary counseling at any ti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Cho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accept or refuse any medication, investigation or treatment and be informed about the consequenc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whether or not take part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Privac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ersonal privacy, dignity and religious and cultural beliefs respect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have medical conditions kept confid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ompla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Right to complain through channels provided for this purpose and dealt with promptly and fair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appeal to a higher authority if not res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organiz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in/establish organisation and groups of people with or affected by TB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articipate as “stakeholders” in all levels of TB contr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secur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b security after diagnosis and appropriate rehabilit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nutritional security or food supplements if needed to meet treatmen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s´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share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vide health care provider with necessary information about their health and possible close conta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follow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ollow prescribed and agreed treatment and protect oth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form the health care provider of treatment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defend the commun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ncourage others to seek medical advice when showing TB symptom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consideration for the rights of other patients and health care provid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be empowe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solidarity with other pati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are knowledge gained during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Join in efforts to make the community TB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09:59:51Z</dcterms:modified>
  <cp:revision>16</cp:revision>
  <dc:subject/>
  <dc:title>COMMUNITY EMPOWERMENT</dc:title>
</cp:coreProperties>
</file>