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5A847-6633-462C-A8B1-F0F499191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1D2C6-CF20-4F29-8FCA-07A20A4EF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AF81E-B7D2-484A-A221-27AAF4C90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CB5AE-CF3F-4650-953D-C3BFCC375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B15AD-704F-4DFB-9998-D8C483979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760E4-F0D1-4487-BE8E-4B54AE307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8742F-B08A-4D62-A9D1-BA95CD68F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ADED4-2841-43BF-BB4A-E0717AD58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2B99B-1A39-45E1-9D64-7B7D42444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52872-6318-46A9-8E51-919F833C6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8D774-75CD-4B1A-BF8A-8F5F97DB7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D3D88-B97C-4753-8EEE-D94D96880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3F231-DCC8-4ABF-ACF3-97737373981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4920" y="2349000"/>
            <a:ext cx="8497800" cy="180036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50000">
                <a:srgbClr val="bbe0e3"/>
              </a:gs>
              <a:gs pos="100000">
                <a:srgbClr val="56676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SSIO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. reduce TB/HIV through effective collaboration between TB  and HIV programs and communities .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84280" y="4797000"/>
            <a:ext cx="6400800" cy="16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GRESS &amp; CHALLEN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00 . . . . . 2006 . . . . . . . . 20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059280" y="5372280"/>
            <a:ext cx="360360" cy="7207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80000" y="5373720"/>
            <a:ext cx="360360" cy="7207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475080" y="785880"/>
            <a:ext cx="2390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TB/HIV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3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000 . . . 2006: progress in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activ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00"/>
                </a:solidFill>
                <a:latin typeface="Arial"/>
              </a:rPr>
              <a:t>TB/HIV policies rea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ategic Framework, Guideline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im Policy, M&amp;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rveillance, “Protest” lesson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V testing policy, et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00"/>
                </a:solidFill>
                <a:latin typeface="Arial"/>
              </a:rPr>
              <a:t>TB/HIV services       2000 . . . 2004          20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HA screened for T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?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. . . 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~100,000      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26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B/HIV patients on AR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-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 . . . . 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10,000         0.4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00"/>
                </a:solidFill>
                <a:latin typeface="Arial"/>
              </a:rPr>
              <a:t>Monitoring &amp; evaluation starting 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lag about 2-3 yea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B/HIV activities grow very fast percentage w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596360" y="3500280"/>
            <a:ext cx="144360" cy="1224000"/>
          </a:xfrm>
          <a:custGeom>
            <a:avLst/>
            <a:gdLst>
              <a:gd name="textAreaLeft" fmla="*/ 42480 w 144360"/>
              <a:gd name="textAreaRight" fmla="*/ 144360 w 144360"/>
              <a:gd name="textAreaTop" fmla="*/ 50760 h 1224000"/>
              <a:gd name="textAreaBottom" fmla="*/ 117324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8748720" y="3500280"/>
            <a:ext cx="144360" cy="1224000"/>
          </a:xfrm>
          <a:custGeom>
            <a:avLst/>
            <a:gdLst>
              <a:gd name="textAreaLeft" fmla="*/ 0 w 144360"/>
              <a:gd name="textAreaRight" fmla="*/ 101160 w 144360"/>
              <a:gd name="textAreaTop" fmla="*/ 50760 h 1224000"/>
              <a:gd name="textAreaBottom" fmla="*/ 1173240 h 1224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 rot="20563200">
            <a:off x="5508720" y="1268280"/>
            <a:ext cx="1314360" cy="17496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 rot="20558400">
            <a:off x="6156360" y="1341360"/>
            <a:ext cx="1290600" cy="16891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 rot="20595000">
            <a:off x="6803640" y="1341360"/>
            <a:ext cx="1236600" cy="16606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4"/>
          <a:stretch/>
        </p:blipFill>
        <p:spPr>
          <a:xfrm rot="20613600">
            <a:off x="7308360" y="1557360"/>
            <a:ext cx="1089000" cy="15127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5"/>
          <a:stretch/>
        </p:blipFill>
        <p:spPr>
          <a:xfrm rot="20583000">
            <a:off x="7740360" y="1557360"/>
            <a:ext cx="1098360" cy="15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000 . . . 2006: progress in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interaction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3200" spc="-1" strike="noStrike">
                <a:solidFill>
                  <a:srgbClr val="0000ff"/>
                </a:solidFill>
                <a:latin typeface="Arial"/>
              </a:rPr>
              <a:t>41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B/HIV count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. . .  2004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00"/>
                </a:solidFill>
                <a:latin typeface="Arial"/>
              </a:rPr>
              <a:t>TB/HIV pl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2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ve jointly written TB/HIV p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00"/>
                </a:solidFill>
                <a:latin typeface="Arial"/>
              </a:rPr>
              <a:t>National policy for TB/HIV testing</a:t>
            </a:r>
            <a:r>
              <a:rPr b="0" lang="en-US" sz="2800" spc="-1" strike="noStrike">
                <a:solidFill>
                  <a:srgbClr val="00cc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19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fer routine HIV testing for TB pati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00"/>
                </a:solidFill>
                <a:latin typeface="Arial"/>
              </a:rPr>
              <a:t>Coordinating body for TB/HI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2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ve TB/HIV coordination body/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. . . 2006: estimates substantially high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006 . . . 2015 Key Challen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Limited engagement between key partn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B &lt;&gt; HIV/AID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B/HIV &lt;&gt; Health System, Communi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Health System shortcom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R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itutional weakness, e.g. referral mechanis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‘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Know how’ ga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agnostics for SS- pati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scale up Community involv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006 . . . 2015 Key Strateg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Limited engagement between key partn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B &lt;&gt; HIV/AID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B/HIV &lt;&gt; Health System, Communi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Health System shortcom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R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itutional weakness, e.g. referral mechanis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‘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Know how’ ga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agnostics for SS- pati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scale up Community involv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84360" y="2203560"/>
            <a:ext cx="649080" cy="288720"/>
          </a:xfrm>
          <a:prstGeom prst="rightArrow">
            <a:avLst>
              <a:gd name="adj1" fmla="val 50000"/>
              <a:gd name="adj2" fmla="val 56203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4360" y="2635200"/>
            <a:ext cx="649080" cy="289080"/>
          </a:xfrm>
          <a:prstGeom prst="rightArrow">
            <a:avLst>
              <a:gd name="adj1" fmla="val 50000"/>
              <a:gd name="adj2" fmla="val 56133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84360" y="3571920"/>
            <a:ext cx="649080" cy="288720"/>
          </a:xfrm>
          <a:prstGeom prst="rightArrow">
            <a:avLst>
              <a:gd name="adj1" fmla="val 50000"/>
              <a:gd name="adj2" fmla="val 56203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4360" y="4005360"/>
            <a:ext cx="649080" cy="288720"/>
          </a:xfrm>
          <a:prstGeom prst="rightArrow">
            <a:avLst>
              <a:gd name="adj1" fmla="val 50000"/>
              <a:gd name="adj2" fmla="val 56203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84360" y="5445000"/>
            <a:ext cx="649080" cy="289080"/>
          </a:xfrm>
          <a:prstGeom prst="rightArrow">
            <a:avLst>
              <a:gd name="adj1" fmla="val 50000"/>
              <a:gd name="adj2" fmla="val 56133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50920" y="2276640"/>
            <a:ext cx="287280" cy="3960720"/>
          </a:xfrm>
          <a:prstGeom prst="downArrow">
            <a:avLst>
              <a:gd name="adj1" fmla="val 50000"/>
              <a:gd name="adj2" fmla="val 344674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92000" y="5999040"/>
            <a:ext cx="8101080" cy="39888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ffffcc"/>
              </a:gs>
              <a:gs pos="100000">
                <a:srgbClr val="ffcc00"/>
              </a:gs>
            </a:gsLst>
            <a:lin ang="5400000"/>
          </a:gradFill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ff"/>
                </a:solidFill>
                <a:latin typeface="Times New Roman"/>
              </a:rPr>
              <a:t>HEALTH SYSTEM STRENGTHENING IS COMMON DENOMINA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580000" y="4941720"/>
            <a:ext cx="863640" cy="289080"/>
          </a:xfrm>
          <a:prstGeom prst="leftArrow">
            <a:avLst>
              <a:gd name="adj1" fmla="val 50000"/>
              <a:gd name="adj2" fmla="val 74689"/>
            </a:avLst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636600" y="4341960"/>
            <a:ext cx="2166480" cy="100872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ffffcc"/>
              </a:gs>
              <a:gs pos="100000">
                <a:srgbClr val="ffcc00"/>
              </a:gs>
            </a:gsLst>
            <a:lin ang="5400000"/>
          </a:gradFill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8000"/>
                </a:solidFill>
                <a:latin typeface="Times New Roman"/>
              </a:rPr>
              <a:t>ACCELER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8000"/>
                </a:solidFill>
                <a:latin typeface="Times New Roman"/>
              </a:rPr>
              <a:t>DEVELOPM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8000"/>
                </a:solidFill>
                <a:latin typeface="Times New Roman"/>
              </a:rPr>
              <a:t>OF NEW TO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94920" y="2349000"/>
            <a:ext cx="8497800" cy="180036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50000">
                <a:srgbClr val="bbe0e3"/>
              </a:gs>
              <a:gs pos="100000">
                <a:srgbClr val="56676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SSIO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. reduce TB/HIV through effective collaboration between TB  and HIV programs and communities .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1484280" y="4797000"/>
            <a:ext cx="6400800" cy="16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GRESS &amp; CHALLEN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00 . . . . . 2006 . . . . . . . . 20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059280" y="5372280"/>
            <a:ext cx="360360" cy="7207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580000" y="5373720"/>
            <a:ext cx="360360" cy="7207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475080" y="785880"/>
            <a:ext cx="2390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TB/HIV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 rot="19624200">
            <a:off x="-96840" y="2687760"/>
            <a:ext cx="9198000" cy="127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Thank you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31T06:58:29Z</dcterms:created>
  <dc:creator>elzingag</dc:creator>
  <dc:description/>
  <dc:language>en-US</dc:language>
  <cp:lastModifiedBy>bakerl</cp:lastModifiedBy>
  <dcterms:modified xsi:type="dcterms:W3CDTF">2006-05-02T14:59:32Z</dcterms:modified>
  <cp:revision>20</cp:revision>
  <dc:subject/>
  <dc:title>TB/HIV Challenges, Abuja </dc:title>
</cp:coreProperties>
</file>