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0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1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C194-117E-4B8C-95A8-8442C0649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ufficient clinical trial sites that meet GCP/GMP standards with trained personnel, sound infrastructure and appropriate procedures for patient recruitment, compliance and retention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armonized regulatory guidelines, including fast-track appro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robust and sustained pipeline of new drug candidates and back-up progra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nimal models and validated surrogate markers broadly adopted by TB drug developers to aid in early identification of promising versus unpromising candidat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iomarkers and surrogate endpoints to aid translational research and speed clinical developmen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esting programs that enable more rapid and precise dose selection and optimization of complementary drug combin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8ECA-C4AB-4268-87C9-A899D2E19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7D90-9AE0-4EF6-8A8B-BEA980327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481D8-8E2B-4AB8-8AF4-2369DC4ABC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EB70D-99BD-486C-9AE2-595FC9020C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ED559-E2B2-4782-83A7-7EB9C17204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490BB-8671-4A3F-A42B-1D80FEAEBC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BB05F-C9B1-41E1-A13B-0455478A8B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A3AE6-EDEC-4351-9AF4-75152135EF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AFD89-CAB4-42D8-90BE-E6739DD5F0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882C1-97F7-421E-8888-B703DF4512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ADEBD-092F-43BF-9F18-7875248F79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2076C-79B4-43BF-A0A1-67AD3174E8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6FA4A-B867-4C92-8267-9BD42789EB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BC8A3-E893-4B0A-AB78-B7279E9CF5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87B45-A843-4E82-8BC5-79768D4CB1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E4D6E-46C4-44E2-BFC7-405DC66BD4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9467F-53EA-414B-97BC-2C8643ABDDA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A4ADB-ACEA-47C9-8D1B-832006E1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1662E-34A8-4765-B622-02DF07CF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C0DE1-84DF-459D-A1E4-30A5E370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4D59C-0EA1-40F9-B583-1B8B5D29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3A1E9-B0BB-4009-9113-6006D4A8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87E34-18D3-41A3-A680-D1967A686F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44DE9-FDE8-4697-BFCF-02A5FEC7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2564E-48CF-4E3B-8461-D1D1E4F6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4085A-1C5D-4ACC-B635-6E507059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00D9E-FC70-4059-BC66-4A949251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0DCFB-DE8F-4590-85A3-D1352EC3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B9F80-54A9-43E9-AA93-563F0FFC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4F181-4D14-4984-B5C6-9C8F7E1C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3E011A-A2EB-47EE-93DB-4E92BC21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55A22-E4ED-4EDB-A89C-41B92903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5FFBB1-D7C9-4F8D-9895-9CE9529A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D8AE1-EB5A-47F7-9BE4-081C65961F0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55A58D-0818-401D-8838-CBAB1989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AD721B-116B-4A88-9C6E-AA15C285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68B11-8055-47B7-BF9B-D513482E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34864-E6B5-4D1D-9B66-AA07C742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AB3A6E-66B3-4DA2-AB7C-17D5B850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499B1C-6D95-490F-B9C1-AA212BB7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2528D7-B369-4DFC-B053-401D272E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0AE195-51D1-465E-BFC4-9D69166D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307A94-7AF0-411A-91A4-7C4FCB22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BCD02-B458-4100-8F13-ECFA647EA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A1808-91C7-400C-B1FF-687B029F2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99749-FE90-4CA5-941B-9C59491F4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52BD1-E2C2-40B4-A5C6-590C9BA03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80A43-8862-4715-8849-E09FEB42D5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720" y="152388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C561-BF8A-412F-B653-D32217517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3428-11BB-42A7-AB6C-4FE456A4E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7E27-5499-4C68-86B9-FE2F31135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CD01-C0C8-4974-B035-F10CB4786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Group on New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619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erationalizing” the Strategic Pl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71440" y="4832280"/>
            <a:ext cx="680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TB Partnership Coordinating Board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uja, Nig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4-25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orking Group Needs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rom the Strategic Pla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73152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obust and sustained new drug pipe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trial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onized regulatory guidelines, fast-track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 models and validated surrogat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rkers and surrogate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32240" y="243828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2006 – 2007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160"/>
                            </p:stCondLst>
                            <p:childTnLst>
                              <p:par>
                                <p:cTn id="13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59"/>
                            </p:stCondLst>
                            <p:childTnLst>
                              <p:par>
                                <p:cTn id="1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3520" y="233208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landscape of TB compounds in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detailed inventory of clinical trial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ogue with regulatory authorities on guidances nas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t need for funding - $3.6B gap for drugs alone (2006 - 201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14600" y="3200400"/>
            <a:ext cx="6324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990720"/>
            <a:ext cx="6782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4920" y="1981080"/>
          <a:ext cx="8762760" cy="4647960"/>
        </p:xfrm>
        <a:graphic>
          <a:graphicData uri="http://schemas.openxmlformats.org/drawingml/2006/table">
            <a:tbl>
              <a:tblPr/>
              <a:tblGrid>
                <a:gridCol w="2666880"/>
                <a:gridCol w="3352680"/>
                <a:gridCol w="274320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 Role/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ust and sustained pipeline of new drug candidates and back-up progr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comprehensive mapping of the global TB drug portfolio via a web-based survey and make results available to WG membe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launch: summer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finalization and presentation: fall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onized regulatory guidelines; fast-track appro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e and sponsor open forums on key regulatory issues in TB drug development with regulatory authorities, industry and WG me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conference: Washington, DC, December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conference: Europe, September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cient clinical trial sites meeting GCP/GMP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te and disseminate results of clinical trial site assessments by WG part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365560" y="1069920"/>
            <a:ext cx="53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 Plan and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1:10:34Z</dcterms:created>
  <dc:creator>Beth Oldham</dc:creator>
  <dc:description/>
  <dc:language>en-US</dc:language>
  <cp:lastModifiedBy>bakerl</cp:lastModifiedBy>
  <dcterms:modified xsi:type="dcterms:W3CDTF">2006-05-02T15:02:01Z</dcterms:modified>
  <cp:revision>2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F5BE291CF156FA40B2C348AEB191C4DD449A2C00</vt:lpwstr>
  </property>
  <property fmtid="{D5CDD505-2E9C-101B-9397-08002B2CF9AE}" pid="3" name="_ReviewCycleID">
    <vt:r8>984594159</vt:r8>
  </property>
  <property fmtid="{D5CDD505-2E9C-101B-9397-08002B2CF9AE}" pid="4" name="_ReviewingToolsShownOnce">
    <vt:lpwstr/>
  </property>
</Properties>
</file>