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B62A-67B6-4E3E-8508-6F9F9FE52E5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4A18-732B-49A6-A8F3-DD706EF9A38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366F-E5FE-4141-8B49-E14546C37C5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5E97-56E7-48CA-B688-DCE1A3EAC30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637A-ED4C-41A2-812E-316BCF464E8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309C-FD76-46D7-8F15-7DE222341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4ECC-D6ED-454B-B931-E14E785D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FC70-8E62-4BDE-BF37-929EE0274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8F93-0D30-45A3-9525-A71DE3AEF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CDEE-88F0-487B-A27A-223D80402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7852-FDE9-4424-9E03-69CF56B9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7205-AB12-45AC-813A-D2103E7B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B2B8-9D6D-470A-82F8-0CAFEC45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5A2A-9DAA-418F-AB9E-2CDB08E2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4BFF-2F4C-4E10-8B4E-BF13F93B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2E06-4644-491A-9D4D-20E46206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6AA1-FEB9-4143-92A1-2D1E1B83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6BEA-1440-468D-961F-891B37A5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D715-0716-44BD-A068-655F0888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1ED1-8C9B-4110-A257-C351273A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94B5-778D-477D-A271-6AE21BA98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01C97-A9FD-4D62-A3A5-82AA6EB5A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696F-6EBF-4F2C-8343-BE82DF90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F3CA-721B-4836-867A-33DB6A44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5647-BB8F-466C-9396-B08657F9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BFB4-2E0E-46AD-8FF3-4F5BB523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5B27-6EF5-4C3A-94DD-ECBE9A94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C464-230A-4F7E-87C3-946EA03A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F839-04CD-40EB-9335-61BC1B38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15AF-6680-4DB9-9B8D-493A45EAB38B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5EC1-F61C-449B-9B48-EE8CE2F3C2B6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844280"/>
            <a:ext cx="77738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WG on New TB Vaccines – 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where do we go from here?</a:t>
            </a:r>
            <a:br>
              <a:rPr sz="3200"/>
            </a:br>
            <a:endParaRPr b="1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Lessons from GP1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Overall objective: 5 vaccine candidates in phase I clinical trials by the end of 2005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Lesson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Sense of ownership / buy-in by partners does not com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automatically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G must position itself more prominently as a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" 1st  stop shop " on vaccine R&amp;D matters, both inside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the TB vaccine community and to the outsid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Resource mobilization must become more professiona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Mechanisms for a more rapid response by the WG to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upcoming challenges need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A strategic "scaffold" ("roadmap"/"blueprint") for th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ide range of diverse activities is needed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Challenges for GP2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Overall objective: a safe, effective licensed vaccine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available at affordable cost by 2015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	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</a:t>
            </a: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Challeng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Technical:      lacking immune surrogate of protection, diagnosis of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clinical trial endpoints, in particular in childre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Economic:     estimated cost to bring existing candidates to licensure: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US$ 600million, estimated availability : US$ 60 million 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Normative:    no regulatory capacity fro vaccine trial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in endemic countr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Participatory: few industry,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no endemic country participation i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                          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formulation of research goa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G function: Need to increase response time &amp; visibility for the W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6732720" y="609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How can the Board help?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Resource Mobilization, Advocacy, Link with the TB control community for epidemiology, laboratory, trial site selection… 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Use Board links with highest levels of government as well as grassroots to create a momentum &amp; pressure &amp; ownership in endemic countries for TB vaccine develop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</a:t>
            </a: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National Plans for TB Vaccine Development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         </a:t>
            </a:r>
            <a:r>
              <a:rPr b="0" lang="en-GB" sz="32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</a:t>
            </a:r>
            <a:r>
              <a:rPr b="0" lang="en-GB" sz="3200" spc="-1" strike="noStrike">
                <a:solidFill>
                  <a:srgbClr val="990000"/>
                </a:solidFill>
                <a:latin typeface="Mistral"/>
                <a:ea typeface="宋体"/>
              </a:rPr>
              <a:t>tool (?) developmen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                                </a:t>
            </a:r>
            <a:r>
              <a:rPr b="0" lang="en-GB" sz="4000" spc="-1" strike="noStrike">
                <a:solidFill>
                  <a:srgbClr val="990000"/>
                </a:solidFill>
                <a:latin typeface="Lucida Handwriting"/>
                <a:ea typeface="宋体"/>
              </a:rPr>
              <a:t>research </a:t>
            </a:r>
            <a:r>
              <a:rPr b="0" lang="en-GB" sz="4000" spc="-1" strike="noStrike">
                <a:solidFill>
                  <a:srgbClr val="990000"/>
                </a:solidFill>
                <a:latin typeface="Mistral"/>
                <a:ea typeface="宋体"/>
              </a:rPr>
              <a:t>(?) </a:t>
            </a:r>
            <a:endParaRPr b="0" lang="en-US" sz="40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0000"/>
              </a:solidFill>
              <a:latin typeface="Tahom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508720" y="4508640"/>
            <a:ext cx="3490560" cy="1150560"/>
            <a:chOff x="5508720" y="4508640"/>
            <a:chExt cx="3490560" cy="1150560"/>
          </a:xfrm>
        </p:grpSpPr>
        <p:sp>
          <p:nvSpPr>
            <p:cNvPr id="98" name=""/>
            <p:cNvSpPr/>
            <p:nvPr/>
          </p:nvSpPr>
          <p:spPr>
            <a:xfrm flipV="1">
              <a:off x="5572440" y="4508640"/>
              <a:ext cx="1292760" cy="61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08720" y="4584960"/>
              <a:ext cx="1358280" cy="61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766480" y="4660920"/>
              <a:ext cx="3232800" cy="84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54200" y="4738680"/>
              <a:ext cx="2781360" cy="920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828720" y="4437000"/>
            <a:ext cx="1582560" cy="649440"/>
          </a:xfrm>
          <a:prstGeom prst="rightArrow">
            <a:avLst>
              <a:gd name="adj1" fmla="val 50000"/>
              <a:gd name="adj2" fmla="val 6092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5640" y="5661000"/>
            <a:ext cx="3241440" cy="647640"/>
          </a:xfrm>
          <a:prstGeom prst="wedgeRoundRectCallout">
            <a:avLst>
              <a:gd name="adj1" fmla="val 291"/>
              <a:gd name="adj2" fmla="val -148282"/>
              <a:gd name="adj3" fmla="val 16667"/>
            </a:avLst>
          </a:prstGeom>
          <a:solidFill>
            <a:srgbClr val="ffffff"/>
          </a:solidFill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720000"/>
                </a:solidFill>
                <a:latin typeface="Tahoma"/>
              </a:rPr>
              <a:t>Inspired by the National (African) AIDS Vaccine Development Plans (AAVI)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57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The new WG Chair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  <a:ea typeface="宋体"/>
              </a:rPr>
              <a:t>Mr Michel GRECO, former CEO of Aventis (now Sanofi) Pasteur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MG is looking forward to strong interaction with the Board and counts on its suppor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TB vaccine landscape has strongly improved over the last couple of years, the TB vaccine community is more ready to act in a coordinated fashion, to optimize resources and to develop standards that should ease the prioritization process down the roa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re is a continued need to open new research avenues as it is too early to assume that existing products will make it to marke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need for and the opportunities offered must be attacked more aggressively, more research, more advocacy, more fund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secretariat will need more resources to keep up with the with the growing task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re is going to be abn increased newsflow on TB vacines over the coming years and MG is looking forward to becoming a bearer of hopefully good news to the board in the futur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bakerl</cp:lastModifiedBy>
  <cp:lastPrinted>2004-03-17T17:37:17Z</cp:lastPrinted>
  <dcterms:modified xsi:type="dcterms:W3CDTF">2006-05-02T15:03:14Z</dcterms:modified>
  <cp:revision>213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