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17D7-B907-45BF-A393-4BA98564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8C0B-35D9-40A2-938D-2ACB5723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DAE-3819-447C-B08F-BD9B2B7A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0995-09D4-4D70-B0DD-B7CE3DCA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F793-32F8-4131-B852-0FD02962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7D58-58BC-4AA5-BCE4-73453AD5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CE72-E4A6-42BD-8E9F-E6693A87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DB4A-F014-4585-8CB1-F624447D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29D2-DBC7-439A-A38A-CE7B0D6C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ABF9-FCDA-4BF6-A19B-1744A37B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1085-857C-4B4C-9545-3D587513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CF68-EF9E-46C0-A638-88D5F25B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969A-1E0D-4757-A441-241EA1D6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274F-2943-4497-8D4C-E50E68DB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DA27-D75E-474F-92D5-74604FB3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EA9D-99DF-4984-B061-7057EE4A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9243-07D8-4091-B856-FE3B2C76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F0FA-728D-4C6E-8731-B36C4E14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1FBD-C9D0-4E57-A379-32FFAC7C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A3C-446E-4B10-86CD-8A8DD5AF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F3EC-E24F-4E97-9863-A05DBCB6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D18E-0714-4023-AD69-0140A259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DE82-9F86-4649-8BBA-34472C58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612-42DF-466E-9DA9-CDFAD56A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FF0C-2B61-4915-AE85-5C3C40969D83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89AC-3258-4342-AF0C-FEADB407C646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group on Laboratory Capacity Strengthening (SL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7080" y="4653000"/>
            <a:ext cx="7707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DOTS Expansion Working Group (DEWG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549360"/>
            <a:ext cx="6629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olicy review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pert consultation meeting on optimization of AFB microscopy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(Geneva, 1-2 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nnual Laboratory Subgroup and SRLN meeting (4 meetings organized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 of training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Laboratory Management Training  in collaboration with EMRO (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ternal quality assurance (EQA) workshop in AFRO (Octo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595080"/>
            <a:ext cx="66294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jor activities for 2006-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Rapid implementation of the Strategic Approach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To address the needs of DOTS Expansion, MDR-TB and TB/HIV 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5 trainings for lab management, culture and DS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Support selected countries for evaluation, planning and capacity strengthening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20 assessment and monitoring missions in priority HBC (global and regional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the pool of lab experts at international, regional and national levels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3 workshops for consultants and national workshops in selected countries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Finalization of standardization and development of training material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Raise financial resources at the international level to support countries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15 million $US gap for critical needs 2006-2009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allocation of financial resources for laboratory at country levels (GFATM…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Improve coordination among partners to optimize use of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est from the Stop TB Coordinating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4756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Re-profiling the Sub-group into a Working Group for Laboratory Capacity Strengthening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The Chair of the newly established Working Group to be granted membership of the Stop TB Coordinating Boar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rovide technical support to develop resource mobilization plan to raise funds (15 million $ US) for the implementation of the Laboratory Strengthening Strategic Approach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B diagnostic services form the foundation for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has been traditionally a neglected component of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activities are crosscutting issues for the three implementation working groups (DEWG, DOTS-Plus, TB/HIV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Prior to the establishment of SLCS, efforts to improve laboratory work were neither streamlined nor coordinated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63640" y="185724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DOTS Expansion Working Group</a:t>
            </a:r>
            <a:br>
              <a:rPr sz="1800"/>
            </a:b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DEW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4508640"/>
            <a:ext cx="5761080" cy="146556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hair: at present- Prof. F. Portael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ecretariat: WHO-HQ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Members: SRL Network &amp; Partners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The Union/CDC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KNCV/GLRA/… others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14172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ub-Group on Laborator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apacity Strengthening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60280"/>
            <a:ext cx="78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바탕체"/>
              </a:rPr>
              <a:t>Establishment of the Subgroup on Laboratory Capacity Strengthening in 2002</a:t>
            </a:r>
            <a:endParaRPr b="0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924280"/>
            <a:ext cx="0" cy="217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221000"/>
            <a:ext cx="0" cy="2890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ituation analysis (22 HB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Most of HBCs have an established TB laboratory network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countries report to have National Reference Laboratory to oversee the organization and performance of the network; however some of them are weak and not fully functiona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HBCs report to have EQA scheme for smear microscopy; however, majority report it's limited coverage and suboptimal quality of implement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4 countries perform culture at the national/regional level according to nationally-defined specifications, which are not always consistent with international recommendations. In addition, there is no quality control of culture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In general, major impediments to perform diagnostic tests (especially culture and DST) are inadequate equipment and infrastructure, lack of technical knowledge, shortage of human and financial resourc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74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trategic Approach to Strengthen Laboratory Services for Tuberculosis Control  (2006-20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47560"/>
            <a:ext cx="84358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3053"/>
                </a:solidFill>
                <a:latin typeface="Arial"/>
                <a:ea typeface="굴림"/>
              </a:rPr>
              <a:t>Objectives of the Strategic Approach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support countries to improve the performance of TB laboratories</a:t>
            </a:r>
            <a:r>
              <a:rPr b="1" lang="en-GB" sz="2000" spc="-1" strike="noStrike">
                <a:solidFill>
                  <a:srgbClr val="bfa907"/>
                </a:solidFill>
                <a:latin typeface="Arial"/>
                <a:ea typeface="굴림"/>
              </a:rPr>
              <a:t> </a:t>
            </a: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achieve the following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Implement a well-functioning QA programme for AFB smear microscopy in 100% of microscopy centres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Ensure access to culture and DST services for at least 40% of the eligible population (this will be determined according to national policy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promote a fully functional laboratory network with common objectives, programming, supervision and evaluatio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tandardization of laboratory documen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Assessment too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raining material 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echnical guidelines and manua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Assessment of laboratory servi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B smear microscopy network (structure, HR and performance)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he reference laboratory capacity and performance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dentify key elements to improve lab performance and increase capacity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upporting countries in planning, training and identification of funding to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lement QA system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Strengthen the capacity of laboratory network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Organize the TB laboratory network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rove quality and increase quantity of human resource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43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Monitoring and evaluation of progres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Upgrade laboratories capacity by technology transfer and introduction of new tool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number of international consultant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and sustain financial resource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Strengthen partnership and advocacy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Development of technical documents and guideli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inalization of the Laboratory Strategic Approach to improve performance of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diagnostic servic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hecklist to evaluate culture and DST technique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an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Revision of TB Laboratory Management Training curriculum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ugust 2005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QA system for culture and DST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Febr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ramework for revision of the TB laboratory guidelin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Uniform training curricula for AFB smear microscopy (workshop in the box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Ma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tandard operating procedures guidelines (SOP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ul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ompendium of performance indicators for TB laboratory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September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74920"/>
            <a:ext cx="86421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/participation in assessment missions and programmes review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pproximately 40 assessment missions since 2002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However, not all partner organizations have coordinated their missions with secretariat of sub-group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Establishment of regional task force for laboratory improvement and development of regional strategi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URO (January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WPRO (Januar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MRO (March 2006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EARO (Jul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0:15:23Z</dcterms:created>
  <dc:creator>test</dc:creator>
  <dc:description/>
  <cp:keywords/>
  <dc:language>en-US</dc:language>
  <cp:lastModifiedBy>BlancL</cp:lastModifiedBy>
  <dcterms:modified xsi:type="dcterms:W3CDTF">2006-04-24T11:38:42Z</dcterms:modified>
  <cp:revision>16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_TemplateID">
    <vt:lpwstr>TC011812271033</vt:lpwstr>
  </property>
</Properties>
</file>