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BBB-5548-4011-A894-C3CC27A6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442-F18D-40E3-9ECA-500D0EFF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0D8-4276-48CF-B4C6-9BB1D1D6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8C1E-8B47-4EDA-87C9-0F659912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1CD-A58C-434E-BEC7-713D9AD3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CD9-B96C-4CBA-B0AF-BAFF2207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42B-E042-400D-8CCA-D81146FD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3F7-3F30-4578-A611-BAF742F4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4FA-382F-48AF-B321-8ADD51AE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EDE4-D874-4BAD-BF72-80A21E98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75F7-4694-4D03-AF99-E123F343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94B-A9CF-4FC0-9A94-1A27CD5A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C53C-D7C6-4677-A09B-C870695EF49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High Leve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berculosis – a regional emerg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enhagen, 16-17 Octo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presentation to Coordinating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on lates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e comments and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high level mission to participate in Ministerial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nnium Development Goal for TB and Stop-TB targets may not be met in Africa and Eastern Europe/Central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stern Europe major problems with high MDR-TB rates and increasing TB-HIV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clared tuberculosis regional emergency in Europe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olitic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versies on technic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xternal support from Western Europe (health concerns versus development ag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 and objectiv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e progress towards achieving MDGs and targets for TB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political and financial support to TB control in line with Global Plan 2006-2015 in priorit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awareness and commitments of European and other international d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European Stop-TB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Committee (chair Zaleskis) and Steering Committee (chair Borgdorff) established in Januar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and place set: 16-17 October 2006 in Copenh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ation letter ready, to be signed by Regional Director and Minister of Health of Finland (EU Presidenc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f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ees: Ministers of Health, Finance (East), Justice (East), Foreign Affairs/Development Cooperation (West), as well as selecte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al programme draf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el discussions on the TB threat (incl MDR-TB and TB-HIV), collaboration between European countries, and bridging the financial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and adoption of Copenhagen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ing the Stop TB Partnership for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declaration being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cy plan being finalised, including pre-events in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documents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‘ next steps’ in preparation (from regional to national emergency; development of country p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budget $ 300,000 – 35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: number of participants, location, air f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s so f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29,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-TB Partnership/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  5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gap: in the order of $  1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contributions expected or applied for: TB societies (Netherlands, Russia, Finland), USAID, Gate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yet directly from Western European Governments, except reception by Govt of Finland (EU presidency), and support from Italy through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6:27:26Z</dcterms:created>
  <dc:creator>kncv</dc:creator>
  <dc:description/>
  <dc:language>en-US</dc:language>
  <cp:lastModifiedBy>bakerl</cp:lastModifiedBy>
  <dcterms:modified xsi:type="dcterms:W3CDTF">2006-05-02T15:11:46Z</dcterms:modified>
  <cp:revision>5</cp:revision>
  <dc:subject/>
  <dc:title>European High Level Ministerial Forum  Tuberculosis – a regional emergency</dc:title>
</cp:coreProperties>
</file>