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12.jpeg" ContentType="image/jpeg"/>
  <Override PartName="/ppt/media/image7.jpeg" ContentType="image/jpeg"/>
  <Override PartName="/ppt/media/image13.jpeg" ContentType="image/jpeg"/>
  <Override PartName="/ppt/media/image8.jpeg" ContentType="image/jpeg"/>
  <Override PartName="/ppt/media/image3.wmf" ContentType="image/x-wmf"/>
  <Override PartName="/ppt/media/image2.wmf" ContentType="image/x-wmf"/>
  <Override PartName="/ppt/media/image23.jpeg" ContentType="image/jpeg"/>
  <Override PartName="/ppt/media/image4.wmf" ContentType="image/x-wmf"/>
  <Override PartName="/ppt/media/image27.wmf" ContentType="image/x-wmf"/>
  <Override PartName="/ppt/media/image26.png" ContentType="image/png"/>
  <Override PartName="/ppt/media/image14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22.jpeg" ContentType="image/jpeg"/>
  <Override PartName="/ppt/media/image1.jpeg" ContentType="image/jpeg"/>
  <Override PartName="/ppt/media/image15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D6E2-B987-479D-A240-FBB79A1B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1FAC-D4A8-4FF9-86C8-7633183E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8BB6-1B21-4CA8-B490-E75A14A2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12CD-0FFA-4AC7-AE75-79B2B3F4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2282-2ACC-4892-A6BE-635C74DC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78EF-6533-4922-A11B-EF5310D2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1015-89C1-45B4-9C13-4A8E42C3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A523-7B23-4BB2-95EE-37CD5BD0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B422-E332-4A72-B90C-62A2F3AC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1F3B-23AB-4941-969A-99B71035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0260-3BE5-483C-BB4A-52EFF131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10DC-AEB2-4A7F-AD54-B9AB6441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6018-9B58-4FBA-B967-93C34CA871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optb.org/events/partners_forum/2004/default.asp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h/imgres?imgurl=http://www.imakinaria.com/archives/mh-bullseye.jpg&amp;imgrefurl=http://www.imakinaria.com/archives/2004_10.html&amp;h=600&amp;w=800&amp;sz=80&amp;tbnid=UUbWhQZIJ2yl5M:&amp;tbnh=106&amp;tbnw=142&amp;hl=en&amp;start=8&amp;prev=/images%3Fq%3Dbullseye%26svnum%3D10%26hl%3Den%26lr%3D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owetogospelchor.de/show/index.htm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" descr="Keeping the Pled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378400"/>
            <a:ext cx="5470560" cy="147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76400" cy="3324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84360" y="2205000"/>
            <a:ext cx="3724200" cy="2714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995640" y="1197000"/>
            <a:ext cx="5000760" cy="332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6084720" y="3533760"/>
            <a:ext cx="2876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pportunity!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989000"/>
            <a:ext cx="860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sen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ible platfor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ling 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ing of successes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nouring TB hero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light key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level advocac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ster 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higher profile for TB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tellite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far NOT an inclusive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413000"/>
            <a:ext cx="7848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dated in Partnership structure and procedures as the body to which all other elements of the Partnership are answer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roved by the Board and WHO in the 2006-7 workplan and already earmarked by donors for funding through the trust fund ($366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ard committed to Forum in Africa in the Bluepri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ed to fully implement and fund the Global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       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bjective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1773360"/>
            <a:ext cx="73436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o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ancing su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etplace for connecting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luence policy in host country and through bilateral CB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e countries that have reached 2005 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trends i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external review of Partnership and call for endorsement of recommend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36440"/>
            <a:ext cx="2087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91640" cy="4994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 flipV="1">
            <a:off x="5076360" y="508464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203280" y="486864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7019640" y="314136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92360" y="450828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360" y="57340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87640" y="537372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623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apet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6000" y="57340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ohannesbu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494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Nairob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12000" y="371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eij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77336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1844640"/>
            <a:ext cx="7128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mi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illing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olicy Chang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ase of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348680" y="0"/>
            <a:ext cx="1795320" cy="1811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940360" y="105264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397640" y="4508640"/>
            <a:ext cx="174636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724360" y="3284640"/>
            <a:ext cx="1798920" cy="1706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7236000" y="2421000"/>
            <a:ext cx="2122200" cy="1816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5651640" y="5383080"/>
            <a:ext cx="18302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r>
              <a:rPr b="0" lang="en-GB" sz="4800" spc="-1" strike="noStrike">
                <a:solidFill>
                  <a:srgbClr val="0000ff"/>
                </a:solidFill>
                <a:latin typeface="Arial Rounded MT Bold"/>
              </a:rPr>
              <a:t>Johannesburg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773360"/>
            <a:ext cx="88200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um in Africa answers to the CB commitment make in the Blueprint for Af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 willingness to host Forum is being explo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for positive policy change is substantial given positive signals from Deputy President and Presid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st savings are potentially large if linked to the Capetown IUATLD meeting.  Media attention can be managed strategically to benefit both ev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frastructure, transport and media access are very g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t's make something to celebrate in South Africa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7840"/>
            <a:ext cx="82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ctober 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484280"/>
            <a:ext cx="8209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stantial cost savings if the Forum is held immediately before the IUATLD Congress in Capetown, end of October, 2007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dia messages can be managed with IUATLD to ensure a WIN-WIN scenario: a media crescendo throughout the forum and congress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timing will allow us – starting now – to build momentum,  secure very high level involvement, prepare background papers and communication products,  secure venue, ensure consul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543040" cy="1704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99160" y="3597120"/>
            <a:ext cx="4344840" cy="326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Participants in the First Technical Advisory Group Meeting to Stop TB in the Western Pacific Region"/>
          <p:cNvPicPr/>
          <p:nvPr/>
        </p:nvPicPr>
        <p:blipFill>
          <a:blip r:embed="rId3"/>
          <a:stretch/>
        </p:blipFill>
        <p:spPr>
          <a:xfrm>
            <a:off x="1619280" y="2133720"/>
            <a:ext cx="4562280" cy="2438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651640" y="1332000"/>
            <a:ext cx="3492360" cy="202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50920" y="4000680"/>
            <a:ext cx="3676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cut Africa High prevalence rate in half from 2006 baseline by 2015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608200"/>
            <a:ext cx="9144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413000"/>
            <a:ext cx="763272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ship Secretariat led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ittees for major areas of work and overs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fessional projec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cal advocacy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siness community as KEY local and global part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sibility of a secondment to 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 South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e3ebf1"/>
                </a:solidFill>
                <a:latin typeface="Arial Rounded MT Bold"/>
              </a:rPr>
              <a:t>Discussion Point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atellite events: research mee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kground docu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bi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lusive or inclus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dget lim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litical advocacy strate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ccess criter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49920" y="3789360"/>
            <a:ext cx="24940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reach fair financing goals for all HBCs and major donors?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8353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knew exactly what new research programmes to ask for from EU and NIH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2233440" cy="350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2106720" cy="259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59640" y="2781360"/>
            <a:ext cx="21952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77080" y="2852640"/>
            <a:ext cx="172404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ALL Stop TB Partners could connect and collaborate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866960"/>
            <a:ext cx="83516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attract MORE very high level champion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593720"/>
            <a:ext cx="74883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FORUM</a:t>
            </a:r>
            <a:br>
              <a:rPr sz="15000"/>
            </a:br>
            <a:r>
              <a:rPr b="1" lang="en-GB" sz="150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Can the Secretariat start plan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Forum </a:t>
            </a:r>
            <a:r>
              <a:rPr b="1" lang="en-GB" sz="54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7:43:55Z</dcterms:created>
  <dc:creator>England</dc:creator>
  <dc:description/>
  <dc:language>en-US</dc:language>
  <cp:lastModifiedBy>bakerl</cp:lastModifiedBy>
  <dcterms:modified xsi:type="dcterms:W3CDTF">2006-05-02T15:16:21Z</dcterms:modified>
  <cp:revision>30</cp:revision>
  <dc:subject/>
  <dc:title>Slide 1</dc:title>
</cp:coreProperties>
</file>