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F83D-6CEA-4B33-950D-6BF96F2BB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trategic objectives and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framework is designed to implement intensive, sustai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detailed communication strategies in all high-burden countr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s well as support strategies in medium-burden count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ver the next 10 years. Such work will be phased to ens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ximum strategic intensity. In the first five years of this workpla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tensive process of capacity building and strate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nning will take place in all high-burden countries. This will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phased process, focused on five countries per ye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following strategic objective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08, at least 10 endemic countries will have develo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will be implementing multisectoral, participatory AC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itiatives and generating qualitative and quantitative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CSM's contribution to TB contr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0, at least 20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ultisectoral, participatory-based ACSM initiatives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toring and evaluating their outco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multisectoral, participatory ACSM method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be a fully developed component of the Stop 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all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ffective and participatory ACSM initiativ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addition, a series of process target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middle of 2006, a detailed ACSM capacity bui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plementation plan will have been developed aimed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suring the appointment/recruitment of senior-level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ists focused explicitly on tackling TB in 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-burden countries. Such a plan will draw heavily o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perience, expertise and insight of NTPs and partn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end of 2006, a strategy will have been develop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dium-burden countries detailing the communica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cessary (including technical advice, resource mate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other mechanisms) to meet TB targets in those countr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beginning of 2006, a process will have start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m strategic agreements with international techn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pport organizations able to offer technical support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untries. By the middle of 2006 at least five of these 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ve been agreed and implementation begu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se objectives and targets will be achieved through a m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five key strategic compon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have developed and implemen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C04E-6FCE-49D9-B2D6-DA0E315E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47F-C319-4C28-B2CD-B128C7C5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5626-664F-429D-AE00-ECBAF775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961-E92E-4D5B-8FFA-569361B2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05CF-AE33-4CFF-8AF6-A6840C46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4C1C-FEFE-4422-979D-15E09FA8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DF2F-CC70-4333-8B92-85A57329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582E-AE8E-4B66-B67A-428AE800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464B-ED59-452C-B803-3EA4F86A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0B25-C521-484E-B22B-E5222467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8B51-F0BC-42D4-8ACC-D41CE83A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CA82-1EDF-49FE-A1C1-8899AD99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07D5-96FB-4D1D-AA80-8F2F5F9D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54BB-0042-4E9F-B996-341619CB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7042-8D19-4A5D-B0E4-2883B7EB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B811-F5A8-4F55-A1C6-937E819C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9BFB-AE6D-4B9B-B0FB-6B540168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2AE9-84D0-49FC-BAA6-15F95D05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21AE-A230-456B-8F92-9C83C212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3FD8-F1B0-4F04-8FE5-82EC39B5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D07-9C28-4C9B-99FD-A42E2B3E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44A3-DC05-440C-8A5E-2920AC3A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345-81AC-4EAA-88A6-AB29A6FE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D35A-CD16-4CE1-A1A4-58ED8F46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300B-6D80-4B08-8361-FD5F82396F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4318-A4ED-4973-8F3E-03C7E012FF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dvocacy, Communication and Social Mobilization Sub Group at Country Level: 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Building a Technical Assistance Net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sentation to the Stop TB Coordinating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buja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Funding for ACSM Technical Assistance Lag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2060640"/>
          <a:ext cx="82296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2296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940360" y="429264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9 million gap in ASCM projected TA needs at count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84464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 USAID is the largest single donor for ACSM technical sup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66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il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c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1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the wake of solving the funding question, how to coordinate effectively among partners to maximise gains, reduce duplication, measure outcomes and advance ACSM pedagogy for TB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2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ow to access necessary financial resources to maximise the impact of available funding from GFATM and other sources to satisfy the resources needs detailed in the Global Plan/ACSM Strategic Framework for technical cooperation among partner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vious discussions on 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4—CB meeting Beijing:  Endorsement of ISAC to respond to shortage funding for 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/HIV:  Requested funds for operational research and policy monitor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ddis Ababa: Agreement to support countries with technical assistance to prepare 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GFATM Propos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ssisi:  Discussion of a Coalition for Technical Assistance  for Labora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6—Partners TA meeting Geneva: discussed the growing need for TA for all of technical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BCTA, ISAC and other channels provide needed TA but ACSM access to those funds is limi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ci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comprehensive range TA mechanism or facility to support all technical elements of the Stop TB Strateg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B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specific mechanism for responding to the growing demand for sound TA for ACSM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B endorse the strengthening the capacity of the secretariat to respond to the growing demand for ACSM from countri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SM 10-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tilization of AC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ussion and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ategic Overview of AC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2017800"/>
            <a:ext cx="1628640" cy="198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92480" y="4145040"/>
            <a:ext cx="1592280" cy="1987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SM is a new high priority technical component of the WHO Stop TB Strateg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oth the Global Plan and the ACSM 10 Year Strategic Framework call for the rapid scale-up of ACSM activities at country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$3.2 billion over the life of both plans.  $2.9 billion for countries and $133 million for international agency n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ACSM Strategic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0 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ve poi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lusion of patients and comm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itical commitment and 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al Partne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nd practices and knowledge ex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62560" y="2017800"/>
            <a:ext cx="3370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The Framework for Action will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Objectives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mprove country and partner access to timely and quality-assured technical assistance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able a collaborative approach to the delivery of technical assistance in support of country and partner-owned ACSM plan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Assist in the professional development of national institutions as well as national and regional ACSM professional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6165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targets 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08 – 10 countr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0 – 20 cou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CSM methodologies will be fully a developed component of the Stop TB Strate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ll priority countries implementing effective ACSM Initiativ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623736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tilization:  Rapid growth in ACS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628640"/>
          <a:ext cx="821700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1700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00000" y="5877000"/>
            <a:ext cx="7885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Plann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nding:  HBCs with GFATM funding via rounds 1-5 for ACSM activ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90520" y="2017800"/>
          <a:ext cx="775512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017800"/>
                    <a:ext cx="775512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187280" y="6093000"/>
            <a:ext cx="756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pproved grants from 5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ound GFAT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Funds at Country Level via GFAT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91592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ccessful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round for ACSM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35 million over two yea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63 million over five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ome TA budgeted for in some 5th gra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989000"/>
          <a:ext cx="4038480" cy="4257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SM 2 year budge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imbab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az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5:00:47Z</dcterms:created>
  <dc:creator>Thaddeus Pennas</dc:creator>
  <dc:description/>
  <dc:language>en-US</dc:language>
  <cp:lastModifiedBy>bakerl</cp:lastModifiedBy>
  <dcterms:modified xsi:type="dcterms:W3CDTF">2006-05-02T15:10:3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6874898</vt:r8>
  </property>
  <property fmtid="{D5CDD505-2E9C-101B-9397-08002B2CF9AE}" pid="3" name="_AuthorEmail">
    <vt:lpwstr>francisc@who.int</vt:lpwstr>
  </property>
  <property fmtid="{D5CDD505-2E9C-101B-9397-08002B2CF9AE}" pid="4" name="_AuthorEmailDisplayName">
    <vt:lpwstr>Francis, Carole Louise</vt:lpwstr>
  </property>
  <property fmtid="{D5CDD505-2E9C-101B-9397-08002B2CF9AE}" pid="5" name="_EmailSubject">
    <vt:lpwstr>CB Presentation--Sub Group....Need your input</vt:lpwstr>
  </property>
  <property fmtid="{D5CDD505-2E9C-101B-9397-08002B2CF9AE}" pid="6" name="_NewReviewCycle">
    <vt:lpwstr/>
  </property>
  <property fmtid="{D5CDD505-2E9C-101B-9397-08002B2CF9AE}" pid="7" name="_PreviousAdHocReviewCycleID">
    <vt:r8>-1321205299</vt:r8>
  </property>
  <property fmtid="{D5CDD505-2E9C-101B-9397-08002B2CF9AE}" pid="8" name="_ReviewingToolsShownOnce">
    <vt:lpwstr/>
  </property>
</Properties>
</file>