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691813" cy="7559675"/>
  <p:notesSz cx="9223375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C5E49E2-2DFB-48F0-BDDC-4CBFE6D2E0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46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tti Ojanen, AstraZene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akshmi Sundaram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pproaches to addressing ga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ivate Sector Constituency could be more effective if it works more closely its activities with other Stop TB partn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gage professional and business associations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everage regional and industry specific meetings with targeted advocacy mess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p private sector activities with gaps in Global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19200" y="1282680"/>
            <a:ext cx="9174240" cy="5985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07360" y="3238560"/>
            <a:ext cx="2046240" cy="136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61080" y="5870520"/>
            <a:ext cx="2207880" cy="961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68800" y="2571840"/>
            <a:ext cx="3657600" cy="3222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0" y="3300480"/>
            <a:ext cx="1611360" cy="12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00000" y="263160"/>
            <a:ext cx="8893080" cy="1174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New partners are needed to scale up ongoing activities and secure geographic expansion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754280" y="3267000"/>
            <a:ext cx="2133360" cy="916920"/>
            <a:chOff x="1754280" y="3267000"/>
            <a:chExt cx="2133360" cy="916920"/>
          </a:xfrm>
        </p:grpSpPr>
        <p:sp>
          <p:nvSpPr>
            <p:cNvPr id="119" name=""/>
            <p:cNvSpPr/>
            <p:nvPr/>
          </p:nvSpPr>
          <p:spPr>
            <a:xfrm>
              <a:off x="1754280" y="3268800"/>
              <a:ext cx="2133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68120" y="3267000"/>
              <a:ext cx="173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ssociation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BC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896000" y="604692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fessional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3480" y="365292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0640" y="3276720"/>
            <a:ext cx="16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92680" y="1415880"/>
            <a:ext cx="2286000" cy="8542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5840" y="1612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62360" y="3662280"/>
            <a:ext cx="1424160" cy="486000"/>
          </a:xfrm>
          <a:prstGeom prst="leftArrow">
            <a:avLst>
              <a:gd name="adj1" fmla="val 50000"/>
              <a:gd name="adj2" fmla="val 73259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3840" y="4572000"/>
            <a:ext cx="486000" cy="1208160"/>
          </a:xfrm>
          <a:prstGeom prst="downArrow">
            <a:avLst>
              <a:gd name="adj1" fmla="val 50000"/>
              <a:gd name="adj2" fmla="val 6214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8160" y="3681360"/>
            <a:ext cx="1517760" cy="501840"/>
          </a:xfrm>
          <a:prstGeom prst="rightArrow">
            <a:avLst>
              <a:gd name="adj1" fmla="val 50000"/>
              <a:gd name="adj2" fmla="val 756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86560" y="2138400"/>
            <a:ext cx="485640" cy="1177920"/>
          </a:xfrm>
          <a:prstGeom prst="upArrow">
            <a:avLst>
              <a:gd name="adj1" fmla="val 50000"/>
              <a:gd name="adj2" fmla="val 6063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2400" y="251316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69240" y="530856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8160" y="244008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5280" y="543240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58800" y="251784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24040" y="873000"/>
            <a:ext cx="872172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Ari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141560"/>
            <a:ext cx="8383320" cy="61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wo board seats on European Partnership since 2006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retariat role played by World Economic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livier Raynaud : Senior Director for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kshmi Sundaram : Associate Director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of Partners 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for Global Plan Progress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haloo Puri  : Head, India Business Alliance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hair of the Business Engage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PPM subgroup of DOTS expansion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 and poverty sub-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drug resistance mobilisation subgroup of MDR-TB 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/HIV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ion held in 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member : Jean-Francois de Lavi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Affairs and Global Health Corporate Vice Presid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érieux Al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iagnostic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Vaccine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Retooling Task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Advisory Committee G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TB &amp; Poverty sub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e  : Matti Ojan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or, International Affairs and Public Polic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traZen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rug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engagement tas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steering committee for the Partners Fo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rivate Sector Interest in TB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usiness Response to T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David Bloom (Harvard School of Public Health)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 of data from Forum’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ecutive Opinion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st survey completed by over 11,000 business leaders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4: nearly one-quarter reported TB was affecting their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7: nearly one-third expect TB to affect business in next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rn over future impact of TB has increased, but reached plat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nies in countries hard hit by AIDS are particularly worried about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 in concern driven by companies in upper-middle and higher income settings – growing awareness of globalisation of health probl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73000" y="317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How Can and Does the Private Sector Contribute to TB Control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and improv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in partnership to develop drugs, vaccines and diagnostics for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ion and treatment 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own employees, communities and employees of related companies (e.g. companies in their supply ch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provi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vate clinics, practitioners, hospitals and health insuran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; communication; social mobi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mindset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procurement, delivery, marketing, performance-driven, results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 best practices between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ing communities of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examples to follow from GBC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290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 of the World Economic Forum: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ent TB specific example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high-level networking/advocacy opportuni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dia Business Alliance (current focus on TB; 35 companies; reaching &gt; 4 mill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port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The Business Response to TB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edia Advisory Board (sensitising media leaders on T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oolkits for companies in South Africa and Chi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in Forum’s regional summits; media attention e.g. 30 min TV interview on SABC ne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terest from Ministry of Labour in South Africa to use toolkit for all government employ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utreach (e.g. ICMM panel in Lond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4160" y="1292040"/>
            <a:ext cx="8908920" cy="56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activities of Private Sector board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ing a platform for private sector dialogu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va, April 2007 (30 ppl), Berlin, October 2007 (15 ppl), Cairo, June 2008 (45 p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ing and supporting high-level discussions on TB with private sect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between Ban Ki-Moon and 18 CEOs (October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LF, EDMA (June 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ing business participation in Pacific Health Summit (June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links with Business Scho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with E.M. L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est from Harvard Business School and INS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continue building up the constituency, to bring in new companies and encourage greater engagement from existing membe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networking/advocacy opportunities with Stop TB and business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find new ways to ‘sell’ TB to busin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bakerl</cp:lastModifiedBy>
  <dcterms:modified xsi:type="dcterms:W3CDTF">2008-11-04T12:17:29Z</dcterms:modified>
  <cp:revision>124</cp:revision>
  <dc:subject/>
  <dc:title>Slide 1</dc:title>
</cp:coreProperties>
</file>