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A22C6-F95E-4F59-ADC6-A1859A1710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37430-E9C8-4A25-A7CD-7F73EFB8EB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368D0-E154-4F9E-B013-8BD71585F9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7D901B6-A04F-4F7A-B24C-2CE54BEECB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A9BB1BCC-FE52-4987-961D-E210587EBE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B641D2E-839F-4FB3-BB02-46426BF61C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7E504B1-029A-4BE8-A662-ABA15128F1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1B53800-8426-43B8-AE0F-C4D2422A8B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427E30E-E157-4A31-AC46-18BAEDCC93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587AFD1-EF1A-4975-BEBB-AEC50FCBCF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E193190A-E08C-4F4F-A888-2C41638E6A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8FE4291-72C3-4BFA-AB92-EAA093915AF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8A62-010A-4001-B983-EBD0754B9707}"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664F-2B0C-41FB-92B9-6B0EE4024212}" type="datetime3">
              <a:rPr b="0" lang="en-US" sz="1200" spc="-1" strike="noStrike">
                <a:solidFill>
                  <a:srgbClr val="ffffff"/>
                </a:solidFill>
                <a:latin typeface="Times New Roman"/>
              </a:rPr>
              <a:t>July 29,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