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3090-5A81-44EE-8903-E6A2565B7D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D08D-189C-42BC-8771-B75FDA0D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F8E-7338-4650-85C2-B6984CD5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53FA-800D-457B-891A-0E61092A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F1A-477C-4A54-B976-476C3116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C48B-6E15-4DFA-974D-D9AB6AB0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2C9-2B77-4EBE-A470-19D21977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2C1-A302-45C3-8C48-E0E9E81F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525-189F-405A-8B1F-297DB7FF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263-124C-45A6-BA65-747A29C4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C6D-D52A-4823-B291-9A3029F1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937-7C83-4A63-99B7-46960C2D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E50D-B13C-4477-9D58-14F94BB0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A985-E8D5-4F89-910E-1AD06A1C19A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ED81-35AB-46A2-9E5A-B6CEEB3D3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00280"/>
            <a:ext cx="856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189000"/>
            <a:ext cx="735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 Meeting of the WHO Task Force on XDR-TB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-10 April 2008,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Acknowledgements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165320"/>
            <a:ext cx="266544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ynne Harr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cos Espi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a Sarquel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o Ravigl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tins Pavel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tteo Zign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ukund Uplek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loma Ler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tricia La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ette Asho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 Nun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bert Mati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salie Ed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Tom Hia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268280"/>
            <a:ext cx="33847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bigail W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ndrea Panto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harlie Gil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ugenia Becer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abio Sca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uad Mirzay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eneviève Pi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len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rina Sahaky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anet Cout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ohn Loe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rin We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erine Floy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ri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ina Abrah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78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rticipants at the meeting of the WHO Task Force on XDR-T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36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1125360"/>
            <a:ext cx="882036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1a3"/>
                </a:solidFill>
                <a:latin typeface="Arial"/>
                <a:ea typeface="SimSun"/>
              </a:rPr>
              <a:t>Areas of significant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WHO Guidelines for DR-TB management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eru, first low resource setting reporting universal access to MDR-TB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lobal Laboratory Initiative leading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evaluation of line probe assays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51452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making progress in addressing drug procurement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r TB control and infection control 1994-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nosocomial spread most likely expla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-TB outbreak in Tugela Ferr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waZulu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 that MDR-TB can be managed in very difficult circumsta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ut raises major ethical and leg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214280"/>
            <a:ext cx="896472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001a3"/>
                </a:solidFill>
                <a:latin typeface="Arial"/>
                <a:ea typeface="SimSun"/>
              </a:rPr>
              <a:t>Progress in 27 high priority MDR-TB countries* shows enormous gaps, patients on treatment well below targ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/22 (40.9%) countries have drug resistance surveys &gt; 5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/22 (27.3%) countries have external quality-assured dru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ceptibility testing for 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/22 (45.4%) countries have DST capacity for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/22 (36.4%) countries have national guidelines for MDR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/22 (50.0%) countries do not have a MDR-TB focal poin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N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6/22 (72.7%) countries have wide availability of S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9000" y="637524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2001a3"/>
                </a:solidFill>
                <a:latin typeface="Arial"/>
              </a:rPr>
              <a:t>Countries with 95% of MDR TB burden, and small countries w/ &gt;10% 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ntries to involve all health care providers in the global response to MDR-TB and XDR-T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DR-TB Working Group to further develop framework of Centers of Excellence for promoting development of human resources in MDR-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to produce training modules for programmatic management of drug resistant TB and make them available AS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to provide guidance on implementation of line probe assays for MDR-TB within specific country settin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to produce and disseminate practical guidance on ethical and legal issues to support patient-centered TB care, including community-based MDR-TB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27 priority countries to produce comprehensive national response plans to MDR-TB/XDR-TB, with support of WHO and Stop TB Partn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and Stop TB Partnership to convene meeting with ALL 27 high priority countries early in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ims of WHO and Stop TB Partnership meeting with ALL 27 high priority countries in early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ncrease political commitment at the highest country lev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ssess progress achieved in these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nd agree on actions to tackle main factor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gc1</cp:lastModifiedBy>
  <dcterms:modified xsi:type="dcterms:W3CDTF">2008-05-07T09:59:23Z</dcterms:modified>
  <cp:revision>279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