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4AD4F-E576-4971-8F05-30B019A77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2583B-849E-475D-AACD-0D7EAD555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ED8EF-C72D-4F9C-BFAD-E52BF2F78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D0884-6AB9-48CE-B330-E45EC2A39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59CA0-CF6A-44B1-8E00-6AD02DC94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9F2F5-8803-45A0-9B61-D782E44ED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1F972-127F-40E4-95A2-62A44505B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8AF14-AEAF-4EC7-BD48-A5AE967F0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4E3FF-87E6-4D10-9FB8-C9FA0FA0D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ACD5B-645E-42A2-B3D7-97C99D213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1CB6F-B107-46BE-914D-306222E49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F9CB8-D9BE-4DFA-951D-AE04C6B60C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AF98-67A7-4452-BBFC-6D10653D36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780000" y="4797360"/>
            <a:ext cx="2808000" cy="2060640"/>
          </a:xfrm>
          <a:prstGeom prst="rect">
            <a:avLst/>
          </a:prstGeom>
          <a:ln w="0">
            <a:noFill/>
          </a:ln>
        </p:spPr>
      </p:pic>
      <p:pic>
        <p:nvPicPr>
          <p:cNvPr id="42" name="" descr=""/>
          <p:cNvPicPr/>
          <p:nvPr/>
        </p:nvPicPr>
        <p:blipFill>
          <a:blip r:embed="rId2"/>
          <a:srcRect l="0" t="0" r="8605" b="66607"/>
          <a:stretch/>
        </p:blipFill>
        <p:spPr>
          <a:xfrm>
            <a:off x="0" y="0"/>
            <a:ext cx="5435640" cy="3141720"/>
          </a:xfrm>
          <a:prstGeom prst="rect">
            <a:avLst/>
          </a:prstGeom>
          <a:ln w="0">
            <a:noFill/>
          </a:ln>
        </p:spPr>
      </p:pic>
      <p:sp>
        <p:nvSpPr>
          <p:cNvPr id="43" name="PlaceHolder 1"/>
          <p:cNvSpPr>
            <a:spLocks noGrp="1"/>
          </p:cNvSpPr>
          <p:nvPr>
            <p:ph/>
          </p:nvPr>
        </p:nvSpPr>
        <p:spPr>
          <a:xfrm>
            <a:off x="1547280" y="2696760"/>
            <a:ext cx="7201080" cy="1452600"/>
          </a:xfrm>
          <a:prstGeom prst="rect">
            <a:avLst/>
          </a:prstGeom>
          <a:noFill/>
          <a:ln w="0">
            <a:noFill/>
          </a:ln>
        </p:spPr>
        <p:txBody>
          <a:bodyPr lIns="90000" rIns="90000" tIns="46800" bIns="46800" anchor="t">
            <a:normAutofit fontScale="99000"/>
          </a:bodyPr>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Stop TB Partnership Coordinating </a:t>
            </a:r>
            <a:br>
              <a:rPr sz="2800"/>
            </a:br>
            <a:r>
              <a:rPr b="1" i="1" lang="en-US" sz="2800" spc="-1" strike="noStrike">
                <a:solidFill>
                  <a:srgbClr val="006600"/>
                </a:solidFill>
                <a:latin typeface="Arial"/>
              </a:rPr>
              <a:t>Board Meeting, </a:t>
            </a:r>
            <a:r>
              <a:rPr b="1" i="1" lang="en-GB" sz="2800" spc="-1" strike="noStrike">
                <a:solidFill>
                  <a:srgbClr val="006600"/>
                </a:solidFill>
                <a:latin typeface="Arial"/>
              </a:rPr>
              <a:t>23-24 October 2007</a:t>
            </a:r>
            <a:endParaRPr b="0" lang="en-US" sz="2800" spc="-1" strike="noStrike">
              <a:solidFill>
                <a:srgbClr val="000000"/>
              </a:solidFill>
              <a:latin typeface="Arial"/>
            </a:endParaRPr>
          </a:p>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Arial"/>
              </a:rPr>
              <a:t>Berlin, Germany</a:t>
            </a:r>
            <a:endParaRPr b="0" lang="en-US" sz="2800" spc="-1" strike="noStrike">
              <a:solidFill>
                <a:srgbClr val="000000"/>
              </a:solidFill>
              <a:latin typeface="Arial"/>
            </a:endParaRPr>
          </a:p>
        </p:txBody>
      </p:sp>
      <p:sp>
        <p:nvSpPr>
          <p:cNvPr id="44" name="PlaceHolder 2"/>
          <p:cNvSpPr>
            <a:spLocks noGrp="1"/>
          </p:cNvSpPr>
          <p:nvPr>
            <p:ph type="title"/>
          </p:nvPr>
        </p:nvSpPr>
        <p:spPr>
          <a:xfrm>
            <a:off x="1537920" y="1268280"/>
            <a:ext cx="7281720" cy="2376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0" lang="en-GB" sz="4000" spc="-1" strike="noStrike">
                <a:solidFill>
                  <a:srgbClr val="000000"/>
                </a:solidFill>
                <a:latin typeface="Arial"/>
              </a:rPr>
              <a:t>Overcoming TB Drug Procurement Bottlenecks</a:t>
            </a:r>
            <a:endParaRPr b="0" lang="en-US" sz="4000" spc="-1" strike="noStrike">
              <a:solidFill>
                <a:srgbClr val="000000"/>
              </a:solidFill>
              <a:latin typeface="Arial"/>
            </a:endParaRPr>
          </a:p>
        </p:txBody>
      </p:sp>
      <p:pic>
        <p:nvPicPr>
          <p:cNvPr id="45" name="" descr=""/>
          <p:cNvPicPr/>
          <p:nvPr/>
        </p:nvPicPr>
        <p:blipFill>
          <a:blip r:embed="rId3"/>
          <a:stretch/>
        </p:blipFill>
        <p:spPr>
          <a:xfrm>
            <a:off x="-17640" y="4797360"/>
            <a:ext cx="1781280" cy="2060640"/>
          </a:xfrm>
          <a:prstGeom prst="rect">
            <a:avLst/>
          </a:prstGeom>
          <a:ln w="0">
            <a:noFill/>
          </a:ln>
        </p:spPr>
      </p:pic>
      <p:pic>
        <p:nvPicPr>
          <p:cNvPr id="46" name="" descr=""/>
          <p:cNvPicPr/>
          <p:nvPr/>
        </p:nvPicPr>
        <p:blipFill>
          <a:blip r:embed="rId4"/>
          <a:stretch/>
        </p:blipFill>
        <p:spPr>
          <a:xfrm>
            <a:off x="6551640" y="4797360"/>
            <a:ext cx="2592360" cy="2060640"/>
          </a:xfrm>
          <a:prstGeom prst="rect">
            <a:avLst/>
          </a:prstGeom>
          <a:ln w="0">
            <a:noFill/>
          </a:ln>
        </p:spPr>
      </p:pic>
      <p:pic>
        <p:nvPicPr>
          <p:cNvPr id="47" name="" descr=""/>
          <p:cNvPicPr/>
          <p:nvPr/>
        </p:nvPicPr>
        <p:blipFill>
          <a:blip r:embed="rId5"/>
          <a:stretch/>
        </p:blipFill>
        <p:spPr>
          <a:xfrm>
            <a:off x="1763640" y="4797360"/>
            <a:ext cx="2016360" cy="2060640"/>
          </a:xfrm>
          <a:prstGeom prst="rect">
            <a:avLst/>
          </a:prstGeom>
          <a:ln w="0">
            <a:noFill/>
          </a:ln>
        </p:spPr>
      </p:pic>
      <p:sp>
        <p:nvSpPr>
          <p:cNvPr id="48" name=""/>
          <p:cNvSpPr/>
          <p:nvPr/>
        </p:nvSpPr>
        <p:spPr>
          <a:xfrm>
            <a:off x="0" y="4724280"/>
            <a:ext cx="9144000" cy="100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981000"/>
            <a:ext cx="8229600" cy="561672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requirements of production and high capital cost, scarcity of raw material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nsive and slow pre-qualification and approval proces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costs of country registrations and import licens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istration used as to protect local industry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attractive, predictable, captive, domestic and international markets.</a:t>
            </a:r>
            <a:endParaRPr b="0" lang="en-US" sz="2800" spc="-1" strike="noStrike">
              <a:solidFill>
                <a:srgbClr val="000000"/>
              </a:solidFill>
              <a:latin typeface="Arial"/>
            </a:endParaRPr>
          </a:p>
        </p:txBody>
      </p:sp>
      <p:sp>
        <p:nvSpPr>
          <p:cNvPr id="67"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Barriers to Ent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EDM to prioritize and proactively assist suppliers of second-line anti-TB drugs to attain prequalification status for their products.</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 to encourage countries to more actively facilitate registration and importation of quality-assured 2nd line drugs or, more drastically, waive registration requirements altogether for WHO prequalified suppliers. </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and WHO/EDM should specify TA interventions and priority prequalification bottlenecks per product/supplier that require intensified support over the next 12 month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should work with Retooling Task Force to determine what procurement and distribution response is anticipated for new compounds in the drug clinical development pipeli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long-term agreements with suppliers of second-line drugs including guaranteed commitment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F Business Advisory Committee considered challenge of second-line anti-TB drug supply and issued recommendations to GDF;</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partners issued formal statement of the second-line procurement crisis to WHO and the Stop TB Partnership, and requesting that a) prequalification of second-line drugs be given at least equal priority as of antiretrovirals and antimalarials and b) that effective long-term solutions to the human resource shortage in GDF be found;</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uman resources to support second-line procurement rapidly scaled up within GDF through support from WHO and GLC partners;</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n, recipient of Eli Lilly technology for cycloserin and capreomyine, has confirmed (1 October) its commitment to produce these two drugs assuming they will get prequalified mid 2008 (cycloserin) and Q1 2009 (capreomycine);</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O/EDM Prequalification programme has updated Stop TB in the progress of the prequalification of second-line anti-TB drugs. Eight products under review (capreomycin, cycloserine, ethionamide, kanamycin and ofloxacin (one dossier per each INN), and PAS from 3 different manufacturers)). No applications received in 2007;</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new model for GLC procurement was developed and is being piloted which is anticipated to bring greater oversight of drug orders and improved monitoring of supplier and agent performance.  </a:t>
            </a:r>
            <a:endParaRPr b="0" lang="en-US" sz="18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Already Tak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rove the establishment of a Drug Management Sub-Committee of the MDR-TB Working Group, and a Task Force on Market Dynamics. </a:t>
            </a:r>
            <a:endParaRPr b="0" lang="en-US" sz="2000" spc="-1" strike="noStrike">
              <a:solidFill>
                <a:srgbClr val="000000"/>
              </a:solidFill>
              <a:latin typeface="Arial"/>
            </a:endParaRPr>
          </a:p>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ters from the Stop TB Partnership Coordinating Board to:</a:t>
            </a:r>
            <a:endParaRPr b="0" lang="en-US" sz="20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O </a:t>
            </a:r>
            <a:endParaRPr b="0" lang="en-US" sz="20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continue supplying the human resource needs of WHO programmes that support MDR-TB management programmes; </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support the proposed GDF ad hoc prequalification proces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firmly commit to prioritizing and proactively assisting suppliers of second-line anti-TB drugs to become prequalified;</a:t>
            </a:r>
            <a:endParaRPr b="0" lang="en-US" sz="18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courage countries to more actively facilitate registration and importation of quality-assured second-line drugs, including waivers.</a:t>
            </a:r>
            <a:endParaRPr b="0" lang="en-US" sz="18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Fund and UNITAID</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support of continued efforts to develop unified quality standards and conditions for the procurement and supply of second-line drug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esting a mechanism for underwriting advance purchase commitments for second-line drugs. </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Requir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452240"/>
            <a:ext cx="8229600" cy="500076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shortage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roles of key actor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problem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s required</a:t>
            </a:r>
            <a:endParaRPr b="0" lang="en-US" sz="3200" spc="-1" strike="noStrike">
              <a:solidFill>
                <a:srgbClr val="000000"/>
              </a:solidFill>
              <a:latin typeface="Arial"/>
            </a:endParaRPr>
          </a:p>
        </p:txBody>
      </p:sp>
      <p:sp>
        <p:nvSpPr>
          <p:cNvPr id="5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50560" y="1052280"/>
            <a:ext cx="8713800" cy="5599080"/>
          </a:xfrm>
          <a:prstGeom prst="rect">
            <a:avLst/>
          </a:prstGeom>
          <a:noFill/>
          <a:ln w="0">
            <a:noFill/>
          </a:ln>
        </p:spPr>
        <p:txBody>
          <a:bodyPr lIns="90000" rIns="90000" tIns="46800" bIns="46800" anchor="t">
            <a:normAutofit/>
          </a:bodyPr>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a severe imbalance in the supply-demand dynamics for quality assured second-line anti-TB drugs.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cale of the imbalance, however, requires investigation and the factors behind it vary from country-to-country.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ult is a global shortage of quality assured second-line TB drugs to meet the demands of MDR-TB programmes approved by GLC.</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me shortages often result from the global short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shortages are also caused or amplified by:</a:t>
            </a:r>
            <a:endParaRPr b="0" lang="en-US" sz="2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ration restrictions and import barriers of governmen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or forecasting and order placement by programm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cated, time-consuming financial transactions between partners and agent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ays in disbursements from donors and financing mechanisms. </a:t>
            </a:r>
            <a:endParaRPr b="0" lang="en-US" sz="2000" spc="-1" strike="noStrike">
              <a:solidFill>
                <a:srgbClr val="000000"/>
              </a:solidFill>
              <a:latin typeface="Arial"/>
            </a:endParaRPr>
          </a:p>
        </p:txBody>
      </p:sp>
      <p:sp>
        <p:nvSpPr>
          <p:cNvPr id="52"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re shortage of 2</a:t>
            </a:r>
            <a:r>
              <a:rPr b="0" lang="en-US" sz="3600" spc="-1" strike="noStrike" baseline="30000">
                <a:solidFill>
                  <a:srgbClr val="ffffff"/>
                </a:solidFill>
                <a:latin typeface="Arial"/>
              </a:rPr>
              <a:t>nd</a:t>
            </a:r>
            <a:r>
              <a:rPr b="0" lang="en-US" sz="3600" spc="-1" strike="noStrike">
                <a:solidFill>
                  <a:srgbClr val="ffffff"/>
                </a:solidFill>
                <a:latin typeface="Arial"/>
              </a:rPr>
              <a:t>-line anti-TB drug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981000"/>
            <a:ext cx="8507520" cy="5688000"/>
          </a:xfrm>
          <a:prstGeom prst="rect">
            <a:avLst/>
          </a:prstGeom>
          <a:noFill/>
          <a:ln w="0">
            <a:noFill/>
          </a:ln>
        </p:spPr>
        <p:txBody>
          <a:bodyPr lIns="90000" rIns="90000" tIns="46800" bIns="46800" anchor="t">
            <a:normAutofit/>
          </a:bodyPr>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C</a:t>
            </a:r>
            <a:r>
              <a:rPr b="0" lang="en-US" sz="2800" spc="-1" strike="noStrike">
                <a:solidFill>
                  <a:srgbClr val="000000"/>
                </a:solidFill>
                <a:latin typeface="Arial"/>
              </a:rPr>
              <a:t> – Approves MDR-TB programmes, enabling procurement and release of donor money</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DF</a:t>
            </a:r>
            <a:r>
              <a:rPr b="0" lang="en-US" sz="2800" spc="-1" strike="noStrike">
                <a:solidFill>
                  <a:srgbClr val="000000"/>
                </a:solidFill>
                <a:latin typeface="Arial"/>
              </a:rPr>
              <a:t> – Supplies medications to programmes; manages procurement agents and suppliers</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EDM</a:t>
            </a:r>
            <a:r>
              <a:rPr b="0" lang="en-US" sz="2800" spc="-1" strike="noStrike">
                <a:solidFill>
                  <a:srgbClr val="000000"/>
                </a:solidFill>
                <a:latin typeface="Arial"/>
              </a:rPr>
              <a:t> – Prequalifies TB medicine suppliers, approves products for use by programmes </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Programmes</a:t>
            </a:r>
            <a:r>
              <a:rPr b="0" lang="en-US" sz="2800" spc="-1" strike="noStrike">
                <a:solidFill>
                  <a:srgbClr val="000000"/>
                </a:solidFill>
                <a:latin typeface="Arial"/>
              </a:rPr>
              <a:t> – P</a:t>
            </a:r>
            <a:r>
              <a:rPr b="0" lang="en-GB" sz="2800" spc="-1" strike="noStrike">
                <a:solidFill>
                  <a:srgbClr val="000000"/>
                </a:solidFill>
                <a:latin typeface="Arial"/>
              </a:rPr>
              <a:t>lan patient enrolment and treatment; forecast drug needs; facilitate registration and importation of anti-TB drugs; properly manage drugs received</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onors</a:t>
            </a:r>
            <a:r>
              <a:rPr b="0" lang="en-US" sz="2800" spc="-1" strike="noStrike">
                <a:solidFill>
                  <a:srgbClr val="000000"/>
                </a:solidFill>
                <a:latin typeface="Arial"/>
              </a:rPr>
              <a:t> – D</a:t>
            </a:r>
            <a:r>
              <a:rPr b="0" lang="en-GB" sz="2800" spc="-1" strike="noStrike">
                <a:solidFill>
                  <a:srgbClr val="000000"/>
                </a:solidFill>
                <a:latin typeface="Arial"/>
              </a:rPr>
              <a:t>isburse funding for medicines in advance of supply</a:t>
            </a:r>
            <a:endParaRPr b="0" lang="en-US" sz="2800" spc="-1" strike="noStrike">
              <a:solidFill>
                <a:srgbClr val="000000"/>
              </a:solidFill>
              <a:latin typeface="Arial"/>
            </a:endParaRPr>
          </a:p>
        </p:txBody>
      </p:sp>
      <p:sp>
        <p:nvSpPr>
          <p:cNvPr id="54"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parate Roles of Key Acto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aque market</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paralysis in flow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riers, costs of entry, uncertain returns </a:t>
            </a:r>
            <a:endParaRPr b="0" lang="en-US" sz="3200" spc="-1" strike="noStrike">
              <a:solidFill>
                <a:srgbClr val="000000"/>
              </a:solidFill>
              <a:latin typeface="Arial"/>
            </a:endParaRPr>
          </a:p>
        </p:txBody>
      </p:sp>
      <p:sp>
        <p:nvSpPr>
          <p:cNvPr id="56"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re Problem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7000"/>
          </a:bodyPr>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ative barriers and costs of entry, uncertain returns for supplier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ays in placement, payment or receipt of orders by MDR-TB programme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reliable quantification of current global demand;</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process for short- and longer-term forecasting; </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reliable timing of demand by programmes and government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strong player to assure rapid payment and assume risk e.g. for advance purchase commitments.</a:t>
            </a:r>
            <a:endParaRPr b="0" lang="en-US" sz="2800" spc="-1" strike="noStrike">
              <a:solidFill>
                <a:srgbClr val="000000"/>
              </a:solidFill>
              <a:latin typeface="Arial"/>
            </a:endParaRPr>
          </a:p>
        </p:txBody>
      </p:sp>
      <p:sp>
        <p:nvSpPr>
          <p:cNvPr id="58"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Opaque Mark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mediately form a second-line drug management sub-committee to, among other things, document the supply-demand imbalance, assess funding, and prepare 2- and 5-year foreca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rify budget needs to create a transparent, well-defined, regularly updated source of market information.</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 a task force on market dynamics to prepare a situation analysis for both demand and supply per product. Task force to include key actors from second-line demand, supply, financing, quality/regulation, innovation, and communications/advocac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052280"/>
            <a:ext cx="8507520" cy="554508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mand for high quality second-line drugs currently outstrips capacity;</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optimal logistics, communications and response-time between key actors has exacerbated supply shortag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ck of firm demand forecasts and sporadic order placement means irregular manufacturing stream;</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adequate supply of GLC-approved second-line drugs impacts donor disbursements and overall programme performance.</a:t>
            </a:r>
            <a:endParaRPr b="0" lang="en-US" sz="2800" spc="-1" strike="noStrike">
              <a:solidFill>
                <a:srgbClr val="000000"/>
              </a:solidFill>
              <a:latin typeface="Arial"/>
            </a:endParaRPr>
          </a:p>
        </p:txBody>
      </p:sp>
      <p:sp>
        <p:nvSpPr>
          <p:cNvPr id="62" name=""/>
          <p:cNvSpPr/>
          <p:nvPr/>
        </p:nvSpPr>
        <p:spPr>
          <a:xfrm>
            <a:off x="5638680" y="41148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Short-term Par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 newly funded buffer stock (constituting a supply of 800 patient treatments for 6 months). If deemed effective, work with financing mechanisms to increase buffer stock.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the Global Fund and UNITAID consider underwriting advance purchase commitments to eliminate financial transactions as a bottleneck.</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aluate overall procurement model for second-line drugs to identify and address procedural deficiencies.</a:t>
            </a:r>
            <a:endParaRPr b="0" lang="en-US" sz="2400" spc="-1" strike="noStrike">
              <a:solidFill>
                <a:srgbClr val="000000"/>
              </a:solidFill>
              <a:latin typeface="Arial"/>
            </a:endParaRPr>
          </a:p>
          <a:p>
            <a:pPr marL="3394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WHO/EDM allow GDF to change existing GDF ad hoc prequalification process to one based on initial bio-equivalence study for GMP-certified manufacturers that want to tender. GDF to fund bio-equivalence studies to motivate suppliers and ease application for WHO pre-qualification.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19:27:53Z</dcterms:created>
  <dc:creator>ryant</dc:creator>
  <dc:description/>
  <dc:language>en-US</dc:language>
  <cp:lastModifiedBy>k.kolbe</cp:lastModifiedBy>
  <dcterms:modified xsi:type="dcterms:W3CDTF">2007-10-23T04:54:02Z</dcterms:modified>
  <cp:revision>23</cp:revision>
  <dc:subject/>
  <dc:title>Establishing a Task Force on Market Dynam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126579</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Presentation to CB_3 (2).ppt</vt:lpwstr>
  </property>
  <property fmtid="{D5CDD505-2E9C-101B-9397-08002B2CF9AE}" pid="6" name="_NewReviewCycle">
    <vt:lpwstr/>
  </property>
  <property fmtid="{D5CDD505-2E9C-101B-9397-08002B2CF9AE}" pid="7" name="_PreviousAdHocReviewCycleID">
    <vt:r8>1570055702</vt:r8>
  </property>
  <property fmtid="{D5CDD505-2E9C-101B-9397-08002B2CF9AE}" pid="8" name="_ReviewingToolsShownOnce">
    <vt:lpwstr/>
  </property>
</Properties>
</file>