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A619-192A-449C-B5F1-9DD9F938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9A2E-AC3D-4FF3-92D6-E17CF425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F983-6997-4ED8-941A-75FCEC34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2B0-03D0-4AA4-968B-194AC556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F4C5-D7DD-4C88-B873-7D7694F1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62D3-E6A9-4847-A477-F4E277CB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057A-35A3-40E2-B4FD-9D443412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2B69-28A8-48D7-BDC1-72D4AB95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8A9B-0DD0-4FB8-A8CE-8F1563D4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F390-5AEE-4FAA-9933-CAF9404D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A3B2-7865-41BF-8B1E-04DE135A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C802-3F4F-46CF-9606-BE60E914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88C0-787E-4C30-B50E-64720B31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D116-A905-442E-A8C0-DA4E56D0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E900-12A7-4DC8-B9FA-8656AE2F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A958-7577-4604-94F5-03EB67D4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7AAE-6A25-4368-82F4-54DCB71E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AF04-90E4-4C11-B69B-2B079DCD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8B6-7FD9-4D22-B884-6AD8B4E0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3F4C-0D83-4317-97A1-E051B210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EB28-2B09-4F4D-BC1A-5A16F349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FD8-1549-4763-B4C9-1A1412E9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A9F1-F187-456F-AE46-44507470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A4F-171B-4CB8-8EE8-1ACD4DF9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54DA-10FA-4C55-BED9-FB311AE5393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E2DE-607B-418B-9913-9637D64B80E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2205000"/>
            <a:ext cx="756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ORKPLANS 2008-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SEARCH WORKING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Vaccines WG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1: Keep the Pipeline fill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workshop on innovative approaches to TB vaccine development and provide report and follow-up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2: Build capacity at vaccine trial sit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nd convene a “clinical trialists network”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in strengthening of regulatory and ethical capacity in TB endemic countries where trials are being perform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y 3: Perform clinical tria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 annual workshop on laboratory assay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international collaborative study on development of a functional assa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nual meeting on diagnostics paradigms and clinical endpoi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“white book” on clinical evaluation of TB vaccin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4: Provide an enabling infrastructure &amp;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n economics and product profi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 study on economic impac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meeting on advocacy, communications and social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advocacy mate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ommunity outreach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nd support 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f Working Grou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dget Reques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P2 Objectiv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udget requested ($U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and improve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G vaccination program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very &amp; translational rese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apacity at vaccine trial 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7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clinical tri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33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n enabling infra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55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9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&amp;D Working groups are on track on the deliverables as expressed i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uilding upon early success to strenghten and expand activiti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equest Partnership to continue its support and commitment and scale up activities on resource mobilization for New Tool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ork Plan WG on Diagnostics 2008-2009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1: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Intensify collaboration within the WG on New Diagnostics and with  other WGs of the Stop TB Partnership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nlarge Core Group of the New Diagnostics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stablish Sub-groups within the New Diagnostics Working Group and facilitate sub-group members to take an active role in developing the Sub-group and working towards their goal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Annual all-day meeting of Working Group on New Diagnostics during the Union’s World Conference on Lung Health, plus 2 "Meet the Experts" Workshops in the main programme of the conference 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Part-time personnel support for secretariat in preparation of New Diagnostics WG materials, and development and maintenance of  website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 Area 2: Develop clear criteria for describing intended setting for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candidate diagnostic test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be conducted at the same time as Activity A in Priority Thre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 3: Describe an expanded diagnostics pipeline that reflects the explosion in activity aimed at developing new diagnostics for tuberculosi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conduct one workshop in 2008 to describe the expanded pipeline of T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diagnostics under development or evaluation and develop clear criteria for describing the intended setting for candidate diagnostic test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Update the pipeline in 2009.  This will be mainly achieved through e-mail and teleconference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4: Develop a Scientific Blueprint for the development of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Diagnost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Workshop, consultations, writing, publishing and distributing a Scientific Blueprint for TB Diagnostics Development.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5: Develop criteria to place developing technologies at particular stages of the “value chain” of development and evaluation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6: Work with the STP Retooling Task Force and the Subgroup on Laboratory Capacity Strengthening to promote and facilitate the implementation of new diagnostic technologie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Participation of WG members in Retooling Task Force and SCLS meeting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Develop guidelines for the introduction and sustainable implementation of new diagnostics in partnership with the RTF and SLC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osed biennial budge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0400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47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47840" y="69480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35120" y="1495440"/>
            <a:ext cx="80517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1: Support Global R&amp;D for New TB Drug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research coordination to advance the global TB drug pipeline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Symposia at IUATLD on TB drug development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sh R&amp;D activity mapping projec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Support development of clinical trial site capacity.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Assess funding needs for clinical trial site capacity building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development of biomarkers, surrogate endpoints, animal models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tract and publish a review on the state of the art of biomarkers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/co-sponsor a symposium on these top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Identify strategies to evaluate new drugs for MDR- and XDR-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and help organize meetings of the MDR/XDR Task Forc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publication of MDR/XDR Task Force document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other activities of the MDR/XDR Task Force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47840" y="67644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9960" y="1793520"/>
            <a:ext cx="810576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2: Promote harmonized regulatory guidelines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for TB and MDR-TB Drug Development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 and co-sponsor annual Open Fora on key regulatory issu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3: Promote engagement with affected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community representatives (ACRs)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travel to WGND annual meetings, symposia and Open Fora; 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rovide support and training to facilitate ACR participation in meetings and WGND activitie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4: Maintain communication and collabora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WGND</a:t>
            </a: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 meetings; participate in Partnership meeting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Update the Strategic Plan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 core group to oversee implementation of the Strategic Plan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the activities of the Retooling Task Force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cations: e.g. brochure, newsletter, annual reports, websit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Retain the services of a full-time Secretaria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7840" y="68580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72600" y="144936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Minimum Two Year Budget, b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1984320"/>
          <a:ext cx="7629480" cy="4551480"/>
        </p:xfrm>
        <a:graphic>
          <a:graphicData uri="http://schemas.openxmlformats.org/drawingml/2006/table">
            <a:tbl>
              <a:tblPr/>
              <a:tblGrid>
                <a:gridCol w="741960"/>
                <a:gridCol w="2702160"/>
                <a:gridCol w="1572840"/>
                <a:gridCol w="1553760"/>
                <a:gridCol w="1058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Pri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Partnership</a:t>
                      </a: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AXIMU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TB Alli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a at IUATL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&amp;D activity mapping projec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ssess funds for clinical trial si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um on Biomark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DR Taskforce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pen For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CR Travel and train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trategic Plan Upd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GND Publica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Support sta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Annual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ravel to Partnership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nvene a core grou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$3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User</cp:lastModifiedBy>
  <dcterms:modified xsi:type="dcterms:W3CDTF">2007-10-24T06:20:15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