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257D-65A4-4968-831D-1271474C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F86F-B124-4874-985C-AF15E03C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DC85-D5AF-4901-AC6A-4E569974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7AB4-06F8-44E8-BBD0-BF84F0EC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3FBA-77D1-4BF7-A49A-E6AD346A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715A-B5B5-42BE-9693-79B16380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EB67-82E1-4796-A96D-3C4EA680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8E49-B6F7-4F1B-B4FD-A4107F99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3E17-8ADA-4BC2-A067-B2C6CCB2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9BCF-B169-4661-8D87-74E2DACF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70F4-5512-4C04-9A25-744C37D3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848E-6AF3-4DDF-B28D-AF053B66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CC53-0336-46A5-9F9C-7D02B8CF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7578-F5F0-4A55-87F0-4F39A3E4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6816-914D-4559-BC7A-DA8ABFFB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DB5D-438C-4CF3-A34F-8ED69CD1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50E4-6C12-4C9E-B313-9B5A63A8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769E-3345-465A-91C8-8EA090A5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02D5-CBAC-42F9-BF9D-1EDF47BB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F7DA-6CC4-4C86-B680-35EB71CB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BBDC-5218-4531-A409-A89DB480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B3F8-519B-4AA6-BDC8-AC1E409A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3218-7DC1-40CF-B1FF-07E733F0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F677-58FE-46E2-BB0A-950E919C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1D69-C214-4021-BCA4-146BCB0A4B45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AFD9-DF72-447C-9EC3-E3CB0FEAAEBE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stoptb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0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.kolbe</cp:lastModifiedBy>
  <dcterms:modified xsi:type="dcterms:W3CDTF">2007-10-23T04:49:03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51497786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20 Oct 2007.ppt</vt:lpwstr>
  </property>
  <property fmtid="{D5CDD505-2E9C-101B-9397-08002B2CF9AE}" pid="6" name="_NewReviewCycle">
    <vt:lpwstr/>
  </property>
  <property fmtid="{D5CDD505-2E9C-101B-9397-08002B2CF9AE}" pid="7" name="_PreviousAdHocReviewCycleID">
    <vt:r8>80680260</vt:r8>
  </property>
  <property fmtid="{D5CDD505-2E9C-101B-9397-08002B2CF9AE}" pid="8" name="_ReviewingToolsShownOnce">
    <vt:lpwstr/>
  </property>
</Properties>
</file>