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E9C-4F1C-404B-83E2-64C46791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122-39B7-4D8C-9FA4-408D0EFB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E07-FEDB-4243-ABC8-F5C4F6A0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BB46-D982-4573-8CDD-712341CD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0AD-06C4-4B45-BE66-3319B07E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2D43-2954-4820-BC0D-58A1A2AF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19F-383C-4851-AB78-545AE47B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D88-594A-4608-BABB-1380D82E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D26-05A1-4C19-9F2F-DBD430B9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6BC7-94B8-477B-B45D-14D705A2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14E-B923-4285-96BE-D8C720FB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DC3-25DF-46B8-9D56-4F3B86F4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2367-3806-4375-9EC3-F774C0259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DF Grant Evolu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 of Consul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3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We must remember the fundamental purpose of GDF: to help patients access drug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nt service has made a difference in people's lives, and must 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lbeit at a reduce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must continue to use grants to leverage improved national procurement and drug managemen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DF Grant Service must evolve with the efforts of others to create a seamless net of support to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seek new donors, and more long-term commitments from existing donors, if it is to meet its projected target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communicate closely with other donors and their secretariats to ensure they take consistent approaches with countri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Stop TB Partnership must promote GDF, its function and its services better, demonstrating that GDF supports countries to move from Grants to Direct Procurement to procuring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and Stop TB Partnership Secretariat identify, without delay, a strategy through which the resources required by GDF to serve its grant beneficiaries in 2007 can be sec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for prioritizing countries or focusing GDF Grant Service on high priority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and the Board give priority to expanding/diversifying its donor base to enable GDF to meet its targets for 2008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68720" y="189000"/>
          <a:ext cx="5040360" cy="27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8720" y="189000"/>
                    <a:ext cx="504036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68720" y="3068640"/>
          <a:ext cx="5040360" cy="339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068640"/>
                    <a:ext cx="5040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200" y="2997360"/>
            <a:ext cx="40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GDF Grant Service funding needed and resources – including all firm commitment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" y="4941720"/>
            <a:ext cx="388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.2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299736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GDF Grant Service funding needed and resources – including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irm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5831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5.0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67280" y="189000"/>
          <a:ext cx="5076720" cy="28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9000"/>
                    <a:ext cx="5076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67280" y="3068640"/>
          <a:ext cx="5087880" cy="345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068640"/>
                    <a:ext cx="50878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whereby technical assistance is subsidized as a component of grant funding from donors and delivered to countries as part of the GDF Grant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Advocacy, Communication and Social Mobilization Working Group and the Stop TB Partnership Secretariat plan and vigorously pursue a campaign to raise the profile of GDF services among countries, donors, partners and technical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engage the Global Fund in discussions on aligning policies related to additionality, sustainability, accelerated fund transfers and quality assu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request that the Global Fund and its beneficiaries use GDF more proactively to meet their needs for increased and improved 1st line anti-TB drug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349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Lucida Handwriting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ryant</cp:lastModifiedBy>
  <dcterms:modified xsi:type="dcterms:W3CDTF">2007-04-19T09:26:25Z</dcterms:modified>
  <cp:revision>31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807430</vt:r8>
  </property>
  <property fmtid="{D5CDD505-2E9C-101B-9397-08002B2CF9AE}" pid="3" name="_AuthorEmail">
    <vt:lpwstr>ryant@who.int</vt:lpwstr>
  </property>
  <property fmtid="{D5CDD505-2E9C-101B-9397-08002B2CF9AE}" pid="4" name="_AuthorEmailDisplayName">
    <vt:lpwstr>Ryan, Timothy</vt:lpwstr>
  </property>
  <property fmtid="{D5CDD505-2E9C-101B-9397-08002B2CF9AE}" pid="5" name="_EmailSubject">
    <vt:lpwstr>BAC_presentation_to_CB_2007.ppt</vt:lpwstr>
  </property>
  <property fmtid="{D5CDD505-2E9C-101B-9397-08002B2CF9AE}" pid="6" name="_NewReviewCycle">
    <vt:lpwstr/>
  </property>
</Properties>
</file>