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285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B1238-8E00-40F8-9B31-2A06528554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90880" y="8705880"/>
            <a:ext cx="299088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43B7E0DB-0CAE-46FC-8E53-ADD877723F30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06640" y="676440"/>
            <a:ext cx="4601880" cy="34509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898560" y="4355640"/>
            <a:ext cx="5013360" cy="41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7A79-C93B-4CCD-8543-F1DF5076B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10FE-819A-4BDF-8FD7-65D797BC4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B778-194F-49F5-883B-21361F54A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1584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7436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1584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E84E-E747-48C4-AE7E-286D7342A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26880" y="189000"/>
            <a:ext cx="829944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75C0-D725-40B2-99F5-717571F34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4528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1584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7436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4528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1584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70E5-0CDE-4FB4-8BE4-35B3843FD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26880" y="189000"/>
            <a:ext cx="829944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4528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31584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77436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4528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31584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EC4D-1F82-469F-B86B-5941AB82C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326880" y="189000"/>
            <a:ext cx="829944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4528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31584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77436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4528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31584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9DBC-1B4A-41D7-84E2-F8BE95156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326880" y="189000"/>
            <a:ext cx="829944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6880" y="189000"/>
            <a:ext cx="829944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8BB3-E73A-4971-BA0A-A1D4FA9BD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54528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31584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77436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54528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31584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9A2D-F794-4783-B803-C8397EF4E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A40C-075E-4E59-9464-55D4A9CCF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5F09-3025-4C46-94FF-50D6C83F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F9B27-DAF4-4CA6-AFC9-20B0D8B502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 hidden="1"/>
          <p:cNvSpPr/>
          <p:nvPr/>
        </p:nvSpPr>
        <p:spPr>
          <a:xfrm>
            <a:off x="-648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285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457200" indent="-228600">
              <a:spcBef>
                <a:spcPts val="451"/>
              </a:spcBef>
              <a:buClr>
                <a:srgbClr val="164e6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3" marL="1376280" indent="-2332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4" marL="2058840" indent="-23004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5" marL="2058840" indent="-230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6" marL="2058840" indent="-230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861400" y="6657840"/>
            <a:ext cx="1764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1DE7C-74BF-47D2-B56D-74CCFA43E34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163440"/>
          </a:xfrm>
          <a:prstGeom prst="rect">
            <a:avLst/>
          </a:prstGeom>
          <a:solidFill>
            <a:srgbClr val="e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440" bIns="72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353360" y="6124680"/>
            <a:ext cx="1622520" cy="493560"/>
          </a:xfrm>
          <a:prstGeom prst="rect">
            <a:avLst/>
          </a:prstGeom>
          <a:ln w="0">
            <a:noFill/>
          </a:ln>
        </p:spPr>
      </p:pic>
      <p:sp>
        <p:nvSpPr>
          <p:cNvPr id="47" name="FooterSimple"/>
          <p:cNvSpPr/>
          <p:nvPr/>
        </p:nvSpPr>
        <p:spPr>
          <a:xfrm>
            <a:off x="505800" y="6529320"/>
            <a:ext cx="2884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d4d4d"/>
                </a:solidFill>
                <a:latin typeface="Arial"/>
              </a:rPr>
              <a:t>17</a:t>
            </a:r>
            <a:r>
              <a:rPr b="0" lang="en-US" sz="800" spc="-1" strike="noStrike" baseline="30000">
                <a:solidFill>
                  <a:srgbClr val="4d4d4d"/>
                </a:solidFill>
                <a:latin typeface="Arial"/>
              </a:rPr>
              <a:t>th</a:t>
            </a:r>
            <a:r>
              <a:rPr b="0" lang="en-US" sz="800" spc="-1" strike="noStrike">
                <a:solidFill>
                  <a:srgbClr val="4d4d4d"/>
                </a:solidFill>
                <a:latin typeface="Arial"/>
              </a:rPr>
              <a:t> Coordinating Board Meeting | Geneva | 5-6 November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163440"/>
          </a:xfrm>
          <a:prstGeom prst="rect">
            <a:avLst/>
          </a:prstGeom>
          <a:solidFill>
            <a:srgbClr val="e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440" bIns="72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838760" y="5153040"/>
            <a:ext cx="4056120" cy="123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54"/>
          <p:cNvSpPr/>
          <p:nvPr/>
        </p:nvSpPr>
        <p:spPr>
          <a:xfrm>
            <a:off x="0" y="0"/>
            <a:ext cx="9144000" cy="163440"/>
          </a:xfrm>
          <a:prstGeom prst="rect">
            <a:avLst/>
          </a:prstGeom>
          <a:solidFill>
            <a:srgbClr val="e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440" bIns="72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55" descr="HQ HTM STB TBP - Logo With Continents - v2"/>
          <p:cNvPicPr/>
          <p:nvPr/>
        </p:nvPicPr>
        <p:blipFill>
          <a:blip r:embed="rId2"/>
          <a:stretch/>
        </p:blipFill>
        <p:spPr>
          <a:xfrm>
            <a:off x="4838760" y="5153040"/>
            <a:ext cx="4056120" cy="12333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285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 hidden="1"/>
          <p:cNvSpPr/>
          <p:nvPr/>
        </p:nvSpPr>
        <p:spPr>
          <a:xfrm>
            <a:off x="-648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285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" name="Text Box 12"/>
          <p:cNvSpPr/>
          <p:nvPr/>
        </p:nvSpPr>
        <p:spPr>
          <a:xfrm>
            <a:off x="8861400" y="6657840"/>
            <a:ext cx="1764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F2CC3-0782-4F9D-AF78-91E085DF155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23"/>
          <p:cNvSpPr/>
          <p:nvPr/>
        </p:nvSpPr>
        <p:spPr>
          <a:xfrm>
            <a:off x="0" y="0"/>
            <a:ext cx="9144000" cy="163440"/>
          </a:xfrm>
          <a:prstGeom prst="rect">
            <a:avLst/>
          </a:prstGeom>
          <a:solidFill>
            <a:srgbClr val="e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440" bIns="72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25" descr="HQ HTM STB TBP - Logo With Continents - v2"/>
          <p:cNvPicPr/>
          <p:nvPr/>
        </p:nvPicPr>
        <p:blipFill>
          <a:blip r:embed="rId2"/>
          <a:stretch/>
        </p:blipFill>
        <p:spPr>
          <a:xfrm>
            <a:off x="7353360" y="6124680"/>
            <a:ext cx="1622520" cy="493560"/>
          </a:xfrm>
          <a:prstGeom prst="rect">
            <a:avLst/>
          </a:prstGeom>
          <a:ln w="0">
            <a:noFill/>
          </a:ln>
        </p:spPr>
      </p:pic>
      <p:sp>
        <p:nvSpPr>
          <p:cNvPr id="168" name="FooterSimple"/>
          <p:cNvSpPr/>
          <p:nvPr/>
        </p:nvSpPr>
        <p:spPr>
          <a:xfrm>
            <a:off x="505800" y="6529320"/>
            <a:ext cx="2884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d4d4d"/>
                </a:solidFill>
                <a:latin typeface="Arial"/>
              </a:rPr>
              <a:t>17</a:t>
            </a:r>
            <a:r>
              <a:rPr b="0" lang="en-US" sz="800" spc="-1" strike="noStrike" baseline="30000">
                <a:solidFill>
                  <a:srgbClr val="4d4d4d"/>
                </a:solidFill>
                <a:latin typeface="Arial"/>
              </a:rPr>
              <a:t>th</a:t>
            </a:r>
            <a:r>
              <a:rPr b="0" lang="en-US" sz="800" spc="-1" strike="noStrike">
                <a:solidFill>
                  <a:srgbClr val="4d4d4d"/>
                </a:solidFill>
                <a:latin typeface="Arial"/>
              </a:rPr>
              <a:t> Coordinating Board Meeting | Geneva | 5-6 November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the_global_fund"/>
          <p:cNvPicPr/>
          <p:nvPr/>
        </p:nvPicPr>
        <p:blipFill>
          <a:blip r:embed="rId3"/>
          <a:stretch/>
        </p:blipFill>
        <p:spPr>
          <a:xfrm>
            <a:off x="7620120" y="228600"/>
            <a:ext cx="1309680" cy="1309680"/>
          </a:xfrm>
          <a:prstGeom prst="rect">
            <a:avLst/>
          </a:prstGeom>
          <a:ln w="0">
            <a:noFill/>
          </a:ln>
        </p:spPr>
      </p:pic>
      <p:sp>
        <p:nvSpPr>
          <p:cNvPr id="170" name="Rounded Rectangle 10"/>
          <p:cNvSpPr/>
          <p:nvPr/>
        </p:nvSpPr>
        <p:spPr>
          <a:xfrm>
            <a:off x="7620120" y="914400"/>
            <a:ext cx="137160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rtners Constituenc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4285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00720" y="1771560"/>
            <a:ext cx="4038480" cy="505080"/>
          </a:xfrm>
          <a:prstGeom prst="rect">
            <a:avLst/>
          </a:prstGeom>
          <a:solidFill>
            <a:srgbClr val="fce6d8"/>
          </a:solidFill>
          <a:ln w="25560">
            <a:solidFill>
              <a:srgbClr val="c61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33520" y="9493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8a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58a0"/>
                </a:solidFill>
                <a:latin typeface="Arial"/>
                <a:ea typeface="ヒラギノ角ゴ Pro W3"/>
              </a:rPr>
              <a:t>Nov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876920" y="949320"/>
            <a:ext cx="3504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8a0"/>
                </a:solidFill>
                <a:latin typeface="Arial"/>
                <a:ea typeface="ヒラギノ角ゴ Pro W3"/>
              </a:rPr>
              <a:t>6 Nov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952880" y="1330200"/>
            <a:ext cx="3505320" cy="0"/>
          </a:xfrm>
          <a:prstGeom prst="line">
            <a:avLst/>
          </a:prstGeom>
          <a:ln w="19080">
            <a:solidFill>
              <a:srgbClr val="0058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1330200"/>
            <a:ext cx="3505320" cy="0"/>
          </a:xfrm>
          <a:prstGeom prst="line">
            <a:avLst/>
          </a:prstGeom>
          <a:ln w="19080">
            <a:solidFill>
              <a:srgbClr val="0058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95280" y="1482840"/>
            <a:ext cx="4267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 fontScale="90000"/>
          </a:bodyPr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09.0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Administrative S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09.15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Opening Ceremo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0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Coffee Br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1.0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Strengthening Performance 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2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Lunch (IL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4.0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Partnership Work Plan 2010/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5.0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Advocacy Framework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16.00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Coffee Br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16.30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M/XDR-TB Follow-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18.30 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Cocktail Reception (IL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1482840"/>
            <a:ext cx="4419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08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Engaging the Private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09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Engaging the Global F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0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Coffee Br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1.0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Rio Recommend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2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Lun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14.30 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Research Mov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5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Coffee Br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6.0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Impact Assessment Task Fo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17.00 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Clo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 hidden="1"/>
          <p:cNvSpPr/>
          <p:nvPr/>
        </p:nvSpPr>
        <p:spPr>
          <a:xfrm>
            <a:off x="-648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631800" y="1494000"/>
            <a:ext cx="8021520" cy="19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ngaging the Global Fu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20000"/>
                </a:solidFill>
                <a:latin typeface="Arial"/>
              </a:rPr>
              <a:t>Partners Constit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r. Jorge Bermudez, Executive Secretary, UNITA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689040" y="4241880"/>
            <a:ext cx="55641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Arial"/>
              </a:rPr>
              <a:t>Geneva, 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5-6 Novembe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42850"/>
                </a:solidFill>
                <a:latin typeface="Arial"/>
              </a:rPr>
              <a:t>Origins of the GF Partners Constituency (PC)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f5f5f"/>
                </a:solidFill>
                <a:latin typeface="Arial"/>
              </a:rPr>
              <a:t>19</a:t>
            </a:r>
            <a:r>
              <a:rPr b="1" lang="en-GB" sz="2000" spc="-1" strike="noStrike" baseline="30000">
                <a:solidFill>
                  <a:srgbClr val="5f5f5f"/>
                </a:solidFill>
                <a:latin typeface="Arial"/>
              </a:rPr>
              <a:t>th</a:t>
            </a:r>
            <a:r>
              <a:rPr b="1" lang="en-GB" sz="2000" spc="-1" strike="noStrike">
                <a:solidFill>
                  <a:srgbClr val="5f5f5f"/>
                </a:solidFill>
                <a:latin typeface="Arial"/>
              </a:rPr>
              <a:t> GF Board (May 2009) approved creation of the Partners Constituency (non-voting Board member seat) made up of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Stop TB Partnership, 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RBM, and 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UNITAID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5f5f5f"/>
                </a:solidFill>
                <a:uFillTx/>
                <a:latin typeface="Arial"/>
              </a:rPr>
              <a:t>Purpose</a:t>
            </a:r>
            <a:r>
              <a:rPr b="1" lang="en-GB" sz="2000" spc="-1" strike="noStrike">
                <a:solidFill>
                  <a:srgbClr val="5f5f5f"/>
                </a:solidFill>
                <a:latin typeface="Arial"/>
              </a:rPr>
              <a:t>:</a:t>
            </a: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to represent key partners whose mission is directly related to the Global Fund and who are not currently represented on the Board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27" name="Picture 5" descr="RBM-logo"/>
          <p:cNvPicPr/>
          <p:nvPr/>
        </p:nvPicPr>
        <p:blipFill>
          <a:blip r:embed="rId1"/>
          <a:stretch/>
        </p:blipFill>
        <p:spPr>
          <a:xfrm>
            <a:off x="6300720" y="6021360"/>
            <a:ext cx="723960" cy="5238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unitaid"/>
          <p:cNvPicPr/>
          <p:nvPr/>
        </p:nvPicPr>
        <p:blipFill>
          <a:blip r:embed="rId2"/>
          <a:stretch/>
        </p:blipFill>
        <p:spPr>
          <a:xfrm>
            <a:off x="4788000" y="6021360"/>
            <a:ext cx="111924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681120"/>
            <a:ext cx="776628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42850"/>
                </a:solidFill>
                <a:latin typeface="Arial"/>
              </a:rPr>
              <a:t>Partners Constituency (PC) representation </a:t>
            </a:r>
            <a:r>
              <a:rPr b="1" lang="en-US" sz="2400" spc="-1" strike="noStrike">
                <a:solidFill>
                  <a:srgbClr val="142850"/>
                </a:solidFill>
                <a:latin typeface="Arial"/>
              </a:rPr>
              <a:t>–</a:t>
            </a:r>
            <a:r>
              <a:rPr b="1" lang="en-GB" sz="2400" spc="-1" strike="noStrike">
                <a:solidFill>
                  <a:srgbClr val="142850"/>
                </a:solidFill>
                <a:latin typeface="Arial"/>
              </a:rPr>
              <a:t> </a:t>
            </a:r>
            <a:br>
              <a:rPr sz="2400"/>
            </a:br>
            <a:r>
              <a:rPr b="1" lang="en-GB" sz="2400" spc="-1" strike="noStrike">
                <a:solidFill>
                  <a:srgbClr val="142850"/>
                </a:solidFill>
                <a:latin typeface="Arial"/>
              </a:rPr>
              <a:t>rotation arrangements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pic>
        <p:nvPicPr>
          <p:cNvPr id="230" name="Diagram 3" descr=""/>
          <p:cNvPicPr/>
          <p:nvPr/>
        </p:nvPicPr>
        <p:blipFill>
          <a:blip r:embed="rId1"/>
          <a:stretch/>
        </p:blipFill>
        <p:spPr>
          <a:xfrm>
            <a:off x="480960" y="2023920"/>
            <a:ext cx="4645080" cy="29084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RBM-logo"/>
          <p:cNvPicPr/>
          <p:nvPr/>
        </p:nvPicPr>
        <p:blipFill>
          <a:blip r:embed="rId2"/>
          <a:stretch/>
        </p:blipFill>
        <p:spPr>
          <a:xfrm>
            <a:off x="6300720" y="6021360"/>
            <a:ext cx="723960" cy="5238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6" descr="unitaid"/>
          <p:cNvPicPr/>
          <p:nvPr/>
        </p:nvPicPr>
        <p:blipFill>
          <a:blip r:embed="rId3"/>
          <a:stretch/>
        </p:blipFill>
        <p:spPr>
          <a:xfrm>
            <a:off x="4788000" y="6021360"/>
            <a:ext cx="1119240" cy="593640"/>
          </a:xfrm>
          <a:prstGeom prst="rect">
            <a:avLst/>
          </a:prstGeom>
          <a:ln w="0">
            <a:noFill/>
          </a:ln>
        </p:spPr>
      </p:pic>
      <p:sp>
        <p:nvSpPr>
          <p:cNvPr id="233" name="Rounded Rectangle 6"/>
          <p:cNvSpPr/>
          <p:nvPr/>
        </p:nvSpPr>
        <p:spPr>
          <a:xfrm>
            <a:off x="5943600" y="2666880"/>
            <a:ext cx="2743200" cy="914400"/>
          </a:xfrm>
          <a:prstGeom prst="roundRect">
            <a:avLst>
              <a:gd name="adj" fmla="val 16667"/>
            </a:avLst>
          </a:prstGeom>
          <a:solidFill>
            <a:srgbClr val="e8f1f9"/>
          </a:solidFill>
          <a:ln w="9360">
            <a:solidFill>
              <a:srgbClr val="e8f1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rtfolio and Implementation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itte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I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BM representing PC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2009-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ounded Rectangle 7"/>
          <p:cNvSpPr/>
          <p:nvPr/>
        </p:nvSpPr>
        <p:spPr>
          <a:xfrm>
            <a:off x="5257800" y="2209680"/>
            <a:ext cx="3429000" cy="304920"/>
          </a:xfrm>
          <a:prstGeom prst="roundRect">
            <a:avLst>
              <a:gd name="adj" fmla="val 16667"/>
            </a:avLst>
          </a:prstGeom>
          <a:solidFill>
            <a:srgbClr val="e8f1f9"/>
          </a:solidFill>
          <a:ln w="9360">
            <a:solidFill>
              <a:srgbClr val="e8f1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PC representation arrang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ounded Rectangle 8"/>
          <p:cNvSpPr/>
          <p:nvPr/>
        </p:nvSpPr>
        <p:spPr>
          <a:xfrm>
            <a:off x="5943600" y="3733920"/>
            <a:ext cx="2743200" cy="685800"/>
          </a:xfrm>
          <a:prstGeom prst="roundRect">
            <a:avLst>
              <a:gd name="adj" fmla="val 16667"/>
            </a:avLst>
          </a:prstGeom>
          <a:solidFill>
            <a:srgbClr val="e8f1f9"/>
          </a:solidFill>
          <a:ln w="9360">
            <a:solidFill>
              <a:srgbClr val="e8f1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C 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minated by Board Mem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ch 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Curved Up Arrow 11"/>
          <p:cNvSpPr/>
          <p:nvPr/>
        </p:nvSpPr>
        <p:spPr>
          <a:xfrm flipV="1" rot="10800000">
            <a:off x="4800600" y="5028120"/>
            <a:ext cx="2666880" cy="762120"/>
          </a:xfrm>
          <a:custGeom>
            <a:avLst/>
            <a:gdLst>
              <a:gd name="textAreaLeft" fmla="*/ 595080 w 2666880"/>
              <a:gd name="textAreaRight" fmla="*/ 1976400 w 26668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643" hR="21600" stAng="10800000" swAng="-5400000"/>
                <a:lnTo>
                  <a:pt x="11185" y="21600"/>
                </a:lnTo>
                <a:arcTo wR="9643" hR="21600" stAng="5400000" swAng="-3597406"/>
                <a:lnTo>
                  <a:pt x="21294" y="5400"/>
                </a:lnTo>
                <a:lnTo>
                  <a:pt x="20057" y="0"/>
                </a:lnTo>
                <a:lnTo>
                  <a:pt x="18208" y="5400"/>
                </a:lnTo>
                <a:lnTo>
                  <a:pt x="18980" y="5400"/>
                </a:lnTo>
                <a:arcTo wR="9643" hR="21600" stAng="1802594" swAng="3474356"/>
                <a:lnTo>
                  <a:pt x="10414" y="21531"/>
                </a:lnTo>
                <a:arcTo wR="9643" hR="21600" stAng="5523050" swAng="5276950"/>
                <a:close/>
              </a:path>
              <a:path fill="darkenLess" w="21600" h="21600">
                <a:moveTo>
                  <a:pt x="0" y="0"/>
                </a:moveTo>
                <a:arcTo wR="9643" hR="21600" stAng="10800000" swAng="-5400000"/>
                <a:lnTo>
                  <a:pt x="11185" y="21600"/>
                </a:lnTo>
                <a:arcTo wR="9643" hR="21600" stAng="5400000" swAng="123050"/>
                <a:lnTo>
                  <a:pt x="10414" y="21531"/>
                </a:lnTo>
                <a:arcTo wR="9643" hR="21600" stAng="5523050" swAng="5276950"/>
                <a:close/>
              </a:path>
            </a:pathLst>
          </a:custGeom>
          <a:solidFill>
            <a:srgbClr val="80c3e5"/>
          </a:solidFill>
          <a:ln w="9360">
            <a:solidFill>
              <a:srgbClr val="164e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Curved Up Arrow 13"/>
          <p:cNvSpPr/>
          <p:nvPr/>
        </p:nvSpPr>
        <p:spPr>
          <a:xfrm>
            <a:off x="1981080" y="5029200"/>
            <a:ext cx="2514600" cy="762120"/>
          </a:xfrm>
          <a:custGeom>
            <a:avLst/>
            <a:gdLst>
              <a:gd name="textAreaLeft" fmla="*/ 556920 w 2514600"/>
              <a:gd name="textAreaRight" fmla="*/ 1862280 w 251460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573" hR="21600" stAng="10800000" swAng="-5400000"/>
                <a:lnTo>
                  <a:pt x="11210" y="21600"/>
                </a:lnTo>
                <a:arcTo wR="9573" hR="21600" stAng="5400000" swAng="-3586453"/>
                <a:lnTo>
                  <a:pt x="21296" y="5400"/>
                </a:lnTo>
                <a:lnTo>
                  <a:pt x="19964" y="0"/>
                </a:lnTo>
                <a:lnTo>
                  <a:pt x="18023" y="5400"/>
                </a:lnTo>
                <a:lnTo>
                  <a:pt x="18841" y="5400"/>
                </a:lnTo>
                <a:arcTo wR="9573" hR="21600" stAng="1813547" swAng="3455769"/>
                <a:lnTo>
                  <a:pt x="10391" y="21521"/>
                </a:lnTo>
                <a:arcTo wR="9573" hR="21600" stAng="5530684" swAng="5269316"/>
                <a:close/>
              </a:path>
              <a:path fill="darkenLess" w="21600" h="21600">
                <a:moveTo>
                  <a:pt x="0" y="0"/>
                </a:moveTo>
                <a:arcTo wR="9573" hR="21600" stAng="10800000" swAng="-5400000"/>
                <a:lnTo>
                  <a:pt x="11210" y="21600"/>
                </a:lnTo>
                <a:arcTo wR="9573" hR="21600" stAng="5400000" swAng="130684"/>
                <a:lnTo>
                  <a:pt x="10391" y="21521"/>
                </a:lnTo>
                <a:arcTo wR="9573" hR="21600" stAng="5530684" swAng="5269316"/>
                <a:close/>
              </a:path>
            </a:pathLst>
          </a:custGeom>
          <a:solidFill>
            <a:srgbClr val="80c3e5"/>
          </a:solidFill>
          <a:ln w="9360">
            <a:solidFill>
              <a:srgbClr val="164e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42850"/>
                </a:solidFill>
                <a:latin typeface="Arial"/>
              </a:rPr>
              <a:t>Process for developing constituency positions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39" name="Rounded Rectangle 6"/>
          <p:cNvSpPr/>
          <p:nvPr/>
        </p:nvSpPr>
        <p:spPr>
          <a:xfrm>
            <a:off x="152280" y="2895480"/>
            <a:ext cx="2286000" cy="2057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164e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review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lligence gath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 positions discuss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draf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ounded Rectangle 8"/>
          <p:cNvSpPr/>
          <p:nvPr/>
        </p:nvSpPr>
        <p:spPr>
          <a:xfrm>
            <a:off x="533520" y="4419720"/>
            <a:ext cx="213336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27cbf"/>
              </a:gs>
              <a:gs pos="100000">
                <a:srgbClr val="c0e1f2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rking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ounded Rectangle 9"/>
          <p:cNvSpPr/>
          <p:nvPr/>
        </p:nvSpPr>
        <p:spPr>
          <a:xfrm>
            <a:off x="3276720" y="2895480"/>
            <a:ext cx="2286000" cy="2057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164e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e tune 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ensus principle on an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ious 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on for 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ency not individu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ing 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ounded Rectangle 15"/>
          <p:cNvSpPr/>
          <p:nvPr/>
        </p:nvSpPr>
        <p:spPr>
          <a:xfrm>
            <a:off x="6248520" y="2895480"/>
            <a:ext cx="2361960" cy="2057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164e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documents shared f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dback and inp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 statement shared f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ed number of badges f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bers to attend the Boar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part of Partners Constitu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Curved Up Arrow 16"/>
          <p:cNvSpPr/>
          <p:nvPr/>
        </p:nvSpPr>
        <p:spPr>
          <a:xfrm flipH="1" rot="10800000">
            <a:off x="5257800" y="1980720"/>
            <a:ext cx="2666880" cy="838440"/>
          </a:xfrm>
          <a:custGeom>
            <a:avLst/>
            <a:gdLst>
              <a:gd name="textAreaLeft" fmla="*/ 588240 w 2666880"/>
              <a:gd name="textAreaRight" fmla="*/ 1974600 w 2666880"/>
              <a:gd name="textAreaTop" fmla="*/ 112320 h 838440"/>
              <a:gd name="textAreaBottom" fmla="*/ 7261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527" hR="21600" stAng="10800000" swAng="-5400000"/>
                <a:lnTo>
                  <a:pt x="11225" y="21600"/>
                </a:lnTo>
                <a:arcTo wR="9527" hR="21600" stAng="5400000" swAng="-3579320"/>
                <a:lnTo>
                  <a:pt x="21297" y="5400"/>
                </a:lnTo>
                <a:lnTo>
                  <a:pt x="19903" y="0"/>
                </a:lnTo>
                <a:lnTo>
                  <a:pt x="17903" y="5400"/>
                </a:lnTo>
                <a:lnTo>
                  <a:pt x="18751" y="5400"/>
                </a:lnTo>
                <a:arcTo wR="9527" hR="21600" stAng="1820680" swAng="3443728"/>
                <a:lnTo>
                  <a:pt x="10376" y="21514"/>
                </a:lnTo>
                <a:arcTo wR="9527" hR="21600" stAng="5535592" swAng="5264408"/>
                <a:close/>
              </a:path>
              <a:path fill="darkenLess" w="21600" h="21600">
                <a:moveTo>
                  <a:pt x="0" y="0"/>
                </a:moveTo>
                <a:arcTo wR="9527" hR="21600" stAng="10800000" swAng="-5400000"/>
                <a:lnTo>
                  <a:pt x="11225" y="21600"/>
                </a:lnTo>
                <a:arcTo wR="9527" hR="21600" stAng="5400000" swAng="135592"/>
                <a:lnTo>
                  <a:pt x="10376" y="21514"/>
                </a:lnTo>
                <a:arcTo wR="9527" hR="21600" stAng="5535592" swAng="5264408"/>
                <a:close/>
              </a:path>
            </a:pathLst>
          </a:custGeom>
          <a:solidFill>
            <a:srgbClr val="80c3e5"/>
          </a:solidFill>
          <a:ln w="9360">
            <a:solidFill>
              <a:srgbClr val="164e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ounded Rectangle 17"/>
          <p:cNvSpPr/>
          <p:nvPr/>
        </p:nvSpPr>
        <p:spPr>
          <a:xfrm>
            <a:off x="4114800" y="2286000"/>
            <a:ext cx="213372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27cbf"/>
              </a:gs>
              <a:gs pos="100000">
                <a:srgbClr val="c0e1f2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ounded Rectangle 14"/>
          <p:cNvSpPr/>
          <p:nvPr/>
        </p:nvSpPr>
        <p:spPr>
          <a:xfrm>
            <a:off x="6781680" y="4419720"/>
            <a:ext cx="213372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27cbf"/>
              </a:gs>
              <a:gs pos="100000">
                <a:srgbClr val="c0e1f2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5" descr="RBM-logo"/>
          <p:cNvPicPr/>
          <p:nvPr/>
        </p:nvPicPr>
        <p:blipFill>
          <a:blip r:embed="rId1"/>
          <a:stretch/>
        </p:blipFill>
        <p:spPr>
          <a:xfrm>
            <a:off x="6300720" y="6021360"/>
            <a:ext cx="723960" cy="5238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unitaid"/>
          <p:cNvPicPr/>
          <p:nvPr/>
        </p:nvPicPr>
        <p:blipFill>
          <a:blip r:embed="rId2"/>
          <a:stretch/>
        </p:blipFill>
        <p:spPr>
          <a:xfrm>
            <a:off x="4788000" y="6021360"/>
            <a:ext cx="111924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42850"/>
                </a:solidFill>
                <a:latin typeface="Arial"/>
              </a:rPr>
              <a:t>Regular PC Executive Heads meetings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1 month before major GF Board related meetings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1 week before major meetings to discuss details of GF Board and Committee agenda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PC Heads update the night before Board meetings to agree on PC consensus positions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Post-mortem/follow-up (as agreed)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Others as required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50" name="Picture 5" descr="RBM-logo"/>
          <p:cNvPicPr/>
          <p:nvPr/>
        </p:nvPicPr>
        <p:blipFill>
          <a:blip r:embed="rId1"/>
          <a:stretch/>
        </p:blipFill>
        <p:spPr>
          <a:xfrm>
            <a:off x="6300720" y="6021360"/>
            <a:ext cx="723960" cy="5238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6" descr="unitaid"/>
          <p:cNvPicPr/>
          <p:nvPr/>
        </p:nvPicPr>
        <p:blipFill>
          <a:blip r:embed="rId2"/>
          <a:stretch/>
        </p:blipFill>
        <p:spPr>
          <a:xfrm>
            <a:off x="4788000" y="6021360"/>
            <a:ext cx="111924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6T07:38:35Z</dcterms:created>
  <dc:creator>Alan Esser</dc:creator>
  <dc:description/>
  <dc:language>en-US</dc:language>
  <cp:lastModifiedBy>Alan Esser</cp:lastModifiedBy>
  <dcterms:modified xsi:type="dcterms:W3CDTF">2009-11-06T07:38:49Z</dcterms:modified>
  <cp:revision>1</cp:revision>
  <dc:subject/>
  <dc:title>Agenda</dc:title>
</cp:coreProperties>
</file>