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BC2F9-8D9E-4FD4-B504-206868CDB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229A9-DC40-4D78-A289-3DBF0CB7F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1A61E-2FBA-406F-9EC6-16AD0AA9D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1D585-7071-4B2D-9E0D-81337324B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055BA-9318-44E9-A6CD-D4663B94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A741-1C5F-4311-8D1E-3260BD4E4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B6806-5801-40F7-ABC2-DF008375D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DE9B-085B-45BC-ADB6-EA1D00885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7983-411D-4FFD-95BC-5D08CDAC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FE7D-E47F-4C73-9FBA-33E833702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28B02-4253-4B4C-86B4-BA89471B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7F76C-F2DE-4677-8CE8-373AE50F4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0263-5473-4CD7-84E6-E2B6D591C2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4BC3A-6924-49D5-8465-35B8F38AF134}" type="datetime3">
              <a:rPr b="1" lang="en-GB" sz="800" spc="-1" strike="noStrike">
                <a:solidFill>
                  <a:srgbClr val="000000"/>
                </a:solidFill>
                <a:latin typeface="Tahoma"/>
                <a:ea typeface="Tahoma"/>
              </a:rPr>
              <a:t>28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65260BB0-090F-4AB4-BF81-B788F261137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