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47B1-85B9-4E72-BD40-F6BC366A8A7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e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en at maximum DOTS coverage, case detection seems to remain below the 70% target level in most settings (Dye et al 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 we need innovative approaches to case dete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DEWG is a mechanism to do whatever it needs to be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need to ensure we make good use of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2nd ad hoc Committee produced some recommendations for action, the DEWG is a tool to facilitate/implement some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4FEE-9320-4E0D-A4F9-73FA9B75F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1F13-D4D2-4DCC-A003-88420EC2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2EE0-0531-4ABA-B504-4A4CF2DFC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2098-C811-41BF-8B8E-78F3FFCFC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6C80-5A32-457F-914A-2EF669A9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8690-E136-4355-88DC-EB2E379F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F78E-DBAF-4D0C-9525-5BEDDB81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30E8-B690-4EC7-8F56-D11F1D56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A410-73E5-426C-B260-18A6EBBF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2907-8846-464C-9386-76F42C76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B5B6-A08F-495F-96A9-B9E9F130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E4A1-49B1-404D-AC6A-263365A1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7E6E-BFD0-4A36-9330-AE29A3C60A3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Update of the Global Plan to Stop TB 2006-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P Coordinating Board Me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eneva, 5 - 6 Nov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ristian Lienhar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838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process (cont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ew Tools (drugs, vaccines and diagnostic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going on through communications within WGs – led by chairs and cor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ice/input from health econom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workshops to advance (Sept '09) and finalise (Jan '10) revised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Basic Research and 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hops to define the suitable research agenda and develop appropriate cost estim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-up (March – May '1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04920"/>
            <a:ext cx="5715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Target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of the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05, and to be sustained or exceeded 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least 70% of people with infectious TB will be diagnosed (i.e. under the DOTS strategy) and at least 85% of those diagnosed will be cu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global burden of TB disease (disease prevalence and deaths) reduced by 50% relative to 1990 levels, i.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prevalence to 155 or fewer per 100 000 popula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deaths to 14 or fewer per 100 000 per year by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eet the MDGs relevant to tuberculosis (goal 6, target 8)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“to have halted and begun to reverse the incidence [of TB]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3049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bjectives of the Global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promote wider and wiser use of existing strategies to interrupt TB transmissio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lerating DOTS implementation to achieve the global targets for TB control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the availability, affordability and quality of anti-TB dru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prevent and manage multidrug-resistant TB, and to reduce the impact of HIV related T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accelerate the elimination of TB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promoting research and development for new TB diagnostic tests, drugs and vaccin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promoting adoption of new and improved tools by ensuring appropriate use, access and afford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557280" y="2276640"/>
          <a:ext cx="2790720" cy="39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2276640"/>
                    <a:ext cx="2790720" cy="3946320"/>
                  </a:xfrm>
                  <a:prstGeom prst="rect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8" name="" descr=""/>
          <p:cNvPicPr/>
          <p:nvPr/>
        </p:nvPicPr>
        <p:blipFill>
          <a:blip r:embed="rId3"/>
          <a:srcRect l="10960" t="1141" r="3272" b="0"/>
          <a:stretch/>
        </p:blipFill>
        <p:spPr>
          <a:xfrm>
            <a:off x="5560920" y="2276640"/>
            <a:ext cx="2897280" cy="38304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111240" y="1341360"/>
            <a:ext cx="36687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New challenges requi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the Stop TB Strateg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03640" y="1341360"/>
            <a:ext cx="4032360" cy="764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The Global Plan 2006-2015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defines direction and c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260280"/>
            <a:ext cx="583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  <a:ea typeface="Tahoma"/>
              </a:rPr>
              <a:t>The vision today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19640" y="2492280"/>
            <a:ext cx="1942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2006-2015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56 billion US$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necessary to  control TB in endemic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9 billion US$ necessary to develop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7524720" y="404640"/>
            <a:ext cx="145584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tal needs by Working Group area of responsibility,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838224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52280"/>
            <a:ext cx="60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obal Plan targets – Research an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74320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457200" y="1600200"/>
          <a:ext cx="8229600" cy="4959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89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c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vaccines in phase I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candidates in phase II trials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least 2 vaccines in "proof of concept" trials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 phase III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phase III trials carried out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 safe, effective vaccine avail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new compounds in the pipe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new drugs registered; treatment shortened to 3-4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new drugs; treatment shortened to 1-2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id culture for case detection and DST in demonstration ph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of care, rapid culture, improved microscopy, phage detection, simplif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tive test for LTB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he Global Plan Update is to look cri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the objectives set at start and, on the basis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s so far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revise the objectives, ensuring feasibility and achieveme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outline clearly the main activities to reach these objectiv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fine appropriate indicators to evaluate progre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fine appropriate targets to measure effectivene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identify the costs of these activities, ensuring comparability between tools and over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endpo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to ensure that achievable objectives are set, and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rocess of constant evaluation of progress and funding is possib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ough the comparison with the Annual R&amp;D Funding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ort from TAG/S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New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search Component of the GP was solely relying on the works to be carried out to develop new tools, i.e.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ew Diagnostics, Drugs and Vaccin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should take into account the specific aspects arising from research to be carried out within the areas of MDR-TB, TB/HIV and childhood T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research was considered only as part of the research for new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on research was imbedded in the implementation part with cost calculated at 0.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gical framewor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goal, objectives and proposed activities set in GP for new to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ritical re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goal, objectives and activities based on progress 2006-2009, current status, major areas of work and related targets for 2010-2015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ication of appropriat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indicato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to measure activities and estimate cos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evelopment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revised agen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with appropriate budget to implemen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06:29:03Z</dcterms:created>
  <dc:creator>Christian Lienhardt</dc:creator>
  <dc:description/>
  <dc:language>en-US</dc:language>
  <cp:lastModifiedBy>Alan Esser</cp:lastModifiedBy>
  <dcterms:modified xsi:type="dcterms:W3CDTF">2009-11-06T10:14:28Z</dcterms:modified>
  <cp:revision>32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57045021</vt:r8>
  </property>
  <property fmtid="{D5CDD505-2E9C-101B-9397-08002B2CF9AE}" pid="3" name="_AuthorEmail">
    <vt:lpwstr>lienhardtc@who.int</vt:lpwstr>
  </property>
  <property fmtid="{D5CDD505-2E9C-101B-9397-08002B2CF9AE}" pid="4" name="_AuthorEmailDisplayName">
    <vt:lpwstr>Lienhardt, Christian</vt:lpwstr>
  </property>
  <property fmtid="{D5CDD505-2E9C-101B-9397-08002B2CF9AE}" pid="5" name="_EmailSubject">
    <vt:lpwstr>CB -- update of global pla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