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6F9FD-2E01-410A-8C51-79A10DB6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BD66B-1811-4CA8-81E3-4A4398469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24533-B01C-4A9D-9046-42AA8FB6C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7A474-C83B-4A9E-8CDA-5F5878B1D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EBA5F-379B-484F-9FE8-47787808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C09A9-5191-42EF-B79D-C9A966C29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BB806-F9C4-4480-AB7C-99EC63BB2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6C0ED-9609-4EBD-910F-3292B980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FE914-80CE-44F3-9455-48A4EB85A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E0E9B-E399-4FCB-9128-CDFD5D083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0C678-7FF3-4466-8064-479D3E53D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D272-B81F-4C24-86E0-33F38F1DF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F6F8-A015-4762-AE46-DCDF1ECFFA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28C4-D985-4010-A07E-114EC4A25EE4}" type="datetime3">
              <a:rPr b="1" lang="en-GB" sz="800" spc="-1" strike="noStrike">
                <a:solidFill>
                  <a:srgbClr val="000000"/>
                </a:solidFill>
                <a:latin typeface="Tahoma"/>
                <a:ea typeface="Tahoma"/>
              </a:rPr>
              <a:t>31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2F54A3BF-30B1-48EC-995B-BD74E965E39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