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E0FF-6B97-4B39-B577-F27C579FD641}"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31E2EAED-8AEF-4DA4-B4D8-25A7C096DB06}" type="datetime3">
              <a:rPr b="1" lang="en-GB" sz="1400" spc="-1" strike="noStrike">
                <a:solidFill>
                  <a:srgbClr val="96ccee"/>
                </a:solidFill>
                <a:latin typeface="Arial Narrow"/>
                <a:ea typeface="Arial"/>
              </a:rPr>
              <a:t>30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E1C0546-CF58-423D-8E95-09C15533E4DC}"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