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4CCE-B68E-44EC-BF3A-FEB8C1EE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DB4-66E1-4B43-B590-4916DB8F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9B32-7DD4-4A13-868B-73C4A5FA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5142-839C-41E5-8C11-4552148E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F169-4972-4CCB-98D9-DA050ADB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4612-25B6-42AB-B8E1-939D38CC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6F5D-2C66-4105-BC28-B5413F2E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349A-3648-4874-BD6C-8A5E753E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D5D-5BD0-4188-B456-4335C16C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992E-78E9-4245-82D0-E62E7386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D5A2-5B6A-4B7A-AA60-85FDEC42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16DE-B0DF-4319-976A-39F4649B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827360" indent="-4381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FD94-91BD-4D81-8C29-5C0A9DA0460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BCE2-AC02-406A-BE4D-07B8FE8849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23400" y="0"/>
            <a:ext cx="1020600" cy="146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57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Global Drug Facility: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Two Years after Berl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Progress, Challenges, Opportun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68000" y="5013360"/>
            <a:ext cx="504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omas Moo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eneva, 06 November 2009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524720" y="4869000"/>
          <a:ext cx="80496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4869000"/>
                    <a:ext cx="8049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4000" y="5084640"/>
            <a:ext cx="83808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DF Value of 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735200"/>
          <a:ext cx="8964720" cy="48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35200"/>
                    <a:ext cx="896472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659880"/>
            <a:ext cx="765684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1773360"/>
            <a:ext cx="5977080" cy="508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Flow of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/UNITAID established stockpile for 800 patients now ramping up to 5,800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pile used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placement of drugs when a manufacturer could not deliver 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 out risk in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mall country order or when only a small quantity was needed to complete a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o speed up delivery to meet urgent order demands and emergen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ambria"/>
              </a:rPr>
              <a:t>(order lead time is about 30 days so f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844640"/>
            <a:ext cx="2509920" cy="501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270180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High level negotiation with WHO on staffing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and prequalification bottleneck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1916280"/>
            <a:ext cx="532764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 staffing has increased by 58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DR-TB current staff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senior team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procurement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drug registration and 1 drug quality officer (for both MDR-TB an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line dru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1989000"/>
            <a:ext cx="5327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ore suppliers prequa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MDR-TB products (8 suppli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XDR-TB products (3 suppl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989000"/>
            <a:ext cx="273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28814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2060640"/>
            <a:ext cx="51832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linton Foundation with GDF/GLC develope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phase forecasting t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LC responsible for forecasting and provides to GDF for order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989000"/>
            <a:ext cx="53276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Pricing</a:t>
            </a:r>
            <a:r>
              <a:rPr b="0" lang="en-GB" sz="4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task force established (GDF/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Interviewing recently prequalified suppliers to understand batch size, reaction time for an 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Will be completed March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28814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or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Overall lead time is still problemati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s much work by all partners since lead time is partially outside the responsibility of GDF </a:t>
            </a:r>
            <a:r>
              <a:rPr b="1" lang="en-GB" sz="2000" spc="-1" strike="noStrike">
                <a:solidFill>
                  <a:srgbClr val="000000"/>
                </a:solidFill>
                <a:latin typeface="Cambria"/>
              </a:rPr>
              <a:t>(example: lag in approvals and poor quantification of drug needs from country TB programs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In 2010 GDF will recruit two more procurement officers and two administrative personn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Forecast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From country TB programs need much more work on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Real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Enrolment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Update forecasting tool with these dat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Number of qualified supplier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 to repeat the Expression of Interest tender to encourage more suppliers in 2010 (process takes about 10 months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Developed Order Management Syste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Order data already enter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ome data validation still need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an generate lead time, costing repor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upply of drugs for non-GLC projec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As appropriate, work with GLC, WHO-prequalification, national regulatory authorities to identify potential suppliers based on a quality risk analysi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2007 Berlin Core Problems</a:t>
            </a:r>
            <a:r>
              <a:rPr b="0" lang="en-GB" sz="4400" spc="-1" strike="noStrike">
                <a:solidFill>
                  <a:srgbClr val="008000"/>
                </a:solidFill>
                <a:latin typeface="Cambria"/>
              </a:rPr>
              <a:t> 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62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High level negotiation with WHO to resolve staffing and prequalification bottleneck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* Coordinating Board meeting, Berlin October 2007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ndate of G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ncrease access to high quality TB drugs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ique procurement mechanism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demand for drugs to supply and monitoring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utsources several services to partners on a competitive basi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ses product packaging to simplify drug managemen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grants to TB programme performance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1600" y="1860480"/>
            <a:ext cx="2798640" cy="423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1844640"/>
            <a:ext cx="4968720" cy="424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wo regional supplier meetings to advocate for more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Mumbai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Rio de Janeir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haring of forecas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program with suppl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2798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1989000"/>
            <a:ext cx="5472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EOI tender process to bring more prequalified suppliers on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MDR – 2 suppliers for all 11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MDR – 8 suppliers for 11 products</a:t>
            </a:r>
            <a:r>
              <a:rPr b="0" lang="en-GB" sz="2400" spc="-1" strike="noStrike">
                <a:solidFill>
                  <a:srgbClr val="33cc33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XDR  - 0 suppliers for 5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XDR -  suppliers for 3 of 5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98920" y="2060640"/>
            <a:ext cx="514980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/UNITAID/GF established the strategic revolving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Enables a country to order while awaiting donor monies to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Cambria"/>
              </a:rPr>
              <a:t>(will be operational by December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989000"/>
            <a:ext cx="250992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1773360"/>
            <a:ext cx="576108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 responsibility: time from order placed with supplier until delivery to country (not responsible for lag in approvals by TB progra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In 2009 to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95 orders were 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67 orders are deli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24 orders still on track for Nov/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4 orders on hold because of country problems (eg. no money for drugs, no permission to impor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27986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533160"/>
            <a:ext cx="83628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ossible Lead Times Bottlen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Before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GLC and partners to forecast patients and rate of patient enrolment and provide to GDF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MoH protocol to sign GDF order is often long proces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mbria"/>
              </a:rPr>
              <a:t>After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Responsibility of GDF and its age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GDF/procurement agent places order to supplier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Suppliers order materials to manufacture medicin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An independent lab tests produc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Product shipped to country program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Drug arrives in countr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country to clear custom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Import fe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Drug Registratio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DF Performance Indic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2:29:53Z</dcterms:created>
  <dc:creator>tmoore</dc:creator>
  <dc:description/>
  <dc:language>en-US</dc:language>
  <cp:lastModifiedBy>maggir</cp:lastModifiedBy>
  <dcterms:modified xsi:type="dcterms:W3CDTF">2009-11-05T15:50:01Z</dcterms:modified>
  <cp:revision>180</cp:revision>
  <dc:subject/>
  <dc:title>GDF progress challenges for Coord 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