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A2E0-7221-4CFB-9127-1B2D53F11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0880" y="8705880"/>
            <a:ext cx="2990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14B672C-AC3B-4F7B-A443-5AD2F1720BA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01880" cy="3450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8560" y="4355640"/>
            <a:ext cx="50133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81A-D2C1-4170-9643-352609AD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7FE-AD40-4E51-9715-6060A14D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BE52-1E4F-4218-B51F-C518B8D9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0EAA-2D6E-47A7-ABF3-B0102C41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62F-F544-4046-91AE-A1D538CC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9676-8AEB-46CD-974B-012B6D1A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95F9-205B-4B2A-BF25-9BED8018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1761-A990-405E-ACD0-721CFFEC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2ED-CD25-43EF-B222-A29A7E73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AEDE-8C55-4281-9653-FC97A5E6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814B-8A12-40AC-8244-44D98736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20B6-07C5-4DEE-8D6C-0F880596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C6DC-C2F3-417D-B988-8CBD829F4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-22860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376280" indent="-2332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8840" indent="-23004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8967-E3C5-476D-A52A-698AABC9A0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4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C9D7-EFC8-435A-9F9A-4766875118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the_global_fund"/>
          <p:cNvPicPr/>
          <p:nvPr/>
        </p:nvPicPr>
        <p:blipFill>
          <a:blip r:embed="rId3"/>
          <a:stretch/>
        </p:blipFill>
        <p:spPr>
          <a:xfrm>
            <a:off x="7620120" y="22860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10"/>
          <p:cNvSpPr/>
          <p:nvPr/>
        </p:nvSpPr>
        <p:spPr>
          <a:xfrm>
            <a:off x="7620120" y="914400"/>
            <a:ext cx="13716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s Constitu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4285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771560"/>
            <a:ext cx="4038480" cy="505080"/>
          </a:xfrm>
          <a:prstGeom prst="rect">
            <a:avLst/>
          </a:prstGeom>
          <a:solidFill>
            <a:srgbClr val="fce6d8"/>
          </a:solidFill>
          <a:ln w="25560">
            <a:solidFill>
              <a:srgbClr val="c61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9493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94932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2840"/>
            <a:ext cx="426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90000"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ministrative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15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pening Cere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trengthening Performance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4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artnership Work Plan 2010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vocacy Framework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3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/XDR-TB 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8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cktail Reception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482840"/>
            <a:ext cx="441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8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Global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io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4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search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mpact Assess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7.0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lo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31800" y="1494000"/>
            <a:ext cx="8021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gaging the Global F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Partners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Jorge Bermudez, Executive Secretary, UNIT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9040" y="4241880"/>
            <a:ext cx="5564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Geneva,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5-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Origins of the GF Partners Constituency (PC)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19</a:t>
            </a:r>
            <a:r>
              <a:rPr b="1" lang="en-GB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 GF Board (May 2009) approved creation of the Partners Constituency (non-voting Board member seat) made up of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op TB Partnership,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RBM, and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AI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5f5f5f"/>
                </a:solidFill>
                <a:uFillTx/>
                <a:latin typeface="Arial"/>
              </a:rPr>
              <a:t>Purpose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o represent key partners whose mission is directly related to the Global Fund and who are not currently represented on the Boar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7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1120"/>
            <a:ext cx="77662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artners Constituency (PC) representation </a:t>
            </a: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–</a:t>
            </a: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otation arrangement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pic>
        <p:nvPicPr>
          <p:cNvPr id="230" name="Diagram 3" descr=""/>
          <p:cNvPicPr/>
          <p:nvPr/>
        </p:nvPicPr>
        <p:blipFill>
          <a:blip r:embed="rId1"/>
          <a:stretch/>
        </p:blipFill>
        <p:spPr>
          <a:xfrm>
            <a:off x="480960" y="2023920"/>
            <a:ext cx="4645080" cy="290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RBM-logo"/>
          <p:cNvPicPr/>
          <p:nvPr/>
        </p:nvPicPr>
        <p:blipFill>
          <a:blip r:embed="rId2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unitaid"/>
          <p:cNvPicPr/>
          <p:nvPr/>
        </p:nvPicPr>
        <p:blipFill>
          <a:blip r:embed="rId3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6"/>
          <p:cNvSpPr/>
          <p:nvPr/>
        </p:nvSpPr>
        <p:spPr>
          <a:xfrm>
            <a:off x="5943600" y="26668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folio and Implement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tt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M representing PC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7"/>
          <p:cNvSpPr/>
          <p:nvPr/>
        </p:nvSpPr>
        <p:spPr>
          <a:xfrm>
            <a:off x="5257800" y="220968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C representation 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5943600" y="37339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ted by Board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urved Up Arrow 11"/>
          <p:cNvSpPr/>
          <p:nvPr/>
        </p:nvSpPr>
        <p:spPr>
          <a:xfrm flipV="1" rot="10800000">
            <a:off x="4800600" y="5028120"/>
            <a:ext cx="2666880" cy="762120"/>
          </a:xfrm>
          <a:custGeom>
            <a:avLst/>
            <a:gdLst>
              <a:gd name="textAreaLeft" fmla="*/ 595080 w 2666880"/>
              <a:gd name="textAreaRight" fmla="*/ 1976400 w 2666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-3597406"/>
                <a:lnTo>
                  <a:pt x="21294" y="5400"/>
                </a:lnTo>
                <a:lnTo>
                  <a:pt x="20057" y="0"/>
                </a:lnTo>
                <a:lnTo>
                  <a:pt x="18208" y="5400"/>
                </a:lnTo>
                <a:lnTo>
                  <a:pt x="18980" y="5400"/>
                </a:lnTo>
                <a:arcTo wR="9643" hR="21600" stAng="1802594" swAng="3474356"/>
                <a:lnTo>
                  <a:pt x="10414" y="21531"/>
                </a:lnTo>
                <a:arcTo wR="9643" hR="21600" stAng="5523050" swAng="5276950"/>
                <a:close/>
              </a:path>
              <a:path fill="darkenLess"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123050"/>
                <a:lnTo>
                  <a:pt x="10414" y="21531"/>
                </a:lnTo>
                <a:arcTo wR="9643" hR="21600" stAng="5523050" swAng="5276950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rved Up Arrow 13"/>
          <p:cNvSpPr/>
          <p:nvPr/>
        </p:nvSpPr>
        <p:spPr>
          <a:xfrm>
            <a:off x="1981080" y="5029200"/>
            <a:ext cx="2514600" cy="762120"/>
          </a:xfrm>
          <a:custGeom>
            <a:avLst/>
            <a:gdLst>
              <a:gd name="textAreaLeft" fmla="*/ 556920 w 2514600"/>
              <a:gd name="textAreaRight" fmla="*/ 186228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-3586453"/>
                <a:lnTo>
                  <a:pt x="21296" y="5400"/>
                </a:lnTo>
                <a:lnTo>
                  <a:pt x="19964" y="0"/>
                </a:lnTo>
                <a:lnTo>
                  <a:pt x="18023" y="5400"/>
                </a:lnTo>
                <a:lnTo>
                  <a:pt x="18841" y="5400"/>
                </a:lnTo>
                <a:arcTo wR="9573" hR="21600" stAng="1813547" swAng="3455769"/>
                <a:lnTo>
                  <a:pt x="10391" y="21521"/>
                </a:lnTo>
                <a:arcTo wR="9573" hR="21600" stAng="5530684" swAng="5269316"/>
                <a:close/>
              </a:path>
              <a:path fill="darkenLess"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130684"/>
                <a:lnTo>
                  <a:pt x="10391" y="21521"/>
                </a:lnTo>
                <a:arcTo wR="9573" hR="21600" stAng="5530684" swAng="5269316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rocess for developing constituency position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5228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re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g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sitions discus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533520" y="4419720"/>
            <a:ext cx="213336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327672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tun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nsus principle on a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ious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on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ency not individu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5"/>
          <p:cNvSpPr/>
          <p:nvPr/>
        </p:nvSpPr>
        <p:spPr>
          <a:xfrm>
            <a:off x="6248520" y="2895480"/>
            <a:ext cx="236196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ocuments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and 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statement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number of badges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to attend the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art of Partners Constit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rved Up Arrow 16"/>
          <p:cNvSpPr/>
          <p:nvPr/>
        </p:nvSpPr>
        <p:spPr>
          <a:xfrm flipH="1" rot="10800000">
            <a:off x="5257800" y="1980720"/>
            <a:ext cx="2666880" cy="838440"/>
          </a:xfrm>
          <a:custGeom>
            <a:avLst/>
            <a:gdLst>
              <a:gd name="textAreaLeft" fmla="*/ 588240 w 2666880"/>
              <a:gd name="textAreaRight" fmla="*/ 1974600 w 26668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-3579320"/>
                <a:lnTo>
                  <a:pt x="21297" y="5400"/>
                </a:lnTo>
                <a:lnTo>
                  <a:pt x="19903" y="0"/>
                </a:lnTo>
                <a:lnTo>
                  <a:pt x="17903" y="5400"/>
                </a:lnTo>
                <a:lnTo>
                  <a:pt x="18751" y="5400"/>
                </a:lnTo>
                <a:arcTo wR="9527" hR="21600" stAng="1820680" swAng="3443728"/>
                <a:lnTo>
                  <a:pt x="10376" y="21514"/>
                </a:lnTo>
                <a:arcTo wR="9527" hR="21600" stAng="5535592" swAng="5264408"/>
                <a:close/>
              </a:path>
              <a:path fill="darkenLess"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135592"/>
                <a:lnTo>
                  <a:pt x="10376" y="21514"/>
                </a:lnTo>
                <a:arcTo wR="9527" hR="21600" stAng="5535592" swAng="5264408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7"/>
          <p:cNvSpPr/>
          <p:nvPr/>
        </p:nvSpPr>
        <p:spPr>
          <a:xfrm>
            <a:off x="4114800" y="22860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4"/>
          <p:cNvSpPr/>
          <p:nvPr/>
        </p:nvSpPr>
        <p:spPr>
          <a:xfrm>
            <a:off x="6781680" y="4419720"/>
            <a:ext cx="21337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egular PC Executive Heads meeting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month before major GF Board related meeting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week before major meetings to discuss details of GF Board and Committee agenda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C Heads update the night before Board meetings to agree on PC consensus position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ost-mortem/follow-up (as agreed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s as requir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38:35Z</dcterms:created>
  <dc:creator>Alan Esser</dc:creator>
  <dc:description/>
  <dc:language>en-US</dc:language>
  <cp:lastModifiedBy>Alan Esser</cp:lastModifiedBy>
  <dcterms:modified xsi:type="dcterms:W3CDTF">2009-11-06T07:38:49Z</dcterms:modified>
  <cp:revision>1</cp:revision>
  <dc:subject/>
  <dc:title>Agenda</dc:title>
</cp:coreProperties>
</file>