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7DFC-E089-4E0A-8106-2901952C155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0C92-30D5-46DA-A49B-891A48BFA0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55B1-5682-42A0-9D4C-7A618E3315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6D86-6824-4A89-B658-5139DA36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7432-B94E-407B-999C-54F8CBEB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1180-CCFB-43D1-A6EA-8218EB367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93E9-3D14-4BAF-BF67-7DD701665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FC89-61D6-4220-A37D-6CD6356F6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0642-C168-4DF4-B144-6B38963F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894F-0471-4DF1-9D09-1A8DC002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BFD0-8366-4056-84A8-4EEACF5E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806A-8980-4398-99B7-EBCA3B69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1AAF-47FF-410D-B78B-17A9A1B5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B42D-1B17-4F89-94C3-6D401F71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D7CE-FD00-4C15-B98C-2A5F1DE4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CD37-F663-4112-B02B-277AFEEF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C56E-CCCD-4685-AE54-0FCD8150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AD19-AA2B-4B7C-8D52-A24282E1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FFA2-BC20-4782-9E06-A791F87D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AC36-F65F-4631-9D68-11B92944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4EFC-97F9-4100-82E2-433A0E3C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7C51-F511-47B4-B5D2-9017751A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D937-F397-495F-A039-5C68BCCC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E6A6-9CF6-4E97-B8E1-6D7F697D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6E14-717A-4355-94C5-412858BE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EC28-BE69-4332-8D75-F11DAC12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DA29-F35A-442C-BA11-78971A00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2C11-6023-4783-9DCA-1E2261EAAF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B0DD-119C-43FE-9537-BCD7F73323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500120"/>
            <a:ext cx="9001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quirements for submission, acceptance and processing of isolates for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sic guidance for all count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480" y="1428480"/>
            <a:ext cx="79250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carriage of Category A infectious substances should be strictly prohibited on air carr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 packages containing infectious substances should not be consolidated with unrelated types of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ppers of infectious substances should ensure that packages are prepared so they arrive in good condition and present no hazard during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C6C5-69AE-43E5-AD71-0771C6DD2C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786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iteria for rejection of an isol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499760"/>
            <a:ext cx="81057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process; contact the submitter to resubmit isolate for the following reas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abel on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per or leaking 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 overgrown with contami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tion: Opening tube with mould can contaminate BSC and other specim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s may be processed if minor questions can be clar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pellings between tube and request s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submitter to clarify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C858-35D0-48DE-880E-8EA700A2BA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eparation of isolate for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0040" y="1599840"/>
            <a:ext cx="8143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of isolate as belonging to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the TB isolate is not conta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of molecular or liquid medium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cells for molecula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cells for DST in liquid broth in the MGI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79E2-EFF9-4E3F-B19C-560F9CEAF1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14200" y="7632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solate must be identified as MTBC before performing DS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5"/>
          <p:cNvSpPr/>
          <p:nvPr/>
        </p:nvSpPr>
        <p:spPr>
          <a:xfrm>
            <a:off x="5653080" y="3514680"/>
            <a:ext cx="0" cy="1368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74"/>
          <p:cNvSpPr/>
          <p:nvPr/>
        </p:nvSpPr>
        <p:spPr>
          <a:xfrm>
            <a:off x="5940360" y="3875040"/>
            <a:ext cx="2016360" cy="574560"/>
          </a:xfrm>
          <a:prstGeom prst="ellipse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5"/>
          <p:cNvSpPr/>
          <p:nvPr/>
        </p:nvSpPr>
        <p:spPr>
          <a:xfrm>
            <a:off x="5940360" y="4594320"/>
            <a:ext cx="2016360" cy="574560"/>
          </a:xfrm>
          <a:prstGeom prst="ellipse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0"/>
          <p:cNvSpPr/>
          <p:nvPr/>
        </p:nvSpPr>
        <p:spPr>
          <a:xfrm>
            <a:off x="3276720" y="3514680"/>
            <a:ext cx="2376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3"/>
          <p:cNvSpPr/>
          <p:nvPr/>
        </p:nvSpPr>
        <p:spPr>
          <a:xfrm>
            <a:off x="5005440" y="3154320"/>
            <a:ext cx="2303280" cy="432000"/>
          </a:xfrm>
          <a:prstGeom prst="rect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71"/>
          <p:cNvSpPr/>
          <p:nvPr/>
        </p:nvSpPr>
        <p:spPr>
          <a:xfrm>
            <a:off x="2629080" y="1785960"/>
            <a:ext cx="3600360" cy="720720"/>
          </a:xfrm>
          <a:prstGeom prst="ellipse">
            <a:avLst/>
          </a:prstGeom>
          <a:solidFill>
            <a:srgbClr val="ffcc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4"/>
          <p:cNvSpPr/>
          <p:nvPr/>
        </p:nvSpPr>
        <p:spPr>
          <a:xfrm>
            <a:off x="3276720" y="3514680"/>
            <a:ext cx="0" cy="1368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0"/>
          <p:cNvSpPr/>
          <p:nvPr/>
        </p:nvSpPr>
        <p:spPr>
          <a:xfrm>
            <a:off x="1692360" y="3154320"/>
            <a:ext cx="2303280" cy="43200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69"/>
          <p:cNvSpPr/>
          <p:nvPr/>
        </p:nvSpPr>
        <p:spPr>
          <a:xfrm>
            <a:off x="971640" y="4594320"/>
            <a:ext cx="2016000" cy="574560"/>
          </a:xfrm>
          <a:prstGeom prst="ellipse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68"/>
          <p:cNvSpPr/>
          <p:nvPr/>
        </p:nvSpPr>
        <p:spPr>
          <a:xfrm>
            <a:off x="971640" y="3875040"/>
            <a:ext cx="2016000" cy="574560"/>
          </a:xfrm>
          <a:prstGeom prst="ellipse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2"/>
          <p:cNvSpPr/>
          <p:nvPr/>
        </p:nvSpPr>
        <p:spPr>
          <a:xfrm>
            <a:off x="2413080" y="5170320"/>
            <a:ext cx="587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0"/>
          <p:cNvSpPr/>
          <p:nvPr/>
        </p:nvSpPr>
        <p:spPr>
          <a:xfrm>
            <a:off x="3708360" y="3083040"/>
            <a:ext cx="7207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8"/>
          <p:cNvSpPr/>
          <p:nvPr/>
        </p:nvSpPr>
        <p:spPr>
          <a:xfrm>
            <a:off x="2556000" y="190512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ulture positive for AF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9"/>
          <p:cNvSpPr/>
          <p:nvPr/>
        </p:nvSpPr>
        <p:spPr>
          <a:xfrm>
            <a:off x="4500720" y="2506680"/>
            <a:ext cx="0" cy="10080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1"/>
          <p:cNvSpPr/>
          <p:nvPr/>
        </p:nvSpPr>
        <p:spPr>
          <a:xfrm>
            <a:off x="3924360" y="2793960"/>
            <a:ext cx="1152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2"/>
          <p:cNvSpPr/>
          <p:nvPr/>
        </p:nvSpPr>
        <p:spPr>
          <a:xfrm>
            <a:off x="611280" y="260208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lony and Cellular morph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3"/>
          <p:cNvSpPr/>
          <p:nvPr/>
        </p:nvSpPr>
        <p:spPr>
          <a:xfrm>
            <a:off x="5076720" y="263376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rowth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6"/>
          <p:cNvSpPr/>
          <p:nvPr/>
        </p:nvSpPr>
        <p:spPr>
          <a:xfrm flipH="1">
            <a:off x="2916000" y="416232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7"/>
          <p:cNvSpPr/>
          <p:nvPr/>
        </p:nvSpPr>
        <p:spPr>
          <a:xfrm flipH="1">
            <a:off x="2916000" y="488304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8"/>
          <p:cNvSpPr/>
          <p:nvPr/>
        </p:nvSpPr>
        <p:spPr>
          <a:xfrm flipH="1">
            <a:off x="5652720" y="416232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9"/>
          <p:cNvSpPr/>
          <p:nvPr/>
        </p:nvSpPr>
        <p:spPr>
          <a:xfrm flipH="1">
            <a:off x="5652720" y="488304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973080" y="39402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Biochemical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971640" y="46674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ntigen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6013440" y="39909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ne-probe a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6300720" y="46674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NA 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1692360" y="31543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onventional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5221440" y="31543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olecular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9"/>
          <p:cNvSpPr/>
          <p:nvPr/>
        </p:nvSpPr>
        <p:spPr>
          <a:xfrm>
            <a:off x="1143000" y="5572080"/>
            <a:ext cx="6858000" cy="642600"/>
          </a:xfrm>
          <a:prstGeom prst="rect">
            <a:avLst/>
          </a:prstGeom>
          <a:noFill/>
          <a:ln w="19080">
            <a:solidFill>
              <a:srgbClr val="3d3d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uberculous mycobacteria can be resistant to anti-TB drugs, and testing can result in inappropriate patient 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B31D-C6D9-4C24-9581-E98E3BF5646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rowth of contaminants on solid medi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6360" y="1447920"/>
            <a:ext cx="8239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J medium contains bacteriostatic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achite green inhibits most environmental and normal fl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o remove liquid in bottom of LJ before inoculation. Loosen cap for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ek of incub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exposure to malachite green, so contaminants may eventually grow in this liqu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minated LJ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contamination is slight, attempt to isolate TB colonies; transfer to new L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tally contaminated, request a new speci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34F2-2276-453D-9383-A322CE7B095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rowth of contaminants in MGIT tub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2160" y="1447920"/>
            <a:ext cx="6862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ed MGIT tubes usually become positive very ear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– 4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id growers such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avium-intracellul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(MAC) may be positive in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observ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ogeneous turbi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cid-fast bacteria may be seen in AFB smear of MGIT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or without AF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ulture to blood agar pl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in 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rcRect l="0" t="0" r="50031" b="0"/>
          <a:stretch/>
        </p:blipFill>
        <p:spPr>
          <a:xfrm>
            <a:off x="7162920" y="2274840"/>
            <a:ext cx="761760" cy="25686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715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ST performed using solid med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28760" y="1357200"/>
            <a:ext cx="8105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roblems with egg-based media (L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cy of drugs may be diminished during inspis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of the eggs (phospholipids, proteins) affect som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brook 7H10 agar with OA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DC is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-to-lot variations in quality have been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T on solid media requires 3 to 4 weeks of incub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C5CD-02A4-48EE-AE71-C0AD4C0101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715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ld standard for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8760" y="1357200"/>
            <a:ext cx="8105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r proportion method using Middlebrook 7H10 with quality assured OA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ed the standard method for TB DST in the USA and many Europea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first- and second-line drugs can be accurately tested for susceptibility or resistance using this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because of the long turn-around time, the method is more appropriate for surveillance than for individual patient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F007-A2E8-44C6-94C8-36A9EB0982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51444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vantages of molecular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liquid medium DS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57120" y="1356840"/>
            <a:ext cx="842976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performed within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TB is included in L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of MDR TB is quite 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results may be obtained even with mixe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not all drugs are currently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medium DST using the MGI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ready within 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validated for all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ine drugs including PZA and som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in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60CD-6B6D-41BD-9625-F40AE3984C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ation of cells for molecular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28400" y="1428480"/>
            <a:ext cx="84294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suspension of cells in steril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grown on solid medium (L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cells from slant with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suspension in 300 µl of steril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grown in liquid medium (MGIT bro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 1 ml portion of the suspension to a micro-centrifug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ifuge for 15 min and resuspend pellet in 300 µl of sterile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1B09-BB97-4F59-8B22-322903618B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submission process for isolates received for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criteria for acceptance or rejection of iso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how TB isolates are prepared for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NA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trac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or molecular te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599840"/>
            <a:ext cx="7429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ubate bacterial cells for 20 min in a 9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water bath (kills ce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ubate bacterial cells for 15 min in an ultrasonic water bath (optional for isola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ifuge and use approximately 5 µl of the supernatant for PC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AB39-FA85-4E10-A355-8048964662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ation of isolates for MGIT DST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00040" y="1499760"/>
            <a:ext cx="803448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s can be grown either on solid or liquid media prior to being tested in the MGIT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healthy cells in logarithmic phase of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airly light inoculum so that drug concentrations are not overwhel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should be AFB-positive and identified as a pure culture of the MTB complex before further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F9CB-D950-46C2-B1CB-A08D652F4E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oculum from the MGIT tub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28760" y="1499760"/>
            <a:ext cx="81057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hering to the following recommended timeframe is important for accurat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ay a MGIT tube is positive by the instrument is consider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ube should be kept incubated for at least one more day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before D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be incubated in a separate incubator at 37 ºC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 º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positive tube may be used for DST up to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tube that has been positive for more than 5 days should be subcultured into a fresh MGIT tube and incubated until it is positive;  use this tube from 1 to 5 days of instrument positivity as described ab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growth in a tube is 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vortex to break clumps, let big clumps settle for 10 minutes and use the supernatant undiluted for inoculation of the drug s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growth is 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3, 4 or 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vortex to break clumps, let big clumps settle for 10 minutes and then dilute 1.0 ml of the positive broth with 4.0 ml of sterile saline.  This will be a 1:5 dilution.  Use this well-mixed diluted culture for inocul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64A8-59EB-4B8E-A752-1957BE9FD6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920" y="228600"/>
            <a:ext cx="8067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oculum from growth on solid mediu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2920" y="1428480"/>
            <a:ext cx="83916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growth on solid medium within 15 days of appearance of positive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 a large amount of growth into a tube with broth or saline and glass beads; vortex the tube for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minutes to break the clumps – the turbidity should be &gt; McFarland #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e suspension stand undisturbed for 20 minutes, then transfer the supernatant into another sterile tub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is tube stand undisturbed for another 15 minutes then transfer the supernatant into another sterile tube – the turbidity should &gt; McFarland #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 the turbidity of this suspension down to McFarland #0.5 by adding sterile saline; do not make it below this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lute the above suspension 1:5 by adding 1.0 ml of the suspension to 4.0 ml of sterile saline;  mix well and use it as the inoculum for drug susceptibilit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8B8F-520F-4B63-954A-D6A8D95392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: Isolates for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13840" y="1481040"/>
            <a:ext cx="86439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can either be grown in the DST testing laboratory or referred from anoth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of isolates to the DST testing laboratory must be safe, timely, efficient and 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should not be tested if they are unlabelled, leaked, or overgrown with m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using molecular or MGIT system methods have much shorter turn-around times than DST using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henotypic DST, growth should be AFB-positive, and identified as a pure culture of the MTB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F91C-7A47-45D7-BFB6-169B31E3C4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B143-0949-4B66-9898-D147FFF38E3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1499760"/>
            <a:ext cx="80010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of isol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red to DST testing laboratory from another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n in DST testing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to DST test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osaf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port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a for acceptance or rejection of iso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ling, leak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a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ing the isolate for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lecular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quid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id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rce of isolates: Extern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referred to DST testing laboratory from anoth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to process sputum specimens and perform culture in laboratories near to where specimen is col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minants may overgrow TB in sputum specimens during transport time and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olates more likely to survive transportation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ever, biosafety requirements must be strictly followed to transport iso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es identification and DST are best performed at National TB Reference Laboratory or other Quality Assured referral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time and need to re-grow isolate delays DST reporting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s and relevant and patient information must be accurately transcribed and transported to the NTRL for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584F-26EE-46FE-A4F0-2C0B79609B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rce of isolates: Intern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grown in DST test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on patient has already been documented when specimen received for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database or log books provide information on previous tests performed on this same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smear results on current iso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 on tests performed on specimens from this pat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c issues seen with previous specimens or isolates can be addr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34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: growth found only on either liquid or solid 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for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er turn-around time for reporting DS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es contained within same laboratory; biosafety issues easier to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BAE9-7B2A-4CB9-B72E-9690A9BA8D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portation to DST testing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s suspected of being TB must be transported to the DST testing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ly – protect transport agents from risk of inf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ly – ensure viable isolates for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ly – delivery to appropriate labora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lly – according to national and international transportation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41B9-9283-44CC-B444-98866C27F5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nsportation guida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Guidance on Regulations for the Transport of Infectious Substances 2009-20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ycobacterium tubercu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lassified as Infectious substance, Category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causing life-threatening or fatal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pping name is UN2814 – INFECTIOUS SUBSTANCE AFFECTING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98E5-D4BD-4D27-8D15-2DB3C5B05F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5000760" y="6357960"/>
            <a:ext cx="314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/HSE/EPR/2008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sic triple packaging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2920" y="1571760"/>
            <a:ext cx="4929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recept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tight, leak-pr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b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ary 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tight, leak-pr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hioning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b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 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hioning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ly marked and labelled with appropriate shipping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D35B-3845-4AC5-805C-2083F939BC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rcRect l="7491" t="12002" r="3884" b="0"/>
          <a:stretch/>
        </p:blipFill>
        <p:spPr>
          <a:xfrm>
            <a:off x="3714840" y="1714680"/>
            <a:ext cx="5286240" cy="3276360"/>
          </a:xfrm>
          <a:prstGeom prst="rect">
            <a:avLst/>
          </a:prstGeom>
          <a:ln w="9360">
            <a:solidFill>
              <a:srgbClr val="3d3dd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t all countries have adopted the United Nations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499760"/>
            <a:ext cx="792504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guidelines apply whenever the UN system for the transport of infectious substances has been ado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encourages all countries to adopt thi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the principles described are not intended to supersede national or loc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E519-8DD7-4AEA-A7CA-DC2F188978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7:48Z</dcterms:modified>
  <cp:revision>175</cp:revision>
  <dc:subject/>
  <dc:title>PowerPoint Presentation</dc:title>
</cp:coreProperties>
</file>