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9.wmf" ContentType="image/x-wmf"/>
  <Override PartName="/ppt/media/image1.png" ContentType="image/png"/>
  <Override PartName="/ppt/media/image27.wmf" ContentType="image/x-wmf"/>
  <Override PartName="/ppt/media/image26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51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2.png" ContentType="image/png"/>
  <Override PartName="/ppt/media/image28.wmf" ContentType="image/x-wmf"/>
  <Override PartName="/ppt/media/image10.png" ContentType="image/png"/>
  <Override PartName="/ppt/media/image14.wmf" ContentType="image/x-wmf"/>
  <Override PartName="/ppt/media/image6.png" ContentType="image/png"/>
  <Override PartName="/ppt/media/image15.wmf" ContentType="image/x-wmf"/>
  <Override PartName="/ppt/media/image41.jpeg" ContentType="image/jpeg"/>
  <Override PartName="/ppt/media/image54.png" ContentType="image/png"/>
  <Override PartName="/ppt/media/image7.png" ContentType="image/png"/>
  <Override PartName="/ppt/media/image3.png" ContentType="image/png"/>
  <Override PartName="/ppt/media/image11.wmf" ContentType="image/x-wmf"/>
  <Override PartName="/ppt/media/image50.png" ContentType="image/png"/>
  <Override PartName="/ppt/media/image37.wmf" ContentType="image/x-wmf"/>
  <Override PartName="/ppt/media/image16.wmf" ContentType="image/x-wmf"/>
  <Override PartName="/ppt/media/image55.png" ContentType="image/png"/>
  <Override PartName="/ppt/media/image38.wmf" ContentType="image/x-wmf"/>
  <Override PartName="/ppt/media/image40.png" ContentType="image/png"/>
  <Override PartName="/ppt/media/image42.jpeg" ContentType="image/jpeg"/>
  <Override PartName="/ppt/media/image34.wmf" ContentType="image/x-wmf"/>
  <Override PartName="/ppt/media/image43.png" ContentType="image/png"/>
  <Override PartName="/ppt/media/image44.wmf" ContentType="image/x-wmf"/>
  <Override PartName="/ppt/media/image45.wmf" ContentType="image/x-wmf"/>
  <Override PartName="/ppt/media/image46.png" ContentType="image/png"/>
  <Override PartName="/ppt/media/image31.wmf" ContentType="image/x-wmf"/>
  <Override PartName="/ppt/media/image47.wmf" ContentType="image/x-wmf"/>
  <Override PartName="/ppt/media/image12.wmf" ContentType="image/x-wmf"/>
  <Override PartName="/ppt/media/image4.png" ContentType="image/png"/>
  <Override PartName="/ppt/media/image48.jpeg" ContentType="image/jpeg"/>
  <Override PartName="/ppt/media/image49.png" ContentType="image/png"/>
  <Override PartName="/ppt/media/image52.wmf" ContentType="image/x-wmf"/>
  <Override PartName="/ppt/media/image53.wmf" ContentType="image/x-wmf"/>
  <Override PartName="/ppt/media/image8.png" ContentType="image/png"/>
  <Override PartName="/ppt/media/image36.wmf" ContentType="image/x-wmf"/>
  <Override PartName="/ppt/media/image35.wmf" ContentType="image/x-wmf"/>
  <Override PartName="/ppt/media/image33.wmf" ContentType="image/x-wmf"/>
  <Override PartName="/ppt/media/image32.wmf" ContentType="image/x-wmf"/>
  <Override PartName="/ppt/media/image30.wmf" ContentType="image/x-wmf"/>
  <Override PartName="/ppt/media/image13.wmf" ContentType="image/x-wmf"/>
  <Override PartName="/ppt/media/image5.png" ContentType="image/png"/>
  <Override PartName="/ppt/media/image39.png" ContentType="image/png"/>
  <Override PartName="/ppt/media/image9.png" ContentType="image/png"/>
  <Override PartName="/ppt/media/image17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hdr"/>
          </p:nvPr>
        </p:nvSpPr>
        <p:spPr>
          <a:xfrm>
            <a:off x="-1800" y="0"/>
            <a:ext cx="30366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dt" idx="10"/>
          </p:nvPr>
        </p:nvSpPr>
        <p:spPr>
          <a:xfrm>
            <a:off x="3973320" y="0"/>
            <a:ext cx="30366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sldImg"/>
          </p:nvPr>
        </p:nvSpPr>
        <p:spPr>
          <a:xfrm>
            <a:off x="1190520" y="705960"/>
            <a:ext cx="4632480" cy="3473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360" rIns="90360" tIns="45000" bIns="45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body"/>
          </p:nvPr>
        </p:nvSpPr>
        <p:spPr>
          <a:xfrm>
            <a:off x="933120" y="4414680"/>
            <a:ext cx="5141880" cy="41817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ftr" idx="11"/>
          </p:nvPr>
        </p:nvSpPr>
        <p:spPr>
          <a:xfrm>
            <a:off x="-180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 type="sldNum" idx="12"/>
          </p:nvPr>
        </p:nvSpPr>
        <p:spPr>
          <a:xfrm>
            <a:off x="397332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3D0448D3-C5AE-488E-992E-B03977FD16FE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7"/>
          <p:cNvSpPr/>
          <p:nvPr/>
        </p:nvSpPr>
        <p:spPr>
          <a:xfrm>
            <a:off x="397368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1DEFA95F-F3F5-4A55-B711-C74D27394F77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90520" y="706320"/>
            <a:ext cx="4632480" cy="347364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933120" y="4414680"/>
            <a:ext cx="5141880" cy="418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97368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B11495DD-6DCB-4B6A-8240-22AA7448D557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90520" y="706320"/>
            <a:ext cx="4632480" cy="347364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933120" y="4414680"/>
            <a:ext cx="5141880" cy="418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97368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99730B38-BB6E-4175-ACE9-37ED342AA57F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Rectangle 2"/>
          <p:cNvSpPr/>
          <p:nvPr/>
        </p:nvSpPr>
        <p:spPr>
          <a:xfrm>
            <a:off x="3971880" y="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Rectangle 3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5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Rectangle 4"/>
          <p:cNvSpPr/>
          <p:nvPr/>
        </p:nvSpPr>
        <p:spPr>
          <a:xfrm>
            <a:off x="-1440" y="883116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Rectangle 5"/>
          <p:cNvSpPr/>
          <p:nvPr/>
        </p:nvSpPr>
        <p:spPr>
          <a:xfrm>
            <a:off x="-1440" y="0"/>
            <a:ext cx="30351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90520" y="706320"/>
            <a:ext cx="4632480" cy="347364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33120" y="4414320"/>
            <a:ext cx="5141880" cy="459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GB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7"/>
          <p:cNvSpPr/>
          <p:nvPr/>
        </p:nvSpPr>
        <p:spPr>
          <a:xfrm>
            <a:off x="397368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E6683A89-E580-46F6-9679-7B11A9F25C70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90520" y="706320"/>
            <a:ext cx="4632480" cy="347364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933120" y="4414680"/>
            <a:ext cx="5141880" cy="418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7"/>
          <p:cNvSpPr/>
          <p:nvPr/>
        </p:nvSpPr>
        <p:spPr>
          <a:xfrm>
            <a:off x="397368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CABA6BF3-4ABA-44A2-B46A-1528093F2FEE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90520" y="706320"/>
            <a:ext cx="4632480" cy="347364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933120" y="4414680"/>
            <a:ext cx="5141880" cy="418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7"/>
          <p:cNvSpPr/>
          <p:nvPr/>
        </p:nvSpPr>
        <p:spPr>
          <a:xfrm>
            <a:off x="397368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AD2FAF2D-B056-4C9C-BFBF-CFAB60C5547B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90520" y="706320"/>
            <a:ext cx="4632480" cy="347364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7"/>
          <p:cNvSpPr/>
          <p:nvPr/>
        </p:nvSpPr>
        <p:spPr>
          <a:xfrm>
            <a:off x="397368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8272946B-359C-426B-B513-9DBC89E58F85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90520" y="706320"/>
            <a:ext cx="4632480" cy="347364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933120" y="4414680"/>
            <a:ext cx="5141880" cy="418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7"/>
          <p:cNvSpPr/>
          <p:nvPr/>
        </p:nvSpPr>
        <p:spPr>
          <a:xfrm>
            <a:off x="397368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F0AAC894-577B-431D-9671-190D5B3B0967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90520" y="706320"/>
            <a:ext cx="4632480" cy="347364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B7CCF-E57E-4594-8693-D86A829FA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FAF4E-F633-4BF9-A1D7-B6DEC7297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38BA4-8CCC-481E-8A0F-ACBECED8D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89F69-4DAA-4626-B8F9-76981FB5B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A89DC-B90A-44DB-99C8-2218C990A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2057E-5FEC-40C8-9ED9-8186DDA04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0D1F7-1518-44B7-8CD9-7E567FB8C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E0170-7392-4F77-8F91-71CB05D42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59E38-2268-4CAA-9E9A-030092C38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3A3BF-BBF6-453C-9528-2E6106ABD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80802-9608-4817-A6DB-7DADFC011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7D960-B5F3-4E98-BEAC-E7399B52A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B58C4-363D-471E-852A-807DBEA78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AFC39-0BE9-49DB-B50B-88B19D7E8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5555E-A825-4647-A981-6C4287398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0B984-B6A4-434F-BC9B-712EE5BA1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D162C-3C61-4AC0-B035-4A634BE12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B01A8D-2FCF-4FC1-87AB-FAC652824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6AA697-33A2-48F9-BA9E-B57BDAB0B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0A4F96-F466-4A99-B8A0-41D8F63B1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890DF9-74F3-4503-828E-DA05A357B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6B168E-E366-466C-BA1A-347D50769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E4605-64F8-438E-BF4D-10A257D57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E20D5C-CD12-4E31-869B-6D8B88D1A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10A0B9-D367-4FAC-A590-763DE2B8D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AC099A-2B6B-4232-9D7F-898083214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C3901B-6E4F-4537-9A6A-BFD08DAA0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BF6B5D-12BB-4F2B-B019-FF7195795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251EAB-BE0E-4529-8B52-212B38D5C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EC0817-DF50-4E36-9C87-12103326A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80582-62F2-4E9B-93D6-B704FA450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266CE-5218-49DD-B6D6-5C69F4CB8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11BEA-6D84-4BD2-865C-5ACD4F59E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58713-0311-49FE-8E7A-E5EA61BAE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B3D57-3870-4964-8C78-673D73327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C3DE5-CEE7-4295-B501-7D044CF15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FB782-3057-4D4B-94B1-354AE38D457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D969E-C23E-4DBD-A5B4-963212C583C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92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F481D-53DC-4E92-9DAD-9E2C06E812D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image" Target="../media/image26.wmf"/><Relationship Id="rId5" Type="http://schemas.openxmlformats.org/officeDocument/2006/relationships/image" Target="../media/image27.wmf"/><Relationship Id="rId6" Type="http://schemas.openxmlformats.org/officeDocument/2006/relationships/image" Target="../media/image28.wmf"/><Relationship Id="rId7" Type="http://schemas.openxmlformats.org/officeDocument/2006/relationships/image" Target="../media/image29.wmf"/><Relationship Id="rId8" Type="http://schemas.openxmlformats.org/officeDocument/2006/relationships/image" Target="../media/image30.wmf"/><Relationship Id="rId9" Type="http://schemas.openxmlformats.org/officeDocument/2006/relationships/image" Target="../media/image31.wmf"/><Relationship Id="rId10" Type="http://schemas.openxmlformats.org/officeDocument/2006/relationships/image" Target="../media/image32.wmf"/><Relationship Id="rId11" Type="http://schemas.openxmlformats.org/officeDocument/2006/relationships/image" Target="../media/image33.wmf"/><Relationship Id="rId12" Type="http://schemas.openxmlformats.org/officeDocument/2006/relationships/image" Target="../media/image34.wmf"/><Relationship Id="rId13" Type="http://schemas.openxmlformats.org/officeDocument/2006/relationships/image" Target="../media/image35.wmf"/><Relationship Id="rId14" Type="http://schemas.openxmlformats.org/officeDocument/2006/relationships/image" Target="../media/image36.wmf"/><Relationship Id="rId15" Type="http://schemas.openxmlformats.org/officeDocument/2006/relationships/image" Target="../media/image37.wmf"/><Relationship Id="rId16" Type="http://schemas.openxmlformats.org/officeDocument/2006/relationships/image" Target="../media/image38.wmf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5.wmf"/><Relationship Id="rId3" Type="http://schemas.openxmlformats.org/officeDocument/2006/relationships/image" Target="../media/image46.png"/><Relationship Id="rId4" Type="http://schemas.openxmlformats.org/officeDocument/2006/relationships/image" Target="../media/image47.wmf"/><Relationship Id="rId5" Type="http://schemas.openxmlformats.org/officeDocument/2006/relationships/image" Target="../media/image48.jpeg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49.png"/><Relationship Id="rId3" Type="http://schemas.openxmlformats.org/officeDocument/2006/relationships/image" Target="../media/image50.png"/><Relationship Id="rId4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2.wmf"/><Relationship Id="rId2" Type="http://schemas.openxmlformats.org/officeDocument/2006/relationships/image" Target="../media/image53.wmf"/><Relationship Id="rId3" Type="http://schemas.openxmlformats.org/officeDocument/2006/relationships/image" Target="../media/image54.png"/><Relationship Id="rId4" Type="http://schemas.openxmlformats.org/officeDocument/2006/relationships/image" Target="../media/image55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wmf"/><Relationship Id="rId10" Type="http://schemas.openxmlformats.org/officeDocument/2006/relationships/image" Target="../media/image12.wmf"/><Relationship Id="rId11" Type="http://schemas.openxmlformats.org/officeDocument/2006/relationships/image" Target="../media/image13.wmf"/><Relationship Id="rId12" Type="http://schemas.openxmlformats.org/officeDocument/2006/relationships/image" Target="../media/image14.wmf"/><Relationship Id="rId13" Type="http://schemas.openxmlformats.org/officeDocument/2006/relationships/image" Target="../media/image15.wmf"/><Relationship Id="rId14" Type="http://schemas.openxmlformats.org/officeDocument/2006/relationships/image" Target="../media/image16.wmf"/><Relationship Id="rId15" Type="http://schemas.openxmlformats.org/officeDocument/2006/relationships/image" Target="../media/image17.wmf"/><Relationship Id="rId16" Type="http://schemas.openxmlformats.org/officeDocument/2006/relationships/image" Target="../media/image18.png"/><Relationship Id="rId17" Type="http://schemas.openxmlformats.org/officeDocument/2006/relationships/image" Target="../media/image19.png"/><Relationship Id="rId18" Type="http://schemas.openxmlformats.org/officeDocument/2006/relationships/image" Target="../media/image20.png"/><Relationship Id="rId19" Type="http://schemas.openxmlformats.org/officeDocument/2006/relationships/image" Target="../media/image21.png"/><Relationship Id="rId20" Type="http://schemas.openxmlformats.org/officeDocument/2006/relationships/image" Target="../media/image22.png"/><Relationship Id="rId21" Type="http://schemas.openxmlformats.org/officeDocument/2006/relationships/slideLayout" Target="../slideLayouts/slideLayout1.xml"/><Relationship Id="rId2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11"/>
          <p:cNvSpPr/>
          <p:nvPr/>
        </p:nvSpPr>
        <p:spPr>
          <a:xfrm>
            <a:off x="6553080" y="6248520"/>
            <a:ext cx="213372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04E0E-CACB-4832-A4D3-306F1C95610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ACTEC™ MGIT™ 960 culture positive, AFB smear, and identific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B5287-E53E-485D-83C5-2432DE06D40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5597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otification of positives on LCD display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4" name="Group 3"/>
          <p:cNvGrpSpPr/>
          <p:nvPr/>
        </p:nvGrpSpPr>
        <p:grpSpPr>
          <a:xfrm>
            <a:off x="577800" y="2119320"/>
            <a:ext cx="8042400" cy="4302000"/>
            <a:chOff x="577800" y="2119320"/>
            <a:chExt cx="8042400" cy="4302000"/>
          </a:xfrm>
        </p:grpSpPr>
        <p:grpSp>
          <p:nvGrpSpPr>
            <p:cNvPr id="345" name="Group 4"/>
            <p:cNvGrpSpPr/>
            <p:nvPr/>
          </p:nvGrpSpPr>
          <p:grpSpPr>
            <a:xfrm>
              <a:off x="584280" y="5784840"/>
              <a:ext cx="8032680" cy="636480"/>
              <a:chOff x="584280" y="5784840"/>
              <a:chExt cx="8032680" cy="636480"/>
            </a:xfrm>
          </p:grpSpPr>
          <p:sp>
            <p:nvSpPr>
              <p:cNvPr id="346" name="AutoShape 5"/>
              <p:cNvSpPr/>
              <p:nvPr/>
            </p:nvSpPr>
            <p:spPr>
              <a:xfrm>
                <a:off x="1650960" y="5784840"/>
                <a:ext cx="814320" cy="636480"/>
              </a:xfrm>
              <a:prstGeom prst="octagon">
                <a:avLst>
                  <a:gd name="adj" fmla="val 29282"/>
                </a:avLst>
              </a:prstGeom>
              <a:solidFill>
                <a:srgbClr val="00dfca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AutoShape 6"/>
              <p:cNvSpPr/>
              <p:nvPr/>
            </p:nvSpPr>
            <p:spPr>
              <a:xfrm>
                <a:off x="2676600" y="5784840"/>
                <a:ext cx="815760" cy="636480"/>
              </a:xfrm>
              <a:prstGeom prst="octagon">
                <a:avLst>
                  <a:gd name="adj" fmla="val 29282"/>
                </a:avLst>
              </a:prstGeom>
              <a:solidFill>
                <a:srgbClr val="00dfca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AutoShape 7"/>
              <p:cNvSpPr/>
              <p:nvPr/>
            </p:nvSpPr>
            <p:spPr>
              <a:xfrm>
                <a:off x="3711600" y="5784840"/>
                <a:ext cx="812880" cy="636480"/>
              </a:xfrm>
              <a:prstGeom prst="octagon">
                <a:avLst>
                  <a:gd name="adj" fmla="val 29282"/>
                </a:avLst>
              </a:prstGeom>
              <a:solidFill>
                <a:srgbClr val="00dfca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AutoShape 8"/>
              <p:cNvSpPr/>
              <p:nvPr/>
            </p:nvSpPr>
            <p:spPr>
              <a:xfrm>
                <a:off x="4746600" y="5784840"/>
                <a:ext cx="812880" cy="636480"/>
              </a:xfrm>
              <a:prstGeom prst="octagon">
                <a:avLst>
                  <a:gd name="adj" fmla="val 29282"/>
                </a:avLst>
              </a:prstGeom>
              <a:solidFill>
                <a:srgbClr val="00dfca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AutoShape 9"/>
              <p:cNvSpPr/>
              <p:nvPr/>
            </p:nvSpPr>
            <p:spPr>
              <a:xfrm>
                <a:off x="5778360" y="5784840"/>
                <a:ext cx="816120" cy="636480"/>
              </a:xfrm>
              <a:prstGeom prst="octagon">
                <a:avLst>
                  <a:gd name="adj" fmla="val 29282"/>
                </a:avLst>
              </a:prstGeom>
              <a:solidFill>
                <a:srgbClr val="00dfca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AutoShape 10"/>
              <p:cNvSpPr/>
              <p:nvPr/>
            </p:nvSpPr>
            <p:spPr>
              <a:xfrm>
                <a:off x="6811920" y="5784840"/>
                <a:ext cx="814320" cy="636480"/>
              </a:xfrm>
              <a:prstGeom prst="octagon">
                <a:avLst>
                  <a:gd name="adj" fmla="val 29282"/>
                </a:avLst>
              </a:prstGeom>
              <a:solidFill>
                <a:srgbClr val="00dfca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AutoShape 11"/>
              <p:cNvSpPr/>
              <p:nvPr/>
            </p:nvSpPr>
            <p:spPr>
              <a:xfrm>
                <a:off x="584280" y="5784840"/>
                <a:ext cx="814320" cy="636480"/>
              </a:xfrm>
              <a:prstGeom prst="octagon">
                <a:avLst>
                  <a:gd name="adj" fmla="val 29282"/>
                </a:avLst>
              </a:prstGeom>
              <a:solidFill>
                <a:srgbClr val="00dfca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AutoShape 12"/>
              <p:cNvSpPr/>
              <p:nvPr/>
            </p:nvSpPr>
            <p:spPr>
              <a:xfrm>
                <a:off x="7802640" y="5784840"/>
                <a:ext cx="814320" cy="636480"/>
              </a:xfrm>
              <a:prstGeom prst="octagon">
                <a:avLst>
                  <a:gd name="adj" fmla="val 29282"/>
                </a:avLst>
              </a:prstGeom>
              <a:solidFill>
                <a:srgbClr val="00dfca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4" name="Group 13"/>
            <p:cNvGrpSpPr/>
            <p:nvPr/>
          </p:nvGrpSpPr>
          <p:grpSpPr>
            <a:xfrm>
              <a:off x="577800" y="2119320"/>
              <a:ext cx="8042400" cy="3560760"/>
              <a:chOff x="577800" y="2119320"/>
              <a:chExt cx="8042400" cy="3560760"/>
            </a:xfrm>
          </p:grpSpPr>
          <p:grpSp>
            <p:nvGrpSpPr>
              <p:cNvPr id="355" name="Group 14"/>
              <p:cNvGrpSpPr/>
              <p:nvPr/>
            </p:nvGrpSpPr>
            <p:grpSpPr>
              <a:xfrm>
                <a:off x="577800" y="2119320"/>
                <a:ext cx="8042400" cy="3560760"/>
                <a:chOff x="577800" y="2119320"/>
                <a:chExt cx="8042400" cy="3560760"/>
              </a:xfrm>
            </p:grpSpPr>
            <p:grpSp>
              <p:nvGrpSpPr>
                <p:cNvPr id="356" name="Group 15"/>
                <p:cNvGrpSpPr/>
                <p:nvPr/>
              </p:nvGrpSpPr>
              <p:grpSpPr>
                <a:xfrm>
                  <a:off x="577800" y="2133360"/>
                  <a:ext cx="8042400" cy="3546720"/>
                  <a:chOff x="577800" y="2133360"/>
                  <a:chExt cx="8042400" cy="3546720"/>
                </a:xfrm>
              </p:grpSpPr>
              <p:sp>
                <p:nvSpPr>
                  <p:cNvPr id="357" name="Rectangle 16"/>
                  <p:cNvSpPr/>
                  <p:nvPr/>
                </p:nvSpPr>
                <p:spPr>
                  <a:xfrm>
                    <a:off x="582480" y="2133360"/>
                    <a:ext cx="8037720" cy="3519720"/>
                  </a:xfrm>
                  <a:prstGeom prst="rect">
                    <a:avLst/>
                  </a:prstGeom>
                  <a:solidFill>
                    <a:srgbClr val="8cf4ea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58" name="Group 17"/>
                  <p:cNvGrpSpPr/>
                  <p:nvPr/>
                </p:nvGrpSpPr>
                <p:grpSpPr>
                  <a:xfrm>
                    <a:off x="577800" y="4668840"/>
                    <a:ext cx="5130720" cy="1011240"/>
                    <a:chOff x="577800" y="4668840"/>
                    <a:chExt cx="5130720" cy="1011240"/>
                  </a:xfrm>
                </p:grpSpPr>
                <p:sp>
                  <p:nvSpPr>
                    <p:cNvPr id="359" name="Rectangle 18"/>
                    <p:cNvSpPr/>
                    <p:nvPr/>
                  </p:nvSpPr>
                  <p:spPr>
                    <a:xfrm>
                      <a:off x="577800" y="4674960"/>
                      <a:ext cx="5130720" cy="982800"/>
                    </a:xfrm>
                    <a:prstGeom prst="rect">
                      <a:avLst/>
                    </a:prstGeom>
                    <a:noFill/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0" name="Line 19"/>
                    <p:cNvSpPr/>
                    <p:nvPr/>
                  </p:nvSpPr>
                  <p:spPr>
                    <a:xfrm>
                      <a:off x="1542960" y="4668840"/>
                      <a:ext cx="0" cy="98568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1" name="Line 20"/>
                    <p:cNvSpPr/>
                    <p:nvPr/>
                  </p:nvSpPr>
                  <p:spPr>
                    <a:xfrm>
                      <a:off x="2630520" y="4676760"/>
                      <a:ext cx="0" cy="98568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2" name="Line 21"/>
                    <p:cNvSpPr/>
                    <p:nvPr/>
                  </p:nvSpPr>
                  <p:spPr>
                    <a:xfrm>
                      <a:off x="3652920" y="4676760"/>
                      <a:ext cx="0" cy="98568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3" name="Line 22"/>
                    <p:cNvSpPr/>
                    <p:nvPr/>
                  </p:nvSpPr>
                  <p:spPr>
                    <a:xfrm>
                      <a:off x="4740120" y="4694040"/>
                      <a:ext cx="0" cy="98604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364" name="Line 23"/>
                <p:cNvSpPr/>
                <p:nvPr/>
              </p:nvSpPr>
              <p:spPr>
                <a:xfrm>
                  <a:off x="625320" y="3830400"/>
                  <a:ext cx="79869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5" name="Line 24"/>
                <p:cNvSpPr/>
                <p:nvPr/>
              </p:nvSpPr>
              <p:spPr>
                <a:xfrm>
                  <a:off x="3733920" y="2138040"/>
                  <a:ext cx="0" cy="1662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66" name="Group 25"/>
                <p:cNvGrpSpPr/>
                <p:nvPr/>
              </p:nvGrpSpPr>
              <p:grpSpPr>
                <a:xfrm>
                  <a:off x="631800" y="2138040"/>
                  <a:ext cx="2496600" cy="1584360"/>
                  <a:chOff x="631800" y="2138040"/>
                  <a:chExt cx="2496600" cy="1584360"/>
                </a:xfrm>
              </p:grpSpPr>
              <p:sp>
                <p:nvSpPr>
                  <p:cNvPr id="367" name="Rectangle 26"/>
                  <p:cNvSpPr/>
                  <p:nvPr/>
                </p:nvSpPr>
                <p:spPr>
                  <a:xfrm>
                    <a:off x="631800" y="2138040"/>
                    <a:ext cx="523440" cy="45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Arial"/>
                      </a:rPr>
                      <a:t>#1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68" name="Group 27"/>
                  <p:cNvGrpSpPr/>
                  <p:nvPr/>
                </p:nvGrpSpPr>
                <p:grpSpPr>
                  <a:xfrm>
                    <a:off x="1379520" y="2230200"/>
                    <a:ext cx="563760" cy="1492200"/>
                    <a:chOff x="1379520" y="2230200"/>
                    <a:chExt cx="563760" cy="1492200"/>
                  </a:xfrm>
                </p:grpSpPr>
                <p:pic>
                  <p:nvPicPr>
                    <p:cNvPr id="369" name="Picture 28" descr=""/>
                    <p:cNvPicPr/>
                    <p:nvPr/>
                  </p:nvPicPr>
                  <p:blipFill>
                    <a:blip r:embed="rId1"/>
                    <a:stretch/>
                  </p:blipFill>
                  <p:spPr>
                    <a:xfrm>
                      <a:off x="1504800" y="2230200"/>
                      <a:ext cx="31140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370" name="Picture 29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511280" y="2603520"/>
                      <a:ext cx="298440" cy="298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371" name="Picture 30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523880" y="3035160"/>
                      <a:ext cx="273240" cy="320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372" name="Picture 31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379520" y="3441600"/>
                      <a:ext cx="563760" cy="280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grpSp>
              <p:grpSp>
                <p:nvGrpSpPr>
                  <p:cNvPr id="373" name="Group 32"/>
                  <p:cNvGrpSpPr/>
                  <p:nvPr/>
                </p:nvGrpSpPr>
                <p:grpSpPr>
                  <a:xfrm>
                    <a:off x="2055960" y="2206440"/>
                    <a:ext cx="1072440" cy="1175040"/>
                    <a:chOff x="2055960" y="2206440"/>
                    <a:chExt cx="1072440" cy="1175040"/>
                  </a:xfrm>
                </p:grpSpPr>
                <p:sp>
                  <p:nvSpPr>
                    <p:cNvPr id="374" name="Rectangle 33"/>
                    <p:cNvSpPr/>
                    <p:nvPr/>
                  </p:nvSpPr>
                  <p:spPr>
                    <a:xfrm>
                      <a:off x="2056320" y="2206440"/>
                      <a:ext cx="1072080" cy="3668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2160" rIns="92160" tIns="46080" bIns="4608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9/19/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5" name="Rectangle 34"/>
                    <p:cNvSpPr/>
                    <p:nvPr/>
                  </p:nvSpPr>
                  <p:spPr>
                    <a:xfrm>
                      <a:off x="2056320" y="2633400"/>
                      <a:ext cx="754920" cy="3668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2160" rIns="92160" tIns="46080" bIns="4608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: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6" name="Rectangle 35"/>
                    <p:cNvSpPr/>
                    <p:nvPr/>
                  </p:nvSpPr>
                  <p:spPr>
                    <a:xfrm>
                      <a:off x="2055960" y="3014640"/>
                      <a:ext cx="1012680" cy="3668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2160" rIns="92160" tIns="46080" bIns="4608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.2 ° 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377" name="Group 36"/>
                <p:cNvGrpSpPr/>
                <p:nvPr/>
              </p:nvGrpSpPr>
              <p:grpSpPr>
                <a:xfrm>
                  <a:off x="3992760" y="2253960"/>
                  <a:ext cx="872280" cy="1423440"/>
                  <a:chOff x="3992760" y="2253960"/>
                  <a:chExt cx="872280" cy="1423440"/>
                </a:xfrm>
              </p:grpSpPr>
              <p:pic>
                <p:nvPicPr>
                  <p:cNvPr id="378" name="Picture 37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205160" y="2253960"/>
                    <a:ext cx="509760" cy="9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79" name="Rectangle 38"/>
                  <p:cNvSpPr/>
                  <p:nvPr/>
                </p:nvSpPr>
                <p:spPr>
                  <a:xfrm>
                    <a:off x="3992760" y="3341520"/>
                    <a:ext cx="872280" cy="335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</a:rPr>
                      <a:t>A / D17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0" name="Group 39"/>
                <p:cNvGrpSpPr/>
                <p:nvPr/>
              </p:nvGrpSpPr>
              <p:grpSpPr>
                <a:xfrm>
                  <a:off x="5159520" y="2119320"/>
                  <a:ext cx="3454920" cy="1764360"/>
                  <a:chOff x="5159520" y="2119320"/>
                  <a:chExt cx="3454920" cy="1764360"/>
                </a:xfrm>
              </p:grpSpPr>
              <p:grpSp>
                <p:nvGrpSpPr>
                  <p:cNvPr id="381" name="Group 40"/>
                  <p:cNvGrpSpPr/>
                  <p:nvPr/>
                </p:nvGrpSpPr>
                <p:grpSpPr>
                  <a:xfrm>
                    <a:off x="6087600" y="2327040"/>
                    <a:ext cx="2526840" cy="1556640"/>
                    <a:chOff x="6087600" y="2327040"/>
                    <a:chExt cx="2526840" cy="1556640"/>
                  </a:xfrm>
                </p:grpSpPr>
                <p:sp>
                  <p:nvSpPr>
                    <p:cNvPr id="382" name="Rectangle 41"/>
                    <p:cNvSpPr/>
                    <p:nvPr/>
                  </p:nvSpPr>
                  <p:spPr>
                    <a:xfrm>
                      <a:off x="6087600" y="2327040"/>
                      <a:ext cx="2301120" cy="3358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2160" rIns="92160" tIns="46080" bIns="46080" anchor="t">
                      <a:spAutoFit/>
                    </a:bodyPr>
                    <a:p>
                      <a:pPr>
                        <a:tabLst>
                          <a:tab algn="l" pos="0"/>
                          <a:tab algn="l" pos="1028880"/>
                          <a:tab algn="l" pos="20034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3" name="Rectangle 42"/>
                    <p:cNvSpPr/>
                    <p:nvPr/>
                  </p:nvSpPr>
                  <p:spPr>
                    <a:xfrm>
                      <a:off x="6087600" y="2547720"/>
                      <a:ext cx="2301120" cy="3358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2160" rIns="92160" tIns="46080" bIns="46080" anchor="t">
                      <a:spAutoFit/>
                    </a:bodyPr>
                    <a:p>
                      <a:pPr>
                        <a:tabLst>
                          <a:tab algn="l" pos="0"/>
                          <a:tab algn="l" pos="1028880"/>
                          <a:tab algn="l" pos="20034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4" name="Rectangle 43"/>
                    <p:cNvSpPr/>
                    <p:nvPr/>
                  </p:nvSpPr>
                  <p:spPr>
                    <a:xfrm>
                      <a:off x="6087600" y="2746080"/>
                      <a:ext cx="2301120" cy="3358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2160" rIns="92160" tIns="46080" bIns="46080" anchor="t">
                      <a:spAutoFit/>
                    </a:bodyPr>
                    <a:p>
                      <a:pPr>
                        <a:tabLst>
                          <a:tab algn="l" pos="0"/>
                          <a:tab algn="l" pos="1028880"/>
                          <a:tab algn="l" pos="20034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5" name="Rectangle 44"/>
                    <p:cNvSpPr/>
                    <p:nvPr/>
                  </p:nvSpPr>
                  <p:spPr>
                    <a:xfrm>
                      <a:off x="6087600" y="2936880"/>
                      <a:ext cx="2301120" cy="3358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2160" rIns="92160" tIns="46080" bIns="46080" anchor="t">
                      <a:spAutoFit/>
                    </a:bodyPr>
                    <a:p>
                      <a:pPr>
                        <a:tabLst>
                          <a:tab algn="l" pos="0"/>
                          <a:tab algn="l" pos="1028880"/>
                          <a:tab algn="l" pos="20034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6" name="Rectangle 45"/>
                    <p:cNvSpPr/>
                    <p:nvPr/>
                  </p:nvSpPr>
                  <p:spPr>
                    <a:xfrm>
                      <a:off x="6087600" y="3135240"/>
                      <a:ext cx="2301120" cy="3358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2160" rIns="92160" tIns="46080" bIns="46080" anchor="t">
                      <a:spAutoFit/>
                    </a:bodyPr>
                    <a:p>
                      <a:pPr>
                        <a:tabLst>
                          <a:tab algn="l" pos="0"/>
                          <a:tab algn="l" pos="1028880"/>
                          <a:tab algn="l" pos="20034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4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2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7" name="Rectangle 46"/>
                    <p:cNvSpPr/>
                    <p:nvPr/>
                  </p:nvSpPr>
                  <p:spPr>
                    <a:xfrm>
                      <a:off x="6087600" y="3332160"/>
                      <a:ext cx="2301120" cy="3358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2160" rIns="92160" tIns="46080" bIns="46080" anchor="t">
                      <a:spAutoFit/>
                    </a:bodyPr>
                    <a:p>
                      <a:pPr>
                        <a:tabLst>
                          <a:tab algn="l" pos="0"/>
                          <a:tab algn="l" pos="1028880"/>
                          <a:tab algn="l" pos="20034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8" name="Rectangle 47"/>
                    <p:cNvSpPr/>
                    <p:nvPr/>
                  </p:nvSpPr>
                  <p:spPr>
                    <a:xfrm>
                      <a:off x="6087600" y="3547800"/>
                      <a:ext cx="2526840" cy="3358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2160" rIns="92160" tIns="46080" bIns="46080" anchor="t">
                      <a:spAutoFit/>
                    </a:bodyPr>
                    <a:p>
                      <a:pPr>
                        <a:tabLst>
                          <a:tab algn="l" pos="0"/>
                          <a:tab algn="l" pos="1028880"/>
                          <a:tab algn="l" pos="20034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3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7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89" name="Line 48"/>
                  <p:cNvSpPr/>
                  <p:nvPr/>
                </p:nvSpPr>
                <p:spPr>
                  <a:xfrm>
                    <a:off x="5159520" y="2130120"/>
                    <a:ext cx="0" cy="16941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90" name="Group 49"/>
                  <p:cNvGrpSpPr/>
                  <p:nvPr/>
                </p:nvGrpSpPr>
                <p:grpSpPr>
                  <a:xfrm>
                    <a:off x="6087960" y="2119320"/>
                    <a:ext cx="2239920" cy="263520"/>
                    <a:chOff x="6087960" y="2119320"/>
                    <a:chExt cx="2239920" cy="263520"/>
                  </a:xfrm>
                </p:grpSpPr>
                <p:pic>
                  <p:nvPicPr>
                    <p:cNvPr id="391" name="Picture 50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087960" y="2127240"/>
                      <a:ext cx="252360" cy="252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392" name="Picture 51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7094520" y="2122200"/>
                      <a:ext cx="260280" cy="260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393" name="Picture 52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8077320" y="2119320"/>
                      <a:ext cx="250560" cy="250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grpSp>
              <p:grpSp>
                <p:nvGrpSpPr>
                  <p:cNvPr id="394" name="Group 53"/>
                  <p:cNvGrpSpPr/>
                  <p:nvPr/>
                </p:nvGrpSpPr>
                <p:grpSpPr>
                  <a:xfrm>
                    <a:off x="5391000" y="2360520"/>
                    <a:ext cx="203400" cy="1446120"/>
                    <a:chOff x="5391000" y="2360520"/>
                    <a:chExt cx="203400" cy="1446120"/>
                  </a:xfrm>
                </p:grpSpPr>
                <p:pic>
                  <p:nvPicPr>
                    <p:cNvPr id="395" name="Picture 54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5391000" y="2360520"/>
                      <a:ext cx="203400" cy="203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396" name="Picture 55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394240" y="2595240"/>
                      <a:ext cx="196920" cy="196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397" name="Picture 56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5405400" y="2823840"/>
                      <a:ext cx="176400" cy="176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398" name="Picture 57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5402160" y="3419280"/>
                      <a:ext cx="181080" cy="181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399" name="Picture 58" descr=""/>
                    <p:cNvPicPr/>
                    <p:nvPr/>
                  </p:nvPicPr>
                  <p:blipFill>
                    <a:blip r:embed="rId13"/>
                    <a:stretch/>
                  </p:blipFill>
                  <p:spPr>
                    <a:xfrm>
                      <a:off x="5400720" y="3620880"/>
                      <a:ext cx="185760" cy="185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400" name="Picture 59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402160" y="3213000"/>
                      <a:ext cx="181080" cy="181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401" name="Picture 60" descr=""/>
                    <p:cNvPicPr/>
                    <p:nvPr/>
                  </p:nvPicPr>
                  <p:blipFill>
                    <a:blip r:embed="rId15"/>
                    <a:stretch/>
                  </p:blipFill>
                  <p:spPr>
                    <a:xfrm>
                      <a:off x="5413320" y="3020760"/>
                      <a:ext cx="160560" cy="160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grpSp>
            </p:grpSp>
          </p:grpSp>
          <p:pic>
            <p:nvPicPr>
              <p:cNvPr id="402" name="Picture 61" descr=""/>
              <p:cNvPicPr/>
              <p:nvPr/>
            </p:nvPicPr>
            <p:blipFill>
              <a:blip r:embed="rId16"/>
              <a:stretch/>
            </p:blipFill>
            <p:spPr>
              <a:xfrm>
                <a:off x="1812960" y="4755960"/>
                <a:ext cx="442800" cy="803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403" name="Line 62"/>
          <p:cNvSpPr/>
          <p:nvPr/>
        </p:nvSpPr>
        <p:spPr>
          <a:xfrm>
            <a:off x="190440" y="2451240"/>
            <a:ext cx="5135760" cy="12600"/>
          </a:xfrm>
          <a:prstGeom prst="line">
            <a:avLst/>
          </a:prstGeom>
          <a:ln w="127080">
            <a:solidFill>
              <a:srgbClr val="ff0066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Line 63"/>
          <p:cNvSpPr/>
          <p:nvPr/>
        </p:nvSpPr>
        <p:spPr>
          <a:xfrm>
            <a:off x="209520" y="2470320"/>
            <a:ext cx="1752480" cy="2247840"/>
          </a:xfrm>
          <a:prstGeom prst="line">
            <a:avLst/>
          </a:prstGeom>
          <a:ln w="127080">
            <a:solidFill>
              <a:srgbClr val="ff0066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64"/>
          <p:cNvSpPr/>
          <p:nvPr/>
        </p:nvSpPr>
        <p:spPr>
          <a:xfrm>
            <a:off x="142920" y="1835280"/>
            <a:ext cx="8823240" cy="4846680"/>
          </a:xfrm>
          <a:prstGeom prst="rect">
            <a:avLst/>
          </a:prstGeom>
          <a:noFill/>
          <a:ln w="57240">
            <a:solidFill>
              <a:srgbClr val="0000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C3A75-E1B1-412F-8F8F-AAE3909FAD1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Instrument positive cultur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42800" y="1600200"/>
            <a:ext cx="648648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the drawer on which the positive indicator light is illumin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s the “remove positive tubes” soft k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itive station LEDs will light (gre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move the tube from the instr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n the bar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sually check tube for flaky, clumped grow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until instrument beeps 3 times signaling all positives have been remo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9" name="Picture 4" descr=""/>
          <p:cNvPicPr/>
          <p:nvPr/>
        </p:nvPicPr>
        <p:blipFill>
          <a:blip r:embed="rId1"/>
          <a:srcRect l="46566" t="0" r="0" b="0"/>
          <a:stretch/>
        </p:blipFill>
        <p:spPr>
          <a:xfrm>
            <a:off x="7145280" y="3971880"/>
            <a:ext cx="784440" cy="2448000"/>
          </a:xfrm>
          <a:prstGeom prst="rect">
            <a:avLst/>
          </a:prstGeom>
          <a:ln w="12600">
            <a:solidFill>
              <a:srgbClr val="ff505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410" name="Picture 2" descr=""/>
          <p:cNvPicPr/>
          <p:nvPr/>
        </p:nvPicPr>
        <p:blipFill>
          <a:blip r:embed="rId2"/>
          <a:stretch/>
        </p:blipFill>
        <p:spPr>
          <a:xfrm>
            <a:off x="6972480" y="1469880"/>
            <a:ext cx="1328400" cy="2216160"/>
          </a:xfrm>
          <a:prstGeom prst="rect">
            <a:avLst/>
          </a:prstGeom>
          <a:ln w="9360">
            <a:solidFill>
              <a:srgbClr val="00007a"/>
            </a:solidFill>
            <a:miter/>
          </a:ln>
          <a:effectLst>
            <a:outerShdw dist="107932" dir="2700000" blurRad="0" rotWithShape="0">
              <a:srgbClr val="3044b5"/>
            </a:outerShdw>
          </a:effectLst>
        </p:spPr>
      </p:pic>
      <p:pic>
        <p:nvPicPr>
          <p:cNvPr id="411" name="Picture 9" descr="remove positives.jpg"/>
          <p:cNvPicPr/>
          <p:nvPr/>
        </p:nvPicPr>
        <p:blipFill>
          <a:blip r:embed="rId3"/>
          <a:stretch/>
        </p:blipFill>
        <p:spPr>
          <a:xfrm>
            <a:off x="6167520" y="1708200"/>
            <a:ext cx="637920" cy="8478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500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500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500"/>
                                        <p:tgtEl>
                                          <p:spTgt spid="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500"/>
                                        <p:tgtEl>
                                          <p:spTgt spid="4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500"/>
                                        <p:tgtEl>
                                          <p:spTgt spid="4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500"/>
                                        <p:tgtEl>
                                          <p:spTgt spid="4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1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rint unloaded positive repor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-471600" y="1642680"/>
            <a:ext cx="7948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lvl="3" marL="1568160" indent="-223920"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status screen, press the “print reports” soft k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s the soft key that corresponds to the “Unloaded Positive Tub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sure that all tubes listed on the report correspond to the tubes remo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 date positive on the MGIT tube with permanent  mar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4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A5407-7AF3-4149-A3B9-5CE7390B15D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5" name="Picture 4" descr="printer.jpg"/>
          <p:cNvPicPr/>
          <p:nvPr/>
        </p:nvPicPr>
        <p:blipFill>
          <a:blip r:embed="rId1"/>
          <a:stretch/>
        </p:blipFill>
        <p:spPr>
          <a:xfrm>
            <a:off x="4946760" y="2143080"/>
            <a:ext cx="593640" cy="48600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5" descr="remove positives.jpg"/>
          <p:cNvPicPr/>
          <p:nvPr/>
        </p:nvPicPr>
        <p:blipFill>
          <a:blip r:embed="rId2"/>
          <a:stretch/>
        </p:blipFill>
        <p:spPr>
          <a:xfrm>
            <a:off x="6167520" y="3133800"/>
            <a:ext cx="637920" cy="8478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Unloaded positives repor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2A034-A61E-44EB-BA48-02183FF0299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9" name="Picture 4" descr=""/>
          <p:cNvPicPr/>
          <p:nvPr/>
        </p:nvPicPr>
        <p:blipFill>
          <a:blip r:embed="rId1"/>
          <a:stretch/>
        </p:blipFill>
        <p:spPr>
          <a:xfrm>
            <a:off x="457200" y="1428840"/>
            <a:ext cx="8124840" cy="394344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Unloaded positives repor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6902F-F2B0-41A6-AE82-ACB715C835D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2" name="Picture 4" descr=""/>
          <p:cNvPicPr/>
          <p:nvPr/>
        </p:nvPicPr>
        <p:blipFill>
          <a:blip r:embed="rId1"/>
          <a:stretch/>
        </p:blipFill>
        <p:spPr>
          <a:xfrm>
            <a:off x="457200" y="1562040"/>
            <a:ext cx="7967520" cy="3867120"/>
          </a:xfrm>
          <a:prstGeom prst="rect">
            <a:avLst/>
          </a:prstGeom>
          <a:ln w="0">
            <a:noFill/>
          </a:ln>
        </p:spPr>
      </p:pic>
      <p:sp>
        <p:nvSpPr>
          <p:cNvPr id="423" name="Oval 4"/>
          <p:cNvSpPr/>
          <p:nvPr/>
        </p:nvSpPr>
        <p:spPr>
          <a:xfrm rot="1279800">
            <a:off x="4971960" y="3971520"/>
            <a:ext cx="600120" cy="10857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Box 5"/>
          <p:cNvSpPr/>
          <p:nvPr/>
        </p:nvSpPr>
        <p:spPr>
          <a:xfrm>
            <a:off x="1143000" y="5200560"/>
            <a:ext cx="724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to detection (TTD) must be ≥ 4 d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TTD is less than 4 days, it is likely to be contaminated or an N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Unloaded positive repor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00E21-DC9D-440B-B55D-1BF7ED3D20A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Picture 4" descr=""/>
          <p:cNvPicPr/>
          <p:nvPr/>
        </p:nvPicPr>
        <p:blipFill>
          <a:blip r:embed="rId1"/>
          <a:stretch/>
        </p:blipFill>
        <p:spPr>
          <a:xfrm>
            <a:off x="457200" y="1428840"/>
            <a:ext cx="8124840" cy="3943440"/>
          </a:xfrm>
          <a:prstGeom prst="rect">
            <a:avLst/>
          </a:prstGeom>
          <a:ln w="0">
            <a:noFill/>
          </a:ln>
        </p:spPr>
      </p:pic>
      <p:sp>
        <p:nvSpPr>
          <p:cNvPr id="428" name="TextBox 4"/>
          <p:cNvSpPr/>
          <p:nvPr/>
        </p:nvSpPr>
        <p:spPr>
          <a:xfrm>
            <a:off x="771480" y="5257800"/>
            <a:ext cx="7386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GIT culture must be 1 - 5 days old to be used as a seed for DST inoculation. The day it is determined to be positive by the instrument is day 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Rectangle 5"/>
          <p:cNvSpPr/>
          <p:nvPr/>
        </p:nvSpPr>
        <p:spPr>
          <a:xfrm>
            <a:off x="5600880" y="3971880"/>
            <a:ext cx="942840" cy="857160"/>
          </a:xfrm>
          <a:prstGeom prst="rect">
            <a:avLst/>
          </a:prstGeom>
          <a:noFill/>
          <a:ln w="381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7"/>
          <p:cNvSpPr/>
          <p:nvPr/>
        </p:nvSpPr>
        <p:spPr>
          <a:xfrm>
            <a:off x="1771560" y="2828880"/>
            <a:ext cx="1614600" cy="871560"/>
          </a:xfrm>
          <a:prstGeom prst="rect">
            <a:avLst/>
          </a:prstGeom>
          <a:noFill/>
          <a:ln w="3816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Identification of specimen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441000" y="1419120"/>
            <a:ext cx="8093160" cy="46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ed reports list t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MGIT tube barcode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to link MGIT tube barcode with t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laboratory specimen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bel tube with an additional barcode specifying  the laboratory specimen number (if availa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rument can read a second bar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arcode number on printed 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no specimen barcode label, specimen number must be linked with MGIT tube barcode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ndwritten on report next to the tube barcode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7061A-70B2-4057-99AB-6219E10592D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-360" y="21276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Unloaded positive repor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6B965-25FE-4737-AFA7-5C81BE2DF4F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6" name="Picture 4" descr=""/>
          <p:cNvPicPr/>
          <p:nvPr/>
        </p:nvPicPr>
        <p:blipFill>
          <a:blip r:embed="rId1"/>
          <a:stretch/>
        </p:blipFill>
        <p:spPr>
          <a:xfrm>
            <a:off x="488880" y="1428840"/>
            <a:ext cx="8124840" cy="3943440"/>
          </a:xfrm>
          <a:prstGeom prst="rect">
            <a:avLst/>
          </a:prstGeom>
          <a:ln w="0">
            <a:noFill/>
          </a:ln>
        </p:spPr>
      </p:pic>
      <p:sp>
        <p:nvSpPr>
          <p:cNvPr id="437" name="TextBox 4"/>
          <p:cNvSpPr/>
          <p:nvPr/>
        </p:nvSpPr>
        <p:spPr>
          <a:xfrm>
            <a:off x="771480" y="5257800"/>
            <a:ext cx="738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ession number is laboratory specimen 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quence number is tube barcode 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ectangle 7"/>
          <p:cNvSpPr/>
          <p:nvPr/>
        </p:nvSpPr>
        <p:spPr>
          <a:xfrm>
            <a:off x="1397160" y="3973680"/>
            <a:ext cx="1614240" cy="871200"/>
          </a:xfrm>
          <a:prstGeom prst="rect">
            <a:avLst/>
          </a:prstGeom>
          <a:noFill/>
          <a:ln w="3816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FB positive?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pare a smear of the positive MGIT 960 tu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el a new clean glass slide with specimen ID #, source (MGIT) and d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 in a BSC, in an isolation room; wear appropriate P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tential high concentration o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. t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B4B48-734D-4C4F-8E76-B764850F872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FB smear prepara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595080" y="158544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lvl="1" marL="720720" indent="-27720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not shake or invert the tu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move a very small amount of broth from the bottom of the tu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a fine tip sterile transfer pipet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2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ress one drop on the slide and spread it in a 1 x 2 cm ov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to dry INSIDE the B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a drop of fixative to help adhere the positive MGIT broth to the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xative is usually based on bovine or rabbit ser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075D4-6EA9-459B-9AA8-692BAACCA15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08A19-7242-4017-A8A3-6896D6076B2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raining outlin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erview of BD MGIT 960 Instru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oving positive cultures from the instru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nting MGIT 960 unloaded positives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paring and reading ZN AFB sm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701280" y="466200"/>
            <a:ext cx="7458120" cy="770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at fix and stain with Ziehl –Neelsen reag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728640" y="1471680"/>
            <a:ext cx="7029360" cy="45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t-fix the smear using a hot plate (6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 ˚C for 2 hours or with a flame (pass through 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tim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N st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bol fuchsin - heated to steaming - 5 min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% Acid alcohol - 2 min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hylene blue - 1 min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5067B-4AB7-4DB8-AAB6-EE4C17106A7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8" name="Picture 6" descr=""/>
          <p:cNvPicPr/>
          <p:nvPr/>
        </p:nvPicPr>
        <p:blipFill>
          <a:blip r:embed="rId1"/>
          <a:stretch/>
        </p:blipFill>
        <p:spPr>
          <a:xfrm>
            <a:off x="5551560" y="3875040"/>
            <a:ext cx="2792520" cy="2103480"/>
          </a:xfrm>
          <a:prstGeom prst="rect">
            <a:avLst/>
          </a:prstGeom>
          <a:ln w="12600">
            <a:solidFill>
              <a:srgbClr val="ff505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p:transition spd="med">
    <p:blinds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75153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eading AFB smear</a:t>
            </a:r>
            <a:br>
              <a:rPr sz="28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3714840" y="1399680"/>
            <a:ext cx="4657680" cy="459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lvl="1" marL="332640" indent="-33264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ine the stained smears with a bright field microscope using the 100x oil objective for the presence of acid-fast bacilli (AFB) in a methodical manner to ensure that an area is scanned only o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33264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nning a series of three parallel sweeps the length of the smear, or by scanning a series of nine parallel sweeps the width of the smea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33264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mears scanned in this manner will give about 60 to 100 consecutive fields in one sweep with a 100x objectiv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oking for red bacilli, possible serpentine cords, on a blue backgrou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6F0B2-3160-49D4-94A6-2718EA9E8CD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2" name="Object 2"/>
          <p:cNvGraphicFramePr/>
          <p:nvPr/>
        </p:nvGraphicFramePr>
        <p:xfrm>
          <a:off x="-299880" y="4957920"/>
          <a:ext cx="4192560" cy="107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299880" y="4957920"/>
                    <a:ext cx="4192560" cy="107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54" name="Group 20"/>
          <p:cNvGrpSpPr/>
          <p:nvPr/>
        </p:nvGrpSpPr>
        <p:grpSpPr>
          <a:xfrm>
            <a:off x="1028880" y="1463760"/>
            <a:ext cx="2342520" cy="3436560"/>
            <a:chOff x="1028880" y="1463760"/>
            <a:chExt cx="2342520" cy="3436560"/>
          </a:xfrm>
        </p:grpSpPr>
        <p:pic>
          <p:nvPicPr>
            <p:cNvPr id="455" name="Picture 7" descr="P1010002"/>
            <p:cNvPicPr/>
            <p:nvPr/>
          </p:nvPicPr>
          <p:blipFill>
            <a:blip r:embed="rId3"/>
            <a:stretch/>
          </p:blipFill>
          <p:spPr>
            <a:xfrm>
              <a:off x="1083960" y="1463760"/>
              <a:ext cx="1841400" cy="123948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456" name="Picture 11" descr=""/>
            <p:cNvPicPr/>
            <p:nvPr/>
          </p:nvPicPr>
          <p:blipFill>
            <a:blip r:embed="rId4"/>
            <a:stretch/>
          </p:blipFill>
          <p:spPr>
            <a:xfrm>
              <a:off x="1028880" y="3632760"/>
              <a:ext cx="2175840" cy="12675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457" name="Picture 15" descr="Mycobacterium_kansasii_Ziehl"/>
            <p:cNvPicPr/>
            <p:nvPr/>
          </p:nvPicPr>
          <p:blipFill>
            <a:blip r:embed="rId5"/>
            <a:stretch/>
          </p:blipFill>
          <p:spPr>
            <a:xfrm>
              <a:off x="1307880" y="2595960"/>
              <a:ext cx="2063520" cy="11624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</p:grpSp>
    </p:spTree>
  </p:cSld>
  <p:transition spd="med">
    <p:blinds dir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efinitive identifica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AFB + smear with serpentine cording is NOT a definitive identification system for reporting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. tuberculosi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are over 100 species of mycobacteria that are all AFB 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. kansasi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lso exhibits serpentine c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77B30-D8A4-45AA-AD80-09A03E73489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efinitive identification option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omatographic lateral flow immunoass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ilia, SD Bioline, or MTB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3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e Probe Assa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M or MTBDR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spcBef>
                <a:spcPts val="2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Xpert MTB/RI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E33FE-8B26-4576-8A3D-EDE19577CBB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83757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tigen detection using chromatographic immunoass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324000" y="1413000"/>
            <a:ext cx="8496000" cy="30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996666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ote: Unlike HIV rapid tests, this test must be inoculated, read and discarded inside a BSC!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996666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100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µ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uspension of growth from liquid or solid medium is added to the specimen well and, if belonging to the TB complex, will react with the Ab to MPB6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996666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est is read after 15 min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6" name="Picture 27" descr=""/>
          <p:cNvPicPr/>
          <p:nvPr/>
        </p:nvPicPr>
        <p:blipFill>
          <a:blip r:embed="rId1"/>
          <a:srcRect l="27074" t="15539" r="32991" b="60831"/>
          <a:stretch/>
        </p:blipFill>
        <p:spPr>
          <a:xfrm>
            <a:off x="1547640" y="4437000"/>
            <a:ext cx="5905800" cy="218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est procedur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form test in a BSC; wear appropriate P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el test cartrid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pense 100 µl of the well-mixed MGIT culture with a transfer pipette on the specimen placing area of the cartrid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ine the reading area of the cartridge after 15 minu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e: Test results must be interpreted no later than 60 minutes after inoculation of the test cartridge due to the inoculum drying, which may alter resul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EC658-2932-4933-8AC9-2B691403CEC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Quality control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e each day test is performed and documented on log sh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itive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ll-characterized MTBC isolate or a reference strain growing in liquid 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gative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ll-characterized strain or reference strain of non-tuberculous mycobacteria (NTM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. avium, M. fortuitum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tc. growing in liquid med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E64A1-6856-49E9-940B-2CD74106963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terpretation of Resul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i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ation of a purple to red line on the reading areas labeled [T] and [C] of the cartri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gativ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ation of a purple to red line on the reading area labeled [C] of the cartridge but not [T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val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no line is observed on the reading area [C], technical errors or product damage has occurred. In this case the test should be considered invalid and repeated using a new cartri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261AE-9213-4838-A736-7C7C59AEED4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6756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ntigen detection using the chromatographic immunoassay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7" name="Group 18"/>
          <p:cNvGrpSpPr/>
          <p:nvPr/>
        </p:nvGrpSpPr>
        <p:grpSpPr>
          <a:xfrm>
            <a:off x="755640" y="1413000"/>
            <a:ext cx="5111640" cy="4752720"/>
            <a:chOff x="755640" y="1413000"/>
            <a:chExt cx="5111640" cy="4752720"/>
          </a:xfrm>
        </p:grpSpPr>
        <p:sp>
          <p:nvSpPr>
            <p:cNvPr id="478" name="Rectangle 3"/>
            <p:cNvSpPr/>
            <p:nvPr/>
          </p:nvSpPr>
          <p:spPr>
            <a:xfrm>
              <a:off x="755640" y="1413000"/>
              <a:ext cx="4968720" cy="4752720"/>
            </a:xfrm>
            <a:prstGeom prst="rect">
              <a:avLst/>
            </a:prstGeom>
            <a:solidFill>
              <a:srgbClr val="ffffcc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9" name="Group 6"/>
            <p:cNvGrpSpPr/>
            <p:nvPr/>
          </p:nvGrpSpPr>
          <p:grpSpPr>
            <a:xfrm>
              <a:off x="1187280" y="2637000"/>
              <a:ext cx="4103640" cy="792000"/>
              <a:chOff x="1187280" y="2637000"/>
              <a:chExt cx="4103640" cy="792000"/>
            </a:xfrm>
          </p:grpSpPr>
          <p:pic>
            <p:nvPicPr>
              <p:cNvPr id="480" name="Picture 7" descr=""/>
              <p:cNvPicPr/>
              <p:nvPr/>
            </p:nvPicPr>
            <p:blipFill>
              <a:blip r:embed="rId1"/>
              <a:srcRect l="27074" t="23035" r="32371" b="66526"/>
              <a:stretch/>
            </p:blipFill>
            <p:spPr>
              <a:xfrm>
                <a:off x="1187280" y="2637000"/>
                <a:ext cx="4103640" cy="79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1" name="Line 8"/>
              <p:cNvSpPr/>
              <p:nvPr/>
            </p:nvSpPr>
            <p:spPr>
              <a:xfrm>
                <a:off x="2842920" y="2925720"/>
                <a:ext cx="0" cy="144000"/>
              </a:xfrm>
              <a:prstGeom prst="line">
                <a:avLst/>
              </a:prstGeom>
              <a:ln cap="sq" w="38160">
                <a:solidFill>
                  <a:srgbClr val="cc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Line 9"/>
              <p:cNvSpPr/>
              <p:nvPr/>
            </p:nvSpPr>
            <p:spPr>
              <a:xfrm>
                <a:off x="3274920" y="2925720"/>
                <a:ext cx="0" cy="144000"/>
              </a:xfrm>
              <a:prstGeom prst="line">
                <a:avLst/>
              </a:prstGeom>
              <a:ln cap="sq" w="38160">
                <a:solidFill>
                  <a:srgbClr val="cc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3" name="Text Box 10"/>
            <p:cNvSpPr/>
            <p:nvPr/>
          </p:nvSpPr>
          <p:spPr>
            <a:xfrm>
              <a:off x="826920" y="1413000"/>
              <a:ext cx="4969080" cy="64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660066"/>
                  </a:solidFill>
                  <a:uFillTx/>
                  <a:latin typeface="Arial"/>
                </a:rPr>
                <a:t>Interpretation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660066"/>
                  </a:solidFill>
                  <a:latin typeface="Arial"/>
                </a:rPr>
                <a:t>MTB complex – two purple-reddish bands at test and control site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4" name="Group 11"/>
            <p:cNvGrpSpPr/>
            <p:nvPr/>
          </p:nvGrpSpPr>
          <p:grpSpPr>
            <a:xfrm>
              <a:off x="1116000" y="4365720"/>
              <a:ext cx="4103640" cy="792000"/>
              <a:chOff x="1116000" y="4365720"/>
              <a:chExt cx="4103640" cy="792000"/>
            </a:xfrm>
          </p:grpSpPr>
          <p:pic>
            <p:nvPicPr>
              <p:cNvPr id="485" name="Picture 12" descr=""/>
              <p:cNvPicPr/>
              <p:nvPr/>
            </p:nvPicPr>
            <p:blipFill>
              <a:blip r:embed="rId2"/>
              <a:srcRect l="27074" t="23035" r="32371" b="66526"/>
              <a:stretch/>
            </p:blipFill>
            <p:spPr>
              <a:xfrm>
                <a:off x="1116000" y="4365720"/>
                <a:ext cx="4103640" cy="79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6" name="Line 13"/>
              <p:cNvSpPr/>
              <p:nvPr/>
            </p:nvSpPr>
            <p:spPr>
              <a:xfrm>
                <a:off x="2771640" y="4654440"/>
                <a:ext cx="0" cy="144720"/>
              </a:xfrm>
              <a:prstGeom prst="line">
                <a:avLst/>
              </a:prstGeom>
              <a:ln cap="sq" w="38160">
                <a:solidFill>
                  <a:srgbClr val="cc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7" name="Text Box 14"/>
            <p:cNvSpPr/>
            <p:nvPr/>
          </p:nvSpPr>
          <p:spPr>
            <a:xfrm>
              <a:off x="900000" y="3716280"/>
              <a:ext cx="4824360" cy="20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660066"/>
                  </a:solidFill>
                  <a:latin typeface="Arial"/>
                </a:rPr>
                <a:t>NTM or other bacterial species – one purple-reddish band only at control sit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Text Box 15"/>
            <p:cNvSpPr/>
            <p:nvPr/>
          </p:nvSpPr>
          <p:spPr>
            <a:xfrm>
              <a:off x="826920" y="5445000"/>
              <a:ext cx="5040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660066"/>
                  </a:solidFill>
                  <a:latin typeface="Arial"/>
                </a:rPr>
                <a:t>Note: The test cannot be interpreted if there is no band at the control sit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9" name="Group 19"/>
          <p:cNvGrpSpPr/>
          <p:nvPr/>
        </p:nvGrpSpPr>
        <p:grpSpPr>
          <a:xfrm>
            <a:off x="6012000" y="2708280"/>
            <a:ext cx="2879640" cy="1297080"/>
            <a:chOff x="6012000" y="2708280"/>
            <a:chExt cx="2879640" cy="1297080"/>
          </a:xfrm>
        </p:grpSpPr>
        <p:sp>
          <p:nvSpPr>
            <p:cNvPr id="490" name="Rectangle 2"/>
            <p:cNvSpPr/>
            <p:nvPr/>
          </p:nvSpPr>
          <p:spPr>
            <a:xfrm>
              <a:off x="6012000" y="2708280"/>
              <a:ext cx="2879640" cy="1297080"/>
            </a:xfrm>
            <a:prstGeom prst="rect">
              <a:avLst/>
            </a:prstGeom>
            <a:solidFill>
              <a:srgbClr val="ffffcc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91" name="Picture 16" descr=""/>
            <p:cNvPicPr/>
            <p:nvPr/>
          </p:nvPicPr>
          <p:blipFill>
            <a:blip r:embed="rId3"/>
            <a:srcRect l="13850" t="54889" r="11856" b="21000"/>
            <a:stretch/>
          </p:blipFill>
          <p:spPr>
            <a:xfrm>
              <a:off x="6083280" y="2781360"/>
              <a:ext cx="2736360" cy="1182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2" name="Slide Number Placeholder 1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9BBB7-1391-4FE9-B60A-095C9313C7E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ositive capilia result</a:t>
            </a:r>
            <a:br>
              <a:rPr sz="4600"/>
            </a:b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(photo kindly provided by BMA laboratory, Bangkok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4" name="Picture 7" descr="IMG_0740"/>
          <p:cNvPicPr/>
          <p:nvPr/>
        </p:nvPicPr>
        <p:blipFill>
          <a:blip r:embed="rId1"/>
          <a:stretch/>
        </p:blipFill>
        <p:spPr>
          <a:xfrm>
            <a:off x="1298520" y="1600200"/>
            <a:ext cx="6545160" cy="4419720"/>
          </a:xfrm>
          <a:prstGeom prst="rect">
            <a:avLst/>
          </a:prstGeom>
          <a:ln w="0">
            <a:noFill/>
          </a:ln>
        </p:spPr>
      </p:pic>
      <p:sp>
        <p:nvSpPr>
          <p:cNvPr id="49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5FB32-9B73-4F58-9415-1336BED105E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MGIT 960 drawer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awers designated as A, B &amp; 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ple Measurement Module (SM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ube Rac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“station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tector Assembl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16 detectors for each row.  Moves Left to Righ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tus Indicato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three lamps on dra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tion Status L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indicators on each station. Colors: red, green or or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0F599-ED2D-49CB-BD7C-8881F6CEA9F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TEC MGIT 960 – decreased time to detection for grow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pare a smear to confirm MGIT tube growth is AFB positive and rule our contamin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y all AFB growth as MTBC before setting up DS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pid ID system – lateral flo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lecular ident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"/>
              </a:rPr>
              <a:t>Acknowledge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6881A-31C3-408F-8BFB-D72C57A620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1" name="Picture 6" descr=""/>
          <p:cNvPicPr/>
          <p:nvPr/>
        </p:nvPicPr>
        <p:blipFill>
          <a:blip r:embed="rId1"/>
          <a:stretch/>
        </p:blipFill>
        <p:spPr>
          <a:xfrm>
            <a:off x="1258920" y="1413000"/>
            <a:ext cx="4102200" cy="1473120"/>
          </a:xfrm>
          <a:prstGeom prst="rect">
            <a:avLst/>
          </a:prstGeom>
          <a:ln w="0">
            <a:noFill/>
          </a:ln>
        </p:spPr>
      </p:pic>
      <p:pic>
        <p:nvPicPr>
          <p:cNvPr id="502" name="Picture 7" descr=""/>
          <p:cNvPicPr/>
          <p:nvPr/>
        </p:nvPicPr>
        <p:blipFill>
          <a:blip r:embed="rId2"/>
          <a:stretch/>
        </p:blipFill>
        <p:spPr>
          <a:xfrm>
            <a:off x="1187280" y="2924280"/>
            <a:ext cx="2089440" cy="1512720"/>
          </a:xfrm>
          <a:prstGeom prst="rect">
            <a:avLst/>
          </a:prstGeom>
          <a:ln w="0">
            <a:noFill/>
          </a:ln>
        </p:spPr>
      </p:pic>
      <p:pic>
        <p:nvPicPr>
          <p:cNvPr id="503" name="Picture 5" descr="LogoColour"/>
          <p:cNvPicPr/>
          <p:nvPr/>
        </p:nvPicPr>
        <p:blipFill>
          <a:blip r:embed="rId3"/>
          <a:stretch/>
        </p:blipFill>
        <p:spPr>
          <a:xfrm>
            <a:off x="2340000" y="4869000"/>
            <a:ext cx="2808360" cy="1082520"/>
          </a:xfrm>
          <a:prstGeom prst="rect">
            <a:avLst/>
          </a:prstGeom>
          <a:ln w="0">
            <a:noFill/>
          </a:ln>
        </p:spPr>
      </p:pic>
      <p:pic>
        <p:nvPicPr>
          <p:cNvPr id="504" name="Picture 2" descr=""/>
          <p:cNvPicPr/>
          <p:nvPr/>
        </p:nvPicPr>
        <p:blipFill>
          <a:blip r:embed="rId4"/>
          <a:stretch/>
        </p:blipFill>
        <p:spPr>
          <a:xfrm>
            <a:off x="4859280" y="2924280"/>
            <a:ext cx="3025800" cy="18730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MGIT 960 barcode scanner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cated on the front of the instrument to provide ability to scan tube labels for specimen identific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urns on automatically whenever the system is ready (and expecting) to scan a bar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LCD display and keypad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s information about system status and function key defini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display shows icons representing the current soft key assignments at the bottom of the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CBFEC-4AFA-494B-909C-80B8ACE8A5E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0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BBL MGIT tube (7 ml)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ified Middlebrook 7H9 broth 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uorescent indicator detects 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bedded in silicon in bottom of tu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cteria use 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ring grow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eleased from indicator in tube bott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uorescence indicates growth of bact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7" name="Straight Arrow Connector 8"/>
          <p:cNvCxnSpPr/>
          <p:nvPr/>
        </p:nvCxnSpPr>
        <p:spPr>
          <a:xfrm>
            <a:off x="7472160" y="3666600"/>
            <a:ext cx="702360" cy="1580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158" name="Picture 4" descr=""/>
          <p:cNvPicPr/>
          <p:nvPr/>
        </p:nvPicPr>
        <p:blipFill>
          <a:blip r:embed="rId1"/>
          <a:srcRect l="77583" t="0" r="0" b="13190"/>
          <a:stretch/>
        </p:blipFill>
        <p:spPr>
          <a:xfrm>
            <a:off x="8220240" y="1330200"/>
            <a:ext cx="617400" cy="2909880"/>
          </a:xfrm>
          <a:prstGeom prst="rect">
            <a:avLst/>
          </a:prstGeom>
          <a:ln w="12600">
            <a:solidFill>
              <a:srgbClr val="4d7373"/>
            </a:solidFill>
            <a:miter/>
          </a:ln>
        </p:spPr>
      </p:pic>
    </p:spTree>
  </p:cSld>
  <p:transition spd="med"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040" y="228240"/>
            <a:ext cx="754380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Indicator system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0" name="Group 3"/>
          <p:cNvGrpSpPr/>
          <p:nvPr/>
        </p:nvGrpSpPr>
        <p:grpSpPr>
          <a:xfrm>
            <a:off x="1424160" y="1949400"/>
            <a:ext cx="6257160" cy="3485880"/>
            <a:chOff x="1424160" y="1949400"/>
            <a:chExt cx="6257160" cy="3485880"/>
          </a:xfrm>
        </p:grpSpPr>
        <p:grpSp>
          <p:nvGrpSpPr>
            <p:cNvPr id="161" name="Group 4"/>
            <p:cNvGrpSpPr/>
            <p:nvPr/>
          </p:nvGrpSpPr>
          <p:grpSpPr>
            <a:xfrm>
              <a:off x="1424160" y="4966560"/>
              <a:ext cx="1985040" cy="468720"/>
              <a:chOff x="1424160" y="4966560"/>
              <a:chExt cx="1985040" cy="468720"/>
            </a:xfrm>
          </p:grpSpPr>
          <p:sp>
            <p:nvSpPr>
              <p:cNvPr id="162" name="Line 5"/>
              <p:cNvSpPr/>
              <p:nvPr/>
            </p:nvSpPr>
            <p:spPr>
              <a:xfrm flipH="1">
                <a:off x="1424160" y="4966560"/>
                <a:ext cx="353520" cy="424080"/>
              </a:xfrm>
              <a:prstGeom prst="line">
                <a:avLst/>
              </a:prstGeom>
              <a:ln w="12600">
                <a:solidFill>
                  <a:srgbClr val="fdc0e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Line 6"/>
              <p:cNvSpPr/>
              <p:nvPr/>
            </p:nvSpPr>
            <p:spPr>
              <a:xfrm flipH="1">
                <a:off x="1828440" y="4966560"/>
                <a:ext cx="231480" cy="453960"/>
              </a:xfrm>
              <a:prstGeom prst="line">
                <a:avLst/>
              </a:prstGeom>
              <a:ln w="12600">
                <a:solidFill>
                  <a:srgbClr val="fdc0e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Line 7"/>
              <p:cNvSpPr/>
              <p:nvPr/>
            </p:nvSpPr>
            <p:spPr>
              <a:xfrm>
                <a:off x="2415960" y="4966560"/>
                <a:ext cx="0" cy="468720"/>
              </a:xfrm>
              <a:prstGeom prst="line">
                <a:avLst/>
              </a:prstGeom>
              <a:ln w="12600">
                <a:solidFill>
                  <a:srgbClr val="fdc0e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Line 8"/>
              <p:cNvSpPr/>
              <p:nvPr/>
            </p:nvSpPr>
            <p:spPr>
              <a:xfrm>
                <a:off x="2784600" y="4966560"/>
                <a:ext cx="231480" cy="453960"/>
              </a:xfrm>
              <a:prstGeom prst="line">
                <a:avLst/>
              </a:prstGeom>
              <a:ln w="12600">
                <a:solidFill>
                  <a:srgbClr val="fdc0e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Line 9"/>
              <p:cNvSpPr/>
              <p:nvPr/>
            </p:nvSpPr>
            <p:spPr>
              <a:xfrm>
                <a:off x="3055680" y="4966560"/>
                <a:ext cx="353520" cy="424080"/>
              </a:xfrm>
              <a:prstGeom prst="line">
                <a:avLst/>
              </a:prstGeom>
              <a:ln w="12600">
                <a:solidFill>
                  <a:srgbClr val="fdc0e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7" name="Group 10"/>
            <p:cNvGrpSpPr/>
            <p:nvPr/>
          </p:nvGrpSpPr>
          <p:grpSpPr>
            <a:xfrm>
              <a:off x="1719000" y="1949400"/>
              <a:ext cx="1341000" cy="2821320"/>
              <a:chOff x="1719000" y="1949400"/>
              <a:chExt cx="1341000" cy="2821320"/>
            </a:xfrm>
          </p:grpSpPr>
          <p:sp>
            <p:nvSpPr>
              <p:cNvPr id="168" name="Rectangle 11"/>
              <p:cNvSpPr/>
              <p:nvPr/>
            </p:nvSpPr>
            <p:spPr>
              <a:xfrm>
                <a:off x="1719000" y="2199600"/>
                <a:ext cx="1339560" cy="68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Rectangle 12"/>
              <p:cNvSpPr/>
              <p:nvPr/>
            </p:nvSpPr>
            <p:spPr>
              <a:xfrm>
                <a:off x="1719000" y="2889360"/>
                <a:ext cx="1339560" cy="1253160"/>
              </a:xfrm>
              <a:prstGeom prst="rect">
                <a:avLst/>
              </a:prstGeom>
              <a:solidFill>
                <a:srgbClr val="a2c1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0" name="Group 13"/>
              <p:cNvGrpSpPr/>
              <p:nvPr/>
            </p:nvGrpSpPr>
            <p:grpSpPr>
              <a:xfrm>
                <a:off x="1719000" y="1949400"/>
                <a:ext cx="1341000" cy="2821320"/>
                <a:chOff x="1719000" y="1949400"/>
                <a:chExt cx="1341000" cy="2821320"/>
              </a:xfrm>
            </p:grpSpPr>
            <p:sp>
              <p:nvSpPr>
                <p:cNvPr id="171" name="Rectangle 14"/>
                <p:cNvSpPr/>
                <p:nvPr/>
              </p:nvSpPr>
              <p:spPr>
                <a:xfrm>
                  <a:off x="1719000" y="3990960"/>
                  <a:ext cx="1339560" cy="778320"/>
                </a:xfrm>
                <a:prstGeom prst="rect">
                  <a:avLst/>
                </a:prstGeom>
                <a:solidFill>
                  <a:srgbClr val="eaec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15"/>
                <p:cNvSpPr/>
                <p:nvPr/>
              </p:nvSpPr>
              <p:spPr>
                <a:xfrm>
                  <a:off x="1719000" y="1949400"/>
                  <a:ext cx="1341000" cy="2821320"/>
                </a:xfrm>
                <a:custGeom>
                  <a:avLst/>
                  <a:gdLst>
                    <a:gd name="textAreaLeft" fmla="*/ 0 w 1341000"/>
                    <a:gd name="textAreaRight" fmla="*/ 1341360 w 1341000"/>
                    <a:gd name="textAreaTop" fmla="*/ 0 h 2821320"/>
                    <a:gd name="textAreaBottom" fmla="*/ 2821680 h 2821320"/>
                  </a:gdLst>
                  <a:ahLst/>
                  <a:rect l="textAreaLeft" t="textAreaTop" r="textAreaRight" b="textAreaBottom"/>
                  <a:pathLst>
                    <a:path w="891" h="2161">
                      <a:moveTo>
                        <a:pt x="0" y="0"/>
                      </a:moveTo>
                      <a:lnTo>
                        <a:pt x="0" y="2160"/>
                      </a:lnTo>
                      <a:lnTo>
                        <a:pt x="890" y="2160"/>
                      </a:lnTo>
                      <a:lnTo>
                        <a:pt x="890" y="0"/>
                      </a:lnTo>
                    </a:path>
                  </a:pathLst>
                </a:custGeom>
                <a:noFill/>
                <a:ln cap="rnd" w="76320">
                  <a:solidFill>
                    <a:srgbClr val="91919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Rectangle 16"/>
              <p:cNvSpPr/>
              <p:nvPr/>
            </p:nvSpPr>
            <p:spPr>
              <a:xfrm>
                <a:off x="2514600" y="4212000"/>
                <a:ext cx="24768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ff6699"/>
                    </a:solidFill>
                    <a:latin typeface="Arial"/>
                  </a:rPr>
                  <a:t>F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Rectangle 17"/>
              <p:cNvSpPr/>
              <p:nvPr/>
            </p:nvSpPr>
            <p:spPr>
              <a:xfrm>
                <a:off x="1837080" y="4244400"/>
                <a:ext cx="24768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ff6699"/>
                    </a:solidFill>
                    <a:latin typeface="Arial"/>
                  </a:rPr>
                  <a:t>F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Rectangle 18"/>
              <p:cNvSpPr/>
              <p:nvPr/>
            </p:nvSpPr>
            <p:spPr>
              <a:xfrm>
                <a:off x="2667960" y="4457520"/>
                <a:ext cx="36036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669999"/>
                    </a:solidFill>
                    <a:latin typeface="Arial"/>
                  </a:rPr>
                  <a:t>FO</a:t>
                </a:r>
                <a:r>
                  <a:rPr b="1" lang="en-US" sz="800" spc="-1" strike="noStrike" baseline="-25000">
                    <a:solidFill>
                      <a:srgbClr val="669999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Rectangle 19"/>
              <p:cNvSpPr/>
              <p:nvPr/>
            </p:nvSpPr>
            <p:spPr>
              <a:xfrm>
                <a:off x="2039040" y="4127040"/>
                <a:ext cx="36036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669999"/>
                    </a:solidFill>
                    <a:latin typeface="Arial"/>
                  </a:rPr>
                  <a:t>FO</a:t>
                </a:r>
                <a:r>
                  <a:rPr b="1" lang="en-US" sz="800" spc="-1" strike="noStrike" baseline="-25000">
                    <a:solidFill>
                      <a:srgbClr val="669999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Rectangle 20"/>
              <p:cNvSpPr/>
              <p:nvPr/>
            </p:nvSpPr>
            <p:spPr>
              <a:xfrm>
                <a:off x="2299320" y="4340880"/>
                <a:ext cx="36036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669999"/>
                    </a:solidFill>
                    <a:latin typeface="Arial"/>
                  </a:rPr>
                  <a:t>FO</a:t>
                </a:r>
                <a:r>
                  <a:rPr b="1" lang="en-US" sz="800" spc="-1" strike="noStrike" baseline="-25000">
                    <a:solidFill>
                      <a:srgbClr val="669999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Rectangle 21"/>
              <p:cNvSpPr/>
              <p:nvPr/>
            </p:nvSpPr>
            <p:spPr>
              <a:xfrm>
                <a:off x="1826640" y="4452120"/>
                <a:ext cx="36036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669999"/>
                    </a:solidFill>
                    <a:latin typeface="Arial"/>
                  </a:rPr>
                  <a:t>FO</a:t>
                </a:r>
                <a:r>
                  <a:rPr b="1" lang="en-US" sz="800" spc="-1" strike="noStrike" baseline="-25000">
                    <a:solidFill>
                      <a:srgbClr val="669999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Rectangle 22"/>
              <p:cNvSpPr/>
              <p:nvPr/>
            </p:nvSpPr>
            <p:spPr>
              <a:xfrm>
                <a:off x="2658600" y="3965040"/>
                <a:ext cx="36036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669999"/>
                    </a:solidFill>
                    <a:latin typeface="Arial"/>
                  </a:rPr>
                  <a:t>FO</a:t>
                </a:r>
                <a:r>
                  <a:rPr b="1" lang="en-US" sz="800" spc="-1" strike="noStrike" baseline="-25000">
                    <a:solidFill>
                      <a:srgbClr val="669999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Rectangle 23"/>
              <p:cNvSpPr/>
              <p:nvPr/>
            </p:nvSpPr>
            <p:spPr>
              <a:xfrm>
                <a:off x="2075400" y="4444200"/>
                <a:ext cx="34596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ff6699"/>
                    </a:solidFill>
                    <a:latin typeface="Arial"/>
                  </a:rPr>
                  <a:t>F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Rectangle 24"/>
              <p:cNvSpPr/>
              <p:nvPr/>
            </p:nvSpPr>
            <p:spPr>
              <a:xfrm>
                <a:off x="1802880" y="3938760"/>
                <a:ext cx="36036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669999"/>
                    </a:solidFill>
                    <a:latin typeface="Arial"/>
                  </a:rPr>
                  <a:t>FO</a:t>
                </a:r>
                <a:r>
                  <a:rPr b="1" lang="en-US" sz="800" spc="-1" strike="noStrike" baseline="-25000">
                    <a:solidFill>
                      <a:srgbClr val="669999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Rectangle 25"/>
              <p:cNvSpPr/>
              <p:nvPr/>
            </p:nvSpPr>
            <p:spPr>
              <a:xfrm>
                <a:off x="2272320" y="3987000"/>
                <a:ext cx="36036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669999"/>
                    </a:solidFill>
                    <a:latin typeface="Arial"/>
                  </a:rPr>
                  <a:t>FO</a:t>
                </a:r>
                <a:r>
                  <a:rPr b="1" lang="en-US" sz="800" spc="-1" strike="noStrike" baseline="-25000">
                    <a:solidFill>
                      <a:srgbClr val="669999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Rectangle 26"/>
              <p:cNvSpPr/>
              <p:nvPr/>
            </p:nvSpPr>
            <p:spPr>
              <a:xfrm>
                <a:off x="2194560" y="3579840"/>
                <a:ext cx="37080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669999"/>
                    </a:solidFill>
                    <a:latin typeface="Arial"/>
                  </a:rPr>
                  <a:t>CO</a:t>
                </a:r>
                <a:r>
                  <a:rPr b="1" lang="en-US" sz="800" spc="-1" strike="noStrike" baseline="-25000">
                    <a:solidFill>
                      <a:srgbClr val="669999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Rectangle 27"/>
              <p:cNvSpPr/>
              <p:nvPr/>
            </p:nvSpPr>
            <p:spPr>
              <a:xfrm>
                <a:off x="2530080" y="3361680"/>
                <a:ext cx="29772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669999"/>
                    </a:solidFill>
                    <a:latin typeface="Arial"/>
                  </a:rPr>
                  <a:t>O</a:t>
                </a:r>
                <a:r>
                  <a:rPr b="1" lang="en-US" sz="800" spc="-1" strike="noStrike" baseline="-25000">
                    <a:solidFill>
                      <a:srgbClr val="669999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Rectangle 28"/>
              <p:cNvSpPr/>
              <p:nvPr/>
            </p:nvSpPr>
            <p:spPr>
              <a:xfrm>
                <a:off x="2698560" y="3601800"/>
                <a:ext cx="29772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669999"/>
                    </a:solidFill>
                    <a:latin typeface="Arial"/>
                  </a:rPr>
                  <a:t>O</a:t>
                </a:r>
                <a:r>
                  <a:rPr b="1" lang="en-US" sz="800" spc="-1" strike="noStrike" baseline="-25000">
                    <a:solidFill>
                      <a:srgbClr val="669999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Rectangle 29"/>
              <p:cNvSpPr/>
              <p:nvPr/>
            </p:nvSpPr>
            <p:spPr>
              <a:xfrm>
                <a:off x="1857240" y="2942640"/>
                <a:ext cx="29772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669999"/>
                    </a:solidFill>
                    <a:latin typeface="Arial"/>
                  </a:rPr>
                  <a:t>O</a:t>
                </a:r>
                <a:r>
                  <a:rPr b="1" lang="en-US" sz="800" spc="-1" strike="noStrike" baseline="-25000">
                    <a:solidFill>
                      <a:srgbClr val="669999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Rectangle 30"/>
              <p:cNvSpPr/>
              <p:nvPr/>
            </p:nvSpPr>
            <p:spPr>
              <a:xfrm>
                <a:off x="2274120" y="3031560"/>
                <a:ext cx="29772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669999"/>
                    </a:solidFill>
                    <a:latin typeface="Arial"/>
                  </a:rPr>
                  <a:t>O</a:t>
                </a:r>
                <a:r>
                  <a:rPr b="1" lang="en-US" sz="800" spc="-1" strike="noStrike" baseline="-25000">
                    <a:solidFill>
                      <a:srgbClr val="669999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Rectangle 31"/>
              <p:cNvSpPr/>
              <p:nvPr/>
            </p:nvSpPr>
            <p:spPr>
              <a:xfrm>
                <a:off x="1800000" y="3476880"/>
                <a:ext cx="29772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669999"/>
                    </a:solidFill>
                    <a:latin typeface="Arial"/>
                  </a:rPr>
                  <a:t>O</a:t>
                </a:r>
                <a:r>
                  <a:rPr b="1" lang="en-US" sz="800" spc="-1" strike="noStrike" baseline="-25000">
                    <a:solidFill>
                      <a:srgbClr val="669999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Rectangle 32"/>
              <p:cNvSpPr/>
              <p:nvPr/>
            </p:nvSpPr>
            <p:spPr>
              <a:xfrm>
                <a:off x="2586960" y="2972880"/>
                <a:ext cx="29772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669999"/>
                    </a:solidFill>
                    <a:latin typeface="Arial"/>
                  </a:rPr>
                  <a:t>O</a:t>
                </a:r>
                <a:r>
                  <a:rPr b="1" lang="en-US" sz="800" spc="-1" strike="noStrike" baseline="-25000">
                    <a:solidFill>
                      <a:srgbClr val="669999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Rectangle 33"/>
              <p:cNvSpPr/>
              <p:nvPr/>
            </p:nvSpPr>
            <p:spPr>
              <a:xfrm>
                <a:off x="2572920" y="2293920"/>
                <a:ext cx="29772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669999"/>
                    </a:solidFill>
                    <a:latin typeface="Arial"/>
                  </a:rPr>
                  <a:t>O</a:t>
                </a:r>
                <a:r>
                  <a:rPr b="1" lang="en-US" sz="800" spc="-1" strike="noStrike" baseline="-25000">
                    <a:solidFill>
                      <a:srgbClr val="669999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Rectangle 34"/>
              <p:cNvSpPr/>
              <p:nvPr/>
            </p:nvSpPr>
            <p:spPr>
              <a:xfrm>
                <a:off x="1845720" y="2214360"/>
                <a:ext cx="29772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669999"/>
                    </a:solidFill>
                    <a:latin typeface="Arial"/>
                  </a:rPr>
                  <a:t>O</a:t>
                </a:r>
                <a:r>
                  <a:rPr b="1" lang="en-US" sz="800" spc="-1" strike="noStrike" baseline="-25000">
                    <a:solidFill>
                      <a:srgbClr val="669999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Rectangle 35"/>
              <p:cNvSpPr/>
              <p:nvPr/>
            </p:nvSpPr>
            <p:spPr>
              <a:xfrm>
                <a:off x="2226240" y="2505240"/>
                <a:ext cx="37080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669999"/>
                    </a:solidFill>
                    <a:latin typeface="Arial"/>
                  </a:rPr>
                  <a:t>CO</a:t>
                </a:r>
                <a:r>
                  <a:rPr b="1" lang="en-US" sz="800" spc="-1" strike="noStrike" baseline="-25000">
                    <a:solidFill>
                      <a:srgbClr val="669999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Rectangle 36"/>
              <p:cNvSpPr/>
              <p:nvPr/>
            </p:nvSpPr>
            <p:spPr>
              <a:xfrm>
                <a:off x="1982520" y="3244320"/>
                <a:ext cx="37080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669999"/>
                    </a:solidFill>
                    <a:latin typeface="Arial"/>
                  </a:rPr>
                  <a:t>CO</a:t>
                </a:r>
                <a:r>
                  <a:rPr b="1" lang="en-US" sz="800" spc="-1" strike="noStrike" baseline="-25000">
                    <a:solidFill>
                      <a:srgbClr val="669999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Rectangle 37"/>
              <p:cNvSpPr/>
              <p:nvPr/>
            </p:nvSpPr>
            <p:spPr>
              <a:xfrm>
                <a:off x="1911240" y="2587680"/>
                <a:ext cx="29772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669999"/>
                    </a:solidFill>
                    <a:latin typeface="Arial"/>
                  </a:rPr>
                  <a:t>O</a:t>
                </a:r>
                <a:r>
                  <a:rPr b="1" lang="en-US" sz="800" spc="-1" strike="noStrike" baseline="-25000">
                    <a:solidFill>
                      <a:srgbClr val="669999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5" name="Group 38"/>
            <p:cNvGrpSpPr/>
            <p:nvPr/>
          </p:nvGrpSpPr>
          <p:grpSpPr>
            <a:xfrm>
              <a:off x="6019560" y="1949400"/>
              <a:ext cx="1338480" cy="2821320"/>
              <a:chOff x="6019560" y="1949400"/>
              <a:chExt cx="1338480" cy="2821320"/>
            </a:xfrm>
          </p:grpSpPr>
          <p:sp>
            <p:nvSpPr>
              <p:cNvPr id="196" name="Rectangle 39"/>
              <p:cNvSpPr/>
              <p:nvPr/>
            </p:nvSpPr>
            <p:spPr>
              <a:xfrm>
                <a:off x="6019560" y="2199600"/>
                <a:ext cx="1336680" cy="68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Rectangle 40"/>
              <p:cNvSpPr/>
              <p:nvPr/>
            </p:nvSpPr>
            <p:spPr>
              <a:xfrm>
                <a:off x="6019560" y="2889360"/>
                <a:ext cx="1336680" cy="1253160"/>
              </a:xfrm>
              <a:prstGeom prst="rect">
                <a:avLst/>
              </a:prstGeom>
              <a:solidFill>
                <a:srgbClr val="a2c1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8" name="Group 41"/>
              <p:cNvGrpSpPr/>
              <p:nvPr/>
            </p:nvGrpSpPr>
            <p:grpSpPr>
              <a:xfrm>
                <a:off x="6019560" y="1949400"/>
                <a:ext cx="1338480" cy="2821320"/>
                <a:chOff x="6019560" y="1949400"/>
                <a:chExt cx="1338480" cy="2821320"/>
              </a:xfrm>
            </p:grpSpPr>
            <p:sp>
              <p:nvSpPr>
                <p:cNvPr id="199" name="Rectangle 42"/>
                <p:cNvSpPr/>
                <p:nvPr/>
              </p:nvSpPr>
              <p:spPr>
                <a:xfrm>
                  <a:off x="6019560" y="3990960"/>
                  <a:ext cx="1336680" cy="778320"/>
                </a:xfrm>
                <a:prstGeom prst="rect">
                  <a:avLst/>
                </a:prstGeom>
                <a:solidFill>
                  <a:srgbClr val="eaec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" name="Freeform 43"/>
                <p:cNvSpPr/>
                <p:nvPr/>
              </p:nvSpPr>
              <p:spPr>
                <a:xfrm>
                  <a:off x="6019560" y="1949400"/>
                  <a:ext cx="1338480" cy="2821320"/>
                </a:xfrm>
                <a:custGeom>
                  <a:avLst/>
                  <a:gdLst>
                    <a:gd name="textAreaLeft" fmla="*/ 0 w 1338480"/>
                    <a:gd name="textAreaRight" fmla="*/ 1338840 w 1338480"/>
                    <a:gd name="textAreaTop" fmla="*/ 0 h 2821320"/>
                    <a:gd name="textAreaBottom" fmla="*/ 2821680 h 2821320"/>
                  </a:gdLst>
                  <a:ahLst/>
                  <a:rect l="textAreaLeft" t="textAreaTop" r="textAreaRight" b="textAreaBottom"/>
                  <a:pathLst>
                    <a:path w="889" h="2161">
                      <a:moveTo>
                        <a:pt x="0" y="0"/>
                      </a:moveTo>
                      <a:lnTo>
                        <a:pt x="0" y="2160"/>
                      </a:lnTo>
                      <a:lnTo>
                        <a:pt x="888" y="2160"/>
                      </a:lnTo>
                      <a:lnTo>
                        <a:pt x="888" y="0"/>
                      </a:lnTo>
                    </a:path>
                  </a:pathLst>
                </a:custGeom>
                <a:noFill/>
                <a:ln cap="rnd" w="76320">
                  <a:solidFill>
                    <a:srgbClr val="91919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1" name="Rectangle 44"/>
              <p:cNvSpPr/>
              <p:nvPr/>
            </p:nvSpPr>
            <p:spPr>
              <a:xfrm>
                <a:off x="6742440" y="4200120"/>
                <a:ext cx="24768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ff0066"/>
                    </a:solidFill>
                    <a:latin typeface="Arial"/>
                  </a:rPr>
                  <a:t>F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Rectangle 45"/>
              <p:cNvSpPr/>
              <p:nvPr/>
            </p:nvSpPr>
            <p:spPr>
              <a:xfrm>
                <a:off x="6095160" y="4344840"/>
                <a:ext cx="24768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ff0066"/>
                    </a:solidFill>
                    <a:latin typeface="Arial"/>
                  </a:rPr>
                  <a:t>F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Rectangle 46"/>
              <p:cNvSpPr/>
              <p:nvPr/>
            </p:nvSpPr>
            <p:spPr>
              <a:xfrm>
                <a:off x="7020360" y="4404960"/>
                <a:ext cx="24768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ff0066"/>
                    </a:solidFill>
                    <a:latin typeface="Arial"/>
                  </a:rPr>
                  <a:t>F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Rectangle 47"/>
              <p:cNvSpPr/>
              <p:nvPr/>
            </p:nvSpPr>
            <p:spPr>
              <a:xfrm>
                <a:off x="6420600" y="4061880"/>
                <a:ext cx="24768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ff0066"/>
                    </a:solidFill>
                    <a:latin typeface="Arial"/>
                  </a:rPr>
                  <a:t>F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Rectangle 48"/>
              <p:cNvSpPr/>
              <p:nvPr/>
            </p:nvSpPr>
            <p:spPr>
              <a:xfrm>
                <a:off x="6597360" y="4344840"/>
                <a:ext cx="36036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669999"/>
                    </a:solidFill>
                    <a:latin typeface="Arial"/>
                  </a:rPr>
                  <a:t>FO</a:t>
                </a:r>
                <a:r>
                  <a:rPr b="1" lang="en-US" sz="800" spc="-1" strike="noStrike" baseline="-25000">
                    <a:solidFill>
                      <a:srgbClr val="669999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Rectangle 49"/>
              <p:cNvSpPr/>
              <p:nvPr/>
            </p:nvSpPr>
            <p:spPr>
              <a:xfrm>
                <a:off x="6157440" y="4154400"/>
                <a:ext cx="36036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669999"/>
                    </a:solidFill>
                    <a:latin typeface="Arial"/>
                  </a:rPr>
                  <a:t>FO</a:t>
                </a:r>
                <a:r>
                  <a:rPr b="1" lang="en-US" sz="800" spc="-1" strike="noStrike" baseline="-25000">
                    <a:solidFill>
                      <a:srgbClr val="669999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Rectangle 50"/>
              <p:cNvSpPr/>
              <p:nvPr/>
            </p:nvSpPr>
            <p:spPr>
              <a:xfrm>
                <a:off x="7037640" y="4017240"/>
                <a:ext cx="24768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ff0066"/>
                    </a:solidFill>
                    <a:latin typeface="Arial"/>
                  </a:rPr>
                  <a:t>F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Rectangle 51"/>
              <p:cNvSpPr/>
              <p:nvPr/>
            </p:nvSpPr>
            <p:spPr>
              <a:xfrm>
                <a:off x="6351840" y="4422240"/>
                <a:ext cx="24768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ff0066"/>
                    </a:solidFill>
                    <a:latin typeface="Arial"/>
                  </a:rPr>
                  <a:t>F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Rectangle 52"/>
              <p:cNvSpPr/>
              <p:nvPr/>
            </p:nvSpPr>
            <p:spPr>
              <a:xfrm>
                <a:off x="6088320" y="3970440"/>
                <a:ext cx="24768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ff0066"/>
                    </a:solidFill>
                    <a:latin typeface="Arial"/>
                  </a:rPr>
                  <a:t>F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Rectangle 53"/>
              <p:cNvSpPr/>
              <p:nvPr/>
            </p:nvSpPr>
            <p:spPr>
              <a:xfrm>
                <a:off x="6672240" y="3976920"/>
                <a:ext cx="24768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ff0066"/>
                    </a:solidFill>
                    <a:latin typeface="Arial"/>
                  </a:rPr>
                  <a:t>F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Rectangle 54"/>
              <p:cNvSpPr/>
              <p:nvPr/>
            </p:nvSpPr>
            <p:spPr>
              <a:xfrm>
                <a:off x="6683760" y="3421800"/>
                <a:ext cx="37080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669999"/>
                    </a:solidFill>
                    <a:latin typeface="Arial"/>
                  </a:rPr>
                  <a:t>CO</a:t>
                </a:r>
                <a:r>
                  <a:rPr b="1" lang="en-US" sz="800" spc="-1" strike="noStrike" baseline="-25000">
                    <a:solidFill>
                      <a:srgbClr val="669999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Rectangle 55"/>
              <p:cNvSpPr/>
              <p:nvPr/>
            </p:nvSpPr>
            <p:spPr>
              <a:xfrm>
                <a:off x="6157800" y="2941560"/>
                <a:ext cx="29772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669999"/>
                    </a:solidFill>
                    <a:latin typeface="Arial"/>
                  </a:rPr>
                  <a:t>O</a:t>
                </a:r>
                <a:r>
                  <a:rPr b="1" lang="en-US" sz="800" spc="-1" strike="noStrike" baseline="-25000">
                    <a:solidFill>
                      <a:srgbClr val="669999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Rectangle 56"/>
              <p:cNvSpPr/>
              <p:nvPr/>
            </p:nvSpPr>
            <p:spPr>
              <a:xfrm>
                <a:off x="6100920" y="3476880"/>
                <a:ext cx="29772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669999"/>
                    </a:solidFill>
                    <a:latin typeface="Arial"/>
                  </a:rPr>
                  <a:t>O</a:t>
                </a:r>
                <a:r>
                  <a:rPr b="1" lang="en-US" sz="800" spc="-1" strike="noStrike" baseline="-25000">
                    <a:solidFill>
                      <a:srgbClr val="669999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Rectangle 57"/>
              <p:cNvSpPr/>
              <p:nvPr/>
            </p:nvSpPr>
            <p:spPr>
              <a:xfrm>
                <a:off x="6889680" y="2973960"/>
                <a:ext cx="29772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669999"/>
                    </a:solidFill>
                    <a:latin typeface="Arial"/>
                  </a:rPr>
                  <a:t>O</a:t>
                </a:r>
                <a:r>
                  <a:rPr b="1" lang="en-US" sz="800" spc="-1" strike="noStrike" baseline="-25000">
                    <a:solidFill>
                      <a:srgbClr val="669999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Oval 58"/>
              <p:cNvSpPr/>
              <p:nvPr/>
            </p:nvSpPr>
            <p:spPr>
              <a:xfrm>
                <a:off x="6147360" y="3772080"/>
                <a:ext cx="78480" cy="9900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400" bIns="2340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Oval 59"/>
              <p:cNvSpPr/>
              <p:nvPr/>
            </p:nvSpPr>
            <p:spPr>
              <a:xfrm>
                <a:off x="7139520" y="2957040"/>
                <a:ext cx="76680" cy="9900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400" bIns="2340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Oval 60"/>
              <p:cNvSpPr/>
              <p:nvPr/>
            </p:nvSpPr>
            <p:spPr>
              <a:xfrm>
                <a:off x="6426000" y="3066480"/>
                <a:ext cx="78120" cy="9900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400" bIns="2340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Oval 61"/>
              <p:cNvSpPr/>
              <p:nvPr/>
            </p:nvSpPr>
            <p:spPr>
              <a:xfrm>
                <a:off x="7094520" y="3615120"/>
                <a:ext cx="78120" cy="9936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Oval 62"/>
              <p:cNvSpPr/>
              <p:nvPr/>
            </p:nvSpPr>
            <p:spPr>
              <a:xfrm>
                <a:off x="6516360" y="3317400"/>
                <a:ext cx="76680" cy="9900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400" bIns="2340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Oval 63"/>
              <p:cNvSpPr/>
              <p:nvPr/>
            </p:nvSpPr>
            <p:spPr>
              <a:xfrm>
                <a:off x="6894360" y="3787200"/>
                <a:ext cx="20520" cy="5220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Oval 64"/>
              <p:cNvSpPr/>
              <p:nvPr/>
            </p:nvSpPr>
            <p:spPr>
              <a:xfrm>
                <a:off x="6693840" y="3082320"/>
                <a:ext cx="20880" cy="5220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Oval 65"/>
              <p:cNvSpPr/>
              <p:nvPr/>
            </p:nvSpPr>
            <p:spPr>
              <a:xfrm>
                <a:off x="6392880" y="3458520"/>
                <a:ext cx="20880" cy="5220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Oval 66"/>
              <p:cNvSpPr/>
              <p:nvPr/>
            </p:nvSpPr>
            <p:spPr>
              <a:xfrm>
                <a:off x="6615720" y="3693600"/>
                <a:ext cx="20520" cy="5184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Oval 67"/>
              <p:cNvSpPr/>
              <p:nvPr/>
            </p:nvSpPr>
            <p:spPr>
              <a:xfrm>
                <a:off x="6771960" y="3301560"/>
                <a:ext cx="20880" cy="5184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Oval 68"/>
              <p:cNvSpPr/>
              <p:nvPr/>
            </p:nvSpPr>
            <p:spPr>
              <a:xfrm>
                <a:off x="7083720" y="3426840"/>
                <a:ext cx="20880" cy="5220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Oval 69"/>
              <p:cNvSpPr/>
              <p:nvPr/>
            </p:nvSpPr>
            <p:spPr>
              <a:xfrm>
                <a:off x="6136920" y="3144960"/>
                <a:ext cx="20880" cy="5184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Rectangle 70"/>
              <p:cNvSpPr/>
              <p:nvPr/>
            </p:nvSpPr>
            <p:spPr>
              <a:xfrm>
                <a:off x="6314760" y="2292480"/>
                <a:ext cx="29772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669999"/>
                    </a:solidFill>
                    <a:latin typeface="Arial"/>
                  </a:rPr>
                  <a:t>O</a:t>
                </a:r>
                <a:r>
                  <a:rPr b="1" lang="en-US" sz="800" spc="-1" strike="noStrike" baseline="-25000">
                    <a:solidFill>
                      <a:srgbClr val="669999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Rectangle 71"/>
              <p:cNvSpPr/>
              <p:nvPr/>
            </p:nvSpPr>
            <p:spPr>
              <a:xfrm>
                <a:off x="6811200" y="2488320"/>
                <a:ext cx="29772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669999"/>
                    </a:solidFill>
                    <a:latin typeface="Arial"/>
                  </a:rPr>
                  <a:t>O</a:t>
                </a:r>
                <a:r>
                  <a:rPr b="1" lang="en-US" sz="800" spc="-1" strike="noStrike" baseline="-25000">
                    <a:solidFill>
                      <a:srgbClr val="669999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9" name="Group 72"/>
            <p:cNvGrpSpPr/>
            <p:nvPr/>
          </p:nvGrpSpPr>
          <p:grpSpPr>
            <a:xfrm>
              <a:off x="5695560" y="4966560"/>
              <a:ext cx="1985760" cy="468720"/>
              <a:chOff x="5695560" y="4966560"/>
              <a:chExt cx="1985760" cy="468720"/>
            </a:xfrm>
          </p:grpSpPr>
          <p:sp>
            <p:nvSpPr>
              <p:cNvPr id="230" name="Line 73"/>
              <p:cNvSpPr/>
              <p:nvPr/>
            </p:nvSpPr>
            <p:spPr>
              <a:xfrm flipH="1">
                <a:off x="5695560" y="4966560"/>
                <a:ext cx="353880" cy="424080"/>
              </a:xfrm>
              <a:prstGeom prst="line">
                <a:avLst/>
              </a:prstGeom>
              <a:ln w="50760">
                <a:solidFill>
                  <a:srgbClr val="ff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Line 74"/>
              <p:cNvSpPr/>
              <p:nvPr/>
            </p:nvSpPr>
            <p:spPr>
              <a:xfrm flipH="1">
                <a:off x="6100560" y="4966560"/>
                <a:ext cx="231480" cy="453960"/>
              </a:xfrm>
              <a:prstGeom prst="line">
                <a:avLst/>
              </a:prstGeom>
              <a:ln w="50760">
                <a:solidFill>
                  <a:srgbClr val="ff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Line 75"/>
              <p:cNvSpPr/>
              <p:nvPr/>
            </p:nvSpPr>
            <p:spPr>
              <a:xfrm>
                <a:off x="6687720" y="4966560"/>
                <a:ext cx="0" cy="468720"/>
              </a:xfrm>
              <a:prstGeom prst="line">
                <a:avLst/>
              </a:prstGeom>
              <a:ln w="50760">
                <a:solidFill>
                  <a:srgbClr val="ff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Line 76"/>
              <p:cNvSpPr/>
              <p:nvPr/>
            </p:nvSpPr>
            <p:spPr>
              <a:xfrm>
                <a:off x="7056720" y="4966560"/>
                <a:ext cx="231480" cy="453960"/>
              </a:xfrm>
              <a:prstGeom prst="line">
                <a:avLst/>
              </a:prstGeom>
              <a:ln w="50760">
                <a:solidFill>
                  <a:srgbClr val="ff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Line 77"/>
              <p:cNvSpPr/>
              <p:nvPr/>
            </p:nvSpPr>
            <p:spPr>
              <a:xfrm>
                <a:off x="7327800" y="4966560"/>
                <a:ext cx="353520" cy="424080"/>
              </a:xfrm>
              <a:prstGeom prst="line">
                <a:avLst/>
              </a:prstGeom>
              <a:ln w="50760">
                <a:solidFill>
                  <a:srgbClr val="ff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5" name="AutoShape 78"/>
          <p:cNvSpPr/>
          <p:nvPr/>
        </p:nvSpPr>
        <p:spPr>
          <a:xfrm rot="16200000">
            <a:off x="3416040" y="2044440"/>
            <a:ext cx="182880" cy="614520"/>
          </a:xfrm>
          <a:prstGeom prst="triangle">
            <a:avLst>
              <a:gd name="adj" fmla="val 49986"/>
            </a:avLst>
          </a:prstGeom>
          <a:solidFill>
            <a:srgbClr val="9999ff"/>
          </a:solidFill>
          <a:ln w="12600">
            <a:solidFill>
              <a:srgbClr val="66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79"/>
          <p:cNvSpPr/>
          <p:nvPr/>
        </p:nvSpPr>
        <p:spPr>
          <a:xfrm>
            <a:off x="3809880" y="2133720"/>
            <a:ext cx="1395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eadspa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AutoShape 80"/>
          <p:cNvSpPr/>
          <p:nvPr/>
        </p:nvSpPr>
        <p:spPr>
          <a:xfrm flipH="1" rot="5400000">
            <a:off x="5395680" y="2044800"/>
            <a:ext cx="182880" cy="614160"/>
          </a:xfrm>
          <a:prstGeom prst="triangle">
            <a:avLst>
              <a:gd name="adj" fmla="val 49986"/>
            </a:avLst>
          </a:prstGeom>
          <a:solidFill>
            <a:srgbClr val="9999ff"/>
          </a:solidFill>
          <a:ln w="12600">
            <a:solidFill>
              <a:srgbClr val="66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AutoShape 81"/>
          <p:cNvSpPr/>
          <p:nvPr/>
        </p:nvSpPr>
        <p:spPr>
          <a:xfrm flipH="1" rot="5400000">
            <a:off x="5500440" y="2853360"/>
            <a:ext cx="146160" cy="617400"/>
          </a:xfrm>
          <a:prstGeom prst="triangle">
            <a:avLst>
              <a:gd name="adj" fmla="val 49986"/>
            </a:avLst>
          </a:prstGeom>
          <a:solidFill>
            <a:srgbClr val="9999ff"/>
          </a:solidFill>
          <a:ln w="12600">
            <a:solidFill>
              <a:srgbClr val="66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82"/>
          <p:cNvSpPr/>
          <p:nvPr/>
        </p:nvSpPr>
        <p:spPr>
          <a:xfrm>
            <a:off x="4345920" y="2971800"/>
            <a:ext cx="445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brot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AutoShape 83"/>
          <p:cNvSpPr/>
          <p:nvPr/>
        </p:nvSpPr>
        <p:spPr>
          <a:xfrm rot="16200000">
            <a:off x="3512160" y="2853360"/>
            <a:ext cx="146160" cy="617400"/>
          </a:xfrm>
          <a:prstGeom prst="triangle">
            <a:avLst>
              <a:gd name="adj" fmla="val 49986"/>
            </a:avLst>
          </a:prstGeom>
          <a:solidFill>
            <a:srgbClr val="9999ff"/>
          </a:solidFill>
          <a:ln w="12600">
            <a:solidFill>
              <a:srgbClr val="66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AutoShape 84"/>
          <p:cNvSpPr/>
          <p:nvPr/>
        </p:nvSpPr>
        <p:spPr>
          <a:xfrm rot="16200000">
            <a:off x="3441600" y="3828600"/>
            <a:ext cx="122040" cy="636480"/>
          </a:xfrm>
          <a:prstGeom prst="triangle">
            <a:avLst>
              <a:gd name="adj" fmla="val 49986"/>
            </a:avLst>
          </a:prstGeom>
          <a:solidFill>
            <a:srgbClr val="9999ff"/>
          </a:solidFill>
          <a:ln w="12600">
            <a:solidFill>
              <a:srgbClr val="66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85"/>
          <p:cNvSpPr/>
          <p:nvPr/>
        </p:nvSpPr>
        <p:spPr>
          <a:xfrm>
            <a:off x="4303080" y="3962520"/>
            <a:ext cx="5187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enso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AutoShape 86"/>
          <p:cNvSpPr/>
          <p:nvPr/>
        </p:nvSpPr>
        <p:spPr>
          <a:xfrm flipH="1" rot="5400000">
            <a:off x="5487840" y="3828600"/>
            <a:ext cx="122040" cy="636480"/>
          </a:xfrm>
          <a:prstGeom prst="triangle">
            <a:avLst>
              <a:gd name="adj" fmla="val 49986"/>
            </a:avLst>
          </a:prstGeom>
          <a:solidFill>
            <a:srgbClr val="9999ff"/>
          </a:solidFill>
          <a:ln w="12600">
            <a:solidFill>
              <a:srgbClr val="66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87"/>
          <p:cNvSpPr/>
          <p:nvPr/>
        </p:nvSpPr>
        <p:spPr>
          <a:xfrm>
            <a:off x="1257120" y="5473800"/>
            <a:ext cx="2256120" cy="305640"/>
          </a:xfrm>
          <a:prstGeom prst="rect">
            <a:avLst/>
          </a:prstGeom>
          <a:solidFill>
            <a:srgbClr val="fdc0e5"/>
          </a:solidFill>
          <a:ln w="12600">
            <a:solidFill>
              <a:srgbClr val="fdc0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ttle or no fluoresc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88"/>
          <p:cNvSpPr/>
          <p:nvPr/>
        </p:nvSpPr>
        <p:spPr>
          <a:xfrm>
            <a:off x="5887800" y="5486400"/>
            <a:ext cx="1907280" cy="305640"/>
          </a:xfrm>
          <a:prstGeom prst="rect">
            <a:avLst/>
          </a:prstGeom>
          <a:solidFill>
            <a:srgbClr val="f95a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rong fluoresc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89"/>
          <p:cNvSpPr/>
          <p:nvPr/>
        </p:nvSpPr>
        <p:spPr>
          <a:xfrm>
            <a:off x="1341000" y="1436760"/>
            <a:ext cx="21661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Negative cul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90"/>
          <p:cNvSpPr/>
          <p:nvPr/>
        </p:nvSpPr>
        <p:spPr>
          <a:xfrm>
            <a:off x="5624640" y="1436760"/>
            <a:ext cx="21160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ositive cul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7F0FD-38CE-498F-BF63-18374B6CC69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2" descr=""/>
          <p:cNvPicPr/>
          <p:nvPr/>
        </p:nvPicPr>
        <p:blipFill>
          <a:blip r:embed="rId1"/>
          <a:stretch/>
        </p:blipFill>
        <p:spPr>
          <a:xfrm>
            <a:off x="5135400" y="1757520"/>
            <a:ext cx="3490920" cy="2001600"/>
          </a:xfrm>
          <a:prstGeom prst="rect">
            <a:avLst/>
          </a:prstGeom>
          <a:ln w="9360">
            <a:solidFill>
              <a:srgbClr val="00007a"/>
            </a:solidFill>
            <a:miter/>
          </a:ln>
          <a:effectLst>
            <a:outerShdw dist="107932" dir="2700000" blurRad="0" rotWithShape="0">
              <a:srgbClr val="3044b5"/>
            </a:outerShdw>
          </a:effectLst>
        </p:spPr>
      </p:pic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Notification of positives on drawer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31280" y="2057400"/>
            <a:ext cx="4140360" cy="214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icator lamp on drawer illumin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dible alert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Group 5"/>
          <p:cNvGrpSpPr/>
          <p:nvPr/>
        </p:nvGrpSpPr>
        <p:grpSpPr>
          <a:xfrm>
            <a:off x="1301760" y="3159000"/>
            <a:ext cx="5556240" cy="2428920"/>
            <a:chOff x="1301760" y="3159000"/>
            <a:chExt cx="5556240" cy="2428920"/>
          </a:xfrm>
        </p:grpSpPr>
        <p:grpSp>
          <p:nvGrpSpPr>
            <p:cNvPr id="253" name="Group 6"/>
            <p:cNvGrpSpPr/>
            <p:nvPr/>
          </p:nvGrpSpPr>
          <p:grpSpPr>
            <a:xfrm>
              <a:off x="1301760" y="3159000"/>
              <a:ext cx="5556240" cy="2387880"/>
              <a:chOff x="1301760" y="3159000"/>
              <a:chExt cx="5556240" cy="2387880"/>
            </a:xfrm>
          </p:grpSpPr>
          <p:sp>
            <p:nvSpPr>
              <p:cNvPr id="254" name="Line 7"/>
              <p:cNvSpPr/>
              <p:nvPr/>
            </p:nvSpPr>
            <p:spPr>
              <a:xfrm flipH="1">
                <a:off x="1341000" y="3159000"/>
                <a:ext cx="4891320" cy="1036800"/>
              </a:xfrm>
              <a:prstGeom prst="line">
                <a:avLst/>
              </a:prstGeom>
              <a:ln w="12600">
                <a:solidFill>
                  <a:srgbClr val="cc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Line 8"/>
              <p:cNvSpPr/>
              <p:nvPr/>
            </p:nvSpPr>
            <p:spPr>
              <a:xfrm flipH="1">
                <a:off x="5578560" y="3251160"/>
                <a:ext cx="1279440" cy="944640"/>
              </a:xfrm>
              <a:prstGeom prst="line">
                <a:avLst/>
              </a:prstGeom>
              <a:ln w="12600">
                <a:solidFill>
                  <a:srgbClr val="cc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6" name="Group 9"/>
              <p:cNvGrpSpPr/>
              <p:nvPr/>
            </p:nvGrpSpPr>
            <p:grpSpPr>
              <a:xfrm>
                <a:off x="1301760" y="4324320"/>
                <a:ext cx="4224240" cy="1222560"/>
                <a:chOff x="1301760" y="4324320"/>
                <a:chExt cx="4224240" cy="1222560"/>
              </a:xfrm>
            </p:grpSpPr>
            <p:sp>
              <p:nvSpPr>
                <p:cNvPr id="257" name="AutoShape 10"/>
                <p:cNvSpPr/>
                <p:nvPr/>
              </p:nvSpPr>
              <p:spPr>
                <a:xfrm>
                  <a:off x="1301760" y="4324320"/>
                  <a:ext cx="4224240" cy="1222560"/>
                </a:xfrm>
                <a:prstGeom prst="roundRect">
                  <a:avLst>
                    <a:gd name="adj" fmla="val 12495"/>
                  </a:avLst>
                </a:prstGeom>
                <a:solidFill>
                  <a:srgbClr val="dadada"/>
                </a:solidFill>
                <a:ln w="12600">
                  <a:solidFill>
                    <a:srgbClr val="00279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11"/>
                <p:cNvSpPr/>
                <p:nvPr/>
              </p:nvSpPr>
              <p:spPr>
                <a:xfrm>
                  <a:off x="2938320" y="4552920"/>
                  <a:ext cx="857520" cy="765360"/>
                </a:xfrm>
                <a:prstGeom prst="rect">
                  <a:avLst/>
                </a:prstGeom>
                <a:solidFill>
                  <a:srgbClr val="009900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Rectangle 12"/>
                <p:cNvSpPr/>
                <p:nvPr/>
              </p:nvSpPr>
              <p:spPr>
                <a:xfrm>
                  <a:off x="1708200" y="4572000"/>
                  <a:ext cx="819000" cy="727200"/>
                </a:xfrm>
                <a:prstGeom prst="rect">
                  <a:avLst/>
                </a:prstGeom>
                <a:solidFill>
                  <a:srgbClr val="fc0128"/>
                </a:solidFill>
                <a:ln w="5076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" name="Rectangle 13"/>
                <p:cNvSpPr/>
                <p:nvPr/>
              </p:nvSpPr>
              <p:spPr>
                <a:xfrm>
                  <a:off x="1829160" y="4478400"/>
                  <a:ext cx="576720" cy="91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5400" spc="-1" strike="noStrike">
                      <a:solidFill>
                        <a:srgbClr val="000000"/>
                      </a:solidFill>
                      <a:latin typeface="Book Antiqua"/>
                    </a:rPr>
                    <a:t>+</a:t>
                  </a:r>
                  <a:endParaRPr b="0" lang="en-US" sz="5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" name="Rectangle 14"/>
                <p:cNvSpPr/>
                <p:nvPr/>
              </p:nvSpPr>
              <p:spPr>
                <a:xfrm>
                  <a:off x="3103200" y="4478400"/>
                  <a:ext cx="528120" cy="91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5400" spc="-1" strike="noStrike">
                      <a:solidFill>
                        <a:srgbClr val="000000"/>
                      </a:solidFill>
                      <a:latin typeface="Book Antiqua"/>
                    </a:rPr>
                    <a:t>–</a:t>
                  </a:r>
                  <a:endParaRPr b="0" lang="en-US" sz="5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" name="Rectangle 15"/>
                <p:cNvSpPr/>
                <p:nvPr/>
              </p:nvSpPr>
              <p:spPr>
                <a:xfrm>
                  <a:off x="4249800" y="4552920"/>
                  <a:ext cx="857160" cy="765360"/>
                </a:xfrm>
                <a:prstGeom prst="rect">
                  <a:avLst/>
                </a:prstGeom>
                <a:solidFill>
                  <a:srgbClr val="ffff66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Rectangle 16"/>
                <p:cNvSpPr/>
                <p:nvPr/>
              </p:nvSpPr>
              <p:spPr>
                <a:xfrm>
                  <a:off x="4487760" y="4478400"/>
                  <a:ext cx="381600" cy="915480"/>
                </a:xfrm>
                <a:prstGeom prst="rect">
                  <a:avLst/>
                </a:prstGeom>
                <a:noFill/>
                <a:ln w="0">
                  <a:noFill/>
                </a:ln>
                <a:effectLst>
                  <a:outerShdw dist="17819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5400" spc="-1" strike="noStrike">
                      <a:solidFill>
                        <a:srgbClr val="000000"/>
                      </a:solidFill>
                      <a:latin typeface="Book Antiqua"/>
                    </a:rPr>
                    <a:t>!</a:t>
                  </a:r>
                  <a:endParaRPr b="0" lang="en-US" sz="5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64" name="Oval 17"/>
            <p:cNvSpPr/>
            <p:nvPr/>
          </p:nvSpPr>
          <p:spPr>
            <a:xfrm>
              <a:off x="1473120" y="4343400"/>
              <a:ext cx="1244520" cy="1244520"/>
            </a:xfrm>
            <a:prstGeom prst="ellipse">
              <a:avLst/>
            </a:prstGeom>
            <a:noFill/>
            <a:ln w="50760">
              <a:solidFill>
                <a:srgbClr val="ff00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  <a:ea typeface="PMingLiU"/>
              </a:rPr>
              <a:t>BACTEC™ MGIT™ 960 </a:t>
            </a:r>
            <a:br>
              <a:rPr sz="42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PMingLiU"/>
              </a:rPr>
              <a:t>Instrument Interfa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6" name="Group 3"/>
          <p:cNvGrpSpPr/>
          <p:nvPr/>
        </p:nvGrpSpPr>
        <p:grpSpPr>
          <a:xfrm>
            <a:off x="914400" y="1371600"/>
            <a:ext cx="7390440" cy="4570920"/>
            <a:chOff x="914400" y="1371600"/>
            <a:chExt cx="7390440" cy="4570920"/>
          </a:xfrm>
        </p:grpSpPr>
        <p:grpSp>
          <p:nvGrpSpPr>
            <p:cNvPr id="267" name="Group 4"/>
            <p:cNvGrpSpPr/>
            <p:nvPr/>
          </p:nvGrpSpPr>
          <p:grpSpPr>
            <a:xfrm>
              <a:off x="914400" y="1371600"/>
              <a:ext cx="7390440" cy="4570920"/>
              <a:chOff x="914400" y="1371600"/>
              <a:chExt cx="7390440" cy="4570920"/>
            </a:xfrm>
          </p:grpSpPr>
          <p:grpSp>
            <p:nvGrpSpPr>
              <p:cNvPr id="268" name="Group 5"/>
              <p:cNvGrpSpPr/>
              <p:nvPr/>
            </p:nvGrpSpPr>
            <p:grpSpPr>
              <a:xfrm>
                <a:off x="930240" y="5315400"/>
                <a:ext cx="7374600" cy="627120"/>
                <a:chOff x="930240" y="5315400"/>
                <a:chExt cx="7374600" cy="627120"/>
              </a:xfrm>
            </p:grpSpPr>
            <p:sp>
              <p:nvSpPr>
                <p:cNvPr id="269" name="AutoShape 6"/>
                <p:cNvSpPr/>
                <p:nvPr/>
              </p:nvSpPr>
              <p:spPr>
                <a:xfrm>
                  <a:off x="1875600" y="5315400"/>
                  <a:ext cx="749160" cy="627120"/>
                </a:xfrm>
                <a:prstGeom prst="octagon">
                  <a:avLst>
                    <a:gd name="adj" fmla="val 29278"/>
                  </a:avLst>
                </a:prstGeom>
                <a:solidFill>
                  <a:srgbClr val="00a4a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" name="AutoShape 7"/>
                <p:cNvSpPr/>
                <p:nvPr/>
              </p:nvSpPr>
              <p:spPr>
                <a:xfrm>
                  <a:off x="2823120" y="5315400"/>
                  <a:ext cx="749160" cy="627120"/>
                </a:xfrm>
                <a:prstGeom prst="octagon">
                  <a:avLst>
                    <a:gd name="adj" fmla="val 29278"/>
                  </a:avLst>
                </a:prstGeom>
                <a:solidFill>
                  <a:srgbClr val="00a4a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" name="AutoShape 8"/>
                <p:cNvSpPr/>
                <p:nvPr/>
              </p:nvSpPr>
              <p:spPr>
                <a:xfrm>
                  <a:off x="3771000" y="5315400"/>
                  <a:ext cx="745200" cy="627120"/>
                </a:xfrm>
                <a:prstGeom prst="octagon">
                  <a:avLst>
                    <a:gd name="adj" fmla="val 29278"/>
                  </a:avLst>
                </a:prstGeom>
                <a:solidFill>
                  <a:srgbClr val="00a4a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2" name="AutoShape 9"/>
                <p:cNvSpPr/>
                <p:nvPr/>
              </p:nvSpPr>
              <p:spPr>
                <a:xfrm>
                  <a:off x="4716720" y="5315400"/>
                  <a:ext cx="745200" cy="627120"/>
                </a:xfrm>
                <a:prstGeom prst="octagon">
                  <a:avLst>
                    <a:gd name="adj" fmla="val 29278"/>
                  </a:avLst>
                </a:prstGeom>
                <a:solidFill>
                  <a:srgbClr val="00a4a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" name="AutoShape 10"/>
                <p:cNvSpPr/>
                <p:nvPr/>
              </p:nvSpPr>
              <p:spPr>
                <a:xfrm>
                  <a:off x="5660280" y="5315400"/>
                  <a:ext cx="748800" cy="627120"/>
                </a:xfrm>
                <a:prstGeom prst="octagon">
                  <a:avLst>
                    <a:gd name="adj" fmla="val 29278"/>
                  </a:avLst>
                </a:prstGeom>
                <a:solidFill>
                  <a:srgbClr val="00a4a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" name="AutoShape 11"/>
                <p:cNvSpPr/>
                <p:nvPr/>
              </p:nvSpPr>
              <p:spPr>
                <a:xfrm>
                  <a:off x="6607800" y="5315400"/>
                  <a:ext cx="749160" cy="627120"/>
                </a:xfrm>
                <a:prstGeom prst="octagon">
                  <a:avLst>
                    <a:gd name="adj" fmla="val 29278"/>
                  </a:avLst>
                </a:prstGeom>
                <a:solidFill>
                  <a:srgbClr val="00a4a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AutoShape 12"/>
                <p:cNvSpPr/>
                <p:nvPr/>
              </p:nvSpPr>
              <p:spPr>
                <a:xfrm>
                  <a:off x="930240" y="5315400"/>
                  <a:ext cx="747000" cy="627120"/>
                </a:xfrm>
                <a:prstGeom prst="octagon">
                  <a:avLst>
                    <a:gd name="adj" fmla="val 29278"/>
                  </a:avLst>
                </a:prstGeom>
                <a:solidFill>
                  <a:srgbClr val="00a4a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6" name="AutoShape 13"/>
                <p:cNvSpPr/>
                <p:nvPr/>
              </p:nvSpPr>
              <p:spPr>
                <a:xfrm>
                  <a:off x="7557480" y="5315400"/>
                  <a:ext cx="747360" cy="627120"/>
                </a:xfrm>
                <a:prstGeom prst="octagon">
                  <a:avLst>
                    <a:gd name="adj" fmla="val 29278"/>
                  </a:avLst>
                </a:prstGeom>
                <a:solidFill>
                  <a:srgbClr val="00a4a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7" name="Group 14"/>
              <p:cNvGrpSpPr/>
              <p:nvPr/>
            </p:nvGrpSpPr>
            <p:grpSpPr>
              <a:xfrm>
                <a:off x="914400" y="1371600"/>
                <a:ext cx="7378560" cy="3809520"/>
                <a:chOff x="914400" y="1371600"/>
                <a:chExt cx="7378560" cy="3809520"/>
              </a:xfrm>
            </p:grpSpPr>
            <p:grpSp>
              <p:nvGrpSpPr>
                <p:cNvPr id="278" name="Group 15"/>
                <p:cNvGrpSpPr/>
                <p:nvPr/>
              </p:nvGrpSpPr>
              <p:grpSpPr>
                <a:xfrm>
                  <a:off x="914400" y="1371600"/>
                  <a:ext cx="7378560" cy="3809520"/>
                  <a:chOff x="914400" y="1371600"/>
                  <a:chExt cx="7378560" cy="3809520"/>
                </a:xfrm>
              </p:grpSpPr>
              <p:grpSp>
                <p:nvGrpSpPr>
                  <p:cNvPr id="279" name="Group 16"/>
                  <p:cNvGrpSpPr/>
                  <p:nvPr/>
                </p:nvGrpSpPr>
                <p:grpSpPr>
                  <a:xfrm>
                    <a:off x="914400" y="1371600"/>
                    <a:ext cx="7378560" cy="3809520"/>
                    <a:chOff x="914400" y="1371600"/>
                    <a:chExt cx="7378560" cy="3809520"/>
                  </a:xfrm>
                </p:grpSpPr>
                <p:grpSp>
                  <p:nvGrpSpPr>
                    <p:cNvPr id="280" name="Group 17"/>
                    <p:cNvGrpSpPr/>
                    <p:nvPr/>
                  </p:nvGrpSpPr>
                  <p:grpSpPr>
                    <a:xfrm>
                      <a:off x="914400" y="1371600"/>
                      <a:ext cx="7378560" cy="3809520"/>
                      <a:chOff x="914400" y="1371600"/>
                      <a:chExt cx="7378560" cy="3809520"/>
                    </a:xfrm>
                  </p:grpSpPr>
                  <p:grpSp>
                    <p:nvGrpSpPr>
                      <p:cNvPr id="281" name="Group 18"/>
                      <p:cNvGrpSpPr/>
                      <p:nvPr/>
                    </p:nvGrpSpPr>
                    <p:grpSpPr>
                      <a:xfrm>
                        <a:off x="914400" y="1371600"/>
                        <a:ext cx="7378560" cy="3809520"/>
                        <a:chOff x="914400" y="1371600"/>
                        <a:chExt cx="7378560" cy="3809520"/>
                      </a:xfrm>
                    </p:grpSpPr>
                    <p:grpSp>
                      <p:nvGrpSpPr>
                        <p:cNvPr id="282" name="Group 19"/>
                        <p:cNvGrpSpPr/>
                        <p:nvPr/>
                      </p:nvGrpSpPr>
                      <p:grpSpPr>
                        <a:xfrm>
                          <a:off x="914400" y="1371600"/>
                          <a:ext cx="7378560" cy="3809520"/>
                          <a:chOff x="914400" y="1371600"/>
                          <a:chExt cx="7378560" cy="3809520"/>
                        </a:xfrm>
                      </p:grpSpPr>
                      <p:sp>
                        <p:nvSpPr>
                          <p:cNvPr id="283" name="Rectangle 20"/>
                          <p:cNvSpPr/>
                          <p:nvPr/>
                        </p:nvSpPr>
                        <p:spPr>
                          <a:xfrm>
                            <a:off x="914400" y="1371600"/>
                            <a:ext cx="7378560" cy="3809520"/>
                          </a:xfrm>
                          <a:prstGeom prst="rect">
                            <a:avLst/>
                          </a:prstGeom>
                          <a:solidFill>
                            <a:srgbClr val="ccffff"/>
                          </a:solidFill>
                          <a:ln w="381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4" name="Rectangle 21"/>
                          <p:cNvSpPr/>
                          <p:nvPr/>
                        </p:nvSpPr>
                        <p:spPr>
                          <a:xfrm>
                            <a:off x="941400" y="4317840"/>
                            <a:ext cx="7339680" cy="852840"/>
                          </a:xfrm>
                          <a:prstGeom prst="rect">
                            <a:avLst/>
                          </a:prstGeom>
                          <a:noFill/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5" name="Line 22"/>
                          <p:cNvSpPr/>
                          <p:nvPr/>
                        </p:nvSpPr>
                        <p:spPr>
                          <a:xfrm>
                            <a:off x="3659400" y="4317840"/>
                            <a:ext cx="0" cy="8442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ctr">
                            <a:noAutofit/>
                          </a:bodyPr>
                          <a:p>
                            <a:endParaRPr b="0" lang="en-US" sz="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6" name="Line 23"/>
                          <p:cNvSpPr/>
                          <p:nvPr/>
                        </p:nvSpPr>
                        <p:spPr>
                          <a:xfrm>
                            <a:off x="1791720" y="4317840"/>
                            <a:ext cx="0" cy="8442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ctr">
                            <a:noAutofit/>
                          </a:bodyPr>
                          <a:p>
                            <a:endParaRPr b="0" lang="en-US" sz="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7" name="Line 24"/>
                          <p:cNvSpPr/>
                          <p:nvPr/>
                        </p:nvSpPr>
                        <p:spPr>
                          <a:xfrm>
                            <a:off x="2725560" y="4317840"/>
                            <a:ext cx="0" cy="8442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ctr">
                            <a:noAutofit/>
                          </a:bodyPr>
                          <a:p>
                            <a:endParaRPr b="0" lang="en-US" sz="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8" name="Line 25"/>
                          <p:cNvSpPr/>
                          <p:nvPr/>
                        </p:nvSpPr>
                        <p:spPr>
                          <a:xfrm>
                            <a:off x="6460920" y="4317840"/>
                            <a:ext cx="0" cy="8442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ctr">
                            <a:noAutofit/>
                          </a:bodyPr>
                          <a:p>
                            <a:endParaRPr b="0" lang="en-US" sz="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9" name="Line 26"/>
                          <p:cNvSpPr/>
                          <p:nvPr/>
                        </p:nvSpPr>
                        <p:spPr>
                          <a:xfrm>
                            <a:off x="5527080" y="4317840"/>
                            <a:ext cx="0" cy="8442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ctr">
                            <a:noAutofit/>
                          </a:bodyPr>
                          <a:p>
                            <a:endParaRPr b="0" lang="en-US" sz="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0" name="Line 27"/>
                          <p:cNvSpPr/>
                          <p:nvPr/>
                        </p:nvSpPr>
                        <p:spPr>
                          <a:xfrm>
                            <a:off x="7396560" y="4317840"/>
                            <a:ext cx="0" cy="8442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ctr">
                            <a:noAutofit/>
                          </a:bodyPr>
                          <a:p>
                            <a:endParaRPr b="0" lang="en-US" sz="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291" name="Group 28"/>
                        <p:cNvGrpSpPr/>
                        <p:nvPr/>
                      </p:nvGrpSpPr>
                      <p:grpSpPr>
                        <a:xfrm>
                          <a:off x="1040760" y="4410000"/>
                          <a:ext cx="6928560" cy="616320"/>
                          <a:chOff x="1040760" y="4410000"/>
                          <a:chExt cx="6928560" cy="616320"/>
                        </a:xfrm>
                      </p:grpSpPr>
                      <p:pic>
                        <p:nvPicPr>
                          <p:cNvPr id="292" name="Picture 29" descr=""/>
                          <p:cNvPicPr/>
                          <p:nvPr/>
                        </p:nvPicPr>
                        <p:blipFill>
                          <a:blip r:embed="rId1"/>
                          <a:stretch/>
                        </p:blipFill>
                        <p:spPr>
                          <a:xfrm>
                            <a:off x="1040760" y="4410000"/>
                            <a:ext cx="599040" cy="616320"/>
                          </a:xfrm>
                          <a:prstGeom prst="rect">
                            <a:avLst/>
                          </a:prstGeom>
                          <a:ln w="28440">
                            <a:solidFill>
                              <a:srgbClr val="000000"/>
                            </a:solidFill>
                            <a:miter/>
                          </a:ln>
                        </p:spPr>
                      </p:pic>
                      <p:pic>
                        <p:nvPicPr>
                          <p:cNvPr id="293" name="Picture 30" descr=""/>
                          <p:cNvPicPr/>
                          <p:nvPr/>
                        </p:nvPicPr>
                        <p:blipFill>
                          <a:blip r:embed="rId2"/>
                          <a:stretch/>
                        </p:blipFill>
                        <p:spPr>
                          <a:xfrm>
                            <a:off x="7658640" y="4445280"/>
                            <a:ext cx="310680" cy="526320"/>
                          </a:xfrm>
                          <a:prstGeom prst="rect">
                            <a:avLst/>
                          </a:prstGeom>
                          <a:ln w="28440">
                            <a:solidFill>
                              <a:srgbClr val="000000"/>
                            </a:solidFill>
                            <a:miter/>
                          </a:ln>
                        </p:spPr>
                      </p:pic>
                      <p:pic>
                        <p:nvPicPr>
                          <p:cNvPr id="294" name="Picture 31" descr=""/>
                          <p:cNvPicPr/>
                          <p:nvPr/>
                        </p:nvPicPr>
                        <p:blipFill>
                          <a:blip r:embed="rId3"/>
                          <a:stretch/>
                        </p:blipFill>
                        <p:spPr>
                          <a:xfrm>
                            <a:off x="1904400" y="4564440"/>
                            <a:ext cx="705960" cy="386640"/>
                          </a:xfrm>
                          <a:prstGeom prst="rect">
                            <a:avLst/>
                          </a:prstGeom>
                          <a:ln w="28440">
                            <a:solidFill>
                              <a:srgbClr val="000000"/>
                            </a:solidFill>
                            <a:miter/>
                          </a:ln>
                        </p:spPr>
                      </p:pic>
                    </p:grpSp>
                  </p:grpSp>
                  <p:sp>
                    <p:nvSpPr>
                      <p:cNvPr id="295" name="Line 32"/>
                      <p:cNvSpPr/>
                      <p:nvPr/>
                    </p:nvSpPr>
                    <p:spPr>
                      <a:xfrm>
                        <a:off x="3821400" y="1384200"/>
                        <a:ext cx="0" cy="172944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96" name="Line 33"/>
                      <p:cNvSpPr/>
                      <p:nvPr/>
                    </p:nvSpPr>
                    <p:spPr>
                      <a:xfrm>
                        <a:off x="5009760" y="1384200"/>
                        <a:ext cx="0" cy="172944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297" name="Line 34"/>
                    <p:cNvSpPr/>
                    <p:nvPr/>
                  </p:nvSpPr>
                  <p:spPr>
                    <a:xfrm>
                      <a:off x="953640" y="3113640"/>
                      <a:ext cx="731916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8" name="Group 35"/>
                  <p:cNvGrpSpPr/>
                  <p:nvPr/>
                </p:nvGrpSpPr>
                <p:grpSpPr>
                  <a:xfrm>
                    <a:off x="3969720" y="1643400"/>
                    <a:ext cx="699480" cy="1040760"/>
                    <a:chOff x="3969720" y="1643400"/>
                    <a:chExt cx="699480" cy="1040760"/>
                  </a:xfrm>
                </p:grpSpPr>
                <p:sp>
                  <p:nvSpPr>
                    <p:cNvPr id="299" name="Rectangle 36"/>
                    <p:cNvSpPr/>
                    <p:nvPr/>
                  </p:nvSpPr>
                  <p:spPr>
                    <a:xfrm>
                      <a:off x="3969720" y="2412720"/>
                      <a:ext cx="699480" cy="2714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360" rIns="90360" tIns="44280" bIns="4428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669999"/>
                          </a:solidFill>
                          <a:latin typeface="Arial"/>
                          <a:ea typeface="PMingLiU"/>
                        </a:rPr>
                        <a:t>A / D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pic>
                  <p:nvPicPr>
                    <p:cNvPr id="300" name="Picture 37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245480" y="1643400"/>
                      <a:ext cx="383040" cy="744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grpSp>
              <p:grpSp>
                <p:nvGrpSpPr>
                  <p:cNvPr id="301" name="Group 38"/>
                  <p:cNvGrpSpPr/>
                  <p:nvPr/>
                </p:nvGrpSpPr>
                <p:grpSpPr>
                  <a:xfrm>
                    <a:off x="963000" y="1454760"/>
                    <a:ext cx="1882080" cy="1476360"/>
                    <a:chOff x="963000" y="1454760"/>
                    <a:chExt cx="1882080" cy="1476360"/>
                  </a:xfrm>
                </p:grpSpPr>
                <p:sp>
                  <p:nvSpPr>
                    <p:cNvPr id="302" name="Rectangle 39"/>
                    <p:cNvSpPr/>
                    <p:nvPr/>
                  </p:nvSpPr>
                  <p:spPr>
                    <a:xfrm>
                      <a:off x="963000" y="1454760"/>
                      <a:ext cx="407160" cy="332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360" rIns="90360" tIns="44280" bIns="4428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669999"/>
                          </a:solidFill>
                          <a:latin typeface="Arial"/>
                          <a:ea typeface="PMingLiU"/>
                        </a:rPr>
                        <a:t>#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303" name="Group 40"/>
                    <p:cNvGrpSpPr/>
                    <p:nvPr/>
                  </p:nvGrpSpPr>
                  <p:grpSpPr>
                    <a:xfrm>
                      <a:off x="2055960" y="1509120"/>
                      <a:ext cx="789120" cy="825480"/>
                      <a:chOff x="2055960" y="1509120"/>
                      <a:chExt cx="789120" cy="825480"/>
                    </a:xfrm>
                  </p:grpSpPr>
                  <p:sp>
                    <p:nvSpPr>
                      <p:cNvPr id="304" name="Rectangle 41"/>
                      <p:cNvSpPr/>
                      <p:nvPr/>
                    </p:nvSpPr>
                    <p:spPr>
                      <a:xfrm>
                        <a:off x="2066400" y="1509120"/>
                        <a:ext cx="778680" cy="2714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360" rIns="90360" tIns="44280" bIns="44280" anchor="t">
                        <a:sp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200" spc="-1" strike="noStrike">
                            <a:solidFill>
                              <a:srgbClr val="669999"/>
                            </a:solidFill>
                            <a:latin typeface="Arial"/>
                            <a:ea typeface="PMingLiU"/>
                          </a:rPr>
                          <a:t>09/19/96</a:t>
                        </a:r>
                        <a:endParaRPr b="0" lang="en-US" sz="12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05" name="Rectangle 42"/>
                      <p:cNvSpPr/>
                      <p:nvPr/>
                    </p:nvSpPr>
                    <p:spPr>
                      <a:xfrm>
                        <a:off x="2067120" y="1787400"/>
                        <a:ext cx="573120" cy="2714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360" rIns="90360" tIns="44280" bIns="44280" anchor="t">
                        <a:sp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200" spc="-1" strike="noStrike">
                            <a:solidFill>
                              <a:srgbClr val="669999"/>
                            </a:solidFill>
                            <a:latin typeface="Arial"/>
                            <a:ea typeface="PMingLiU"/>
                          </a:rPr>
                          <a:t>00:59</a:t>
                        </a:r>
                        <a:endParaRPr b="0" lang="en-US" sz="12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06" name="Rectangle 43"/>
                      <p:cNvSpPr/>
                      <p:nvPr/>
                    </p:nvSpPr>
                    <p:spPr>
                      <a:xfrm>
                        <a:off x="2055960" y="2063160"/>
                        <a:ext cx="736200" cy="2714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360" rIns="90360" tIns="44280" bIns="44280" anchor="t">
                        <a:sp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200" spc="-1" strike="noStrike">
                            <a:solidFill>
                              <a:srgbClr val="669999"/>
                            </a:solidFill>
                            <a:latin typeface="Arial"/>
                            <a:ea typeface="PMingLiU"/>
                          </a:rPr>
                          <a:t>37.2 ° C</a:t>
                        </a:r>
                        <a:endParaRPr b="0" lang="en-US" sz="12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307" name="Group 44"/>
                    <p:cNvGrpSpPr/>
                    <p:nvPr/>
                  </p:nvGrpSpPr>
                  <p:grpSpPr>
                    <a:xfrm>
                      <a:off x="1353960" y="1538640"/>
                      <a:ext cx="657000" cy="1392480"/>
                      <a:chOff x="1353960" y="1538640"/>
                      <a:chExt cx="657000" cy="1392480"/>
                    </a:xfrm>
                  </p:grpSpPr>
                  <p:pic>
                    <p:nvPicPr>
                      <p:cNvPr id="308" name="Picture 45" descr=""/>
                      <p:cNvPicPr/>
                      <p:nvPr/>
                    </p:nvPicPr>
                    <p:blipFill>
                      <a:blip r:embed="rId5"/>
                      <a:stretch/>
                    </p:blipFill>
                    <p:spPr>
                      <a:xfrm>
                        <a:off x="1552320" y="1538640"/>
                        <a:ext cx="262440" cy="2818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pic>
                    <p:nvPicPr>
                      <p:cNvPr id="309" name="Picture 46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552320" y="1839600"/>
                        <a:ext cx="262440" cy="2818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pic>
                    <p:nvPicPr>
                      <p:cNvPr id="310" name="Picture 47" descr=""/>
                      <p:cNvPicPr/>
                      <p:nvPr/>
                    </p:nvPicPr>
                    <p:blipFill>
                      <a:blip r:embed="rId7"/>
                      <a:stretch/>
                    </p:blipFill>
                    <p:spPr>
                      <a:xfrm>
                        <a:off x="1599120" y="2180520"/>
                        <a:ext cx="167040" cy="2696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pic>
                    <p:nvPicPr>
                      <p:cNvPr id="311" name="Picture 48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1353960" y="2571840"/>
                        <a:ext cx="657000" cy="3592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grpSp>
              </p:grpSp>
              <p:grpSp>
                <p:nvGrpSpPr>
                  <p:cNvPr id="312" name="Group 49"/>
                  <p:cNvGrpSpPr/>
                  <p:nvPr/>
                </p:nvGrpSpPr>
                <p:grpSpPr>
                  <a:xfrm>
                    <a:off x="5438160" y="1436400"/>
                    <a:ext cx="2671920" cy="1455120"/>
                    <a:chOff x="5438160" y="1436400"/>
                    <a:chExt cx="2671920" cy="1455120"/>
                  </a:xfrm>
                </p:grpSpPr>
                <p:grpSp>
                  <p:nvGrpSpPr>
                    <p:cNvPr id="313" name="Group 50"/>
                    <p:cNvGrpSpPr/>
                    <p:nvPr/>
                  </p:nvGrpSpPr>
                  <p:grpSpPr>
                    <a:xfrm>
                      <a:off x="5438160" y="1676880"/>
                      <a:ext cx="153000" cy="1214640"/>
                      <a:chOff x="5438160" y="1676880"/>
                      <a:chExt cx="153000" cy="1214640"/>
                    </a:xfrm>
                  </p:grpSpPr>
                  <p:pic>
                    <p:nvPicPr>
                      <p:cNvPr id="314" name="Picture 51" descr=""/>
                      <p:cNvPicPr/>
                      <p:nvPr/>
                    </p:nvPicPr>
                    <p:blipFill>
                      <a:blip r:embed="rId9"/>
                      <a:stretch/>
                    </p:blipFill>
                    <p:spPr>
                      <a:xfrm>
                        <a:off x="5442120" y="1676880"/>
                        <a:ext cx="143280" cy="1548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pic>
                    <p:nvPicPr>
                      <p:cNvPr id="315" name="Picture 52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5442120" y="1848240"/>
                        <a:ext cx="145440" cy="1566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pic>
                    <p:nvPicPr>
                      <p:cNvPr id="316" name="Picture 53" descr=""/>
                      <p:cNvPicPr/>
                      <p:nvPr/>
                    </p:nvPicPr>
                    <p:blipFill>
                      <a:blip r:embed="rId11"/>
                      <a:stretch/>
                    </p:blipFill>
                    <p:spPr>
                      <a:xfrm>
                        <a:off x="5442120" y="2023920"/>
                        <a:ext cx="145440" cy="1587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pic>
                    <p:nvPicPr>
                      <p:cNvPr id="317" name="Picture 54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5439600" y="2544480"/>
                        <a:ext cx="151200" cy="1630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pic>
                    <p:nvPicPr>
                      <p:cNvPr id="318" name="Picture 55" descr=""/>
                      <p:cNvPicPr/>
                      <p:nvPr/>
                    </p:nvPicPr>
                    <p:blipFill>
                      <a:blip r:embed="rId13"/>
                      <a:stretch/>
                    </p:blipFill>
                    <p:spPr>
                      <a:xfrm>
                        <a:off x="5438160" y="2726640"/>
                        <a:ext cx="153000" cy="1648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pic>
                    <p:nvPicPr>
                      <p:cNvPr id="319" name="Picture 56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5439600" y="2364840"/>
                        <a:ext cx="151200" cy="1609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pic>
                    <p:nvPicPr>
                      <p:cNvPr id="320" name="Picture 57" descr=""/>
                      <p:cNvPicPr/>
                      <p:nvPr/>
                    </p:nvPicPr>
                    <p:blipFill>
                      <a:blip r:embed="rId15"/>
                      <a:stretch/>
                    </p:blipFill>
                    <p:spPr>
                      <a:xfrm>
                        <a:off x="5447520" y="2201760"/>
                        <a:ext cx="133560" cy="1465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grpSp>
                <p:grpSp>
                  <p:nvGrpSpPr>
                    <p:cNvPr id="321" name="Group 58"/>
                    <p:cNvGrpSpPr/>
                    <p:nvPr/>
                  </p:nvGrpSpPr>
                  <p:grpSpPr>
                    <a:xfrm>
                      <a:off x="6001920" y="1436400"/>
                      <a:ext cx="2108160" cy="1435320"/>
                      <a:chOff x="6001920" y="1436400"/>
                      <a:chExt cx="2108160" cy="1435320"/>
                    </a:xfrm>
                  </p:grpSpPr>
                  <p:grpSp>
                    <p:nvGrpSpPr>
                      <p:cNvPr id="322" name="Group 59"/>
                      <p:cNvGrpSpPr/>
                      <p:nvPr/>
                    </p:nvGrpSpPr>
                    <p:grpSpPr>
                      <a:xfrm>
                        <a:off x="6001920" y="1580400"/>
                        <a:ext cx="2108160" cy="1291320"/>
                        <a:chOff x="6001920" y="1580400"/>
                        <a:chExt cx="2108160" cy="1291320"/>
                      </a:xfrm>
                    </p:grpSpPr>
                    <p:sp>
                      <p:nvSpPr>
                        <p:cNvPr id="323" name="Rectangle 60"/>
                        <p:cNvSpPr/>
                        <p:nvPr/>
                      </p:nvSpPr>
                      <p:spPr>
                        <a:xfrm>
                          <a:off x="6001920" y="2600280"/>
                          <a:ext cx="1694880" cy="27144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360" rIns="90360" tIns="44280" bIns="44280" anchor="t">
                          <a:spAutoFit/>
                        </a:bodyPr>
                        <a:p>
                          <a:pPr>
                            <a:tabLst>
                              <a:tab algn="l" pos="0"/>
                              <a:tab algn="l" pos="628560"/>
                              <a:tab algn="l" pos="125748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233</a:t>
                          </a: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	</a:t>
                          </a: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117</a:t>
                          </a: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	</a:t>
                          </a: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319</a:t>
                          </a:r>
                          <a:endParaRPr b="0" lang="en-US" sz="12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4" name="Rectangle 61"/>
                        <p:cNvSpPr/>
                        <p:nvPr/>
                      </p:nvSpPr>
                      <p:spPr>
                        <a:xfrm>
                          <a:off x="6101640" y="1580400"/>
                          <a:ext cx="1524240" cy="27144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360" rIns="90360" tIns="44280" bIns="44280" anchor="t">
                          <a:spAutoFit/>
                        </a:bodyPr>
                        <a:p>
                          <a:pPr>
                            <a:tabLst>
                              <a:tab algn="l" pos="0"/>
                              <a:tab algn="l" pos="628560"/>
                              <a:tab algn="l" pos="125748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5</a:t>
                          </a: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	</a:t>
                          </a: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0</a:t>
                          </a: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	</a:t>
                          </a: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0</a:t>
                          </a:r>
                          <a:endParaRPr b="0" lang="en-US" sz="12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5" name="Rectangle 62"/>
                        <p:cNvSpPr/>
                        <p:nvPr/>
                      </p:nvSpPr>
                      <p:spPr>
                        <a:xfrm>
                          <a:off x="6099480" y="1751760"/>
                          <a:ext cx="1524240" cy="27144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360" rIns="90360" tIns="44280" bIns="44280" anchor="t">
                          <a:spAutoFit/>
                        </a:bodyPr>
                        <a:p>
                          <a:pPr>
                            <a:tabLst>
                              <a:tab algn="l" pos="0"/>
                              <a:tab algn="l" pos="571680"/>
                              <a:tab algn="l" pos="628560"/>
                              <a:tab algn="l" pos="125748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7</a:t>
                          </a: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	</a:t>
                          </a: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10</a:t>
                          </a: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	</a:t>
                          </a: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0</a:t>
                          </a:r>
                          <a:endParaRPr b="0" lang="en-US" sz="12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6" name="Rectangle 63"/>
                        <p:cNvSpPr/>
                        <p:nvPr/>
                      </p:nvSpPr>
                      <p:spPr>
                        <a:xfrm>
                          <a:off x="6099480" y="1920960"/>
                          <a:ext cx="1524240" cy="27144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360" rIns="90360" tIns="44280" bIns="44280" anchor="t">
                          <a:spAutoFit/>
                        </a:bodyPr>
                        <a:p>
                          <a:pPr>
                            <a:tabLst>
                              <a:tab algn="l" pos="0"/>
                              <a:tab algn="l" pos="628560"/>
                              <a:tab algn="l" pos="125748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0</a:t>
                          </a: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	</a:t>
                          </a: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0</a:t>
                          </a: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	</a:t>
                          </a: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0</a:t>
                          </a:r>
                          <a:endParaRPr b="0" lang="en-US" sz="12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7" name="Rectangle 64"/>
                        <p:cNvSpPr/>
                        <p:nvPr/>
                      </p:nvSpPr>
                      <p:spPr>
                        <a:xfrm>
                          <a:off x="6099480" y="2090160"/>
                          <a:ext cx="1524240" cy="27144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360" rIns="90360" tIns="44280" bIns="44280" anchor="t">
                          <a:spAutoFit/>
                        </a:bodyPr>
                        <a:p>
                          <a:pPr>
                            <a:tabLst>
                              <a:tab algn="l" pos="0"/>
                              <a:tab algn="l" pos="628560"/>
                              <a:tab algn="l" pos="125748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0</a:t>
                          </a: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	</a:t>
                          </a: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0</a:t>
                          </a: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	</a:t>
                          </a: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0</a:t>
                          </a:r>
                          <a:endParaRPr b="0" lang="en-US" sz="12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8" name="Rectangle 65"/>
                        <p:cNvSpPr/>
                        <p:nvPr/>
                      </p:nvSpPr>
                      <p:spPr>
                        <a:xfrm>
                          <a:off x="6042600" y="2261880"/>
                          <a:ext cx="2067480" cy="27144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360" rIns="90360" tIns="44280" bIns="44280" anchor="t">
                          <a:spAutoFit/>
                        </a:bodyPr>
                        <a:p>
                          <a:pPr>
                            <a:tabLst>
                              <a:tab algn="l" pos="0"/>
                              <a:tab algn="l" pos="571680"/>
                              <a:tab algn="l" pos="1314360"/>
                              <a:tab algn="l" pos="171468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74</a:t>
                          </a: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	</a:t>
                          </a: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192</a:t>
                          </a: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	</a:t>
                          </a: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0</a:t>
                          </a:r>
                          <a:endParaRPr b="0" lang="en-US" sz="12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9" name="Rectangle 66"/>
                        <p:cNvSpPr/>
                        <p:nvPr/>
                      </p:nvSpPr>
                      <p:spPr>
                        <a:xfrm>
                          <a:off x="6101640" y="2431080"/>
                          <a:ext cx="1524240" cy="27144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360" rIns="90360" tIns="44280" bIns="44280" anchor="t">
                          <a:spAutoFit/>
                        </a:bodyPr>
                        <a:p>
                          <a:pPr>
                            <a:tabLst>
                              <a:tab algn="l" pos="0"/>
                              <a:tab algn="l" pos="628560"/>
                              <a:tab algn="l" pos="125748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1</a:t>
                          </a: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	</a:t>
                          </a: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1</a:t>
                          </a: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	</a:t>
                          </a: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1</a:t>
                          </a:r>
                          <a:endParaRPr b="0" lang="en-US" sz="12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330" name="Group 67"/>
                      <p:cNvGrpSpPr/>
                      <p:nvPr/>
                    </p:nvGrpSpPr>
                    <p:grpSpPr>
                      <a:xfrm>
                        <a:off x="6167520" y="1436400"/>
                        <a:ext cx="1730520" cy="218880"/>
                        <a:chOff x="6167520" y="1436400"/>
                        <a:chExt cx="1730520" cy="218880"/>
                      </a:xfrm>
                    </p:grpSpPr>
                    <p:pic>
                      <p:nvPicPr>
                        <p:cNvPr id="331" name="Picture 68" descr=""/>
                        <p:cNvPicPr/>
                        <p:nvPr/>
                      </p:nvPicPr>
                      <p:blipFill>
                        <a:blip r:embed="rId16"/>
                        <a:stretch/>
                      </p:blipFill>
                      <p:spPr>
                        <a:xfrm>
                          <a:off x="7693920" y="1436400"/>
                          <a:ext cx="204120" cy="21888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  <p:pic>
                      <p:nvPicPr>
                        <p:cNvPr id="332" name="Picture 69" descr=""/>
                        <p:cNvPicPr/>
                        <p:nvPr/>
                      </p:nvPicPr>
                      <p:blipFill>
                        <a:blip r:embed="rId17"/>
                        <a:stretch/>
                      </p:blipFill>
                      <p:spPr>
                        <a:xfrm>
                          <a:off x="6927840" y="1436400"/>
                          <a:ext cx="204120" cy="21888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  <p:pic>
                      <p:nvPicPr>
                        <p:cNvPr id="333" name="Picture 70" descr=""/>
                        <p:cNvPicPr/>
                        <p:nvPr/>
                      </p:nvPicPr>
                      <p:blipFill>
                        <a:blip r:embed="rId18"/>
                        <a:stretch/>
                      </p:blipFill>
                      <p:spPr>
                        <a:xfrm>
                          <a:off x="6167520" y="1436400"/>
                          <a:ext cx="204120" cy="21888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grpSp>
                </p:grpSp>
              </p:grpSp>
            </p:grpSp>
            <p:sp>
              <p:nvSpPr>
                <p:cNvPr id="334" name="Line 71"/>
                <p:cNvSpPr/>
                <p:nvPr/>
              </p:nvSpPr>
              <p:spPr>
                <a:xfrm>
                  <a:off x="4593960" y="4327560"/>
                  <a:ext cx="0" cy="844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35" name="Rectangle 72"/>
            <p:cNvSpPr/>
            <p:nvPr/>
          </p:nvSpPr>
          <p:spPr>
            <a:xfrm>
              <a:off x="5010840" y="3591720"/>
              <a:ext cx="3288600" cy="6775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6" name="Group 73"/>
            <p:cNvGrpSpPr/>
            <p:nvPr/>
          </p:nvGrpSpPr>
          <p:grpSpPr>
            <a:xfrm>
              <a:off x="5162760" y="3863520"/>
              <a:ext cx="2495520" cy="304920"/>
              <a:chOff x="5162760" y="3863520"/>
              <a:chExt cx="2495520" cy="304920"/>
            </a:xfrm>
          </p:grpSpPr>
          <p:sp>
            <p:nvSpPr>
              <p:cNvPr id="337" name="Rectangle 74"/>
              <p:cNvSpPr/>
              <p:nvPr/>
            </p:nvSpPr>
            <p:spPr>
              <a:xfrm>
                <a:off x="6134040" y="3863520"/>
                <a:ext cx="1524240" cy="27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628560"/>
                    <a:tab algn="l" pos="125748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669999"/>
                    </a:solidFill>
                    <a:latin typeface="Arial"/>
                    <a:ea typeface="PMingLiU"/>
                  </a:rPr>
                  <a:t>0</a:t>
                </a:r>
                <a:r>
                  <a:rPr b="1" lang="en-US" sz="1200" spc="-1" strike="noStrike">
                    <a:solidFill>
                      <a:srgbClr val="669999"/>
                    </a:solidFill>
                    <a:latin typeface="Arial"/>
                    <a:ea typeface="PMingLiU"/>
                  </a:rPr>
                  <a:t>	</a:t>
                </a:r>
                <a:r>
                  <a:rPr b="1" lang="en-US" sz="1200" spc="-1" strike="noStrike">
                    <a:solidFill>
                      <a:srgbClr val="669999"/>
                    </a:solidFill>
                    <a:latin typeface="Arial"/>
                    <a:ea typeface="PMingLiU"/>
                  </a:rPr>
                  <a:t>0</a:t>
                </a:r>
                <a:r>
                  <a:rPr b="1" lang="en-US" sz="1200" spc="-1" strike="noStrike">
                    <a:solidFill>
                      <a:srgbClr val="669999"/>
                    </a:solidFill>
                    <a:latin typeface="Arial"/>
                    <a:ea typeface="PMingLiU"/>
                  </a:rPr>
                  <a:t>	</a:t>
                </a:r>
                <a:r>
                  <a:rPr b="1" lang="en-US" sz="1200" spc="-1" strike="noStrike">
                    <a:solidFill>
                      <a:srgbClr val="669999"/>
                    </a:solidFill>
                    <a:latin typeface="Arial"/>
                    <a:ea typeface="PMingLiU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38" name="Picture 75" descr=""/>
              <p:cNvPicPr/>
              <p:nvPr/>
            </p:nvPicPr>
            <p:blipFill>
              <a:blip r:embed="rId19"/>
              <a:stretch/>
            </p:blipFill>
            <p:spPr>
              <a:xfrm>
                <a:off x="5162760" y="3949200"/>
                <a:ext cx="825120" cy="2192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39" name="Group 76"/>
            <p:cNvGrpSpPr/>
            <p:nvPr/>
          </p:nvGrpSpPr>
          <p:grpSpPr>
            <a:xfrm>
              <a:off x="5162760" y="3597840"/>
              <a:ext cx="2495520" cy="287640"/>
              <a:chOff x="5162760" y="3597840"/>
              <a:chExt cx="2495520" cy="287640"/>
            </a:xfrm>
          </p:grpSpPr>
          <p:sp>
            <p:nvSpPr>
              <p:cNvPr id="340" name="Rectangle 77"/>
              <p:cNvSpPr/>
              <p:nvPr/>
            </p:nvSpPr>
            <p:spPr>
              <a:xfrm>
                <a:off x="6134040" y="3597840"/>
                <a:ext cx="1524240" cy="27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628560"/>
                    <a:tab algn="l" pos="125748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669999"/>
                    </a:solidFill>
                    <a:latin typeface="Arial"/>
                    <a:ea typeface="PMingLiU"/>
                  </a:rPr>
                  <a:t>0</a:t>
                </a:r>
                <a:r>
                  <a:rPr b="1" lang="en-US" sz="1200" spc="-1" strike="noStrike">
                    <a:solidFill>
                      <a:srgbClr val="669999"/>
                    </a:solidFill>
                    <a:latin typeface="Arial"/>
                    <a:ea typeface="PMingLiU"/>
                  </a:rPr>
                  <a:t>	</a:t>
                </a:r>
                <a:r>
                  <a:rPr b="1" lang="en-US" sz="1200" spc="-1" strike="noStrike">
                    <a:solidFill>
                      <a:srgbClr val="669999"/>
                    </a:solidFill>
                    <a:latin typeface="Arial"/>
                    <a:ea typeface="PMingLiU"/>
                  </a:rPr>
                  <a:t>0</a:t>
                </a:r>
                <a:r>
                  <a:rPr b="1" lang="en-US" sz="1200" spc="-1" strike="noStrike">
                    <a:solidFill>
                      <a:srgbClr val="669999"/>
                    </a:solidFill>
                    <a:latin typeface="Arial"/>
                    <a:ea typeface="PMingLiU"/>
                  </a:rPr>
                  <a:t>	</a:t>
                </a:r>
                <a:r>
                  <a:rPr b="1" lang="en-US" sz="1200" spc="-1" strike="noStrike">
                    <a:solidFill>
                      <a:srgbClr val="669999"/>
                    </a:solidFill>
                    <a:latin typeface="Arial"/>
                    <a:ea typeface="PMingLiU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41" name="Picture 78" descr=""/>
              <p:cNvPicPr/>
              <p:nvPr/>
            </p:nvPicPr>
            <p:blipFill>
              <a:blip r:embed="rId20"/>
              <a:stretch/>
            </p:blipFill>
            <p:spPr>
              <a:xfrm>
                <a:off x="5162760" y="3666240"/>
                <a:ext cx="599040" cy="2192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transition spd="med"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7-25T18:39:00Z</dcterms:created>
  <dc:creator>Susan Meade</dc:creator>
  <dc:description>Formatting cleaned up for WW distribution  [SVM]</dc:description>
  <dc:language>en-US</dc:language>
  <cp:lastModifiedBy>IRAGENA, Jean de Dieu</cp:lastModifiedBy>
  <cp:lastPrinted>2001-02-05T14:45:01Z</cp:lastPrinted>
  <dcterms:modified xsi:type="dcterms:W3CDTF">2012-10-24T21:59:09Z</dcterms:modified>
  <cp:revision>427</cp:revision>
  <dc:subject>Growth and Detection: Marketing Overview and DATA</dc:subject>
  <dc:title>BACTEC® MGIT 960 System</dc:title>
</cp:coreProperties>
</file>