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18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6905D68-40FD-465C-8334-E16DE720C47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075D49B-5A12-4E0D-9207-A8364338707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A8DF668-42A0-47CB-A2C7-D147C000A3E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18D6-8FE9-4932-BFCC-30D1D00C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62A3-EB04-46F2-AAAA-A3BF1111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C625-C566-4A5E-B4AD-529D54F45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7D2E-BF15-482F-9AF6-BDB4A917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B813-E68F-47A3-9FF0-0B8161AA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67AD-82DE-4A9A-85F1-F04FE2D3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EED3-B288-463E-AD9E-F52E5CFA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E9E6-2023-463C-B2FA-45BC96E7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BD9C-5575-4B98-8A4C-C733AA4D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2973-D473-4F2B-BE3B-BB278BA9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1333-D616-4925-9291-FE1FF36D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5C6E-74D5-48A2-91AD-D61945EB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D0A7-95F9-406C-A782-48F778E5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2FAA-D049-4B5F-BE27-46597D64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0186-6406-4897-87D1-33670D91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B7A3-58DC-4D7F-BE18-3B73E436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EF25-4E0D-4E01-BD39-6D9CF702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78FE-863C-46EF-A4F1-5B9F51EE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E427-A9D3-458D-B955-CE499663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D054-D24F-4C04-B55A-4D6854DA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C5FB-9C44-4167-839A-ADBCBD6F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7F67-0760-46EE-8973-B033EFFA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B801-45E1-4258-BCDD-8A2BD06F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9162-8F6E-4CEB-8F1D-3957AD85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2CDB-0C5E-489C-B425-0564482DCD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3625-B71B-42FE-B40D-A72E272195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ksheets and labelling for BACTEC™ MGIT™ 960 drug susceptibility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6"/>
          <p:cNvGrpSpPr/>
          <p:nvPr/>
        </p:nvGrpSpPr>
        <p:grpSpPr>
          <a:xfrm>
            <a:off x="0" y="5443560"/>
            <a:ext cx="8512200" cy="1338120"/>
            <a:chOff x="0" y="5443560"/>
            <a:chExt cx="8512200" cy="1338120"/>
          </a:xfrm>
        </p:grpSpPr>
        <p:sp>
          <p:nvSpPr>
            <p:cNvPr id="100" name="Text Box 7"/>
            <p:cNvSpPr/>
            <p:nvPr/>
          </p:nvSpPr>
          <p:spPr>
            <a:xfrm>
              <a:off x="1949400" y="6189840"/>
              <a:ext cx="6562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a15d70"/>
                  </a:solidFill>
                  <a:latin typeface="Arial"/>
                </a:rPr>
                <a:t>Content adapted from standardized Becton Dickinson, WHO, GLI, CDC and NHLS Training Materials for use by the African Centre for Integrated Laboratory Training, 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443560"/>
              <a:ext cx="1981080" cy="1338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AE58-02F8-430E-9747-0F90B7D940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755640" y="1536840"/>
            <a:ext cx="7202520" cy="4000320"/>
          </a:xfrm>
          <a:prstGeom prst="rect">
            <a:avLst/>
          </a:prstGeom>
          <a:ln w="0">
            <a:noFill/>
          </a:ln>
        </p:spPr>
      </p:pic>
      <p:sp>
        <p:nvSpPr>
          <p:cNvPr id="190" name="Oval 9"/>
          <p:cNvSpPr/>
          <p:nvPr/>
        </p:nvSpPr>
        <p:spPr>
          <a:xfrm>
            <a:off x="5105520" y="3556080"/>
            <a:ext cx="1130040" cy="124452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4088160" y="4881600"/>
            <a:ext cx="1387080" cy="3909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 in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7"/>
          <p:cNvCxnSpPr/>
          <p:nvPr/>
        </p:nvCxnSpPr>
        <p:spPr>
          <a:xfrm flipV="1">
            <a:off x="4685400" y="4469760"/>
            <a:ext cx="178200" cy="369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FB39-21E8-41D4-9B0C-6A029458B7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96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98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9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00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1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2"/>
          <p:cNvSpPr/>
          <p:nvPr/>
        </p:nvSpPr>
        <p:spPr>
          <a:xfrm>
            <a:off x="6413400" y="3708360"/>
            <a:ext cx="20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Will a 1:5 dilution need to be made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3"/>
          <p:cNvSpPr/>
          <p:nvPr/>
        </p:nvSpPr>
        <p:spPr>
          <a:xfrm>
            <a:off x="6311880" y="4788000"/>
            <a:ext cx="210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the seed tube is 1 - 2 days old, no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seed tube is 3 - 5 days old, 1:5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25"/>
          <p:cNvCxnSpPr>
            <a:stCxn id="215" idx="1"/>
          </p:cNvCxnSpPr>
          <p:nvPr/>
        </p:nvCxnSpPr>
        <p:spPr>
          <a:xfrm flipH="1" flipV="1">
            <a:off x="4736880" y="3644640"/>
            <a:ext cx="1676880" cy="294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B21E-6233-4CA9-A085-9E6B26D097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21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23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24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25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6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2"/>
          <p:cNvSpPr/>
          <p:nvPr/>
        </p:nvSpPr>
        <p:spPr>
          <a:xfrm>
            <a:off x="4521240" y="3530520"/>
            <a:ext cx="35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3"/>
          <p:cNvSpPr/>
          <p:nvPr/>
        </p:nvSpPr>
        <p:spPr>
          <a:xfrm>
            <a:off x="4533840" y="3720960"/>
            <a:ext cx="33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4"/>
          <p:cNvSpPr/>
          <p:nvPr/>
        </p:nvSpPr>
        <p:spPr>
          <a:xfrm>
            <a:off x="6324480" y="3594240"/>
            <a:ext cx="212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If  a PZA drug set is inoculated, a 1:10 dilution is needed to inoculate the PZA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Straight Arrow Connector 26"/>
          <p:cNvCxnSpPr/>
          <p:nvPr/>
        </p:nvCxnSpPr>
        <p:spPr>
          <a:xfrm flipH="1" flipV="1">
            <a:off x="5104800" y="3657240"/>
            <a:ext cx="1168920" cy="534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44" name="TextBox 27"/>
          <p:cNvSpPr/>
          <p:nvPr/>
        </p:nvSpPr>
        <p:spPr>
          <a:xfrm>
            <a:off x="3784680" y="25401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Look here to see if PZA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29"/>
          <p:cNvCxnSpPr>
            <a:stCxn id="244" idx="1"/>
          </p:cNvCxnSpPr>
          <p:nvPr/>
        </p:nvCxnSpPr>
        <p:spPr>
          <a:xfrm flipH="1">
            <a:off x="3782160" y="2676960"/>
            <a:ext cx="2520" cy="3056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DAF3-DC97-4553-BE84-7E087FA4C7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49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0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51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52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53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4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2"/>
          <p:cNvSpPr/>
          <p:nvPr/>
        </p:nvSpPr>
        <p:spPr>
          <a:xfrm>
            <a:off x="4559400" y="3556080"/>
            <a:ext cx="27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3"/>
          <p:cNvSpPr/>
          <p:nvPr/>
        </p:nvSpPr>
        <p:spPr>
          <a:xfrm>
            <a:off x="4572000" y="374652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4"/>
          <p:cNvSpPr/>
          <p:nvPr/>
        </p:nvSpPr>
        <p:spPr>
          <a:xfrm>
            <a:off x="4965840" y="335268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5"/>
          <p:cNvSpPr/>
          <p:nvPr/>
        </p:nvSpPr>
        <p:spPr>
          <a:xfrm>
            <a:off x="4965840" y="370836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6"/>
          <p:cNvSpPr/>
          <p:nvPr/>
        </p:nvSpPr>
        <p:spPr>
          <a:xfrm>
            <a:off x="7061040" y="3581280"/>
            <a:ext cx="18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7"/>
          <p:cNvSpPr/>
          <p:nvPr/>
        </p:nvSpPr>
        <p:spPr>
          <a:xfrm>
            <a:off x="4978440" y="355608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set-up and labell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hecklist to gather suppl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09480" y="1447920"/>
          <a:ext cx="7543800" cy="4635360"/>
        </p:xfrm>
        <a:graphic>
          <a:graphicData uri="http://schemas.openxmlformats.org/drawingml/2006/table">
            <a:tbl>
              <a:tblPr/>
              <a:tblGrid>
                <a:gridCol w="1052640"/>
                <a:gridCol w="5438880"/>
                <a:gridCol w="1052280"/>
              </a:tblGrid>
              <a:tr h="3898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heck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elling and set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she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code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ured dot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arriers (5 and 2 tub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Transport r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manent marker fine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ine blanks (9.9 ml, 4.5 ml and 4.0 m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od agar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H10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ZA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5639-E388-4595-9A45-DB8E1620D3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initions for set-up and lab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Content Placeholder 7" descr="DSCN0714.jpg"/>
          <p:cNvPicPr/>
          <p:nvPr/>
        </p:nvPicPr>
        <p:blipFill>
          <a:blip r:embed="rId1"/>
          <a:srcRect l="0" t="0" r="3467" b="34659"/>
          <a:stretch/>
        </p:blipFill>
        <p:spPr>
          <a:xfrm>
            <a:off x="609480" y="1419120"/>
            <a:ext cx="3137040" cy="1592280"/>
          </a:xfrm>
          <a:prstGeom prst="rect">
            <a:avLst/>
          </a:prstGeom>
          <a:ln w="0">
            <a:noFill/>
          </a:ln>
        </p:spPr>
      </p:pic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9F68-EB38-48E3-9988-3A039ABCE8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DSCN0718.jpg"/>
          <p:cNvPicPr/>
          <p:nvPr/>
        </p:nvPicPr>
        <p:blipFill>
          <a:blip r:embed="rId2"/>
          <a:srcRect l="1394" t="17522" r="13489" b="32869"/>
          <a:stretch/>
        </p:blipFill>
        <p:spPr>
          <a:xfrm>
            <a:off x="5423040" y="2387520"/>
            <a:ext cx="3079440" cy="1346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DSCN0720.jpg"/>
          <p:cNvPicPr/>
          <p:nvPr/>
        </p:nvPicPr>
        <p:blipFill>
          <a:blip r:embed="rId3"/>
          <a:srcRect l="5095" t="9410" r="63534" b="30002"/>
          <a:stretch/>
        </p:blipFill>
        <p:spPr>
          <a:xfrm>
            <a:off x="685800" y="3138480"/>
            <a:ext cx="1041480" cy="2681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DSCN0722.jpg"/>
          <p:cNvPicPr/>
          <p:nvPr/>
        </p:nvPicPr>
        <p:blipFill>
          <a:blip r:embed="rId4"/>
          <a:srcRect l="0" t="22671" r="3002" b="30676"/>
          <a:stretch/>
        </p:blipFill>
        <p:spPr>
          <a:xfrm>
            <a:off x="4533840" y="4343400"/>
            <a:ext cx="4048200" cy="14605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1"/>
          <p:cNvSpPr/>
          <p:nvPr/>
        </p:nvSpPr>
        <p:spPr>
          <a:xfrm>
            <a:off x="3695760" y="1765440"/>
            <a:ext cx="41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2"/>
          <p:cNvSpPr/>
          <p:nvPr/>
        </p:nvSpPr>
        <p:spPr>
          <a:xfrm>
            <a:off x="1892160" y="326376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1739880" y="428004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code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4"/>
          <p:cNvSpPr/>
          <p:nvPr/>
        </p:nvSpPr>
        <p:spPr>
          <a:xfrm>
            <a:off x="1854360" y="511812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set-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DST log sheet to determine which sets (SIRE and/or PZA) to inoc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the needed DST carriers on the transport r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 and PZA tubes in the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testing requires the use of PZA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Content Placeholder 5" descr="DSCN0740.jpg"/>
          <p:cNvPicPr/>
          <p:nvPr/>
        </p:nvPicPr>
        <p:blipFill>
          <a:blip r:embed="rId1"/>
          <a:srcRect l="0" t="14797" r="0" b="18814"/>
          <a:stretch/>
        </p:blipFill>
        <p:spPr>
          <a:xfrm>
            <a:off x="5054760" y="1587600"/>
            <a:ext cx="3060720" cy="152388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3C07-D0F6-4C35-B150-204A040439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DSCN0742.jpg"/>
          <p:cNvPicPr/>
          <p:nvPr/>
        </p:nvPicPr>
        <p:blipFill>
          <a:blip r:embed="rId2"/>
          <a:srcRect l="0" t="22261" r="0" b="0"/>
          <a:stretch/>
        </p:blipFill>
        <p:spPr>
          <a:xfrm>
            <a:off x="4952880" y="3479760"/>
            <a:ext cx="359424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ell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ST set is given 1 barcode lab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bel is placed vertically on the Growth Control (GC)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6657-E26F-4343-84C8-55495D476A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DSCN0720.jpg"/>
          <p:cNvPicPr/>
          <p:nvPr/>
        </p:nvPicPr>
        <p:blipFill>
          <a:blip r:embed="rId1"/>
          <a:stretch/>
        </p:blipFill>
        <p:spPr>
          <a:xfrm>
            <a:off x="4660920" y="2946240"/>
            <a:ext cx="2238480" cy="2984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decod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Content Placeholder 4" descr="dot definitions.jpg"/>
          <p:cNvPicPr/>
          <p:nvPr/>
        </p:nvPicPr>
        <p:blipFill>
          <a:blip r:embed="rId1"/>
          <a:stretch/>
        </p:blipFill>
        <p:spPr>
          <a:xfrm>
            <a:off x="4368960" y="523800"/>
            <a:ext cx="3603600" cy="571176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FB8E-6B43-4C15-BB07-BA18023B27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9B0C-C0C6-445E-88AD-B5452F94FC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ST work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 the age of a MGIT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what dilutions need to be prep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rcode and Dot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lab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9440" y="17049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specimen ID number on each growth control dot label (yel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first initial of each drug and set serial number on the appropriate coloured d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serial number is found in the far left column of the MTB MGIT DST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ots to the tops of the MGIT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Content Placeholder 8" descr="DSCN0726.jpg"/>
          <p:cNvPicPr/>
          <p:nvPr/>
        </p:nvPicPr>
        <p:blipFill>
          <a:blip r:embed="rId1"/>
          <a:srcRect l="43441" t="0" r="0" b="487"/>
          <a:stretch/>
        </p:blipFill>
        <p:spPr>
          <a:xfrm>
            <a:off x="5956200" y="1352520"/>
            <a:ext cx="2286000" cy="3016440"/>
          </a:xfrm>
          <a:prstGeom prst="rect">
            <a:avLst/>
          </a:prstGeom>
          <a:ln w="0">
            <a:noFill/>
          </a:ln>
        </p:spPr>
      </p:pic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EEDC-9604-4874-9A1C-E05706DF2D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5" descr="DSCN0729.jpg"/>
          <p:cNvPicPr/>
          <p:nvPr/>
        </p:nvPicPr>
        <p:blipFill>
          <a:blip r:embed="rId2"/>
          <a:stretch/>
        </p:blipFill>
        <p:spPr>
          <a:xfrm>
            <a:off x="4521240" y="3892680"/>
            <a:ext cx="302256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SIRE DST sets will need a 9.9 ml saline blank (1:10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ZA DST sets will need a 4.5 ml saline blank (1:1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seed tubes that are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days old will need a 4.0 saline blank (1:5 dilution) (check workshe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86BF-AF94-482F-A1B2-2E609096B5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DSCN0731.jpg"/>
          <p:cNvPicPr/>
          <p:nvPr/>
        </p:nvPicPr>
        <p:blipFill>
          <a:blip r:embed="rId1"/>
          <a:srcRect l="17506" t="-902" r="10565" b="0"/>
          <a:stretch/>
        </p:blipFill>
        <p:spPr>
          <a:xfrm>
            <a:off x="5803920" y="1092240"/>
            <a:ext cx="2679840" cy="28195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DSCN0736.jpg"/>
          <p:cNvPicPr/>
          <p:nvPr/>
        </p:nvPicPr>
        <p:blipFill>
          <a:blip r:embed="rId2"/>
          <a:srcRect l="16993" t="11654" r="-1950" b="9919"/>
          <a:stretch/>
        </p:blipFill>
        <p:spPr>
          <a:xfrm>
            <a:off x="4584600" y="3681360"/>
            <a:ext cx="3340080" cy="231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09480" y="1599840"/>
            <a:ext cx="281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saline blank or dilution tube with the Specimen ID number and the dilu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in a rack as shown in th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the front row empty for the seed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A8EF-9F05-43F9-BFE0-8E0EF69588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Content Placeholder 6" descr="dilution diagram.jpg"/>
          <p:cNvPicPr/>
          <p:nvPr/>
        </p:nvPicPr>
        <p:blipFill>
          <a:blip r:embed="rId1"/>
          <a:stretch/>
        </p:blipFill>
        <p:spPr>
          <a:xfrm>
            <a:off x="4432320" y="1746360"/>
            <a:ext cx="4049640" cy="20257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7"/>
          <p:cNvSpPr/>
          <p:nvPr/>
        </p:nvSpPr>
        <p:spPr>
          <a:xfrm>
            <a:off x="3251160" y="3936960"/>
            <a:ext cx="1917720" cy="824040"/>
          </a:xfrm>
          <a:prstGeom prst="rect">
            <a:avLst/>
          </a:prstGeom>
          <a:noFill/>
          <a:ln w="38160">
            <a:solidFill>
              <a:srgbClr val="304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0 ml saline blank is used to prepare the 1:5 dilution needed if the MGIT seed tube is 3-5 days ol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***This tube is not needed if the MGIT seed tube is 1-2 days o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Straight Arrow Connector 9"/>
          <p:cNvCxnSpPr/>
          <p:nvPr/>
        </p:nvCxnSpPr>
        <p:spPr>
          <a:xfrm flipV="1">
            <a:off x="4102200" y="3301560"/>
            <a:ext cx="660600" cy="635760"/>
          </a:xfrm>
          <a:prstGeom prst="straightConnector1">
            <a:avLst/>
          </a:prstGeom>
          <a:ln w="38160">
            <a:solidFill>
              <a:srgbClr val="3044b5"/>
            </a:solidFill>
            <a:miter/>
            <a:tailEnd len="med" type="arrow" w="med"/>
          </a:ln>
        </p:spPr>
      </p:cxnSp>
      <p:sp>
        <p:nvSpPr>
          <p:cNvPr id="317" name="TextBox 10"/>
          <p:cNvSpPr/>
          <p:nvPr/>
        </p:nvSpPr>
        <p:spPr>
          <a:xfrm>
            <a:off x="4216320" y="4902120"/>
            <a:ext cx="2146320" cy="61128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5 ml saline blank is needed to prepare the 1:10 diluti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ll be used to inoculate the PZA growth control (GC) tu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Straight Arrow Connector 12"/>
          <p:cNvCxnSpPr/>
          <p:nvPr/>
        </p:nvCxnSpPr>
        <p:spPr>
          <a:xfrm flipH="1" flipV="1">
            <a:off x="4978080" y="2577600"/>
            <a:ext cx="699120" cy="23378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19" name="TextBox 15"/>
          <p:cNvSpPr/>
          <p:nvPr/>
        </p:nvSpPr>
        <p:spPr>
          <a:xfrm>
            <a:off x="5816520" y="3962520"/>
            <a:ext cx="2197080" cy="7030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9.9 ml saline blank is needed to prepare the 1:100 dilution that will be used to inoculate the SIRE growth control (GC)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7"/>
          <p:cNvCxnSpPr/>
          <p:nvPr/>
        </p:nvCxnSpPr>
        <p:spPr>
          <a:xfrm flipH="1" flipV="1">
            <a:off x="5016240" y="2133360"/>
            <a:ext cx="1257840" cy="1816560"/>
          </a:xfrm>
          <a:prstGeom prst="straightConnector1">
            <a:avLst/>
          </a:prstGeom>
          <a:ln w="38160">
            <a:solidFill>
              <a:srgbClr val="ff00ff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2D19-9704-4768-952F-9272B35CC9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34680" y="1612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formation on the Unloaded Positives Report to fill out the DST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/PZA tubes in carriers in the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the appropriate barcode label on each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drug tube and GC tube with the correct dot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and place the necessary saline blanks in a rack; refer to the DST worksheet to determine which dilutions ar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CDF1-0DB7-4929-8B19-F2DE6C6E8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D06E-FA24-4587-9058-C67B761B18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D522-33EF-4771-B341-AB024A390A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1085760" y="1436760"/>
            <a:ext cx="6115320" cy="46926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6581880" y="1576440"/>
            <a:ext cx="223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Enter the date inoculated and init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Straight Arrow Connector 7"/>
          <p:cNvCxnSpPr>
            <a:stCxn id="115" idx="1"/>
          </p:cNvCxnSpPr>
          <p:nvPr/>
        </p:nvCxnSpPr>
        <p:spPr>
          <a:xfrm flipH="1" flipV="1">
            <a:off x="6152400" y="1675800"/>
            <a:ext cx="429480" cy="1004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061F-8451-4391-AA0D-5291A9064E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5529240" y="1457280"/>
            <a:ext cx="10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406440" y="3678120"/>
            <a:ext cx="98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List laboratory serial numbers for D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7"/>
          <p:cNvCxnSpPr/>
          <p:nvPr/>
        </p:nvCxnSpPr>
        <p:spPr>
          <a:xfrm flipV="1">
            <a:off x="1042920" y="3642840"/>
            <a:ext cx="629280" cy="2008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5" name="Straight Arrow Connector 9"/>
          <p:cNvCxnSpPr/>
          <p:nvPr/>
        </p:nvCxnSpPr>
        <p:spPr>
          <a:xfrm flipV="1">
            <a:off x="1042560" y="3857040"/>
            <a:ext cx="615240" cy="3150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74DC-A2B9-49AD-9709-124F5305ED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Picture 7" descr=""/>
          <p:cNvPicPr/>
          <p:nvPr/>
        </p:nvPicPr>
        <p:blipFill>
          <a:blip r:embed="rId3"/>
          <a:stretch/>
        </p:blipFill>
        <p:spPr>
          <a:xfrm>
            <a:off x="1071720" y="1407960"/>
            <a:ext cx="6114960" cy="46929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6200" y="3532320"/>
            <a:ext cx="115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533600" y="3728880"/>
            <a:ext cx="100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414360" y="3943440"/>
            <a:ext cx="10429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Additional information – TB register no., referred from another laborator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 flipV="1">
            <a:off x="1269720" y="3696480"/>
            <a:ext cx="1033920" cy="90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F0E2-067D-4108-BDCF-871A1DB1CB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551600" y="35640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539000" y="37227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 flipV="1" rot="10800000">
            <a:off x="6172200" y="3700800"/>
            <a:ext cx="211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Indicate what type of media the seed inoculum is growing on, usually MGIT or L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11"/>
          <p:cNvCxnSpPr>
            <a:stCxn id="146" idx="3"/>
          </p:cNvCxnSpPr>
          <p:nvPr/>
        </p:nvCxnSpPr>
        <p:spPr>
          <a:xfrm flipH="1" flipV="1">
            <a:off x="3228480" y="3571560"/>
            <a:ext cx="2944080" cy="546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7C6B-3C6E-484E-8304-72D6F660B8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5498640" y="1506600"/>
            <a:ext cx="6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577160" y="35514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564560" y="37353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2771640" y="3586320"/>
            <a:ext cx="57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2767680" y="339264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2781720" y="376380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6386400" y="3743280"/>
            <a:ext cx="13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Tick test(s) to be inoc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Straight Arrow Connector 15"/>
          <p:cNvCxnSpPr/>
          <p:nvPr/>
        </p:nvCxnSpPr>
        <p:spPr>
          <a:xfrm flipH="1" flipV="1">
            <a:off x="3499560" y="3485520"/>
            <a:ext cx="2915640" cy="10580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63" name="Straight Arrow Connector 16"/>
          <p:cNvCxnSpPr>
            <a:stCxn id="161" idx="1"/>
          </p:cNvCxnSpPr>
          <p:nvPr/>
        </p:nvCxnSpPr>
        <p:spPr>
          <a:xfrm flipH="1" flipV="1">
            <a:off x="3857760" y="3466440"/>
            <a:ext cx="2529000" cy="8722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0FE7-5624-4754-98D5-4E8685FA1A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67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70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71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2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TextBox 24"/>
          <p:cNvSpPr/>
          <p:nvPr/>
        </p:nvSpPr>
        <p:spPr>
          <a:xfrm>
            <a:off x="6286680" y="3606840"/>
            <a:ext cx="2234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Record age of MGIT seed tubes. Use the Unloaded Positives Report to determine the age of each MGIT and write it in the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5"/>
          <p:cNvSpPr/>
          <p:nvPr/>
        </p:nvSpPr>
        <p:spPr>
          <a:xfrm>
            <a:off x="5867280" y="5448240"/>
            <a:ext cx="2146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Arial"/>
              </a:rPr>
              <a:t>***Remember that the day the MGIT instrument indicated that it is positive is day 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27"/>
          <p:cNvCxnSpPr/>
          <p:nvPr/>
        </p:nvCxnSpPr>
        <p:spPr>
          <a:xfrm flipH="1" flipV="1">
            <a:off x="4355280" y="3682800"/>
            <a:ext cx="2019960" cy="11563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Philip</cp:lastModifiedBy>
  <cp:lastPrinted>2001-02-05T14:45:01Z</cp:lastPrinted>
  <dcterms:modified xsi:type="dcterms:W3CDTF">2012-01-26T09:48:23Z</dcterms:modified>
  <cp:revision>475</cp:revision>
  <dc:subject>Growth and Detection: Marketing Overview and DATA</dc:subject>
  <dc:title>BACTEC® MGIT 960 System</dc:title>
</cp:coreProperties>
</file>