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20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5DC8-9C2E-4640-A53C-252AA007D9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2EE4-C675-4DE5-AE0F-B92A50CF3B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7641-2E48-492E-B85E-2858518F17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Place absorbent paper towelling on the work surface to minimize the potential of exposure to infectious material or cross contamination in case of a s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cking the grill disrupts the integrity of the cabinet air barrier and  can compromise both staff and product prot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ing clean materials at least 12 cm away from aerosol-generating activities will minimise the potential for cross-conta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A7A-D442-4FF4-BB80-C4E6BEE4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4AE-5E85-443B-BA48-88E4CD9F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0A0-C9B5-4246-B0AE-3FD01D4A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F27-E9D9-4133-AFBC-7D58F164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7BFD-FE56-4E4C-B538-0453BAFB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3466-ABD3-404D-B220-569704BB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0AF0-4A10-41D1-87FB-83BE4E94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74BE-F129-4C08-A762-3D7F7844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084B-D5C7-4C16-B539-AECB4604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AF31-C0F4-406A-9341-FE31BA7F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4D1F-4C17-40EC-9739-DFD665DD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470-CFE7-444E-8084-C6A45D34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61B1-7CA4-4B75-A0B1-8325F9A3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149A-F5A5-4E35-86FD-5E88DAEF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3B7F-8F98-4A71-81FB-8D4936D8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4C7F-568C-4018-8F53-D627D6EE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B85F-E110-45F3-AF84-31177EAC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D29-121B-4256-974B-0190D631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9014-F32D-4510-ACA4-54842FC8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D56-77F6-4A02-A7A1-CCC07F33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3D9-7D7D-4B72-9F25-FEE1B6EC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D7F-28FA-484C-87D5-9EB619ED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347B-FE4F-4110-860B-41702AA4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6B2-9EAC-4037-89FD-C02025D1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C384-1DB4-46F0-8F0D-564EA88319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0621-940B-4F99-953F-C92CC5E1C0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pecimen prepar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20" y="282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cultur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914560" y="1413000"/>
            <a:ext cx="5473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 1.5 ml screw-cap conical tubes (not the caps) for each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ortex liquid culture tube to homogenize sample for 1 minute. Let tube stand for 10 minutes before opening to allow aerosol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1 ml of liqui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lture into 1.5 ml conical tubes; change transfer pipettes betwee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biohazardsign"/>
          <p:cNvPicPr/>
          <p:nvPr/>
        </p:nvPicPr>
        <p:blipFill>
          <a:blip r:embed="rId1"/>
          <a:stretch/>
        </p:blipFill>
        <p:spPr>
          <a:xfrm>
            <a:off x="7596360" y="26028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9" name="Picture 10" descr="LogoColour"/>
          <p:cNvPicPr/>
          <p:nvPr/>
        </p:nvPicPr>
        <p:blipFill>
          <a:blip r:embed="rId2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1222200" cy="31892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extrac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DNA in BSL3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n a dry oven at 80 °C for 1 hour or incubate for 15min at 95°C in a water b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amples to BSL2 lab for DNA extraction and remainder of LP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extraction: Option 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465200"/>
            <a:ext cx="79200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llet bacteria by centrifuging specimen for 15 min at 10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-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 the BSL3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rk the top side of the tubes as they are placed in the rotor. Pellet is located on the bottom of the tube, opposite to mark on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t the vials stand in the rack for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min to avoid aerosol generation when opening tubes under a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refully aspirate the supernatant (without removing the pellet) with a 1 ml pipette with filtered tips; change tips between sampl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0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µ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ysis buffer (A-Lys) to pellet using a 20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pipette with filtered tips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tubes until pellet is completely resuspen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60" y="785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iohazardsign"/>
          <p:cNvPicPr/>
          <p:nvPr/>
        </p:nvPicPr>
        <p:blipFill>
          <a:blip r:embed="rId1"/>
          <a:stretch/>
        </p:blipFill>
        <p:spPr>
          <a:xfrm>
            <a:off x="752472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" name="Picture 16" descr="LogoColour"/>
          <p:cNvPicPr/>
          <p:nvPr/>
        </p:nvPicPr>
        <p:blipFill>
          <a:blip r:embed="rId2"/>
          <a:stretch/>
        </p:blipFill>
        <p:spPr>
          <a:xfrm>
            <a:off x="7792920" y="6248520"/>
            <a:ext cx="1008360" cy="506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5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pieren 6"/>
          <p:cNvGrpSpPr/>
          <p:nvPr/>
        </p:nvGrpSpPr>
        <p:grpSpPr>
          <a:xfrm>
            <a:off x="1671480" y="4444920"/>
            <a:ext cx="3811320" cy="1722960"/>
            <a:chOff x="1671480" y="4444920"/>
            <a:chExt cx="3811320" cy="1722960"/>
          </a:xfrm>
        </p:grpSpPr>
        <p:pic>
          <p:nvPicPr>
            <p:cNvPr id="185" name="Grafik 4" descr="Ein Bild, das Tisch, klein, weiß, sitzend enthält.&#10;&#10;Automatisch generierte Beschreibung"/>
            <p:cNvPicPr/>
            <p:nvPr/>
          </p:nvPicPr>
          <p:blipFill>
            <a:blip r:embed="rId7"/>
            <a:srcRect l="0" t="0" r="0" b="15521"/>
            <a:stretch/>
          </p:blipFill>
          <p:spPr>
            <a:xfrm>
              <a:off x="1671480" y="4444920"/>
              <a:ext cx="2443320" cy="17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uppieren 5"/>
            <p:cNvGrpSpPr/>
            <p:nvPr/>
          </p:nvGrpSpPr>
          <p:grpSpPr>
            <a:xfrm>
              <a:off x="3971160" y="5331240"/>
              <a:ext cx="1511640" cy="836640"/>
              <a:chOff x="3971160" y="5331240"/>
              <a:chExt cx="1511640" cy="836640"/>
            </a:xfrm>
          </p:grpSpPr>
          <p:sp>
            <p:nvSpPr>
              <p:cNvPr id="187" name="Text Box 10"/>
              <p:cNvSpPr/>
              <p:nvPr/>
            </p:nvSpPr>
            <p:spPr>
              <a:xfrm>
                <a:off x="4284360" y="58608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ll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1"/>
              <p:cNvSpPr/>
              <p:nvPr/>
            </p:nvSpPr>
            <p:spPr>
              <a:xfrm>
                <a:off x="4284000" y="5331240"/>
                <a:ext cx="119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pernata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2"/>
              <p:cNvSpPr/>
              <p:nvPr/>
            </p:nvSpPr>
            <p:spPr>
              <a:xfrm flipH="1" flipV="1">
                <a:off x="3971160" y="5343480"/>
                <a:ext cx="287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9"/>
              <p:cNvSpPr/>
              <p:nvPr/>
            </p:nvSpPr>
            <p:spPr>
              <a:xfrm>
                <a:off x="4087080" y="5946480"/>
                <a:ext cx="21564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81080" y="1499760"/>
            <a:ext cx="66247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ipe tubes with disinfectant before removing them from the BS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Incubate tubes in a heat block or water bath at 95 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 for 5 min to kill MTBC and disrupt cell 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Always check temperature before incubation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ater bath temperature is more accurate than temperature in heat block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Heat block diminishes the chance of contamination from the wa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Discard water after each u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lean water bath with 1.5% freshly prepared bleach (20 min) followed by 70% alcoh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MTB in drops inside vial caps may remain viabl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Use of a small oven may be the best and safest solution (80 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Arial"/>
              </a:rPr>
              <a:t>°C for 1h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If heat-kill was properly carried out, specimen is considered non-infectious after this 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40000" y="34401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biohazardsign"/>
          <p:cNvPicPr/>
          <p:nvPr/>
        </p:nvPicPr>
        <p:blipFill>
          <a:blip r:embed="rId1"/>
          <a:stretch/>
        </p:blipFill>
        <p:spPr>
          <a:xfrm>
            <a:off x="7451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6" name="Picture 13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99" name="Grafik 2" descr="Ein Bild, das Tisch, Anzeige, Telefon enthält.&#10;&#10;Automatisch generierte Beschreibung"/>
          <p:cNvPicPr/>
          <p:nvPr/>
        </p:nvPicPr>
        <p:blipFill>
          <a:blip r:embed="rId5"/>
          <a:srcRect l="0" t="16495" r="0" b="14154"/>
          <a:stretch/>
        </p:blipFill>
        <p:spPr>
          <a:xfrm>
            <a:off x="468360" y="1503360"/>
            <a:ext cx="1481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015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riefly spin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100 µl Neutralization Buffer (A-NB) and vortex sample for 5 se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pin down for 5 min at full speed in a table top centrifu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table top centrifuge with an aerosol-tight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ransfer supernatant containing DNA to new 1.5 ml screw-cap vials using a 1 ml pipette with filtered tips; change tip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stir up pellet – cell debris to dis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reeze leftover specimens at -20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pecimens may be kept at 4 °C for 24 - 48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NA ready for addition to master mi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5"/>
          <p:cNvSpPr/>
          <p:nvPr/>
        </p:nvSpPr>
        <p:spPr>
          <a:xfrm>
            <a:off x="4646520" y="4813200"/>
            <a:ext cx="2232000" cy="763560"/>
          </a:xfrm>
          <a:prstGeom prst="rect">
            <a:avLst/>
          </a:prstGeom>
          <a:solidFill>
            <a:srgbClr val="d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Always use screw-cap, not flip-cap, vials in order to avoid 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06" name="Grafik 2" descr="Ein Bild, das Tisch, klein, Mann, blau enthält.&#10;&#10;Automatisch generierte Beschreibung"/>
          <p:cNvPicPr/>
          <p:nvPr/>
        </p:nvPicPr>
        <p:blipFill>
          <a:blip r:embed="rId4"/>
          <a:srcRect l="0" t="0" r="0" b="13783"/>
          <a:stretch/>
        </p:blipFill>
        <p:spPr>
          <a:xfrm>
            <a:off x="1128600" y="4665600"/>
            <a:ext cx="34164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3889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contaminate any materials (vials, tubes, etc.) before removal from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ean pipettes, racks, instruments and the BSC with freshly diluted 1.5% bleach (20 minutes), followed by 70% alcohol w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to Reagent Preparation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ider performing specimen preparation on a separate day to enable unidirectional workflow betwee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77920" y="2476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orking in a BSC (Clean-u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biohazardsign"/>
          <p:cNvPicPr/>
          <p:nvPr/>
        </p:nvPicPr>
        <p:blipFill>
          <a:blip r:embed="rId1"/>
          <a:stretch/>
        </p:blipFill>
        <p:spPr>
          <a:xfrm>
            <a:off x="7524720" y="27936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0" name="Picture 7" descr="IMG_4057"/>
          <p:cNvPicPr/>
          <p:nvPr/>
        </p:nvPicPr>
        <p:blipFill>
          <a:blip r:embed="rId2"/>
          <a:stretch/>
        </p:blipFill>
        <p:spPr>
          <a:xfrm>
            <a:off x="4572000" y="1989000"/>
            <a:ext cx="3887640" cy="324648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211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NA extraction: Option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kill samples in BSL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DNA supernatant to new 1.5 ml conical screw cap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ze DNA until ready to add to maste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led accordingly and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hould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the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may only take the PCR tubes in an aluminum foil-covered beaker to Amplification/Detection A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this beaker back to Specimen or Reagent Preparation Area. Wash and autoclave before re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70% alcohol instead of distilled water for cleaning to avoid contamination of distilled water 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iquot sterile molecular grade water into 15 ml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an Eppendorf repeat pipette with individually wrapped, sterile combi-tips for aliquoting,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Working in a Biological Safety Cabinet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Specimen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07B4-3BB0-4DD6-85DF-CBF6EA5CD8D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mal PCR laboratory lay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1116000" y="4581360"/>
            <a:ext cx="1224000" cy="216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84464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388360" y="6478560"/>
            <a:ext cx="755640" cy="37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456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067280" y="1539720"/>
          <a:ext cx="5618160" cy="49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39720"/>
                    <a:ext cx="5618160" cy="49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ppropriate BSL3 PPE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have solid front and can be tied in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-sleeved with elastic c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be either autoclavable/washable (soak in bleach) or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154480" y="1434960"/>
            <a:ext cx="3430440" cy="2590920"/>
            <a:chOff x="5154480" y="1434960"/>
            <a:chExt cx="3430440" cy="2590920"/>
          </a:xfrm>
        </p:grpSpPr>
        <p:pic>
          <p:nvPicPr>
            <p:cNvPr id="127" name="Picture 5" descr="camice"/>
            <p:cNvPicPr/>
            <p:nvPr/>
          </p:nvPicPr>
          <p:blipFill>
            <a:blip r:embed="rId1"/>
            <a:srcRect l="15999" t="0" r="10264" b="0"/>
            <a:stretch/>
          </p:blipFill>
          <p:spPr>
            <a:xfrm>
              <a:off x="5154480" y="1752120"/>
              <a:ext cx="154116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surgical gown2"/>
            <p:cNvPicPr/>
            <p:nvPr/>
          </p:nvPicPr>
          <p:blipFill>
            <a:blip r:embed="rId2"/>
            <a:stretch/>
          </p:blipFill>
          <p:spPr>
            <a:xfrm>
              <a:off x="6854760" y="1434960"/>
              <a:ext cx="173016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7" descr="masks"/>
          <p:cNvPicPr/>
          <p:nvPr/>
        </p:nvPicPr>
        <p:blipFill>
          <a:blip r:embed="rId3"/>
          <a:srcRect l="14273" t="20464" r="14538" b="14125"/>
          <a:stretch/>
        </p:blipFill>
        <p:spPr>
          <a:xfrm>
            <a:off x="5003640" y="3932280"/>
            <a:ext cx="2681280" cy="22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LogoColour"/>
          <p:cNvPicPr/>
          <p:nvPr/>
        </p:nvPicPr>
        <p:blipFill>
          <a:blip r:embed="rId6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7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8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696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SL 3 PPE is suitable fo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ipulating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rifu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oculation of D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smears from cultures and processed speci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ochemical testing to identify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ing samples for PCR (before heat-k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BSC with freshly diluted 1.5% bleach (20 min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ing area with paper towels and use suitable disinfe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1.5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 NOT block the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form all operations at least 12 cm away from the front grill on the wor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ce all materials and aerosol-generating equipment away from the front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MG_4028"/>
          <p:cNvPicPr/>
          <p:nvPr/>
        </p:nvPicPr>
        <p:blipFill>
          <a:blip r:embed="rId1"/>
          <a:stretch/>
        </p:blipFill>
        <p:spPr>
          <a:xfrm>
            <a:off x="4140360" y="1916280"/>
            <a:ext cx="4392360" cy="329544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143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760" y="4392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ical specimens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360440" cy="3211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48" name="Text Box 16"/>
          <p:cNvSpPr/>
          <p:nvPr/>
        </p:nvSpPr>
        <p:spPr>
          <a:xfrm>
            <a:off x="2914560" y="1989000"/>
            <a:ext cx="54738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bel 1.5 ml screw-cap conical tubes (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aps) for each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decontaminated clinical specimen for 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s only one specimen at a time; do not leave open containers or centrifuge tubes in the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nsfer 500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 decontaminated clinical specimen into 1.5 ml conical screw-capped vial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1835280" y="3068640"/>
            <a:ext cx="107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682560" y="134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nical specimens have to be decontaminated by N-acetyl-L-cysteine/NaOH method before specime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2" descr="biohazardsign"/>
          <p:cNvPicPr/>
          <p:nvPr/>
        </p:nvPicPr>
        <p:blipFill>
          <a:blip r:embed="rId2"/>
          <a:stretch/>
        </p:blipFill>
        <p:spPr>
          <a:xfrm>
            <a:off x="7596360" y="33336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23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76480" cy="293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eparation of isolates on solid cul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986200" y="1596960"/>
            <a:ext cx="54734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 cap conical tubes (not the caps) for each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llect bacteria with an inoculation loop and suspend in 100 μl of Lysis Buffer (A-LYS); change loops between sample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crape the surface of the medium since components of egg-based medium can inhibit PCR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suspension for 1 minute to break up cl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ifuge for 15 min at 10,000 x g or 1 ml liquid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834920" y="3789360"/>
            <a:ext cx="11761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iohazardsign"/>
          <p:cNvPicPr/>
          <p:nvPr/>
        </p:nvPicPr>
        <p:blipFill>
          <a:blip r:embed="rId2"/>
          <a:stretch/>
        </p:blipFill>
        <p:spPr>
          <a:xfrm>
            <a:off x="7667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2" name="Picture 8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09:52:40Z</dcterms:modified>
  <cp:revision>394</cp:revision>
  <dc:subject/>
  <dc:title>PowerPoint Presentation</dc:title>
</cp:coreProperties>
</file>