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C41A-2767-40C8-B8E2-665360B2BC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9B03-66CD-4573-B68C-356553101E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13D-5E05-4B73-9645-1F29D8E1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EA9B-60AC-49D0-AC15-92823C96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530-902E-4BEE-9079-6222EADD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CAF5-54BA-4AD6-9059-22B1E7E1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F3E7-328F-4DE9-8ECE-9CC8109B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7AA7-CD95-465B-88BC-79A82BF1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799A-F487-4331-944A-9F2EE660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BD3A-4657-42AC-93FB-B48AB7CF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94E7-E7D8-4C5A-9A76-DC3ECFDA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3497-A979-4A4D-A9E3-1FE43A66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743F-F1D3-4289-9061-6BA90397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413-0E0E-4F01-9E37-7B0B0EC0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5AA3-2C38-478D-AC2F-AA57D96A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8F4F-61F7-40A2-85CF-26A4B47A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7318-9BB9-414F-BABB-2CBB3C12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277C-66DE-41EE-B9C5-16D87E61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D3AE-BCF7-462F-A40A-D64EC89B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9729-EB33-4BB6-9673-4F479A36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68A-5FD5-4E45-9050-1E780083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762-1693-48CE-B859-3589D7C0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930-8F9E-4D12-8223-0B855E9D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CC27-249E-4573-88EE-726C12B5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246E-84D0-400A-A7E9-3FE3105B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56C-020B-4664-A35A-B0FB1EEE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013B-93D9-4967-AE44-21A3EBF9CB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43E2-D143-43C8-89BC-B2E28C67C1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20" y="141300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plus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sl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agent preparation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ols and instruments that are used here have to be labelled accordingly and cannot be used els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CR tubes can only be taken to specimen preparation area in an aluminum foil-covered bea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bring back this beaker to reagent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0.5 ml or 0.2 ml individual PCR tubes instead of 0.2 ml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PCR hood with 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nge shoes or use shoe cover before entering clean room  Autoclave and calibrate pipettes regul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you have finished working in the specimen preparation area, do not come back and clean the reagent preparation area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648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epare fresh Na-hypochlorite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eck undiluted bleac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nal concentration of hypochlorite should not fall below 1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orking solutions of 5 g/l are necessary for dealing with biohazard sp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tainers containing bleach CANNOT be autoclav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instead of distilled water for clea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an Eppendorf repeat pipettor with individually wrapped sterile combi tips for aliquoting, if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688080" y="2133720"/>
            <a:ext cx="2033640" cy="236520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59" name="Picture 5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2D63-D915-4A6C-AE32-C72E45B15FD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344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41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alculation of volume of master mix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Reagent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553080" cy="526716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 rot="5400000">
            <a:off x="1943640" y="224640"/>
            <a:ext cx="2592360" cy="4968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78640" y="2852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532720" y="6551640"/>
            <a:ext cx="611280" cy="30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1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959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heets used in Specimen Preparation area shoul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be brought over to this are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to calculate the volume master mix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8"/>
          <p:cNvGraphicFramePr/>
          <p:nvPr/>
        </p:nvGraphicFramePr>
        <p:xfrm>
          <a:off x="4552920" y="1657440"/>
          <a:ext cx="3921120" cy="41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2920" y="1657440"/>
                    <a:ext cx="392112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20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2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on of component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396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termine the number of specimens and controls (number of samples to be analyzed plus control s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µl AM-A; 35µl AM-B; 5 µl DNA (after DNA extraction with GenoLyse) or 10µl DNA (after DNA extraction with GXT DNA/RNA Extraction K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nal volume: 50µl (GenoLyse) or 55 µl (GXT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volume of master mix is 45 µl per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2" descr="Ein Bild, das Tasse, Zahnbürste, klein, Tisch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520560" y="2266920"/>
            <a:ext cx="4051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3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t on gloves and laboratory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ntaminate work area with freshly diluted 1.5% bleach (20 min), followed by 70%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ver the work area with clean paper to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4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 mix prepa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132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ore molecular grade water, and other reagents, in the DNA-fre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pletely thaw all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ipette calculated amount of different components of master mix into 1.5 ml conical screw-cap vial using filtered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ange tips between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use a new aliquot of molecular grade water for negativ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master mix containing AM-A and AM-B and mix carefully but thoroughly (do not vor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open only one reagent vial at a time, and place vials back in mini cooler after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ease note that the master mix needs to be prepared freshly each time and needs to be processed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5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ensing master mix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abel PCR tubes in line with numbers of specimens and controls on your work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lace PCR tubes onto the PCR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pense 4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master mix into each PCR tube using filtered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of same sterile, molecular grade water used to prepare master mix into negative control PCR 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ose PCR tubes with PCR tube caps and place them in a sterile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45" name="Grafik 2" descr="Ein Bild, das Essen, Messer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1476360" y="1436760"/>
            <a:ext cx="5616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6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of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104920"/>
            <a:ext cx="79246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each use, clean pipettes, racks, instruments and the workstation with freshly diluted 1.5% bleach (20 minutes), followed by 70% alcohol and UV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10:04:15Z</dcterms:modified>
  <cp:revision>374</cp:revision>
  <dc:subject/>
  <dc:title>PowerPoint Presentation</dc:title>
</cp:coreProperties>
</file>