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11.wmf" ContentType="image/x-wmf"/>
  <Override PartName="/ppt/media/image8.jpeg" ContentType="image/jpeg"/>
  <Override PartName="/ppt/media/image9.jpeg" ContentType="image/jpeg"/>
  <Override PartName="/ppt/media/image10.png" ContentType="image/png"/>
  <Override PartName="/ppt/media/image1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FB679-E48B-47D1-9A18-7E5FDE7B4534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D0FD0-A1EE-4BDC-B500-F985029CBC59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56D9D-F7DB-48B9-9F6A-8FF5BB533D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read slide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E3047-5826-4245-BECF-55146D2E8CED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D7285-E660-425D-A3B8-AB7212ABE2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6F22B-820A-46E5-998F-7C7BEB1963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48443-7C7A-482A-859B-E592DA289F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C7C3B-B5A7-4B23-9734-7EAAFCBD4F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read slide 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67AB4-0DAE-4FB7-BC9C-F2CBBBC15D4F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A3A0C-017B-46B1-8531-A57F41CB06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E306-51BC-4BB1-9EE4-8C52B6E05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673C-A5EF-44D2-B1B8-406AD9066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97B1-DE19-46F2-89E2-3067E4E13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0128-6D9A-40ED-9F26-2B556D54F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E7BD2-60BE-4B11-9B4F-B5FDF933C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594CB-6FB8-4E75-BA1C-A219C27A1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4199F-D4CD-4188-9E20-2130046C9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F17C7-80E5-4A7D-BDDE-F54320AC6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67750-1190-4582-B24B-B8A985F15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6EE71-96A1-4C03-84C9-0429596D2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1A4C5-4415-49EE-8059-144BFD137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E4C5-B428-47BD-A71D-B3637BD62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305B6-BB57-4E72-A918-1030309FA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92990-4560-4F51-A279-7CBC49BC2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11533-BCDD-4673-9AA7-D0F155F1B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28BA1-01EE-4C6E-BBC0-931C1E1AD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0EE4E-A54A-4F9C-9B26-083035FAA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4B5C-214B-44B3-8853-CA1ED33FD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D396-A212-4299-8D91-8D7D380D5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6999-ED81-4FAB-B6E7-4DAB49BE0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03F6-9469-4BD1-8862-60B52BE26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BC75-7D82-40FA-96E9-777C3AA57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E686-48B4-4DE1-80CE-2EE26B5BD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8205-964E-4780-92EA-6AEF8CCEB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C29CA-D71A-45A6-A8B7-0C70E4E76C9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BDFE2-67D8-47E9-BF9B-C7F5CE8B22A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file:///s9(PZAchart).ppt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6920" y="1125360"/>
            <a:ext cx="749016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Inoculum and drug preparation for the MGIT 960 DST syste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2795760" y="3141720"/>
            <a:ext cx="3078000" cy="37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IRE inoculum prepara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3" name="Group 4"/>
          <p:cNvGrpSpPr/>
          <p:nvPr/>
        </p:nvGrpSpPr>
        <p:grpSpPr>
          <a:xfrm>
            <a:off x="455040" y="1576440"/>
            <a:ext cx="3798360" cy="4365360"/>
            <a:chOff x="455040" y="1576440"/>
            <a:chExt cx="3798360" cy="4365360"/>
          </a:xfrm>
        </p:grpSpPr>
        <p:grpSp>
          <p:nvGrpSpPr>
            <p:cNvPr id="124" name="Group 5"/>
            <p:cNvGrpSpPr/>
            <p:nvPr/>
          </p:nvGrpSpPr>
          <p:grpSpPr>
            <a:xfrm>
              <a:off x="1552320" y="1576440"/>
              <a:ext cx="226800" cy="1287360"/>
              <a:chOff x="1552320" y="1576440"/>
              <a:chExt cx="226800" cy="1287360"/>
            </a:xfrm>
          </p:grpSpPr>
          <p:sp>
            <p:nvSpPr>
              <p:cNvPr id="125" name="AutoShape 6"/>
              <p:cNvSpPr/>
              <p:nvPr/>
            </p:nvSpPr>
            <p:spPr>
              <a:xfrm>
                <a:off x="1552320" y="1576440"/>
                <a:ext cx="226800" cy="269640"/>
              </a:xfrm>
              <a:prstGeom prst="can">
                <a:avLst>
                  <a:gd name="adj" fmla="val 25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Freeform 7"/>
              <p:cNvSpPr/>
              <p:nvPr/>
            </p:nvSpPr>
            <p:spPr>
              <a:xfrm>
                <a:off x="1570680" y="2685960"/>
                <a:ext cx="189720" cy="177840"/>
              </a:xfrm>
              <a:custGeom>
                <a:avLst/>
                <a:gdLst>
                  <a:gd name="textAreaLeft" fmla="*/ 0 w 189720"/>
                  <a:gd name="textAreaRight" fmla="*/ 190080 w 189720"/>
                  <a:gd name="textAreaTop" fmla="*/ 0 h 177840"/>
                  <a:gd name="textAreaBottom" fmla="*/ 178200 h 177840"/>
                </a:gdLst>
                <a:ahLst/>
                <a:rect l="textAreaLeft" t="textAreaTop" r="textAreaRight" b="textAreaBottom"/>
                <a:pathLst>
                  <a:path w="177" h="139">
                    <a:moveTo>
                      <a:pt x="0" y="6"/>
                    </a:moveTo>
                    <a:cubicBezTo>
                      <a:pt x="0" y="18"/>
                      <a:pt x="0" y="60"/>
                      <a:pt x="1" y="76"/>
                    </a:cubicBezTo>
                    <a:cubicBezTo>
                      <a:pt x="2" y="92"/>
                      <a:pt x="4" y="97"/>
                      <a:pt x="6" y="103"/>
                    </a:cubicBezTo>
                    <a:cubicBezTo>
                      <a:pt x="8" y="109"/>
                      <a:pt x="10" y="112"/>
                      <a:pt x="13" y="115"/>
                    </a:cubicBezTo>
                    <a:cubicBezTo>
                      <a:pt x="16" y="118"/>
                      <a:pt x="22" y="121"/>
                      <a:pt x="25" y="123"/>
                    </a:cubicBezTo>
                    <a:cubicBezTo>
                      <a:pt x="28" y="125"/>
                      <a:pt x="30" y="125"/>
                      <a:pt x="34" y="127"/>
                    </a:cubicBezTo>
                    <a:cubicBezTo>
                      <a:pt x="38" y="129"/>
                      <a:pt x="45" y="134"/>
                      <a:pt x="50" y="136"/>
                    </a:cubicBezTo>
                    <a:cubicBezTo>
                      <a:pt x="55" y="138"/>
                      <a:pt x="58" y="137"/>
                      <a:pt x="63" y="137"/>
                    </a:cubicBezTo>
                    <a:cubicBezTo>
                      <a:pt x="68" y="137"/>
                      <a:pt x="73" y="139"/>
                      <a:pt x="78" y="139"/>
                    </a:cubicBezTo>
                    <a:cubicBezTo>
                      <a:pt x="83" y="139"/>
                      <a:pt x="87" y="139"/>
                      <a:pt x="92" y="139"/>
                    </a:cubicBezTo>
                    <a:cubicBezTo>
                      <a:pt x="97" y="139"/>
                      <a:pt x="105" y="138"/>
                      <a:pt x="111" y="137"/>
                    </a:cubicBezTo>
                    <a:cubicBezTo>
                      <a:pt x="117" y="136"/>
                      <a:pt x="123" y="137"/>
                      <a:pt x="128" y="135"/>
                    </a:cubicBezTo>
                    <a:cubicBezTo>
                      <a:pt x="133" y="133"/>
                      <a:pt x="137" y="129"/>
                      <a:pt x="142" y="127"/>
                    </a:cubicBezTo>
                    <a:cubicBezTo>
                      <a:pt x="147" y="125"/>
                      <a:pt x="152" y="123"/>
                      <a:pt x="157" y="120"/>
                    </a:cubicBezTo>
                    <a:cubicBezTo>
                      <a:pt x="162" y="117"/>
                      <a:pt x="168" y="111"/>
                      <a:pt x="171" y="106"/>
                    </a:cubicBezTo>
                    <a:cubicBezTo>
                      <a:pt x="174" y="101"/>
                      <a:pt x="175" y="95"/>
                      <a:pt x="176" y="91"/>
                    </a:cubicBezTo>
                    <a:cubicBezTo>
                      <a:pt x="177" y="87"/>
                      <a:pt x="176" y="94"/>
                      <a:pt x="176" y="79"/>
                    </a:cubicBezTo>
                    <a:cubicBezTo>
                      <a:pt x="176" y="64"/>
                      <a:pt x="176" y="16"/>
                      <a:pt x="176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Line 8"/>
              <p:cNvSpPr/>
              <p:nvPr/>
            </p:nvSpPr>
            <p:spPr>
              <a:xfrm flipV="1">
                <a:off x="1570680" y="1834920"/>
                <a:ext cx="0" cy="856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Line 9"/>
              <p:cNvSpPr/>
              <p:nvPr/>
            </p:nvSpPr>
            <p:spPr>
              <a:xfrm flipV="1">
                <a:off x="1760400" y="1834920"/>
                <a:ext cx="0" cy="85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" name="Group 10"/>
            <p:cNvGrpSpPr/>
            <p:nvPr/>
          </p:nvGrpSpPr>
          <p:grpSpPr>
            <a:xfrm>
              <a:off x="3706560" y="2301120"/>
              <a:ext cx="226440" cy="1288080"/>
              <a:chOff x="3706560" y="2301120"/>
              <a:chExt cx="226440" cy="1288080"/>
            </a:xfrm>
          </p:grpSpPr>
          <p:sp>
            <p:nvSpPr>
              <p:cNvPr id="130" name="AutoShape 11"/>
              <p:cNvSpPr/>
              <p:nvPr/>
            </p:nvSpPr>
            <p:spPr>
              <a:xfrm>
                <a:off x="3706560" y="2301120"/>
                <a:ext cx="226440" cy="270360"/>
              </a:xfrm>
              <a:prstGeom prst="can">
                <a:avLst>
                  <a:gd name="adj" fmla="val 25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12"/>
              <p:cNvSpPr/>
              <p:nvPr/>
            </p:nvSpPr>
            <p:spPr>
              <a:xfrm>
                <a:off x="3724920" y="3410640"/>
                <a:ext cx="189360" cy="178560"/>
              </a:xfrm>
              <a:custGeom>
                <a:avLst/>
                <a:gdLst>
                  <a:gd name="textAreaLeft" fmla="*/ 0 w 189360"/>
                  <a:gd name="textAreaRight" fmla="*/ 189720 w 189360"/>
                  <a:gd name="textAreaTop" fmla="*/ 0 h 178560"/>
                  <a:gd name="textAreaBottom" fmla="*/ 178920 h 178560"/>
                </a:gdLst>
                <a:ahLst/>
                <a:rect l="textAreaLeft" t="textAreaTop" r="textAreaRight" b="textAreaBottom"/>
                <a:pathLst>
                  <a:path w="177" h="139">
                    <a:moveTo>
                      <a:pt x="0" y="6"/>
                    </a:moveTo>
                    <a:cubicBezTo>
                      <a:pt x="0" y="18"/>
                      <a:pt x="0" y="60"/>
                      <a:pt x="1" y="76"/>
                    </a:cubicBezTo>
                    <a:cubicBezTo>
                      <a:pt x="2" y="92"/>
                      <a:pt x="4" y="97"/>
                      <a:pt x="6" y="103"/>
                    </a:cubicBezTo>
                    <a:cubicBezTo>
                      <a:pt x="8" y="109"/>
                      <a:pt x="10" y="112"/>
                      <a:pt x="13" y="115"/>
                    </a:cubicBezTo>
                    <a:cubicBezTo>
                      <a:pt x="16" y="118"/>
                      <a:pt x="22" y="121"/>
                      <a:pt x="25" y="123"/>
                    </a:cubicBezTo>
                    <a:cubicBezTo>
                      <a:pt x="28" y="125"/>
                      <a:pt x="30" y="125"/>
                      <a:pt x="34" y="127"/>
                    </a:cubicBezTo>
                    <a:cubicBezTo>
                      <a:pt x="38" y="129"/>
                      <a:pt x="45" y="134"/>
                      <a:pt x="50" y="136"/>
                    </a:cubicBezTo>
                    <a:cubicBezTo>
                      <a:pt x="55" y="138"/>
                      <a:pt x="58" y="137"/>
                      <a:pt x="63" y="137"/>
                    </a:cubicBezTo>
                    <a:cubicBezTo>
                      <a:pt x="68" y="137"/>
                      <a:pt x="73" y="139"/>
                      <a:pt x="78" y="139"/>
                    </a:cubicBezTo>
                    <a:cubicBezTo>
                      <a:pt x="83" y="139"/>
                      <a:pt x="87" y="139"/>
                      <a:pt x="92" y="139"/>
                    </a:cubicBezTo>
                    <a:cubicBezTo>
                      <a:pt x="97" y="139"/>
                      <a:pt x="105" y="138"/>
                      <a:pt x="111" y="137"/>
                    </a:cubicBezTo>
                    <a:cubicBezTo>
                      <a:pt x="117" y="136"/>
                      <a:pt x="123" y="137"/>
                      <a:pt x="128" y="135"/>
                    </a:cubicBezTo>
                    <a:cubicBezTo>
                      <a:pt x="133" y="133"/>
                      <a:pt x="137" y="129"/>
                      <a:pt x="142" y="127"/>
                    </a:cubicBezTo>
                    <a:cubicBezTo>
                      <a:pt x="147" y="125"/>
                      <a:pt x="152" y="123"/>
                      <a:pt x="157" y="120"/>
                    </a:cubicBezTo>
                    <a:cubicBezTo>
                      <a:pt x="162" y="117"/>
                      <a:pt x="168" y="111"/>
                      <a:pt x="171" y="106"/>
                    </a:cubicBezTo>
                    <a:cubicBezTo>
                      <a:pt x="174" y="101"/>
                      <a:pt x="175" y="95"/>
                      <a:pt x="176" y="91"/>
                    </a:cubicBezTo>
                    <a:cubicBezTo>
                      <a:pt x="177" y="87"/>
                      <a:pt x="176" y="94"/>
                      <a:pt x="176" y="79"/>
                    </a:cubicBezTo>
                    <a:cubicBezTo>
                      <a:pt x="176" y="64"/>
                      <a:pt x="176" y="16"/>
                      <a:pt x="176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Line 13"/>
              <p:cNvSpPr/>
              <p:nvPr/>
            </p:nvSpPr>
            <p:spPr>
              <a:xfrm flipV="1">
                <a:off x="3724920" y="2559960"/>
                <a:ext cx="0" cy="856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Line 14"/>
              <p:cNvSpPr/>
              <p:nvPr/>
            </p:nvSpPr>
            <p:spPr>
              <a:xfrm flipV="1">
                <a:off x="3914280" y="2559600"/>
                <a:ext cx="0" cy="85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4" name="Line 15"/>
            <p:cNvSpPr/>
            <p:nvPr/>
          </p:nvSpPr>
          <p:spPr>
            <a:xfrm>
              <a:off x="2186280" y="2157480"/>
              <a:ext cx="1266480" cy="57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 Box 16"/>
            <p:cNvSpPr/>
            <p:nvPr/>
          </p:nvSpPr>
          <p:spPr>
            <a:xfrm>
              <a:off x="3526920" y="3610440"/>
              <a:ext cx="726480" cy="35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900" spc="-1" strike="noStrike">
                  <a:solidFill>
                    <a:srgbClr val="000000"/>
                  </a:solidFill>
                  <a:latin typeface="Arial"/>
                </a:rPr>
                <a:t>Day 3 to 5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:5 dilu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17"/>
            <p:cNvSpPr/>
            <p:nvPr/>
          </p:nvSpPr>
          <p:spPr>
            <a:xfrm>
              <a:off x="1649520" y="3360600"/>
              <a:ext cx="47880" cy="112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18"/>
            <p:cNvSpPr/>
            <p:nvPr/>
          </p:nvSpPr>
          <p:spPr>
            <a:xfrm flipH="1">
              <a:off x="2050920" y="3583800"/>
              <a:ext cx="1269720" cy="92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8" name="Group 19"/>
            <p:cNvGrpSpPr/>
            <p:nvPr/>
          </p:nvGrpSpPr>
          <p:grpSpPr>
            <a:xfrm>
              <a:off x="1151280" y="2249640"/>
              <a:ext cx="303120" cy="347040"/>
              <a:chOff x="1151280" y="2249640"/>
              <a:chExt cx="303120" cy="347040"/>
            </a:xfrm>
          </p:grpSpPr>
          <p:sp>
            <p:nvSpPr>
              <p:cNvPr id="139" name="Text Box 20"/>
              <p:cNvSpPr/>
              <p:nvPr/>
            </p:nvSpPr>
            <p:spPr>
              <a:xfrm>
                <a:off x="1174320" y="228816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Oval 21"/>
              <p:cNvSpPr/>
              <p:nvPr/>
            </p:nvSpPr>
            <p:spPr>
              <a:xfrm>
                <a:off x="1151280" y="2249640"/>
                <a:ext cx="303120" cy="3470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" name="Group 22"/>
            <p:cNvGrpSpPr/>
            <p:nvPr/>
          </p:nvGrpSpPr>
          <p:grpSpPr>
            <a:xfrm>
              <a:off x="1774440" y="3621240"/>
              <a:ext cx="303120" cy="347760"/>
              <a:chOff x="1774440" y="3621240"/>
              <a:chExt cx="303120" cy="347760"/>
            </a:xfrm>
          </p:grpSpPr>
          <p:sp>
            <p:nvSpPr>
              <p:cNvPr id="142" name="Text Box 23"/>
              <p:cNvSpPr/>
              <p:nvPr/>
            </p:nvSpPr>
            <p:spPr>
              <a:xfrm>
                <a:off x="1797480" y="366876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Oval 24"/>
              <p:cNvSpPr/>
              <p:nvPr/>
            </p:nvSpPr>
            <p:spPr>
              <a:xfrm>
                <a:off x="1774440" y="3621240"/>
                <a:ext cx="303120" cy="3477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" name="Group 25"/>
            <p:cNvGrpSpPr/>
            <p:nvPr/>
          </p:nvGrpSpPr>
          <p:grpSpPr>
            <a:xfrm>
              <a:off x="3141720" y="2942280"/>
              <a:ext cx="303120" cy="345240"/>
              <a:chOff x="3141720" y="2942280"/>
              <a:chExt cx="303120" cy="345240"/>
            </a:xfrm>
          </p:grpSpPr>
          <p:sp>
            <p:nvSpPr>
              <p:cNvPr id="145" name="Text Box 26"/>
              <p:cNvSpPr/>
              <p:nvPr/>
            </p:nvSpPr>
            <p:spPr>
              <a:xfrm>
                <a:off x="3159360" y="299304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Oval 27"/>
              <p:cNvSpPr/>
              <p:nvPr/>
            </p:nvSpPr>
            <p:spPr>
              <a:xfrm>
                <a:off x="3141720" y="2942280"/>
                <a:ext cx="303120" cy="3452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" name="Text Box 28"/>
            <p:cNvSpPr/>
            <p:nvPr/>
          </p:nvSpPr>
          <p:spPr>
            <a:xfrm>
              <a:off x="999720" y="2893680"/>
              <a:ext cx="1303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900" spc="-1" strike="noStrike">
                  <a:solidFill>
                    <a:srgbClr val="000000"/>
                  </a:solidFill>
                  <a:latin typeface="Arial"/>
                </a:rPr>
                <a:t>Day 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900" spc="-1" strike="noStrike">
                  <a:solidFill>
                    <a:srgbClr val="000000"/>
                  </a:solidFill>
                  <a:latin typeface="Arial"/>
                </a:rPr>
                <a:t>Incubate for one day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 Box 29"/>
            <p:cNvSpPr/>
            <p:nvPr/>
          </p:nvSpPr>
          <p:spPr>
            <a:xfrm>
              <a:off x="3202200" y="1857960"/>
              <a:ext cx="182520" cy="2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Text Box 30"/>
            <p:cNvSpPr/>
            <p:nvPr/>
          </p:nvSpPr>
          <p:spPr>
            <a:xfrm>
              <a:off x="455040" y="3666240"/>
              <a:ext cx="117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Day 1 or 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No dilution required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" name="Group 31"/>
            <p:cNvGrpSpPr/>
            <p:nvPr/>
          </p:nvGrpSpPr>
          <p:grpSpPr>
            <a:xfrm>
              <a:off x="1663920" y="4654080"/>
              <a:ext cx="1688400" cy="1287720"/>
              <a:chOff x="1663920" y="4654080"/>
              <a:chExt cx="1688400" cy="1287720"/>
            </a:xfrm>
          </p:grpSpPr>
          <p:grpSp>
            <p:nvGrpSpPr>
              <p:cNvPr id="151" name="Group 32"/>
              <p:cNvGrpSpPr/>
              <p:nvPr/>
            </p:nvGrpSpPr>
            <p:grpSpPr>
              <a:xfrm>
                <a:off x="1663920" y="4654080"/>
                <a:ext cx="226440" cy="1287720"/>
                <a:chOff x="1663920" y="4654080"/>
                <a:chExt cx="226440" cy="1287720"/>
              </a:xfrm>
            </p:grpSpPr>
            <p:sp>
              <p:nvSpPr>
                <p:cNvPr id="152" name="AutoShape 33"/>
                <p:cNvSpPr/>
                <p:nvPr/>
              </p:nvSpPr>
              <p:spPr>
                <a:xfrm>
                  <a:off x="1663920" y="4654080"/>
                  <a:ext cx="226440" cy="270000"/>
                </a:xfrm>
                <a:prstGeom prst="can">
                  <a:avLst>
                    <a:gd name="adj" fmla="val 25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Freeform 34"/>
                <p:cNvSpPr/>
                <p:nvPr/>
              </p:nvSpPr>
              <p:spPr>
                <a:xfrm>
                  <a:off x="1682280" y="5763960"/>
                  <a:ext cx="189360" cy="177840"/>
                </a:xfrm>
                <a:custGeom>
                  <a:avLst/>
                  <a:gdLst>
                    <a:gd name="textAreaLeft" fmla="*/ 0 w 189360"/>
                    <a:gd name="textAreaRight" fmla="*/ 189720 w 189360"/>
                    <a:gd name="textAreaTop" fmla="*/ 0 h 177840"/>
                    <a:gd name="textAreaBottom" fmla="*/ 178200 h 177840"/>
                  </a:gdLst>
                  <a:ahLst/>
                  <a:rect l="textAreaLeft" t="textAreaTop" r="textAreaRight" b="textAreaBottom"/>
                  <a:pathLst>
                    <a:path w="177" h="139">
                      <a:moveTo>
                        <a:pt x="0" y="6"/>
                      </a:moveTo>
                      <a:cubicBezTo>
                        <a:pt x="0" y="18"/>
                        <a:pt x="0" y="60"/>
                        <a:pt x="1" y="76"/>
                      </a:cubicBezTo>
                      <a:cubicBezTo>
                        <a:pt x="2" y="92"/>
                        <a:pt x="4" y="97"/>
                        <a:pt x="6" y="103"/>
                      </a:cubicBezTo>
                      <a:cubicBezTo>
                        <a:pt x="8" y="109"/>
                        <a:pt x="10" y="112"/>
                        <a:pt x="13" y="115"/>
                      </a:cubicBezTo>
                      <a:cubicBezTo>
                        <a:pt x="16" y="118"/>
                        <a:pt x="22" y="121"/>
                        <a:pt x="25" y="123"/>
                      </a:cubicBezTo>
                      <a:cubicBezTo>
                        <a:pt x="28" y="125"/>
                        <a:pt x="30" y="125"/>
                        <a:pt x="34" y="127"/>
                      </a:cubicBezTo>
                      <a:cubicBezTo>
                        <a:pt x="38" y="129"/>
                        <a:pt x="45" y="134"/>
                        <a:pt x="50" y="136"/>
                      </a:cubicBezTo>
                      <a:cubicBezTo>
                        <a:pt x="55" y="138"/>
                        <a:pt x="58" y="137"/>
                        <a:pt x="63" y="137"/>
                      </a:cubicBezTo>
                      <a:cubicBezTo>
                        <a:pt x="68" y="137"/>
                        <a:pt x="73" y="139"/>
                        <a:pt x="78" y="139"/>
                      </a:cubicBezTo>
                      <a:cubicBezTo>
                        <a:pt x="83" y="139"/>
                        <a:pt x="87" y="139"/>
                        <a:pt x="92" y="139"/>
                      </a:cubicBezTo>
                      <a:cubicBezTo>
                        <a:pt x="97" y="139"/>
                        <a:pt x="105" y="138"/>
                        <a:pt x="111" y="137"/>
                      </a:cubicBezTo>
                      <a:cubicBezTo>
                        <a:pt x="117" y="136"/>
                        <a:pt x="123" y="137"/>
                        <a:pt x="128" y="135"/>
                      </a:cubicBezTo>
                      <a:cubicBezTo>
                        <a:pt x="133" y="133"/>
                        <a:pt x="137" y="129"/>
                        <a:pt x="142" y="127"/>
                      </a:cubicBezTo>
                      <a:cubicBezTo>
                        <a:pt x="147" y="125"/>
                        <a:pt x="152" y="123"/>
                        <a:pt x="157" y="120"/>
                      </a:cubicBezTo>
                      <a:cubicBezTo>
                        <a:pt x="162" y="117"/>
                        <a:pt x="168" y="111"/>
                        <a:pt x="171" y="106"/>
                      </a:cubicBezTo>
                      <a:cubicBezTo>
                        <a:pt x="174" y="101"/>
                        <a:pt x="175" y="95"/>
                        <a:pt x="176" y="91"/>
                      </a:cubicBezTo>
                      <a:cubicBezTo>
                        <a:pt x="177" y="87"/>
                        <a:pt x="176" y="94"/>
                        <a:pt x="176" y="79"/>
                      </a:cubicBezTo>
                      <a:cubicBezTo>
                        <a:pt x="176" y="64"/>
                        <a:pt x="176" y="16"/>
                        <a:pt x="176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Line 35"/>
                <p:cNvSpPr/>
                <p:nvPr/>
              </p:nvSpPr>
              <p:spPr>
                <a:xfrm flipV="1">
                  <a:off x="1682280" y="4912920"/>
                  <a:ext cx="0" cy="856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Line 36"/>
                <p:cNvSpPr/>
                <p:nvPr/>
              </p:nvSpPr>
              <p:spPr>
                <a:xfrm flipV="1">
                  <a:off x="1871640" y="4912560"/>
                  <a:ext cx="0" cy="859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6" name="Text Box 37"/>
              <p:cNvSpPr/>
              <p:nvPr/>
            </p:nvSpPr>
            <p:spPr>
              <a:xfrm>
                <a:off x="2362320" y="5526000"/>
                <a:ext cx="990000" cy="231120"/>
              </a:xfrm>
              <a:prstGeom prst="rect">
                <a:avLst/>
              </a:prstGeom>
              <a:solidFill>
                <a:srgbClr val="cc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ffffff"/>
                    </a:solidFill>
                    <a:latin typeface="Arial"/>
                  </a:rPr>
                  <a:t>SIRE Inoculum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7" name="Text Box 40"/>
          <p:cNvSpPr/>
          <p:nvPr/>
        </p:nvSpPr>
        <p:spPr>
          <a:xfrm>
            <a:off x="4876920" y="1600200"/>
            <a:ext cx="38862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.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ay of positivity = Day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Incubate </a:t>
            </a:r>
            <a:r>
              <a:rPr b="0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at least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one more day after posi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66"/>
              </a:buClr>
              <a:buFont typeface="Arial"/>
              <a:buAutoNum type="alphaUcPeriod" startAt="2"/>
              <a:tabLst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ay of positivity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= 1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–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2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Go directly to Preparation &amp; Inoc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.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ay of positivity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= 3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–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5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Dilute 1 ml of positive broth into 4 ml sterile sa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(1:5 dilu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IRE inoculum from solid medi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10920" y="1557000"/>
            <a:ext cx="7248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nies from solid media must b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4 days old from time of visible growt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2" descr=""/>
          <p:cNvPicPr/>
          <p:nvPr/>
        </p:nvPicPr>
        <p:blipFill>
          <a:blip r:embed="rId1"/>
          <a:stretch/>
        </p:blipFill>
        <p:spPr>
          <a:xfrm>
            <a:off x="826920" y="2637000"/>
            <a:ext cx="6429600" cy="262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IRE growth control suspens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625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wth contro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1:100 dilution of working suspen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oculate 0.5 ml of 1:100 dilution to tube containing no dru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Group 14"/>
          <p:cNvGrpSpPr/>
          <p:nvPr/>
        </p:nvGrpSpPr>
        <p:grpSpPr>
          <a:xfrm>
            <a:off x="5105520" y="2514600"/>
            <a:ext cx="3744000" cy="2286000"/>
            <a:chOff x="5105520" y="2514600"/>
            <a:chExt cx="3744000" cy="2286000"/>
          </a:xfrm>
        </p:grpSpPr>
        <p:sp>
          <p:nvSpPr>
            <p:cNvPr id="164" name="Oval 6"/>
            <p:cNvSpPr/>
            <p:nvPr/>
          </p:nvSpPr>
          <p:spPr>
            <a:xfrm>
              <a:off x="5135400" y="4046400"/>
              <a:ext cx="244800" cy="5076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8"/>
            <p:cNvSpPr/>
            <p:nvPr/>
          </p:nvSpPr>
          <p:spPr>
            <a:xfrm>
              <a:off x="5132520" y="3735360"/>
              <a:ext cx="252360" cy="106524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1065240"/>
                <a:gd name="textAreaBottom" fmla="*/ 1065600 h 1065240"/>
              </a:gdLst>
              <a:ahLst/>
              <a:rect l="textAreaLeft" t="textAreaTop" r="textAreaRight" b="textAreaBottom"/>
              <a:pathLst>
                <a:path w="119" h="724">
                  <a:moveTo>
                    <a:pt x="0" y="0"/>
                  </a:moveTo>
                  <a:lnTo>
                    <a:pt x="0" y="679"/>
                  </a:lnTo>
                  <a:lnTo>
                    <a:pt x="1" y="690"/>
                  </a:lnTo>
                  <a:lnTo>
                    <a:pt x="4" y="697"/>
                  </a:lnTo>
                  <a:lnTo>
                    <a:pt x="9" y="704"/>
                  </a:lnTo>
                  <a:lnTo>
                    <a:pt x="16" y="710"/>
                  </a:lnTo>
                  <a:lnTo>
                    <a:pt x="25" y="716"/>
                  </a:lnTo>
                  <a:lnTo>
                    <a:pt x="37" y="721"/>
                  </a:lnTo>
                  <a:lnTo>
                    <a:pt x="48" y="723"/>
                  </a:lnTo>
                  <a:lnTo>
                    <a:pt x="60" y="724"/>
                  </a:lnTo>
                  <a:lnTo>
                    <a:pt x="72" y="722"/>
                  </a:lnTo>
                  <a:lnTo>
                    <a:pt x="83" y="719"/>
                  </a:lnTo>
                  <a:lnTo>
                    <a:pt x="93" y="715"/>
                  </a:lnTo>
                  <a:lnTo>
                    <a:pt x="102" y="709"/>
                  </a:lnTo>
                  <a:lnTo>
                    <a:pt x="109" y="703"/>
                  </a:lnTo>
                  <a:lnTo>
                    <a:pt x="113" y="697"/>
                  </a:lnTo>
                  <a:lnTo>
                    <a:pt x="117" y="689"/>
                  </a:lnTo>
                  <a:lnTo>
                    <a:pt x="119" y="679"/>
                  </a:lnTo>
                  <a:lnTo>
                    <a:pt x="119" y="6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AutoShape 9"/>
            <p:cNvSpPr/>
            <p:nvPr/>
          </p:nvSpPr>
          <p:spPr>
            <a:xfrm flipH="1">
              <a:off x="5257800" y="2514600"/>
              <a:ext cx="1295280" cy="1371600"/>
            </a:xfrm>
            <a:custGeom>
              <a:avLst/>
              <a:gdLst>
                <a:gd name="textAreaLeft" fmla="*/ 188640 w 1295280"/>
                <a:gd name="textAreaRight" fmla="*/ 1106640 w 1295280"/>
                <a:gd name="textAreaTop" fmla="*/ 201600 h 1371600"/>
                <a:gd name="textAreaBottom" fmla="*/ 1170000 h 137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0770" y="11391"/>
                  </a:moveTo>
                  <a:cubicBezTo>
                    <a:pt x="20782" y="11194"/>
                    <a:pt x="20788" y="10997"/>
                    <a:pt x="20788" y="10800"/>
                  </a:cubicBezTo>
                  <a:cubicBezTo>
                    <a:pt x="20788" y="5283"/>
                    <a:pt x="16316" y="812"/>
                    <a:pt x="10800" y="812"/>
                  </a:cubicBezTo>
                  <a:cubicBezTo>
                    <a:pt x="9721" y="811"/>
                    <a:pt x="8650" y="986"/>
                    <a:pt x="7628" y="1328"/>
                  </a:cubicBezTo>
                  <a:lnTo>
                    <a:pt x="7370" y="558"/>
                  </a:lnTo>
                  <a:cubicBezTo>
                    <a:pt x="8476" y="188"/>
                    <a:pt x="9634" y="-1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cubicBezTo>
                    <a:pt x="21600" y="11013"/>
                    <a:pt x="21593" y="11226"/>
                    <a:pt x="21581" y="11440"/>
                  </a:cubicBezTo>
                  <a:lnTo>
                    <a:pt x="24276" y="11600"/>
                  </a:lnTo>
                  <a:lnTo>
                    <a:pt x="20990" y="14516"/>
                  </a:lnTo>
                  <a:lnTo>
                    <a:pt x="18075" y="11231"/>
                  </a:lnTo>
                  <a:lnTo>
                    <a:pt x="20770" y="11391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10"/>
            <p:cNvSpPr/>
            <p:nvPr/>
          </p:nvSpPr>
          <p:spPr>
            <a:xfrm>
              <a:off x="5857200" y="2651040"/>
              <a:ext cx="29923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 a test tube, mix by invers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.1 ml culture suspension a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.0 ml sterile salin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Oval 13"/>
            <p:cNvSpPr/>
            <p:nvPr/>
          </p:nvSpPr>
          <p:spPr>
            <a:xfrm>
              <a:off x="5105520" y="3733920"/>
              <a:ext cx="244440" cy="5076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2"/>
          <p:cNvSpPr/>
          <p:nvPr/>
        </p:nvSpPr>
        <p:spPr>
          <a:xfrm>
            <a:off x="307440" y="5813280"/>
            <a:ext cx="48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Group 3"/>
          <p:cNvGrpSpPr/>
          <p:nvPr/>
        </p:nvGrpSpPr>
        <p:grpSpPr>
          <a:xfrm>
            <a:off x="388800" y="4267080"/>
            <a:ext cx="322200" cy="1560240"/>
            <a:chOff x="388800" y="4267080"/>
            <a:chExt cx="322200" cy="1560240"/>
          </a:xfrm>
        </p:grpSpPr>
        <p:sp>
          <p:nvSpPr>
            <p:cNvPr id="171" name="AutoShape 4"/>
            <p:cNvSpPr/>
            <p:nvPr/>
          </p:nvSpPr>
          <p:spPr>
            <a:xfrm rot="16200000">
              <a:off x="508320" y="5655960"/>
              <a:ext cx="82800" cy="259920"/>
            </a:xfrm>
            <a:custGeom>
              <a:avLst/>
              <a:gdLst>
                <a:gd name="textAreaLeft" fmla="*/ 12240 w 82800"/>
                <a:gd name="textAreaRight" fmla="*/ 59400 w 82800"/>
                <a:gd name="textAreaTop" fmla="*/ 61200 h 259920"/>
                <a:gd name="textAreaBottom" fmla="*/ 198720 h 259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8554" y="2782"/>
                    <a:pt x="15507" y="5080"/>
                    <a:pt x="15507" y="10800"/>
                  </a:cubicBezTo>
                  <a:cubicBezTo>
                    <a:pt x="15507" y="16520"/>
                    <a:pt x="18554" y="1881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cc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Oval 5"/>
            <p:cNvSpPr/>
            <p:nvPr/>
          </p:nvSpPr>
          <p:spPr>
            <a:xfrm>
              <a:off x="419760" y="4861800"/>
              <a:ext cx="259920" cy="6552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AutoShape 6"/>
            <p:cNvSpPr/>
            <p:nvPr/>
          </p:nvSpPr>
          <p:spPr>
            <a:xfrm>
              <a:off x="388800" y="4267080"/>
              <a:ext cx="322200" cy="246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83838"/>
                </a:gs>
                <a:gs pos="50000">
                  <a:srgbClr val="b2b2b2"/>
                </a:gs>
                <a:gs pos="100000">
                  <a:srgbClr val="383838"/>
                </a:gs>
              </a:gsLst>
              <a:lin ang="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7"/>
            <p:cNvSpPr/>
            <p:nvPr/>
          </p:nvSpPr>
          <p:spPr>
            <a:xfrm>
              <a:off x="417600" y="4464360"/>
              <a:ext cx="266400" cy="1362600"/>
            </a:xfrm>
            <a:custGeom>
              <a:avLst/>
              <a:gdLst>
                <a:gd name="textAreaLeft" fmla="*/ 0 w 266400"/>
                <a:gd name="textAreaRight" fmla="*/ 266760 w 266400"/>
                <a:gd name="textAreaTop" fmla="*/ 0 h 1362600"/>
                <a:gd name="textAreaBottom" fmla="*/ 1362960 h 1362600"/>
              </a:gdLst>
              <a:ahLst/>
              <a:rect l="textAreaLeft" t="textAreaTop" r="textAreaRight" b="textAreaBottom"/>
              <a:pathLst>
                <a:path w="119" h="724">
                  <a:moveTo>
                    <a:pt x="0" y="0"/>
                  </a:moveTo>
                  <a:lnTo>
                    <a:pt x="0" y="679"/>
                  </a:lnTo>
                  <a:lnTo>
                    <a:pt x="1" y="690"/>
                  </a:lnTo>
                  <a:lnTo>
                    <a:pt x="4" y="697"/>
                  </a:lnTo>
                  <a:lnTo>
                    <a:pt x="9" y="704"/>
                  </a:lnTo>
                  <a:lnTo>
                    <a:pt x="16" y="710"/>
                  </a:lnTo>
                  <a:lnTo>
                    <a:pt x="25" y="716"/>
                  </a:lnTo>
                  <a:lnTo>
                    <a:pt x="37" y="721"/>
                  </a:lnTo>
                  <a:lnTo>
                    <a:pt x="48" y="723"/>
                  </a:lnTo>
                  <a:lnTo>
                    <a:pt x="60" y="724"/>
                  </a:lnTo>
                  <a:lnTo>
                    <a:pt x="72" y="722"/>
                  </a:lnTo>
                  <a:lnTo>
                    <a:pt x="83" y="719"/>
                  </a:lnTo>
                  <a:lnTo>
                    <a:pt x="93" y="715"/>
                  </a:lnTo>
                  <a:lnTo>
                    <a:pt x="102" y="709"/>
                  </a:lnTo>
                  <a:lnTo>
                    <a:pt x="109" y="703"/>
                  </a:lnTo>
                  <a:lnTo>
                    <a:pt x="113" y="697"/>
                  </a:lnTo>
                  <a:lnTo>
                    <a:pt x="117" y="689"/>
                  </a:lnTo>
                  <a:lnTo>
                    <a:pt x="119" y="679"/>
                  </a:lnTo>
                  <a:lnTo>
                    <a:pt x="119" y="6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Text Box 8"/>
          <p:cNvSpPr/>
          <p:nvPr/>
        </p:nvSpPr>
        <p:spPr>
          <a:xfrm>
            <a:off x="1580400" y="5813280"/>
            <a:ext cx="178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       I       R      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9"/>
          <p:cNvGrpSpPr/>
          <p:nvPr/>
        </p:nvGrpSpPr>
        <p:grpSpPr>
          <a:xfrm>
            <a:off x="1614600" y="4267080"/>
            <a:ext cx="1712160" cy="1559520"/>
            <a:chOff x="1614600" y="4267080"/>
            <a:chExt cx="1712160" cy="1559520"/>
          </a:xfrm>
        </p:grpSpPr>
        <p:grpSp>
          <p:nvGrpSpPr>
            <p:cNvPr id="177" name="Group 10"/>
            <p:cNvGrpSpPr/>
            <p:nvPr/>
          </p:nvGrpSpPr>
          <p:grpSpPr>
            <a:xfrm>
              <a:off x="1614600" y="4267080"/>
              <a:ext cx="320760" cy="1559520"/>
              <a:chOff x="1614600" y="4267080"/>
              <a:chExt cx="320760" cy="1559520"/>
            </a:xfrm>
          </p:grpSpPr>
          <p:sp>
            <p:nvSpPr>
              <p:cNvPr id="178" name="AutoShape 11"/>
              <p:cNvSpPr/>
              <p:nvPr/>
            </p:nvSpPr>
            <p:spPr>
              <a:xfrm rot="16200000">
                <a:off x="1733040" y="5655600"/>
                <a:ext cx="82440" cy="258480"/>
              </a:xfrm>
              <a:custGeom>
                <a:avLst/>
                <a:gdLst>
                  <a:gd name="textAreaLeft" fmla="*/ 12240 w 82440"/>
                  <a:gd name="textAreaRight" fmla="*/ 59400 w 82440"/>
                  <a:gd name="textAreaTop" fmla="*/ 61200 h 258480"/>
                  <a:gd name="textAreaBottom" fmla="*/ 197280 h 258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8554" y="2782"/>
                      <a:pt x="15507" y="5080"/>
                      <a:pt x="15507" y="10800"/>
                    </a:cubicBezTo>
                    <a:cubicBezTo>
                      <a:pt x="15507" y="16520"/>
                      <a:pt x="18554" y="18818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cc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Oval 12"/>
              <p:cNvSpPr/>
              <p:nvPr/>
            </p:nvSpPr>
            <p:spPr>
              <a:xfrm>
                <a:off x="1645200" y="4861800"/>
                <a:ext cx="258480" cy="6552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AutoShape 13"/>
              <p:cNvSpPr/>
              <p:nvPr/>
            </p:nvSpPr>
            <p:spPr>
              <a:xfrm>
                <a:off x="1614600" y="4267080"/>
                <a:ext cx="320760" cy="24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383838"/>
                  </a:gs>
                  <a:gs pos="50000">
                    <a:srgbClr val="b2b2b2"/>
                  </a:gs>
                  <a:gs pos="100000">
                    <a:srgbClr val="383838"/>
                  </a:gs>
                </a:gsLst>
                <a:lin ang="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Freeform 14"/>
              <p:cNvSpPr/>
              <p:nvPr/>
            </p:nvSpPr>
            <p:spPr>
              <a:xfrm>
                <a:off x="1643400" y="4464360"/>
                <a:ext cx="265320" cy="1362240"/>
              </a:xfrm>
              <a:custGeom>
                <a:avLst/>
                <a:gdLst>
                  <a:gd name="textAreaLeft" fmla="*/ 0 w 265320"/>
                  <a:gd name="textAreaRight" fmla="*/ 265680 w 265320"/>
                  <a:gd name="textAreaTop" fmla="*/ 0 h 1362240"/>
                  <a:gd name="textAreaBottom" fmla="*/ 1362240 h 1362240"/>
                </a:gdLst>
                <a:ahLst/>
                <a:rect l="textAreaLeft" t="textAreaTop" r="textAreaRight" b="textAreaBottom"/>
                <a:pathLst>
                  <a:path w="119" h="724">
                    <a:moveTo>
                      <a:pt x="0" y="0"/>
                    </a:moveTo>
                    <a:lnTo>
                      <a:pt x="0" y="679"/>
                    </a:lnTo>
                    <a:lnTo>
                      <a:pt x="1" y="690"/>
                    </a:lnTo>
                    <a:lnTo>
                      <a:pt x="4" y="697"/>
                    </a:lnTo>
                    <a:lnTo>
                      <a:pt x="9" y="704"/>
                    </a:lnTo>
                    <a:lnTo>
                      <a:pt x="16" y="710"/>
                    </a:lnTo>
                    <a:lnTo>
                      <a:pt x="25" y="716"/>
                    </a:lnTo>
                    <a:lnTo>
                      <a:pt x="37" y="721"/>
                    </a:lnTo>
                    <a:lnTo>
                      <a:pt x="48" y="723"/>
                    </a:lnTo>
                    <a:lnTo>
                      <a:pt x="60" y="724"/>
                    </a:lnTo>
                    <a:lnTo>
                      <a:pt x="72" y="722"/>
                    </a:lnTo>
                    <a:lnTo>
                      <a:pt x="83" y="719"/>
                    </a:lnTo>
                    <a:lnTo>
                      <a:pt x="93" y="715"/>
                    </a:lnTo>
                    <a:lnTo>
                      <a:pt x="102" y="709"/>
                    </a:lnTo>
                    <a:lnTo>
                      <a:pt x="109" y="703"/>
                    </a:lnTo>
                    <a:lnTo>
                      <a:pt x="113" y="697"/>
                    </a:lnTo>
                    <a:lnTo>
                      <a:pt x="117" y="689"/>
                    </a:lnTo>
                    <a:lnTo>
                      <a:pt x="119" y="679"/>
                    </a:lnTo>
                    <a:lnTo>
                      <a:pt x="119" y="6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Group 15"/>
            <p:cNvGrpSpPr/>
            <p:nvPr/>
          </p:nvGrpSpPr>
          <p:grpSpPr>
            <a:xfrm>
              <a:off x="2078280" y="4267080"/>
              <a:ext cx="320760" cy="1559520"/>
              <a:chOff x="2078280" y="4267080"/>
              <a:chExt cx="320760" cy="1559520"/>
            </a:xfrm>
          </p:grpSpPr>
          <p:sp>
            <p:nvSpPr>
              <p:cNvPr id="183" name="AutoShape 16"/>
              <p:cNvSpPr/>
              <p:nvPr/>
            </p:nvSpPr>
            <p:spPr>
              <a:xfrm rot="16200000">
                <a:off x="2196720" y="5655600"/>
                <a:ext cx="82440" cy="258480"/>
              </a:xfrm>
              <a:custGeom>
                <a:avLst/>
                <a:gdLst>
                  <a:gd name="textAreaLeft" fmla="*/ 12240 w 82440"/>
                  <a:gd name="textAreaRight" fmla="*/ 59400 w 82440"/>
                  <a:gd name="textAreaTop" fmla="*/ 61200 h 258480"/>
                  <a:gd name="textAreaBottom" fmla="*/ 197280 h 258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8554" y="2782"/>
                      <a:pt x="15507" y="5080"/>
                      <a:pt x="15507" y="10800"/>
                    </a:cubicBezTo>
                    <a:cubicBezTo>
                      <a:pt x="15507" y="16520"/>
                      <a:pt x="18554" y="18818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cc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Oval 17"/>
              <p:cNvSpPr/>
              <p:nvPr/>
            </p:nvSpPr>
            <p:spPr>
              <a:xfrm>
                <a:off x="2108880" y="4861800"/>
                <a:ext cx="258480" cy="6552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AutoShape 18"/>
              <p:cNvSpPr/>
              <p:nvPr/>
            </p:nvSpPr>
            <p:spPr>
              <a:xfrm>
                <a:off x="2078280" y="4267080"/>
                <a:ext cx="320760" cy="24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383838"/>
                  </a:gs>
                  <a:gs pos="50000">
                    <a:srgbClr val="b2b2b2"/>
                  </a:gs>
                  <a:gs pos="100000">
                    <a:srgbClr val="383838"/>
                  </a:gs>
                </a:gsLst>
                <a:lin ang="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Freeform 19"/>
              <p:cNvSpPr/>
              <p:nvPr/>
            </p:nvSpPr>
            <p:spPr>
              <a:xfrm>
                <a:off x="2107080" y="4464360"/>
                <a:ext cx="265320" cy="1362240"/>
              </a:xfrm>
              <a:custGeom>
                <a:avLst/>
                <a:gdLst>
                  <a:gd name="textAreaLeft" fmla="*/ 0 w 265320"/>
                  <a:gd name="textAreaRight" fmla="*/ 265680 w 265320"/>
                  <a:gd name="textAreaTop" fmla="*/ 0 h 1362240"/>
                  <a:gd name="textAreaBottom" fmla="*/ 1362240 h 1362240"/>
                </a:gdLst>
                <a:ahLst/>
                <a:rect l="textAreaLeft" t="textAreaTop" r="textAreaRight" b="textAreaBottom"/>
                <a:pathLst>
                  <a:path w="119" h="724">
                    <a:moveTo>
                      <a:pt x="0" y="0"/>
                    </a:moveTo>
                    <a:lnTo>
                      <a:pt x="0" y="679"/>
                    </a:lnTo>
                    <a:lnTo>
                      <a:pt x="1" y="690"/>
                    </a:lnTo>
                    <a:lnTo>
                      <a:pt x="4" y="697"/>
                    </a:lnTo>
                    <a:lnTo>
                      <a:pt x="9" y="704"/>
                    </a:lnTo>
                    <a:lnTo>
                      <a:pt x="16" y="710"/>
                    </a:lnTo>
                    <a:lnTo>
                      <a:pt x="25" y="716"/>
                    </a:lnTo>
                    <a:lnTo>
                      <a:pt x="37" y="721"/>
                    </a:lnTo>
                    <a:lnTo>
                      <a:pt x="48" y="723"/>
                    </a:lnTo>
                    <a:lnTo>
                      <a:pt x="60" y="724"/>
                    </a:lnTo>
                    <a:lnTo>
                      <a:pt x="72" y="722"/>
                    </a:lnTo>
                    <a:lnTo>
                      <a:pt x="83" y="719"/>
                    </a:lnTo>
                    <a:lnTo>
                      <a:pt x="93" y="715"/>
                    </a:lnTo>
                    <a:lnTo>
                      <a:pt x="102" y="709"/>
                    </a:lnTo>
                    <a:lnTo>
                      <a:pt x="109" y="703"/>
                    </a:lnTo>
                    <a:lnTo>
                      <a:pt x="113" y="697"/>
                    </a:lnTo>
                    <a:lnTo>
                      <a:pt x="117" y="689"/>
                    </a:lnTo>
                    <a:lnTo>
                      <a:pt x="119" y="679"/>
                    </a:lnTo>
                    <a:lnTo>
                      <a:pt x="119" y="6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Group 20"/>
            <p:cNvGrpSpPr/>
            <p:nvPr/>
          </p:nvGrpSpPr>
          <p:grpSpPr>
            <a:xfrm>
              <a:off x="2541960" y="4267080"/>
              <a:ext cx="320760" cy="1559520"/>
              <a:chOff x="2541960" y="4267080"/>
              <a:chExt cx="320760" cy="1559520"/>
            </a:xfrm>
          </p:grpSpPr>
          <p:sp>
            <p:nvSpPr>
              <p:cNvPr id="188" name="AutoShape 21"/>
              <p:cNvSpPr/>
              <p:nvPr/>
            </p:nvSpPr>
            <p:spPr>
              <a:xfrm rot="16200000">
                <a:off x="2660400" y="5655600"/>
                <a:ext cx="82440" cy="258480"/>
              </a:xfrm>
              <a:custGeom>
                <a:avLst/>
                <a:gdLst>
                  <a:gd name="textAreaLeft" fmla="*/ 12240 w 82440"/>
                  <a:gd name="textAreaRight" fmla="*/ 59400 w 82440"/>
                  <a:gd name="textAreaTop" fmla="*/ 61200 h 258480"/>
                  <a:gd name="textAreaBottom" fmla="*/ 197280 h 258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8554" y="2782"/>
                      <a:pt x="15507" y="5080"/>
                      <a:pt x="15507" y="10800"/>
                    </a:cubicBezTo>
                    <a:cubicBezTo>
                      <a:pt x="15507" y="16520"/>
                      <a:pt x="18554" y="18818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cc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Oval 22"/>
              <p:cNvSpPr/>
              <p:nvPr/>
            </p:nvSpPr>
            <p:spPr>
              <a:xfrm>
                <a:off x="2572560" y="4861800"/>
                <a:ext cx="258480" cy="6552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AutoShape 23"/>
              <p:cNvSpPr/>
              <p:nvPr/>
            </p:nvSpPr>
            <p:spPr>
              <a:xfrm>
                <a:off x="2541960" y="4267080"/>
                <a:ext cx="320760" cy="24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383838"/>
                  </a:gs>
                  <a:gs pos="50000">
                    <a:srgbClr val="b2b2b2"/>
                  </a:gs>
                  <a:gs pos="100000">
                    <a:srgbClr val="383838"/>
                  </a:gs>
                </a:gsLst>
                <a:lin ang="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Freeform 24"/>
              <p:cNvSpPr/>
              <p:nvPr/>
            </p:nvSpPr>
            <p:spPr>
              <a:xfrm>
                <a:off x="2570760" y="4464360"/>
                <a:ext cx="265320" cy="1362240"/>
              </a:xfrm>
              <a:custGeom>
                <a:avLst/>
                <a:gdLst>
                  <a:gd name="textAreaLeft" fmla="*/ 0 w 265320"/>
                  <a:gd name="textAreaRight" fmla="*/ 265680 w 265320"/>
                  <a:gd name="textAreaTop" fmla="*/ 0 h 1362240"/>
                  <a:gd name="textAreaBottom" fmla="*/ 1362240 h 1362240"/>
                </a:gdLst>
                <a:ahLst/>
                <a:rect l="textAreaLeft" t="textAreaTop" r="textAreaRight" b="textAreaBottom"/>
                <a:pathLst>
                  <a:path w="119" h="724">
                    <a:moveTo>
                      <a:pt x="0" y="0"/>
                    </a:moveTo>
                    <a:lnTo>
                      <a:pt x="0" y="679"/>
                    </a:lnTo>
                    <a:lnTo>
                      <a:pt x="1" y="690"/>
                    </a:lnTo>
                    <a:lnTo>
                      <a:pt x="4" y="697"/>
                    </a:lnTo>
                    <a:lnTo>
                      <a:pt x="9" y="704"/>
                    </a:lnTo>
                    <a:lnTo>
                      <a:pt x="16" y="710"/>
                    </a:lnTo>
                    <a:lnTo>
                      <a:pt x="25" y="716"/>
                    </a:lnTo>
                    <a:lnTo>
                      <a:pt x="37" y="721"/>
                    </a:lnTo>
                    <a:lnTo>
                      <a:pt x="48" y="723"/>
                    </a:lnTo>
                    <a:lnTo>
                      <a:pt x="60" y="724"/>
                    </a:lnTo>
                    <a:lnTo>
                      <a:pt x="72" y="722"/>
                    </a:lnTo>
                    <a:lnTo>
                      <a:pt x="83" y="719"/>
                    </a:lnTo>
                    <a:lnTo>
                      <a:pt x="93" y="715"/>
                    </a:lnTo>
                    <a:lnTo>
                      <a:pt x="102" y="709"/>
                    </a:lnTo>
                    <a:lnTo>
                      <a:pt x="109" y="703"/>
                    </a:lnTo>
                    <a:lnTo>
                      <a:pt x="113" y="697"/>
                    </a:lnTo>
                    <a:lnTo>
                      <a:pt x="117" y="689"/>
                    </a:lnTo>
                    <a:lnTo>
                      <a:pt x="119" y="679"/>
                    </a:lnTo>
                    <a:lnTo>
                      <a:pt x="119" y="6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2" name="Group 25"/>
            <p:cNvGrpSpPr/>
            <p:nvPr/>
          </p:nvGrpSpPr>
          <p:grpSpPr>
            <a:xfrm>
              <a:off x="3006000" y="4267080"/>
              <a:ext cx="320760" cy="1559520"/>
              <a:chOff x="3006000" y="4267080"/>
              <a:chExt cx="320760" cy="1559520"/>
            </a:xfrm>
          </p:grpSpPr>
          <p:sp>
            <p:nvSpPr>
              <p:cNvPr id="193" name="AutoShape 26"/>
              <p:cNvSpPr/>
              <p:nvPr/>
            </p:nvSpPr>
            <p:spPr>
              <a:xfrm rot="16200000">
                <a:off x="3124440" y="5655600"/>
                <a:ext cx="82440" cy="258480"/>
              </a:xfrm>
              <a:custGeom>
                <a:avLst/>
                <a:gdLst>
                  <a:gd name="textAreaLeft" fmla="*/ 12240 w 82440"/>
                  <a:gd name="textAreaRight" fmla="*/ 59400 w 82440"/>
                  <a:gd name="textAreaTop" fmla="*/ 61200 h 258480"/>
                  <a:gd name="textAreaBottom" fmla="*/ 197280 h 258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8554" y="2782"/>
                      <a:pt x="15507" y="5080"/>
                      <a:pt x="15507" y="10800"/>
                    </a:cubicBezTo>
                    <a:cubicBezTo>
                      <a:pt x="15507" y="16520"/>
                      <a:pt x="18554" y="18818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cc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Oval 27"/>
              <p:cNvSpPr/>
              <p:nvPr/>
            </p:nvSpPr>
            <p:spPr>
              <a:xfrm>
                <a:off x="3036600" y="4861800"/>
                <a:ext cx="258480" cy="6552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AutoShape 28"/>
              <p:cNvSpPr/>
              <p:nvPr/>
            </p:nvSpPr>
            <p:spPr>
              <a:xfrm>
                <a:off x="3006000" y="4267080"/>
                <a:ext cx="320760" cy="24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383838"/>
                  </a:gs>
                  <a:gs pos="50000">
                    <a:srgbClr val="b2b2b2"/>
                  </a:gs>
                  <a:gs pos="100000">
                    <a:srgbClr val="383838"/>
                  </a:gs>
                </a:gsLst>
                <a:lin ang="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Freeform 29"/>
              <p:cNvSpPr/>
              <p:nvPr/>
            </p:nvSpPr>
            <p:spPr>
              <a:xfrm>
                <a:off x="3034800" y="4464360"/>
                <a:ext cx="265320" cy="1362240"/>
              </a:xfrm>
              <a:custGeom>
                <a:avLst/>
                <a:gdLst>
                  <a:gd name="textAreaLeft" fmla="*/ 0 w 265320"/>
                  <a:gd name="textAreaRight" fmla="*/ 265680 w 265320"/>
                  <a:gd name="textAreaTop" fmla="*/ 0 h 1362240"/>
                  <a:gd name="textAreaBottom" fmla="*/ 1362240 h 1362240"/>
                </a:gdLst>
                <a:ahLst/>
                <a:rect l="textAreaLeft" t="textAreaTop" r="textAreaRight" b="textAreaBottom"/>
                <a:pathLst>
                  <a:path w="119" h="724">
                    <a:moveTo>
                      <a:pt x="0" y="0"/>
                    </a:moveTo>
                    <a:lnTo>
                      <a:pt x="0" y="679"/>
                    </a:lnTo>
                    <a:lnTo>
                      <a:pt x="1" y="690"/>
                    </a:lnTo>
                    <a:lnTo>
                      <a:pt x="4" y="697"/>
                    </a:lnTo>
                    <a:lnTo>
                      <a:pt x="9" y="704"/>
                    </a:lnTo>
                    <a:lnTo>
                      <a:pt x="16" y="710"/>
                    </a:lnTo>
                    <a:lnTo>
                      <a:pt x="25" y="716"/>
                    </a:lnTo>
                    <a:lnTo>
                      <a:pt x="37" y="721"/>
                    </a:lnTo>
                    <a:lnTo>
                      <a:pt x="48" y="723"/>
                    </a:lnTo>
                    <a:lnTo>
                      <a:pt x="60" y="724"/>
                    </a:lnTo>
                    <a:lnTo>
                      <a:pt x="72" y="722"/>
                    </a:lnTo>
                    <a:lnTo>
                      <a:pt x="83" y="719"/>
                    </a:lnTo>
                    <a:lnTo>
                      <a:pt x="93" y="715"/>
                    </a:lnTo>
                    <a:lnTo>
                      <a:pt x="102" y="709"/>
                    </a:lnTo>
                    <a:lnTo>
                      <a:pt x="109" y="703"/>
                    </a:lnTo>
                    <a:lnTo>
                      <a:pt x="113" y="697"/>
                    </a:lnTo>
                    <a:lnTo>
                      <a:pt x="117" y="689"/>
                    </a:lnTo>
                    <a:lnTo>
                      <a:pt x="119" y="679"/>
                    </a:lnTo>
                    <a:lnTo>
                      <a:pt x="119" y="6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oculation of SIR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038120" y="1295280"/>
            <a:ext cx="4953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pare 5 MGIT tub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bel MGIT tu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0.8 ml SIRE supp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0.1 ml of corresponding dru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0.5 ml inoculum to drug tub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0.5 ml 1:100 dilution GC suspension to GC tu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x 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 times by inver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ce in proper DST carriers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o MGIT 960 instru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32"/>
          <p:cNvSpPr/>
          <p:nvPr/>
        </p:nvSpPr>
        <p:spPr>
          <a:xfrm flipH="1">
            <a:off x="532800" y="1981080"/>
            <a:ext cx="1066680" cy="3124440"/>
          </a:xfrm>
          <a:custGeom>
            <a:avLst/>
            <a:gdLst>
              <a:gd name="textAreaLeft" fmla="*/ 156240 w 1066680"/>
              <a:gd name="textAreaRight" fmla="*/ 910440 w 1066680"/>
              <a:gd name="textAreaTop" fmla="*/ 457560 h 3124440"/>
              <a:gd name="textAreaBottom" fmla="*/ 2666880 h 3124440"/>
            </a:gdLst>
            <a:ahLst/>
            <a:rect l="textAreaLeft" t="textAreaTop" r="textAreaRight" b="textAreaBottom"/>
            <a:pathLst>
              <a:path w="21600" h="21600">
                <a:moveTo>
                  <a:pt x="20770" y="11391"/>
                </a:moveTo>
                <a:cubicBezTo>
                  <a:pt x="20782" y="11194"/>
                  <a:pt x="20788" y="10997"/>
                  <a:pt x="20788" y="10800"/>
                </a:cubicBezTo>
                <a:cubicBezTo>
                  <a:pt x="20788" y="5283"/>
                  <a:pt x="16316" y="812"/>
                  <a:pt x="10800" y="812"/>
                </a:cubicBezTo>
                <a:cubicBezTo>
                  <a:pt x="9721" y="811"/>
                  <a:pt x="8650" y="986"/>
                  <a:pt x="7628" y="1328"/>
                </a:cubicBezTo>
                <a:lnTo>
                  <a:pt x="7370" y="558"/>
                </a:lnTo>
                <a:cubicBezTo>
                  <a:pt x="8476" y="188"/>
                  <a:pt x="9634" y="-1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ubicBezTo>
                  <a:pt x="21600" y="11013"/>
                  <a:pt x="21593" y="11226"/>
                  <a:pt x="21581" y="11440"/>
                </a:cubicBezTo>
                <a:lnTo>
                  <a:pt x="24276" y="11600"/>
                </a:lnTo>
                <a:lnTo>
                  <a:pt x="20990" y="14516"/>
                </a:lnTo>
                <a:lnTo>
                  <a:pt x="18075" y="11231"/>
                </a:lnTo>
                <a:lnTo>
                  <a:pt x="20770" y="11391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Group 33"/>
          <p:cNvGrpSpPr/>
          <p:nvPr/>
        </p:nvGrpSpPr>
        <p:grpSpPr>
          <a:xfrm>
            <a:off x="1752480" y="1981080"/>
            <a:ext cx="2438640" cy="3124440"/>
            <a:chOff x="1752480" y="1981080"/>
            <a:chExt cx="2438640" cy="3124440"/>
          </a:xfrm>
        </p:grpSpPr>
        <p:sp>
          <p:nvSpPr>
            <p:cNvPr id="201" name="AutoShape 34"/>
            <p:cNvSpPr/>
            <p:nvPr/>
          </p:nvSpPr>
          <p:spPr>
            <a:xfrm flipH="1">
              <a:off x="1752480" y="1981080"/>
              <a:ext cx="1067040" cy="3124440"/>
            </a:xfrm>
            <a:custGeom>
              <a:avLst/>
              <a:gdLst>
                <a:gd name="textAreaLeft" fmla="*/ 155520 w 1067040"/>
                <a:gd name="textAreaRight" fmla="*/ 911520 w 1067040"/>
                <a:gd name="textAreaTop" fmla="*/ 457200 h 3124440"/>
                <a:gd name="textAreaBottom" fmla="*/ 2667240 h 3124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0770" y="11391"/>
                  </a:moveTo>
                  <a:cubicBezTo>
                    <a:pt x="20782" y="11194"/>
                    <a:pt x="20788" y="10997"/>
                    <a:pt x="20788" y="10800"/>
                  </a:cubicBezTo>
                  <a:cubicBezTo>
                    <a:pt x="20788" y="5283"/>
                    <a:pt x="16316" y="812"/>
                    <a:pt x="10800" y="812"/>
                  </a:cubicBezTo>
                  <a:cubicBezTo>
                    <a:pt x="9721" y="811"/>
                    <a:pt x="8650" y="986"/>
                    <a:pt x="7628" y="1328"/>
                  </a:cubicBezTo>
                  <a:lnTo>
                    <a:pt x="7370" y="558"/>
                  </a:lnTo>
                  <a:cubicBezTo>
                    <a:pt x="8476" y="188"/>
                    <a:pt x="9634" y="-1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cubicBezTo>
                    <a:pt x="21600" y="11013"/>
                    <a:pt x="21593" y="11226"/>
                    <a:pt x="21581" y="11440"/>
                  </a:cubicBezTo>
                  <a:lnTo>
                    <a:pt x="24276" y="11600"/>
                  </a:lnTo>
                  <a:lnTo>
                    <a:pt x="20990" y="14516"/>
                  </a:lnTo>
                  <a:lnTo>
                    <a:pt x="18075" y="11231"/>
                  </a:lnTo>
                  <a:lnTo>
                    <a:pt x="20770" y="11391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AutoShape 35"/>
            <p:cNvSpPr/>
            <p:nvPr/>
          </p:nvSpPr>
          <p:spPr>
            <a:xfrm flipH="1">
              <a:off x="2209680" y="1981080"/>
              <a:ext cx="1067040" cy="3124440"/>
            </a:xfrm>
            <a:custGeom>
              <a:avLst/>
              <a:gdLst>
                <a:gd name="textAreaLeft" fmla="*/ 155520 w 1067040"/>
                <a:gd name="textAreaRight" fmla="*/ 911520 w 1067040"/>
                <a:gd name="textAreaTop" fmla="*/ 457200 h 3124440"/>
                <a:gd name="textAreaBottom" fmla="*/ 2667240 h 3124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0770" y="11391"/>
                  </a:moveTo>
                  <a:cubicBezTo>
                    <a:pt x="20782" y="11194"/>
                    <a:pt x="20788" y="10997"/>
                    <a:pt x="20788" y="10800"/>
                  </a:cubicBezTo>
                  <a:cubicBezTo>
                    <a:pt x="20788" y="5283"/>
                    <a:pt x="16316" y="812"/>
                    <a:pt x="10800" y="812"/>
                  </a:cubicBezTo>
                  <a:cubicBezTo>
                    <a:pt x="9721" y="811"/>
                    <a:pt x="8650" y="986"/>
                    <a:pt x="7628" y="1328"/>
                  </a:cubicBezTo>
                  <a:lnTo>
                    <a:pt x="7370" y="558"/>
                  </a:lnTo>
                  <a:cubicBezTo>
                    <a:pt x="8476" y="188"/>
                    <a:pt x="9634" y="-1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cubicBezTo>
                    <a:pt x="21600" y="11013"/>
                    <a:pt x="21593" y="11226"/>
                    <a:pt x="21581" y="11440"/>
                  </a:cubicBezTo>
                  <a:lnTo>
                    <a:pt x="24276" y="11600"/>
                  </a:lnTo>
                  <a:lnTo>
                    <a:pt x="20990" y="14516"/>
                  </a:lnTo>
                  <a:lnTo>
                    <a:pt x="18075" y="11231"/>
                  </a:lnTo>
                  <a:lnTo>
                    <a:pt x="20770" y="11391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AutoShape 36"/>
            <p:cNvSpPr/>
            <p:nvPr/>
          </p:nvSpPr>
          <p:spPr>
            <a:xfrm flipH="1">
              <a:off x="2666880" y="1981080"/>
              <a:ext cx="1067040" cy="3124440"/>
            </a:xfrm>
            <a:custGeom>
              <a:avLst/>
              <a:gdLst>
                <a:gd name="textAreaLeft" fmla="*/ 155520 w 1067040"/>
                <a:gd name="textAreaRight" fmla="*/ 911520 w 1067040"/>
                <a:gd name="textAreaTop" fmla="*/ 457200 h 3124440"/>
                <a:gd name="textAreaBottom" fmla="*/ 2667240 h 3124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0770" y="11391"/>
                  </a:moveTo>
                  <a:cubicBezTo>
                    <a:pt x="20782" y="11194"/>
                    <a:pt x="20788" y="10997"/>
                    <a:pt x="20788" y="10800"/>
                  </a:cubicBezTo>
                  <a:cubicBezTo>
                    <a:pt x="20788" y="5283"/>
                    <a:pt x="16316" y="812"/>
                    <a:pt x="10800" y="812"/>
                  </a:cubicBezTo>
                  <a:cubicBezTo>
                    <a:pt x="9721" y="811"/>
                    <a:pt x="8650" y="986"/>
                    <a:pt x="7628" y="1328"/>
                  </a:cubicBezTo>
                  <a:lnTo>
                    <a:pt x="7370" y="558"/>
                  </a:lnTo>
                  <a:cubicBezTo>
                    <a:pt x="8476" y="188"/>
                    <a:pt x="9634" y="-1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cubicBezTo>
                    <a:pt x="21600" y="11013"/>
                    <a:pt x="21593" y="11226"/>
                    <a:pt x="21581" y="11440"/>
                  </a:cubicBezTo>
                  <a:lnTo>
                    <a:pt x="24276" y="11600"/>
                  </a:lnTo>
                  <a:lnTo>
                    <a:pt x="20990" y="14516"/>
                  </a:lnTo>
                  <a:lnTo>
                    <a:pt x="18075" y="11231"/>
                  </a:lnTo>
                  <a:lnTo>
                    <a:pt x="20770" y="11391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AutoShape 37"/>
            <p:cNvSpPr/>
            <p:nvPr/>
          </p:nvSpPr>
          <p:spPr>
            <a:xfrm flipH="1">
              <a:off x="3124080" y="1981080"/>
              <a:ext cx="1067040" cy="3124440"/>
            </a:xfrm>
            <a:custGeom>
              <a:avLst/>
              <a:gdLst>
                <a:gd name="textAreaLeft" fmla="*/ 155520 w 1067040"/>
                <a:gd name="textAreaRight" fmla="*/ 911520 w 1067040"/>
                <a:gd name="textAreaTop" fmla="*/ 457200 h 3124440"/>
                <a:gd name="textAreaBottom" fmla="*/ 2667240 h 3124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0770" y="11391"/>
                  </a:moveTo>
                  <a:cubicBezTo>
                    <a:pt x="20782" y="11194"/>
                    <a:pt x="20788" y="10997"/>
                    <a:pt x="20788" y="10800"/>
                  </a:cubicBezTo>
                  <a:cubicBezTo>
                    <a:pt x="20788" y="5283"/>
                    <a:pt x="16316" y="812"/>
                    <a:pt x="10800" y="812"/>
                  </a:cubicBezTo>
                  <a:cubicBezTo>
                    <a:pt x="9721" y="811"/>
                    <a:pt x="8650" y="986"/>
                    <a:pt x="7628" y="1328"/>
                  </a:cubicBezTo>
                  <a:lnTo>
                    <a:pt x="7370" y="558"/>
                  </a:lnTo>
                  <a:cubicBezTo>
                    <a:pt x="8476" y="188"/>
                    <a:pt x="9634" y="-1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cubicBezTo>
                    <a:pt x="21600" y="11013"/>
                    <a:pt x="21593" y="11226"/>
                    <a:pt x="21581" y="11440"/>
                  </a:cubicBezTo>
                  <a:lnTo>
                    <a:pt x="24276" y="11600"/>
                  </a:lnTo>
                  <a:lnTo>
                    <a:pt x="20990" y="14516"/>
                  </a:lnTo>
                  <a:lnTo>
                    <a:pt x="18075" y="11231"/>
                  </a:lnTo>
                  <a:lnTo>
                    <a:pt x="20770" y="11391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200" spc="-1" strike="noStrike">
                <a:solidFill>
                  <a:srgbClr val="ffffff"/>
                </a:solidFill>
                <a:latin typeface="Arial"/>
              </a:rPr>
              <a:t>SIRE inoculation overview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23760" y="1643040"/>
            <a:ext cx="904896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ZA susceptibility testing: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GIT 96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1 days qualitative test (from solid or liqui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 in fluorescence interpreted as “Growth Units” (GU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sceptibility results and GU values are printed on the Unloaded DST Set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nstrument Inventory Report prints GU values for all ongoing DST s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ZA susceptibility test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ZA is active only at low pH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(in vitr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ST test must be performed in low pH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id media for PZA testing has pH of 5.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this pH, many strains grow poorly or not at al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TEC PZA medium is around pH 5.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ZA supplement required to enhance ability of organisms to grown at this 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4"/>
          <p:cNvSpPr/>
          <p:nvPr/>
        </p:nvSpPr>
        <p:spPr>
          <a:xfrm>
            <a:off x="741240" y="6099120"/>
            <a:ext cx="43513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0066"/>
                </a:solidFill>
                <a:latin typeface="Arial"/>
              </a:rPr>
              <a:t>CLSI, M24-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0066"/>
                </a:solidFill>
                <a:latin typeface="Arial"/>
              </a:rPr>
              <a:t>BACTEC PZA package ins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ZA susceptibility test: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GIT 96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10920" y="1413000"/>
            <a:ext cx="79246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ZA medium is a modified 7H9 broth with a reduced pH of 5.9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lement is enrich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 from SIRE AST supp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t drug concentration 100 µg/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interpretable after 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1 d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litative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ed with BACTEC 460 Gold Standard (CLSI recommendatio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ZA dru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762120" y="2209680"/>
          <a:ext cx="7772400" cy="1770120"/>
        </p:xfrm>
        <a:graphic>
          <a:graphicData uri="http://schemas.openxmlformats.org/drawingml/2006/table">
            <a:tbl>
              <a:tblPr/>
              <a:tblGrid>
                <a:gridCol w="3504960"/>
                <a:gridCol w="4267440"/>
              </a:tblGrid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Drug na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Approx. lyophilized drug/vi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Pyrazinamide (PZA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100 </a:t>
                      </a:r>
                      <a:r>
                        <a:rPr b="1" lang="en-US" sz="2800" spc="-1" strike="noStrike">
                          <a:solidFill>
                            <a:srgbClr val="330066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torag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rigerate lyophilized drugs at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nstitute prior to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oid exposure to l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nstituted drug solutions may be frozen in aliquots at -20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 or lower and stored for up to 6 months or up to the date of original expiry, whichever comes soo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gle thaw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iquid-based DST system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quid methods incorporate a means of quantifying growth in the presence of a drug compared to a growth control with no dru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wth characteristics in the medium are used as the basis for evaluation (dru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v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o dru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growth characteristic is observed for the entire organism population and for 1% of the organism pop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609480" y="1447920"/>
            <a:ext cx="5029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nstitute PZA drug vial with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5 ml of sterile distilled/deionized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x thoroughly and make sure drug is completely diss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Reconstitution of lyophilized drug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Picture 6" descr="PZA"/>
          <p:cNvPicPr/>
          <p:nvPr/>
        </p:nvPicPr>
        <p:blipFill>
          <a:blip r:embed="rId1"/>
          <a:stretch/>
        </p:blipFill>
        <p:spPr>
          <a:xfrm>
            <a:off x="5943600" y="2362320"/>
            <a:ext cx="2503440" cy="2666880"/>
          </a:xfrm>
          <a:prstGeom prst="rect">
            <a:avLst/>
          </a:prstGeom>
          <a:ln w="9360">
            <a:solidFill>
              <a:srgbClr val="9999ff"/>
            </a:solidFill>
            <a:miter/>
          </a:ln>
          <a:effectLst>
            <a:outerShdw dist="53966" dir="2700000" blurRad="0" rotWithShape="0">
              <a:srgbClr val="9999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ZA inoculum prepara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 Box 37"/>
          <p:cNvSpPr/>
          <p:nvPr/>
        </p:nvSpPr>
        <p:spPr>
          <a:xfrm>
            <a:off x="4876920" y="1600200"/>
            <a:ext cx="38862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.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ay of positivity =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Day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Incubate </a:t>
            </a:r>
            <a:r>
              <a:rPr b="0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at least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one more day after posi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66"/>
              </a:buClr>
              <a:buFont typeface="Arial"/>
              <a:buAutoNum type="alphaUcPeriod" startAt="2"/>
              <a:tabLst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ay of positivity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= 1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–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Go directly to preparation &amp; inoc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.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ay of positivity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= 3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–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Dilute 1 ml of positive broth into 4 ml sterile sa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(1:5 dilu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8"/>
          <p:cNvGrpSpPr/>
          <p:nvPr/>
        </p:nvGrpSpPr>
        <p:grpSpPr>
          <a:xfrm>
            <a:off x="621000" y="1576440"/>
            <a:ext cx="3748680" cy="4517640"/>
            <a:chOff x="621000" y="1576440"/>
            <a:chExt cx="3748680" cy="4517640"/>
          </a:xfrm>
        </p:grpSpPr>
        <p:grpSp>
          <p:nvGrpSpPr>
            <p:cNvPr id="224" name="Group 39"/>
            <p:cNvGrpSpPr/>
            <p:nvPr/>
          </p:nvGrpSpPr>
          <p:grpSpPr>
            <a:xfrm>
              <a:off x="1712880" y="1576440"/>
              <a:ext cx="225000" cy="1332360"/>
              <a:chOff x="1712880" y="1576440"/>
              <a:chExt cx="225000" cy="1332360"/>
            </a:xfrm>
          </p:grpSpPr>
          <p:sp>
            <p:nvSpPr>
              <p:cNvPr id="225" name="AutoShape 40"/>
              <p:cNvSpPr/>
              <p:nvPr/>
            </p:nvSpPr>
            <p:spPr>
              <a:xfrm>
                <a:off x="1712880" y="1576440"/>
                <a:ext cx="225000" cy="279360"/>
              </a:xfrm>
              <a:prstGeom prst="can">
                <a:avLst>
                  <a:gd name="adj" fmla="val 25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Freeform 41"/>
              <p:cNvSpPr/>
              <p:nvPr/>
            </p:nvSpPr>
            <p:spPr>
              <a:xfrm>
                <a:off x="1731240" y="2724840"/>
                <a:ext cx="188280" cy="183960"/>
              </a:xfrm>
              <a:custGeom>
                <a:avLst/>
                <a:gdLst>
                  <a:gd name="textAreaLeft" fmla="*/ 0 w 188280"/>
                  <a:gd name="textAreaRight" fmla="*/ 188640 w 188280"/>
                  <a:gd name="textAreaTop" fmla="*/ 0 h 183960"/>
                  <a:gd name="textAreaBottom" fmla="*/ 184320 h 183960"/>
                </a:gdLst>
                <a:ahLst/>
                <a:rect l="textAreaLeft" t="textAreaTop" r="textAreaRight" b="textAreaBottom"/>
                <a:pathLst>
                  <a:path w="177" h="139">
                    <a:moveTo>
                      <a:pt x="0" y="6"/>
                    </a:moveTo>
                    <a:cubicBezTo>
                      <a:pt x="0" y="18"/>
                      <a:pt x="0" y="60"/>
                      <a:pt x="1" y="76"/>
                    </a:cubicBezTo>
                    <a:cubicBezTo>
                      <a:pt x="2" y="92"/>
                      <a:pt x="4" y="97"/>
                      <a:pt x="6" y="103"/>
                    </a:cubicBezTo>
                    <a:cubicBezTo>
                      <a:pt x="8" y="109"/>
                      <a:pt x="10" y="112"/>
                      <a:pt x="13" y="115"/>
                    </a:cubicBezTo>
                    <a:cubicBezTo>
                      <a:pt x="16" y="118"/>
                      <a:pt x="22" y="121"/>
                      <a:pt x="25" y="123"/>
                    </a:cubicBezTo>
                    <a:cubicBezTo>
                      <a:pt x="28" y="125"/>
                      <a:pt x="30" y="125"/>
                      <a:pt x="34" y="127"/>
                    </a:cubicBezTo>
                    <a:cubicBezTo>
                      <a:pt x="38" y="129"/>
                      <a:pt x="45" y="134"/>
                      <a:pt x="50" y="136"/>
                    </a:cubicBezTo>
                    <a:cubicBezTo>
                      <a:pt x="55" y="138"/>
                      <a:pt x="58" y="137"/>
                      <a:pt x="63" y="137"/>
                    </a:cubicBezTo>
                    <a:cubicBezTo>
                      <a:pt x="68" y="137"/>
                      <a:pt x="73" y="139"/>
                      <a:pt x="78" y="139"/>
                    </a:cubicBezTo>
                    <a:cubicBezTo>
                      <a:pt x="83" y="139"/>
                      <a:pt x="87" y="139"/>
                      <a:pt x="92" y="139"/>
                    </a:cubicBezTo>
                    <a:cubicBezTo>
                      <a:pt x="97" y="139"/>
                      <a:pt x="105" y="138"/>
                      <a:pt x="111" y="137"/>
                    </a:cubicBezTo>
                    <a:cubicBezTo>
                      <a:pt x="117" y="136"/>
                      <a:pt x="123" y="137"/>
                      <a:pt x="128" y="135"/>
                    </a:cubicBezTo>
                    <a:cubicBezTo>
                      <a:pt x="133" y="133"/>
                      <a:pt x="137" y="129"/>
                      <a:pt x="142" y="127"/>
                    </a:cubicBezTo>
                    <a:cubicBezTo>
                      <a:pt x="147" y="125"/>
                      <a:pt x="152" y="123"/>
                      <a:pt x="157" y="120"/>
                    </a:cubicBezTo>
                    <a:cubicBezTo>
                      <a:pt x="162" y="117"/>
                      <a:pt x="168" y="111"/>
                      <a:pt x="171" y="106"/>
                    </a:cubicBezTo>
                    <a:cubicBezTo>
                      <a:pt x="174" y="101"/>
                      <a:pt x="175" y="95"/>
                      <a:pt x="176" y="91"/>
                    </a:cubicBezTo>
                    <a:cubicBezTo>
                      <a:pt x="177" y="87"/>
                      <a:pt x="176" y="94"/>
                      <a:pt x="176" y="79"/>
                    </a:cubicBezTo>
                    <a:cubicBezTo>
                      <a:pt x="176" y="64"/>
                      <a:pt x="176" y="16"/>
                      <a:pt x="176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Line 42"/>
              <p:cNvSpPr/>
              <p:nvPr/>
            </p:nvSpPr>
            <p:spPr>
              <a:xfrm flipV="1">
                <a:off x="1731240" y="1843920"/>
                <a:ext cx="0" cy="88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Line 43"/>
              <p:cNvSpPr/>
              <p:nvPr/>
            </p:nvSpPr>
            <p:spPr>
              <a:xfrm flipV="1">
                <a:off x="1919520" y="1844280"/>
                <a:ext cx="0" cy="889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9" name="Group 44"/>
            <p:cNvGrpSpPr/>
            <p:nvPr/>
          </p:nvGrpSpPr>
          <p:grpSpPr>
            <a:xfrm>
              <a:off x="3850560" y="2326320"/>
              <a:ext cx="224640" cy="1333080"/>
              <a:chOff x="3850560" y="2326320"/>
              <a:chExt cx="224640" cy="1333080"/>
            </a:xfrm>
          </p:grpSpPr>
          <p:sp>
            <p:nvSpPr>
              <p:cNvPr id="230" name="AutoShape 45"/>
              <p:cNvSpPr/>
              <p:nvPr/>
            </p:nvSpPr>
            <p:spPr>
              <a:xfrm>
                <a:off x="3850560" y="2326320"/>
                <a:ext cx="224640" cy="279720"/>
              </a:xfrm>
              <a:prstGeom prst="can">
                <a:avLst>
                  <a:gd name="adj" fmla="val 25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Freeform 46"/>
              <p:cNvSpPr/>
              <p:nvPr/>
            </p:nvSpPr>
            <p:spPr>
              <a:xfrm>
                <a:off x="3868920" y="3474720"/>
                <a:ext cx="187920" cy="184680"/>
              </a:xfrm>
              <a:custGeom>
                <a:avLst/>
                <a:gdLst>
                  <a:gd name="textAreaLeft" fmla="*/ 0 w 187920"/>
                  <a:gd name="textAreaRight" fmla="*/ 188280 w 187920"/>
                  <a:gd name="textAreaTop" fmla="*/ 0 h 184680"/>
                  <a:gd name="textAreaBottom" fmla="*/ 185040 h 184680"/>
                </a:gdLst>
                <a:ahLst/>
                <a:rect l="textAreaLeft" t="textAreaTop" r="textAreaRight" b="textAreaBottom"/>
                <a:pathLst>
                  <a:path w="177" h="139">
                    <a:moveTo>
                      <a:pt x="0" y="6"/>
                    </a:moveTo>
                    <a:cubicBezTo>
                      <a:pt x="0" y="18"/>
                      <a:pt x="0" y="60"/>
                      <a:pt x="1" y="76"/>
                    </a:cubicBezTo>
                    <a:cubicBezTo>
                      <a:pt x="2" y="92"/>
                      <a:pt x="4" y="97"/>
                      <a:pt x="6" y="103"/>
                    </a:cubicBezTo>
                    <a:cubicBezTo>
                      <a:pt x="8" y="109"/>
                      <a:pt x="10" y="112"/>
                      <a:pt x="13" y="115"/>
                    </a:cubicBezTo>
                    <a:cubicBezTo>
                      <a:pt x="16" y="118"/>
                      <a:pt x="22" y="121"/>
                      <a:pt x="25" y="123"/>
                    </a:cubicBezTo>
                    <a:cubicBezTo>
                      <a:pt x="28" y="125"/>
                      <a:pt x="30" y="125"/>
                      <a:pt x="34" y="127"/>
                    </a:cubicBezTo>
                    <a:cubicBezTo>
                      <a:pt x="38" y="129"/>
                      <a:pt x="45" y="134"/>
                      <a:pt x="50" y="136"/>
                    </a:cubicBezTo>
                    <a:cubicBezTo>
                      <a:pt x="55" y="138"/>
                      <a:pt x="58" y="137"/>
                      <a:pt x="63" y="137"/>
                    </a:cubicBezTo>
                    <a:cubicBezTo>
                      <a:pt x="68" y="137"/>
                      <a:pt x="73" y="139"/>
                      <a:pt x="78" y="139"/>
                    </a:cubicBezTo>
                    <a:cubicBezTo>
                      <a:pt x="83" y="139"/>
                      <a:pt x="87" y="139"/>
                      <a:pt x="92" y="139"/>
                    </a:cubicBezTo>
                    <a:cubicBezTo>
                      <a:pt x="97" y="139"/>
                      <a:pt x="105" y="138"/>
                      <a:pt x="111" y="137"/>
                    </a:cubicBezTo>
                    <a:cubicBezTo>
                      <a:pt x="117" y="136"/>
                      <a:pt x="123" y="137"/>
                      <a:pt x="128" y="135"/>
                    </a:cubicBezTo>
                    <a:cubicBezTo>
                      <a:pt x="133" y="133"/>
                      <a:pt x="137" y="129"/>
                      <a:pt x="142" y="127"/>
                    </a:cubicBezTo>
                    <a:cubicBezTo>
                      <a:pt x="147" y="125"/>
                      <a:pt x="152" y="123"/>
                      <a:pt x="157" y="120"/>
                    </a:cubicBezTo>
                    <a:cubicBezTo>
                      <a:pt x="162" y="117"/>
                      <a:pt x="168" y="111"/>
                      <a:pt x="171" y="106"/>
                    </a:cubicBezTo>
                    <a:cubicBezTo>
                      <a:pt x="174" y="101"/>
                      <a:pt x="175" y="95"/>
                      <a:pt x="176" y="91"/>
                    </a:cubicBezTo>
                    <a:cubicBezTo>
                      <a:pt x="177" y="87"/>
                      <a:pt x="176" y="94"/>
                      <a:pt x="176" y="79"/>
                    </a:cubicBezTo>
                    <a:cubicBezTo>
                      <a:pt x="176" y="64"/>
                      <a:pt x="176" y="16"/>
                      <a:pt x="176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Line 47"/>
              <p:cNvSpPr/>
              <p:nvPr/>
            </p:nvSpPr>
            <p:spPr>
              <a:xfrm flipV="1">
                <a:off x="3868920" y="2593800"/>
                <a:ext cx="0" cy="88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Line 48"/>
              <p:cNvSpPr/>
              <p:nvPr/>
            </p:nvSpPr>
            <p:spPr>
              <a:xfrm flipV="1">
                <a:off x="4056840" y="2594160"/>
                <a:ext cx="0" cy="889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4" name="Line 49"/>
            <p:cNvSpPr/>
            <p:nvPr/>
          </p:nvSpPr>
          <p:spPr>
            <a:xfrm>
              <a:off x="2341800" y="2177640"/>
              <a:ext cx="1256760" cy="59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 Box 50"/>
            <p:cNvSpPr/>
            <p:nvPr/>
          </p:nvSpPr>
          <p:spPr>
            <a:xfrm>
              <a:off x="3695040" y="3704760"/>
              <a:ext cx="674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ays 3 - 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:5 dilu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51"/>
            <p:cNvSpPr/>
            <p:nvPr/>
          </p:nvSpPr>
          <p:spPr>
            <a:xfrm>
              <a:off x="1801080" y="3425760"/>
              <a:ext cx="63720" cy="115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52"/>
            <p:cNvSpPr/>
            <p:nvPr/>
          </p:nvSpPr>
          <p:spPr>
            <a:xfrm flipH="1">
              <a:off x="2211120" y="3663360"/>
              <a:ext cx="1253160" cy="94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8" name="Group 53"/>
            <p:cNvGrpSpPr/>
            <p:nvPr/>
          </p:nvGrpSpPr>
          <p:grpSpPr>
            <a:xfrm>
              <a:off x="1315080" y="2273040"/>
              <a:ext cx="300600" cy="359280"/>
              <a:chOff x="1315080" y="2273040"/>
              <a:chExt cx="300600" cy="359280"/>
            </a:xfrm>
          </p:grpSpPr>
          <p:sp>
            <p:nvSpPr>
              <p:cNvPr id="239" name="Text Box 54"/>
              <p:cNvSpPr/>
              <p:nvPr/>
            </p:nvSpPr>
            <p:spPr>
              <a:xfrm>
                <a:off x="1338120" y="231912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Oval 55"/>
              <p:cNvSpPr/>
              <p:nvPr/>
            </p:nvSpPr>
            <p:spPr>
              <a:xfrm>
                <a:off x="1315080" y="2273040"/>
                <a:ext cx="300600" cy="3592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1" name="Group 56"/>
            <p:cNvGrpSpPr/>
            <p:nvPr/>
          </p:nvGrpSpPr>
          <p:grpSpPr>
            <a:xfrm>
              <a:off x="1933200" y="3692880"/>
              <a:ext cx="300600" cy="360000"/>
              <a:chOff x="1933200" y="3692880"/>
              <a:chExt cx="300600" cy="360000"/>
            </a:xfrm>
          </p:grpSpPr>
          <p:sp>
            <p:nvSpPr>
              <p:cNvPr id="242" name="Text Box 57"/>
              <p:cNvSpPr/>
              <p:nvPr/>
            </p:nvSpPr>
            <p:spPr>
              <a:xfrm>
                <a:off x="1954800" y="374508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Oval 58"/>
              <p:cNvSpPr/>
              <p:nvPr/>
            </p:nvSpPr>
            <p:spPr>
              <a:xfrm>
                <a:off x="1933200" y="3692880"/>
                <a:ext cx="300600" cy="3600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4" name="Group 59"/>
            <p:cNvGrpSpPr/>
            <p:nvPr/>
          </p:nvGrpSpPr>
          <p:grpSpPr>
            <a:xfrm>
              <a:off x="3290040" y="2989800"/>
              <a:ext cx="300600" cy="357120"/>
              <a:chOff x="3290040" y="2989800"/>
              <a:chExt cx="300600" cy="357120"/>
            </a:xfrm>
          </p:grpSpPr>
          <p:sp>
            <p:nvSpPr>
              <p:cNvPr id="245" name="Text Box 60"/>
              <p:cNvSpPr/>
              <p:nvPr/>
            </p:nvSpPr>
            <p:spPr>
              <a:xfrm>
                <a:off x="3306240" y="304812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Oval 61"/>
              <p:cNvSpPr/>
              <p:nvPr/>
            </p:nvSpPr>
            <p:spPr>
              <a:xfrm>
                <a:off x="3290040" y="2989800"/>
                <a:ext cx="300600" cy="3571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7" name="Text Box 62"/>
            <p:cNvSpPr/>
            <p:nvPr/>
          </p:nvSpPr>
          <p:spPr>
            <a:xfrm>
              <a:off x="1116000" y="2946240"/>
              <a:ext cx="139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Day 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Incubate for one day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 Box 63"/>
            <p:cNvSpPr/>
            <p:nvPr/>
          </p:nvSpPr>
          <p:spPr>
            <a:xfrm>
              <a:off x="3347640" y="1873800"/>
              <a:ext cx="18324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Text Box 64"/>
            <p:cNvSpPr/>
            <p:nvPr/>
          </p:nvSpPr>
          <p:spPr>
            <a:xfrm>
              <a:off x="621000" y="3745800"/>
              <a:ext cx="117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Day 1 or 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No dilution required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0" name="Group 65"/>
            <p:cNvGrpSpPr/>
            <p:nvPr/>
          </p:nvGrpSpPr>
          <p:grpSpPr>
            <a:xfrm>
              <a:off x="1823400" y="4761360"/>
              <a:ext cx="1661760" cy="1332720"/>
              <a:chOff x="1823400" y="4761360"/>
              <a:chExt cx="1661760" cy="1332720"/>
            </a:xfrm>
          </p:grpSpPr>
          <p:grpSp>
            <p:nvGrpSpPr>
              <p:cNvPr id="251" name="Group 66"/>
              <p:cNvGrpSpPr/>
              <p:nvPr/>
            </p:nvGrpSpPr>
            <p:grpSpPr>
              <a:xfrm>
                <a:off x="1823400" y="4761360"/>
                <a:ext cx="224640" cy="1332720"/>
                <a:chOff x="1823400" y="4761360"/>
                <a:chExt cx="224640" cy="1332720"/>
              </a:xfrm>
            </p:grpSpPr>
            <p:sp>
              <p:nvSpPr>
                <p:cNvPr id="252" name="AutoShape 67"/>
                <p:cNvSpPr/>
                <p:nvPr/>
              </p:nvSpPr>
              <p:spPr>
                <a:xfrm>
                  <a:off x="1823400" y="4761360"/>
                  <a:ext cx="224640" cy="279360"/>
                </a:xfrm>
                <a:prstGeom prst="can">
                  <a:avLst>
                    <a:gd name="adj" fmla="val 25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Freeform 68"/>
                <p:cNvSpPr/>
                <p:nvPr/>
              </p:nvSpPr>
              <p:spPr>
                <a:xfrm>
                  <a:off x="1841760" y="5910120"/>
                  <a:ext cx="187920" cy="183960"/>
                </a:xfrm>
                <a:custGeom>
                  <a:avLst/>
                  <a:gdLst>
                    <a:gd name="textAreaLeft" fmla="*/ 0 w 187920"/>
                    <a:gd name="textAreaRight" fmla="*/ 188280 w 187920"/>
                    <a:gd name="textAreaTop" fmla="*/ 0 h 183960"/>
                    <a:gd name="textAreaBottom" fmla="*/ 184320 h 183960"/>
                  </a:gdLst>
                  <a:ahLst/>
                  <a:rect l="textAreaLeft" t="textAreaTop" r="textAreaRight" b="textAreaBottom"/>
                  <a:pathLst>
                    <a:path w="177" h="139">
                      <a:moveTo>
                        <a:pt x="0" y="6"/>
                      </a:moveTo>
                      <a:cubicBezTo>
                        <a:pt x="0" y="18"/>
                        <a:pt x="0" y="60"/>
                        <a:pt x="1" y="76"/>
                      </a:cubicBezTo>
                      <a:cubicBezTo>
                        <a:pt x="2" y="92"/>
                        <a:pt x="4" y="97"/>
                        <a:pt x="6" y="103"/>
                      </a:cubicBezTo>
                      <a:cubicBezTo>
                        <a:pt x="8" y="109"/>
                        <a:pt x="10" y="112"/>
                        <a:pt x="13" y="115"/>
                      </a:cubicBezTo>
                      <a:cubicBezTo>
                        <a:pt x="16" y="118"/>
                        <a:pt x="22" y="121"/>
                        <a:pt x="25" y="123"/>
                      </a:cubicBezTo>
                      <a:cubicBezTo>
                        <a:pt x="28" y="125"/>
                        <a:pt x="30" y="125"/>
                        <a:pt x="34" y="127"/>
                      </a:cubicBezTo>
                      <a:cubicBezTo>
                        <a:pt x="38" y="129"/>
                        <a:pt x="45" y="134"/>
                        <a:pt x="50" y="136"/>
                      </a:cubicBezTo>
                      <a:cubicBezTo>
                        <a:pt x="55" y="138"/>
                        <a:pt x="58" y="137"/>
                        <a:pt x="63" y="137"/>
                      </a:cubicBezTo>
                      <a:cubicBezTo>
                        <a:pt x="68" y="137"/>
                        <a:pt x="73" y="139"/>
                        <a:pt x="78" y="139"/>
                      </a:cubicBezTo>
                      <a:cubicBezTo>
                        <a:pt x="83" y="139"/>
                        <a:pt x="87" y="139"/>
                        <a:pt x="92" y="139"/>
                      </a:cubicBezTo>
                      <a:cubicBezTo>
                        <a:pt x="97" y="139"/>
                        <a:pt x="105" y="138"/>
                        <a:pt x="111" y="137"/>
                      </a:cubicBezTo>
                      <a:cubicBezTo>
                        <a:pt x="117" y="136"/>
                        <a:pt x="123" y="137"/>
                        <a:pt x="128" y="135"/>
                      </a:cubicBezTo>
                      <a:cubicBezTo>
                        <a:pt x="133" y="133"/>
                        <a:pt x="137" y="129"/>
                        <a:pt x="142" y="127"/>
                      </a:cubicBezTo>
                      <a:cubicBezTo>
                        <a:pt x="147" y="125"/>
                        <a:pt x="152" y="123"/>
                        <a:pt x="157" y="120"/>
                      </a:cubicBezTo>
                      <a:cubicBezTo>
                        <a:pt x="162" y="117"/>
                        <a:pt x="168" y="111"/>
                        <a:pt x="171" y="106"/>
                      </a:cubicBezTo>
                      <a:cubicBezTo>
                        <a:pt x="174" y="101"/>
                        <a:pt x="175" y="95"/>
                        <a:pt x="176" y="91"/>
                      </a:cubicBezTo>
                      <a:cubicBezTo>
                        <a:pt x="177" y="87"/>
                        <a:pt x="176" y="94"/>
                        <a:pt x="176" y="79"/>
                      </a:cubicBezTo>
                      <a:cubicBezTo>
                        <a:pt x="176" y="64"/>
                        <a:pt x="176" y="16"/>
                        <a:pt x="176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Line 69"/>
                <p:cNvSpPr/>
                <p:nvPr/>
              </p:nvSpPr>
              <p:spPr>
                <a:xfrm flipV="1">
                  <a:off x="1841760" y="5028840"/>
                  <a:ext cx="0" cy="886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Line 70"/>
                <p:cNvSpPr/>
                <p:nvPr/>
              </p:nvSpPr>
              <p:spPr>
                <a:xfrm flipV="1">
                  <a:off x="2029680" y="5028840"/>
                  <a:ext cx="0" cy="88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6" name="Text Box 71"/>
              <p:cNvSpPr/>
              <p:nvPr/>
            </p:nvSpPr>
            <p:spPr>
              <a:xfrm>
                <a:off x="2533320" y="5669280"/>
                <a:ext cx="951840" cy="231120"/>
              </a:xfrm>
              <a:prstGeom prst="rect">
                <a:avLst/>
              </a:prstGeom>
              <a:solidFill>
                <a:srgbClr val="00826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ffffff"/>
                    </a:solidFill>
                    <a:latin typeface="Arial"/>
                  </a:rPr>
                  <a:t>PZA Inoculum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oculum from solid mediu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1)  Use growth on solid medium </a:t>
            </a:r>
            <a:r>
              <a:rPr b="0" lang="en-US" sz="2400" spc="-1" strike="noStrike" u="sng">
                <a:solidFill>
                  <a:srgbClr val="000066"/>
                </a:solidFill>
                <a:uFillTx/>
                <a:latin typeface="Arial"/>
              </a:rPr>
              <a:t>&lt;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14 days 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2)  Make suspension &gt;1.0 McFarland turbidity standard in MGIT broth containing 8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–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10 glass be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3)  Vortex for 2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–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3 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4)  Allow to sit 20 minutes for large clumps to set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5)  Transfer supernatant fluid to another sterile tube and allow to sit for another 15 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6)  Transfer supernatant fluid to another sterile tube and adjust turbidity to 0.5 McFarland turbidity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7)  Dilute 1 ml of final suspension in 4 ml sterile saline and mi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5" descr="PZ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733920" y="5638680"/>
            <a:ext cx="858600" cy="914400"/>
          </a:xfrm>
          <a:prstGeom prst="rect">
            <a:avLst/>
          </a:prstGeom>
          <a:ln w="9360">
            <a:solidFill>
              <a:srgbClr val="9999ff"/>
            </a:solidFill>
            <a:miter/>
          </a:ln>
          <a:effectLst>
            <a:outerShdw dist="53966" dir="2700000" blurRad="0" rotWithShape="0">
              <a:srgbClr val="9999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ZA growth control suspens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625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wth contro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1:10 dilution of working suspen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oculate 0.5 ml of 1:10 dilution to tube containing no dru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Group 4"/>
          <p:cNvGrpSpPr/>
          <p:nvPr/>
        </p:nvGrpSpPr>
        <p:grpSpPr>
          <a:xfrm>
            <a:off x="5105520" y="2514600"/>
            <a:ext cx="3677760" cy="2286000"/>
            <a:chOff x="5105520" y="2514600"/>
            <a:chExt cx="3677760" cy="2286000"/>
          </a:xfrm>
        </p:grpSpPr>
        <p:sp>
          <p:nvSpPr>
            <p:cNvPr id="263" name="Oval 5"/>
            <p:cNvSpPr/>
            <p:nvPr/>
          </p:nvSpPr>
          <p:spPr>
            <a:xfrm>
              <a:off x="5135400" y="4046400"/>
              <a:ext cx="244800" cy="5076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6"/>
            <p:cNvSpPr/>
            <p:nvPr/>
          </p:nvSpPr>
          <p:spPr>
            <a:xfrm>
              <a:off x="5132520" y="3735360"/>
              <a:ext cx="252360" cy="106524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1065240"/>
                <a:gd name="textAreaBottom" fmla="*/ 1065600 h 1065240"/>
              </a:gdLst>
              <a:ahLst/>
              <a:rect l="textAreaLeft" t="textAreaTop" r="textAreaRight" b="textAreaBottom"/>
              <a:pathLst>
                <a:path w="119" h="724">
                  <a:moveTo>
                    <a:pt x="0" y="0"/>
                  </a:moveTo>
                  <a:lnTo>
                    <a:pt x="0" y="679"/>
                  </a:lnTo>
                  <a:lnTo>
                    <a:pt x="1" y="690"/>
                  </a:lnTo>
                  <a:lnTo>
                    <a:pt x="4" y="697"/>
                  </a:lnTo>
                  <a:lnTo>
                    <a:pt x="9" y="704"/>
                  </a:lnTo>
                  <a:lnTo>
                    <a:pt x="16" y="710"/>
                  </a:lnTo>
                  <a:lnTo>
                    <a:pt x="25" y="716"/>
                  </a:lnTo>
                  <a:lnTo>
                    <a:pt x="37" y="721"/>
                  </a:lnTo>
                  <a:lnTo>
                    <a:pt x="48" y="723"/>
                  </a:lnTo>
                  <a:lnTo>
                    <a:pt x="60" y="724"/>
                  </a:lnTo>
                  <a:lnTo>
                    <a:pt x="72" y="722"/>
                  </a:lnTo>
                  <a:lnTo>
                    <a:pt x="83" y="719"/>
                  </a:lnTo>
                  <a:lnTo>
                    <a:pt x="93" y="715"/>
                  </a:lnTo>
                  <a:lnTo>
                    <a:pt x="102" y="709"/>
                  </a:lnTo>
                  <a:lnTo>
                    <a:pt x="109" y="703"/>
                  </a:lnTo>
                  <a:lnTo>
                    <a:pt x="113" y="697"/>
                  </a:lnTo>
                  <a:lnTo>
                    <a:pt x="117" y="689"/>
                  </a:lnTo>
                  <a:lnTo>
                    <a:pt x="119" y="679"/>
                  </a:lnTo>
                  <a:lnTo>
                    <a:pt x="119" y="6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AutoShape 7"/>
            <p:cNvSpPr/>
            <p:nvPr/>
          </p:nvSpPr>
          <p:spPr>
            <a:xfrm flipH="1">
              <a:off x="5257800" y="2514600"/>
              <a:ext cx="1295280" cy="1371600"/>
            </a:xfrm>
            <a:custGeom>
              <a:avLst/>
              <a:gdLst>
                <a:gd name="textAreaLeft" fmla="*/ 188640 w 1295280"/>
                <a:gd name="textAreaRight" fmla="*/ 1106640 w 1295280"/>
                <a:gd name="textAreaTop" fmla="*/ 201600 h 1371600"/>
                <a:gd name="textAreaBottom" fmla="*/ 1170000 h 137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0770" y="11391"/>
                  </a:moveTo>
                  <a:cubicBezTo>
                    <a:pt x="20782" y="11194"/>
                    <a:pt x="20788" y="10997"/>
                    <a:pt x="20788" y="10800"/>
                  </a:cubicBezTo>
                  <a:cubicBezTo>
                    <a:pt x="20788" y="5283"/>
                    <a:pt x="16316" y="812"/>
                    <a:pt x="10800" y="812"/>
                  </a:cubicBezTo>
                  <a:cubicBezTo>
                    <a:pt x="9721" y="811"/>
                    <a:pt x="8650" y="986"/>
                    <a:pt x="7628" y="1328"/>
                  </a:cubicBezTo>
                  <a:lnTo>
                    <a:pt x="7370" y="558"/>
                  </a:lnTo>
                  <a:cubicBezTo>
                    <a:pt x="8476" y="188"/>
                    <a:pt x="9634" y="-1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cubicBezTo>
                    <a:pt x="21600" y="11013"/>
                    <a:pt x="21593" y="11226"/>
                    <a:pt x="21581" y="11440"/>
                  </a:cubicBezTo>
                  <a:lnTo>
                    <a:pt x="24276" y="11600"/>
                  </a:lnTo>
                  <a:lnTo>
                    <a:pt x="20990" y="14516"/>
                  </a:lnTo>
                  <a:lnTo>
                    <a:pt x="18075" y="11231"/>
                  </a:lnTo>
                  <a:lnTo>
                    <a:pt x="20770" y="11391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8"/>
            <p:cNvSpPr/>
            <p:nvPr/>
          </p:nvSpPr>
          <p:spPr>
            <a:xfrm>
              <a:off x="5857920" y="2651040"/>
              <a:ext cx="29253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 a test tube, mix by invers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.5 ml culture suspens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4.5 ml sterile salin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Oval 9"/>
            <p:cNvSpPr/>
            <p:nvPr/>
          </p:nvSpPr>
          <p:spPr>
            <a:xfrm>
              <a:off x="5105520" y="3733920"/>
              <a:ext cx="244440" cy="5076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oading DST se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72840" y="1455480"/>
            <a:ext cx="604188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ry DST sets to the instrument in the DST transport r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desired drawer and scan DST Set Carrier’s barcode label and isolate label on first tu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 DST set definition on instrument display and change if appropri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efully insert the tube set into the indicated s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C in the left-most 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sure that all the tubes AND carriers are fully seated in the dra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 dra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7" descr="2"/>
          <p:cNvPicPr/>
          <p:nvPr/>
        </p:nvPicPr>
        <p:blipFill>
          <a:blip r:embed="rId1"/>
          <a:stretch/>
        </p:blipFill>
        <p:spPr>
          <a:xfrm>
            <a:off x="6572160" y="2928960"/>
            <a:ext cx="2386080" cy="24512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500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200" spc="-1" strike="noStrike">
                <a:solidFill>
                  <a:srgbClr val="ffffff"/>
                </a:solidFill>
                <a:latin typeface="Arial"/>
              </a:rPr>
              <a:t>Summary point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609480" y="1366920"/>
            <a:ext cx="79250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erly label tub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ways add the exact volume of SIRE supplement, drugs and inocul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hydrate drugs with the correct diluent and volu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ver add any drug to the G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ify pure cul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 for mixed cul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cultures not older than 5 (for MGIT) and 14 (for solid) day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oid clumps, mix suspensions and inoculated vials prope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7D8B4-1B54-4391-9760-10CE09C2B70F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olated cultures from TB patients are subjected to growth in the presence of known concentration of a test dr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rinciple of MGIT DS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4" descr="SIRE vials"/>
          <p:cNvPicPr/>
          <p:nvPr/>
        </p:nvPicPr>
        <p:blipFill>
          <a:blip r:embed="rId1"/>
          <a:stretch/>
        </p:blipFill>
        <p:spPr>
          <a:xfrm>
            <a:off x="1168560" y="3656160"/>
            <a:ext cx="1498320" cy="1601640"/>
          </a:xfrm>
          <a:prstGeom prst="rect">
            <a:avLst/>
          </a:prstGeom>
          <a:ln w="9360">
            <a:solidFill>
              <a:srgbClr val="9999ff"/>
            </a:solidFill>
            <a:miter/>
          </a:ln>
          <a:effectLst>
            <a:outerShdw dist="53966" dir="2700000" blurRad="0" rotWithShape="0">
              <a:srgbClr val="9999ff"/>
            </a:outerShdw>
          </a:effectLst>
        </p:spPr>
      </p:pic>
      <p:pic>
        <p:nvPicPr>
          <p:cNvPr id="106" name="Picture 5" descr="PZA"/>
          <p:cNvPicPr/>
          <p:nvPr/>
        </p:nvPicPr>
        <p:blipFill>
          <a:blip r:embed="rId2"/>
          <a:stretch/>
        </p:blipFill>
        <p:spPr>
          <a:xfrm>
            <a:off x="5489640" y="3657600"/>
            <a:ext cx="1501560" cy="1600200"/>
          </a:xfrm>
          <a:prstGeom prst="rect">
            <a:avLst/>
          </a:prstGeom>
          <a:ln w="9360">
            <a:solidFill>
              <a:srgbClr val="9999ff"/>
            </a:solidFill>
            <a:miter/>
          </a:ln>
          <a:effectLst>
            <a:outerShdw dist="53966" dir="2700000" blurRad="0" rotWithShape="0">
              <a:srgbClr val="9999ff"/>
            </a:outerShdw>
          </a:effectLst>
        </p:spPr>
      </p:pic>
      <p:pic>
        <p:nvPicPr>
          <p:cNvPr id="107" name="Picture 6" descr=""/>
          <p:cNvPicPr/>
          <p:nvPr/>
        </p:nvPicPr>
        <p:blipFill>
          <a:blip r:embed="rId3"/>
          <a:stretch/>
        </p:blipFill>
        <p:spPr>
          <a:xfrm>
            <a:off x="3048120" y="3675240"/>
            <a:ext cx="1981080" cy="1582560"/>
          </a:xfrm>
          <a:prstGeom prst="rect">
            <a:avLst/>
          </a:prstGeom>
          <a:ln w="9360">
            <a:solidFill>
              <a:srgbClr val="9999ff"/>
            </a:solidFill>
            <a:miter/>
          </a:ln>
          <a:effectLst>
            <a:outerShdw dist="53966" dir="2700000" blurRad="0" rotWithShape="0">
              <a:srgbClr val="9999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IRE susceptibility testing: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GIT 96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3 days qualitative test (from solid or liqui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 in fluorescence interpreted as “Growth Units” (GU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sceptibility results and GU values are printed on the Unloaded AST Set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nstrument Inventory Report prints GU values for all ongoing AST s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torag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rigerate lyophilized drugs at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nstitute prior to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nstituted drug solutions may be frozen in aliquots at -20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 or lower and stored for up to 6 months or up to the date of original expiry, whichever comes soo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gle thaw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609480" y="1447920"/>
            <a:ext cx="5029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nstitute each critical concentration drug vial with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 ml of sterile distilled/deionized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x thoroughly and make sure drug is completely diss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constitution of SIRE lyophilized drug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4" descr="SIRE vials"/>
          <p:cNvPicPr/>
          <p:nvPr/>
        </p:nvPicPr>
        <p:blipFill>
          <a:blip r:embed="rId1"/>
          <a:stretch/>
        </p:blipFill>
        <p:spPr>
          <a:xfrm>
            <a:off x="6095880" y="2209680"/>
            <a:ext cx="2495520" cy="2660760"/>
          </a:xfrm>
          <a:prstGeom prst="rect">
            <a:avLst/>
          </a:prstGeom>
          <a:ln w="9360">
            <a:solidFill>
              <a:srgbClr val="9999ff"/>
            </a:solidFill>
            <a:miter/>
          </a:ln>
          <a:effectLst>
            <a:outerShdw dist="53966" dir="2700000" blurRad="0" rotWithShape="0">
              <a:srgbClr val="9999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IRE drug critical concentra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762120" y="1371600"/>
          <a:ext cx="7772400" cy="4186080"/>
        </p:xfrm>
        <a:graphic>
          <a:graphicData uri="http://schemas.openxmlformats.org/drawingml/2006/table">
            <a:tbl>
              <a:tblPr/>
              <a:tblGrid>
                <a:gridCol w="3504960"/>
                <a:gridCol w="4267440"/>
              </a:tblGrid>
              <a:tr h="884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Drug Na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Critical Concentr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Streptomycin (STR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1.0 </a:t>
                      </a:r>
                      <a:r>
                        <a:rPr b="1" lang="en-US" sz="2800" spc="-1" strike="noStrike">
                          <a:solidFill>
                            <a:srgbClr val="330066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g/ml of mediu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Isoniazid (INH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0.1 </a:t>
                      </a:r>
                      <a:r>
                        <a:rPr b="1" lang="en-US" sz="2800" spc="-1" strike="noStrike">
                          <a:solidFill>
                            <a:srgbClr val="330066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g/ml of mediu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Rifampin (RIF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1.0 </a:t>
                      </a:r>
                      <a:r>
                        <a:rPr b="1" lang="en-US" sz="2800" spc="-1" strike="noStrike">
                          <a:solidFill>
                            <a:srgbClr val="330066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g/ml of mediu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Ethambutol (EMB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5.0 </a:t>
                      </a:r>
                      <a:r>
                        <a:rPr b="1" lang="en-US" sz="2800" spc="-1" strike="noStrike">
                          <a:solidFill>
                            <a:srgbClr val="330066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g/ml of mediu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BACTEC MGIT 960 SIRE ki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 vials of MGIT 960 SIRE supp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exchange with MGIT growth supp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itical concentrations of S, I, R, E drug in lyophilized 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. of tests/kit = maximum of 100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Organism inoculum for MGIT 960 DS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GIT 960 se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wth detection tubes from cul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wth detection subculture tub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e of seeds from day of posi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y 1 to day 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id me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ation of 0.5 McFarland organis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87A6B-81C3-47AB-9F25-210C8BD4D8B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kos Somoskovi</dc:creator>
  <dc:description/>
  <dc:language>en-US</dc:language>
  <cp:lastModifiedBy>Philip</cp:lastModifiedBy>
  <dcterms:modified xsi:type="dcterms:W3CDTF">2012-01-26T09:48:05Z</dcterms:modified>
  <cp:revision>212</cp:revision>
  <dc:subject/>
  <dc:title>PowerPoint Presentation</dc:title>
</cp:coreProperties>
</file>