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E7EC-7F5D-45DA-AD9E-ED2EE3706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3645-D4C3-4CE9-9C55-B4E9E0AFF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7CC8-8935-495B-89A2-C58979F64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BDAA-C703-48A7-BFF9-88E9F457F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8FDDB-8D95-4FAB-A512-E3813AA7F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64E23-02FD-48C9-AA10-D54525B56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887CD-8BFF-4E83-9970-5814A2FC5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68AD0-DA7F-4CF7-8F97-C5A944E06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1D2C8-204D-4180-B300-C16C95CBE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4B364-9E63-467A-A4D9-BE96C335C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7293A-8970-4CD8-859B-CA31D74C6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EA3C-0757-40C3-99FD-8448EA5DC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34C4F-F132-4AF6-A75A-9B5BCA4E3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B2059-CE95-43C3-8AC5-7BA921447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E9E37-22D9-4EE6-8820-9C55BC5E7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2ACAC-CAC8-4C74-94B6-B44BADA08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D214A-5296-41C6-8A49-9ECB7C7B4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F816-687B-4241-92A3-E6B6E690A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A22C-A629-4276-8B5D-DA080C976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DE55-D02C-4BDC-BC9B-684D29194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C61F-A21F-4302-93A2-02979BBD6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4346-BC68-4FEE-9A54-E64C6A1F6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A19E-62C1-4469-AC1E-A604C0111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BA80-49B5-46EA-868C-11665D380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74046-8815-40B7-885F-0887C625B655}" type="slidenum"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4D461-2EB0-4A06-A9D9-318A443540C2}" type="slidenum"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94920" y="2060640"/>
            <a:ext cx="84963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宋体"/>
              </a:rPr>
              <a:t>Advocacy and Communications Working Group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宋体"/>
              </a:rPr>
              <a:t>Plenary Discussio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  <a:ea typeface="宋体"/>
              </a:rPr>
              <a:t>Joanne Carter, Chair A.I.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  <a:ea typeface="宋体"/>
              </a:rPr>
              <a:t>15 October 2004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7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964720" cy="475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Progress since last CB meeting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Basic Framework draft (main objectives, functions, structure, main work streams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Proposed roster of initial members (65</a:t>
            </a:r>
            <a:r>
              <a:rPr b="0" lang="en-GB" sz="2400" spc="-1" strike="noStrike" u="sng">
                <a:solidFill>
                  <a:srgbClr val="720000"/>
                </a:solidFill>
                <a:uFillTx/>
                <a:latin typeface="Tahoma"/>
                <a:ea typeface="宋体"/>
              </a:rPr>
              <a:t>+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Development of new alliances – HIV/AIDS, MDGs Campaig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First formal meeting of ACWG set for Dec 04/Jan 05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Informal pre-meeting at IUATLD conference to discuss agenda and expected outcom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  <a:ea typeface="宋体"/>
              </a:rPr>
              <a:t> 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727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58560" y="1484280"/>
            <a:ext cx="8785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Proposed structural featur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1. Chair with permanent seat on C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2. Two initial sub-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Global advocacy for resource mobiliza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Country level advocacy, communication and social mobiliza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3. Focal points for all 6 technical WG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Critical to ensure close coordination in cross-cutting rol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4. Stronger representation for patients  and countr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Basic Framework to be approved and Chair/vice-chairs elected in first formal meeting of WG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608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1413000"/>
            <a:ext cx="8526600" cy="76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Key immediate prior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Resource mobi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enerate more robust numbers on funding ga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Close collaboration with Resource Mobilization Task Fo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Target key national, multilateral and private sector don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2.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Develop short-and long-term advocacy strategy aroun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2005 targets and MDG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lobal Plan I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World TB D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3.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Rapid scale up of support to countries for AC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TA for GFATM proposals/ISAC – Nov 04 worksh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uidance, tools, training for emerging national partnershi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Mobilization of new advocacy partners at regional and country lev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119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1844640"/>
            <a:ext cx="8381880" cy="39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Request for C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Feedback on formation process, structure, key prior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2.  Technical WG chairs need to assign focal points to ACW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luhanm</cp:lastModifiedBy>
  <dcterms:modified xsi:type="dcterms:W3CDTF">2004-10-19T10:55:09Z</dcterms:modified>
  <cp:revision>21</cp:revision>
  <dc:subject/>
  <dc:title>Financial situation,  Budget &amp; plans 2005</dc:title>
</cp:coreProperties>
</file>