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F052-9FCA-425A-AF49-EA84D6EA6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EA29-C71F-4021-8C56-8D4B80F23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C80A-3FAA-4ABA-8D56-629D0C12A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23D8-56C8-4CB6-BA48-75DB99B50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A20D0-AE15-4809-ABE6-A67FD8027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A6241-3886-4875-BA55-DDE09A24D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52B2B-845F-49C4-85A5-1B0B63B15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37180-1A3A-4794-8224-B89A19414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E3F15-9B84-4318-A4E8-DDF113045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0C6AE-74A8-454D-95D2-1405AD965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004F9-093A-48EC-9F6E-9B99CE22C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DAAC-9A92-41C5-B406-1AA694244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8E894-32C8-4DF3-B9F5-722172AD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F79E9-BE6F-4277-9D07-EB84F71D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ADAC3-0449-472E-9D23-A9679BF9D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01328-EF7A-4262-B507-4F1E35A67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69FDF-A4C7-455B-90D7-7DC499666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DB95-A361-41AA-9341-2B066FEED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27D9-15EA-4B7F-8C6E-6AC54CE93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72A7-CD35-4CB3-9D06-DF775327F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EAE3-4458-4D0D-A737-699E909B1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1AA9-0F56-4914-91E2-D80B6C945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E6C2-74D0-4586-8B76-DD0AE4C4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814B-72F6-4D63-A694-9E8564A0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A57D0-3919-4363-96DE-F86AF1393E2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504B1-9D30-4201-9C61-3F83FB3E277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etwork for Action on TB and Poverty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395280" y="3931920"/>
            <a:ext cx="84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Arial"/>
              </a:rPr>
              <a:t>Promote access to DOTS and TB contro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Arial"/>
              </a:rPr>
              <a:t>programmes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What is the Network Action on TB and Poverty ?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-360" y="1557360"/>
            <a:ext cx="8893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A platform for TB control and Poverty experts to create a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synergy for coordinated action in support of poor countrie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08440" indent="-221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Action and output oriented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551960" indent="-2214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Tahoma"/>
              </a:rPr>
              <a:t>Increase case detection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3" marL="1551960" indent="-2214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Tahoma"/>
              </a:rPr>
              <a:t>Increase cure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2" marL="1108440" indent="-221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Evidence and performance based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08440" indent="-221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Linking TB control with global and local poverty alleviation initiative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Managed by th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National Tuberculosis Programme of Malawi, in conjunction with the local NGO Reach Trust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Active participation from the DOTS Expansion Working Group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Why do we need ..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15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istribution of TB is higher among the poor than the non poor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 algn="just">
              <a:lnSpc>
                <a:spcPct val="12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Not easy access for the poor to health services due to: 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 algn="just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athways to diagnosis of TB patients extended due to repeated visits to different care providers, regardless of socio-economic statu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 algn="just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The poor spend proportionally more on accessing TB diagnosi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 algn="just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The poor are sometimes actively excluded from TB service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OTS can help to fight poverty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ro-poor access to DOTS helps reaching the TB targets of case finding and cure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Network Operations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2004-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640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gage key stakeholders to promote action on TB and Poverty prioritising the AFRO regi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rican case studies will be presented at the IUATLD Pari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eting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ster research to inform TB control operations and policy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vocate pro-poor approaches using DOTS and link up with other initiatives and funding (e.g. Fidelis)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Network Product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2004-2005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novative pro-poor approaches in DOTS applied in countri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O Guide on TB and Poverty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licy framework for mainstreaming of poverty in TB control in countri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&amp;E on poverty mainstreaming in countri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erational research on demand from countri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nks and exchanges with other health equity initiativ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sponds to the demand from countries on how to mainstream TB poverty in DOTS and TB control programmes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rmative paper on TB and Poverty as policy guiding tool and practical roadmap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s strategic and practical guidance to countri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WHO Guide on TB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nd Poverty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Future Plans 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780120" indent="-780120">
              <a:lnSpc>
                <a:spcPct val="100000"/>
              </a:lnSpc>
              <a:spcBef>
                <a:spcPts val="700"/>
              </a:spcBef>
              <a:spcAft>
                <a:spcPts val="3501"/>
              </a:spcAft>
              <a:buClr>
                <a:srgbClr val="ff3300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aunching the WHO guide on TB and Poverty for NTP manager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80120" indent="-780120">
              <a:lnSpc>
                <a:spcPct val="100000"/>
              </a:lnSpc>
              <a:spcBef>
                <a:spcPts val="700"/>
              </a:spcBef>
              <a:spcAft>
                <a:spcPts val="3501"/>
              </a:spcAft>
              <a:buClr>
                <a:srgbClr val="ff3300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panding TB Poverty related activities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80120" indent="-780120">
              <a:lnSpc>
                <a:spcPct val="100000"/>
              </a:lnSpc>
              <a:spcBef>
                <a:spcPts val="700"/>
              </a:spcBef>
              <a:spcAft>
                <a:spcPts val="3501"/>
              </a:spcAft>
              <a:buClr>
                <a:srgbClr val="ff3300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acilitate representation for the network to the other working group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80120" indent="-780120">
              <a:lnSpc>
                <a:spcPct val="100000"/>
              </a:lnSpc>
              <a:spcBef>
                <a:spcPts val="700"/>
              </a:spcBef>
              <a:spcAft>
                <a:spcPts val="3501"/>
              </a:spcAft>
              <a:buClr>
                <a:srgbClr val="ff3300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mote special features on TB and Poverty at national/regional meetings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80120" indent="0">
              <a:lnSpc>
                <a:spcPct val="100000"/>
              </a:lnSpc>
              <a:spcBef>
                <a:spcPts val="700"/>
              </a:spcBef>
              <a:spcAft>
                <a:spcPts val="35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Nils Billo</cp:lastModifiedBy>
  <cp:lastPrinted>2004-03-17T17:37:17Z</cp:lastPrinted>
  <dcterms:modified xsi:type="dcterms:W3CDTF">2004-10-14T00:25:33Z</dcterms:modified>
  <cp:revision>176</cp:revision>
  <dc:subject/>
  <dc:title>Secretariat, 2003 Progress Report</dc:title>
</cp:coreProperties>
</file>