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5FE4-57F7-4A4D-9FB1-9143888F9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77AA-BC9B-4444-ABB6-F827B735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3A6D-830F-427C-BF0F-38938DE8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4311-0323-48E4-81E9-E601817F4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B765-5218-4D86-B845-2EF821ED6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3984-ACF2-4B32-928C-720A4F82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D4BE-A53F-4CC9-95DA-7AC7824B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1625-EF79-4467-A71A-DF921F6C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F8D1-E4C0-4291-8C00-E6B13FE5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C7AC-4074-4EFE-8C66-B1BD4DB7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FBAF-455A-46E2-9C4D-EAC76ADD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71B2-F9B7-4ADD-BB4F-C860FD6E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A856-2CE5-4A8C-ADA8-12FB58AE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1116-9A87-4541-B9B9-8F41620F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8EE3-2329-4A21-BE02-7D3B2CE3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0D23-4EAA-4D03-B916-78829CF91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AA4E-60DD-4668-B07A-140A60B2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E1FA-797A-4B6A-B6E7-164E9CDC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DEAA-C60C-4922-BAF1-8AAE82D3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7DAC-3678-419F-8578-ADA5D315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98E1-8F93-4EDA-B50D-F4E0B60D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380E-1927-4F3C-B52D-38DC40C9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21F8-0AE1-4841-8F08-85B8CA40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FDE3-6F04-45C5-9CCB-9C1582F4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FFE4-F85B-4DE8-A73A-BE438EB8BED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6842-2DCD-4A1E-89C1-556754BD3C3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for Action on TB and Poverty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393192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romote access to DOTS and TB contro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rogrammes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at is the Network Action on TB and Poverty 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8893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A platform for TB control and Poverty experts to create a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synergy for coordinated action in support of poor countr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Action and output orient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551960" indent="-2214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Increase case detect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3" marL="1551960" indent="-2214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Increase cure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Evidence and performance bas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Linking TB control with global and local poverty alleviation initiative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Managed by th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National Tuberculosis Programme of Malawi, in conjunction with the local NGO Reach Trus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Active participation from the DOTS Expansion Working Group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Why do we need .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5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istribution of TB is higher among the poor than the non poor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 algn="just">
              <a:lnSpc>
                <a:spcPct val="12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Not easy access for the poor to health services due to: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athways to diagnosis of TB patients extended due to repeated visits to different care providers, regardless of socio-economic statu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The poor spend proportionally more on accessing TB diagnos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The poor are sometimes actively excluded from TB service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OTS can help to fight poverty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ro-poor access to DOTS helps reaching the TB targets of case finding and cur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etwork Operation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40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age key stakeholders to promote action on TB and Poverty prioritising the AFRO reg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case studies will be presented at the IUATLD Pari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eting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ster research to inform TB control operations and poli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ocate pro-poor approaches using DOTS and link up with other initiatives and funding (e.g. Fidelis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Network Product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novative pro-poor approaches in DOTS applied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Guide on TB and Poverty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framework for mainstreaming of poverty in TB control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&amp;E on poverty mainstreaming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rational research on demand from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ks and exchanges with other health equity initiativ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ponds to the demand from countries on how to mainstream TB poverty in DOTS and TB control programm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tive paper on TB and Poverty as policy guiding tool and practical roadma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s strategic and practical guidance to countr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WHO Guide on TB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nd Povert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aunching the WHO guide on TB and Poverty for NTP manager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panding TB Poverty related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acilitate representation for the network to the other working group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mote special features on TB and Poverty at national/regional meeting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Nils Billo</cp:lastModifiedBy>
  <cp:lastPrinted>2004-03-17T17:37:17Z</cp:lastPrinted>
  <dcterms:modified xsi:type="dcterms:W3CDTF">2004-10-14T00:25:33Z</dcterms:modified>
  <cp:revision>176</cp:revision>
  <dc:subject/>
  <dc:title>Secretariat, 2003 Progress Report</dc:title>
</cp:coreProperties>
</file>