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BF8-3A2D-47A5-9C6E-1F1AFBB9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E522-6018-4BA6-9037-49F74E3D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2D9E-B70A-4942-9A45-5A898293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DC72-E278-44CE-8EBB-7CD537E9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6552-3EC6-4FEA-B761-ED2A3610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165C-559B-45CA-BBCE-8F7EEB55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B5BD-C632-4355-8E88-2592A5E5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2245-2601-448D-9C42-4DD5B925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0C72-0081-469A-8697-22DA5CFA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623C-73C3-4E5C-89FA-6C5716E9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B534-1B68-4FB7-80EB-1D05C96A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2F66-CA0C-4B39-BEB1-50A2B9A0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17DA-BE43-49CA-9A62-1BF728BC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7CFD-B987-4ED5-8D0D-4F6EB7B6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BD68-8E7D-4962-B70D-B2A962A4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1D1A-7C81-4932-B0C7-D1CE56A7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3CA7-6D4E-444E-939C-C883E73B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308C-598A-4298-9D8F-638F9803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1FC-D2EE-45F9-A257-3AB7EC7A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438-145B-494F-BC38-D72C060F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178-DDEA-4231-96E2-B111C747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4CB-E2BE-4FF7-B5C2-D7FDEF77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F8F-6421-4811-83B9-4E9270C9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0A29-9F65-44FC-B051-5DA5F272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0514-74B6-4F2D-9489-4E5ED90D1A80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0C22-E43B-4EE6-8801-8888D8CEF14B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7:18Z</dcterms:modified>
  <cp:revision>21</cp:revision>
  <dc:subject/>
  <dc:title>Financial situation,  Budget &amp; plans 2005</dc:title>
</cp:coreProperties>
</file>