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E43A9-B018-4ED4-8177-F857197D84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01CA9-D8EA-492C-835E-198319BADD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1D3F7-8EB5-4716-9866-F0E28B3CE7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6724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3156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40328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6724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73156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1CD9F-9F9B-4C9D-8F37-078B6747D0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75B09-5CC0-465E-9EAA-071C2FF721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6724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73156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40328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6724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73156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96C0B-1F1C-4261-A38C-3F401E5873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32061-AC20-4F06-9035-9DDB36D471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5188E-B02B-4051-8BE4-E873A84B1F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F15D5-B77E-4842-9FFF-42FC26F77D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439ED-7470-48FB-9C42-D52B229C4D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5F7C3-0B22-4BF7-81D2-530CB1C38C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1AEDE-940C-452D-B7CA-058EDEDFA2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124000" y="6237000"/>
            <a:ext cx="5688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op TB Coordinating Board Meeting, Beijing 14 – 15 October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459280" y="6308280"/>
            <a:ext cx="52236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#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op TB Coordinating Board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eijing 14 – 15 October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Country Progress</a:t>
            </a:r>
            <a:br>
              <a:rPr sz="4000"/>
            </a:b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"/>
          <p:cNvSpPr/>
          <p:nvPr/>
        </p:nvSpPr>
        <p:spPr>
          <a:xfrm>
            <a:off x="684360" y="4252320"/>
            <a:ext cx="748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Chair Dr. Miaka Bile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Rapporteur Dr. Karam Sh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steenbergeng</cp:lastModifiedBy>
  <cp:lastPrinted>2004-03-17T17:37:17Z</cp:lastPrinted>
  <dcterms:modified xsi:type="dcterms:W3CDTF">2004-10-13T23:33:41Z</dcterms:modified>
  <cp:revision>178</cp:revision>
  <dc:subject/>
  <dc:title>Secretariat, 2003 Progress Report</dc:title>
</cp:coreProperties>
</file>