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DB43-F3F8-41E3-BCBD-7366DFEC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E5D-362F-4CF8-94C1-DCDEEDF4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61E9-2D90-4928-A76D-B3A9069F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EA3-86FA-4341-8D04-CCAFB521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1D4-46E4-4937-8F93-9869855E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D5A-2D0F-482F-94FF-14510596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2BB-50E1-423D-B6BA-62F627A6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CC0-1848-4F44-8FD2-F30A6727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4DC6-45F9-48C2-B68E-4BDC7942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0DDD-9493-465D-80C0-795E9172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E8D6-1890-45B4-A725-41B9701A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6693-E19C-4B24-B9F2-9FC88D4F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A647-44E0-4B7E-94DD-3B59B4974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hen to launch the Global Pl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120" y="1125360"/>
            <a:ext cx="87058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nerate media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ow how the Global Plan responds to calls to achieve the 2015 TB control targets (World Health Assembly resolution May 2005, UNGASS on MDGs 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tween WHA (May 2005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UNGASS (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ld TB Day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op TB Partners' Forum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provide a pre-publication version at UNGASS and launch the document  in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Who can champion the Global Pl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8120" y="1125360"/>
            <a:ext cx="8705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osed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o Stop TB?</a:t>
            </a:r>
            <a:br>
              <a:rPr sz="3600"/>
            </a:br>
            <a:br>
              <a:rPr sz="48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19700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5 (World Health Assemb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tect 70% of smear-positiv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reat successfully 85% of all such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15 (Millennium Development Go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crease TB prevalence and deaths by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ement of the impact targets (prevalenc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deaths) depends on sustained achievement of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rocess targets (case detection and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su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 global plan: 2000-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cribed mechanisms, activities and resources needed to accelerate progress towards 200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s of action of 6 Stop TB working gr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-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B/H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c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76832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mbers of steering committ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12536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Adeyi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Ahmed (Bangladesh Rural Advancement Committ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Freire (Alliance for TB drug develo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Omaswa (Ministry of Health, Uga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Shah (National TB Programme, Pakist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5:51Z</dcterms:modified>
  <cp:revision>91</cp:revision>
  <dc:subject/>
  <dc:title>Africa: HIV is driving the TB epidemic TB notification rates, 1980-1998</dc:title>
</cp:coreProperties>
</file>