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6476-CCF8-4A55-BBB9-593E0D6DF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4714-0484-422E-A78B-931551C1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A3C0-E3F1-4440-A006-0170988E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69A6-C005-4823-9AE9-4210A2342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5EA6-28AB-4CB8-B735-AB8288B3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237F-9F34-4FE2-A7FC-1FCEB831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28EE-3A2E-4A34-B44F-C79A5A2B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130D-6B6E-4729-9AF1-6C3F9C10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01E7-00BF-47CF-9D14-84B30829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A6AB-D34E-4B5C-9F05-9C04ADB3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C85F-2FDD-4EA1-8492-E519835A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AF07-9C87-47DD-863D-C0637093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526A-622F-4C15-91ED-F456007FE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econd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41300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gress in first half of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vey of partners' views on the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outline of Global Plan endorsed by 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ablishment of steering committee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dorsed by 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nitiation of work to develop scenarios for reaching MDG for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itiation of work on developing contribution of each Working Group to the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econd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41300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activities in second half of 2004 and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Scenarios completed for reaching MDG for TB (epidemiological forecasting and cost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ributions of each Working Group to the Plan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 completed, reviewed widely and endorsed by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 finalised and published in time for UN summit on MDGs,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heitkampp</cp:lastModifiedBy>
  <cp:lastPrinted>2003-06-23T18:01:16Z</cp:lastPrinted>
  <dcterms:modified xsi:type="dcterms:W3CDTF">2004-09-20T13:25:51Z</dcterms:modified>
  <cp:revision>86</cp:revision>
  <dc:subject/>
  <dc:title>Africa: HIV is driving the TB epidemic TB notification rates, 1980-1998</dc:title>
</cp:coreProperties>
</file>