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F56F-5316-4D59-AB65-6292D7F010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6656-018B-4035-9DB0-A1EA4B5FAB9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sterdam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E6A8-1879-4D04-9DF0-7351D21A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68F-6AC0-4302-8482-4EF0308E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018-93F1-4C1C-8227-283EAFF3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3C7-AA7B-4F8C-A9CA-CD3D8BEE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D7A8-CF8E-4FE0-9518-6BD73315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DB70-B677-4E9B-90C6-6F00089D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AD6F-D064-4AE3-9136-714BB132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8DAE-AAC4-4E11-A64E-D0426DE9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28EF-696A-4C2B-BD0F-FA26FE51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E39A-1DF1-4F39-843C-03D57D74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0B56-4CCD-4E73-8D57-ABF53CC9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0DBC-3294-4A4A-9993-21B67178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0BF6-0183-4830-BFD4-7A834835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8431-B644-4FB3-B323-D784F0E4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7C6F-4C80-4FC8-AF60-0339B521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A004-BF15-4771-8167-58E41F71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02F8-724C-447B-8425-EF244292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E4F5-FC17-4421-96EC-947EA61C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7FA-BCBA-4483-8EB6-F309D554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5E92-AEC2-49BE-9447-D33D8951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35E-7BB4-4F5E-9C63-8D838C16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8459-7D72-4A4F-A5AF-6187957A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27A-8A61-4835-8353-F639BEAA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1F69-8FE1-4132-886C-93AC6FA2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F0BE-481C-4FB8-B684-1A6C03357B6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DE7F-4BC1-416C-B681-D33C5810527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6421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lobal Partnership issues &amp; planning:</a:t>
            </a:r>
            <a:br>
              <a:rPr sz="2000"/>
            </a:br>
            <a:br>
              <a:rPr sz="20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lobal Plan II progress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-  Working groups: MDR-TB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  <a:ea typeface="宋体"/>
              </a:rPr>
              <a:t>-  Partners Forum Evaluation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  <a:ea typeface="宋体"/>
              </a:rPr>
              <a:t> 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ir:   Giorgio Roscigno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apporteur:  Nils Billo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360" y="1890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Global Plan to Stop TB, 2006-1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1484280"/>
            <a:ext cx="8605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ey feat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ilds on first Global Plan (2000-05) and Progress Re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10 years' timeframe (2006-15), leading to 2015 MD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mplementary to MDGs TB working group report (that calls for support for the Global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sistent with proposed WHA resolutio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pports national needs for long-term planning and financial sus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s strategic directions set out by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ad hoc Committee on the TB epide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contributions of each WG's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0960"/>
            <a:ext cx="6300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view of progress in developing Global Plan, 2006-201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57360"/>
            <a:ext cx="85881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Ma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Executive Board approved resolution on Global Plan for 2005 World Health Assemb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Strategic and Technical Advisory Group endorsed outline of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sent to all partners for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l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endorsed by Coordinating Bo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Augus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teering committee endorsed by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ep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 initiated on pro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4211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484280"/>
            <a:ext cx="87058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1. Board endor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) key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) development of projections to inform plan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2. Board requests each WG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velop plans (2006-2015) in contribution to the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a focal point from the W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resource needs for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3. Board proposes launch of Global Pla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ither a) between WHA (May) and UNGASS (Sep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 b) late 2005, e.g. November Board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4067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484280"/>
            <a:ext cx="87058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4. Board endorses approach of advocacy champ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lson Mandela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martya Sen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ofi Ann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*preference to write foreword by one of th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5. Board endorses dissemination of Global Plan advocacy messages to key constituencies, including HIV/A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agnitude of the proble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Dye C, Espinal MA, Watt CJ, Mbiaga C, Williams BG.  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Worldwide Incidence of Multidrug-Resistant Tuberculosis.  </a:t>
            </a:r>
            <a:r>
              <a:rPr b="0" i="1" lang="en-US" sz="1200" spc="-1" strike="noStrike">
                <a:solidFill>
                  <a:srgbClr val="720000"/>
                </a:solidFill>
                <a:latin typeface="Tahoma"/>
              </a:rPr>
              <a:t>J of Infec Dis</a:t>
            </a: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; 2002;185:1197-202.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Important recent development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OTS-Plus not longer limited to so-called "hot spots"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GLC was able to start, maintain and expand it's operations thanks to grants from different donors, including the B&amp;M Gates Found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comes to an end: mid July 20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…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Acknowledges GLC plays a pivotal role in the control of MDRTB/ prevention of the emergence of resistance to 2</a:t>
            </a:r>
            <a:r>
              <a:rPr b="0" lang="en-GB" sz="22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 line drugs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financial sustainability of GLC is at stake—donors should be mobilized to ensure the financial sustainability.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stimated budget (next 3 yrs): 5 million US$/ operations GL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additional funding is required at country level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laboratory capacity strengthening,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urchase of 2</a:t>
            </a:r>
            <a:r>
              <a:rPr b="0" lang="en-GB" sz="20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line drugs,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human resource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Endorses and supports intensified coordination/ collaboration between DOTS-Plus WG, DOTS Expansion WG and New Diagnostics WG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33200"/>
            <a:ext cx="54104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920" y="1484280"/>
            <a:ext cx="734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Amsterdam Declaration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to Stop TB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March, 2000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rst Stop TB Partners' Forum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Oct 2001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23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w Delhi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Stop TB Partners Forum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(March 2004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um funct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ssembly of the Partnership—Inclusive, consultative meeting of partn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solidate and increase support &amp; commit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Review and comment on Partnership progres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tform of information exchange on progress, problems and challeng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093080" y="1484280"/>
            <a:ext cx="1969920" cy="1555920"/>
            <a:chOff x="7093080" y="1484280"/>
            <a:chExt cx="1969920" cy="15559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0" t="0" r="0" b="8274"/>
            <a:stretch/>
          </p:blipFill>
          <p:spPr>
            <a:xfrm>
              <a:off x="7093080" y="1484280"/>
              <a:ext cx="1969920" cy="1555920"/>
            </a:xfrm>
            <a:prstGeom prst="rect">
              <a:avLst/>
            </a:prstGeom>
            <a:ln w="0">
              <a:noFill/>
            </a:ln>
            <a:effectLst>
              <a:outerShdw dist="89604" dir="2700000" blurRad="0" rotWithShape="0">
                <a:srgbClr val="a50021"/>
              </a:outerShdw>
            </a:effectLst>
          </p:spPr>
        </p:pic>
        <p:sp>
          <p:nvSpPr>
            <p:cNvPr id="111" name=""/>
            <p:cNvSpPr txBox="1"/>
            <p:nvPr/>
          </p:nvSpPr>
          <p:spPr>
            <a:xfrm>
              <a:off x="7093080" y="1484280"/>
              <a:ext cx="1969920" cy="15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cc66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093080" y="3124080"/>
            <a:ext cx="1946160" cy="1744920"/>
            <a:chOff x="7093080" y="3124080"/>
            <a:chExt cx="1946160" cy="1744920"/>
          </a:xfrm>
        </p:grpSpPr>
        <p:sp>
          <p:nvSpPr>
            <p:cNvPr id="113" name=""/>
            <p:cNvSpPr/>
            <p:nvPr/>
          </p:nvSpPr>
          <p:spPr>
            <a:xfrm>
              <a:off x="7097760" y="3124080"/>
              <a:ext cx="1941480" cy="16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rcRect l="0" t="0" r="7996" b="0"/>
            <a:stretch/>
          </p:blipFill>
          <p:spPr>
            <a:xfrm>
              <a:off x="7093080" y="3150720"/>
              <a:ext cx="1929240" cy="1718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valuation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c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 confirms that the Forum is an important body of the Stop TB Partnership which needs to be meeting once every 3 yea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quests the Secretariat to conduct an online poll about the future format and date of the For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the results of the poll, the Secretariat will propose a concept of the next Forum (eg. Constituency engagement, break-out sessions, advocacy regarding outcomes 2005 Targets, etc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5T05:24:24Z</dcterms:modified>
  <cp:revision>177</cp:revision>
  <dc:subject/>
  <dc:title>Secretariat, 2003 Progress Report</dc:title>
</cp:coreProperties>
</file>