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6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E35E-C521-4295-9507-C1615F758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for the Health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acting demands of TB control prompt us to consider it even from the perspective of the patient, his/her relatives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ay realize the need for a partnership between the H.S.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rinciples may guide this partnershi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DOTS coverage in 1995, yet, poor treatment outcome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918-7157-4FB7-AAB8-5B82230D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4AF4-1BD5-46D4-8620-33673EEB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A20E-115D-497A-B599-EA1FB0EF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B60-B1CF-49FC-BBB5-AA86E79F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359A-15F3-45B7-A261-FCD718A7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4B8E-B581-4B79-8B94-7723C469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E3BD-500B-45A5-94E7-FBD1D082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A71C-FCBB-433B-93CA-6708458C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8CB0-DB91-48A4-85E4-BB2CE6A4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0CF3-6BAF-4941-AC42-D20F1318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D965-91CC-40BC-A10D-DE558179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0629-502D-4FDF-A6EF-F403CAEF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7780-9FB1-4DA4-B929-544A8DF0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18CF-AE16-4BF5-BDA8-04B1DDEC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74D6-2393-4695-9A02-6AD2E317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973E-EB08-4BB4-983C-BC5AB118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49D7-345E-4A6E-8017-8387D2A0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ACD2-28DD-4A91-86F0-9BF06E8B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0521-F9DE-462D-9719-07101864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F6F6-7A3C-4F2E-B3ED-0A128523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615-ACB4-440E-AA66-4D806FC8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F4A-133D-4991-8750-D8008DBD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490-4388-4287-A06C-44F880C5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B3A6-0C39-46EB-A64D-0846A3AF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05480" y="4680"/>
            <a:ext cx="18998280" cy="27381240"/>
            <a:chOff x="-9105480" y="4680"/>
            <a:chExt cx="18998280" cy="27381240"/>
          </a:xfrm>
        </p:grpSpPr>
        <p:sp>
          <p:nvSpPr>
            <p:cNvPr id="1" name=""/>
            <p:cNvSpPr/>
            <p:nvPr/>
          </p:nvSpPr>
          <p:spPr>
            <a:xfrm>
              <a:off x="5836320" y="1585800"/>
              <a:ext cx="405648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1054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3944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CB88-5E7D-4BB4-BC18-F9010E5889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101562120" y="1463760"/>
            <a:ext cx="186315840" cy="21589560"/>
            <a:chOff x="-101562120" y="1463760"/>
            <a:chExt cx="186315840" cy="21589560"/>
          </a:xfrm>
        </p:grpSpPr>
        <p:sp>
          <p:nvSpPr>
            <p:cNvPr id="45" name=""/>
            <p:cNvSpPr/>
            <p:nvPr/>
          </p:nvSpPr>
          <p:spPr>
            <a:xfrm>
              <a:off x="3544200" y="2709720"/>
              <a:ext cx="636156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01562120" y="1463760"/>
              <a:ext cx="18631584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148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40292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AEB6-846E-40BF-8477-7AB33D9268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5440" y="404640"/>
            <a:ext cx="9001080" cy="13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GFATM Coordination at country level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paration for Round 5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80880" y="2276280"/>
            <a:ext cx="6732360" cy="26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ing support for GF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 structural element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TB activities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8880" y="18446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SimSun"/>
              </a:rPr>
              <a:t>Estimated costing of the exercise in two phases: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60520" y="1484280"/>
          <a:ext cx="8785080" cy="4794120"/>
        </p:xfrm>
        <a:graphic>
          <a:graphicData uri="http://schemas.openxmlformats.org/drawingml/2006/table">
            <a:tbl>
              <a:tblPr/>
              <a:tblGrid>
                <a:gridCol w="2666880"/>
                <a:gridCol w="741240"/>
                <a:gridCol w="1355760"/>
                <a:gridCol w="204840"/>
                <a:gridCol w="1079640"/>
                <a:gridCol w="1382760"/>
                <a:gridCol w="135396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1 - Worksh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N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ra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d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per di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articipa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18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Facilita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3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Conference facilities at WHO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ffee brea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,09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7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lation (English, French, Spanis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9,96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ocuments production, station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$ </a:t>
                      </a: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165,554</a:t>
                      </a: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9800" y="620640"/>
            <a:ext cx="8753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2 – Country Visit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0160" y="1252440"/>
          <a:ext cx="9505800" cy="1641600"/>
        </p:xfrm>
        <a:graphic>
          <a:graphicData uri="http://schemas.openxmlformats.org/drawingml/2006/table">
            <a:tbl>
              <a:tblPr/>
              <a:tblGrid>
                <a:gridCol w="1357200"/>
                <a:gridCol w="814320"/>
                <a:gridCol w="1647720"/>
                <a:gridCol w="1195560"/>
                <a:gridCol w="1273320"/>
                <a:gridCol w="1569960"/>
                <a:gridCol w="164772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sult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ge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nt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,00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0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5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60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180000" y="3141720"/>
            <a:ext cx="83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We are not charging countries in which WHO staff already exist and will assis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5840" y="4149720"/>
            <a:ext cx="89154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vering workshop costs already raised with partn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untry missions still sou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333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80360" y="52833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45240" y="52833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3,035,87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89480" y="52833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4160" y="52833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1 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33680" y="5283360"/>
            <a:ext cx="1320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9800" y="5283360"/>
            <a:ext cx="8938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967280"/>
            <a:ext cx="177948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45240" y="4967280"/>
            <a:ext cx="16351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,618,3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89480" y="4967280"/>
            <a:ext cx="135576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54160" y="4967280"/>
            <a:ext cx="14353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80360" y="46497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45240" y="46497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67,850,15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89480" y="46497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4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54160" y="46497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33680" y="4649760"/>
            <a:ext cx="13204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9800" y="4649760"/>
            <a:ext cx="8938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80360" y="433224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45240" y="433224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,414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89480" y="433224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4160" y="433224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4016520"/>
            <a:ext cx="177948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45240" y="4016520"/>
            <a:ext cx="16351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15,020,9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89480" y="4016520"/>
            <a:ext cx="135576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4160" y="4016520"/>
            <a:ext cx="14353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5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33680" y="4016520"/>
            <a:ext cx="13204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800" y="4016520"/>
            <a:ext cx="8938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80360" y="369900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0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45240" y="369900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4,762,73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89480" y="369900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54160" y="369900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338148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7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45240" y="338148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6,425,4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89480" y="338148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54160" y="338148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3680" y="3381480"/>
            <a:ext cx="13204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800" y="3381480"/>
            <a:ext cx="8938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2013120"/>
            <a:ext cx="1779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B % of all approved 2-year funding 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45240" y="2013120"/>
            <a:ext cx="16351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2-yea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funding for T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(US $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2013120"/>
            <a:ext cx="135576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TB%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l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component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4160" y="2013120"/>
            <a:ext cx="14353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SimSun"/>
              </a:rPr>
              <a:t>*</a:t>
            </a: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33680" y="2013120"/>
            <a:ext cx="1320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ot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800" y="2013120"/>
            <a:ext cx="8938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Roun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800" y="1486080"/>
            <a:ext cx="8420040" cy="52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Summary of GFATM approvals, rounds 1-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 components and Amount of fund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800" y="14860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800" y="56008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80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5984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800" y="20131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800" y="33814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336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541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894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524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803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800" y="40165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54160" y="369900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46497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54160" y="433224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800" y="52833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54160" y="496728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8880" y="11984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5877000"/>
            <a:ext cx="8712360" cy="70380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* TB/HIV component refers to stand alone proposals only. TB/HIV activities received approval in 28 countries in total,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he majority as part of a TB propo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04520" y="1906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In R4, countries receiving TA missions that lasted fewer than five days had a lower success rate (30%) than those that lasted five days or more (64%).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WHO assisted in 35 countries, with overall success rate of 49%; w/out WHO assistance success rate was 14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B control expenditure in HBCs too low: US$ ~850 million in 2002, vs. estimated US$ 976 – sum required to reach 70% case detection by 200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By end 2003, the GFATM approved grants (for up to 5yrs) of US$ 608 million for TB, and US$ 319 million for TB/HIV, in 56 countr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First 2yrs total is US$ 294 million for TB, and US$ 90 million for TB/HIV, but only 16% had been disbursed by end 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8880" y="148428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8520" y="404640"/>
            <a:ext cx="8753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eparation for GFATM Round 5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4520" y="1557360"/>
            <a:ext cx="8420040" cy="478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termine, in collaboration with WHO ROs and technical partners, the list of countries intending to app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tch those countries with appropriate individuals to provide technical assista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old a workshop in Nov '04 to brief the persons assisting countries in all elements to consider when preparing a propos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rganize country visits, where needed, by those assisting countrie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8880" y="112536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5800" y="457200"/>
            <a:ext cx="918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untries intending to apply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6000" y="1628640"/>
            <a:ext cx="969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R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tswana, Cap Verde, Comoros, DR Congo, Congo, Equatorial Guinea, Eritrea, Gabon, Gambia, Ghana, Mozambique, Niger, Nigeria, São Tomé and Principe, Senegal, SA, Tanzania, Zimbab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ize, Brazil, Guatemala, Mexico, Suri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ran, Morocco, Sud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bania, Armenia, Azerbaijan, Belarus, Bosnia and Herzegovina, Bulgaria, Kazakhstan, Macedonia, Turkey, Turkmenistan, Ukra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A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a, Indonesia, Bangladesh, Myanmar, Thailand (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P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bodia, Pacific Islands, PNG (?), Philippines, Viet N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29528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60160" y="404280"/>
            <a:ext cx="8753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1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88520" y="1413000"/>
            <a:ext cx="8915400" cy="4797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eva, 22 – 26 Nov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e WG with people from all technical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weekly mee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acilitators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/STB (conceptual framework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FATM (procedures, guidelines, appl. fo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rtfolio managers (case stud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0520" y="119700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8880" y="404640"/>
            <a:ext cx="875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8880" y="1484280"/>
            <a:ext cx="8915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ont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s on conceptu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FATM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5 guidelines and application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udget pre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 of case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(successes and failu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880" y="119700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8880" y="260280"/>
            <a:ext cx="8928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2880" y="1052640"/>
            <a:ext cx="9360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444600" indent="-44460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Development of a conceptual framework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to provide a guide to countries that want to consider including a particular technical area in the proposal</a:t>
            </a: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Range of components/activities and their ration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Suggested budget lines by activ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Costing to be determined at country-level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Flowchart with logical sequence of ev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Main process indicato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orking tool for NTPs (…and TRP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99072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88640"/>
            <a:ext cx="8969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SimSun"/>
              </a:rPr>
              <a:t>Technical Areas for TB: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15800" y="90792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Advocacy and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expa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Plus and GL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rug Resistance Surveil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Monitoring &amp; Evalu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lobal Dru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Laboratory servi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Involving all health care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National Part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7T12:50:58Z</dcterms:created>
  <dc:creator>Dr. Giuliano Gargioni</dc:creator>
  <dc:description/>
  <dc:language>en-US</dc:language>
  <cp:lastModifiedBy>diazv</cp:lastModifiedBy>
  <dcterms:modified xsi:type="dcterms:W3CDTF">2004-10-08T15:40:23Z</dcterms:modified>
  <cp:revision>47</cp:revision>
  <dc:subject/>
  <dc:title>Training</dc:title>
</cp:coreProperties>
</file>