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44E00-8BA8-4CA5-AF01-7A1BDD733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256DD-564F-47A4-80D1-7375D251E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CE069-84A2-4B9D-A694-4EFEF04B3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1BEA3-75D9-460B-B5AD-6B831B5FB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BF43D-4F9E-4A60-8ED4-7C618A085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360C4-EAB0-4CED-BD40-55ED15722E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4F048-8721-4E6C-BCCE-161D5E8E5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D1F5B-F220-46FE-8304-4252FAA9E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CD587-CB1B-4AE7-A122-E7E26477E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A6003-4D80-4919-A849-CAA9B4D5A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1830F-98AC-44E5-BAE6-FD14FF5D4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A9DC3-C049-4496-B3BA-5FADDA528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igh Level Mission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50648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 tool of the STB Coordinating Board  for political advoc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, based on the request, the draft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finalise and the Chair of CB approves the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 with the host the detailed program, press events and provides logistical liais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ost is responsible for actual progra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rapporteur prepares joint report after the visit to full CB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report back to their respective constituenc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Discu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xpanded Purpose of HL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ot only just TB burde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cludes international and global governance attenda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asible number of HLMs per ye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lection of HLM members based on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reparation by secretaria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porting and feed back to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Who will pay for the expenses?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s of High Level Miss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General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represent the Global Stop TB Partnership (incl. its componen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enhance the profile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advocate effective TB control using international standards and strateg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highlight Stop TB achievement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pecific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generate additional support for TB control and DOTS among key decision mak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obtain political commit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High Level Missions to go where….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TB burden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 and international meetings with relevant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, international or global political governance entit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new governmental dono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(global) summi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y High Level Missions in the international and global arena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demonstrate the global solidarity of Stop TB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increase awareness about TB contro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put TB on the relevant political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generate political and macro-economic interests, resulting in additional fun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713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me NTPs meet specific constraints beyond their influence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y High Level Missions to countries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3141720"/>
            <a:ext cx="3816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330880"/>
            <a:ext cx="3745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2175120"/>
            <a:ext cx="28796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priority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TB allocation in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ing with other programs and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2176200"/>
            <a:ext cx="482436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commi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Health policy in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soci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e underlying proces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3673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When meeting and discussing with the key politicians and decision makers, the crucial issues of TB control are presented from an 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international and global perspective.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he issues are likely to be taken more seriously and with a different dimension than if it comes from a lower level voice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584320"/>
            <a:ext cx="864216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Using high level political peer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at happened up till now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igh Level Missions to countries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onl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like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dones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Banglades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Niger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Participation on basis of individual interest and availability of CB memb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prior Terms of Reference or brief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reporting back to the Coordinating Boar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roposal: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king High Level Missions effectiv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Decis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B decides on HLMs based on substantiated requests from countries or partners and selects </a:t>
            </a:r>
            <a:r>
              <a:rPr b="1" i="1" lang="en-GB" sz="2000" spc="-1" strike="noStrike">
                <a:solidFill>
                  <a:srgbClr val="720000"/>
                </a:solidFill>
                <a:latin typeface="Tahoma"/>
              </a:rPr>
              <a:t>constituencies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to participat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epar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repare TOR and determine expected outcome and results; detailed program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tailed briefing document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Actual visi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Being open, sensitive, constructive and diplomatic; demonstrate joint purpos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por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Joint report with conclusions and recommendations to the full Coordinating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B invites HLM members based on their respective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constituenc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and allows for a representative to participat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ecretariat participates in the HLM with one high level staff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M members agree on a spokesperson and a rapporteur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7T17:02:39Z</dcterms:modified>
  <cp:revision>176</cp:revision>
  <dc:subject/>
  <dc:title>Secretariat, 2003 Progress Report</dc:title>
</cp:coreProperties>
</file>