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EEF8-4923-4D58-86CB-31DA687CE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1F39-A86E-4F5E-8268-AB1C90E8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E78F-11DB-41DD-9A12-E0644AF35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AE1E-8424-44B0-A1B4-C4B07605A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A7CA-2885-4358-B52A-228D2881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C241-C705-49D7-A22E-7AE7E1BB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8F75-66B5-436A-B72D-D02D569D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B329-59F2-47C2-88D8-F2F74A33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6F55-422F-4D02-8C25-84BC24FB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DA11-484F-488A-8C4E-2260573B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68B1-82A1-429C-BD1B-0FAB6E17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F730-AA6A-4422-8FFE-4F45CB90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1.xml"/><Relationship Id="rId17" Type="http://schemas.openxmlformats.org/officeDocument/2006/relationships/slideLayout" Target="../slideLayouts/slideLayout2.xml"/><Relationship Id="rId18" Type="http://schemas.openxmlformats.org/officeDocument/2006/relationships/slideLayout" Target="../slideLayouts/slideLayout3.xml"/><Relationship Id="rId19" Type="http://schemas.openxmlformats.org/officeDocument/2006/relationships/slideLayout" Target="../slideLayouts/slideLayout4.xml"/><Relationship Id="rId20" Type="http://schemas.openxmlformats.org/officeDocument/2006/relationships/slideLayout" Target="../slideLayouts/slideLayout5.xml"/><Relationship Id="rId21" Type="http://schemas.openxmlformats.org/officeDocument/2006/relationships/slideLayout" Target="../slideLayouts/slideLayout6.xml"/><Relationship Id="rId22" Type="http://schemas.openxmlformats.org/officeDocument/2006/relationships/slideLayout" Target="../slideLayouts/slideLayout7.xml"/><Relationship Id="rId23" Type="http://schemas.openxmlformats.org/officeDocument/2006/relationships/slideLayout" Target="../slideLayouts/slideLayout8.xml"/><Relationship Id="rId24" Type="http://schemas.openxmlformats.org/officeDocument/2006/relationships/slideLayout" Target="../slideLayouts/slideLayout9.xml"/><Relationship Id="rId25" Type="http://schemas.openxmlformats.org/officeDocument/2006/relationships/slideLayout" Target="../slideLayouts/slideLayout10.xml"/><Relationship Id="rId26" Type="http://schemas.openxmlformats.org/officeDocument/2006/relationships/slideLayout" Target="../slideLayouts/slideLayout11.xml"/><Relationship Id="rId2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43F1-95F5-4853-9A82-E8E0549AC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0720" y="645336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3069-6A98-4D7B-8898-195598537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17520" y="0"/>
            <a:ext cx="8424360" cy="1124640"/>
            <a:chOff x="317520" y="0"/>
            <a:chExt cx="8424360" cy="1124640"/>
          </a:xfrm>
        </p:grpSpPr>
        <p:graphicFrame>
          <p:nvGraphicFramePr>
            <p:cNvPr id="6" name=""/>
            <p:cNvGraphicFramePr/>
            <p:nvPr/>
          </p:nvGraphicFramePr>
          <p:xfrm>
            <a:off x="3498120" y="169560"/>
            <a:ext cx="2557440" cy="679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498120" y="169560"/>
                      <a:ext cx="255744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" name=""/>
            <p:cNvGraphicFramePr/>
            <p:nvPr/>
          </p:nvGraphicFramePr>
          <p:xfrm>
            <a:off x="5991120" y="169560"/>
            <a:ext cx="2750760" cy="679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991120" y="169560"/>
                      <a:ext cx="27507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" name=""/>
            <p:cNvGraphicFramePr/>
            <p:nvPr/>
          </p:nvGraphicFramePr>
          <p:xfrm>
            <a:off x="3498120" y="848880"/>
            <a:ext cx="5243400" cy="258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498120" y="848880"/>
                      <a:ext cx="5243400" cy="25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" name=""/>
            <p:cNvGraphicFramePr/>
            <p:nvPr/>
          </p:nvGraphicFramePr>
          <p:xfrm>
            <a:off x="317520" y="0"/>
            <a:ext cx="1912680" cy="806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3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17520" y="0"/>
                      <a:ext cx="1912680" cy="80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" name=""/>
            <p:cNvGraphicFramePr/>
            <p:nvPr/>
          </p:nvGraphicFramePr>
          <p:xfrm>
            <a:off x="317520" y="848880"/>
            <a:ext cx="1912680" cy="2757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17520" y="848880"/>
                      <a:ext cx="1912680" cy="27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" name=""/>
            <p:cNvGraphicFramePr/>
            <p:nvPr/>
          </p:nvGraphicFramePr>
          <p:xfrm>
            <a:off x="2208600" y="848880"/>
            <a:ext cx="1289160" cy="2757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7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208600" y="848880"/>
                      <a:ext cx="1289160" cy="27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" name=""/>
            <p:cNvGraphicFramePr/>
            <p:nvPr/>
          </p:nvGraphicFramePr>
          <p:xfrm>
            <a:off x="2208600" y="169560"/>
            <a:ext cx="1289160" cy="67932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9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2208600" y="169560"/>
                      <a:ext cx="12891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6"/>
    <p:sldLayoutId id="2147483650" r:id="rId17"/>
    <p:sldLayoutId id="2147483651" r:id="rId18"/>
    <p:sldLayoutId id="2147483652" r:id="rId19"/>
    <p:sldLayoutId id="2147483653" r:id="rId20"/>
    <p:sldLayoutId id="2147483654" r:id="rId21"/>
    <p:sldLayoutId id="2147483655" r:id="rId22"/>
    <p:sldLayoutId id="2147483656" r:id="rId23"/>
    <p:sldLayoutId id="2147483657" r:id="rId24"/>
    <p:sldLayoutId id="2147483658" r:id="rId25"/>
    <p:sldLayoutId id="2147483659" r:id="rId26"/>
    <p:sldLayoutId id="2147483660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ving Technology for Rapid Diagnosis of TB in HIV and MDR TB pati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3141360"/>
            <a:ext cx="8229600" cy="32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r. Giorgio Roscig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and New DX W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9280" y="1267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V-Associated TB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8229600" cy="39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V infection is the greatest risk factor for the development of T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ssociation with HIV, rates of TB have increased as much as 5-fold in countries in sub-Saharan Af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ajority of HIV-associated TB cases are AFB sputum smear-neg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8000" y="112500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HIV-Associated TB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5280" y="240480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mproved diagnosis of smear-negative TB in HIV+ patients has been designated as a research priority for last 15 yea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number of diagnostic algorithms have been evaluated but none has proved to be adequa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HIV-Associated TB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822960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novel technologies are available for imple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lture diagnosis, the standard of care in developed countries, is generally not available in areas impacted by TB/HIV and even when it is :  is slow ( 3 to 6 week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MDR TB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24000" y="2924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DR TB has been identified as a significant problem in a number of count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tandardized approach (DOTS-Plus) and a mechanism to provide for low cost drugs and comprehensive package of care (Green Light Committee) has been successfully developed to provide for MDR TB treatment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280" y="1267920"/>
            <a:ext cx="889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MDR TB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95280" y="2707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ajor limitation together with appropriate surveillance to the expansion of DOTS-Plus programs is the lack of capacity for drug susceptibility testing (DST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ST and standardized or individualized drug treatment regimens are needed to reduce mortality rates for those with MDR TB or MDR sup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many programs where DST is available the methodology is slow and cumbersome so that results do not inform treatment decis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tential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, standardized liquid TB culture and DST systems are standard practice in EME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GIT system manufactured by Becton Dickinson is a leader in th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automated and manual MGIT systems are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GIT system could provide results in smear negative in 10 to 15 days as opposed to 3 to 6 weeks with L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systems should be demonstrated in operational research settings in National Tuberculosis Control Programs in High HIV and MDRTB sett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livering relevant DST results for MDR-TB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C, CDC, IUATLD, STB, WHO &amp; TDR, DOTS-plus WG, NT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04 Delhi partnership with DOTS-plus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-04 Moscow mtg on DST (strategic plan outlin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-04 Geneva mtg (consensus agre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04 Paris mtg (site selection/logistics/launch demonstration proje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Cas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solving the smear-negative crisis in HIV 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gnostics WG, DOTS-expansion, CREATE, TB/HIV WG, CDC, IUATLD, STB, WHO &amp; TDR,  NT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 plan from FIND for improved case detection in HIV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-04 FIND demonstration network establ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4 STB Coordinating Board consid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30 Corporate partner agreement announc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280" y="12679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le of FIND and Diagnostics W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2216160"/>
            <a:ext cx="8424720" cy="42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reement for cooperation with Becton-Dickin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sion of technical support and training  for demonstration pro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eement for test kits , manual and automated machines  in the public sector (tender market) at affordable prices ( discount over 90 %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fy partners and implement TB demonstration pro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olve HIV programs in the stud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conditions for equitable and careful acc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umulate and manage data to provide for eventual policy chan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i.e., WHO recommendations)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chnical Issues to be address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306864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 only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 vs. autom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tic equipment package to support MGI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new tube 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1160" y="189000"/>
            <a:ext cx="858168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Recent Advances in TB Diagnostic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44056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C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e hybridization species de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CR amplification-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uprobe spe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FLP fingerpri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TD transcription-mediated ampl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CR Amplic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-MTD approved by F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lain" startAt="2001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ntiferon FDA appr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4    Ellispot approved in Eur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0"/>
            <a:ext cx="8353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 NTP in demonstration pro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ness data at different level of the public health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erence for manual mach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of technology in HIV clin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on of a GLC like Committee to carefully select sites for demonstration projects and for future introduction in NT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627280" y="3429000"/>
            <a:ext cx="3429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  <a:ea typeface="Arial"/>
              </a:rPr>
              <a:t>Lack of progress in diagnostics in the developing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1619280" cy="2895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93640" y="5573880"/>
            <a:ext cx="260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undamental diagnostic: 18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443640" y="2637000"/>
            <a:ext cx="1619280" cy="2895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232680" y="5573880"/>
            <a:ext cx="260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undamental diagnostic: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19700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iscovery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1268280"/>
            <a:ext cx="193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duct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84464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argets &amp; 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184464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mpanies &amp;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03640" y="11970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erformanc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88000" y="17733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valuation &amp;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93080" y="177336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eed &amp;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24720" y="119700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rket upt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90720" y="861840"/>
            <a:ext cx="30492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81640" y="861840"/>
            <a:ext cx="3045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96240" y="861840"/>
            <a:ext cx="3045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6840" y="10904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91120" y="10904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27280" y="1916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29400" y="10904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381880" y="6103800"/>
            <a:ext cx="762120" cy="754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705720" y="62485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HO/TDR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2133720"/>
            <a:ext cx="8116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20-year old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inority of patients de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ong delays = morbidity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uch over and undertreatment in HIV prevalent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esistance clinically diagn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atent infection tools clumsy and indiscrimi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1125360"/>
            <a:ext cx="85694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Current TB diagnostic situation in th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public health sector in HB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250920" y="1341360"/>
            <a:ext cx="8641800" cy="5256000"/>
            <a:chOff x="250920" y="1341360"/>
            <a:chExt cx="8641800" cy="5256000"/>
          </a:xfrm>
        </p:grpSpPr>
        <p:sp>
          <p:nvSpPr>
            <p:cNvPr id="88" name=""/>
            <p:cNvSpPr/>
            <p:nvPr/>
          </p:nvSpPr>
          <p:spPr>
            <a:xfrm>
              <a:off x="654120" y="1341360"/>
              <a:ext cx="816336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58000" y="1379160"/>
              <a:ext cx="6299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TUBERCULOSIS DIAGNOSTICS CURRENTLY USED IN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12320" y="1659960"/>
              <a:ext cx="5365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ELOPING COUNTRIES ARE NOT OPTIMAL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0920" y="2856600"/>
              <a:ext cx="1550880" cy="60480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5040" y="3084120"/>
              <a:ext cx="880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utum sme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0920" y="3639600"/>
              <a:ext cx="1550880" cy="60624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82280" y="3868920"/>
              <a:ext cx="44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lt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0920" y="4434480"/>
              <a:ext cx="1550880" cy="60624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8360" y="4663440"/>
              <a:ext cx="45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est 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48400" y="46634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93400" y="4663440"/>
              <a:ext cx="18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0920" y="5217480"/>
              <a:ext cx="1550880" cy="60624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83080" y="544644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P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27520" y="2279880"/>
              <a:ext cx="1728000" cy="4723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44480" y="2441520"/>
              <a:ext cx="633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Sensitiv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39400" y="2850480"/>
              <a:ext cx="1730160" cy="606240"/>
            </a:xfrm>
            <a:prstGeom prst="rect">
              <a:avLst/>
            </a:prstGeom>
            <a:solidFill>
              <a:srgbClr val="ff9900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61840" y="29008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20240" y="2900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15640" y="290088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27600" y="3035160"/>
              <a:ext cx="10263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eloping world: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ø AIDS: ~ 60%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+ AIDS: ~ 40 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86520" y="33044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39400" y="3634920"/>
              <a:ext cx="1730160" cy="604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61840" y="36856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20240" y="3685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15640" y="368568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27600" y="3953880"/>
              <a:ext cx="1040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Few studies done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39400" y="4429440"/>
              <a:ext cx="1730160" cy="604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61840" y="448020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20240" y="4480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15640" y="448020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4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39400" y="5212800"/>
              <a:ext cx="1730160" cy="6044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61840" y="526320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20240" y="5263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15640" y="526320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99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3818160" y="2279880"/>
              <a:ext cx="1742760" cy="3537000"/>
              <a:chOff x="3818160" y="2279880"/>
              <a:chExt cx="1742760" cy="3537000"/>
            </a:xfrm>
          </p:grpSpPr>
          <p:sp>
            <p:nvSpPr>
              <p:cNvPr id="123" name=""/>
              <p:cNvSpPr/>
              <p:nvPr/>
            </p:nvSpPr>
            <p:spPr>
              <a:xfrm>
                <a:off x="3818160" y="2279880"/>
                <a:ext cx="1729800" cy="471960"/>
              </a:xfrm>
              <a:prstGeom prst="rect">
                <a:avLst/>
              </a:prstGeom>
              <a:solidFill>
                <a:srgbClr val="00582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335840" y="2441160"/>
                <a:ext cx="633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Specific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831120" y="2850120"/>
                <a:ext cx="1729800" cy="60624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545360" y="2900520"/>
                <a:ext cx="298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95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17880" y="3170520"/>
                <a:ext cx="1442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much lower in developed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918960" y="3304440"/>
                <a:ext cx="900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orld, e.g., 50%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831120" y="3634560"/>
                <a:ext cx="1729800" cy="60480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451760" y="368532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4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612320" y="3685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07360" y="3685320"/>
                <a:ext cx="230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9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17880" y="3953520"/>
                <a:ext cx="1436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Depend on prevalence of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920400" y="4087800"/>
                <a:ext cx="210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132800" y="40878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68800" y="4087800"/>
                <a:ext cx="956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B Mycobacteria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31120" y="4429080"/>
                <a:ext cx="1729800" cy="604800"/>
              </a:xfrm>
              <a:prstGeom prst="rect">
                <a:avLst/>
              </a:prstGeom>
              <a:solidFill>
                <a:srgbClr val="ff9933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51760" y="447984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6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12320" y="4479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707360" y="4479840"/>
                <a:ext cx="230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7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916800" y="4748040"/>
                <a:ext cx="1520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based on studies in Kenya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919680" y="4881960"/>
                <a:ext cx="605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amp; Ethiopia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1120" y="5212440"/>
                <a:ext cx="1729800" cy="604440"/>
              </a:xfrm>
              <a:prstGeom prst="rect">
                <a:avLst/>
              </a:prstGeom>
              <a:solidFill>
                <a:srgbClr val="ff9933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073400" y="5262840"/>
                <a:ext cx="120024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ery low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alse pos. results wi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  prior exposure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-  vaccinat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8461080" y="2561040"/>
              <a:ext cx="25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Lo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8440" y="6350760"/>
              <a:ext cx="722484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160" y="6414480"/>
              <a:ext cx="397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rce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10160" y="6414480"/>
              <a:ext cx="3147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sitivity/Specificity: Many references for smear; fewer for o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46840" y="6414480"/>
              <a:ext cx="3319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r techniques. Mostly estimates; Costs: TDR (unpublished data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30040" y="2281320"/>
              <a:ext cx="1730160" cy="4723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91000" y="244332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Spe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43720" y="2851920"/>
              <a:ext cx="1729800" cy="6062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96800" y="3046680"/>
              <a:ext cx="1265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1 h / te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- 3 days for 3 sampl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43720" y="3636720"/>
              <a:ext cx="1729800" cy="604440"/>
            </a:xfrm>
            <a:prstGeom prst="rect">
              <a:avLst/>
            </a:prstGeom>
            <a:solidFill>
              <a:srgbClr val="ff9933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60400" y="3862080"/>
              <a:ext cx="63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– 6 weeks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LJ media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43720" y="4431240"/>
              <a:ext cx="1729800" cy="6044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20880" y="46864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– 3 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43720" y="5214240"/>
              <a:ext cx="1729800" cy="604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20880" y="54284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day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7537680" y="2856600"/>
              <a:ext cx="1326240" cy="605880"/>
              <a:chOff x="7537680" y="2856600"/>
              <a:chExt cx="1326240" cy="605880"/>
            </a:xfrm>
          </p:grpSpPr>
          <p:sp>
            <p:nvSpPr>
              <p:cNvPr id="161" name=""/>
              <p:cNvSpPr/>
              <p:nvPr/>
            </p:nvSpPr>
            <p:spPr>
              <a:xfrm>
                <a:off x="7537680" y="2856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3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4360" y="2856600"/>
                <a:ext cx="43956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.6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77600" y="2856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.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7537680" y="5207760"/>
              <a:ext cx="1326240" cy="605880"/>
              <a:chOff x="7537680" y="5207760"/>
              <a:chExt cx="1326240" cy="605880"/>
            </a:xfrm>
          </p:grpSpPr>
          <p:sp>
            <p:nvSpPr>
              <p:cNvPr id="165" name=""/>
              <p:cNvSpPr/>
              <p:nvPr/>
            </p:nvSpPr>
            <p:spPr>
              <a:xfrm>
                <a:off x="7537680" y="5207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0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424360" y="5207760"/>
                <a:ext cx="43956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2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977600" y="5207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1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7537680" y="3639600"/>
              <a:ext cx="1326240" cy="605880"/>
              <a:chOff x="7537680" y="3639600"/>
              <a:chExt cx="1326240" cy="605880"/>
            </a:xfrm>
          </p:grpSpPr>
          <p:sp>
            <p:nvSpPr>
              <p:cNvPr id="169" name=""/>
              <p:cNvSpPr/>
              <p:nvPr/>
            </p:nvSpPr>
            <p:spPr>
              <a:xfrm>
                <a:off x="7537680" y="3639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.3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424360" y="3639600"/>
                <a:ext cx="43956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.7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977600" y="3639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5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7537680" y="4442760"/>
              <a:ext cx="1326240" cy="605880"/>
              <a:chOff x="7537680" y="4442760"/>
              <a:chExt cx="1326240" cy="605880"/>
            </a:xfrm>
          </p:grpSpPr>
          <p:sp>
            <p:nvSpPr>
              <p:cNvPr id="173" name=""/>
              <p:cNvSpPr/>
              <p:nvPr/>
            </p:nvSpPr>
            <p:spPr>
              <a:xfrm>
                <a:off x="7537680" y="4442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.3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424360" y="4442760"/>
                <a:ext cx="439560" cy="605880"/>
              </a:xfrm>
              <a:prstGeom prst="rect">
                <a:avLst/>
              </a:prstGeom>
              <a:solidFill>
                <a:srgbClr val="ff9933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2.2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977600" y="4442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7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7542720" y="2281320"/>
              <a:ext cx="1350000" cy="4723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cost (US $, 2003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low    medium   hig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90520" y="1311120"/>
            <a:ext cx="856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ll drive diagnostics development from concept to delivery in the health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3838680"/>
            <a:ext cx="243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aise with funders, pharmaceut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d biotech companies,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itutions, acad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65560" y="4048200"/>
            <a:ext cx="261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reate network of public and private partners to create effective tests and demonstrate their 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383868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aise with funders, multi-lateral agencies, NGOs,health ministri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d agencies like GDF and GF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36800" y="2219400"/>
            <a:ext cx="3495600" cy="2514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21520" y="2797200"/>
            <a:ext cx="2313000" cy="927000"/>
          </a:xfrm>
          <a:custGeom>
            <a:avLst/>
            <a:gdLst>
              <a:gd name="textAreaLeft" fmla="*/ 0 w 2313000"/>
              <a:gd name="textAreaRight" fmla="*/ 2313360 w 2313000"/>
              <a:gd name="textAreaTop" fmla="*/ 0 h 927000"/>
              <a:gd name="textAreaBottom" fmla="*/ 927360 h 92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Market access                          and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0200" y="2797200"/>
            <a:ext cx="2314440" cy="934920"/>
          </a:xfrm>
          <a:custGeom>
            <a:avLst/>
            <a:gdLst>
              <a:gd name="textAreaLeft" fmla="*/ 0 w 2314440"/>
              <a:gd name="textAreaRight" fmla="*/ 2314440 w 231444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Discover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d 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11320" y="2479680"/>
            <a:ext cx="3349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65560" y="2254320"/>
            <a:ext cx="1025640" cy="522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IND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’s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2478240"/>
            <a:ext cx="2039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69880" y="2254320"/>
            <a:ext cx="644760" cy="52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p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92880" y="2479680"/>
            <a:ext cx="1995480" cy="1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86440" y="2254320"/>
            <a:ext cx="928800" cy="52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wn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40040" y="2797200"/>
            <a:ext cx="1257120" cy="9349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9800" rIns="2736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97440" y="2797200"/>
            <a:ext cx="1257120" cy="9349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e5af1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51600" y="2795760"/>
            <a:ext cx="1257120" cy="9349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0d89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616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mon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41320" y="5261040"/>
            <a:ext cx="2108520" cy="1301760"/>
          </a:xfrm>
          <a:custGeom>
            <a:avLst/>
            <a:gdLst>
              <a:gd name="textAreaLeft" fmla="*/ 0 w 2108520"/>
              <a:gd name="textAreaRight" fmla="*/ 2108880 w 210852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9800" rIns="2736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acilitat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-fun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-devel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66960" y="5261040"/>
            <a:ext cx="2108520" cy="1301760"/>
          </a:xfrm>
          <a:custGeom>
            <a:avLst/>
            <a:gdLst>
              <a:gd name="textAreaLeft" fmla="*/ 0 w 2108520"/>
              <a:gd name="textAreaRight" fmla="*/ 2108880 w 210852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e5af1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gulatory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b &amp; fie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r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91160" y="5259240"/>
            <a:ext cx="2108160" cy="1301760"/>
          </a:xfrm>
          <a:custGeom>
            <a:avLst/>
            <a:gdLst>
              <a:gd name="textAreaLeft" fmla="*/ 0 w 2108160"/>
              <a:gd name="textAreaRight" fmla="*/ 2108520 w 210816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0d89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6160" rIns="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mon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rge-sc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asu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easibility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mpact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isease contro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740960" y="4734000"/>
            <a:ext cx="1001880" cy="5252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24480" y="4734000"/>
            <a:ext cx="1222560" cy="5252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06440" y="5640480"/>
            <a:ext cx="1015920" cy="457200"/>
          </a:xfrm>
          <a:prstGeom prst="rightArrow">
            <a:avLst>
              <a:gd name="adj1" fmla="val 73611"/>
              <a:gd name="adj2" fmla="val 6811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of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inci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38640" y="5640480"/>
            <a:ext cx="1015920" cy="457200"/>
          </a:xfrm>
          <a:prstGeom prst="rightArrow">
            <a:avLst>
              <a:gd name="adj1" fmla="val 73611"/>
              <a:gd name="adj2" fmla="val 6811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duc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 b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24320" y="5640480"/>
            <a:ext cx="1016280" cy="457200"/>
          </a:xfrm>
          <a:prstGeom prst="rightArrow">
            <a:avLst>
              <a:gd name="adj1" fmla="val 73611"/>
              <a:gd name="adj2" fmla="val 68136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ffic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112160" y="5640480"/>
            <a:ext cx="1015920" cy="457200"/>
          </a:xfrm>
          <a:prstGeom prst="rightArrow">
            <a:avLst>
              <a:gd name="adj1" fmla="val 73611"/>
              <a:gd name="adj2" fmla="val 6811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ffective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6410160"/>
            <a:ext cx="12193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6576840"/>
            <a:ext cx="1447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101080" y="5689440"/>
            <a:ext cx="79200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68360" y="73080"/>
            <a:ext cx="820728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64960" y="1477800"/>
          <a:ext cx="8739360" cy="4651560"/>
        </p:xfrm>
        <a:graphic>
          <a:graphicData uri="http://schemas.openxmlformats.org/drawingml/2006/table">
            <a:tbl>
              <a:tblPr/>
              <a:tblGrid>
                <a:gridCol w="1138320"/>
                <a:gridCol w="2524320"/>
                <a:gridCol w="2244600"/>
                <a:gridCol w="1995480"/>
                <a:gridCol w="836640"/>
              </a:tblGrid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edical n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pidemi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Health benef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io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545400">
                <a:tc rowSpan="3"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det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pulmonary TB with high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bacterial load (missed by smea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9 Mio new cases of TB annuall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Mio additional patients in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4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pulmonary TB with low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bacterial load (paucibacillary dis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1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extra-pulmonary and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pediatric T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12 Mio HIV/TB coinfections, frequently extra-pulmon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1 Mio new cases of pediatric TB annual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0.5 Mio more HIV patients in treatment / ye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0.5 Mio more children in treatment / ye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18760">
                <a:tc rowSpan="2"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 susceptibility testing (MD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MDR for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4000" rIns="54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300.000 new MDR TB cases annuall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outc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MDR for surveill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8760">
                <a:tc rowSpan="2"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t TB inf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LTBI for surveill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than 2 billion LTBI c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LTBI for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  <p:grpSp>
        <p:nvGrpSpPr>
          <p:cNvPr id="207" name=""/>
          <p:cNvGrpSpPr/>
          <p:nvPr/>
        </p:nvGrpSpPr>
        <p:grpSpPr>
          <a:xfrm>
            <a:off x="4943520" y="6237360"/>
            <a:ext cx="979560" cy="368280"/>
            <a:chOff x="4943520" y="6237360"/>
            <a:chExt cx="979560" cy="368280"/>
          </a:xfrm>
        </p:grpSpPr>
        <p:sp>
          <p:nvSpPr>
            <p:cNvPr id="208" name=""/>
            <p:cNvSpPr/>
            <p:nvPr/>
          </p:nvSpPr>
          <p:spPr>
            <a:xfrm>
              <a:off x="4943520" y="6314760"/>
              <a:ext cx="288720" cy="2282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36560" y="62373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n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278400" y="6237360"/>
            <a:ext cx="1132920" cy="368280"/>
            <a:chOff x="6278400" y="6237360"/>
            <a:chExt cx="1132920" cy="368280"/>
          </a:xfrm>
        </p:grpSpPr>
        <p:sp>
          <p:nvSpPr>
            <p:cNvPr id="211" name=""/>
            <p:cNvSpPr/>
            <p:nvPr/>
          </p:nvSpPr>
          <p:spPr>
            <a:xfrm>
              <a:off x="6278400" y="6314760"/>
              <a:ext cx="28872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70720" y="623736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7713720" y="6237360"/>
            <a:ext cx="1157760" cy="368280"/>
            <a:chOff x="7713720" y="6237360"/>
            <a:chExt cx="1157760" cy="368280"/>
          </a:xfrm>
        </p:grpSpPr>
        <p:sp>
          <p:nvSpPr>
            <p:cNvPr id="214" name=""/>
            <p:cNvSpPr/>
            <p:nvPr/>
          </p:nvSpPr>
          <p:spPr>
            <a:xfrm>
              <a:off x="7713720" y="6314760"/>
              <a:ext cx="288720" cy="228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06400" y="623736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120400" y="380880"/>
            <a:ext cx="5684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Arial"/>
                <a:ea typeface="Arial"/>
              </a:rPr>
              <a:t>FIND priorities &amp; impac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395280" y="2336760"/>
            <a:ext cx="6769080" cy="3171960"/>
            <a:chOff x="395280" y="2336760"/>
            <a:chExt cx="6769080" cy="3171960"/>
          </a:xfrm>
        </p:grpSpPr>
        <p:sp>
          <p:nvSpPr>
            <p:cNvPr id="218" name=""/>
            <p:cNvSpPr/>
            <p:nvPr/>
          </p:nvSpPr>
          <p:spPr>
            <a:xfrm>
              <a:off x="395280" y="3387600"/>
              <a:ext cx="1471680" cy="58752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ral la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5280" y="4147920"/>
              <a:ext cx="1471680" cy="5889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5280" y="4919760"/>
              <a:ext cx="1471680" cy="588960"/>
            </a:xfrm>
            <a:prstGeom prst="rect">
              <a:avLst/>
            </a:prstGeom>
            <a:solidFill>
              <a:srgbClr val="ff99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 ce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lini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89080" y="2347920"/>
              <a:ext cx="1639800" cy="93816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  <a:ea typeface="Arial"/>
                </a:rPr>
                <a:t>1. Dete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Who shall be treated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Is patient respond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092320" y="3381480"/>
              <a:ext cx="1641600" cy="588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92320" y="4143240"/>
              <a:ext cx="1641600" cy="5875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ll detection ga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92320" y="4914720"/>
              <a:ext cx="1641600" cy="58752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 – No answ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dical monitor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792600" y="3381480"/>
              <a:ext cx="1641240" cy="588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92600" y="4143240"/>
              <a:ext cx="1641240" cy="5875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olve unclear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cas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istance test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92600" y="4914720"/>
              <a:ext cx="1641240" cy="58752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11960" y="3382920"/>
              <a:ext cx="1641240" cy="588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QC procedures and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polic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rain typ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11960" y="4145040"/>
              <a:ext cx="1641240" cy="5871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11960" y="4916520"/>
              <a:ext cx="1641240" cy="5871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5840" y="2346120"/>
              <a:ext cx="1639800" cy="9385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  <a:ea typeface="Arial"/>
                </a:rPr>
                <a:t>2. Resol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Change treatment for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  failur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Is the strain resistant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24560" y="2336760"/>
              <a:ext cx="1639800" cy="93816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  <a:ea typeface="Arial"/>
                </a:rPr>
                <a:t>3. Surveill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re programs effectiv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re there new strains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4640" y="2347920"/>
              <a:ext cx="1471680" cy="93672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gnostic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s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9040" y="2344680"/>
              <a:ext cx="143208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rot="16200000">
              <a:off x="3179880" y="4700520"/>
              <a:ext cx="552240" cy="216000"/>
            </a:xfrm>
            <a:custGeom>
              <a:avLst/>
              <a:gdLst>
                <a:gd name="textAreaLeft" fmla="*/ 86040 w 552240"/>
                <a:gd name="textAreaRight" fmla="*/ 483480 w 55224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029360" y="4881600"/>
            <a:ext cx="2003400" cy="923760"/>
            <a:chOff x="7029360" y="4881600"/>
            <a:chExt cx="2003400" cy="923760"/>
          </a:xfrm>
        </p:grpSpPr>
        <p:sp>
          <p:nvSpPr>
            <p:cNvPr id="237" name=""/>
            <p:cNvSpPr/>
            <p:nvPr/>
          </p:nvSpPr>
          <p:spPr>
            <a:xfrm>
              <a:off x="7701120" y="4881600"/>
              <a:ext cx="1331640" cy="923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dicated POC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dev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nimal skill  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require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29360" y="4973760"/>
              <a:ext cx="581040" cy="485640"/>
            </a:xfrm>
            <a:prstGeom prst="rightArrow">
              <a:avLst>
                <a:gd name="adj1" fmla="val 62093"/>
                <a:gd name="adj2" fmla="val 4903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52300" dir="4563564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016760" y="3876120"/>
            <a:ext cx="2011320" cy="918720"/>
            <a:chOff x="7016760" y="3876120"/>
            <a:chExt cx="2011320" cy="918720"/>
          </a:xfrm>
        </p:grpSpPr>
        <p:sp>
          <p:nvSpPr>
            <p:cNvPr id="240" name=""/>
            <p:cNvSpPr/>
            <p:nvPr/>
          </p:nvSpPr>
          <p:spPr>
            <a:xfrm>
              <a:off x="7016760" y="4238640"/>
              <a:ext cx="581040" cy="485640"/>
            </a:xfrm>
            <a:prstGeom prst="rightArrow">
              <a:avLst>
                <a:gd name="adj1" fmla="val 62093"/>
                <a:gd name="adj2" fmla="val 4903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52300" dir="4563564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95720" y="3876120"/>
              <a:ext cx="1332360" cy="91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asy &amp; robust lab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procedur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ort for multiple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health proble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iversal platfor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203640" y="5661000"/>
            <a:ext cx="1728720" cy="863640"/>
          </a:xfrm>
          <a:prstGeom prst="wedgeEllipseCallout">
            <a:avLst>
              <a:gd name="adj1" fmla="val -22634"/>
              <a:gd name="adj2" fmla="val -114888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re sensitive than smear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48360" y="5051520"/>
            <a:ext cx="1728720" cy="896760"/>
          </a:xfrm>
          <a:prstGeom prst="wedgeEllipseCallout">
            <a:avLst>
              <a:gd name="adj1" fmla="val -46416"/>
              <a:gd name="adj2" fmla="val -9637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ster than culture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5640" y="126828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G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IAGNOSTIC QUESTIO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s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HEALTH SYSTEM LEV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763640" y="1268280"/>
            <a:ext cx="45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 TDR PORTFOLIO STRATEGY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11280" y="2133720"/>
            <a:ext cx="7703640" cy="4392000"/>
            <a:chOff x="611280" y="2133720"/>
            <a:chExt cx="7703640" cy="4392000"/>
          </a:xfrm>
        </p:grpSpPr>
        <p:sp>
          <p:nvSpPr>
            <p:cNvPr id="247" name=""/>
            <p:cNvSpPr/>
            <p:nvPr/>
          </p:nvSpPr>
          <p:spPr>
            <a:xfrm>
              <a:off x="616680" y="3028320"/>
              <a:ext cx="1848240" cy="170820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1080" y="2133720"/>
              <a:ext cx="1846440" cy="81360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target seg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58520" y="2133720"/>
              <a:ext cx="2924640" cy="81360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key specific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58040" y="2133720"/>
              <a:ext cx="2756880" cy="81360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projects &amp; solu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58520" y="3028320"/>
              <a:ext cx="292464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ster than cult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TB species specif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f resist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ndardized platfor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576040" y="3028320"/>
              <a:ext cx="273888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ge assay (“Fast-Plaque”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lly integrated PCR syste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othermal NAT syste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1280" y="4817520"/>
              <a:ext cx="1848600" cy="170820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 Cen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lin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52760" y="4817520"/>
              <a:ext cx="292500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e sensitive than sme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yocbacterium genus specif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-day resul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or minimal instrum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70640" y="4817520"/>
              <a:ext cx="273888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kin patch 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reath 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pstick (lateral flow) assay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sputum or urine (antigen)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- blood (antibod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09:21:58Z</dcterms:created>
  <dc:creator>Laurence Perret</dc:creator>
  <dc:description/>
  <dc:language>en-US</dc:language>
  <cp:lastModifiedBy>steenbergeng</cp:lastModifiedBy>
  <dcterms:modified xsi:type="dcterms:W3CDTF">2004-10-15T05:46:45Z</dcterms:modified>
  <cp:revision>81</cp:revision>
  <dc:subject/>
  <dc:title>Slide 1</dc:title>
</cp:coreProperties>
</file>