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EBDD-21FC-44B6-BC32-8A973D9FC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re competitive and uncertain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cording to the Bank, health ODA in 2002 is about $ 8.1 bill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iven new health funding initiatives (GFATM, PEPFAR, MCA ), health funding is expected to continue to rise in the coming years BUT there is no grant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around 80 global health initiatives at this mo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/AIDS is drawing the most significant atten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caling up resource mobilization eff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have to do more – The estimated financial gap for Stop TB is about $25 million in 2005 and getting wider in the coming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eting the overall MDG needs requires an annual ODA average of $156 billion from 2005 through 2007 and $188 billion from 2013 through 2015. (In 2003, the total amount of ODA worldwide was $68 bill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uilding public trust and confidence on the Partn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ublic and donor expectation is high and multidimensional, including an ethical aspect of performa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y down a set of basic princip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aim to set out minimum principles for establishing system-wide standards for resource mobilization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unicate with all stakeholder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are a mean to communicate with our beneficiaries, partners, donors, supporters, and all other stakeholders to promote a better understanding of the Stop TB resource mobilization operation.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sure resource mobilization is mission-driven and aligned with the Partnership's vision and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a quality-control and accountability promotion measu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aim to hold our resource mobilization effort to a higher quality standard and establish it in a wider framework of the mission, vision, and values of the Stop TB Partnership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must be accountable not only financially but also technically: be accountable for utilising the resources entrusted to it for achieving stated results and goa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cooperation with the Resource Mobilization Task Force, the Donation review committee will monitor the implementation of the Guidelines at the Secretariat level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view committee will be composed of 3-4 members from a community of our stakehol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imary functions are twofold: To review donation practice at the Secretariat; and to monitor and evaluate the overall implementation process for further impro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ugh a detailed implementation plan has to be prepared later, some of the key actions we need to tak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disseminate the Guidelines for comments and "buy-in" from partners engaged in resource mobilization with potential TA from the 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prepare a TOR for the Donation Review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circulate the Guidelines to a wider groups of stakeholders and pee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AFC0-9877-4792-8541-C95C6CA5A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2F92-A432-482B-8E56-54CBCB38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D41B-350F-438F-B0F7-3C1F4AB2E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F98D-3FB9-4F71-9FFE-14F93E9C1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A2D7-8B7D-457E-8881-95C5D260C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7190-2DFA-4079-BCF7-38AB37DE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2D16-76F1-45B0-A436-CF90E870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D675-234B-4E27-9CC5-AC827DAB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80BD-ED05-4CF3-9872-C943019C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A736-E7E8-4AD7-A977-46C13AD6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ADCC-D450-4341-9CD2-67A55007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E553-E865-4E00-9B7F-90110A1E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09D4-5545-4686-BC20-C43C9AA1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99C8-97C1-42D3-9AB0-CFBEEEA4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61F6-79FF-46BB-9B69-171E5213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6BE2-1E7E-4590-9EC4-71FF0C611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4499-D3A9-4783-BF4B-06E5D910B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48AD-02E6-40CF-B798-F8E55174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8A44-6B86-4629-B945-7DC8853D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4994-ED1C-445E-9740-28B6E078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F3A6-D6C0-4851-99B2-9D508E52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95F2-A858-4BFE-AC1E-B1EBD3CB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9A4C-8291-4E04-B5B6-AB72CFEA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525D-BD78-4493-81BB-F69AF0A8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BE4E-38A4-4B60-AD6D-961C3D8B8ED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67EC-0890-44BD-AA07-EE0D0C4D770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</a:rPr>
              <a:t>Ethical Guidelines for Resource Mobilization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宋体"/>
              </a:rPr>
              <a:t>Irene Koe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sation Task Forc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Need for Guidelin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Purpos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Key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Implementation and Review Proces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What are Next Steps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Need for Guidelin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quested by Coordinating Bo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mand for accountability and transparency  from regulatory bodies and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More competitive and uncertain environ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Scaling up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More donors from the existing donor seg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w Donor Segment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uilding public trust and confidence on the Partnership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urpose of Ethical Guidelin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Lay down a set of readily understood basic principl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municate the agreed principles that underpin resource mobilisation to all stakeholders 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resource mobilization i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mission-drive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ligned to Partnership valu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Key Principles of Ethical Guidelin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iance with legal requirements in countries where resources are being mobilis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 donations from profits resulting from illegal activities or from products that contribute to lung diseas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maining within the scope of the mandate of the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Key Principles of Ethical Guidelines (Contd.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mislead with incorrect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o be open in all activities and address any conflict of intere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over, or understate the situation with respect to financial requirements or the burden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WHO guidelines for donations in kind, drug donations and working with the Private Sec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view Committe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small, flexible review committee to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Provide advice on acceptance of contributions from new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eview the guidelines on a routine basis and make recommendations to the Coordinating Board for further rev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commendations for the Coordinating Boar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 the guidelin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pply the endorsed guidelines with immediate effec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irculate the Guidelines to those involved in resource mobilisation and peer bod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vijaya</cp:lastModifiedBy>
  <dcterms:modified xsi:type="dcterms:W3CDTF">2004-10-21T14:43:00Z</dcterms:modified>
  <cp:revision>70</cp:revision>
  <dc:subject/>
  <dc:title>Slide 1</dc:title>
</cp:coreProperties>
</file>