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0835-3B11-462B-887C-9B575C364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AF26-C07C-4AB8-9B3B-893A0566C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E3B6-60BE-4C10-BFB0-FE1E16A8E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93AC-3494-483F-A5CC-219E66225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FD94-97A6-4C93-9CC8-DEAB7C2F6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6995-7BF0-44D5-B7E8-CEFD6A678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E7E8-3216-4FDD-9A22-D42563BD0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05D6-7563-4030-BE79-75C2E8EC3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4882-0643-42B5-9674-274767C71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0B20-CABF-4850-8B0A-E8DA05E6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1A2A-313B-420A-B49F-7DD6A21B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7AF0-A355-46CE-AFED-75FC5448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17A7C-4A03-4A1F-AB71-8CC527615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ighlights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1341000"/>
            <a:ext cx="76327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B approved Financial Policy being applied which led to better control through  improved financial mana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ancial transactions of GDF streaml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Working Groups given resources to catalyse their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lk of the contributions from Bilateral Government sources-85.5% of the total income of US$13.8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the total expenditure of US$10.8 million TB Control Drugs cost 78% while other partnership activities cost 23% of the to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jected income for the whole year US$23.1 million, projected expenditure US$ 23.6 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ighlights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55640" y="1341360"/>
            <a:ext cx="7704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jected shortfall for 2005 25 million based on Targeted Workpl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certed effort to be made for mobilising more resources by targeting more donors in the current donor segments and by exploring new donor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inued catalytic support to all Working Grou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rst draft of the Global Plan to control TB to provide overall business plan for 2006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llaboration with GFATM to become clo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vocacy and Communication effort to be intensified considerable to increase political support and enhance public awarenes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08:56:30Z</dcterms:created>
  <dc:creator>vijaya</dc:creator>
  <dc:description/>
  <dc:language>en-US</dc:language>
  <cp:lastModifiedBy>vijaya</cp:lastModifiedBy>
  <dcterms:modified xsi:type="dcterms:W3CDTF">2004-10-04T09:49:34Z</dcterms:modified>
  <cp:revision>6</cp:revision>
  <dc:subject/>
  <dc:title>Highlights</dc:title>
</cp:coreProperties>
</file>