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B99A-815C-47E8-B160-8DEE759108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9DBE-2D81-4DC4-B969-250464BFF2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AB66-56F3-408D-803B-7A3BD6D619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5F6-D17F-486A-90D8-85DC2992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C6E-5553-4453-8B25-AEC9FB0F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FC7-FEAB-4EDE-991A-125F6561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623-D4A5-4C5B-8F1F-85B202A9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E9F4-8710-4A1B-8BFB-4B7EA538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90EB-6683-40F2-9A8B-AB6297D5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4CC3-6449-4335-B94B-172146C4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20B8-8230-47E7-86F9-64E92FAE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0413-AC68-4826-A3DC-DA08D1B3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36EC-D8A9-4DB5-BC97-0D665D01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9FE9-6B63-42D0-B69C-BA745E05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61A-997C-43A6-BE71-B92B726B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C5A8-FB28-4B4C-8103-6807BA8C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6ACA-DCCB-460C-BA81-04E6F136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22F1-6795-4140-8F87-55DB797D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62FC-0B10-4D29-8AB4-66C73FEF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D70E-30A1-479D-9D17-867C4013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9CB-A2D2-4FF5-88F0-1D4491B7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4306-3664-4AF1-9597-04BC5598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264-016F-4A45-9D0E-A8791A2A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7B0-7916-4455-B937-B57A00E8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6C8-0056-4B81-BB9F-45E5A29F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37E-A177-41B6-A6C3-C78D56FD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73E-1819-4A3A-A0EC-BDA00494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4D83-84B4-41B3-B189-F8637EDED72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72D5-804E-4120-9A42-B3738F42632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anding Regional, National and sub-national Partnershi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720" y="220284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gres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046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sks for 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gain additional social &amp; political support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hance public and political perception of TB-DO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TB awareness throughout Pakistan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gage non-traditional partners in the fight against TB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build alliances with other health and development initiativ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49760" y="5734080"/>
            <a:ext cx="73602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TO GET TB ON THE AGENDA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HO Pakistan has offered support to host organiz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ACC members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n the future: Associations/institutions named by at least 2 members     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sues to be address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reach the targe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52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community involvem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advocacy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integration with other programm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Still limited Public-public mix and private-public mix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human resources at al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commitment at District level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structured supply management system at all leve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DOTS yet to be implemented in urban areas and at periphera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TOP TB PAKISTA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5287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kistan's own national enhanced response to the challenge of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 further support initiatives for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'Communication Handbook'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s Assessment Program : Uganda, Brazil, Indonesia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istan + ISAC countri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/ISAC Country-level Partnership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nding Partnership IT Package (web services, online discussion forum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ance on Resource Mobilization (ethical guidelines, link with CCMs and the business sector, innovative approaches for fund rais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 relationships with all Stop TB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Regional Partnerships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Partnership to Stop TB (Stop TB Europe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 Sub-Regional Partnership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O / AFRO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st the Advocacy, Communication and Social Mobiliz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 a strategy plan and join forces with other partnerships (GFATM, 3by5, RBM.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political forums to empower global, national and regional partnerships building (ASEAN, SAARC, ADEAN, African Union, NEPAD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546200"/>
            <a:ext cx="77216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top TB Pakistan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6920" y="270792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The answer to 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broader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n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ore intensified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collaboration involving other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806560"/>
            <a:ext cx="14256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ghting TB requires more than just the NTP and the IACC collaborating partn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 has many and diverse resources that have not yet been tapp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case detection and treatment success diverse and additional partners are need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65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ional TB Programme Managers Meeting, Lahore, 29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April 200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1880" y="2657520"/>
            <a:ext cx="5413320" cy="37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00" y="178200"/>
            <a:ext cx="41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ilestone for STOP T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kista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" y="115560"/>
            <a:ext cx="44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ed valu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788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Political advocacy and social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nnovative approaches and interven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road participation from Pakistani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Sharing inform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sletters and information materi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ata base on activities &amp;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Resource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 and other expertise/experie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human resources from new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nancial resources from other 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4T00:29:22Z</dcterms:modified>
  <cp:revision>252</cp:revision>
  <dc:subject/>
  <dc:title>Secretariat, 2003 Progress Report</dc:title>
</cp:coreProperties>
</file>