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8EDB-4F74-4863-B72D-80A728AB4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you can see, some very practical improvements in TB control have been achieved through the work of the GD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me just highlight that 100 country evaluations is an amazing amount of work for a small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evaluations are one of the reasons why the GDF should not be thought of as another drug wholesal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ountry receiving grants is examined to ensure they are able to use the drugs properly and then examined to ensure they did use the drugs proper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process any area of weakness in the programme is identified and appeals made, on behalf of the country, to technical partners for help in making improv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untry ends up with a better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E5B4-BFF3-4532-A37C-AB212C9E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7FEF-11C2-46BC-8572-70450008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8C7-EBA7-4CB5-ADA4-BE16558A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A69-7A2F-44E7-8795-50E7FF4F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904-6E80-4F7E-8A5A-22C626E9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0E8-2BE7-4887-8E3E-93D50FDE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CE9-27AE-4AFB-BD50-6358C5AF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599-007F-4FB7-8282-382744B3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CAD-F92A-4C31-BF26-4435539E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4A9-9155-4853-B1C2-FC8A6D4F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CED-B76B-4410-95B7-26DF3696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1821-3773-463E-9C8B-B0B47D79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464F-EC8D-48CD-8072-4E5E15453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280" y="260280"/>
            <a:ext cx="83883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s delivered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untrie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llion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evaluations organized by GDF/STB Partn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S Coverage - average increas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D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ity -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8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recipients increased expenditure on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- Average drug cost per patient: ~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$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urement -  lead time met f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7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batches passed independent Q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64360" y="4005360"/>
          <a:ext cx="1830240" cy="22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005360"/>
                    <a:ext cx="183024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971640" y="40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GDF Achiev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Arial"/>
              </a:rPr>
              <a:t>GDF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Maintain the Gai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overage,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rice, quality an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Fill new g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transitional grants, non-traditional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vide new serv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ediatrics, diagnostics, expanded monit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Improve Drug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2005 Training in AFRO, SEARO, EMRO,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1:49:27Z</dcterms:created>
  <dc:creator>evansp</dc:creator>
  <dc:description/>
  <dc:language>en-US</dc:language>
  <cp:lastModifiedBy>heitkampp</cp:lastModifiedBy>
  <dcterms:modified xsi:type="dcterms:W3CDTF">2004-10-04T13:46:13Z</dcterms:modified>
  <cp:revision>9</cp:revision>
  <dc:subject/>
  <dc:title>Slide 1</dc:title>
</cp:coreProperties>
</file>