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853560" y="74412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77964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60BD7-CBC9-4483-8785-7FA7AE9E533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377964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C0515-5585-49C4-9A52-6C80BA5F155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855720" y="744480"/>
            <a:ext cx="4960800" cy="372132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890280" y="4714560"/>
            <a:ext cx="4887720" cy="44672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msterdam Decl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376E-6B6F-4D4A-98FD-D6F1336D1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E550-7C27-44A8-BF24-24170FA1E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DAE8-5DF6-4F3B-B224-1E1A46DC6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939E-4A9B-45D3-B0CF-D951F6949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83DAA-D0BD-4ADB-9E21-4CD28DC17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52180-C23E-4586-ACB6-9DE12DC0B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B7866-BBC9-4D05-AD0B-D9C7D8C38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A8B7A-A03D-4204-88F0-D606F3AE9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2BA82-2919-4261-92A1-8742FE55A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B4923-A687-466E-8904-FA692ECE7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329FA-42DB-46EB-B39C-B5D3FE2E9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4157-368B-4046-93EA-203306105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0AA54-765F-4EEC-8FBF-13D6ED127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8B784-FF49-4E1C-B5FB-BEF58B83A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F7C2D-7960-4190-B109-8E29C29CA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245C9-6783-4155-9A2E-F69C74211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A1CB5-35E7-4057-B122-343B26666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F11E-7CD0-4A3E-BE4B-C21669BCD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3F95-AC45-48F1-AB79-C1945D627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F23B-3D1F-4B60-BD94-88271FB9E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181F-66E9-4038-8233-77CE107A2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0342-CD69-47DC-955D-F5CB86AB0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019A-1EAB-4DCE-89F2-73C679CEF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AF59-3E75-4915-9A5A-36698459B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5CFE4-486C-4521-917E-439DF5498AC4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2739D-4E72-4339-B8A4-49D8D4A1A552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0920" y="1988640"/>
            <a:ext cx="864216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Global Partnership issues &amp; planning:</a:t>
            </a:r>
            <a:br>
              <a:rPr sz="2000"/>
            </a:br>
            <a:br>
              <a:rPr sz="20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-  </a:t>
            </a: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Global Plan II progress</a:t>
            </a:r>
            <a:br>
              <a:rPr sz="2800"/>
            </a:b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-  Working groups: MDR-TB</a:t>
            </a:r>
            <a:br>
              <a:rPr sz="2800"/>
            </a:br>
            <a:r>
              <a:rPr b="1" lang="en-US" sz="2800" spc="-1" strike="noStrike">
                <a:solidFill>
                  <a:srgbClr val="ffffcc"/>
                </a:solidFill>
                <a:latin typeface="Tahoma"/>
                <a:ea typeface="宋体"/>
              </a:rPr>
              <a:t>-  Partners Forum Evaluation</a:t>
            </a:r>
            <a:r>
              <a:rPr b="1" lang="en-US" sz="2400" spc="-1" strike="noStrike">
                <a:solidFill>
                  <a:srgbClr val="ffffcc"/>
                </a:solidFill>
                <a:latin typeface="Tahoma"/>
                <a:ea typeface="宋体"/>
              </a:rPr>
              <a:t> </a:t>
            </a:r>
            <a:br>
              <a:rPr sz="2400"/>
            </a:br>
            <a:br>
              <a:rPr sz="2000"/>
            </a:br>
            <a:br>
              <a:rPr sz="2000"/>
            </a:b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hair:   Giorgio Roscigno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Rapporteur:  Nils Billo</a:t>
            </a:r>
            <a:endParaRPr b="1" lang="en-US" sz="2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360" y="189000"/>
            <a:ext cx="4572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cond Global Plan to Stop TB, 2006-15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114300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87280" y="1484280"/>
            <a:ext cx="86058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4680" indent="-274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Key featur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Builds on first Global Plan (2000-05) and Progress Repor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10 years' timeframe (2006-15), leading to 2015 MD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Complementary to MDGs TB working group report (that calls for support for the Global Pla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Consistent with proposed WHA resolution in 200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Supports national needs for long-term planning and financial sustain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Develops strategic directions set out by 2</a:t>
            </a:r>
            <a:r>
              <a:rPr b="0" lang="en-GB" sz="2400" spc="-1" strike="noStrike" baseline="30000">
                <a:solidFill>
                  <a:srgbClr val="720000"/>
                </a:solidFill>
                <a:latin typeface="Tahoma"/>
              </a:rPr>
              <a:t>nd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ad hoc Committee on the TB epidem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Based on contributions of each WG's workpl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210960"/>
            <a:ext cx="6300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Review of progress in developing Global Plan, 2006-2015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04920" y="1557360"/>
            <a:ext cx="858816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4680" indent="-274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May 2004: </a:t>
            </a: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WHO Executive Board approved resolution on Global Plan for 2005 World Health Assemb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2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June 2004: </a:t>
            </a: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WHO Strategic and Technical Advisory Group endorsed outline of Global Pl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June 2004: </a:t>
            </a: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Outline sent to all partners for feedba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July 2004: </a:t>
            </a: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Outline endorsed by Coordinating Boar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August 2004: </a:t>
            </a: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Steering committee endorsed by Bo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Sept 2004: </a:t>
            </a: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work initiated on proj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42116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Recommendations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or Board (1)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50920" y="1484280"/>
            <a:ext cx="870588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4680" indent="-274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1. Board endor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a) key featur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b) development of projections to inform planni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2. Board requests each WG t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Develop plans (2006-2015) in contribution to the global pl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Identify a focal point from the W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Identify resource needs for plan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3. Board proposes launch of Global Plan in 200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either a) between WHA (May) and UNGASS (Sep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or b) late 2005, e.g. November Board mee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4067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Recommendations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or Board (2)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1484280"/>
            <a:ext cx="8705880" cy="41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4680" indent="-274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4. Board endorses approach of advocacy champion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Nelson Mandela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Amartya Sen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Kofi Ann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Bo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*preference to write foreword by one of the abo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5. Board endorses dissemination of Global Plan advocacy messages to key constituencies, including HIV/AI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5761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DOTS Plus Working Group: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MDR-TB and GLC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Magnitude of the problem: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274680" indent="-2746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Based on Resistance surveys in 64 countries and predictive data from 72 countries the number of new cases of MDR-TB for 2000 was estimated to be 273,000 (95% confidence limits 185,000 and 414,000).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27468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20000"/>
                </a:solidFill>
                <a:latin typeface="Tahoma"/>
              </a:rPr>
              <a:t>Dye C, Espinal MA, Watt CJ, Mbiaga C, Williams BG.  </a:t>
            </a: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27468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20000"/>
                </a:solidFill>
                <a:latin typeface="Tahoma"/>
              </a:rPr>
              <a:t>Worldwide Incidence of Multidrug-Resistant Tuberculosis.  </a:t>
            </a:r>
            <a:r>
              <a:rPr b="0" i="1" lang="en-US" sz="1200" spc="-1" strike="noStrike">
                <a:solidFill>
                  <a:srgbClr val="720000"/>
                </a:solidFill>
                <a:latin typeface="Tahoma"/>
              </a:rPr>
              <a:t>J of Infec Dis</a:t>
            </a:r>
            <a:r>
              <a:rPr b="0" lang="en-US" sz="1200" spc="-1" strike="noStrike">
                <a:solidFill>
                  <a:srgbClr val="720000"/>
                </a:solidFill>
                <a:latin typeface="Tahoma"/>
              </a:rPr>
              <a:t>; 2002;185:1197-202.</a:t>
            </a: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274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274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Important recent developments: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DOTS-Plus not longer limited to so-called "hot spots"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274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he GLC was able to start, maintain and expand it's operations thanks to grants from different donors, including the B&amp;M Gates Foundat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274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Funding comes to an end: mid July 2005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68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DOTS Plus Working Group: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MDR-TB and GLC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8964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he Board…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97240" indent="-59724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720000"/>
                </a:solidFill>
                <a:latin typeface="Tahoma"/>
              </a:rPr>
              <a:t>Acknowledges GLC plays a pivotal role in the control of MDRTB/ prevention of the emergence of resistance to 2</a:t>
            </a:r>
            <a:r>
              <a:rPr b="0" lang="en-GB" sz="2200" spc="-1" strike="noStrike" baseline="30000">
                <a:solidFill>
                  <a:srgbClr val="720000"/>
                </a:solidFill>
                <a:latin typeface="Tahoma"/>
              </a:rPr>
              <a:t>nd</a:t>
            </a:r>
            <a:r>
              <a:rPr b="0" lang="en-GB" sz="2200" spc="-1" strike="noStrike">
                <a:solidFill>
                  <a:srgbClr val="720000"/>
                </a:solidFill>
                <a:latin typeface="Tahoma"/>
              </a:rPr>
              <a:t> line drugs</a:t>
            </a:r>
            <a:endParaRPr b="0" lang="en-US" sz="2200" spc="-1" strike="noStrike">
              <a:solidFill>
                <a:srgbClr val="720000"/>
              </a:solidFill>
              <a:latin typeface="Tahoma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20000"/>
              </a:solidFill>
              <a:latin typeface="Tahoma"/>
            </a:endParaRPr>
          </a:p>
          <a:p>
            <a:pPr marL="597240" indent="-59724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720000"/>
                </a:solidFill>
                <a:latin typeface="Tahoma"/>
              </a:rPr>
              <a:t>Recognizes financial sustainability of GLC is at stake—donors should be mobilized to ensure the financial sustainability. </a:t>
            </a:r>
            <a:endParaRPr b="0" lang="en-US" sz="2200" spc="-1" strike="noStrike">
              <a:solidFill>
                <a:srgbClr val="720000"/>
              </a:solidFill>
              <a:latin typeface="Tahoma"/>
            </a:endParaRPr>
          </a:p>
          <a:p>
            <a:pPr lvl="1" marL="970560" indent="-52272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Estimated budget (next 3 yrs): 5 million US$/ operations GLC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20000"/>
              </a:solidFill>
              <a:latin typeface="Tahoma"/>
            </a:endParaRPr>
          </a:p>
          <a:p>
            <a:pPr marL="597240" indent="-59724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720000"/>
                </a:solidFill>
                <a:latin typeface="Tahoma"/>
              </a:rPr>
              <a:t>Recognizes additional funding is required at country level </a:t>
            </a:r>
            <a:endParaRPr b="0" lang="en-US" sz="2200" spc="-1" strike="noStrike">
              <a:solidFill>
                <a:srgbClr val="720000"/>
              </a:solidFill>
              <a:latin typeface="Tahoma"/>
            </a:endParaRPr>
          </a:p>
          <a:p>
            <a:pPr lvl="1" marL="970560" indent="-52272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laboratory capacity strengthening,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970560" indent="-52272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purchase of 2</a:t>
            </a:r>
            <a:r>
              <a:rPr b="0" lang="en-GB" sz="2000" spc="-1" strike="noStrike" baseline="30000">
                <a:solidFill>
                  <a:srgbClr val="720000"/>
                </a:solidFill>
                <a:latin typeface="Tahoma"/>
              </a:rPr>
              <a:t>nd</a:t>
            </a: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 line drugs,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970560" indent="-52272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human resource development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970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97240" indent="-59724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720000"/>
                </a:solidFill>
                <a:latin typeface="Tahoma"/>
              </a:rPr>
              <a:t>Endorses and supports intensified coordination/ collaboration between DOTS-Plus WG, DOTS Expansion WG and New Diagnostics WG</a:t>
            </a:r>
            <a:endParaRPr b="0" lang="en-US" sz="2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1920" y="133200"/>
            <a:ext cx="541044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top TB Partners' Forum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920" y="1484280"/>
            <a:ext cx="73454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720000"/>
                </a:solidFill>
                <a:latin typeface="Tahoma"/>
              </a:rPr>
              <a:t>Amsterdam Declaration</a:t>
            </a:r>
            <a:r>
              <a:rPr b="0" lang="en-US" sz="25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i="1" lang="en-US" sz="2500" spc="-1" strike="noStrike">
                <a:solidFill>
                  <a:srgbClr val="720000"/>
                </a:solidFill>
                <a:latin typeface="Tahoma"/>
              </a:rPr>
              <a:t>to Stop TB</a:t>
            </a:r>
            <a:r>
              <a:rPr b="0" lang="en-US" sz="25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(March, 2000)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First Stop TB Partners' Forum </a:t>
            </a: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(Oct 2001)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123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New Delhi 2</a:t>
            </a:r>
            <a:r>
              <a:rPr b="0" lang="en-GB" sz="2400" spc="-1" strike="noStrike" baseline="30000">
                <a:solidFill>
                  <a:srgbClr val="720000"/>
                </a:solidFill>
                <a:latin typeface="Tahoma"/>
              </a:rPr>
              <a:t>nd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Stop TB Partners Forum </a:t>
            </a: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(March 2004)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1650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Forum function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Assembly of the Partnership—Inclusive, consultative meeting of partners: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Consolidate and increase support &amp; commitment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Review and comment on Partnership progres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Platform of information exchange on progress, problems and challenge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7093080" y="1484280"/>
            <a:ext cx="1969920" cy="1555920"/>
            <a:chOff x="7093080" y="1484280"/>
            <a:chExt cx="1969920" cy="1555920"/>
          </a:xfrm>
        </p:grpSpPr>
        <p:pic>
          <p:nvPicPr>
            <p:cNvPr id="110" name="" descr=""/>
            <p:cNvPicPr/>
            <p:nvPr/>
          </p:nvPicPr>
          <p:blipFill>
            <a:blip r:embed="rId2"/>
            <a:srcRect l="0" t="0" r="0" b="8274"/>
            <a:stretch/>
          </p:blipFill>
          <p:spPr>
            <a:xfrm>
              <a:off x="7093080" y="1484280"/>
              <a:ext cx="1969920" cy="1555920"/>
            </a:xfrm>
            <a:prstGeom prst="rect">
              <a:avLst/>
            </a:prstGeom>
            <a:ln w="0">
              <a:noFill/>
            </a:ln>
            <a:effectLst>
              <a:outerShdw dist="89604" dir="2700000" blurRad="0" rotWithShape="0">
                <a:srgbClr val="a50021"/>
              </a:outerShdw>
            </a:effectLst>
          </p:spPr>
        </p:pic>
        <p:sp>
          <p:nvSpPr>
            <p:cNvPr id="111" name=""/>
            <p:cNvSpPr txBox="1"/>
            <p:nvPr/>
          </p:nvSpPr>
          <p:spPr>
            <a:xfrm>
              <a:off x="7093080" y="1484280"/>
              <a:ext cx="1969920" cy="155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ffcc66"/>
                </a:buClr>
                <a:buSzPct val="8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7093080" y="3124080"/>
            <a:ext cx="1946160" cy="1744920"/>
            <a:chOff x="7093080" y="3124080"/>
            <a:chExt cx="1946160" cy="1744920"/>
          </a:xfrm>
        </p:grpSpPr>
        <p:sp>
          <p:nvSpPr>
            <p:cNvPr id="113" name=""/>
            <p:cNvSpPr/>
            <p:nvPr/>
          </p:nvSpPr>
          <p:spPr>
            <a:xfrm>
              <a:off x="7097760" y="3124080"/>
              <a:ext cx="1941480" cy="1698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  <a:effectLst>
              <a:outerShdw dist="89604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3"/>
            <a:srcRect l="0" t="0" r="7996" b="0"/>
            <a:stretch/>
          </p:blipFill>
          <p:spPr>
            <a:xfrm>
              <a:off x="7093080" y="3150720"/>
              <a:ext cx="1929240" cy="171828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Evaluation Partners' Forum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Decision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he Board confirms that the Forum is an important body of the Stop TB Partnership which needs to be meeting once every 3 yea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Requests the Secretariat to conduct an online poll about the future format and date of the Forum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Based on the results of the poll, the Secretariat will propose a concept of the next Forum (eg. Constituency engagement, break-out sessions, advocacy regarding outcomes 2005 Targets, etc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09:46:41Z</dcterms:created>
  <dc:creator>MudasiaE</dc:creator>
  <dc:description/>
  <dc:language>en-US</dc:language>
  <cp:lastModifiedBy>steenbergeng</cp:lastModifiedBy>
  <cp:lastPrinted>2004-03-17T17:37:17Z</cp:lastPrinted>
  <dcterms:modified xsi:type="dcterms:W3CDTF">2004-10-15T05:24:24Z</dcterms:modified>
  <cp:revision>177</cp:revision>
  <dc:subject/>
  <dc:title>Secretariat, 2003 Progress Report</dc:title>
</cp:coreProperties>
</file>