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B9D3-AA58-4158-B850-60901986E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B0CE-AFF3-4B94-8C51-1F66B6B1B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 must be accountable not only financially but also technically: be accountable for utilising the resources entrusted to it for achieving stated results and goal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cooperation with the Resource Mobilization Task Force, the Donation review committee will monitor the implementation of the Guidelines at the Secretariat level.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view committee will be composed of 3-4 members from a community of our stakehold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imary functions are twofold: To review donation practice at the Secretariat; and to monitor and evaluate the overall implementation process for further improv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ugh a detailed implementation plan has to be prepared later, some of the key actions we need to tak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disseminate the Guidelines for comments and "buy-in" from partners engaged in resource mobilization with potential TA from the 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prepare a TOR for the Donation Review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circulate the Guidelines to a wider groups of stakeholders and pee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ment of the Operating Principles for the Trust Fund at the WB to enable transfer of money to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perating Principles of the Stop TB Trust Fund at WHO should be flexible enough to enable the Executive Secretary of the Stop TB Partnership to oper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dmin Fee for the Trust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EF79-E79D-4562-B941-1F918A17C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4D77-A7F6-4F3A-8AAA-A697D67C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1094-BC13-419F-A934-BE336532B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BE73-35B9-4E49-99CF-B33ECC947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2C38-CA22-4E61-B7A7-60E039E41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C964-C175-4D74-AD51-3CAEB63D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5522-08D5-4FB5-B031-1FF80573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2B0F-FE55-446E-A930-6E565509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869F-C4D3-4E1F-84F0-945372B5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D520-F106-473E-8B1F-BB429555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220D-6BF8-48C2-AFF4-0FA2FD11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BE6E-441F-4295-B633-C8096579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0B4E-1A43-4FF7-B6EB-D8005634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7345-9288-4F10-A204-411F9A43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CFC7-F3B4-4F54-A973-80726343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A5CC-D88B-4507-A5BA-ED4B06061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D3AE-F493-4314-A9D9-7830022D1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7AF9-6DD9-4EAF-B73C-A973BC8D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4F61-AD99-46DE-A1CA-40010547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B97A-D563-4BAF-821E-830988FA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83AF-4F30-4A87-ADCC-FA0DF061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3A9E-2943-40B3-9792-B66EEC2F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2BC5-2425-4BD3-AC18-0D415146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4367-DAF6-4D6C-BA22-F06E6F0E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5AFB-3880-479B-9DD2-782A459A6DA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6A28-26E4-4D1F-A8EA-69C68C2848D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Resources and Administration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M Ethical Guideline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rust Fund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B and PRSP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:  Stefaan van der Borght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apporteur:  Irene Koek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-15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nalysis at WB – limited attention to TB in PRSPs and very little attention to TB and Poverty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eed to give MOH etc. tools for talking with Ministers of Finance – must be in terms of impact on GDP, etc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Importance of being evidence based in documentation &amp; toolkit – especially on impact of TB on macroeconomic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Develop toolkit – country focused, and ensure coordination with similar efforts in child health, malaria, etc.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Bring toolkit effort together with Poverty Network – coordinate ac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Objectiv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a set of support structures and formal process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donors recognise the challenge of TB control and give high priority to supporting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ncrease flow of resources from the existing supporters of the Stop TB Partnership in a timely mann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new fund-raising products and approach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ummary of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dopt plan with following adjustments and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plit actions for $40 million and $3.7 b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Gather information on domestic spending for TB using National Health Accounts, etc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vamp resource mobilization directo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trongly endorse need to put more resources behind resource mobilization, and strengthen secretariat in this reg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Evolve RM Task Force to Advisory Grou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iance with legal requirements in countries where resources are being mobilis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 donations from profits resulting from illegal activities or from products that contribute to lung diseas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maining within the scope of the mandate of the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  (Contd.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mislead with incorrect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o be open in all activities and address any conflict of intere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over, or understate the situation with respect to financial requirements or the burden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WHO guidelines for donations in kind, drug donations and working with the Private Sec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a small flexible review committee to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Provide advice on acceptance of contributions from new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eview the guidelines on a routine basis and make recommendations to the Coordinating Board for further rev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ummary of Recommenda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opt the ethical guidelines as a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Establish a review committee – give Secretariat flexibility to call on committee as deemed necessar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Clarify that guidelines cover cash and in-kind contribu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d a note to specifically state that prior to their acceptance in-kind contributions must be assured to do no harm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ment of the Operating Principles for the Trust Fund at the WB to enable transfer of money to WH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Interim Trust Fund  (urgently needed for ISAC)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Operating Principles of the Definitive Stop TB Trust Fund at WHO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nd its Admin Fees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WB Trust Fund: 3%, must transfer  funds to a trust fund at WHO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fee for interim TF  at WHO-  6%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xt steps for negotiating team to agree on the Definitive Trust Fund at WHO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ndorse the Operating Principles of the Stop TB Trust Fund at the W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Move ISAC money from the WB Trust Fund to WHO interim TF and allocate it to countries ASA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ransfer GDF money in the WB Trust Fund directly to IAPSO at no additional fe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end negotiating team to WHO ASAP to finalize the definitive Stop TB Trust Fund at WHO and agree an admin fee for it– ideally at no more than 6%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llow WB trust fund to e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steenbergeng</cp:lastModifiedBy>
  <dcterms:modified xsi:type="dcterms:W3CDTF">2004-10-15T07:51:17Z</dcterms:modified>
  <cp:revision>42</cp:revision>
  <dc:subject/>
  <dc:title>Financial situation,  Budget &amp; plans 2005</dc:title>
</cp:coreProperties>
</file>