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ADDE-84FE-4347-8028-013339613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842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2680" y="4093920"/>
            <a:ext cx="842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8750-6CBA-4CBE-B849-A2C79912B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426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572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8E21-8D9A-464B-900E-1F61BCE62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89920" y="190476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6800" y="190476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42680" y="409392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89920" y="409392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6800" y="409392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EB38-0C4C-4F81-932C-86726E024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2480D-E6C4-4839-BA34-026F4A215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343BA-C7EC-4650-8F0C-BA77D8870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CF8EA-72D7-4108-8B3C-413448AA6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15251-C38B-48CA-AC6B-811754139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99263-9574-4055-8318-DD4EBCD4E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84040" y="28368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C6133-98C1-497E-B87F-CE6B44979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426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93DA0-74D7-4626-93AD-1F67D955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B471-379B-4B65-A61A-F5648B812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572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F8817-D7D4-465A-9763-4F0E0EC8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42680" y="4093920"/>
            <a:ext cx="842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52946-05F5-4821-ACC0-4F65DDF9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842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742680" y="4093920"/>
            <a:ext cx="842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1F484-76D7-433B-B142-00100071F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426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572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DB8D9-30F5-4649-8B8E-AD554FF52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89920" y="190476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6800" y="190476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742680" y="409392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89920" y="409392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6800" y="409392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645E4-19F7-471C-AE5F-DE07BAE5B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FD84-9C39-41B8-BEC3-3B891240A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3710-B948-4FE1-A298-C3D662E7E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6BE1-91A8-4C4B-8707-96DD55985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84040" y="28368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B4B1-9DA7-4FA8-9209-CE96231AE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426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4CA8-BA2C-4D8A-8B79-3B4C2EFA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572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7AD4-D6F7-40D8-9B71-A1C3B930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42680" y="4093920"/>
            <a:ext cx="842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2753-3616-42B7-884B-910310A9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512720"/>
            <a:ext cx="916308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68200" y="0"/>
            <a:ext cx="8604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56480" y="6553080"/>
            <a:ext cx="224964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900640" y="6248160"/>
            <a:ext cx="57780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9D10E-351F-4929-AD65-A0F239577BF1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23800" y="1549440"/>
            <a:ext cx="883944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7680" y="3206880"/>
            <a:ext cx="941076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7680" y="1482840"/>
            <a:ext cx="941076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342360" y="1246320"/>
            <a:ext cx="84240" cy="2235240"/>
          </a:xfrm>
          <a:custGeom>
            <a:avLst/>
            <a:gdLst>
              <a:gd name="textAreaLeft" fmla="*/ 12240 w 84240"/>
              <a:gd name="textAreaRight" fmla="*/ 72000 w 84240"/>
              <a:gd name="textAreaTop" fmla="*/ 12240 h 2235240"/>
              <a:gd name="textAreaBottom" fmla="*/ 2223000 h 2235240"/>
            </a:gdLst>
            <a:ahLst/>
            <a:rect l="textAreaLeft" t="textAreaTop" r="textAreaRight" b="textAreaBottom"/>
            <a:pathLst>
              <a:path w="21600" h="570791">
                <a:moveTo>
                  <a:pt x="10800" y="0"/>
                </a:moveTo>
                <a:arcTo wR="10800" hR="10800" stAng="16200000" swAng="-5400000"/>
                <a:lnTo>
                  <a:pt x="0" y="559991"/>
                </a:lnTo>
                <a:arcTo wR="10800" hR="10800" stAng="10800000" swAng="-5400000"/>
                <a:lnTo>
                  <a:pt x="10800" y="57079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71600" y="1252440"/>
            <a:ext cx="83880" cy="2235240"/>
          </a:xfrm>
          <a:custGeom>
            <a:avLst/>
            <a:gdLst>
              <a:gd name="textAreaLeft" fmla="*/ 12240 w 83880"/>
              <a:gd name="textAreaRight" fmla="*/ 71640 w 83880"/>
              <a:gd name="textAreaTop" fmla="*/ 12240 h 2235240"/>
              <a:gd name="textAreaBottom" fmla="*/ 2223000 h 2235240"/>
            </a:gdLst>
            <a:ahLst/>
            <a:rect l="textAreaLeft" t="textAreaTop" r="textAreaRight" b="textAreaBottom"/>
            <a:pathLst>
              <a:path w="21600" h="573231">
                <a:moveTo>
                  <a:pt x="10800" y="0"/>
                </a:moveTo>
                <a:arcTo wR="10800" hR="10800" stAng="16200000" swAng="-5400000"/>
                <a:lnTo>
                  <a:pt x="0" y="562431"/>
                </a:lnTo>
                <a:arcTo wR="10800" hR="10800" stAng="10800000" swAng="-5400000"/>
                <a:lnTo>
                  <a:pt x="10800" y="57323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67200" y="5783400"/>
            <a:ext cx="377028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37000" y="5734080"/>
            <a:ext cx="102888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1752120"/>
            <a:ext cx="8420040" cy="11430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1B743-2CA4-454F-B891-4972DBB16BAA}" type="slidenum"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9068040" cy="22100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e9"/>
                </a:solidFill>
                <a:latin typeface="Times New Roman"/>
                <a:ea typeface="Times New Roman"/>
              </a:rPr>
              <a:t>PATIENTS PERSPECTIVE ON THE IMPLICATIONS OF TB CONTROL IN AFRICA</a:t>
            </a:r>
            <a:r>
              <a:rPr b="0" lang="en-US" sz="4400" spc="-1" strike="noStrike">
                <a:solidFill>
                  <a:srgbClr val="ffffe9"/>
                </a:solidFill>
                <a:latin typeface="Times New Roman"/>
                <a:ea typeface="Times New Roman"/>
              </a:rPr>
              <a:t>.</a:t>
            </a: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560" y="4800600"/>
            <a:ext cx="6933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Presenter</a:t>
            </a:r>
            <a:r>
              <a:rPr b="0" lang="en-US" sz="4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– Lucy Chesire.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143000" y="403848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2320" y="2971800"/>
            <a:ext cx="923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64c"/>
                </a:solidFill>
                <a:latin typeface="Times New Roman"/>
              </a:rPr>
              <a:t>TB is a problem </a:t>
            </a:r>
            <a:r>
              <a:rPr b="0" lang="en-US" sz="4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but is a SOLUTION</a:t>
            </a:r>
            <a:endParaRPr b="0" lang="en-US" sz="4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4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to another PROBLEM.</a:t>
            </a:r>
            <a:endParaRPr b="0" lang="en-US" sz="4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01280" y="533520"/>
            <a:ext cx="511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64c"/>
                </a:solidFill>
                <a:latin typeface="Times New Roman"/>
              </a:rPr>
              <a:t>PARTING SHOT</a:t>
            </a:r>
            <a:endParaRPr b="0" lang="en-US" sz="5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                   </a:t>
            </a: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T.B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2666880"/>
            <a:ext cx="883944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2.3 m cases of T.B in Africa occurring yearly?????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Have we lost the fight in Africa if not…what can we do?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If T.B is curable, why are people still dying??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Patient Centered factors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42640" y="2209680"/>
            <a:ext cx="842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TB support groups ongoing but not active.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Stigma associated with HIV.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Poverty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Food insecurity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TB/HIV  infection = on average 50% of TB patients now are co-infected.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1600200"/>
            <a:ext cx="8420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Costs in relation to work-ups to TB treatment. e.g Antibiotics, lab tests, x-ray etc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Delay in seeking care by TB suspects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Pill burden e.g Zimbabwe 14 pills for treatment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Approach to D.C.T for TB patients.</a:t>
            </a:r>
            <a:r>
              <a:rPr b="0" lang="en-US" sz="40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1218960" y="38088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Patient Centered factors cont..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Health System Factors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9067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Lack of drugs for MDR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Lack of policy on the management of MDR in most health institution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Delayed diagnosis e.g. Arthritis Vs TB of the kne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Missed TB cases due to Doctors lack of knowledge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Shortage of Human resource for health e.g affects TB control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22860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Times New Roman"/>
              </a:rPr>
              <a:t>TB Patients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When engaged and supported appropriately patients can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85720" y="3428640"/>
            <a:ext cx="84200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Increase effectiveness of health car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Mobilize the community in being the backbone of effective TB contro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Provide input on effective policy and practic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066680" y="1905120"/>
            <a:ext cx="842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</a:rPr>
              <a:t>Provide support and conduct community TB led interventions (VCT, Psychosocial, TB support groups etc).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</a:rPr>
              <a:t>Reduce stigma and improve access to TB control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0200" y="609480"/>
            <a:ext cx="556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Times New Roman"/>
              </a:rPr>
              <a:t>TB Patients cont…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Times New Roman"/>
              </a:rPr>
              <a:t>Way Forward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3-D’s = Better Drugs,Diagnostics, Dignity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ontinuous patient involvement in car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unding for TB support group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Ensure private sector involvemen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B/HIV collaboration (address constraints)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ustained political commitmen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Long term financing for TB programme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218960" y="1600200"/>
            <a:ext cx="8420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Quality assurance for diagnostic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Robust patient tracking system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DOTS plus programme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Develop M/E system to drugs adherence, especially smear-ves and extra pulmonary TB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Streamline TB system to ensure follow up of patients at the TB clinics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More  resources for DOTS expansion e.g. use of  community health workers for drugs distribution and follow-up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142640" y="533520"/>
            <a:ext cx="8420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Times New Roman"/>
              </a:rPr>
              <a:t>Way Forward cont…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30T13:08:19Z</dcterms:created>
  <dc:creator>Kacy 1</dc:creator>
  <dc:description/>
  <dc:language>en-US</dc:language>
  <cp:lastModifiedBy>administrator</cp:lastModifiedBy>
  <dcterms:modified xsi:type="dcterms:W3CDTF">2005-05-01T15:02:01Z</dcterms:modified>
  <cp:revision>25</cp:revision>
  <dc:subject/>
  <dc:title>PATIENTS PERSPECTIVE IN THE IMPLICATIONS OF TB CONTROL IN AFRICA. </dc:title>
</cp:coreProperties>
</file>