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A8714F-4E71-4B8B-AC6A-CD886082C5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761240" y="5386320"/>
          <a:ext cx="1135080" cy="116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240" y="5386320"/>
                    <a:ext cx="11350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227640" y="5510160"/>
            <a:ext cx="820800" cy="854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618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A propose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"Global Strategy to Stop TB"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9080" y="2766960"/>
            <a:ext cx="305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20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ddis Ab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 Ma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0880" y="2214720"/>
            <a:ext cx="5454720" cy="40906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cess for launch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720" y="2332080"/>
            <a:ext cx="7304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Preparation of peer-review publication (late 2005/early 200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Official launch date and approach – for discu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27120" y="1225440"/>
          <a:ext cx="7740720" cy="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120" y="1225440"/>
                    <a:ext cx="774072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"/>
              </a:rPr>
              <a:t>Requests to the Stop TB CB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ndorse the objectives and content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commend improvements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ndorse plan for stakeholder engagement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Consider options for launch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view progress at October CB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25600" y="1271520"/>
          <a:ext cx="7738920" cy="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600" y="1271520"/>
                    <a:ext cx="7738920" cy="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Objective: to introduce a proposed "Global Strategy to Stop TB" which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541520"/>
            <a:ext cx="845172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Aims to ensure care for </a:t>
            </a:r>
            <a:r>
              <a:rPr b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all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 TB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Pursues expansion of quality DOTS every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Accelerates progress and impact of TB control to meet the MD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sponds to needs expressed by a range of constitu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flects innovation to 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consistent with the Global Plan, 2006-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Links with the growing focus on health's role in poverty alleviation and in advancing human ri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57240" y="57240"/>
            <a:ext cx="92394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cc3300"/>
                </a:solidFill>
                <a:latin typeface="Arial"/>
              </a:rPr>
              <a:t>The DOTS Strategy (1995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01880" y="1854360"/>
            <a:ext cx="780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Government commitment to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Case detection primarily by smear microscopy mostly on self-reporting symptomatic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Standardised short-course chemotherapy under proper case management conditions, including D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System of regular drug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Efficient monitoring system for programme supervision and e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3880" y="6324480"/>
            <a:ext cx="8520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49160" y="137016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37016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7840" y="274320"/>
            <a:ext cx="8434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Evolution of the WHO-recommended DOTS Strateg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800" y="1650600"/>
            <a:ext cx="792792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Framework for Effective TB Control,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DOTS launched in 1995 and expanded over the last decade. 182 countries adopted it; 17 million treated in 1995-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Near target for treatment success (82%) and proven acceleration of case detection, but still only 45% in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While DOTS is the 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conditio sine qua non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 for TB control, it does not explicitly address the new challenges: TB/HIV in Africa; MDRTB; serving the "hard-to-reach"…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Since 2000, TB control adaptations have begun to address such special challenges and support to R&amp;D has expanded. These should be captured in the strate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40652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0652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9200" y="361440"/>
            <a:ext cx="7621560" cy="107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Policy and strategy documents since 2001 show evolution……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0120" y="1831680"/>
            <a:ext cx="7580520" cy="43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Global Plan to Stop TB, 2001-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O Expanded Framework to Control TB, 200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port of the 2nd Ad-hoc Committee on TB Control,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illennium Project TB Control Report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O EB resolution, 2004 and World Health Assembly Resolution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Framework for the Global Plan to Stop TB, 2005-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71400" y="154944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54944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88840" y="34178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3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A proposed 2005-2015 </a:t>
            </a:r>
            <a:br>
              <a:rPr sz="4000"/>
            </a:b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"Global Strategy to Stop TB"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8600" y="2109600"/>
            <a:ext cx="82645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ursuing quality DOTS expansion</a:t>
            </a:r>
            <a:br>
              <a:rPr sz="3600"/>
            </a:br>
            <a:br>
              <a:rPr sz="3600"/>
            </a:br>
            <a:r>
              <a:rPr b="1" lang="en-GB" sz="20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throug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Addressing TB/HIV and MDR-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3. 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4. Engaging all care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5. Empowering patients and communities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6. Enabling and promoting R&amp;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87320" y="158112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112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"/>
              </a:rPr>
              <a:t>Pursuing quality DOTS expansion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and improve case detection and cure through effective patient-centered care for </a:t>
            </a:r>
            <a:r>
              <a:rPr b="1" lang="en-GB" sz="16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all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, and especially the po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Throu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2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Addressing TB-HIV, MDR-TB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, and other special challeng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3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Contributing to health system strengthening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by building capacity and mobilizing additional human and financial resources for implementation and impact evalu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4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ngaging all care providers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- public, non-governmental and private - to provide the International Standard of TB Care, focusing on the poores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5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mpowering patients and communities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to demand, and contribute to, effective 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6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nabling and promoting R&amp;D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for new drugs, diagnostics and vacc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87320" y="119556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9556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89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 proposed 2005-2015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"Global Strategy to Stop TB"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3080" y="26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Pursuing Quality DOTS Expansion, 2005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66560" y="1244520"/>
            <a:ext cx="860112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9000"/>
          </a:bodyPr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Political commitment with long-term planning, adequate human resources and sustainable financing to reach WHA and MDG target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ase detection through bacteriology (microscopy first, and culture/DST) and establishment of an effective laboratory network to facilitate detection of SS+, SS- and DR-  TB case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 TB patient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n effective and regular drug supply system 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20000"/>
              </a:lnSpc>
              <a:spcBef>
                <a:spcPts val="624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Efficient monitoring system for programme supervision and evaluation including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measurement of imp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cess for engaging stakeholders in strategy development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14480"/>
            <a:ext cx="794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nformal dialogue and review with NTPs, staff and partners (ongo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input from StopTB CB (May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informal feedback at WHA (May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endorsement of WHO STAG (June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Obtain engagement of national and global stakeholders via DFID-financed survey &amp; interview process (summer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final endorsement of StopTB Working Groups (Oct 05) and StopTB CB (Nov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61960" y="1604880"/>
          <a:ext cx="7799400" cy="4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1960" y="1604880"/>
                    <a:ext cx="77994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bakerl</cp:lastModifiedBy>
  <cp:lastPrinted>2003-04-10T14:23:01Z</cp:lastPrinted>
  <dcterms:modified xsi:type="dcterms:W3CDTF">2005-04-27T13:35:34Z</dcterms:modified>
  <cp:revision>460</cp:revision>
  <dc:subject/>
  <dc:title>Progress in Global Tuberculosis Control 1995-97</dc:title>
</cp:coreProperties>
</file>