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71C1-200E-40BA-A57E-B3109B31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E8B5-6B8D-4844-B83B-FD4BFC12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46C-0064-4EE6-830F-F44ED3CA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4648-996D-4826-BC53-43179551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AEE8-5719-43B0-9BE0-C0858220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AE2-8B0E-4F53-B96E-416FA50A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815-48A5-48A3-9E34-47ED9BB2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7229-2375-4969-8D47-7C75EB0E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CCA2-4B7A-43AB-9C22-932FDCA2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7749-5C93-4975-A1B4-6AFF8027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909-A65B-46F9-BEB8-04124EA3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5DC-E138-44CA-80BE-EB0C98FC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F43E-6BD1-45AF-A1ED-DAC8D6306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ixed feelings about DOTS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S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3/05/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irectly Observed Therapy</a:t>
            </a:r>
            <a:br>
              <a:rPr sz="40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ssential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DOT alone vs Self Administered Treatment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lack of evidence (Cochrane revie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Feasibility?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6 month regi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ARV/AIDS experience-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ctive role of th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99880" y="2444760"/>
          <a:ext cx="8668080" cy="15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444760"/>
                    <a:ext cx="86680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04920" y="502920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drugs for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2nd line drugs</a:t>
            </a: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57200"/>
            <a:ext cx="7239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ply of essential dru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Room for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80880" y="3505320"/>
          <a:ext cx="8483760" cy="143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05320"/>
                    <a:ext cx="848376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28600" y="685800"/>
            <a:ext cx="86868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Monitoring/ E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ata Collection has its own challe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819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eatment outcomes in projects supported by MS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achieved a 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evol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and ambigu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cognise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ff"/>
                </a:solidFill>
                <a:latin typeface="Arial"/>
              </a:rPr>
              <a:t>What we have is not enoug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agnostic tools for smear -, extra-pulmonary and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horter treatment, new 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versify adherence strate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Vac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chievements and Limit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hiev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Ambiguities with bran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Difficulties and limi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servations and data from our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iscuss recent controversy over D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rder to Cha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egimes, procurement, repor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ocussed attention from Governments and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olitical W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OTS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®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Ambiguit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me br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fferent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762120"/>
            <a:ext cx="858996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“at least” all smear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essential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(smear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(199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762120"/>
            <a:ext cx="85899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(QC)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X-ray, cultures and D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family, community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ll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ca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RTB 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</a:t>
            </a:r>
            <a:r>
              <a:rPr b="1" lang="en-GB" sz="2800" spc="-1" strike="noStrike">
                <a:solidFill>
                  <a:srgbClr val="00ffff"/>
                </a:solidFill>
                <a:latin typeface="Arial"/>
              </a:rPr>
              <a:t>drug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quality assured, FDC, 2</a:t>
            </a:r>
            <a:r>
              <a:rPr b="0" lang="en-GB" sz="24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nabling outcome assessment of each patients, incorporating culture and DST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</a:t>
            </a: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(200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ome of our difficulties with T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98440" y="3346560"/>
          <a:ext cx="8601120" cy="177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3346560"/>
                    <a:ext cx="86011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3520" y="228600"/>
            <a:ext cx="8001000" cy="20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Case detec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xclus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13,323 patients in 52 projects supported by MSF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6668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portions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80880" y="1828800"/>
          <a:ext cx="838224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2286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andard SCC</a:t>
            </a:r>
            <a:br>
              <a:rPr sz="44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es one size fit al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1:38:51Z</dcterms:created>
  <dc:creator>MSFuser</dc:creator>
  <dc:description/>
  <dc:language>en-US</dc:language>
  <cp:lastModifiedBy>MSFUser</cp:lastModifiedBy>
  <dcterms:modified xsi:type="dcterms:W3CDTF">2005-05-04T13:03:37Z</dcterms:modified>
  <cp:revision>25</cp:revision>
  <dc:subject/>
  <dc:title>DOTS: The 5 pillars (1995)</dc:title>
</cp:coreProperties>
</file>