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7D63-0355-41A6-92DB-0106FD59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D224-9C4B-4352-84AF-CE2F8915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A7C-F20E-4EB5-BC43-AAFA8AAC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3C87-8FCD-40BB-BE29-D0E1EB21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92C1A-2386-48CB-AB41-9AD35CDF07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9F647-A52F-469F-A02A-8D77E4DCDC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28698-51FF-4E06-94C7-AD0449D2E3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1031A-E5DE-418F-89AB-2DA95A8E3F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05594-693E-4F5E-885B-0224B4DDFB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4D210-9820-4248-853A-05677C363B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596A8-0721-455B-B2D5-7B0F364576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2AB1-82B0-4B79-BEB8-909277CE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C8A65-1579-4E0D-B253-A743F4A1A9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10B34-2A47-4AA0-A1D1-97FEC68112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039C1-713E-4EDA-B2FD-E54904C60E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C3596-141C-479B-8769-39C3BF0879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CC9A7-9937-4B68-BD9F-B78C0405B2E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609E-C04D-48C4-8E91-82E9B020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B460-D762-4DDD-8237-94B3E660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F581-F5B7-46BC-9C44-DE62FE61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4500-BC4D-4993-AABE-07DD425F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5817-EEAE-42E7-84E1-7594AAD7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03C2-1D8A-4627-A68F-3FBE9ACE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4D51-6C32-4C88-A1A4-F9D5D307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C6E5-1BB1-4AA4-949F-552D797E3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995640" y="6237000"/>
            <a:ext cx="388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956720" y="6453000"/>
            <a:ext cx="7300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F918-AA0F-4430-A502-8E5D0EDCD61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6"/>
          </p:nvPr>
        </p:nvSpPr>
        <p:spPr>
          <a:xfrm>
            <a:off x="2700000" y="6165720"/>
            <a:ext cx="381636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Arial"/>
              </a:rPr>
              <a:t>High Level Mission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3885840"/>
            <a:ext cx="84247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Introducing procedures for high level advo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5084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Dr. Karam Sh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Decis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opt Guiding Principles for the conduct of High Level 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Review and decide on the HLM calendar of events for 2005 - 200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ition of High Level Mission (H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ual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ing and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lenda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IGH LEVEL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Engaging prominent partners / (CB members) to represent Stop TB i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powerful political advocacy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Uses international reputation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fluences key politicians &amp; decision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Creates sustained leverage in support of Stop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Arial"/>
              </a:rPr>
              <a:t>Guidelin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making HLM more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support of countries and international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most appropriate support to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ing the most appropriate STB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ding timely to importan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ing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frame work for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Composi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 is based on the actual purpose of the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d of mission (HoM) is selected by CB on basis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ituency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level partnership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B Partnership Secretariat senior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epa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and HoM draft 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dorsement 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review preferably prior to H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prepares form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prepares confidenti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makes logistics arran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ctual vis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d of Mission (HoM) assures quality performance and best expo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ve attitude and diplomatic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ructive image of S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igned tasks for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M is HLM spokes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is HLM rappor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Reporting and follow-up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7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 re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 consensus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conclusions &amp;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ed-back to constitu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mitted to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ner(s) can be invited to provide follow-u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4818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LM Calendar 2005 -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620640"/>
          <a:ext cx="7559640" cy="5981760"/>
        </p:xfrm>
        <a:graphic>
          <a:graphicData uri="http://schemas.openxmlformats.org/drawingml/2006/table">
            <a:tbl>
              <a:tblPr/>
              <a:tblGrid>
                <a:gridCol w="3816360"/>
                <a:gridCol w="1942920"/>
                <a:gridCol w="18003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/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op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 Summit Kharto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East Asi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glad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ern Pacific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ra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zah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dvi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Commi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s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(PEPFAR, Congress, USAI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z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3:59:03Z</dcterms:created>
  <dc:creator>steenbergeng</dc:creator>
  <dc:description/>
  <dc:language>en-US</dc:language>
  <cp:lastModifiedBy>bakerl</cp:lastModifiedBy>
  <dcterms:modified xsi:type="dcterms:W3CDTF">2005-04-27T11:03:42Z</dcterms:modified>
  <cp:revision>3</cp:revision>
  <dc:subject/>
  <dc:title>High Level Missions</dc:title>
</cp:coreProperties>
</file>