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E68C-08FD-422B-B007-51BC6FF1A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95B2-7A07-4119-A0AE-A2C2DCD46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5093-821B-440D-A84C-C77E468AF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1688-5229-4506-A61A-0C602BB2B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56C62-3FA7-4CE6-BCFA-0FBEFC9D4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53758-B180-4803-A41C-5F32DCC68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FFA9B-B9CE-4EC1-9B54-2DB3C9F9B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E4245-3C05-44B5-AEAE-669D07BBE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774B8-F0D9-4FCB-8B2B-A1E497ACD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8422C-9D3F-4F58-9EE3-AEB61C3F0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243E8-D0DC-4A8A-963C-B07F65D4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5977-134D-4E29-8F1B-4198FC68B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FEEB5-DFE7-4E58-A532-9F3169AB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2C0B3-7250-4904-A1DC-75375089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9EB8A-AE42-41B0-98C6-36B6B12A8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2FEC2-B919-45E6-A535-CD07CD3EE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BF4B1-CA96-49AA-8C25-C3D262A51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54C8-C005-42AC-9BB0-420C7CD16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138A-995D-4F45-9EC2-F4A02A619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243B-687D-4F84-B83A-E517C1E85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0D04-70CD-4A29-AB04-95F478B63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A85E-4D07-4BC3-BE9E-A2C9F8B1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A0C0-2E20-4DEC-93F4-C502A383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4CB2-3A2C-429F-9FBC-C07EA2F0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C801D-A1F9-4C39-896E-F148E7DCFE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836A7-E5F3-4291-B1AE-5F74817A3F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tbproposalhelp@who.int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cc"/>
                </a:solidFill>
                <a:latin typeface="Arial"/>
              </a:rPr>
              <a:t>THE GFATM: </a:t>
            </a:r>
            <a:br>
              <a:rPr sz="4400"/>
            </a:br>
            <a:r>
              <a:rPr b="1" lang="en-GB" sz="4400" spc="-1" strike="noStrike">
                <a:solidFill>
                  <a:srgbClr val="ffffcc"/>
                </a:solidFill>
                <a:latin typeface="Arial"/>
              </a:rPr>
              <a:t>MAKING ROUND 5 COUN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FATM Unit, TB Strategy and Operations, WHO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"Implementation"  Working Group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TOP TB Partnership Secretariat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HOW MUCH FOR TB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mple: Bangladesh, Pakistan, Nigeria, Cambodia, Zimbabwe, Brazil, China, India Sudan, Vietnam  (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Estimated TB Proposal Total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$290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9625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UTURE DIR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TB components in HIV proposa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engthening the capacity to strongly engage with the GFATM, and to plan TA in advance (Early Warning System coordin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coming implementation bottlenecks by providing support for project management, accounting, finance, logistics (HS strength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FOR BOARD CONSID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Board is request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dentify sources of funds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continue the GFATM focal point position in WHO in advance of Round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to strengthen assistance to countries (technical and CCM) in the lead up to R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rease the profile of TB in engaging at political level and with the GFA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halle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utting 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ow Much for TB in R5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9625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vailable funding has increased 60% R1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ever, TB funding has not increa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B proposals have been modest.  30% of all approved proposals are for TB yet overall funding for TB is 1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FATM reports global resource gaps for AIDS, Malaria, and TB at 77%, 17%, and 6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692720" y="1146600"/>
            <a:ext cx="80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000000"/>
                </a:solidFill>
                <a:latin typeface="Arial"/>
                <a:ea typeface="SimSun"/>
              </a:rPr>
              <a:t>Figure 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5320" y="6442200"/>
            <a:ext cx="17496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900" spc="-1" strike="noStrike">
                <a:solidFill>
                  <a:srgbClr val="ffff66"/>
                </a:solidFill>
                <a:latin typeface="Tahoma"/>
                <a:ea typeface="SimSun"/>
              </a:rPr>
              <a:t>2 year budg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396720" y="6767640"/>
            <a:ext cx="596232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403280" y="1413000"/>
            <a:ext cx="70725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900" spc="-1" strike="noStrike">
                <a:solidFill>
                  <a:srgbClr val="ffff66"/>
                </a:solidFill>
                <a:latin typeface="Tahoma"/>
                <a:ea typeface="SimSun"/>
              </a:rPr>
              <a:t> </a:t>
            </a:r>
            <a:r>
              <a:rPr b="1" lang="fr-CH" sz="1800" spc="-1" strike="noStrike">
                <a:solidFill>
                  <a:srgbClr val="000000"/>
                </a:solidFill>
                <a:latin typeface="Tahoma"/>
                <a:ea typeface="SimSun"/>
              </a:rPr>
              <a:t>$583 M         $886 M        $623 M         $968 M         $306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88920" y="1793880"/>
          <a:ext cx="8588520" cy="48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1793880"/>
                    <a:ext cx="8588520" cy="48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2227320" y="4809960"/>
            <a:ext cx="5554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59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27320" y="3262320"/>
            <a:ext cx="5554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27320" y="3262320"/>
            <a:ext cx="5554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12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27320" y="2690640"/>
            <a:ext cx="63504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  <a:ea typeface="SimSun"/>
              </a:rPr>
              <a:t>1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27320" y="2119320"/>
            <a:ext cx="5554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10000"/>
                </a:solidFill>
                <a:latin typeface="Arial"/>
                <a:ea typeface="SimSun"/>
              </a:rPr>
              <a:t>9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27320" y="1874880"/>
            <a:ext cx="5554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3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89680" y="4809960"/>
            <a:ext cx="5554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58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657600" y="1793880"/>
            <a:ext cx="5572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fr-CH" sz="1400" spc="-1" strike="noStrike">
                <a:solidFill>
                  <a:srgbClr val="000000"/>
                </a:solidFill>
                <a:latin typeface="Arial"/>
                <a:ea typeface="SimSun"/>
              </a:rPr>
              <a:t>1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205000"/>
            <a:ext cx="6271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  <a:ea typeface="SimSun"/>
              </a:rPr>
              <a:t>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57600" y="3016080"/>
            <a:ext cx="5572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27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4809960"/>
            <a:ext cx="5572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56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168880" y="1874880"/>
            <a:ext cx="5554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10000"/>
                </a:solidFill>
                <a:latin typeface="Arial"/>
                <a:ea typeface="SimSun"/>
              </a:rPr>
              <a:t>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168880" y="2282760"/>
            <a:ext cx="6984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  <a:ea typeface="SimSun"/>
              </a:rPr>
              <a:t>1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168880" y="3016080"/>
            <a:ext cx="5554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27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031240" y="4809960"/>
            <a:ext cx="5554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54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599160" y="4924440"/>
            <a:ext cx="5572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48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99160" y="1957320"/>
            <a:ext cx="7095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  <a:ea typeface="SimSun"/>
              </a:rPr>
              <a:t>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031240" y="3098880"/>
            <a:ext cx="5554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29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99160" y="3098880"/>
            <a:ext cx="5572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42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031240" y="2282760"/>
            <a:ext cx="7887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  <a:ea typeface="SimSun"/>
              </a:rPr>
              <a:t>1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031240" y="1793880"/>
            <a:ext cx="5554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1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031240" y="1957320"/>
            <a:ext cx="5554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3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70080" y="1025640"/>
            <a:ext cx="4827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396720" y="0"/>
            <a:ext cx="954072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Comparison across rounds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Two year approved budget by disease 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1911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RESPON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FATM Unit – TBS – WHO - Partn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id technical support throughout R5 proces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bproposalhelp@who.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S Workshop in Cai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kshop "Strategic Approaches to R5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95360" y="291960"/>
            <a:ext cx="83566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Workshop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0040" y="1254240"/>
            <a:ext cx="8136000" cy="14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755640" y="1341360"/>
          <a:ext cx="7991640" cy="519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341360"/>
                    <a:ext cx="7991640" cy="51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7164360" y="3789360"/>
            <a:ext cx="1079640" cy="287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164360" y="371628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00"/>
                </a:solidFill>
                <a:latin typeface="Arial"/>
              </a:rPr>
              <a:t>Workshop Frame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514600" y="441972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4038480"/>
            <a:ext cx="1981080" cy="1371600"/>
          </a:xfrm>
          <a:prstGeom prst="flowChartAlternateProcess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44956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ROPO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4038480"/>
            <a:ext cx="1981440" cy="1371600"/>
          </a:xfrm>
          <a:prstGeom prst="flowChartAlternateProcess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705720" y="4038480"/>
            <a:ext cx="1981080" cy="1371600"/>
          </a:xfrm>
          <a:prstGeom prst="flowChartAlternateProcess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81280" y="411480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TR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934320" y="44956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HASE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15000" y="441972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1876320"/>
            <a:ext cx="2057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352680" y="19051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198108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-CALL TECHNICAL AS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19920" y="1876320"/>
            <a:ext cx="3124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RESULTS FO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-92160" y="-208080"/>
            <a:ext cx="4054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9280" y="189000"/>
            <a:ext cx="388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 STRATEGIC APPROACH TO R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228600" y="0"/>
            <a:ext cx="4572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CUTTING 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58 countries plan to submit TB proposals in R5 (18HBC).  49 in R4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8 countries are receiving technical support from Stop TB Partn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6 consultants trained and deployed in the 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FRICA ROUND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24 Applying (8 HBC), 13 failed in R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KEY ROUND 5 PRIORITIES in AFRIC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igeria &amp; Zimbabw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2T09:18:59Z</dcterms:created>
  <dc:creator>johnsoneb</dc:creator>
  <dc:description/>
  <dc:language>en-US</dc:language>
  <cp:lastModifiedBy>johnsoneb</cp:lastModifiedBy>
  <dcterms:modified xsi:type="dcterms:W3CDTF">2005-05-11T09:02:35Z</dcterms:modified>
  <cp:revision>118</cp:revision>
  <dc:subject/>
  <dc:title>Slide 1</dc:title>
</cp:coreProperties>
</file>