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393-E796-4864-BC93-3C7BB41C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FA0-9CBD-4E17-A2C0-A865B4A0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D00-CD64-49CC-9009-B09B26F7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65FC-C260-4627-B1B1-13653ED2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2EB-57F1-498C-998E-C76DCA0B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1DF-80E0-42CF-ABB6-FD82BE33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DB6-8D69-465F-B76C-35A6BEA7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F2A-BA46-43F6-A0F8-8F0E6251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CB4-E1A0-4DB0-80D7-94ECC78E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569-64D9-4FCE-B88D-C40ADB52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FDD-6E56-4F03-8AA2-BA07E0F8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2E9-F1CD-4CAD-859A-A7F0ACA9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B10A-BA24-4267-BB07-A454316F7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-8 Recommended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ly develop more robust number for TB funding need/gap based on GP 2 to be referenced in G-8 Commu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for communique on “closing the funding gap for TB control” and “supporting convening of Emergency African TB Financing Summit and monitoring of implementation of the Road Map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B and NGO support for above to G-8 and other don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to Ethiopian PM to attend G-8 and  become champion for TB in Africa, make the case for intensified action for TB in Africa and financing the Road M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NGO efforts associated with ActionAid ef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ngagement of World L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Community—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r presentation of GP2 resource needs before June—for G-8, GFATM Repl. Mtgs. Fair shares? Country/regional foc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 plan for GP2????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 ID set of 7-8 RM priority donor countries (and multilaterals) with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 for CB efforts, regular support for NGO country efforts—ID targets, support adv. capacity, media, visits.  Coordinated effort on M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ies of focused advocacy docs from G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ID strategic TB champions and make specific requests—Mandela, Tutu, Sachs. Prioritize global leaders/for a—EU, WB, AU, Other Regional Summ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BC Country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 key HBCs—Africa, other priorities—ID core set of partners for each country, CB missions, NGO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plan for reaching 2-3 national leaders in target HB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for Eco Impact of TB (WB to under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E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 Sum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-8 (Ethiopian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. GFATM Replenishment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G Summit—ID some champions for 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F January 2006 release of GP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—op-ed HG/Mand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hs/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5:08:08Z</dcterms:created>
  <dc:creator>Geoff</dc:creator>
  <dc:description/>
  <dc:language>en-US</dc:language>
  <cp:lastModifiedBy>johnsoneb</cp:lastModifiedBy>
  <dcterms:modified xsi:type="dcterms:W3CDTF">2005-05-04T12:45:32Z</dcterms:modified>
  <cp:revision>4</cp:revision>
  <dc:subject/>
  <dc:title>G-8 Recommended Actions</dc:title>
</cp:coreProperties>
</file>