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A203-037A-4E0B-9B8C-7C670B148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F222-C94B-427C-AE86-2787BF90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9CDD-0E23-40B7-8443-216985A44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5F51-79ED-4E32-A008-7C7F87DF0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2C71-1BC8-4D03-B228-A50333F5C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D45C-10DD-4EC0-8172-DCE3F9DAE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7478-AAEE-4FCB-875A-F43C9632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650A-B79B-47A2-9CF0-040F6DB8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F3E2-7092-4E14-ADA8-6CA7E55B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C8229-35BB-45FD-8FC5-368458B0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2D43-2A9C-4F49-AD5C-E191D636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2F73-89CA-43F9-9AC9-741C21DA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6058-90E8-493B-BAF6-800D5259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F0C5-8DFB-45F3-9238-9F29E409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96DD-2E9A-433F-9AAA-341FB97D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12CC-93AF-41D3-A21F-0A87E58D7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FD67-EFC2-4206-BB8F-F0C6B1446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A620-5C07-410F-8BFF-7D643116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A11B-EBE1-4BC8-8AC5-3EBECB07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587F-8A91-4039-9B09-BDD5AAE7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44D6-039F-4FC2-BFB8-ECE5E007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4C57-B007-4BF8-A9F5-5CE3883E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34C3-AC22-4D12-803F-F51042F7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AA25-C665-47ED-87DA-33C93A0B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4C56-8A3C-4CDC-B063-58EF406F6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617C-BB27-41A4-A08D-D5CBBC7F7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tbproposalhelp@who.int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cc"/>
                </a:solidFill>
                <a:latin typeface="Arial"/>
              </a:rPr>
              <a:t>THE GFATM: </a:t>
            </a:r>
            <a:br>
              <a:rPr sz="4400"/>
            </a:br>
            <a:r>
              <a:rPr b="1" lang="en-GB" sz="4400" spc="-1" strike="noStrike">
                <a:solidFill>
                  <a:srgbClr val="ffffcc"/>
                </a:solidFill>
                <a:latin typeface="Arial"/>
              </a:rPr>
              <a:t>MAKING ROUND 5 COU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FATM Unit, TB Strategy and Operations, WHO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"Implementation"  Working Group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TOP TB Partnership Secretaria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HOW MUCH FOR TB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mple: Bangladesh, Pakistan, Nigeria, Cambodia, Zimbabwe, Brazil, China, India Sudan, Vietnam  (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stimated TB Proposal Total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$290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9625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UTURE DIR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TB components in HIV propos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engthening the capacity to strongly engage with the GFATM, and to plan TA in advance (Early Warning System coordin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coming implementation bottlenecks by providing support for project management, accounting, finance, logistics (HS strength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OR BOARD CONSI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Board is request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sources of funds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continue the GFATM focal point position in WHO in advance of Round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to strengthen assistance to countries (technical and CCM) in the lead up to R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e the profile of TB in engaging at political level and with the GFA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halle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utting 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 Much for TB in R5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9625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ailable funding has increased 60% R1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ever, TB funding has not increa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B proposals have been modest.  30% of all approved proposals are for TB yet overall funding for TB is 1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FATM reports global resource gaps for AIDS, Malaria, and TB at 77%, 17%, and 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692720" y="1146600"/>
            <a:ext cx="80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000000"/>
                </a:solidFill>
                <a:latin typeface="Arial"/>
                <a:ea typeface="SimSun"/>
              </a:rPr>
              <a:t>Figure 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5320" y="6442200"/>
            <a:ext cx="17496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900" spc="-1" strike="noStrike">
                <a:solidFill>
                  <a:srgbClr val="ffff66"/>
                </a:solidFill>
                <a:latin typeface="Tahoma"/>
                <a:ea typeface="SimSun"/>
              </a:rPr>
              <a:t>2 year budg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396720" y="6767640"/>
            <a:ext cx="59623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03280" y="1413000"/>
            <a:ext cx="70725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900" spc="-1" strike="noStrike">
                <a:solidFill>
                  <a:srgbClr val="ffff66"/>
                </a:solidFill>
                <a:latin typeface="Tahoma"/>
                <a:ea typeface="SimSun"/>
              </a:rPr>
              <a:t> 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  <a:ea typeface="SimSun"/>
              </a:rPr>
              <a:t>$583 M         $886 M        $623 M         $968 M         $306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8920" y="1793880"/>
          <a:ext cx="8588520" cy="48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793880"/>
                    <a:ext cx="858852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2227320" y="4809960"/>
            <a:ext cx="555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5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27320" y="3262320"/>
            <a:ext cx="555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27320" y="326232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12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27320" y="2690640"/>
            <a:ext cx="63504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27320" y="2119320"/>
            <a:ext cx="5554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10000"/>
                </a:solidFill>
                <a:latin typeface="Arial"/>
                <a:ea typeface="SimSun"/>
              </a:rPr>
              <a:t>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27320" y="187488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89680" y="4809960"/>
            <a:ext cx="555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5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1793880"/>
            <a:ext cx="5572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  <a:ea typeface="SimSun"/>
              </a:rPr>
              <a:t>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205000"/>
            <a:ext cx="6271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3016080"/>
            <a:ext cx="5572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27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809960"/>
            <a:ext cx="5572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56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68880" y="187488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10000"/>
                </a:solidFill>
                <a:latin typeface="Arial"/>
                <a:ea typeface="SimSun"/>
              </a:rPr>
              <a:t>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68880" y="2282760"/>
            <a:ext cx="6984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68880" y="3016080"/>
            <a:ext cx="555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27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031240" y="4809960"/>
            <a:ext cx="555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54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99160" y="4924440"/>
            <a:ext cx="5572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4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99160" y="1957320"/>
            <a:ext cx="7095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031240" y="309888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2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99160" y="3098880"/>
            <a:ext cx="5572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42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031240" y="2282760"/>
            <a:ext cx="7887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031240" y="179388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1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031240" y="195732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70080" y="1025640"/>
            <a:ext cx="4827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396720" y="0"/>
            <a:ext cx="954072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Comparison across rounds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Two year approved budget by disease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1911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SPO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FATM Unit – TBS – WHO - Part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 technical support throughout R5 proces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bproposalhelp@who.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S Workshop in Ca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shop "Strategic Approaches to R5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95360" y="291960"/>
            <a:ext cx="83566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Workshop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0040" y="1254240"/>
            <a:ext cx="8136000" cy="14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55640" y="1341360"/>
          <a:ext cx="7991640" cy="51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41360"/>
                    <a:ext cx="7991640" cy="51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7164360" y="3789360"/>
            <a:ext cx="1079640" cy="287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64360" y="371628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00"/>
                </a:solidFill>
                <a:latin typeface="Arial"/>
              </a:rPr>
              <a:t>Workshop Frame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514600" y="44197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4038480"/>
            <a:ext cx="1981080" cy="1371600"/>
          </a:xfrm>
          <a:prstGeom prst="flowChartAlternateProcess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4495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4038480"/>
            <a:ext cx="1981440" cy="1371600"/>
          </a:xfrm>
          <a:prstGeom prst="flowChartAlternateProcess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4038480"/>
            <a:ext cx="1981080" cy="1371600"/>
          </a:xfrm>
          <a:prstGeom prst="flowChartAlternateProcess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41148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R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934320" y="44956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HASE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44197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1876320"/>
            <a:ext cx="2057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52680" y="19051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19810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-CALL TECHNICAL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9920" y="1876320"/>
            <a:ext cx="3124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RESULTS 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-92160" y="-208080"/>
            <a:ext cx="4054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9280" y="18900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 STRATEGIC APPROACH TO R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4572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CUTTING 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8 countries plan to submit TB proposals in R5 (18HBC).  49 in R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8 countries are receiving technical support from Stop TB Partn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6 consultants trained and deployed in the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FRICA ROUND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24 Applying (8 HBC), 13 failed in R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KEY ROUND 5 PRIORITIES in AFRIC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igeria &amp; Zimbabw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2T09:18:59Z</dcterms:created>
  <dc:creator>johnsoneb</dc:creator>
  <dc:description/>
  <dc:language>en-US</dc:language>
  <cp:lastModifiedBy>johnsoneb</cp:lastModifiedBy>
  <dcterms:modified xsi:type="dcterms:W3CDTF">2005-05-11T09:02:35Z</dcterms:modified>
  <cp:revision>118</cp:revision>
  <dc:subject/>
  <dc:title>Slide 1</dc:title>
</cp:coreProperties>
</file>