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C610C-2A79-4883-B80B-212B98380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96C12-0BC7-43FD-B9D9-CD273DE9D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843B6-F4D8-4B28-AD04-CB93DBC02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5BD8B-A750-4E57-944D-E615CBE7B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CCA82-D874-4E11-8A77-5626B9074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B511D-9147-44D4-93BD-D5816507D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CADB3-AD83-46BF-A825-F99685EF2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93902-A48F-4D2F-B4FF-7A6297362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69C75-DD37-4934-842B-77897A136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4402080" cy="62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AB2DE-92D6-470A-9F8A-29A453302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B8FEE-3D45-44BF-A703-008FC1D88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C6C06-3AB1-488A-8286-2B63CCA23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140C8-FE7B-470C-941A-3094B7A44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BE9B2-0DA5-47AC-82B4-DE475E7F7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272AE-26D6-4E6C-8BB0-4F26780DB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9D720-60B0-48F3-B023-90F83B00F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CBF1B-BDB8-4252-9D06-587902FEC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83939-172A-47B0-8F56-8F4785324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77698-CC38-4D10-B0B8-96A9876B5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AFFE2-F28A-470B-9370-09EA50420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4402080" cy="62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67156-68E4-4E55-958E-9C2F9F944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CB6EC-0A4B-416B-AD5F-C5AEFB740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924D7-531A-4C76-8594-FD987586C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18BAD-AEB4-4BA2-8AEB-76A27AD4D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1440" y="144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288C5-AB60-4E11-B782-FA68DD4336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64325-58C4-48E1-81A9-CF6A56144D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lang="en-GB" sz="3200" spc="-1" strike="noStrike">
                <a:solidFill>
                  <a:srgbClr val="ffffcc"/>
                </a:solidFill>
                <a:latin typeface="Arial"/>
              </a:rPr>
              <a:t>Engaging World Leader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1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Jaap Broekma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top TB Coordinating Boar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ddis Abab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3rd May 200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SimSun"/>
              </a:rPr>
              <a:t>A strategy for engagement with Heads of State and World Leaders was a recommendation of the Beijing Coordinating Board Meeting in October 200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he Approa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SimSun"/>
              </a:rPr>
              <a:t>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SimSun"/>
              </a:rPr>
              <a:t>o create TB champions among leading figures – but to go beyond Heads of St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ndela: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“we can not fight HIV/AIDS without also                                    fighting TB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wo core group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igh burden countries - with special emphasis on Afric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nor/potential donor count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7238880" y="2514600"/>
            <a:ext cx="1501920" cy="18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rategic 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need to strengthen TB control activities in target countries to enable TB to maintain momentum and achieve the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llennium Development Goal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need for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und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to support TB control from the international development community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need for a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upportive political environment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450072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Arial"/>
              </a:rPr>
              <a:t>MDG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untries see achieving TB control goals as part of their wider economic development agend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Identify and inform nodal leaders and opportunities to access th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u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inancing for TB Control needs to be sustainable with sufficient funds available for Technical Assistance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orld Health Assembly: Resolution on Sustainable Financing for TB control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igh Awareness of Global Plan 2006-20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ew inter-ministerial conferenc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23600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olitical Environ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B friendly influential leaders (politicians, sports and entertainment stars etc) provide the framework to support our advocacy wo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Direct and indirect channels to reach influential leaders: WB, EU, Wise men (Sachs, Sen etc), social experts, celebrities (including Stop TB Ambassadors), UN family (WHO, UNDP et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dentify core groups of countries and leaders we MUST reach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SimSun"/>
              </a:rPr>
              <a:t>Identify opportunities to access key political and other lead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African Commission, CHOGM, APEC, UNGASS, EU summit, G8, G77, WEF, World Social Foru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rategic Planning to raise the profile of Global Plan 2006-20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Tactical 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Princip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ny champ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Joined-up strate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lear message (full need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mpli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3T15:56:53Z</dcterms:created>
  <dc:creator>Robert Hernandez</dc:creator>
  <dc:description/>
  <dc:language>en-US</dc:language>
  <cp:lastModifiedBy>johnsoneb</cp:lastModifiedBy>
  <dcterms:modified xsi:type="dcterms:W3CDTF">2005-05-03T09:24:50Z</dcterms:modified>
  <cp:revision>39</cp:revision>
  <dc:subject/>
  <dc:title>Slide 1</dc:title>
</cp:coreProperties>
</file>