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7A0E-8095-4CE1-8508-B872AC8EB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F6BD-8A13-4B02-A42C-6D48A136B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5CB8-7326-4832-B185-FAEA06425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601F-1FC6-4922-9530-CE9CF9F07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E512-8F9D-4964-84B8-F6E344F44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719E-93EF-4AE5-B6FA-F422CCE29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63F9-C87A-40F3-9AB0-AB2109B01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01FC-3B82-4227-90D2-D791A8BE5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1AF5-6FA5-4032-B0DA-FB0408461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E069-8EA1-4E10-9790-9DFB269C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12AF-97B5-4DAB-A4DE-4BBCE047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AEFE-F464-4A42-A214-43013D1B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43E11-351F-4589-AE0E-301CE408C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eting of the Steering Committee for the Global Pl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2006-2015)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p TB Diagnostic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rking Grou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 Giorgio Roscig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71400" y="5032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Objectives and Key Activities for 2006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Objective #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  To develop new, improved tools for the detectio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uberculosis disease, drug resistance and latent infec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Objective #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 To use an evidence-based approach to determine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performance characteristics of new, improved diagnostic tools for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etection of tuberculosis disease, drug resistance and latent inf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Objective # 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 To demonstrate the epidemiological and economic impact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new, improved diagnostic tools under programmatic conditions in develo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countr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Objective # 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 In collaboration with the STOP TB Partnership &amp; National T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Programs, to delineate a strategy for the introduction and adoption of promis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B diagnostics into resource-constrained sett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Objective #5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evelop comprehensive advocacy and information strategy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new and improved TB diagno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argets for Test Introduction Leading to Sustainable Adoption: 2006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7129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2803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Resource needs for enabling infrastructure (2006-2015) totals 14 m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Reference material bank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3,00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Clinical Trial Training and Lab Strengthening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3,00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Pre-qualification Project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4,00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Regulatory Harmonization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1,00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Market Analysis Update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   10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Market entry schemes based on situation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   525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analyses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WG secretariat/coordination and meeting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1,50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Advocacy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   65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 Steps towards Finalizing the Diagnostics WG Strategic Plan &amp; the WGs’ Contribution to the Global Plan II to STOP TB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852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irculation of the Draft Strategic Plan to all WG members for comment and direct input into Table 2, Key activities and Figure 5 (Targets for Test Introduc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daptation of existing mathematical model to better represent impact of new diagnostic tools on TB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ries of meetings with implementation working group representatives to determine which diagnostic test scenarios (Figure 5)  should be incorporated into core regional strategies and estimate their implementation cost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STOP TB Working Group on Diagnostics - Stakehold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900000" y="1916280"/>
            <a:ext cx="7488000" cy="4033440"/>
            <a:chOff x="900000" y="1916280"/>
            <a:chExt cx="7488000" cy="4033440"/>
          </a:xfrm>
        </p:grpSpPr>
        <p:sp>
          <p:nvSpPr>
            <p:cNvPr id="46" name=""/>
            <p:cNvSpPr/>
            <p:nvPr/>
          </p:nvSpPr>
          <p:spPr>
            <a:xfrm flipH="1" flipV="1">
              <a:off x="5171400" y="3984840"/>
              <a:ext cx="1082880" cy="69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>
              <a:off x="3065760" y="4255920"/>
              <a:ext cx="902520" cy="10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5171400" y="2847240"/>
              <a:ext cx="84168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4509720" y="4538880"/>
              <a:ext cx="0" cy="65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1983600" y="3908880"/>
              <a:ext cx="1382760" cy="38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5171400" y="3603240"/>
              <a:ext cx="660960" cy="22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967560" y="2375640"/>
              <a:ext cx="1143000" cy="2041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3640" rIns="5364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320160" y="4604760"/>
              <a:ext cx="1744200" cy="66132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dus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959400" y="2847240"/>
              <a:ext cx="2013840" cy="564120"/>
            </a:xfrm>
            <a:prstGeom prst="rect">
              <a:avLst/>
            </a:prstGeom>
            <a:solidFill>
              <a:srgbClr val="feec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ublic research institu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00000" y="4822200"/>
              <a:ext cx="2044440" cy="816480"/>
            </a:xfrm>
            <a:prstGeom prst="rect">
              <a:avLst/>
            </a:prstGeom>
            <a:solidFill>
              <a:srgbClr val="b76a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ational TB Programs/Reference Laborator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72840" y="2565000"/>
              <a:ext cx="2315160" cy="56484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adem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7920" y="5385600"/>
              <a:ext cx="763560" cy="564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G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260360" y="4138560"/>
              <a:ext cx="672480" cy="3236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61200" bIns="61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ono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952240" y="3755880"/>
              <a:ext cx="2068200" cy="641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ernational  Organiza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47920" y="2910960"/>
              <a:ext cx="781920" cy="973440"/>
            </a:xfrm>
            <a:prstGeom prst="ellipse">
              <a:avLst/>
            </a:prstGeom>
            <a:solidFill>
              <a:srgbClr val="feec9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re W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27080" y="1916280"/>
              <a:ext cx="1591200" cy="389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orking Group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2987640" y="3068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gic 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ision of the Stop TB WG on Diagno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o develop and introduce cost-effective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priate new diagnostic tools that w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ibute towards control of the global T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idemic in the quality of patient ca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gic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Advocate and sponsor increased investment from the public and private sector in basic science that supports the development of diagnostic technologi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Continuous mapping of landscape for promising technologies and regular dialogue with diagnostic technology and test develop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Facilitation of improved public and private sector stakeholder collaboration leading towards accelerated diagnostic tool development, evaluation, demonstration and market entry (test introduction and sustainable adoption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Targeted investment and management of product development in priority are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Improve understanding, development and regulation of the diagnostics market in high burden countries aimed at encouraging application of potential new technologies to TB diagno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Measure the epidemiological and economic impact of new diagnostic tools in National TB Program setting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Assistance to  governments and public health agencies in developing countries to evaluate the utility and cost-effectiveness or local appropriateness of new diagnostics and develop effective implementation schemes that maximize patient accessibilit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8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ity Diagnostics Tools for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750600" y="1271520"/>
            <a:ext cx="7565760" cy="4678200"/>
            <a:chOff x="750600" y="1271520"/>
            <a:chExt cx="7565760" cy="4678200"/>
          </a:xfrm>
        </p:grpSpPr>
        <p:grpSp>
          <p:nvGrpSpPr>
            <p:cNvPr id="69" name=""/>
            <p:cNvGrpSpPr/>
            <p:nvPr/>
          </p:nvGrpSpPr>
          <p:grpSpPr>
            <a:xfrm>
              <a:off x="750600" y="1271520"/>
              <a:ext cx="2106720" cy="4678200"/>
              <a:chOff x="750600" y="1271520"/>
              <a:chExt cx="2106720" cy="4678200"/>
            </a:xfrm>
          </p:grpSpPr>
          <p:sp>
            <p:nvSpPr>
              <p:cNvPr id="70" name=""/>
              <p:cNvSpPr/>
              <p:nvPr/>
            </p:nvSpPr>
            <p:spPr>
              <a:xfrm>
                <a:off x="750600" y="1271520"/>
                <a:ext cx="2106720" cy="65772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6520" rIns="56520" tIns="28440" bIns="2844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99"/>
                    </a:solidFill>
                    <a:latin typeface="Arial"/>
                  </a:rPr>
                  <a:t>Purpo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50600" y="1929240"/>
                <a:ext cx="2106720" cy="402048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6520" rIns="56520" tIns="28440" bIns="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</a:rPr>
                  <a:t>Case Detec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</a:rPr>
                  <a:t>Drug Susceptibility Testing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</a:rPr>
                  <a:t>Latent TB Infection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"/>
            <p:cNvGrpSpPr/>
            <p:nvPr/>
          </p:nvGrpSpPr>
          <p:grpSpPr>
            <a:xfrm>
              <a:off x="2791800" y="1271520"/>
              <a:ext cx="5524560" cy="4678200"/>
              <a:chOff x="2791800" y="1271520"/>
              <a:chExt cx="5524560" cy="4678200"/>
            </a:xfrm>
          </p:grpSpPr>
          <p:sp>
            <p:nvSpPr>
              <p:cNvPr id="73" name=""/>
              <p:cNvSpPr/>
              <p:nvPr/>
            </p:nvSpPr>
            <p:spPr>
              <a:xfrm>
                <a:off x="2791800" y="1271520"/>
                <a:ext cx="5524560" cy="65772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6520" rIns="56520" tIns="28440" bIns="2844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99"/>
                    </a:solidFill>
                    <a:latin typeface="Arial"/>
                  </a:rPr>
                  <a:t>Test Indicatio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791800" y="1929240"/>
                <a:ext cx="5524560" cy="402048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6520" rIns="56520" tIns="28440" bIns="28440" anchor="t">
                <a:noAutofit/>
              </a:bodyPr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pulmonary TB with high bacterial load   (SS+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pulmonary TB with low bacterial load   (SS -, Cx +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extra-pulmonary and pediatric T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MDR-TB for treatmen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MDR-TB for surveillan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LTBI for surveillan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LTBI for treatmen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down of estimated TB cases by AFB sta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116000" y="1628640"/>
          <a:ext cx="6912000" cy="39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28640"/>
                    <a:ext cx="6912000" cy="39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Diagnostics Development Pipeline: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9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71400" y="5032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2T07:45:05Z</dcterms:created>
  <dc:creator>Giorgio</dc:creator>
  <dc:description/>
  <dc:language>en-US</dc:language>
  <cp:lastModifiedBy>johnsoneb</cp:lastModifiedBy>
  <dcterms:modified xsi:type="dcterms:W3CDTF">2005-05-02T10:36:36Z</dcterms:modified>
  <cp:revision>32</cp:revision>
  <dc:subject/>
  <dc:title>Slide 1</dc:title>
</cp:coreProperties>
</file>