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6AFBA8-B21C-4710-BCC1-77676A463E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668920" y="3881520"/>
            <a:ext cx="305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20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ddis Ab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 Ma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599160" y="5419800"/>
          <a:ext cx="1287720" cy="132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9160" y="5419800"/>
                    <a:ext cx="12877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346480" y="54720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711360"/>
            <a:ext cx="368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International Standard for TB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74680" y="1247760"/>
            <a:ext cx="5087880" cy="38163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452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Diagnosi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2880" y="19526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0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radiographic abnormal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7800" y="2195640"/>
            <a:ext cx="4361040" cy="39178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859280" y="4167360"/>
            <a:ext cx="3997440" cy="25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668160" y="1670040"/>
          <a:ext cx="7747200" cy="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6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818240" y="4179960"/>
            <a:ext cx="41083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3840" y="4309920"/>
            <a:ext cx="233280" cy="23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650440" y="4309920"/>
            <a:ext cx="318960" cy="22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81880"/>
            <a:ext cx="41083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2190600"/>
            <a:ext cx="4340160" cy="38912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3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Treatment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with RIF in initial phase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 a treatment supporter to ensure super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25400" y="167004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895640" y="2155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he provider is responsible for prescribing an adequate regimen and ensuring adh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1160" y="2376360"/>
            <a:ext cx="4387680" cy="36547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714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Treatment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25400" y="1886040"/>
          <a:ext cx="7907400" cy="6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5400" y="1886040"/>
                    <a:ext cx="79074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33360" y="2395440"/>
            <a:ext cx="4326120" cy="3627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3040" y="537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Treatment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66920" y="2357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approach to treatment should be developed for all patients. A central element is support for adherence, including direct obser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2279520"/>
            <a:ext cx="3809880" cy="40039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aphicFrame>
        <p:nvGraphicFramePr>
          <p:cNvPr id="151" name=""/>
          <p:cNvGraphicFramePr/>
          <p:nvPr/>
        </p:nvGraphicFramePr>
        <p:xfrm>
          <a:off x="882720" y="18003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2720" y="18003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4440" y="334800"/>
            <a:ext cx="785952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</a:t>
            </a:r>
            <a:br>
              <a:rPr sz="3600"/>
            </a:b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240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5600" y="2651040"/>
            <a:ext cx="3970080" cy="386424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aphicFrame>
        <p:nvGraphicFramePr>
          <p:cNvPr id="159" name=""/>
          <p:cNvGraphicFramePr/>
          <p:nvPr/>
        </p:nvGraphicFramePr>
        <p:xfrm>
          <a:off x="569880" y="23385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9880" y="23385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International Standards for Tuberculosis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886040"/>
            <a:ext cx="7639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Goal is to develop a set of essential standards that are applicable to all provid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Co-chairs: Phil Hopewell &amp; Mario Raviglio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Evidence-based with 7 commissioned systematic review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Funded (Oct 1, 2004) by USAID / TBCTA (~$200,000 for 2 year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07960" y="1498680"/>
          <a:ext cx="799452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498680"/>
                    <a:ext cx="799452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9600" y="274680"/>
            <a:ext cx="8458200" cy="11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Progress to Dat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6160" y="1971720"/>
            <a:ext cx="808848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Steering Committee meetings h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ope, content outline determined, and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drafts prepared to 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draft circulating to committee curren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 systematic reviews underway or fin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5960" y="169848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169848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Next Step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the Public-Private Mix Sub group meeting, Manila, 4-6 April 2005 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Stop TB Coordinating Board, Addis Ababa, 3 May 2005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STAG meeting, Geneva, 20-22 June 2005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WHO regional and country advisors meeting, Geneva, 22-24 June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Marketing” for broad endorsement: TBCTA partners, NTPs, medical professional societies, nursing societies, academic programs in nursing and medicine, HIV/AIDS organizations to begin in Ju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Next Step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9840" y="1942920"/>
            <a:ext cx="8088120" cy="50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"megameeting" of the 3 implementation working groups of the Stop TB Partnership, France,  17-19 October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meeting, fall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Draft reviewed by IUATLD international consultants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pecial session at the IUATLD conference,  France, 20-22 October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the end of the year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Journal publication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7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69848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9848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1200" y="44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</a:t>
            </a:r>
            <a:br>
              <a:rPr sz="3600"/>
            </a:br>
            <a:r>
              <a:rPr b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Requests to the Coordinating Bo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0200" y="2257200"/>
            <a:ext cx="814536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dorse concept of international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vide input on process for endors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vide input on ways to implement the standards at country lev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44560" y="22226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22226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Introductio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atients of all ages, smear positive and negative, extra-pulmonary, MDR, TB/HI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11080" y="167004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108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3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2480" y="1852560"/>
            <a:ext cx="808848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Diagnosi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+ culture) is essential (including children extra-pulmonary, and persons with radiographic abnormal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 (based on epidemiological circumstances, risk group, or clinical findin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5720" y="45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Diagnosi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27480" y="219564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49200" y="2478240"/>
          <a:ext cx="3722760" cy="33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2478240"/>
                    <a:ext cx="3722760" cy="3365280"/>
                  </a:xfrm>
                  <a:prstGeom prst="rect">
                    <a:avLst/>
                  </a:prstGeom>
                  <a:ln w="5724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11280" y="1785960"/>
          <a:ext cx="7746840" cy="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7859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bakerl</cp:lastModifiedBy>
  <cp:lastPrinted>2003-04-10T14:23:01Z</cp:lastPrinted>
  <dcterms:modified xsi:type="dcterms:W3CDTF">2005-04-27T13:47:40Z</dcterms:modified>
  <cp:revision>448</cp:revision>
  <dc:subject/>
  <dc:title>Progress in Global Tuberculosis Control 1995-97</dc:title>
</cp:coreProperties>
</file>