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6E77-D139-4647-8E0E-E2536FF8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71AB-55F0-486C-B2D2-5EB9E400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2218-C85E-43D0-B308-22600967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CF53-D00F-4C63-A9D4-1BB348F1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E921D-B5CF-4750-8879-C03B54F541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C91D9-5487-4FF8-A83B-CFB26AADA3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3FE56-139E-4AFC-979B-8CE87AEB5F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3D53C-F17F-481A-B08A-482381F011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B2E3E-D78F-4410-9724-F9F25961FA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F9F8A-DB9F-43BE-B91D-DA6A46285B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07962-EF02-413F-B7A0-77CFC10812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8AE-FCA2-400F-9A53-7A67718D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BF485-7848-42B5-9293-DC2E405991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AC413-3A30-40DC-970F-B09A8A34EB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F236C-D70D-405E-B55D-24304F752D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13B75-40D1-4F65-835A-594BA31CD8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FD957-C0EC-46A0-ACA9-A006E970320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8DC2-14B0-4A47-A39C-E0B63720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60E2-FB35-40C8-81F9-73ACAFDD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F34E-464F-41D2-9CD8-0D335EE4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DF7-EAE5-4675-A8CF-F55A8E20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15D9-CDF3-45D2-BFA4-3E936F9A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503D-27BF-43B4-8627-4F2740D3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2BB1-D901-4D78-8F84-34B24830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931A-EA3D-49FC-8949-F80FAF246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995640" y="6237000"/>
            <a:ext cx="388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956720" y="6453000"/>
            <a:ext cx="7300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A228-D4B2-4897-A58C-E96160944C7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6"/>
          </p:nvPr>
        </p:nvSpPr>
        <p:spPr>
          <a:xfrm>
            <a:off x="2700000" y="6165720"/>
            <a:ext cx="381636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Arial"/>
              </a:rPr>
              <a:t>High Level Mission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3885840"/>
            <a:ext cx="84247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Introducing procedures for high level advo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5084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Dr. Karam Sh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Decis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opt Guiding Principles for the conduct of High Level 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Review and decide on the HLM calendar of events for 2005 - 200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ition of High Level Mission (H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ual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ing and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lenda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IGH LEVEL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Engaging prominent partners / (CB members) to represent Stop TB i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powerful political advocacy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Uses international reputation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fluences key politicians &amp; decision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Creates sustained leverage in support of Stop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Arial"/>
              </a:rPr>
              <a:t>Guidelin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making HLM more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support of countries and international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most appropriate support to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ing the most appropriate STB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ding timely to importan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ing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frame work for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Composi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 is based on the actual purpose of the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d of mission (HoM) is selected by CB on basis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ituency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level partnership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B Partnership Secretariat senior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epa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and HoM draft 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dorsement 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review preferably prior to H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prepares form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prepares confidenti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makes logistics arran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ctual vis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d of Mission (HoM) assures quality performance and best expo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ve attitude and diplomatic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ructive image of S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igned tasks for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M is HLM spokes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is HLM rappor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Reporting and follow-up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7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 re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 consensus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conclusions &amp;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ed-back to constitu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mitted to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ner(s) can be invited to provide follow-u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4818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LM Calendar 2005 -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620640"/>
          <a:ext cx="7559640" cy="5981760"/>
        </p:xfrm>
        <a:graphic>
          <a:graphicData uri="http://schemas.openxmlformats.org/drawingml/2006/table">
            <a:tbl>
              <a:tblPr/>
              <a:tblGrid>
                <a:gridCol w="3816360"/>
                <a:gridCol w="1942920"/>
                <a:gridCol w="18003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/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op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 Summit Kharto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East Asi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glad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ern Pacific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ra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zah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dvi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Commi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s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(PEPFAR, Congress, USAI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z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3:59:03Z</dcterms:created>
  <dc:creator>steenbergeng</dc:creator>
  <dc:description/>
  <dc:language>en-US</dc:language>
  <cp:lastModifiedBy>bakerl</cp:lastModifiedBy>
  <dcterms:modified xsi:type="dcterms:W3CDTF">2005-04-27T11:03:42Z</dcterms:modified>
  <cp:revision>3</cp:revision>
  <dc:subject/>
  <dc:title>High Level Missions</dc:title>
</cp:coreProperties>
</file>