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3A5A8-6D0A-4510-8F80-B9B9271F7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4CA95-D7D8-4EFF-8717-1FE6F8876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96071-8DC1-4737-8276-B976FC7BA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409B5-B4B9-4A54-B46B-0BA11FCE6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29B22-3C6F-49E2-BFA1-0A8100824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3547B-E5F0-4887-A0D0-0D2A53F24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C6081-CF0D-4839-A6A1-06C977780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D1E3F-C87A-43C9-B291-D306A5902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1435F-DDEF-48F8-A666-13186FBFE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4402080" cy="62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24785-0C4D-41C5-88E7-90F1F1312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ED876-362C-49DB-A76C-2B190815A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600AF-BA32-403E-BC15-B6F0A9407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3AF53-1045-4D45-8A52-912C00DE0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7054C-74EE-4712-8A64-4896B941A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C56B5-ABB9-4712-837B-D659FC72C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F0398-BB25-4133-9ED3-BE8C340F9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3BAA5-AAFF-4CDD-B607-59BD7AAF0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6174A-B12E-4E56-B4D9-A4359E05F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57185-2BDB-4714-B8DD-EB959E462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020CD-8F1B-4042-A2F6-4E7478C7A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4402080" cy="62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F72F7-BD72-40B9-B117-45E6C159D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A07A5-5D67-467D-94F6-524ABB536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AFE22-6FC4-44FF-80B7-36DDFFAB8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19C04-8EA3-49FE-BB96-E10248F08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1440" y="144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52E05-F635-4DC6-B0B5-3C6BB31C09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52CF3-AC64-4880-9C61-E2D98B48FE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lang="en-GB" sz="3200" spc="-1" strike="noStrike">
                <a:solidFill>
                  <a:srgbClr val="ffffcc"/>
                </a:solidFill>
                <a:latin typeface="Arial"/>
              </a:rPr>
              <a:t>Engaging World Leader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1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Jaap Broekma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top TB Coordinating Boar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ddis Abab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3rd May 200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SimSun"/>
              </a:rPr>
              <a:t>A strategy for engagement with Heads of State and World Leaders was a recommendation of the Beijing Coordinating Board Meeting in October 200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he Approa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SimSun"/>
              </a:rPr>
              <a:t>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SimSun"/>
              </a:rPr>
              <a:t>o create TB champions among leading figures – but to go beyond Heads of St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ndela: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“we can not fight HIV/AIDS without also                                    fighting TB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wo core group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igh burden countries - with special emphasis on Afric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nor/potential donor count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7238880" y="2514600"/>
            <a:ext cx="1501920" cy="18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rategic 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need to strengthen TB control activities in target countries to enable TB to maintain momentum and achieve the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llennium Development Goal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need for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und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to support TB control from the international development community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need for a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upportive political environment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450072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Arial"/>
              </a:rPr>
              <a:t>MDG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untries see achieving TB control goals as part of their wider economic development agend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Identify and inform nodal leaders and opportunities to access th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u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inancing for TB Control needs to be sustainable with sufficient funds available for Technical Assistance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orld Health Assembly: Resolution on Sustainable Financing for TB control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igh Awareness of Global Plan 2006-20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ew inter-ministerial conferenc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23600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olitical Environ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B friendly influential leaders (politicians, sports and entertainment stars etc) provide the framework to support our advocacy wo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Direct and indirect channels to reach influential leaders: WB, EU, Wise men (Sachs, Sen etc), social experts, celebrities (including Stop TB Ambassadors), UN family (WHO, UNDP et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dentify core groups of countries and leaders we MUST reach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SimSun"/>
              </a:rPr>
              <a:t>Identify opportunities to access key political and other lead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African Commission, CHOGM, APEC, UNGASS, EU summit, G8, G77, WEF, World Social Foru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rategic Planning to raise the profile of Global Plan 2006-20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Tactical 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Princip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ny champ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Joined-up strate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lear message (full need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mpli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3T15:56:53Z</dcterms:created>
  <dc:creator>Robert Hernandez</dc:creator>
  <dc:description/>
  <dc:language>en-US</dc:language>
  <cp:lastModifiedBy>johnsoneb</cp:lastModifiedBy>
  <dcterms:modified xsi:type="dcterms:W3CDTF">2005-05-03T09:24:50Z</dcterms:modified>
  <cp:revision>39</cp:revision>
  <dc:subject/>
  <dc:title>Slide 1</dc:title>
</cp:coreProperties>
</file>