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D97A-C4BB-4787-9CF1-0EDCF13A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DBF4-FF16-48CE-8593-2530A35D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55AD-6B2A-46B4-B47D-EAFECA9B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24A-B560-4B13-A8D5-AC96A8C0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AEDB-B2CE-4D19-AE64-472742FE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CF2B-5EEE-4DAE-B307-032C09AE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5D32-6E3B-46F0-A819-3109F2A1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7417-499A-4990-82D7-E89DAC01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4B4D-4F65-4289-80E3-07821073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8570-85AE-413A-8DE8-60ED0973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C4C2-4A0B-4759-A38A-BA48FC1D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B7E2-749C-4F72-A1DC-28C01862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28DA-24EE-4A4F-942A-D1E438B5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4AB2-331D-4257-922F-F45F4C41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C68A-25C7-4C59-BB52-588EA558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67CB-234B-42FD-8CC6-69BBCE85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DB69-508E-40A3-B688-745D488A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4F9-4058-400E-8AA3-8B79E4DF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E4C-6798-49EC-A039-FA45545C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EC03-FE70-41E1-9FD6-95961DC8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2313-F2E4-49F3-B7E4-7229ADDD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945F-B2A8-40F2-BFF1-24CE8D1F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D96E-AE9E-4FB5-B65A-A3CD8AE4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8CC0-7F2E-482A-8B0D-DCF7780A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21C0-6A95-40C7-81BC-CAF1631D0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0304-21C4-4B58-9518-D7B4F45E4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World Lea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A strategy for engagement with Heads of State and World Leaders was a recommendation of the Beijing Coordinating Board Meeting in October 200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o create TB champions among leading figures – but to go beyond Heads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dela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“we can not fight HIV/AIDS without also                                    fighting T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core group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burden countries - with special emphasis o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or/potential dono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38880" y="2514600"/>
            <a:ext cx="15019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to strengthen TB control activities in target countries to enable TB to maintain momentum and achieve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llennium Development Go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n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support TB control from the international development commun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ive political environ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00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D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ries see achieving TB control goals as part of their wider economic development agen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Identify and inform nodal leaders and opportunities to access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ng for TB Control needs to be sustainable with sufficient funds available for Technical Assista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 Health Assembly: Resolution on Sustainable Financing for TB contr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Awareness of Global Plan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inter-ministerial co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6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lit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friendly influential leaders (politicians, sports and entertainment stars etc) provide the framework to support our advocacy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rect and indirect channels to reach influential leaders: WB, EU, Wise men (Sachs, Sen etc), social experts, celebrities (including Stop TB Ambassadors), UN family (WHO, UNDP et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core groups of countries and leaders we MUST r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opportunities to access key political and other le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frican Commission, CHOGM, APEC, UNGASS, EU summit, G8, G77, WEF, World Social For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ic Planning to raise the profile of Global Plan 2006-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actical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champ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ed-up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 message (full nee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johnsoneb</cp:lastModifiedBy>
  <dcterms:modified xsi:type="dcterms:W3CDTF">2005-05-03T09:24:50Z</dcterms:modified>
  <cp:revision>39</cp:revision>
  <dc:subject/>
  <dc:title>Slide 1</dc:title>
</cp:coreProperties>
</file>