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9FCC32-956B-48BB-A027-EA871615F56B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adecer a ban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3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-  UF com os maiores percentuais de coinfecção TB/HIV – RS (18,9), SC (18,1), SP (13,3) e PR (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Rio de Janeiro apresentou o pior desempenho com 41,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FC5B-3A2C-4C10-90C9-E42DBE54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2CC-4FEA-48E5-B182-06D24AFA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EA14-E707-48F5-8EEA-53EA2D60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9E0-81A3-4041-8071-238B0F243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571-8A5A-4A62-B93E-0B707777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F9B-7762-4DBB-A27D-14D41719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492-73BE-4FCC-B018-6FC40B70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D0E7-6777-49AA-A80B-F5E35469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F63C-FEBA-4B2B-96B0-D6498BE8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6CF-BD67-44F6-B938-3387FBF4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2920-463B-4F40-94E4-8938390C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1ED-DFD8-4B30-A42E-4FAE590D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6AE9-AB8C-4746-9AC3-03540A553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8000" y="4653000"/>
            <a:ext cx="6985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rbas Barbosa da Silva Jú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tário de Vigilância em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stério da Saú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05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rial"/>
              </a:rPr>
              <a:t>Stop TB in Braz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81440" y="270000"/>
            <a:ext cx="60116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Stop Tb Nation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6400800"/>
            <a:ext cx="5410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5360" y="1197000"/>
            <a:ext cx="849636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/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 members – NGOs, academic institutions, churches representatives, donor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retariat – 8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ship  - National Council of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0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052640"/>
            <a:ext cx="856908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Nº. de casos e taxa de incidência – Todas as formas e BK+,  Brasil 1994 a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828720" y="1774800"/>
          <a:ext cx="7630920" cy="4894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8720" y="1774800"/>
                    <a:ext cx="76309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1938240"/>
            <a:ext cx="6913440" cy="4659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ubercul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197000"/>
            <a:ext cx="583380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idência de TB todas as formas – Brasil por UF -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6453360"/>
            <a:ext cx="57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Municípios prioritá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56000" y="5013360"/>
            <a:ext cx="1800360" cy="1546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1628640"/>
            <a:ext cx="129708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0360" y="2219400"/>
            <a:ext cx="2952720" cy="32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5 municípios são prioritários para o PN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 2004 foram registrados 80.557 casos novos de TB com incidência de 43,3/100 mil h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1280" y="1484280"/>
            <a:ext cx="813744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érie Histórica Taxa de Mortalidade por Tuberculose segundo sexo. Brasil 1992 a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1360" y="2381400"/>
          <a:ext cx="8705880" cy="4095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1360" y="2381400"/>
                    <a:ext cx="87058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233360" y="3247920"/>
          <a:ext cx="2486160" cy="122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3360" y="3247920"/>
                    <a:ext cx="24861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004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040" y="762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3796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046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44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4920" y="359424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79360" y="1447920"/>
            <a:ext cx="81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8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448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404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85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37760" y="1581120"/>
            <a:ext cx="5868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4724280"/>
            <a:ext cx="48006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8596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1464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6400800"/>
            <a:ext cx="15238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VS/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1484280"/>
            <a:ext cx="8136000" cy="88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anual – Percentual de Co-infecção TB HIV – Brasil 2001-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187280" y="2781360"/>
          <a:ext cx="6912000" cy="2950920"/>
        </p:xfrm>
        <a:graphic>
          <a:graphicData uri="http://schemas.openxmlformats.org/drawingml/2006/table">
            <a:tbl>
              <a:tblPr/>
              <a:tblGrid>
                <a:gridCol w="2376360"/>
                <a:gridCol w="2519640"/>
                <a:gridCol w="20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. de 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6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04300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7640"/>
            <a:ext cx="2514600" cy="603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57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0" name=""/>
          <p:cNvGraphicFramePr/>
          <p:nvPr/>
        </p:nvGraphicFramePr>
        <p:xfrm>
          <a:off x="468360" y="1468440"/>
          <a:ext cx="7621560" cy="512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468440"/>
                    <a:ext cx="7621560" cy="51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116000" y="1197000"/>
            <a:ext cx="7128000" cy="88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tribuição de casos de TBMR - Brasil  e distribuição percentual segundo UF  - ( 2000 - 200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292720" y="2416320"/>
          <a:ext cx="3240000" cy="2452680"/>
        </p:xfrm>
        <a:graphic>
          <a:graphicData uri="http://schemas.openxmlformats.org/drawingml/2006/table">
            <a:tbl>
              <a:tblPr/>
              <a:tblGrid>
                <a:gridCol w="1099800"/>
                <a:gridCol w="2140200"/>
              </a:tblGrid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s TB M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613404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te: SINAN-TB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Dados até 05/10/2005, sujeitos à revisã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76280" y="1174680"/>
          <a:ext cx="8325000" cy="499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1174680"/>
                    <a:ext cx="8325000" cy="49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68360" y="135900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tuação de Encerramento dos Casos com Início de Tratamento em 2004 (coorte 2005)  Brasil por UF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73512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39640" y="1152360"/>
          <a:ext cx="8516880" cy="508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52360"/>
                    <a:ext cx="8516880" cy="50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Tendência temporal da incidência de tuberculose em indígenas.</a:t>
            </a:r>
            <a:br>
              <a:rPr sz="2000"/>
            </a:br>
            <a:r>
              <a:rPr b="0" lang="pt-BR" sz="2000" spc="-1" strike="noStrike">
                <a:solidFill>
                  <a:srgbClr val="333399"/>
                </a:solidFill>
                <a:latin typeface="Arial"/>
              </a:rPr>
              <a:t> Brasil, 2000/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905120"/>
            <a:ext cx="4108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Queda anual média - todas as forma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5,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                                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- bacilíferos = </a:t>
            </a:r>
            <a:r>
              <a:rPr b="1" lang="pt-BR" sz="1400" spc="-1" strike="noStrike">
                <a:solidFill>
                  <a:srgbClr val="9c0000"/>
                </a:solidFill>
                <a:latin typeface="Arial"/>
              </a:rPr>
              <a:t>17,3%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1960" y="6373800"/>
            <a:ext cx="29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DESAI/FUNASA – CGDEN/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85760" y="44280"/>
            <a:ext cx="2514600" cy="603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0" y="0"/>
            <a:ext cx="7451640" cy="6858000"/>
            <a:chOff x="0" y="0"/>
            <a:chExt cx="7451640" cy="6858000"/>
          </a:xfrm>
        </p:grpSpPr>
        <p:sp>
          <p:nvSpPr>
            <p:cNvPr id="183" name=""/>
            <p:cNvSpPr/>
            <p:nvPr/>
          </p:nvSpPr>
          <p:spPr>
            <a:xfrm>
              <a:off x="0" y="762120"/>
              <a:ext cx="152280" cy="6095880"/>
            </a:xfrm>
            <a:prstGeom prst="rect">
              <a:avLst/>
            </a:prstGeom>
            <a:gradFill rotWithShape="0">
              <a:gsLst>
                <a:gs pos="0">
                  <a:srgbClr val="9c0000"/>
                </a:gs>
                <a:gs pos="100000">
                  <a:srgbClr val="ff0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6440" y="6705720"/>
              <a:ext cx="731520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0"/>
              <a:ext cx="152280" cy="762120"/>
            </a:xfrm>
            <a:prstGeom prst="rect">
              <a:avLst/>
            </a:prstGeom>
            <a:solidFill>
              <a:srgbClr val="5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04920" y="76320"/>
            <a:ext cx="2514600" cy="603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85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81440" y="404640"/>
            <a:ext cx="601164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ubercul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860640"/>
            <a:ext cx="9144000" cy="1944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6165720"/>
            <a:ext cx="84978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de Municípios Prioritários - 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5280" y="2754360"/>
          <a:ext cx="8424720" cy="1322280"/>
        </p:xfrm>
        <a:graphic>
          <a:graphicData uri="http://schemas.openxmlformats.org/drawingml/2006/table">
            <a:tbl>
              <a:tblPr/>
              <a:tblGrid>
                <a:gridCol w="4174920"/>
                <a:gridCol w="424980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Brasil – 2º Trimest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 Unid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bertura PCT/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6 Unidades – 73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250920" y="1484280"/>
            <a:ext cx="874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bertura Tratamento Supervisionado – Unidades de Saúde com Tratamento Supervisionado – Municípios prioritários – 1º semestre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45:16Z</dcterms:created>
  <dc:creator>Walter</dc:creator>
  <dc:description/>
  <dc:language>en-US</dc:language>
  <cp:lastModifiedBy>DATASUS</cp:lastModifiedBy>
  <dcterms:modified xsi:type="dcterms:W3CDTF">2005-11-10T16:07:44Z</dcterms:modified>
  <cp:revision>246</cp:revision>
  <dc:subject/>
  <dc:title>Slide 1</dc:title>
</cp:coreProperties>
</file>