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F81-E566-49B8-A9B7-62D7CA3A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60C-1433-4340-B2AD-32EECF6D8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FFC9-905F-4BF5-A4D8-260B6424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1E8-6F79-49A7-811C-13DD1CA1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D46-C3E1-4A75-BFDC-ACEEFB1E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91A8-9901-40BC-9933-1EF7A028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5C9-F7A7-4A19-BF74-AA74A0CB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CDC9-6431-4D65-AFDD-44DEEFF3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633-2E54-4F9F-A7F1-1018A6A1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55D2-E6C5-4274-BAE2-4308044C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B956-87EB-4DF8-BF0D-C8E2AC7A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C9B8-B0D4-4A8E-945B-C6E5FFB3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C314-8DA8-4FC2-BEED-791FD4C62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42560" y="4339800"/>
            <a:ext cx="691380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sk Force conven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trategic and Technical Advisory Group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ST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op Tuberculosis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easuring Progress Toward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Millennium Development Goal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for TB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4 Questions for Stop TB </a:t>
            </a:r>
            <a:br>
              <a:rPr sz="4400"/>
            </a:b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ordinating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3760" y="2349000"/>
            <a:ext cx="8580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Value of the proces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ope of the process (e.g. add financial monitoring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-year consultation or 10-year collabo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urces of fun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899640" y="3284640"/>
            <a:ext cx="7201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 a costed plan to measure progress towards the </a:t>
            </a:r>
            <a:r>
              <a:rPr b="1" lang="en-GB" sz="3600" spc="-1" strike="noStrike">
                <a:solidFill>
                  <a:srgbClr val="008000"/>
                </a:solidFill>
                <a:latin typeface="Arial"/>
              </a:rPr>
              <a:t>Millennium Development Goals </a:t>
            </a: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for TB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000" y="1051920"/>
            <a:ext cx="848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ON MEASUR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COPE AND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5 targets for global TB control</a:t>
            </a:r>
            <a:br>
              <a:rPr sz="4000"/>
            </a:br>
            <a:r>
              <a:rPr b="1" lang="en-GB" sz="3700" spc="-1" strike="noStrike">
                <a:solidFill>
                  <a:srgbClr val="cc0000"/>
                </a:solidFill>
                <a:latin typeface="Arial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cc00"/>
                </a:solidFill>
                <a:latin typeface="Arial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663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lementation (DO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70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Arial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Arial"/>
              </a:rPr>
              <a:t>Indicator 23 (target year 2015 cf 1990)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Prevalence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50% of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≈ 30/10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(&lt; 1m death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KEY DATES FOR THE TASK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60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 questions, 28 October 2005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mission of answers to WHO (all recei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B CB, 10-11 November 2005, Ass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process and approximate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G, June 2006, Geneva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 costed plan for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rt consultation (WHO, NGOs, MoH, donor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cussion paper (WHO H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 key questions about measur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B CB Assisi for advic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ue, scope and future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mplementation of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urces of f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 drafted by a core writing committee based 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opin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ults of parallel research (e.g. inventory of surveys, review of costs, appraisal of survey method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mmendations to STAG in June 2006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rveillance and survey methods 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surveys should be d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s of measurement, funding 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TASK FORCE MEMBERSHIP </a:t>
            </a:r>
            <a:br>
              <a:rPr sz="4000"/>
            </a:b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September 200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381636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HO (HQ + 6R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Metric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ates Found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DC U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uro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AT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UAT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88000" y="2205000"/>
            <a:ext cx="3816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panese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NC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orean Inst T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C Chenn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dividu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Suggestions for other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6908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10 CONTROVERSIAL QUESTIONS FOR THE TASK FORCE 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itoring of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ing incidence, prevalence, dea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sease prevalence surve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uberculin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outine surveillance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ertification that targets have been m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technology, new analytical methods and measurement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uidelines on measur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Resources need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40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COSTS 2006-15</a:t>
            </a:r>
            <a:br>
              <a:rPr sz="44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round numbers – to be refin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34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prevalence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2 tuberculin survey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 investigations of 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rveillance system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$2m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Total cost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$2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Urgent need: project manager (WHO Gene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1:08:01Z</dcterms:created>
  <dc:creator>dye</dc:creator>
  <dc:description/>
  <dc:language>en-US</dc:language>
  <cp:lastModifiedBy>bakerl</cp:lastModifiedBy>
  <dcterms:modified xsi:type="dcterms:W3CDTF">2005-11-02T12:21:34Z</dcterms:modified>
  <cp:revision>37</cp:revision>
  <dc:subject/>
  <dc:title>Measuring Progress Towards the  Millennium Development Goals for TB Contr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96865495</vt:r8>
  </property>
  <property fmtid="{D5CDD505-2E9C-101B-9397-08002B2CF9AE}" pid="3" name="_AuthorEmail">
    <vt:lpwstr>dyec@who.int</vt:lpwstr>
  </property>
  <property fmtid="{D5CDD505-2E9C-101B-9397-08002B2CF9AE}" pid="4" name="_AuthorEmailDisplayName">
    <vt:lpwstr>Dye, Christopher</vt:lpwstr>
  </property>
  <property fmtid="{D5CDD505-2E9C-101B-9397-08002B2CF9AE}" pid="5" name="_EmailSubject">
    <vt:lpwstr>Martien Borgdorff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