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DB30D-3177-44C6-A78B-465C94206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9C639-B279-4381-8743-5A4F42A2B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67E91-1268-4594-977D-7CA1BCAAF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18CC0-6C89-471F-88D5-2170CBF9D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E5F1F-3D49-4114-A00B-78BA6A88E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152D0-D8F4-48DB-A0C1-4E39754FC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70546-822E-458E-8D26-98DE2B391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2A92E-34A3-4B93-8923-ED75830C0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56745-67F4-4C44-8982-A6C5A82AD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227A5-4E0A-4A7F-910E-88DE9B5C6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ECDD8-66E8-4FB0-8C96-941C11ACD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3EB19-E482-4E5C-B1DE-7FE4929B0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3970F-180A-4C3B-B63E-90936E2D9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9E7DB-328C-449F-BFB7-DB8D5EEDC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B74EB-9C6B-4B2A-9D47-D858A2A6C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29CE0-C1BB-49FD-917C-926808C3A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F914C-EBD4-4D93-AB57-07618D63A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8CA63-8773-4A05-9EAE-ED0F6EF92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4B468-1CA8-4FCD-88A4-32B26CCAA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121C3-DAED-4FC5-8DC4-6EF5552C0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B0250-EE30-4DE5-B4CE-5E371EC34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5C10B-B63E-4B0F-8EB9-D7F4674BE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18F21-16B9-47C2-AB57-F6AB9E55C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C839C-0C83-43CE-834F-760D69004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760C3-CAED-408B-980C-DFA1E09A770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3866F-2A6D-46B8-87E2-ACBB5EB1239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052280"/>
            <a:ext cx="86407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Garamond"/>
              </a:rPr>
              <a:t>UNFUNDED NEEDS 2006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32000" y="3284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3300"/>
                </a:solidFill>
                <a:latin typeface="Garamond"/>
              </a:rPr>
              <a:t>NPT-DRC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3300"/>
                </a:solidFill>
                <a:latin typeface="Garamond"/>
              </a:rPr>
              <a:t>ASSISI ITALY 10-11 Nov 05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Garamond"/>
              </a:rPr>
              <a:t>Ministère de la santé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9647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DEFICITS PAR ACTIVITES EN DETAILS (2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39640" y="1700280"/>
          <a:ext cx="8229600" cy="4824000"/>
        </p:xfrm>
        <a:graphic>
          <a:graphicData uri="http://schemas.openxmlformats.org/drawingml/2006/table">
            <a:tbl>
              <a:tblPr/>
              <a:tblGrid>
                <a:gridCol w="6264360"/>
                <a:gridCol w="1965240"/>
              </a:tblGrid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atiments, équipements (véhicules, labo/bureau, etc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48 9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Équipement des bureaux (cplt et unité central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28 9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réhabilitations dépôt médicament cplt (22 CPLT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22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Réhabilitation CDV de quelques Csdt (100 CSDT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500 000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utres lignes budgétaires tbc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08 64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Transport  médicaments à l’intérieur du pays, et carburan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62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Form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140 000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Supports d'inform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48 64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DEFICITS COMPLEMETAIRES AU BUDGET 2006 en $usa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68360" y="1989000"/>
          <a:ext cx="8218080" cy="3670920"/>
        </p:xfrm>
        <a:graphic>
          <a:graphicData uri="http://schemas.openxmlformats.org/drawingml/2006/table">
            <a:tbl>
              <a:tblPr/>
              <a:tblGrid>
                <a:gridCol w="6313680"/>
                <a:gridCol w="1904400"/>
              </a:tblGrid>
              <a:tr h="161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ûts des ARV pour 2006</a:t>
                      </a: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(soumis dans la composante </a:t>
                      </a: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"</a:t>
                      </a:r>
                      <a:r>
                        <a:rPr b="1" lang="fr-FR" sz="18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Vih-Sida ;</a:t>
                      </a: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n'a pas été acceptée par le </a:t>
                      </a:r>
                      <a:r>
                        <a:rPr b="1" lang="fr-FR" sz="18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Fond mondial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319 1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5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upplément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alaire du personnel de la périphérie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pour 2006 (soumis dans la composante 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"</a:t>
                      </a: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appui aux structures des soins",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n'a pas été acceptée par le Fond mondial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Garamond"/>
              </a:rPr>
              <a:t>RDC: GENERALITES / DRC: OVERVIE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314360"/>
            <a:ext cx="449568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Garamond"/>
              </a:rPr>
              <a:t>SUPERFICIE/SIZE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2.345.000 km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Garamond"/>
              </a:rPr>
              <a:t>POPULATION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: 58.000.0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&lt; 20 ans: 57 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Garamond"/>
              </a:rPr>
              <a:t>PIB/GDP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en $ 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358 (’58), 100 (’85), 74 (‘0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Garamond"/>
              </a:rPr>
              <a:t>IDH/HDI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: 0,3655 (‘04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Garamond"/>
              </a:rPr>
              <a:t>EMPLOI/EMPLOYMENT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26 % (‘98)  7 % (‘0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Garamond"/>
              </a:rPr>
              <a:t>REVENUS/INCOME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0,30 $ us/J 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Garamond"/>
              </a:rPr>
              <a:t>MALNUTR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10 % (‘95)  16 % (’0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518000" y="1295280"/>
            <a:ext cx="4626000" cy="49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2779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ORGANIZATION DE LA SANTE / HEALTH SYSTEM ORGANIZ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9280" y="1600200"/>
            <a:ext cx="4773600" cy="50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Budget annuel santé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/ </a:t>
            </a: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Annual health budget: </a:t>
            </a:r>
            <a:r>
              <a:rPr b="1" lang="fr-FR" sz="2400" spc="-1" strike="noStrike">
                <a:solidFill>
                  <a:srgbClr val="ffffff"/>
                </a:solidFill>
                <a:latin typeface="Garamond"/>
              </a:rPr>
              <a:t>&lt; de 2% de 1000.000.000 $ U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Politique de santé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: soins de santé primaires/ </a:t>
            </a: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Health policy: primary health c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515 zones de santé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: 1/2 non fonctionnel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515 health zones: 1/2 non-funct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Garamond"/>
              </a:rPr>
              <a:t>11 provinces, 20 CPLT, 991 CSDT (75% po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i="1" lang="en-US" sz="2400" spc="-1" strike="noStrike">
                <a:solidFill>
                  <a:srgbClr val="ffffff"/>
                </a:solidFill>
                <a:latin typeface="Garamond"/>
              </a:rPr>
              <a:t>11 provinces, 20 CPLT, 991 TTC (75% po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788000" y="1700280"/>
          <a:ext cx="4356000" cy="489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8000" y="1700280"/>
                    <a:ext cx="4356000" cy="48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e5e5ff"/>
                </a:solidFill>
                <a:latin typeface="Garamond"/>
              </a:rPr>
              <a:t>Five years plan budget 2006-201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Garamond"/>
              </a:rPr>
              <a:t>TOTAL: 112.565.788 US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Garamond"/>
              </a:rPr>
              <a:t>Received from GF: 36 M out of 43 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Garamond"/>
              </a:rPr>
              <a:t>Year 1 needs: 25 M and 5 M unfundeed pl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Garamond"/>
              </a:rPr>
              <a:t>3.319.123 USD for 41.000 coinfected patients ARV nee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Garamond"/>
              </a:rPr>
              <a:t>1.000.000 USD for the support of basic health care system (personnel motivation…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8000" y="122400"/>
            <a:ext cx="8856720" cy="6546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216000" y="216000"/>
          <a:ext cx="9144000" cy="6807240"/>
        </p:xfrm>
        <a:graphic>
          <a:graphicData uri="http://schemas.openxmlformats.org/drawingml/2006/table">
            <a:tbl>
              <a:tblPr/>
              <a:tblGrid>
                <a:gridCol w="2916000"/>
                <a:gridCol w="622800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000" spc="-1" strike="noStrike">
                          <a:solidFill>
                            <a:srgbClr val="ffff00"/>
                          </a:solidFill>
                          <a:latin typeface="Century Gothic"/>
                        </a:rPr>
                        <a:t>PARTENAIRES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000" spc="-1" strike="noStrike">
                          <a:solidFill>
                            <a:srgbClr val="ffff00"/>
                          </a:solidFill>
                          <a:latin typeface="Century Gothic"/>
                        </a:rPr>
                        <a:t>TYPE DE PARTENARIAT 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(list institution)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. GLOBAL FUND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Bailleur du PNT (Unit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é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Centrale et CPLT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2. USAID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Bailleur Unit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é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Centrale &amp; CPLT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: KOC, KOR, EQN, POE, MANIEMA, SANKURU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3. GDF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pprovisionnement en m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é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dicaments (2/3 des besoins)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4. CDC-ATLA. (UNC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RECHERCHE OPERATIONNEL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5. UICTM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ppui technique au PNT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6. OMS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ppui technique au PNT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7. LNAC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ppui technique au PNT (MOSO) et 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à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2 CPLT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: KOC, KOR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8. Fondation Damien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ppui int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é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gral (fonds et technique) 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à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10 CPLT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9. TLMI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ppui int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é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gral (fonds et technique) 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à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7 CPLT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0. ALM, FOPERDA, UBS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Appui int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é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gral (fonds et technique) 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à</a:t>
                      </a:r>
                      <a:r>
                        <a:rPr b="1" lang="fr-FR" sz="2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3 CPLT 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>
            <a:off x="95400" y="6464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8000" y="274680"/>
            <a:ext cx="90360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BUDGET ANNONCE PAR PARTENAIRES POUR 2006 en $USA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250920" y="1197000"/>
          <a:ext cx="8640720" cy="5322960"/>
        </p:xfrm>
        <a:graphic>
          <a:graphicData uri="http://schemas.openxmlformats.org/drawingml/2006/table">
            <a:tbl>
              <a:tblPr/>
              <a:tblGrid>
                <a:gridCol w="2808360"/>
                <a:gridCol w="1023840"/>
                <a:gridCol w="1000080"/>
                <a:gridCol w="330480"/>
                <a:gridCol w="669960"/>
                <a:gridCol w="922320"/>
                <a:gridCol w="877680"/>
                <a:gridCol w="1008000"/>
              </a:tblGrid>
              <a:tr h="11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TIVITES OU RUBRIQUES DE DEPENS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udget 200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ouverneme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ê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FATM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rtenair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 mobiliser (c+d+e+f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ster à mobiliser pour 200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édicaments anti-tb 1ère lig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 777 38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708 03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69 34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 777 38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édicaments anti-tb 2ème lig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452 94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5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002 94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0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452 94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sonnel travaillant exclusivement TB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 549 47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5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699 47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949 47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0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itiatives pour accroître la détection et la guéris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 667 49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 40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80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 20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467 49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tivités de collaboration TB/VI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123 75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29 0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0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859 0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264 73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âtiments, équipements (véhicules, labo/bureau, etc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996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201 1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796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047 1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48 9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utres lignes budgétaires t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 758 64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65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835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 85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08 64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5 325 69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030 0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8 206 1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 899 8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 135 91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 189 77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DEFICIT BUDGETAIRE PAR RUBRIQUES DE DEPENSE 2006 en $Usa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57200" y="1600200"/>
          <a:ext cx="8435880" cy="4987800"/>
        </p:xfrm>
        <a:graphic>
          <a:graphicData uri="http://schemas.openxmlformats.org/drawingml/2006/table">
            <a:tbl>
              <a:tblPr/>
              <a:tblGrid>
                <a:gridCol w="6059520"/>
                <a:gridCol w="2376360"/>
              </a:tblGrid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édicaments anti-tb 1ère lig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édicaments anti-tb 2ème lig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sonnel travaillant exclusivement TB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00 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itiatives pour accroître la détection et la guéris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467 49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tivités de collaboration TB/VI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264 73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atiments, équipements (véhicules, labo/bureau, etc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48 9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utres lignes budgétaires tbc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08 64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 189 77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8964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DEFICITS PAR ACTIVITES EN DETAILS (1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250920" y="1413000"/>
          <a:ext cx="8893080" cy="5360760"/>
        </p:xfrm>
        <a:graphic>
          <a:graphicData uri="http://schemas.openxmlformats.org/drawingml/2006/table">
            <a:tbl>
              <a:tblPr/>
              <a:tblGrid>
                <a:gridCol w="6708600"/>
                <a:gridCol w="21844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sonnel travaillant exclusivement TBC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0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Niveau nation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20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Niveau intermédiaire CPL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40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itiatives pour accroître la détection et la guéris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467 49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Incitatives et motivations pour fournisseurs des soins membres de la communauté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480 99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Primes du personnel supplémentaires aux csd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986 5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ctivités de collaboration TB/VI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 264 73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Primes partiels médecins cpl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24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Primes Infirmiers cplt des grands  CSDT avec CDV (&gt; de 200 nc tb /an)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500 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Former et recycler les prestataires des soins (médecins, laborantins, infirmiers) pour la prise e charge de la coinfec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473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7T12:53:50Z</dcterms:created>
  <dc:creator>Etienne Bahati </dc:creator>
  <dc:description/>
  <dc:language>en-US</dc:language>
  <cp:lastModifiedBy>SG</cp:lastModifiedBy>
  <dcterms:modified xsi:type="dcterms:W3CDTF">2005-11-10T06:27:56Z</dcterms:modified>
  <cp:revision>13</cp:revision>
  <dc:subject/>
  <dc:title>DEFICIT BUDGETAIRE 2006</dc:title>
</cp:coreProperties>
</file>