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BD57-CA90-4499-B8A6-15327C1CF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22 HBC, we have identified the main technical collaborator and the other key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8FE4-1B65-426A-B4EE-D773DEEB2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065-0066-4F0B-A75C-6545D4B7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E0A8-226D-4255-B836-15484891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541-5FFC-4E12-A624-9C987AF87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1809-A0F9-4577-A3EA-A52984EF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7BF9-F888-4D04-AC38-C4785693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E967-7685-42A9-83EA-8DA29C38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F92-902D-4BEE-9A42-EB594E9C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103-C86F-40D0-BAC8-2F3BE627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CBC-8680-4958-AB7D-AA0298B62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8D3-9031-4C27-A2BC-BBBA183C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6C53-3A6C-4FBD-BE0F-E2496C2E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3225-18AD-42FB-8409-894FC5F85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uilding a partners flagship mechanism to support countries </a:t>
            </a:r>
            <a:r>
              <a:rPr b="1" lang="en-GB" sz="3200" spc="-1" strike="noStrike">
                <a:solidFill>
                  <a:srgbClr val="cc0000"/>
                </a:solidFill>
                <a:latin typeface="Arial"/>
              </a:rPr>
              <a:t>for the implementation of the GPS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How to translate money into increased capacity to control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eremiah Chaka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éopold Blan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lgosia Grzem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tional staff: include expertise in different areas, DOTS, Lab, TB/HIV, MDR, ACSM, OR etc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PO: national programme officers include expertise in different areas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ve support is key in the process for planning, monitoring and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6920"/>
            <a:ext cx="7199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9280" y="755640"/>
          <a:ext cx="8785440" cy="555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755640"/>
                    <a:ext cx="878544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Country support estimates incl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ing for activities such as global/regional training to build countries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s to monitor progresses and exchang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 external monitoring to discuss problems an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new approaches,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development, tool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cy and communication, social mob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Estimated HR needs for country sup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national staff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M&amp;E, policy development, OR etc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150 to 350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50 at global/regiona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200 in countries/sub-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PO: support beyond 22 H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80 to 52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 or more in each 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10 to 50 in large count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"</a:t>
            </a:r>
            <a:r>
              <a:rPr b="1" lang="en-GB" sz="2400" spc="-1" strike="noStrike">
                <a:solidFill>
                  <a:srgbClr val="cc3300"/>
                </a:solidFill>
                <a:latin typeface="Arial"/>
              </a:rPr>
              <a:t>coordination body for country suppo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top TB coalition for Technical Assist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s from countries/regions/partners are collected and tre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k by 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cated within secretariat of "implementation" W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e staff at country and regiona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ablish a sharing system of reports (web li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nk "strongly" with GFATM portefolio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for consultants in December 2005  (GFA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annual plan for country support which includes all aspects (TB/HIV, LAB etc..) and builds on existing partners involvement (in January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meeting of key agencies (including regional level) to discuss the global plan to support countries for the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 channelled directly to relevant organizations and through the trust fund of the Stop TB partnership secret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in more detail the needs of countries to define better number of experts or consultants to support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urgently laborator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9840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Major challenges for labora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6407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Human resources</a:t>
            </a:r>
            <a:r>
              <a:rPr b="0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availability of experts at international, regional and national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human resources at WHO Regional and Country Off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113053"/>
                </a:solidFill>
                <a:latin typeface="Arial"/>
                <a:ea typeface="굴림"/>
              </a:rPr>
              <a:t>Financi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113053"/>
                </a:solidFill>
                <a:latin typeface="Arial"/>
                <a:ea typeface="굴림"/>
              </a:rPr>
              <a:t>Limited financial resources at the international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Insufficient allocation of financial resources at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Planning and implementation</a:t>
            </a:r>
            <a:r>
              <a:rPr b="1" lang="en-US" sz="2000" spc="-1" strike="noStrike">
                <a:solidFill>
                  <a:srgbClr val="113053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49"/>
              </a:spcBef>
              <a:buClr>
                <a:srgbClr val="11305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3053"/>
                </a:solidFill>
                <a:latin typeface="Arial"/>
                <a:ea typeface="굴림"/>
              </a:rPr>
              <a:t>Suboptimal planning, implementation and monitoring of laboratory improvement plans at Regional and country lev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Suboptimal coordination among partners to ensure effective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3053"/>
                </a:solidFill>
                <a:latin typeface="Arial"/>
                <a:ea typeface="굴림"/>
              </a:rPr>
              <a:t>Raise awareness of the crucial role of labora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Proposal from the SLCS 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ub-gro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the subgroup the status of a Working Group on Laboratory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1305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Provide sufficient financial resources to start implementing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305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This undertaking will ensure continues leadership, coordin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and guidance to accelerate expansion of laboratory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3053"/>
                </a:solidFill>
                <a:latin typeface="Arial"/>
              </a:rPr>
              <a:t>including access to culture and D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0000"/>
                </a:solidFill>
                <a:latin typeface="Arial"/>
              </a:rPr>
              <a:t>Immediate needs to start scaling up laboratory capacity 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9636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tandardization of documents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Assessment of laboratory networks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upport to countr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Support to Regions and Countries in 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Tra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Monitoring and eval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Meet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Technical Assistance and Coordination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2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Support to the Supranational Reference Laboratory Networ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5700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Request to the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guidance on the Stop TB coalition for 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nts and decision on the request fo the SL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 in the Global DOTS Expansion Plan 2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5 year National strategic plan based on country needs and on National Health Develop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1 year National operational plan based on the strategic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CC convened by the NTP to support th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technical agency supporting the country on strategic and technical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-360360" y="1484280"/>
          <a:ext cx="7229520" cy="48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0360" y="1484280"/>
                    <a:ext cx="722952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425160"/>
            <a:ext cx="878544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National Coordination (ICC): status in 22 HB count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720" y="1956960"/>
            <a:ext cx="82663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35000"/>
              </a:lnSpc>
              <a:spcBef>
                <a:spcPts val="5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16360" y="1666800"/>
            <a:ext cx="295092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us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GTZ, KNCV, O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H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3657600"/>
            <a:ext cx="378000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ambod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JAT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JIC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RIT, USAID,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hin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DFB,  DFID, GFATM, Japan, KNCV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hilippin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CIDA,  JICA, USAID, WB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Vietnam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NL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1773360"/>
            <a:ext cx="3348000" cy="159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ngladesh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AC, CIDA , DFB, USAID, WB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      (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DA,  DFID, DANIDA, GFATM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GLRA, USAID,  WB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ndones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B, AUSAID, CIDA, GFATM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 NL, USAID,  WB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yanma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NDP,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ailand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  CDC, GFATM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4653000"/>
            <a:ext cx="4176720" cy="20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Ethiop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FATM, GLRA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R Congo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B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eny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FHI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NLR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Mozambiqu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LRA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,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KNCV, IUAT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igeri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DFB, GLRA, KNCV, NLR, IUATLD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. Afric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I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USAID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anzania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KNCV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SWISS, WB,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Uganda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 GLRA, ICD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UAT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TLMI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Zimbabwe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o ICC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165560"/>
            <a:ext cx="2411280" cy="50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razil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DC, DFB, GLRA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UATLD, USAID,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73520" y="3124080"/>
            <a:ext cx="541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2819520"/>
            <a:ext cx="3097440" cy="79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fghan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;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MEDAIR, NOR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Pakistan*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B P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ID,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RA, ICD, IUATLD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JICA, WB,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 W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5000" y="1447920"/>
            <a:ext cx="2778120" cy="852840"/>
          </a:xfrm>
          <a:prstGeom prst="rect">
            <a:avLst/>
          </a:prstGeom>
          <a:solidFill>
            <a:srgbClr val="ffe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66cc"/>
                </a:solidFill>
                <a:latin typeface="Humanst521 Cn BT"/>
              </a:rPr>
              <a:t>-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Government leads N-I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ICC coordinates part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- WHO facilitate Gvt and partners 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	</a:t>
            </a:r>
            <a:r>
              <a:rPr b="1" lang="en-GB" sz="1400" spc="-1" strike="noStrike">
                <a:solidFill>
                  <a:srgbClr val="3366cc"/>
                </a:solidFill>
                <a:latin typeface="Arial"/>
              </a:rPr>
              <a:t>eff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0400" y="6346800"/>
            <a:ext cx="24116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 </a:t>
            </a: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WHO office in all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Humanst521 Cn BT"/>
              </a:rPr>
              <a:t>* : WHO TB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urrent coordination: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coordination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 of country missions every other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eas of TB work (TB/HIV, MDR-TB, GDF, etc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the 22 H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regions and key technical agencies (Union, KNCV, CDC, GLRA, DFB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a "coordinating agency" for each of the HBC and some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CTA/TB-CAP coordination linked with DEWG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gular information exchange from agencies and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FATM not sufficiently lin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ifferent missions in countries (it increases the demand at country leve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s of visits not fully exploited (weak system to share them, with the exception of the Un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Situation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demand from countries (73 countries have GFATM grants, new WB loans/gra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verall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nagement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oader scope: DOTS+, TB/HIV, Lab, PPM, CTBC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coordination and response in certain field (lab for example..) and countries other than 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74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funds to increase capacity to respond (ISAC, TBCTA, Back-up initiative, CIDA), some new perspective: TB-CAP (country lev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GPSTB2: estimated needs average per year 2006-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826920" y="1830240"/>
          <a:ext cx="74170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30240"/>
                    <a:ext cx="74170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92360" y="378936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ealth care system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92360" y="429264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Human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58080" y="3733920"/>
            <a:ext cx="16761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TB control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06560" y="3962520"/>
            <a:ext cx="635040" cy="88920"/>
          </a:xfrm>
          <a:prstGeom prst="rightArrow">
            <a:avLst>
              <a:gd name="adj1" fmla="val 50000"/>
              <a:gd name="adj2" fmla="val 178543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733920"/>
            <a:ext cx="1854360" cy="52020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National financial resources for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72280" y="4051440"/>
            <a:ext cx="634680" cy="88920"/>
          </a:xfrm>
          <a:prstGeom prst="rightArrow">
            <a:avLst>
              <a:gd name="adj1" fmla="val 50000"/>
              <a:gd name="adj2" fmla="val 178441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70680" y="2044800"/>
            <a:ext cx="1676160" cy="1690200"/>
          </a:xfrm>
          <a:prstGeom prst="rect">
            <a:avLst/>
          </a:prstGeom>
          <a:noFill/>
          <a:ln w="4752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Needs for TB control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92360" y="3213000"/>
            <a:ext cx="18543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Increased capacity for TB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2070000"/>
            <a:ext cx="1854360" cy="1600560"/>
          </a:xfrm>
          <a:prstGeom prst="rect">
            <a:avLst/>
          </a:prstGeom>
          <a:noFill/>
          <a:ln w="475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financial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5734080"/>
            <a:ext cx="1841760" cy="520200"/>
          </a:xfrm>
          <a:prstGeom prst="rect">
            <a:avLst/>
          </a:prstGeom>
          <a:noFill/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imes New Roman"/>
              </a:rPr>
              <a:t>Support to countries additional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21391200">
            <a:off x="3110040" y="4965480"/>
            <a:ext cx="293400" cy="8888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1285600">
            <a:off x="2868120" y="4349880"/>
            <a:ext cx="522360" cy="1670040"/>
          </a:xfrm>
          <a:custGeom>
            <a:avLst/>
            <a:gdLst/>
            <a:ahLst/>
            <a:rect l="l" t="t" r="r" b="b"/>
            <a:pathLst>
              <a:path w="113" h="568">
                <a:moveTo>
                  <a:pt x="105" y="568"/>
                </a:moveTo>
                <a:cubicBezTo>
                  <a:pt x="52" y="479"/>
                  <a:pt x="0" y="391"/>
                  <a:pt x="1" y="296"/>
                </a:cubicBezTo>
                <a:cubicBezTo>
                  <a:pt x="2" y="201"/>
                  <a:pt x="57" y="100"/>
                  <a:pt x="113" y="0"/>
                </a:cubicBezTo>
              </a:path>
            </a:pathLst>
          </a:custGeom>
          <a:noFill/>
          <a:ln w="316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336840" y="4915080"/>
            <a:ext cx="92160" cy="88560"/>
          </a:xfrm>
          <a:prstGeom prst="line">
            <a:avLst/>
          </a:prstGeom>
          <a:ln w="2232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298680" y="4190760"/>
            <a:ext cx="117720" cy="15876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89280" y="444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Increasing absorptive capa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87320" y="1587600"/>
          <a:ext cx="7747200" cy="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7600"/>
                    <a:ext cx="7747200" cy="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 rot="19578000">
            <a:off x="5338800" y="3063600"/>
            <a:ext cx="711000" cy="88920"/>
          </a:xfrm>
          <a:prstGeom prst="rightArrow">
            <a:avLst>
              <a:gd name="adj1" fmla="val 50000"/>
              <a:gd name="adj2" fmla="val 199899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224000">
            <a:off x="5253120" y="3571560"/>
            <a:ext cx="904680" cy="90360"/>
          </a:xfrm>
          <a:prstGeom prst="rightArrow">
            <a:avLst>
              <a:gd name="adj1" fmla="val 50000"/>
              <a:gd name="adj2" fmla="val 250299"/>
            </a:avLst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9510800">
            <a:off x="5410440" y="3345840"/>
            <a:ext cx="4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 Unicode MS"/>
                <a:ea typeface="Arial Unicode MS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213000"/>
            <a:ext cx="504720" cy="360360"/>
          </a:xfrm>
          <a:prstGeom prst="line">
            <a:avLst/>
          </a:prstGeom>
          <a:ln w="572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Support to countries: scope of the GPS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and regional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ategic and technical direct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country capacity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itoring and evaluation (include 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ion (global, regional, count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vocacy and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development and operational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11-10T13:06:02Z</dcterms:modified>
  <cp:revision>84</cp:revision>
  <dc:subject/>
  <dc:title>Slide 1</dc:title>
</cp:coreProperties>
</file>