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 increase by 7% in 2003  and 20% in 2004 and represent more than 2/3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present 1/3 half GFATM, half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remain additional all other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 increased by 91% between 2004 and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increased by  62% in 2003 and 21%in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 increase 100%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1% increased budget increase CDR by 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remain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's TB Strategy and Operations team took the lead in coordinating efforts to increase R5 outcomes for T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sh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) Geneva 31 participants: used planning frameworks for each area of the expanded DOTS framework (e.g. TB/HIV, MDR, ACS, PPM etc) to assist participants in bridging the gap from theory to practise e.g. guidance on activities and budgets.  Also policy updates, and discussions on strategic approa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) Cairo 15 participants: ACS workshop organized by STBP with Johns Hopkins University.  Training communications specialists on drafting ACS components within R5 TB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1-4 include TB and TB/HIV proposals, whereas for R5 the TB/HIV category was dropped.  The $ for R5 includes full grant amounts approved for TB proposals only, it does not account for TB/HIV approved funding in HIV proposals or TB components within Health Systems Strengthening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oesn’t include TB/HIV in HIV proposals or TB aspects of HSS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TB budget increased by 1/3 in 2004 (3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crease is largely due Government increase which represent 2/3 of the bud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x2 in 2005 representing 66% of external source in 2005 but only 15% total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grant decreased in 2004 and 2005 but total grant continue to increase GFATM partially ad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55160" cy="40968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FATM status for TB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 Léopold Blan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.Y. Norval, A. Godfr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op TB Department,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B expenditure in 11 HBC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1/2 world pop, 1/3 TB case world)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and impact on S+ CD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529640" y="3521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72800" y="27082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7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2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4200" y="19890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4571640" y="685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V="1">
            <a:off x="2556000" y="5229000"/>
            <a:ext cx="2447640" cy="215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003640" y="5013360"/>
            <a:ext cx="223236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60200" y="4791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R S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50360" y="4960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5440" y="458136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34880" y="4292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Support to countries  for GFATM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osal preparation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RP clarific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rant negotiation -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&amp;E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urement plan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ase 2 renewal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gular reporting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RS response - CC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2708280"/>
            <a:ext cx="647640" cy="3672000"/>
          </a:xfrm>
          <a:custGeom>
            <a:avLst/>
            <a:gdLst>
              <a:gd name="textAreaLeft" fmla="*/ 0 w 647640"/>
              <a:gd name="textAreaRight" fmla="*/ 234000 w 6476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3500280"/>
            <a:ext cx="212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700280"/>
            <a:ext cx="360360" cy="792000"/>
          </a:xfrm>
          <a:custGeom>
            <a:avLst/>
            <a:gdLst>
              <a:gd name="textAreaLeft" fmla="*/ 0 w 360360"/>
              <a:gd name="textAreaRight" fmla="*/ 129960 w 360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16200" y="10822"/>
                  <a:pt x="21600" y="10822"/>
                </a:cubicBezTo>
                <a:cubicBezTo>
                  <a:pt x="162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184464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A provid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urning R5 investment into effective TB control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going support to facilitate successful implementation and resulting disbursements (up to approved amou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for TB experts (those who assisted in proposal preparation, 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nt agreement prep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support for the preparation of grant agreements (plan develo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"GIST" for T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ts within the "Stop TB coalition for Technical Assistanc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nk with GIST (Global Joint Problem Solving and Implementation Support Team) developed in HIV/AIDS community to coordinate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priority countries based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edly failed sub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mited GFATM funding for TB control per case no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for laboratory strength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reinforce monitoring (electronic reg.) and evaluation (impa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link TB to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ressed desire to a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1788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 and improve upon round 5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k reviews and assessment missions to analyze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alysis of HSS proposals of round 5 and decide on a strategy to reinforce TB and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shop for proposal development (tailored to needs identified during the revie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missions for propos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hase 2 renewal process and planning end of GFATM gr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rincipal Recipients (P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Regional support for ongoing and new gr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ull time coordination for GFATM matters (with technical partners, CCM, PR, GFATM Secretaria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F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udget for round 5 and 6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886040"/>
          <a:ext cx="8147160" cy="4871880"/>
        </p:xfrm>
        <a:graphic>
          <a:graphicData uri="http://schemas.openxmlformats.org/drawingml/2006/table">
            <a:tbl>
              <a:tblPr/>
              <a:tblGrid>
                <a:gridCol w="4384800"/>
                <a:gridCol w="1936800"/>
                <a:gridCol w="1825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ecting R5 inves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 TB coalition for TA (GIST for T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6 prepa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ty Buil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onal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7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2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076720" y="1484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US$          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The Strategic Approach to R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bjective: to increase the quality, scope, and size of TB proposals approved in Round 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shops for technical experts on R5 GFATM (46 consultants train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reasing capacity of coordination in WHO (DEWG secretari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nding proposal support missions to  countries (46 countries supported by WHO and Stop TB Partn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tbproposalhelp@who.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pport line for teams in the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A626-449D-437B-9430-FD4D33D0FE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areas in alignment with Stop TB strategy and Global p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73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TS expansion in all R1-5 including lab.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B/HIV in 63/103 TB and TB/HIV proposals (R1-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17/25 HIV proposals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DR represents 75% of MDR projects world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5,000 MDR TB cases (R1-5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S in 9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munity TB in 10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PM in 8/22 HB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suppor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 GFATM at global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2033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 forms and guid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&amp;E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LC agreement: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TB drugs procurement  and Technical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curement list of eligible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drugs including G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TRP, portfolio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MOU Stop TB Partnership – GF on 19 May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ordinated TA from Stop TB Partn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rug procurement via GDF and G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B $ By Round for Total Grant Perio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3680" y="1886040"/>
          <a:ext cx="816444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86040"/>
                    <a:ext cx="816444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4232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Round 5 vs. Average</a:t>
            </a:r>
            <a:br>
              <a:rPr sz="36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otal funding for TB ($) by Roun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0104-A284-4AB2-9D1A-A84367BF5B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484280"/>
          <a:ext cx="8218440" cy="5213520"/>
        </p:xfrm>
        <a:graphic>
          <a:graphicData uri="http://schemas.openxmlformats.org/drawingml/2006/table">
            <a:tbl>
              <a:tblPr/>
              <a:tblGrid>
                <a:gridCol w="1450800"/>
                <a:gridCol w="3240360"/>
                <a:gridCol w="35272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B and 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rage Total TB $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 Rou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13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98 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6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5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308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88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% increa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Result of investment in Human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GFATM estimates that Round 5 funding will result in 1.5 million people cured of TB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488m/1.5m = $325 per cure ave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financing raised for TB control in Round 5 exceeded the expected average by $190m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190m / $325 per cure average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increased level of strategic engagement with the GFATM in Round 5 by WHO and Stop TB Partners directly contributed to financing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584,000 additional TB cur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3985-5B0A-4BED-AA1F-2EFCFDFA40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431640"/>
          <a:ext cx="6804000" cy="642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6804000" cy="64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GFATM support for TB (R1-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2349360"/>
            <a:ext cx="2973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95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TB gr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72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21/22 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H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1600" y="6261120"/>
            <a:ext cx="74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Global TB Control Report: Surveillance, Planning, Financing. WHO Report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26028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tal NTP Budgets by Source of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2 high-burden countries, 2002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23880" y="50133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773360"/>
          <a:ext cx="867096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70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527040" y="3141720"/>
            <a:ext cx="6437520" cy="1613520"/>
            <a:chOff x="527040" y="3141720"/>
            <a:chExt cx="6437520" cy="1613520"/>
          </a:xfrm>
        </p:grpSpPr>
        <p:sp>
          <p:nvSpPr>
            <p:cNvPr id="78" name=""/>
            <p:cNvSpPr/>
            <p:nvPr/>
          </p:nvSpPr>
          <p:spPr>
            <a:xfrm>
              <a:off x="527040" y="441792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13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23840" y="43466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6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29280" y="314172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836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1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92200" y="357336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69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60920" y="328608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754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705720" y="472428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 Black"/>
                <a:ea typeface="Arial Unicode MS"/>
              </a:rPr>
              <a:t>57% t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581360"/>
            <a:ext cx="73080" cy="1081080"/>
          </a:xfrm>
          <a:custGeom>
            <a:avLst/>
            <a:gdLst>
              <a:gd name="textAreaLeft" fmla="*/ 0 w 73080"/>
              <a:gd name="textAreaRight" fmla="*/ 26280 w 730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4221000"/>
            <a:ext cx="142920" cy="287640"/>
          </a:xfrm>
          <a:custGeom>
            <a:avLst/>
            <a:gdLst>
              <a:gd name="textAreaLeft" fmla="*/ 0 w 142920"/>
              <a:gd name="textAreaRight" fmla="*/ 51480 w 142920"/>
              <a:gd name="textAreaTop" fmla="*/ 7200 h 287640"/>
              <a:gd name="textAreaBottom" fmla="*/ 2804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575"/>
                </a:lnTo>
                <a:cubicBezTo>
                  <a:pt x="10800" y="8475"/>
                  <a:pt x="16200" y="9375"/>
                  <a:pt x="21600" y="9375"/>
                </a:cubicBezTo>
                <a:cubicBezTo>
                  <a:pt x="16200" y="9375"/>
                  <a:pt x="10800" y="10275"/>
                  <a:pt x="10800" y="111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8840" y="2492280"/>
            <a:ext cx="12384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% t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7% g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7520" y="535320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03640" y="3141720"/>
            <a:ext cx="14436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00:16:36Z</dcterms:created>
  <dc:creator>WHO CC Tradate</dc:creator>
  <dc:description/>
  <dc:language>en-US</dc:language>
  <cp:lastModifiedBy>Leopold Blanc</cp:lastModifiedBy>
  <cp:lastPrinted>2000-06-26T03:06:53Z</cp:lastPrinted>
  <dcterms:modified xsi:type="dcterms:W3CDTF">2005-11-11T10:31:33Z</dcterms:modified>
  <cp:revision>238</cp:revision>
  <dc:subject/>
  <dc:title>DRUG   SUPP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9988606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Assisi GFATM presentation</vt:lpwstr>
  </property>
  <property fmtid="{D5CDD505-2E9C-101B-9397-08002B2CF9AE}" pid="6" name="_NewReviewCycle">
    <vt:lpwstr/>
  </property>
  <property fmtid="{D5CDD505-2E9C-101B-9397-08002B2CF9AE}" pid="7" name="_PreviousAdHocReviewCycleID">
    <vt:r8>1914704809</vt:r8>
  </property>
  <property fmtid="{D5CDD505-2E9C-101B-9397-08002B2CF9AE}" pid="8" name="_ReviewingToolsShownOnce">
    <vt:lpwstr/>
  </property>
</Properties>
</file>