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679059-9FEA-42EA-AD23-F3ACDAD6F1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68920" y="3519360"/>
            <a:ext cx="305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Philip Hopew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Ass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d4d4d"/>
                </a:solidFill>
                <a:latin typeface="Arial"/>
              </a:rPr>
              <a:t>November 11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947000" y="58896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625320"/>
            <a:ext cx="3687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International Standards for Tuberculosis Care for All Pati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73040" y="888840"/>
            <a:ext cx="4635360" cy="51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Arial"/>
              </a:rPr>
              <a:t>Meaning of Endorsement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Full support of document by the organiz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articipate in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Willing to put society’s logo on the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?? Willing to provide assistance in implemen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i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influential inter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inter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members of Partnershi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tion by donor ag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Country-leve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studies in four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/dissemination by NTP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/dissemination by national professional socie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 by national N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rsements by patient organiz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ion by professional sch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396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:</a:t>
            </a:r>
            <a:br>
              <a:rPr sz="4400"/>
            </a:b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General Activitie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0028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generic formats and training mater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web 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11360" y="178452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1784520"/>
                    <a:ext cx="7746840" cy="58680"/>
                  </a:xfrm>
                  <a:prstGeom prst="rect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Implementation Pla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9520" y="1495440"/>
            <a:ext cx="8488440" cy="525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4000" spc="-1" strike="noStrike">
                <a:solidFill>
                  <a:srgbClr val="001950"/>
                </a:solidFill>
                <a:latin typeface="Arial"/>
                <a:ea typeface="Arial Unicode MS"/>
              </a:rPr>
              <a:t>Time line for Endors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Jun-Nov 2005: TBCTA Organizations, Stop TB C.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ec- Mar 06: Int’l professional societies, Int’l NGOs, pati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ar 24, World TB Day: Official laun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Apr- and beyond: Country level endors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768240" y="1231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1231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9840" y="1514160"/>
            <a:ext cx="8088120" cy="523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patients of all ages, smear positive and negative, extra-pulmonary, MDR, TB/H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20880" y="12891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2891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Diagno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(including children extra-pulmonary, and persons with radiographic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5520" y="196200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0680" y="2021040"/>
          <a:ext cx="4294080" cy="36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680" y="2021040"/>
                    <a:ext cx="4294080" cy="36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873000" y="1461960"/>
          <a:ext cx="7747200" cy="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000" y="146196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Diagnosi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52600" y="1371240"/>
            <a:ext cx="7905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4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x ray abnormalit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7800" y="2633760"/>
            <a:ext cx="4361040" cy="3803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821120" y="2619360"/>
            <a:ext cx="3997440" cy="385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6" name=""/>
          <p:cNvGraphicFramePr/>
          <p:nvPr/>
        </p:nvGraphicFramePr>
        <p:xfrm>
          <a:off x="939960" y="1212840"/>
          <a:ext cx="7746840" cy="9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9960" y="1212840"/>
                    <a:ext cx="7746840" cy="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051520" y="6561000"/>
            <a:ext cx="3860640" cy="1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0760" y="145728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- RIF in initial ph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this includes measures to assess compliance and address poor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939960" y="134604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34604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Tuberculosis Consortium for Technical Assistance (TBCTA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81200" y="1657080"/>
            <a:ext cx="761976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tch Tuberculosis Foundation (KNC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Union Against Tuberculosis and Lung Disease (IUATL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.S. Centers for Disease Control and Prevention (CD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Health Organization (WH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rican Thoracic Society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352520" y="1584360"/>
          <a:ext cx="6362640" cy="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1584360"/>
                    <a:ext cx="6362640" cy="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Treatmen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7960" y="1638360"/>
            <a:ext cx="38098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individualized  approach to treatment should be developed for all patients. A central element is the use of measures to assess adherence and to address poor adh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1770120"/>
            <a:ext cx="3924360" cy="427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844560" y="12477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560" y="1247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 </a:t>
            </a:r>
            <a:r>
              <a:rPr b="1" lang="en-GB" sz="4400" spc="-1" strike="noStrike">
                <a:solidFill>
                  <a:srgbClr val="993300"/>
                </a:solidFill>
                <a:latin typeface="Arial"/>
                <a:ea typeface="Arial Unicode MS"/>
              </a:rPr>
              <a:t>: Highlight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001950"/>
                </a:solidFill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520" y="361800"/>
            <a:ext cx="867888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: 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429160" y="1981080"/>
            <a:ext cx="3486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    </a:t>
            </a: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" y="1816200"/>
            <a:ext cx="4552920" cy="4448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888840" y="14241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8840" y="14241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are intended to describe a widely accepted level of care, that all practitioners, public and private, should follow in dealing with patients who have or are suspected of having tuberculo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se standards provide a platform on which tuberculosis care can be ba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The ISTC will serve as a companion to the Patient Char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87320" y="115236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5236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0520" y="217440"/>
            <a:ext cx="85932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Purpose of the IST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024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ISTC: Development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3200" y="1981080"/>
            <a:ext cx="7810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Funded (Oct 1, 2004) by USAID / TBC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chairs: Mario Raviglione (WHO) and Phil Hopewell (A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</a:rPr>
              <a:t>Evidence-based with commissioned systematic review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98400" y="182232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82232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Steering Committe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Selected to provide perspectives, not represent organiz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rspectives includ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ursing                             Technical ag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ediatrics                          MDR 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                            TB/HI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Medical Students              Labora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TPs                                  Academic medic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NGOs                                 WH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Professional Societies    Private s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 Development Proces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74312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Strategic and Technical Advisory Group in June 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WHO regional and country advisors meeting in Ju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Presented to “Megameeting” (3 implementation WGs) in Versailles in October and to special session of the Union at the annual confer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ourier New"/>
              </a:rPr>
              <a:t>Endorsed by KNCV, ATS, WHO, the Union and CDC (all TBCTA organization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Next Step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November 11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Decemb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Seek endors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200" spc="-1" strike="noStrike">
                <a:solidFill>
                  <a:srgbClr val="001950"/>
                </a:solidFill>
                <a:latin typeface="Arial"/>
                <a:ea typeface="Courier New"/>
              </a:rPr>
              <a:t>Broad dissemination, implementation, evalu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ISTC: Questions to be addressed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Format (or country-specific format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Exact (country specific) uses of docu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ublication strate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Pilot study si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  <a:ea typeface="Courier New"/>
              </a:rPr>
              <a:t>Monitoring and eval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55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93300"/>
                </a:solidFill>
                <a:latin typeface="Arial"/>
                <a:ea typeface="Arial Unicode MS"/>
              </a:rPr>
              <a:t>ISTC</a:t>
            </a: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:  </a:t>
            </a:r>
            <a:r>
              <a:rPr b="1" lang="en-US" sz="3600" spc="-1" strike="noStrike">
                <a:solidFill>
                  <a:srgbClr val="993300"/>
                </a:solidFill>
                <a:latin typeface="Arial"/>
              </a:rPr>
              <a:t>Objectives of the Presentation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9840" y="1418760"/>
            <a:ext cx="8088120" cy="41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endorsement by the Coordinating Bo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process for endorsement and dissemin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001950"/>
              </a:buClr>
              <a:buFont typeface="Arial"/>
              <a:buChar char="•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0" lang="en-US" sz="3600" spc="-1" strike="noStrike">
                <a:solidFill>
                  <a:srgbClr val="001950"/>
                </a:solidFill>
                <a:latin typeface="Arial"/>
              </a:rPr>
              <a:t>To seek advice on ways to implement and evaluate the ISTC at country le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92280" y="119376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1937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phopewell</cp:lastModifiedBy>
  <cp:lastPrinted>2003-04-10T14:23:01Z</cp:lastPrinted>
  <dcterms:modified xsi:type="dcterms:W3CDTF">2005-11-02T21:25:44Z</dcterms:modified>
  <cp:revision>458</cp:revision>
  <dc:subject/>
  <dc:title>Progress in Global Tuberculosis Control 1995-97</dc:title>
</cp:coreProperties>
</file>