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9E57-29B1-4246-B332-73E87B83D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564A-EEB0-4301-AC70-57C17CBC1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FE8E-713C-4432-A0C1-41C862F7B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7BC-698B-4BC9-B828-2D5F725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A37-EA8C-4145-BCDB-947708C9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91E-BDBC-4686-ACE3-E26801AA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D70-AD4F-4217-9E4B-7583A5F5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5D2-2FA3-413E-82B3-36FA5795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75D-1E23-4D33-B2CD-53595E9E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7C96-6168-4FFA-A255-FB3C3085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CCA2-8AC5-4469-8340-D68D945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1FB6-C0A8-4E37-8293-5282F421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2EC-BD97-4F40-8AD8-621831A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777-945E-40D2-9546-75C04279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2D9-B4C9-4F28-AB5C-FCF843B5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7467A-D70A-443E-912E-C25141C6C6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66680" y="762120"/>
            <a:ext cx="7086600" cy="29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TB Control in Georgi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Achievements and Challeng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ff"/>
                </a:solidFill>
                <a:latin typeface="Times New Roman"/>
              </a:rPr>
              <a:t>Levan Jugel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ff"/>
                </a:solidFill>
                <a:latin typeface="Times New Roman"/>
              </a:rPr>
              <a:t>Deputy Minister of Labour, Health and Social Affairs of Geo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9880" y="4038480"/>
            <a:ext cx="1676520" cy="1138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8480" y="567072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Stop TB Coordinating Board Mee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10-11 November 2005, Assisi, Ita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2120" y="2286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676520"/>
            <a:ext cx="822960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rioritization of Sputum Smear Microscopy for Case Det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the 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ality control by Supranational Reference Laborato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ptimization and equipment of the laboratory net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untrywide regular supervision and quality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914400"/>
          <a:ext cx="9169560" cy="549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6956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1522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ulmonary TB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320" y="53352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Case detection and diagnosi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057400"/>
            <a:ext cx="7620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 based TB diagnosis is not performed routine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volvement of PHC in the case det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53352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2057400"/>
            <a:ext cx="784836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treatment protocols based on WHO recommenda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uccessful pilot project of PHC involvement in TB service in Shida Kart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ablishment of “DOTS spots” in Tbili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6320" y="457200"/>
            <a:ext cx="9067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Trea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2438280"/>
            <a:ext cx="8534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al DOT all over the coun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ow quality of case manag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 treatment for MDR-TB in Georg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52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Treatment outcomes (Georgia, 1999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068480"/>
          <a:ext cx="8067600" cy="533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8480"/>
                    <a:ext cx="806760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883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rug Supp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interrupted and regular first line anti-TB drugs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roduction of 4 FDC anti-TB drug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342900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4956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nti-TB drugs are available on free mar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8580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74320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ational TB database on the central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mplementation of individualized TB reporting 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 &amp; R control is a part of supervision country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609480"/>
            <a:ext cx="8686800" cy="10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Reporting and Recor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266688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 quality of reporting needs further improv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2280" y="5335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pportunities for improving DO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143000"/>
            <a:ext cx="800100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ncrease political sup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aise Public awareness about TB through Information, Education, Communication (IEC) campa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rain PHC providers in DOTS strategy; implement DOTS services into PHC system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vide food incentives for TB patients to ensure treatment adherenc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capacity of Program managers from central and regional le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the strategy addressing TB/HIV co-infe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portunities for getting support from  the local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00" y="990720"/>
          <a:ext cx="849600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90720"/>
                    <a:ext cx="8496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79280" y="40464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  <a:ea typeface="Arial"/>
              </a:rPr>
              <a:t>Case notification rates, per 100 000 population, 1980–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6400800"/>
            <a:ext cx="601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Source: Global TB Control, WHO report 2005, WHO/HTM/TB/2005.34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lan for establishing DOTS+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conduct DRS survey  in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elaborate proposal to GLC and i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re is negotiation with MSF to initiate pilot pro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oney for second line drugs is available from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enovation of the inpatient facility of the NCTBLD will be finished in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120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Donors Assistance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GOPA, Kf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 first line TB drugs supply + technical as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WHO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– Technical assistance (DOTS coordina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USAID/MSCI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(improved case management, community involvement, follow-up from prisons, surveillance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MERLIN/DFID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: TB in general serv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Verdana"/>
              </a:rPr>
              <a:t>ICRC: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DOTS in pris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GFATM</a:t>
            </a:r>
            <a:br>
              <a:rPr sz="2800"/>
            </a:b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Funding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tal funding requested – 6,962,99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Maximum – 5,536,965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roved 2-year funding – 1,829, 218.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OBJECTIVES: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improve case detection and treatment success by DOTS expansion and involvement of the primary health care services in tuberculosis control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assure continuity of DOTS in prisons by taking over from the ICRC DOTS and DOTS-Plus activities in prisons by the year 2008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reduce the pool of MDR TB cases by introduction of DOTS-Plus strategy, starting as a pilot project from 2007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To develop and partly implement a strategy to deal with the dual infection of TB and HIV/AIDS, in close collaboration with the AIDS cente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2362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Thank you very muc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ff"/>
                </a:solidFill>
                <a:latin typeface="Verdana"/>
              </a:rPr>
              <a:t>for your atten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540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25040" y="304920"/>
            <a:ext cx="61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Tuberculosis incidence in FSU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04920" y="1555920"/>
          <a:ext cx="8610480" cy="477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555920"/>
                    <a:ext cx="8610480" cy="47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914400" y="3049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Registered cases of  Tuberculo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62120" y="0"/>
            <a:ext cx="682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33520" y="1020600"/>
          <a:ext cx="8229600" cy="538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020600"/>
                    <a:ext cx="822960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Notification Rates , per 100 000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  <a:ea typeface="Arial"/>
              </a:rPr>
              <a:t>Georgia 1999-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35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Verdana"/>
              </a:rPr>
              <a:t>Case Notification According to Sex and Age Groups in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38160" y="1085760"/>
          <a:ext cx="790092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085760"/>
                    <a:ext cx="7900920" cy="51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905120"/>
            <a:ext cx="784872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H identified TB as one of the major public health thre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Implementation of the National TB Program (NTP) based on WHO recommendations (DOTS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ational Guidelines and protocols of NTP have been develo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state financing of TB program has been improv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onstruction of  a new building for the National TB Cen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CM is very active for coordinating TB control 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8088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</a:t>
            </a:r>
            <a:r>
              <a:rPr b="0" lang="en-US" sz="28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Achiev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-11329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t is primordial in the fight against TB to realize that this is a curable disease and it is a matter of systemized detection, consequent implementation of DOTS and prevention to minimize the prevalence of TB in the country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andra Elisabeth Roelofs, Ambassador of Stop TB Partner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66680" y="4572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Political commitme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Verdana"/>
              </a:rPr>
              <a:t>Challenges</a:t>
            </a:r>
            <a:r>
              <a:rPr b="1" lang="en-US" sz="2800" spc="-1" strike="noStrike">
                <a:solidFill>
                  <a:srgbClr val="ffcc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2133720"/>
            <a:ext cx="7848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integration of TB services in general health services (Low involvement of PH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eak links between TB and HIV/AIDS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or condition of  TB facility buildings and lack of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50:33Z</dcterms:created>
  <dc:creator>User</dc:creator>
  <dc:description/>
  <dc:language>en-US</dc:language>
  <cp:lastModifiedBy>PV002</cp:lastModifiedBy>
  <dcterms:modified xsi:type="dcterms:W3CDTF">2005-11-11T14:57:37Z</dcterms:modified>
  <cp:revision>85</cp:revision>
  <dc:subject/>
  <dc:title>PowerPoint Presentation</dc:title>
</cp:coreProperties>
</file>