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89F-7EB9-4D05-8882-A1782E8A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3B9-D888-4F7B-91B8-B178EC79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8E6-D4D7-483D-8CB9-D1CC5B23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BA2-221D-4A8A-8BE3-4D6F4556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F852-757B-4E25-8BEC-6821A9F6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35A4-77ED-490D-BDA0-B6B5B09F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58DE-F5A1-4683-BBBE-6F267837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F8E4-1921-4300-B42D-F881F23D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30AD-E791-479F-9630-084A52DF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51A1-4DB6-45AB-AC94-9562A55A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254D-01B1-4BCC-839E-2D03D534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86CD-4F7E-4964-93FC-84F824E9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81A0-DBA3-428B-B956-254330BA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EFA4-D453-410F-A097-613624D9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D09D-B3BD-4AFE-BF0E-6DCCC7B4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A663-0A0F-4BBC-B346-7275304F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F27D-ADCC-43CB-8CCC-A72669F8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B0A-7BCF-46E6-BC89-A1225CFA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32F3-8E0A-4E7F-ADA1-19A2FD48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8677-147B-48F9-98AB-9A018837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498-67E6-45E5-8499-78D29A1E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61D-CF42-422D-96FC-02FA7962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7EFE-D13B-4934-976F-791BC135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29CB-B84D-4212-A539-3E371115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E80E-0D19-4365-9261-0B8056B87F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C7F9-B1E3-4FB5-AB22-A6D63B33EE7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COMMUNITY EMPOWER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OTHER MECHANISMS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linkage between TB activism and TB resear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to take stock of all the stakeholders within the TB control fratern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coordinating mechanism between the community representatives on the different working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itoring and eval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Expected Outcom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d case det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tion in defaulter ra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gma reduction more so associated with 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PLWHAS on CPT and IP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ansion/support  for DCT in TB clin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l quality of Care for TB, MDR-TB and TB/HIV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patient adhe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b9efee"/>
                </a:solidFill>
                <a:latin typeface="Garamond"/>
              </a:rPr>
              <a:t>Intensified commitment is required in order to turn the declarations to  deed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And promises to program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st you forget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100 year old TB is now married to the young HIV/AIDS and the honey moon is costing more l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ANK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O ARE WE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 members of the community living with th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B ,MDR-TB and TB/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t –susp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victi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Each working group now has 2 community representat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Y ADVOCACY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health ,human rights and social science all demand that no one should die of a curable/treatable cond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the 2 million deaths is totally unacceptable and unnecess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s time to turn the tide, embrace a bolder notion and give TB a political face ,for every life has an equal val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ADVOCACY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advocacy and activism are essential to ensure the growth and sustainability of TB program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should thus be at all levels, globally ,regionally ,nationally and loc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that scales up to the Global Plan 2 strate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a man fish and you feed him for a day, yet when you teach him to fish you feed him for lif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 the importance of engaging people with  TB and the affected community  and thus have us at all levels of TB awareness ,prevention ,care and treatment program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ment of community participation through provision of adequate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TB services for all via better diagnostics of smear negative ,pediatric TB ,TB/HIV and MDR-TB among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sion of TB services to all vulnerable groups – PLWHAS ,drug users ,the unemployed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for new tools to Stop TB for prevention ,diagnosis ,treatment and cu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 of shorter drug combinations and new vacci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AY FORWAR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 for active community participation as outlined by GIPA and GIP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a permanent position with in the secretariat – focal pers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2 community representatives at each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ion of the  patients char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ation of the community powered initiatives ,this too can be put on the STOP TB we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RESOURCE MOBIL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 community powered secretari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building for community representatives on the working groups and TB champ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a pool of trainers in different areas e. g  TB ,TB/HIV and MDR-T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dgetary allocation for community centered activities  – 250,000 USD yea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Resource Mobilis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Re -double effor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ducation through aggressive treatment literacy campa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Information dissemination through the med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Continued advocacy that raises the TB profi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nsure that there is a greater partnership that is built with National TB programmes at country lev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Documentation of activities that are patient driv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10:00:06Z</dcterms:modified>
  <cp:revision>10</cp:revision>
  <dc:subject/>
  <dc:title>COMMUNITY EMPOWERMENT</dc:title>
</cp:coreProperties>
</file>