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4C2C8-016A-4265-A962-A2F4BF9BD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A9C62-8D51-415D-B7E4-660E4BFEA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475EC-F208-40F9-9205-2BC459572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2146B-8B68-4463-A73B-517D8F546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9D9D3-D1D0-4E72-876B-996A3EC80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E945C-AE86-4058-90CE-DA1661F17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ADC20-A153-444E-BD1D-77B8C2AA0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5B7A4-2644-4877-8239-8E3D62138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8A941-5263-45E7-8843-3C4C90ECE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8CE80-50B7-4FAD-8ABE-BE56F1D6E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C088D-5787-46FD-98F1-D5CC6F45D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C07A4-C83F-47AC-8486-ABB113F32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0CD9E-D936-4139-A83F-36A2861B33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042560" y="4339800"/>
            <a:ext cx="6913800" cy="20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ask Force convened b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Strategic and Technical Advisory Group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(STA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top Tuberculosis Depart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World Health Orga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685800" y="618840"/>
            <a:ext cx="7772400" cy="30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Measuring Progress Towards </a:t>
            </a:r>
            <a:br>
              <a:rPr sz="4000"/>
            </a:b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cc0000"/>
                </a:solidFill>
                <a:latin typeface="Arial"/>
              </a:rPr>
              <a:t>Millennium Development Goals </a:t>
            </a:r>
            <a:br>
              <a:rPr sz="4000"/>
            </a:b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for TB Contro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490320"/>
            <a:ext cx="8229600" cy="13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0000"/>
                </a:solidFill>
                <a:latin typeface="Arial"/>
              </a:rPr>
              <a:t>4 Questions for Stop TB </a:t>
            </a:r>
            <a:br>
              <a:rPr sz="4400"/>
            </a:br>
            <a:r>
              <a:rPr b="1" lang="en-GB" sz="4400" spc="-1" strike="noStrike">
                <a:solidFill>
                  <a:srgbClr val="cc0000"/>
                </a:solidFill>
                <a:latin typeface="Arial"/>
              </a:rPr>
              <a:t>Coordinating Boa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3760" y="2349000"/>
            <a:ext cx="85806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Value of the proces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cope of the process (e.g. add financial monitoring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1-year consultation or 10-year collaborat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ources of funding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899640" y="3284640"/>
            <a:ext cx="720108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99"/>
                </a:solidFill>
                <a:latin typeface="Arial"/>
              </a:rPr>
              <a:t>Develop a costed plan to measure progress towards the </a:t>
            </a:r>
            <a:r>
              <a:rPr b="1" lang="en-GB" sz="3600" spc="-1" strike="noStrike">
                <a:solidFill>
                  <a:srgbClr val="008000"/>
                </a:solidFill>
                <a:latin typeface="Arial"/>
              </a:rPr>
              <a:t>Millennium Development Goals </a:t>
            </a:r>
            <a:r>
              <a:rPr b="1" lang="en-GB" sz="3600" spc="-1" strike="noStrike">
                <a:solidFill>
                  <a:srgbClr val="333399"/>
                </a:solidFill>
                <a:latin typeface="Arial"/>
              </a:rPr>
              <a:t>for TB contr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2000" y="1051920"/>
            <a:ext cx="8489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0000"/>
                </a:solidFill>
                <a:latin typeface="Arial"/>
              </a:rPr>
              <a:t>TASK FORCE ON MEASUR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0000"/>
                </a:solidFill>
                <a:latin typeface="Arial"/>
              </a:rPr>
              <a:t>SCOPE AND PURPO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70920"/>
            <a:ext cx="9144000" cy="2565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5 targets for global TB control</a:t>
            </a:r>
            <a:br>
              <a:rPr sz="4000"/>
            </a:br>
            <a:r>
              <a:rPr b="1" lang="en-GB" sz="3700" spc="-1" strike="noStrike">
                <a:solidFill>
                  <a:srgbClr val="cc0000"/>
                </a:solidFill>
                <a:latin typeface="Arial"/>
              </a:rPr>
              <a:t>MILLENNIUM DEVELOPMENT GOALS</a:t>
            </a:r>
            <a:br>
              <a:rPr sz="3700"/>
            </a:br>
            <a:r>
              <a:rPr b="1" lang="en-GB" sz="3700" spc="-1" strike="noStrike">
                <a:solidFill>
                  <a:srgbClr val="ffcc00"/>
                </a:solidFill>
                <a:latin typeface="Arial"/>
              </a:rPr>
              <a:t>"to have halted and begun to reverse incidence.."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0" y="2663640"/>
            <a:ext cx="9144000" cy="4221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 u="sng">
                <a:solidFill>
                  <a:srgbClr val="cc0000"/>
                </a:solidFill>
                <a:uFillTx/>
                <a:latin typeface="Arial"/>
              </a:rPr>
              <a:t>Implementation (DOT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GB" sz="2800" spc="-1" strike="noStrike">
                <a:solidFill>
                  <a:srgbClr val="333399"/>
                </a:solidFill>
                <a:latin typeface="Arial"/>
              </a:rPr>
              <a:t>Indicator 24 (target year 2005)  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Case detection 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70%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Treatment success 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85%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cc0000"/>
                </a:solidFill>
                <a:uFillTx/>
                <a:latin typeface="Arial"/>
              </a:rPr>
              <a:t>Imp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333399"/>
                </a:solidFill>
                <a:latin typeface="Arial"/>
              </a:rPr>
              <a:t>Indicator 23 (target year 2015 cf 1990)  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Prevalence 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50% of 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  <a:ea typeface="Times New Roman"/>
              </a:rPr>
              <a:t>≈ 300/100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Deaths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50% of 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  <a:ea typeface="Times New Roman"/>
              </a:rPr>
              <a:t>≈ 30/100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(&lt; 1m death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101520"/>
            <a:ext cx="9144000" cy="665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0000"/>
                </a:solidFill>
                <a:latin typeface="Arial"/>
              </a:rPr>
              <a:t>KEY DATES FOR THE TASK FOR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4604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10 questions, 28 October 2005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bmission of answers to WHO (all received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B CB, 10-11 November 2005, Assis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mmary of process and approximate co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G, June 2006, Geneva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esent costed plan for measur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0000"/>
                </a:solidFill>
                <a:latin typeface="Arial"/>
              </a:rPr>
              <a:t>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842472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xpert consultation (WHO, NGOs, MoH, donors et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scussion paper (WHO HQ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0 key questions about measure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TB CB Assisi for advice 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alue, scope and future of the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velopment and implementation of recommend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urces of fund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lan drafted by a core writing committee based on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pert opin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sults of parallel research (e.g. inventory of surveys, review of costs, appraisal of survey method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commendations to STAG in June 2006 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rveillance and survey methods and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ere surveys should be do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sts of measurement, funding 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GB" sz="4000" spc="-1" strike="noStrike">
                <a:solidFill>
                  <a:srgbClr val="cc0000"/>
                </a:solidFill>
                <a:latin typeface="Arial"/>
              </a:rPr>
              <a:t>TASK FORCE MEMBERSHIP </a:t>
            </a:r>
            <a:br>
              <a:rPr sz="4000"/>
            </a:br>
            <a:r>
              <a:rPr b="1" lang="en-GB" sz="3200" spc="-1" strike="noStrike">
                <a:solidFill>
                  <a:srgbClr val="cc0000"/>
                </a:solidFill>
                <a:latin typeface="Arial"/>
              </a:rPr>
              <a:t>September 2005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000" y="2276640"/>
            <a:ext cx="381636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WHO (HQ + 6RO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Health Metrics Net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Gates Found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DC US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Euro TB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FAT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UATL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788000" y="2205000"/>
            <a:ext cx="381636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apanese Inst TB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NCV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orean Inst TB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RC Chenna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SA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ndividual expe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Suggestions for other particip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23640" y="115920"/>
            <a:ext cx="8569080" cy="17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0000"/>
                </a:solidFill>
                <a:latin typeface="Arial"/>
              </a:rPr>
              <a:t>10 CONTROVERSIAL QUESTIONS FOR THE TASK FORCE on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9528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-5911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ase det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onitoring of treatment outco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stimating incidence, prevalence, death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isease prevalence survey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uberculin surve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Routine surveillance metho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ertification that targets have been me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New technology, new analytical methods and measurement procedur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Guidelines on measure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Resources needed to measure prog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90400" y="333000"/>
            <a:ext cx="822960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0000"/>
                </a:solidFill>
                <a:latin typeface="Arial"/>
              </a:rPr>
              <a:t>COSTS 2006-15</a:t>
            </a:r>
            <a:br>
              <a:rPr sz="4400"/>
            </a:br>
            <a:r>
              <a:rPr b="1" lang="en-GB" sz="4000" spc="-1" strike="noStrike">
                <a:solidFill>
                  <a:srgbClr val="008000"/>
                </a:solidFill>
                <a:latin typeface="Arial"/>
              </a:rPr>
              <a:t>round numbers – to be refin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63480" y="2071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20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2 prevalence surveys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$20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20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2 tuberculin surveys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$2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20 investigations of nat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urveillance systems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$1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echnical assistance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$2m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Total cost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$25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Urgent need: project manager (WHO Genev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1T11:08:01Z</dcterms:created>
  <dc:creator>dye</dc:creator>
  <dc:description/>
  <dc:language>en-US</dc:language>
  <cp:lastModifiedBy>bakerl</cp:lastModifiedBy>
  <dcterms:modified xsi:type="dcterms:W3CDTF">2005-11-02T12:21:34Z</dcterms:modified>
  <cp:revision>37</cp:revision>
  <dc:subject/>
  <dc:title>Measuring Progress Towards the  Millennium Development Goals for TB Contro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296865495</vt:r8>
  </property>
  <property fmtid="{D5CDD505-2E9C-101B-9397-08002B2CF9AE}" pid="3" name="_AuthorEmail">
    <vt:lpwstr>dyec@who.int</vt:lpwstr>
  </property>
  <property fmtid="{D5CDD505-2E9C-101B-9397-08002B2CF9AE}" pid="4" name="_AuthorEmailDisplayName">
    <vt:lpwstr>Dye, Christopher</vt:lpwstr>
  </property>
  <property fmtid="{D5CDD505-2E9C-101B-9397-08002B2CF9AE}" pid="5" name="_EmailSubject">
    <vt:lpwstr>Martien Borgdorff</vt:lpwstr>
  </property>
  <property fmtid="{D5CDD505-2E9C-101B-9397-08002B2CF9AE}" pid="6" name="_NewReviewCycle">
    <vt:lpwstr/>
  </property>
  <property fmtid="{D5CDD505-2E9C-101B-9397-08002B2CF9AE}" pid="7" name="_ReviewingToolsShownOnce">
    <vt:lpwstr/>
  </property>
</Properties>
</file>