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4B09D-BB0A-4D56-A72D-C8B1703B2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734EF-0982-4005-ADA2-EB0B05B6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0AC88-F05E-4699-A5FF-2E30FAE89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DEE06-8C7F-41E4-A782-E4798080A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1EC2-C859-4DE0-AC8F-BF28885F6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1A41-DBDF-4292-8A22-72A624B5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42FE5-2676-41BD-9EB9-A7605CF1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99D2-E980-4029-8DAF-654EEED9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4554-03C6-4E63-8995-AC6CEDF0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A135-944A-4EB5-9FA0-BADD0F3E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5F361-3B68-4F54-9677-478A5C25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92DB9-54D2-4054-8360-60949BBC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9924-E472-40C9-A8E4-6CA1513A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BD3CE-53E5-42A4-A83B-F8ABBB3A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3C67-A0DF-43AB-9FAF-34DE3FD5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3BF9-E1EA-49C3-9209-46140748A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4168-A038-4B90-A1C5-CD10CD338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71912-0090-4B74-82D6-156BB393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676E6-4FCF-4EA8-9F3A-64BBDAAF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8F08D-6C59-45A4-A5C9-D6FCB0B6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40157-43B8-4F14-B6FF-4943535C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297EA-4D23-4415-B338-16A2F012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D98D2-845C-4111-9D3A-1490C984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85736-6B79-4946-AE8E-1A43382A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2B4D-CD52-4F2E-B0F9-159D820114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1EEF-0223-473F-8D8E-34CBE0601F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640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Garamond"/>
              </a:rPr>
              <a:t>UNFUNDED NEEDS 2006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3200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Garamond"/>
              </a:rPr>
              <a:t>NPT-DR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Garamond"/>
              </a:rPr>
              <a:t>ASSISI ITALY 10-11 Nov 0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Garamond"/>
              </a:rPr>
              <a:t>Ministère de la santé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DEFICITS PAR ACTIVITES EN DETAILS (2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9640" y="1700280"/>
          <a:ext cx="8229600" cy="4824000"/>
        </p:xfrm>
        <a:graphic>
          <a:graphicData uri="http://schemas.openxmlformats.org/drawingml/2006/table">
            <a:tbl>
              <a:tblPr/>
              <a:tblGrid>
                <a:gridCol w="6264360"/>
                <a:gridCol w="196524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atiments, équipements (véhicules, labo/bureau, et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8 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Équipement des bureaux (cplt et unité central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28 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réhabilitations dépôt médicament cplt (22 CPL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2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Réhabilitation CDV de quelques Csdt (100 CSD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500 000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tres lignes budgétaires tbc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8 6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Transport  médicaments à l’intérieur du pays, et carbura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62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Form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140 000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Supports d'inform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48 6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DEFICITS COMPLEMETAIRES AU BUDGET 2006 en $us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68360" y="1989000"/>
          <a:ext cx="8218080" cy="3670920"/>
        </p:xfrm>
        <a:graphic>
          <a:graphicData uri="http://schemas.openxmlformats.org/drawingml/2006/table">
            <a:tbl>
              <a:tblPr/>
              <a:tblGrid>
                <a:gridCol w="6313680"/>
                <a:gridCol w="1904400"/>
              </a:tblGrid>
              <a:tr h="161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ûts des ARV pour 2006</a:t>
                      </a: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(soumis dans la composante </a:t>
                      </a: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"</a:t>
                      </a:r>
                      <a:r>
                        <a:rPr b="1" lang="fr-FR" sz="1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Vih-Sida ;</a:t>
                      </a: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n'a pas été acceptée par le </a:t>
                      </a:r>
                      <a:r>
                        <a:rPr b="1" lang="fr-FR" sz="1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Fond mondia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319 1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pplémen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alaire du personnel de la périphéri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pour 2006 (soumis dans la composante 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"</a:t>
                      </a: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appui aux structures des soins",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n'a pas été acceptée par le Fond mondial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Garamond"/>
              </a:rPr>
              <a:t>RDC: GENERALITES / DRC: OVER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314360"/>
            <a:ext cx="449568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SUPERFICIE/SIZE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2.345.000 km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POPULATION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: 58.000.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&lt; 20 ans: 57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PIB/GDP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en $ 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358 (’58), 100 (’85), 74 (‘0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IDH/HDI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: 0,3655 (‘04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EMPLOI/EMPLOYMENT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26 % (‘98)  7 % (‘0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REVENUS/INCOME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0,30 $ us/J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MALNUTR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10 % (‘95)  16 % (’0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18000" y="1295280"/>
            <a:ext cx="462600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77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ORGANIZATION DE LA SANTE / HEALTH SYSTEM ORGANIZ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1600200"/>
            <a:ext cx="47736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Budget annuel santé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/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Annual health budget: </a:t>
            </a:r>
            <a:r>
              <a:rPr b="1" lang="fr-FR" sz="2400" spc="-1" strike="noStrike">
                <a:solidFill>
                  <a:srgbClr val="ffffff"/>
                </a:solidFill>
                <a:latin typeface="Garamond"/>
              </a:rPr>
              <a:t>&lt; de 2% de 1000.000.000 $ U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Politique de santé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: soins de santé primaires/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Health policy: primary health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515 zones de santé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: 1/2 non fonctionnel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515 health zones: 1/2 non-funct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11 provinces, 20 CPLT, 991 CSDT (75% po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11 provinces, 20 CPLT, 991 TTC (75% po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788000" y="1700280"/>
          <a:ext cx="435600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700280"/>
                    <a:ext cx="435600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e5e5ff"/>
                </a:solidFill>
                <a:latin typeface="Garamond"/>
              </a:rPr>
              <a:t>Five years plan budget 2006-201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TOTAL: 112.565.788 U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Received from GF: 36 M out of 43 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Year 1 needs: 25 M and 5 M unfundeed pl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3.319.123 USD for 41.000 coinfected patients ARV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1.000.000 USD for the support of basic health care system (personnel motivation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8000" y="122400"/>
            <a:ext cx="8856720" cy="654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216000" y="216000"/>
          <a:ext cx="9144000" cy="6807240"/>
        </p:xfrm>
        <a:graphic>
          <a:graphicData uri="http://schemas.openxmlformats.org/drawingml/2006/table">
            <a:tbl>
              <a:tblPr/>
              <a:tblGrid>
                <a:gridCol w="2916000"/>
                <a:gridCol w="62280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000" spc="-1" strike="noStrike">
                          <a:solidFill>
                            <a:srgbClr val="ffff00"/>
                          </a:solidFill>
                          <a:latin typeface="Century Gothic"/>
                        </a:rPr>
                        <a:t>PARTENAIRES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000" spc="-1" strike="noStrike">
                          <a:solidFill>
                            <a:srgbClr val="ffff00"/>
                          </a:solidFill>
                          <a:latin typeface="Century Gothic"/>
                        </a:rPr>
                        <a:t>TYPE DE PARTENARIAT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(list institution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. GLOBAL FUN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ailleur du PNT (Uni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Centrale et CPLT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. USAI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ailleur Uni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Centrale &amp; CPL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: KOC, KOR, EQN, POE, MANIEMA, SANKURU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3. GDF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rovisionnement en m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icaments (2/3 des besoins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4. CDC-ATLA. (UNC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RECHERCHE OPERATIONNEL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. UICTM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technique au PN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. OM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technique au PN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7. LNAC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technique au PNT (MOSO) et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2 CPL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: KOC, KO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8. Fondation Damie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in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l (fonds et technique)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10 CPL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9. TLMI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in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l (fonds et technique)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7 CPL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0. ALM, FOPERDA, UB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in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l (fonds et technique)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3 CPLT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95400" y="6464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" y="274680"/>
            <a:ext cx="903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UDGET ANNONCE PAR PARTENAIRES POUR 2006 en $USA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50920" y="1197000"/>
          <a:ext cx="8640720" cy="5322960"/>
        </p:xfrm>
        <a:graphic>
          <a:graphicData uri="http://schemas.openxmlformats.org/drawingml/2006/table">
            <a:tbl>
              <a:tblPr/>
              <a:tblGrid>
                <a:gridCol w="2808360"/>
                <a:gridCol w="1023840"/>
                <a:gridCol w="1000080"/>
                <a:gridCol w="330480"/>
                <a:gridCol w="669960"/>
                <a:gridCol w="922320"/>
                <a:gridCol w="877680"/>
                <a:gridCol w="1008000"/>
              </a:tblGrid>
              <a:tr h="11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ES OU RUBRIQUES DE DEPEN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dget 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ouvernem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ê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FAT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tenai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mobiliser (c+d+e+f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ter à mobiliser pour 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1ère lig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777 3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708 0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9 3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777 3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2ème lig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52 9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002 9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52 9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onnel travaillant exclusivement TB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549 4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699 4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949 4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itiatives pour accroître la détection et la guéri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 667 4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4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8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 2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67 4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és de collaboration TB/VI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123 7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29 0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859 0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64 7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âtiments, équipements (véhicules, labo/bureau, etc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996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01 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796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047 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8 9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tres lignes budgétaires t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758 6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5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835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8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8 6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 325 6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03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 206 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 899 8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 135 9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189 7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DEFICIT BUDGETAIRE PAR RUBRIQUES DE DEPENSE 2006 en $Us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600200"/>
          <a:ext cx="8435880" cy="4987800"/>
        </p:xfrm>
        <a:graphic>
          <a:graphicData uri="http://schemas.openxmlformats.org/drawingml/2006/table">
            <a:tbl>
              <a:tblPr/>
              <a:tblGrid>
                <a:gridCol w="6059520"/>
                <a:gridCol w="237636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1ère lig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2ème lig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onnel travaillant exclusivement TB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0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itiatives pour accroître la détection et la guéris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67 4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és de collaboration TB/VI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64 7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atiments, équipements (véhicules, labo/bureau, etc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8 9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tres lignes budgétaires tbc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8 6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189 77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964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DEFICITS PAR ACTIVITES EN DETAILS (1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50920" y="1413000"/>
          <a:ext cx="8893080" cy="5360760"/>
        </p:xfrm>
        <a:graphic>
          <a:graphicData uri="http://schemas.openxmlformats.org/drawingml/2006/table">
            <a:tbl>
              <a:tblPr/>
              <a:tblGrid>
                <a:gridCol w="6708600"/>
                <a:gridCol w="21844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onnel travaillant exclusivement TB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Niveau nation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Niveau intermédiaire CPL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4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itiatives pour accroître la détection et la guéris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67 4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Incitatives et motivations pour fournisseurs des soins membres de la communaut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80 9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Primes du personnel supplémentaires aux csd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986 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és de collaboration TB/VI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64 7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Primes partiels médecins cpl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4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Primes Infirmiers cplt des grands  CSDT avec CDV (&gt; de 200 nc tb /an)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5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Former et recycler les prestataires des soins (médecins, laborantins, infirmiers) pour la prise e charge de la coinfec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47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12:53:50Z</dcterms:created>
  <dc:creator>Etienne Bahati </dc:creator>
  <dc:description/>
  <dc:language>en-US</dc:language>
  <cp:lastModifiedBy>SG</cp:lastModifiedBy>
  <dcterms:modified xsi:type="dcterms:W3CDTF">2005-11-10T06:27:56Z</dcterms:modified>
  <cp:revision>13</cp:revision>
  <dc:subject/>
  <dc:title>DEFICIT BUDGETAIRE 2006</dc:title>
</cp:coreProperties>
</file>