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5.wmf" ContentType="image/x-wmf"/>
  <Override PartName="/ppt/media/image3.png" ContentType="image/png"/>
  <Override PartName="/ppt/media/image4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 increase by 7% in 2003  and 20% in 2004 and represent more than 2/3 expendi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represent 1/3 half GFATM, half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remain additional all other 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 increased by 91% between 2004 and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t increased by  62% in 2003 and 21%in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 increase 100%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1% increased budget increase CDR by 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ccess remain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HO's TB Strategy and Operations team took the lead in coordinating efforts to increase R5 outcomes for T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shop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) Geneva 31 participants: used planning frameworks for each area of the expanded DOTS framework (e.g. TB/HIV, MDR, ACS, PPM etc) to assist participants in bridging the gap from theory to practise e.g. guidance on activities and budgets.  Also policy updates, and discussions on strategic approach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) Cairo 15 participants: ACS workshop organized by STBP with Johns Hopkins University.  Training communications specialists on drafting ACS components within R5 TB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R1-4 include TB and TB/HIV proposals, whereas for R5 the TB/HIV category was dropped.  The $ for R5 includes full grant amounts approved for TB proposals only, it does not account for TB/HIV approved funding in HIV proposals or TB components within Health Systems Strengthening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doesn’t include TB/HIV in HIV proposals or TB aspects of HSS propos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lvl="1"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TB budget increased by 1/3 in 2004 (38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crease is largely due Government increase which represent 2/3 of the budg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FATM x2 in 2005 representing 66% of external source in 2005 but only 15% total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grant decreased in 2004 and 2005 but total grant continue to increase GFATM partially addi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55160" cy="409680"/>
          </a:xfrm>
          <a:prstGeom prst="rect">
            <a:avLst/>
          </a:prstGeom>
          <a:ln w="0">
            <a:noFill/>
          </a:ln>
        </p:spPr>
      </p:pic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FATM status for TB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r Léopold Blan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.Y. Norval, A. Godfr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op TB Department, W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7632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B expenditure in 11 HBC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1/2 world pop, 1/3 TB case world)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and impact on S+ CD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13000"/>
          <a:ext cx="914400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13000"/>
                    <a:ext cx="9144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529640" y="3521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3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72800" y="270828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176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2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4200" y="1989000"/>
            <a:ext cx="11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$247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4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4571640" y="6857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 flipV="1">
            <a:off x="2556000" y="5229000"/>
            <a:ext cx="2447640" cy="215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003640" y="5013360"/>
            <a:ext cx="2232360" cy="216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60200" y="47912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DR S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50360" y="49608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5440" y="458136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34880" y="42926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  <a:ea typeface="Arial"/>
              </a:rPr>
              <a:t>+1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8000" y="259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Support to countries  for GFATM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osal preparation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RP clarific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rant negotiation - P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&amp;E plan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curement plan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hase 2 renewal – PR/S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gular reporting - PR/SR/(LF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eb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RS response - CC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2708280"/>
            <a:ext cx="647640" cy="3672000"/>
          </a:xfrm>
          <a:custGeom>
            <a:avLst/>
            <a:gdLst>
              <a:gd name="textAreaLeft" fmla="*/ 0 w 647640"/>
              <a:gd name="textAreaRight" fmla="*/ 234000 w 647640"/>
              <a:gd name="textAreaTop" fmla="*/ 95760 h 3672000"/>
              <a:gd name="textAreaBottom" fmla="*/ 3576240 h 367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3500280"/>
            <a:ext cx="212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l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Quant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ord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1700280"/>
            <a:ext cx="360360" cy="792000"/>
          </a:xfrm>
          <a:custGeom>
            <a:avLst/>
            <a:gdLst>
              <a:gd name="textAreaLeft" fmla="*/ 0 w 360360"/>
              <a:gd name="textAreaRight" fmla="*/ 129960 w 36036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22"/>
                </a:lnTo>
                <a:cubicBezTo>
                  <a:pt x="10800" y="9922"/>
                  <a:pt x="16200" y="10822"/>
                  <a:pt x="21600" y="10822"/>
                </a:cubicBezTo>
                <a:cubicBezTo>
                  <a:pt x="16200" y="10822"/>
                  <a:pt x="10800" y="11722"/>
                  <a:pt x="10800" y="12622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184464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TA provide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98640" cy="1898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71604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urning R5 investment into effective TB control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going support to facilitate successful implementation and resulting disbursements (up to approved amou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for TB experts (those who assisted in proposal preparation, +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ant agreement prepa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support for the preparation of grant agreements (plan develo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"GIST" for T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sts within the "Stop TB coalition for Technical Assistanc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nk with GIST (Global Joint Problem Solving and Implementation Support Team) developed in HIV/AIDS community to coordinate 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1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ntify priority countries based 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edly failed sub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Limited GFATM funding for TB control per case no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for laboratory strengthe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reinforce monitoring (electronic reg.) and evaluation (impa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Need to link TB to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pressed desire to a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Preparation for Round 6 (2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178840" cy="381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peat and improve upon round 5 metho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esk reviews and assessment missions to analyze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nalysis of HSS proposals of round 5 and decide on a strategy to reinforce TB and H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orkshop for proposal development (tailored to needs identified during the review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untry missions for proposal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Capacity Buil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hase 2 renewal process and planning end of GFATM gr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orkshop for Principal Recipients (P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Regional support for ongoing and new gra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ull time coordination for GFATM matters (with technical partners, CCM, PR, GFATM Secretaria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F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U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Budget for round 5 and 6 activ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886040"/>
          <a:ext cx="8147160" cy="4871880"/>
        </p:xfrm>
        <a:graphic>
          <a:graphicData uri="http://schemas.openxmlformats.org/drawingml/2006/table">
            <a:tbl>
              <a:tblPr/>
              <a:tblGrid>
                <a:gridCol w="4384800"/>
                <a:gridCol w="1936800"/>
                <a:gridCol w="18255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tecting R5 invest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 TB coalition for TA (GIST for T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6 prepa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city Build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ional Suppo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Possibly Swede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7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1.2 m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076720" y="148428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  <a:ea typeface="Arial Unicode MS"/>
              </a:rPr>
              <a:t>US$           g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The Strategic Approach to R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bjective: to increase the quality, scope, and size of TB proposals approved in Round 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orkshops for technical experts on R5 GFATM (46 consultants train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creasing capacity of coordination in WHO (DEWG secretari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nding proposal support missions to  countries (46 countries supported by WHO and Stop TB Partne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ng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tbproposalhelp@who.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pport line for teams in the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DD14-A28C-4D64-B4CE-C55AD4ED29B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5992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areas in alignment with Stop TB strategy and Global p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673280"/>
            <a:ext cx="8964720" cy="518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OTS expansion in all R1-5 including lab.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B/HIV in 63/103 TB and TB/HIV proposals (R1-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n 17/25 HIV proposals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DR represents 75% of MDR projects world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5,000 MDR TB cases (R1-5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CS in 9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ommunity TB in 10/22 (R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PM in 8/22 HB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4920" y="33300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echnical support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 GFATM at global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2033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posal forms and guide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&amp;E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LC agreement: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TB drugs procurement  and Technical sup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curement list of eligible 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line drugs including G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riefing TRP, portfolio man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Tahoma"/>
              </a:rPr>
              <a:t>MOU Stop TB Partnership – GF on 19 May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Coordinated TA from Stop TB Partn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Drug procurement via GDF and G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TB $ By Round for Total Grant Perio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3680" y="1886040"/>
          <a:ext cx="8164440" cy="41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886040"/>
                    <a:ext cx="8164440" cy="41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4232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Black"/>
              </a:rPr>
              <a:t>Round 5 vs. Average</a:t>
            </a:r>
            <a:br>
              <a:rPr sz="36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Total funding for TB ($) by Round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F4DF-A790-42DC-B2FC-38AB2906546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68360" y="1484280"/>
          <a:ext cx="8218440" cy="5213520"/>
        </p:xfrm>
        <a:graphic>
          <a:graphicData uri="http://schemas.openxmlformats.org/drawingml/2006/table">
            <a:tbl>
              <a:tblPr/>
              <a:tblGrid>
                <a:gridCol w="1450800"/>
                <a:gridCol w="3240360"/>
                <a:gridCol w="352728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B and 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erage Total TB $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r Roun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13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98 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6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235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308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$488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% increas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The Result of investment in Human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GFATM estimates that Round 5 funding will result in 1.5 million people cured of TB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488m/1.5m = $325 per cure ave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financing raised for TB control in Round 5 exceeded the expected average by $190m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$190m / $325 per cure average =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he increased level of strategic engagement with the GFATM in Round 5 by WHO and Stop TB Partners directly contributed to financing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584,000 additional TB cur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63AE-2973-4A87-B4EF-54940E2E4F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431640"/>
          <a:ext cx="6804000" cy="642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6804000" cy="64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080" y="-360"/>
            <a:ext cx="8737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GFATM support for TB (R1-5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5508720" y="2349360"/>
            <a:ext cx="297324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95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TB gr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72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 count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ff"/>
                </a:solidFill>
                <a:latin typeface="Arial"/>
                <a:ea typeface="Arial"/>
              </a:rPr>
              <a:t>21/22 </a:t>
            </a:r>
            <a:r>
              <a:rPr b="1" lang="en-GB" sz="3600" spc="-1" strike="noStrike">
                <a:solidFill>
                  <a:srgbClr val="0000ff"/>
                </a:solidFill>
                <a:latin typeface="Arial"/>
                <a:ea typeface="Arial"/>
              </a:rPr>
              <a:t>HB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71600" y="6261120"/>
            <a:ext cx="741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Global TB Control Report: Surveillance, Planning, Financing. WHO Report 20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260280"/>
            <a:ext cx="794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otal NTP Budgets by Source of 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22 high-burden countries, 2002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23880" y="50133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50920" y="1773360"/>
          <a:ext cx="8670960" cy="449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3360"/>
                    <a:ext cx="8670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7" name=""/>
          <p:cNvGrpSpPr/>
          <p:nvPr/>
        </p:nvGrpSpPr>
        <p:grpSpPr>
          <a:xfrm>
            <a:off x="527040" y="3141720"/>
            <a:ext cx="6437520" cy="1613520"/>
            <a:chOff x="527040" y="3141720"/>
            <a:chExt cx="6437520" cy="1613520"/>
          </a:xfrm>
        </p:grpSpPr>
        <p:sp>
          <p:nvSpPr>
            <p:cNvPr id="78" name=""/>
            <p:cNvSpPr/>
            <p:nvPr/>
          </p:nvSpPr>
          <p:spPr>
            <a:xfrm>
              <a:off x="527040" y="441792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13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23840" y="4346640"/>
              <a:ext cx="93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46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29280" y="314172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836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1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92200" y="357336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690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5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60920" y="3286080"/>
              <a:ext cx="935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Arial Unicode MS"/>
                </a:rPr>
                <a:t>$ 754 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ff"/>
                  </a:solidFill>
                  <a:latin typeface="Arial Black"/>
                  <a:ea typeface="Arial Unicode MS"/>
                </a:rPr>
                <a:t>+9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6705720" y="4724280"/>
            <a:ext cx="11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 Black"/>
                <a:ea typeface="Arial Unicode MS"/>
              </a:rPr>
              <a:t>57% t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581360"/>
            <a:ext cx="73080" cy="1081080"/>
          </a:xfrm>
          <a:custGeom>
            <a:avLst/>
            <a:gdLst>
              <a:gd name="textAreaLeft" fmla="*/ 0 w 73080"/>
              <a:gd name="textAreaRight" fmla="*/ 26280 w 730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59640" y="4221000"/>
            <a:ext cx="142920" cy="287640"/>
          </a:xfrm>
          <a:custGeom>
            <a:avLst/>
            <a:gdLst>
              <a:gd name="textAreaLeft" fmla="*/ 0 w 142920"/>
              <a:gd name="textAreaRight" fmla="*/ 51480 w 142920"/>
              <a:gd name="textAreaTop" fmla="*/ 7200 h 287640"/>
              <a:gd name="textAreaBottom" fmla="*/ 28044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575"/>
                </a:lnTo>
                <a:cubicBezTo>
                  <a:pt x="10800" y="8475"/>
                  <a:pt x="16200" y="9375"/>
                  <a:pt x="21600" y="9375"/>
                </a:cubicBezTo>
                <a:cubicBezTo>
                  <a:pt x="16200" y="9375"/>
                  <a:pt x="10800" y="10275"/>
                  <a:pt x="10800" y="11175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8840" y="2492280"/>
            <a:ext cx="123840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1</a:t>
            </a: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% t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 Black"/>
                <a:ea typeface="Arial Unicode MS"/>
              </a:rPr>
              <a:t>67% gr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7520" y="535320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Arial Black"/>
                <a:ea typeface="Arial Unicode MS"/>
              </a:rPr>
              <a:t>+4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803640" y="3141720"/>
            <a:ext cx="144360" cy="115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9T00:16:36Z</dcterms:created>
  <dc:creator>WHO CC Tradate</dc:creator>
  <dc:description/>
  <dc:language>en-US</dc:language>
  <cp:lastModifiedBy>Leopold Blanc</cp:lastModifiedBy>
  <cp:lastPrinted>2000-06-26T03:06:53Z</cp:lastPrinted>
  <dcterms:modified xsi:type="dcterms:W3CDTF">2005-11-11T10:31:33Z</dcterms:modified>
  <cp:revision>238</cp:revision>
  <dc:subject/>
  <dc:title>DRUG   SUPPL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39988606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Assisi GFATM presentation</vt:lpwstr>
  </property>
  <property fmtid="{D5CDD505-2E9C-101B-9397-08002B2CF9AE}" pid="6" name="_NewReviewCycle">
    <vt:lpwstr/>
  </property>
  <property fmtid="{D5CDD505-2E9C-101B-9397-08002B2CF9AE}" pid="7" name="_PreviousAdHocReviewCycleID">
    <vt:r8>1914704809</vt:r8>
  </property>
  <property fmtid="{D5CDD505-2E9C-101B-9397-08002B2CF9AE}" pid="8" name="_ReviewingToolsShownOnce">
    <vt:lpwstr/>
  </property>
</Properties>
</file>