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9505-4B0D-40CA-AE37-8C30C3BF7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7E4E-1EC8-4B4A-B83B-6332A82C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4408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30960" y="160020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4408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430960" y="4097880"/>
            <a:ext cx="236808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000" y="274320"/>
            <a:ext cx="73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226040" y="409788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26040" y="1600200"/>
            <a:ext cx="358884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97880"/>
            <a:ext cx="7354800" cy="228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3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354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Berlin Sans FB Demi"/>
                <a:ea typeface="Gungsuh"/>
              </a:rPr>
              <a:t>Africa Blueprint :  Progress since Addis and proposed next steps 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57340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Haileyesus Getah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STOP TB Depar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erlin Sans FB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8900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18900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Narrow"/>
              </a:rPr>
              <a:t>Stop TB Partnership Coordinating Board Meeting, November 10-11, Assisi, Ita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Why the Blueprint?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erlin Sans FB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fell or was stable in all WHO regions except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erlin Sans FB"/>
              </a:rPr>
              <a:t>TB incidence is rising more quickly in HIV prevalent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Reaching the TB MDGs and Stop TB targets globally will depend on  expanding and consolidating DOTS and tackling  the effects of HIV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Therefore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66"/>
                </a:solidFill>
                <a:latin typeface="Berlin Sans FB"/>
              </a:rPr>
              <a:t>unprecedented collective action is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9144000" cy="6318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The Blueprin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915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Linked to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the Second Global Plan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guidance on activities and  financial needs for 2006-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Provides key recommendations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he Stop TB Partnership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African governments and health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NGOs, Donor and Technical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Needs 2.2 Billion US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Declaration of regional TB emerg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O Regional Committee meeting-August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ies should develop emergency strategies and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erlin Sans FB"/>
              </a:rPr>
              <a:t>Noted in glob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NTP managers meeting in Harare this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Official endorsement by the African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WHA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Berlin Sans FB"/>
              </a:rPr>
              <a:t>Gaborone Declaration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endorsed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8 Gleneagles Communiqué - call for action in Afr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ased on Stop TB's statement of need; endorsed call for Ministerial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Informal meeting of technical staff of G8 in follow-up and proposed steps for 9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3516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66"/>
                </a:solidFill>
                <a:latin typeface="Berlin Sans FB Demi"/>
              </a:rPr>
              <a:t>Achievements (May 05- Oct 05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Support for Regional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cretariat allocated fund for AF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echnical assistance for need assessment for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ngagement with Worl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B&amp;M Gates Foundation-funded analysis of economic impact of TB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Discussion on ways to increase financing via WB mechanisms (eg MA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22 Global Fund TB proposals appro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More than half (USD 106 million) was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GDF provided drugs to 15 count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TBCAP project (USAID) for 8 Africa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Continue working with African U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Berlin Sans FB"/>
              </a:rPr>
              <a:t>TB as an agenda in Heads of State sum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"/>
              </a:rPr>
              <a:t>Expedite Africa Stop TB Part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Political commitment, multisectoral involvement and coordination among technical agencies and do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Guidance to increase priority to TB into national development agendas (eg PRSPs, SWAp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Assist in emergency medium and long term plan dev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Select first wave of countries and coordinate the 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High level missions to donors and high burden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Berlin Sans FB"/>
              </a:rPr>
              <a:t>WB, ADB, OGAC/PEPFAR,  EU and bilater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66"/>
                </a:solidFill>
                <a:latin typeface="Berlin Sans FB Demi"/>
              </a:rPr>
              <a:t>Proposed next steps (6 months)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partners to address human resources cr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 </a:t>
            </a: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Training of middle level heal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Font typeface="Berlin Sans F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Berlin Sans FB"/>
              </a:rPr>
              <a:t>Country specific retention and remuneration strate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Work with the government of Nigeria to link the ministerial meeting with the planned Heads of state meeting on HIV, TB and Mal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Start planning for the next Stop TB forum in Af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Berlin Sans FB"/>
              </a:rPr>
              <a:t>Commit and generate finance and coordinate T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19:30:15Z</dcterms:created>
  <dc:creator>getahunh</dc:creator>
  <dc:description/>
  <dc:language>en-US</dc:language>
  <cp:lastModifiedBy>getahunh</cp:lastModifiedBy>
  <dcterms:modified xsi:type="dcterms:W3CDTF">2005-11-10T06:41:50Z</dcterms:modified>
  <cp:revision>6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2503382</vt:r8>
  </property>
  <property fmtid="{D5CDD505-2E9C-101B-9397-08002B2CF9AE}" pid="3" name="_AuthorEmail">
    <vt:lpwstr>weild@who.int</vt:lpwstr>
  </property>
  <property fmtid="{D5CDD505-2E9C-101B-9397-08002B2CF9AE}" pid="4" name="_AuthorEmailDisplayName">
    <vt:lpwstr>Weil, Diana</vt:lpwstr>
  </property>
  <property fmtid="{D5CDD505-2E9C-101B-9397-08002B2CF9AE}" pid="5" name="_EmailSubject">
    <vt:lpwstr>Presentation at Assisi for comment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