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2785-CF67-434E-865D-7272C97FE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EA05-6329-4C0B-90D0-3D4057A3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133-E317-4F23-A098-EE493912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5BB-E814-4ED3-B024-0892A9130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97B5-889D-4547-A4F9-2DE1662D5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32C5-A31D-454C-B3ED-928F685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42C8-5F24-4CB9-AB70-708B82878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81A1-9F5D-4D8B-9880-B5280EFC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C860-58C9-412C-8956-128F11C7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1598-1A69-4F65-8E34-37E0342D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4004-B30A-4620-8F3C-11E518D1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257B-5F9F-4D19-888F-392D5E974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6761-8CEA-432F-85C6-C90B84F3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45F1-1D4B-49FE-91FB-42312DA1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6097-C4A5-4607-938F-85E7913A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FCB4-489A-48CE-95E6-01DD0BB56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792D0-09E2-48F2-846B-B96F54908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6DF-09F2-4E20-AB9D-1331ED82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D81-7B6D-425A-8586-46673943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A83-5EF3-4BA0-B946-618095CE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1FE3-EFBE-4A5D-A3F4-5005E3F9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0AD-718B-43FA-9709-02D764C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5AD6-D358-4706-B897-258BD5C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F4A-AB7A-4F7E-919E-51385C25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07FF-282A-4C80-98D4-EBF9E157EE7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BFCC-18EC-4DA4-9CEE-83230C646E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1280" y="1628640"/>
            <a:ext cx="896472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GLOBAL PLAN: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Tahoma"/>
              </a:rPr>
              <a:t>THE COST OF GLOBAL TB CONTRO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宋体"/>
              </a:rPr>
              <a:t>Giorgio Roscign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Coordinating Board Meeting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0 November,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Financing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implication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Plan to be used for resource mobilis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national govern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mplications for donor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465280" y="905040"/>
            <a:ext cx="4224600" cy="597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Presentation 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Global Plan to Stop TB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7080" y="1413000"/>
            <a:ext cx="86756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Outline of presentation on the Global Plan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Background: the planned achievement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Cos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Key message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0000"/>
                </a:solidFill>
                <a:latin typeface="Tahoma"/>
              </a:rPr>
              <a:t>Financing implications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en years' planned achievements: highligh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50 million people treated for TB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Stop TB Partnership targets for 2015 achieved global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Tremendous progress in all reg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First new TB drug for 40 years in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Diagnostics at point of care – rapid, sensitive and inexpensive TB diagnosis by 2010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New, safe, effective and affordable vaccine by 2015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Global Plan </a:t>
            </a:r>
            <a:br>
              <a:rPr sz="3600"/>
            </a:b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Country needs, R &amp;D, external agenci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Investment according to Working Group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720000"/>
                </a:solidFill>
                <a:latin typeface="Tahoma"/>
              </a:rPr>
              <a:t>Available funding and gap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50920" y="1341360"/>
            <a:ext cx="8569080" cy="512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8713800" cy="49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896472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ahoma"/>
              </a:rPr>
              <a:t>Key messag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A global plan for a global campaig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$56 billion investment yields large rewards: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50 million TB patients trea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14 million lives sa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Need to collaborate with others to succe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The ultimate goal depends on continued innovation (in vaccines, drugs and diagnostics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720000"/>
                </a:solidFill>
                <a:latin typeface="Tahoma"/>
              </a:rPr>
              <a:t>We can get there! PLAN X RESOURCES = RESULT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maherd</cp:lastModifiedBy>
  <dcterms:modified xsi:type="dcterms:W3CDTF">2005-11-08T16:48:53Z</dcterms:modified>
  <cp:revision>146</cp:revision>
  <dc:subject/>
  <dc:title>Slide 1</dc:title>
</cp:coreProperties>
</file>