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981-2A80-4736-9ED5-5BD79BC1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0401-D87C-4D37-B10E-6CF57DB8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1E6-B4E0-4C7C-8AB2-D7821911E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FA8-89F8-45FD-AF31-C1C7F760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0742-EFF1-41F3-ABDF-189E3F0D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373F-3798-4450-9C8E-A2210CEC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5D23-9FF6-4C50-83F5-A72FA940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2813-5137-4333-80E4-2C50EC4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7D0C-2096-4B43-9656-F5FD8A71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4A7-B7DB-43D0-A932-796B62A8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AD87-CCB3-4E47-AAC8-AC0A7625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8C8C-4E98-43BE-BE35-F7F971B5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012F-573E-471E-8BCC-34521632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711-B28B-4658-9A0A-141ACCCF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F2FE-104E-44F6-9549-E871F06C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4CC0-6579-491B-899D-501B3408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4FAA0-03CB-4928-8BE1-4F51EC01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EF2-39B8-419D-8DBB-476BD5C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7EF-B28F-4D0C-9056-7CBC7BA2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83EB-1F77-4CF5-A3DC-8EF0C9EC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65F1-086E-4E91-BB1B-03E351FE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436-43CE-4A46-9897-89C5F5D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BB8-6A2E-4189-B345-A01B65F7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F73C-48BD-4923-BDEB-F41A8D0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7FE-4E94-4FB3-8930-9A0AE55F2E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6DDD-891E-45E5-9D6D-FAA1FE68CB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top TB Partnership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KOCHON AW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005 Establishment of an Annual Stop TB Partnership/Kochon Foundation Pr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$ 100 000 to cover the prize and associated costs (travel et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 to the Foundation by representatives of Koch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gree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ablish Selection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ce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ounc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RI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itment to fighting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riginality of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mpact on TB Control or commu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ect of a Partnership/Kochon Award on the work of the recip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OMINATING COMMITTE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 Board Member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ochon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vember 2005: Establish Selection Committee (3 Board Members + WHO + Koch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cember 2005: Call for Nom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ebruary 2006: Deadline for no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ch 2006: Prize Awar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te 2006: Award Ceremo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5:26:09Z</dcterms:created>
  <dc:creator>bakerl</dc:creator>
  <dc:description/>
  <dc:language>en-US</dc:language>
  <cp:lastModifiedBy>bakerl</cp:lastModifiedBy>
  <dcterms:modified xsi:type="dcterms:W3CDTF">2005-11-09T16:35:54Z</dcterms:modified>
  <cp:revision>2</cp:revision>
  <dc:subject/>
  <dc:title>Stop TB Partnership </dc:title>
</cp:coreProperties>
</file>