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69EE-3154-44A5-936F-01D95180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B80A-ECC4-4B6F-A8B6-7B7EADE19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247-9314-460E-89D3-7A04205C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D0B-4F65-4B4F-8710-09261A13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76B-3E73-4AF6-8CE8-55B38D75D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A68-EA61-4D27-BF7E-73A823A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EF7C-59A1-4766-8A14-38D59793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8EC4-D97C-43C1-89D1-42997F3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994-2945-4DD1-8D28-815302E9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7EA-3755-4D92-BBA0-D789DC6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5F3E-249F-4573-9949-608B0D72C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EB32-DEED-4279-8B9D-A9E511D9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69E-CA8E-4ACB-B8D7-84F1C40E2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24360" y="228600"/>
            <a:ext cx="5067360" cy="6629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5410080" y="21337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3352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3, 0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ll cases of TB not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 2004: 105, 7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+ PTB:  41,467( 39% of all c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: All 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20/100,000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ase notification rate S+ P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25/10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stimated HIV prevalence in TB Patients  -over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DRTB – Less than 1% of smear + PT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2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utum sm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icroscopy centres (1/54, 000 po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49640" y="3952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Expected Donor Support to NLTP -200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066680"/>
          <a:ext cx="8229600" cy="5708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FATM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PFAR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AID ( non PEPF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alian Gr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A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( Biennium)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DF*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I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GAC/WHO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00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unding Needs - 20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295280"/>
          <a:ext cx="8229600" cy="5329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stimated Need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vailable Funds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ap (US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S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0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1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 8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2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6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Expansion and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0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TS-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 9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60,000*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5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66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794,2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arious funding status for the TB          (TB/HIV) control effort in Ke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ignificant funding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itional financial resources should be coupled with strengthened capacity to utilize the resources ( responsive in country fund disbursement system and additional H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49:39Z</dcterms:created>
  <dc:creator>Dr Chakaya</dc:creator>
  <dc:description/>
  <dc:language>en-US</dc:language>
  <cp:lastModifiedBy>user</cp:lastModifiedBy>
  <dcterms:modified xsi:type="dcterms:W3CDTF">2005-11-10T13:54:18Z</dcterms:modified>
  <cp:revision>4</cp:revision>
  <dc:subject/>
  <dc:title>Slide 1</dc:title>
</cp:coreProperties>
</file>