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05A-F564-48B3-AFF4-0599C03F0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264-6B57-495E-9804-9CCEE049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015D-9A5D-4C50-B0CC-090779A48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9AF-851C-4D5B-8D64-94332C63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7331-F7AA-4418-89F3-71FD93965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8CC2-CAAB-4BB8-ACC2-1343702A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10C5-7DB6-469C-8D0D-16445B1D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AB2B-A947-4EFF-9211-9BC3A062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A1AC-4231-4F38-8333-03A0CE00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50A8-1DA5-44A6-8EBE-7A6AB9D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2228-6BDF-461D-B22C-8BFFCE4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2D4-E13E-48E2-B487-D81F33E8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5271-978B-4E25-8C7E-362F0A1A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BED3-DA33-4403-A4F5-8B96D01C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E1A3-FB8E-44A8-B772-24AF0F2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C9B1-D30D-4F78-B551-62730B43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9CB6-C7D6-4535-B71F-315228FD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E5A8-1C2D-4C31-91B9-C007D17F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5B7-577B-4D58-BAE0-3B2D7E39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5250-8E44-4EB2-8A96-36AB8875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99F2-D9DC-4E7B-B632-3B8076E4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9AE-5FFE-403A-A399-4132722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917-7ED6-4F55-9815-9AEBC50B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89BE-C537-49BF-AB3F-87647B3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43D-9F04-4793-B741-FC7567B66F99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AF03-371B-4A26-9181-6D90DD3A1037}" type="slidenum">
              <a:rPr b="0" lang="nb-N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Patient Chart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412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r request to the CB is to endorse the draft of the Patient Charter and encourage the Secretariat to support the launch the final version of the Ch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403280" y="6524280"/>
            <a:ext cx="6400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ANK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2nd draft of the Patients´ Charter of the Tuberculosis Commun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outline both the Rights and Responsibilities of those infected by TB and to empower people with the disease and their communities through this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ackgrou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in tandem with the International Standards for Tuberculosis Care – focus on a “patient-centred approa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 right aspect: “Right to healt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principles for more accountability and mutual interaction among all stakeholders within TB control – from patients to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 righ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ar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free and equitable access to TB-care, from diagnosis to treatment and cure according to patients need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Dign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be treated with respect and a quality health care in a dignified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know what health care services are available  for TB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clear and understandable information about the disea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information about diagnosis, treatment, drugs, side-effe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share experiences with peers and voluntary counseling at any tim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to Choos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accept or refuse any medication, investigation or treatment and be informed about the consequenc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ight to whether or not take part in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Privac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ersonal privacy, dignity and religious and cultural beliefs respected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have medical conditions kept confid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Complai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 Right to complain through channels provided for this purpose and dealt with promptly and fairl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appeal to a higher authority if not res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organiz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in/establish organisation and groups of people with or affected by TB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participate as “stakeholders” in all levels of TB contro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ight to securit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job security after diagnosis and appropriate rehabilita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ight to nutritional security or food supplements if needed to meet treatment requir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atients´ Responsibi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share inform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Provide health care provider with necessary information about their health and possible close contac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follow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Follow prescribed and agreed treatment and protect oth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Inform the health care provider of treatment difficul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b-NO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defend the community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Encourage others to seek medical advice when showing TB symptom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consideration for the rights of other patients and health care provider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esponsibility to be empower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ow solidarity with other patient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Share knowledge gained during treatmen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Join in efforts to make the community TB 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09:59:51Z</dcterms:modified>
  <cp:revision>16</cp:revision>
  <dc:subject/>
  <dc:title>COMMUNITY EMPOWERMENT</dc:title>
</cp:coreProperties>
</file>