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AE6-A810-46A5-B700-FC6351B5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9A78-0897-4506-B045-D42A643F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8F75-20DE-4090-8FCE-59F02089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ECF-0392-46DF-BC44-60CACA53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D2E8-ED6A-4014-9E1F-964741CA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ED95-B265-4F2C-A638-0D9A965C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AAB5-445A-41AD-87F5-154C12E6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C98B-6DB7-4CF0-BF7E-6013E1D9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E667-4E3D-4408-A1F3-D866C729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BF30-3357-453C-8E8D-AFCB16ED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5E2F-8727-4C6E-9155-81EAB064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D9B-ACA7-4834-8227-252709AB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271F-EB10-4F02-B709-DF9EA6A8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AB6B-C723-4E9F-B39D-9EA102D6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BAFC-4647-49B8-87F9-A1175C43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0A17-2A57-4277-871A-F3A2333C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C75B-27F4-48EE-AD04-FD0C927A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9EF8-25E2-46F6-BE33-82D011F1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AEDA-AA09-4EA7-AE60-D3120A2F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58B-360E-430E-B975-6C4E11FC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2CB3-A94F-4D4D-A049-D59A6AF6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766-E4E9-42BC-8642-990C430F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5CD-8DFE-4967-81C1-B1B894D4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618B-6020-4D61-B8A3-A79087FB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C3AE-0ECF-4DD9-95FA-295E9826BD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6AED-9FC9-4C75-AB6E-EDA31C5D03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4724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br>
              <a:rPr sz="3200"/>
            </a:b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National TB Control Programme </a:t>
            </a:r>
            <a:br>
              <a:rPr sz="2000"/>
            </a:b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76320"/>
            <a:ext cx="9067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Stop TB Pakistan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</a:rPr>
              <a:t>Progresses and challeng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3280" y="2705040"/>
            <a:ext cx="1644840" cy="1714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B1D9-0EAA-48D1-B682-12BC950FC86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STOP TB Pakistan: the partner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officio: MOH represented by NTP Pakist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O Pakistan being the host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-Agencies Coordination Committee me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kistani partners of the Global Partnership willing to adhe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ons/institutions named by at least 2 part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resentation of CCM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56A3-5C92-41FB-9054-F82DF1C97E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Progresses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 between WHO Pakistan  endors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ds for set up of secretariat for one year sec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ts of Executive secretary and one secretary  advert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plan for next six months developed on the basis of the available funds including mass media campaign by Good will ambassador (Dec 05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361-00D2-4070-8166-1B604D2D99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Challeng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hort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aling with Earthquake v/s TB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ong Ter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TB control activities in Pakistan sustainable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81D1-3CD5-41DB-86AC-00F6A0C507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Future Needs of the Partnership Secretariat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ources t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Sustain Stop TB secretariat beyond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nhance the strength of the Secretariat (one Communication officer and one technical officer to be recruited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1C8-63D3-4AE8-815A-0B6830F425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00"/>
                </a:solidFill>
                <a:latin typeface="Tahoma"/>
              </a:rPr>
              <a:t>Thank you!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505320" y="3733920"/>
            <a:ext cx="191268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6F8E-6907-4F91-8712-25FAF34EDD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20600" y="0"/>
            <a:ext cx="736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Islamic Republic of Pakistan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2880" y="159984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:140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/3rd below poverty l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th among the HBC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250,000 new TB cases each ye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1828800"/>
            <a:ext cx="48006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ECAE-336A-49FD-BBA8-626C1556811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Earth quake-8th October 2005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           4 million affected in AJK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and NWFP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&gt;86000 Deaths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    2 million displace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A15E-6361-4350-A864-1928929CDAC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066680" y="139860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CB50-1A93-4A80-A2A0-BF7BC3FDF2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7772400" cy="51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CE4-1904-42DA-9F35-16297DB636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09480" y="1320840"/>
            <a:ext cx="7696440" cy="447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156-6EED-432B-9A9B-7D029FB363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Mr Wasim Akram presenting the National Stop TB Partnership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Lahore, 29th April 2004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38280" y="2700360"/>
            <a:ext cx="4496040" cy="309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E7B7-7EB8-490A-9ED6-2490554DAE3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9800" y="536040"/>
            <a:ext cx="7770960" cy="8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cc00"/>
                </a:solidFill>
                <a:latin typeface="Tahoma"/>
              </a:rPr>
              <a:t>Stop TB Pakistan to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bilise additional sustainable social &amp; polit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rdinate the implementation of the National strategy/plan developed by NTP for AC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hance public and political perception of Stop TB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gage non-traditional partners in the fight against TB and build alliances with other health and development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68D5-6527-4727-BFCE-784EA43111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atalyzing approac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CC/ Social mobilization through GFA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private sector through GFATM/FIDELIS/ Go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aging IACC by revisiting its ro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251-65F5-4EC2-8DB5-E0D8268B0C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7T17:54:37Z</dcterms:created>
  <dc:creator/>
  <dc:description/>
  <dc:language>en-US</dc:language>
  <cp:lastModifiedBy>Waseem Abbas Qureshi</cp:lastModifiedBy>
  <cp:lastPrinted>1997-02-21T06:00:05Z</cp:lastPrinted>
  <dcterms:modified xsi:type="dcterms:W3CDTF">2005-11-10T13:33:34Z</dcterms:modified>
  <cp:revision>735</cp:revision>
  <dc:subject/>
  <dc:title>Tuberculosis Control and Prevention</dc:title>
</cp:coreProperties>
</file>