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9AB3-08D5-47CF-AD14-D0DFBB0C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B1F4-C5E4-4E09-8CDE-F82C80FC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685A-DF8A-4887-B5E2-1E0F18AFC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F4F4-3284-490D-9CCA-92932BB64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AD61-96AA-478B-997E-C1C386036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A136-4D07-40E5-88A0-B9529391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F7EA-1686-4A85-A6EB-6CB9FBAB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C7AA-A8C2-48C7-B3DC-D02F9280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EEE4-C00B-41A1-A2FE-14AF237E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9856-C134-40E7-BFB1-0F4F945A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9B6D-A22F-4FAA-9F3B-B2E0B48D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C07D-9D49-45CC-8315-D23DFF66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0312-38EB-4093-86E6-02324FF8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624B-7F19-45D0-87ED-7EF8FCAA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FF54-BDB4-49BD-ABCC-414B6EB4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9FD3-2470-4F36-B1F4-364FD6B7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702D-E678-40E6-81AA-F7F0FB1DA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8D80-0BB6-4476-BB66-C21D5BAE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8665-946D-4DD5-9025-95B7DA98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9A61-90BD-4FEF-86DE-93262149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E6B0-1ADA-4E09-99E4-181874F4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37B2-3A9A-45B6-8C6C-2B2AF062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8F25-48D3-4806-8242-67E70DF9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92AF-CD2A-4830-945B-51A73321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9A90-9F48-4A09-9CD9-3A6937EF4DD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A498-A954-4143-8B1C-CAE6EB2DA6D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3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Draft Best Practice Principles for Engagement of Global Health Partnerships at Country Level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iscussion and comments to transmit to the High-Level Forum on the MDG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ctiv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20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Summary</a:t>
            </a: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 proposed Best Practice Principles for engagement of Global Health Partnerships (GHPs) at country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Introduction to discussion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Discussion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on comments to be transmitted by the Executive Secretary to the participants in the High-Level Forum (HLF) on the MDGs - 14-15 November in Pari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stification for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st Practice Principl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ise in number, prominence, financing, and impact of Global Health Partnerships (GHPs) – especially those related to HIV, Malaria, TB, &amp; vaccines/immuniz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oncern for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the burden posed on targeted / recipient governments,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potential distortions in priority-setting, time allocation, sector financing and monitoring &amp; reporting requir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ment of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aft principl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HLF Working Group on Global Health Partnerships formed</a:t>
            </a: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(Stop TB Exec. Sec., a membe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HO and World Bank Secretariat of the HLF and a consultant produced draft paper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 reviewed at Sept 2005 meeting of the HLF working group in Dubli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isions made and comments provided by W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ome concerns on relevance of some themes (eg 3&amp;4) to GHIs that are not financing mechanism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The role of technical/coordination GHPs in alleviating problems was not discussed in background pape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nal draft for review at HLF meet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xt step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771560"/>
            <a:ext cx="82184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LF review of the draft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vision and finalization by the HLF Secretari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irculation to GHPs seeking their endorsement &amp; adoption of the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"Operationalization"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tential points for discuss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re the objectives and themes valuable for the Partnership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re the individual principles acceptable and suitable?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eedback from Stop TB Secretariat: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top TB already facilitates a majority of the principles;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ome other principles feasible for GDF but will need planning to phase in;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opportunity for greater collaboration across GHIs and with donors to multiple GHIs;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TP uses UN external audit but cannot have independent auditor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ny further specific comments for the Exec. Secretary to note at the HLF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 the Board endorse the principles "in principle" now, and consider adoption based on review of final version at next CB meeting?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weild</cp:lastModifiedBy>
  <cp:lastPrinted>2004-03-17T17:37:17Z</cp:lastPrinted>
  <dcterms:modified xsi:type="dcterms:W3CDTF">2005-11-10T15:13:18Z</dcterms:modified>
  <cp:revision>189</cp:revision>
  <dc:subject/>
  <dc:title>Secretariat, 2003 Progress Report</dc:title>
</cp:coreProperties>
</file>