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9C80-C993-4C8E-B69A-E173F0ED41F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tailed slide for 2005 shows tha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de variation in funding streams, some countries very dependent on donor 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as a continuous growth from 1999 to 20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solute value shot up from 135 million in 1999 to 405 million in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 increase in this funding came from the GF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1814-ABC7-4FD8-B480-47305865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0964-FEF3-4B3A-AFD2-AD273190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7F77-F43E-4D54-A411-0A193733C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2DBB-6102-4C10-9A49-CF5A5692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FB0C-ED48-4B32-9E38-3E49609A8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2F6A-F074-48CC-8AE5-3FC5CD52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8528-6F37-42F9-AB6B-D0669F10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189F-F24D-4B5A-8A37-3FD90F9C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0513-D020-4417-BE6F-2F86A881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A126-3DC7-4429-8F33-9297C70F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C778-77CA-42C6-833A-05A36641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AD1A-A930-4BA3-A8DA-501F48A4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FCEC-8E4D-4FCF-8B45-8CBC7297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E132B-40A7-4B65-9107-C9131A7D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C3D0-F17E-42CB-B0E5-143E3029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B01C5-3ED8-4ADA-8163-FB6A7BED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DEF9-865C-4144-8DDE-FF3F9308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392B-35DD-434C-A5B8-9D69C5BA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83F1-B164-42EB-A89F-0877E66B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9955-1AE7-4C5C-BEC9-DF4F8E60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3982-749E-49DE-931C-D0A4139F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0B6B-CC67-4FD6-B0BA-BA9F4229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D8A9-DB60-4ED4-8A57-53AD7D01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9355-E6AD-44E9-AE23-1AFD94D0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7A67-FF9E-45FE-AFBE-079B0F64391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0AE6-7759-4CCF-8CDB-9510C2212CF2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1700280"/>
            <a:ext cx="8280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Findings from donor survey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the WHO Financial monitoring project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In the context of the Second Global Plan to Stop TB  </a:t>
            </a:r>
            <a:endParaRPr b="1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Irene Koek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ember Coordinating Board Stop TB Partner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10 November 2005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ssisi, Ital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ontribution from Foundations (US$ Millions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8000" y="1393920"/>
          <a:ext cx="8964360" cy="4987440"/>
        </p:xfrm>
        <a:graphic>
          <a:graphicData uri="http://schemas.openxmlformats.org/drawingml/2006/table">
            <a:tbl>
              <a:tblPr/>
              <a:tblGrid>
                <a:gridCol w="1175760"/>
                <a:gridCol w="1175760"/>
                <a:gridCol w="983520"/>
                <a:gridCol w="1177200"/>
                <a:gridCol w="1174680"/>
                <a:gridCol w="1177200"/>
                <a:gridCol w="1174320"/>
                <a:gridCol w="925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Inst,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99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0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Gates</a:t>
                      </a:r>
                      <a:r>
                        <a:rPr b="0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0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O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9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Roc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4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Sequ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0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Total</a:t>
                      </a: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51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4,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.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6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720000"/>
                          </a:solidFill>
                          <a:latin typeface="Tahoma"/>
                        </a:rPr>
                        <a:t>1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916280"/>
            <a:ext cx="7561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720000"/>
                </a:solidFill>
                <a:latin typeface="Tahoma"/>
              </a:rPr>
              <a:t>Other findings from donor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growth in funding to public health increasingly becoming part of  budget support and SWAPS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erception that substantial flows are becoming linked to PRSP with   support  for broader health pla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Funding for TB linked to donor priority given to MDGs and poverty allev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47894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Global Plan to Stop TB: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Ten year projection of needs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and likely finances available </a:t>
            </a:r>
            <a:br>
              <a:rPr sz="2400"/>
            </a:b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(Ex. New Tools)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12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50920" y="4437000"/>
            <a:ext cx="259236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tal Global Plan need  is 47 bn+ New Tools cost 9bn. Total $56b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Countries will have to raise increasing amount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s need to increase their funding either directly or through GFATM for countries least able to mobilise resources themsel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As the gap is large all the Partners will need to collaborate actively in mobilising resources.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task of filling the gap cannot be borne only by the Secretariat of the Partnership alon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189000"/>
            <a:ext cx="48592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mplications -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nancing the Global Plan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96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Launch  a massive Advocacy and Communication Campaign to raise resources needed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Revise the Long Range Resource Mobilisation Action Plan approved in 2004 by the CB in light of Global Plan 2006-2015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-696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20000"/>
                </a:solidFill>
                <a:latin typeface="Tahoma"/>
              </a:rPr>
              <a:t>Include bilaterals, foundations, and the private sector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696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85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ction Propose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Determine funds available through HIPIC initiative, Budget support, and SWAPS to public health and from there onwards to TB control effo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Prepare a toolkit for guiding civil society at grassroots level to actively engage in the PRSP and other process for local resource mobilisation efforts relating to TB contro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 algn="ctr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0920" y="2133360"/>
            <a:ext cx="8094600" cy="41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OBJECTIV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Quantify funding needs and sources more accurately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Understand the key drivers of  donor contribu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arget efforts to mobilise resources to control TB more effectivel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89647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0000"/>
                </a:solidFill>
                <a:latin typeface="Tahoma"/>
              </a:rPr>
              <a:t>Methodology</a:t>
            </a: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WHO- Standard questionnaires sent by WHO to all countries each year, including two pages of financial questions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Donor Survey-Use of questionnaires targeted to 30 major multilateral and Bilateral organisations that provided in–kind, logistical, or financial support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lnSpc>
                <a:spcPct val="8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20000"/>
                </a:solidFill>
                <a:latin typeface="Tahoma"/>
              </a:rPr>
              <a:t>Use of other sources of data-(e. g. published information about GFATM, and other surveys)</a:t>
            </a: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5280" y="1413000"/>
            <a:ext cx="8064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Key Finding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WHO Informat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Levels and channels of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Geographical Sprea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Donor Survey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Integrate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-60948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R &amp;D Fund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Implications for meeting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e financing requirements of the Global Pla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 by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funding source  2002-2006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in 22 high-burden countries</a:t>
            </a:r>
            <a:r>
              <a:rPr b="1" lang="en-GB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920" y="175680"/>
            <a:ext cx="496728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Sources of funding for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total TB control costs, 22 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high-burden countries, 2005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891640" cy="5040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954920" y="2492280"/>
            <a:ext cx="1189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Wide variation in sources of fu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20000"/>
                </a:solidFill>
                <a:latin typeface="Tahoma"/>
              </a:rPr>
              <a:t>Some countries rely on large donor financ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8964720" cy="5112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Spending money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gets 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5122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896840" y="1916280"/>
            <a:ext cx="609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20000"/>
                </a:solidFill>
                <a:latin typeface="Tahoma"/>
              </a:rPr>
              <a:t>Spending grew in all regions, fastest growth in E/C As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189000"/>
            <a:ext cx="38163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Donor funding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by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6360" y="1341360"/>
            <a:ext cx="9107640" cy="5167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5329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Donor Contributions for TB Control (with and w/out GFATM)  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640" y="1699920"/>
            <a:ext cx="7848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4223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8000" y="5734080"/>
            <a:ext cx="2160360" cy="64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Professional Video</cp:lastModifiedBy>
  <cp:lastPrinted>2004-03-12T16:30:34Z</cp:lastPrinted>
  <dcterms:modified xsi:type="dcterms:W3CDTF">2005-11-10T13:18:27Z</dcterms:modified>
  <cp:revision>171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64089075</vt:r8>
  </property>
  <property fmtid="{D5CDD505-2E9C-101B-9397-08002B2CF9AE}" pid="3" name="_AuthorEmail">
    <vt:lpwstr>floydk@who.int</vt:lpwstr>
  </property>
  <property fmtid="{D5CDD505-2E9C-101B-9397-08002B2CF9AE}" pid="4" name="_AuthorEmailDisplayName">
    <vt:lpwstr>Floyd, Katherine</vt:lpwstr>
  </property>
  <property fmtid="{D5CDD505-2E9C-101B-9397-08002B2CF9AE}" pid="5" name="_EmailSubject">
    <vt:lpwstr>funding of TB control presentation for Irene Koek</vt:lpwstr>
  </property>
  <property fmtid="{D5CDD505-2E9C-101B-9397-08002B2CF9AE}" pid="6" name="_NewReviewCycle">
    <vt:lpwstr/>
  </property>
  <property fmtid="{D5CDD505-2E9C-101B-9397-08002B2CF9AE}" pid="7" name="_PreviousAdHocReviewCycleID">
    <vt:r8>1453036681</vt:r8>
  </property>
  <property fmtid="{D5CDD505-2E9C-101B-9397-08002B2CF9AE}" pid="8" name="_ReviewingToolsShownOnce">
    <vt:lpwstr/>
  </property>
</Properties>
</file>