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DA79-7926-4A7E-AF86-6068C465A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CEEE-ACE6-42A8-938B-FEA04577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B603-19DD-4B24-9832-F3FCA0E01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C54A-50A3-4482-863D-105A275AB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F5E5-478F-4F0E-9842-2EB7A699C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217D-E5D0-4BDE-A663-F8684ED2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2373-C514-477A-B383-F84928C6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5C72-1CE2-48B5-B6AC-B666901C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0C06-9DE6-404A-AB70-AACD2853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411D-50B7-474A-B2BA-517CAD17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B4DD-79AE-45AA-8280-6B371455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FD4B-FF61-42CD-A11A-EE21DF96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E84B-C8A0-4AC2-9336-DA29C216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D66C-2AF2-433D-BDD5-F4CF1915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64AD-5A89-4585-AC8A-88E7C030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9E8F-DA44-4ADF-81F2-E9B6333A5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05177-B0AD-4886-87EC-EF58B6C59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46CE-E60C-4A37-8C76-FEFF5F35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E754-9F93-4AA2-AF0D-AECEF494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1C1E-26B2-4201-A99F-91BCC9FA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0768-4F77-4F16-9463-D363D03C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72D9-5867-4CD9-96DD-C6167CE1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2DCC-94F3-4935-BDD1-1F159BFD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9D67-13AE-4373-9912-796553DE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45DE-2E04-4792-BEB2-E41A1D754E2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8278-C5C3-4E8B-9785-75BD94E9C44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1280" y="1628640"/>
            <a:ext cx="8964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Tahoma"/>
              </a:rPr>
              <a:t>THE GLOBAL PLAN: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Tahoma"/>
              </a:rPr>
              <a:t>THE COST OF GLOBAL TB CONTRO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Giorgio Roscigno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Coordinating Board Meeting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0 November, 2005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ssisi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Financing </a:t>
            </a:r>
            <a:br>
              <a:rPr sz="3600"/>
            </a:b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implication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Plan to be used for resource mobilis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Implications for national governmen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Implications for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465280" y="905040"/>
            <a:ext cx="4224600" cy="597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resentation o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lobal Plan to Stop TB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7080" y="1413000"/>
            <a:ext cx="867564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Outline of presentation on the Global Pla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Background: the planned achievemen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Cos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messag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Financing implication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Background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Ten years' planned achievements: highlights of the Global 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50 million people treated for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14 million lives save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Stop TB Partnership targets for 2015 achieved global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Tremendous progress in all reg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First new TB drug for 40 years in 2010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Diagnostics at point of care – rapid, sensitive and inexpensive TB diagnosis by 2010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New, safe, effective and affordable vaccine by 201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Global Plan </a:t>
            </a:r>
            <a:br>
              <a:rPr sz="3600"/>
            </a:b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cos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Country needs, R &amp;D, external agenc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Investment according to Working 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Available funding and ga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8569080" cy="512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8713800" cy="494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896472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Key messag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640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A global plan for a global campaig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$56 billion investment yields large rewards: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50 million TB patients treat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14 million lives sav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Need to collaborate with others to succe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The ultimate goal depends on continued innovation (in vaccines, drugs and diagnostic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We can get there! PLAN X RESOURCES = RESULT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maherd</cp:lastModifiedBy>
  <dcterms:modified xsi:type="dcterms:W3CDTF">2005-11-08T16:48:53Z</dcterms:modified>
  <cp:revision>146</cp:revision>
  <dc:subject/>
  <dc:title>Slide 1</dc:title>
</cp:coreProperties>
</file>