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0F5F-E0F5-4B4A-8354-619C8176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B8CB-10E5-49C5-AEA1-86139A7B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93FE-D709-43C6-8C86-0032D35E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82A8-1FED-4765-AD22-09D8A287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769A-F109-45D8-B902-138148BA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9A44-7253-4B4E-8031-28080271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50D2-2005-4B50-BF11-1FC2CE0E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4719-18CB-4DEE-946F-9B85E2A7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681D-6417-4C8D-8F56-4781642D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6DA4-2964-4529-AF32-E4476BEE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0CDF-F725-468B-9F55-4CAA0B5E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FC9D-527F-473F-8B35-CA2F1481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3209-8B29-4D4C-AEA2-05EC1701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12A8-DFA7-4D31-A9EC-00DA2D25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FDEF-8198-4A4C-9C93-DE6C7F25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28C9-6CE3-4181-936D-B197C317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9D3E-A4DA-49EE-883F-75F4BCC9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6DFA-8187-49CA-99CD-0355C03A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7215-593E-4D76-A773-6A81C955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F680-BF6E-46D3-848B-16D87814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88A3-8463-493D-8DC4-36C22D3D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2842-6548-46A0-AFBE-BC34F15E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D1E8-BCB4-4B6B-863B-1CBE69A6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9B5C-1212-4D30-9A43-4E10EF4A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39AA-A7DD-495A-A26B-36364D50032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D5A4-C04F-41FA-A1C2-BF8E4C80E71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1280" y="1628640"/>
            <a:ext cx="896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GLOBAL PLAN: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COST OF GLOBAL TB CONTRO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oordinating Board Meeting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 November,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Financing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implication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Plan to be used for resource mobilis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national govern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65280" y="905040"/>
            <a:ext cx="4224600" cy="59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esentation o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obal Plan to Stop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7080" y="1413000"/>
            <a:ext cx="86756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Outline of presentation o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ackground: the planned 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os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messag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Financing implic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en years' planned achievements: highligh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50 million people treated for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Stop TB Partnership targets for 2015 achieved global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remendous progress in all reg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First new TB drug for 40 years in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Diagnostics at point of care – rapid, sensitive and inexpensive TB diagnosis by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New, safe, effective and affordable vaccine by 201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Global Plan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Country needs, R &amp;D, external agenc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nvestment according to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Available funding and g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8569080" cy="512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8713800" cy="49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896472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Key messag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A global plan for a global campaig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$56 billion investment yields large rewards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50 million TB patients trea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Need to collaborate with others to succe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The ultimate goal depends on continued innovation (in vaccines, drugs and diagnostic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We can get there! PLAN X RESOURCES = RESULT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maherd</cp:lastModifiedBy>
  <dcterms:modified xsi:type="dcterms:W3CDTF">2005-11-08T16:48:53Z</dcterms:modified>
  <cp:revision>146</cp:revision>
  <dc:subject/>
  <dc:title>Slide 1</dc:title>
</cp:coreProperties>
</file>