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0923-1423-4D97-9A42-4C00E579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7CD-4FAD-482F-AEC8-F0CC5297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4555-A83A-4E9A-A328-7504EACD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DD3-92B0-4FED-91FE-92830EC26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3233-6BD7-494D-8B7F-69B4AEBB3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E556-4B1B-4711-81F2-EB64FE93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3DB9-6F7E-4427-B225-7AB41CB2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04B8-F72F-4D53-AD71-72D31CF13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A18A-A12E-4B5D-95A1-948921F8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3459-05B2-4E44-B8F7-201AAC37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FD69-C5A1-4668-9A2F-6C625EBB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DDB-F968-4901-9DFD-050FC2D4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19A9-247C-41D7-8D65-31837672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B048-2C27-43FB-BA77-599FF06E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58AF-7B75-46B0-AE5C-7C3A57DF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2609-6542-4557-9B53-B95A6CDF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3EA6-A22E-4D26-BE4E-28CF85539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A26E-B6FF-48B3-BB57-3FA394F0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A46E-4D0D-4D23-BF6F-4CD16BD53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848-EFD3-4DEA-99CF-E40579FC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870-4031-4786-9E6C-89168C2F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DD96-7EE7-403D-BACB-12AB74FF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165A-8920-46FF-9275-D7B6096F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29C-DB84-4FAB-92ED-14786ADB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58FF-A155-4EDB-B1A3-68579A15837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1D74-C57E-4423-B889-B99BB5D0130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3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raft Best Practice Principles for Engagement of Global Health Partnerships at Country Level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Discussion and comments to transmit to the High-Level Forum on the MD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bjectiv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20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Summary</a:t>
            </a: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on proposed Best Practice Principles for engagement of Global Health Partnerships (GHPs) at country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Introduction to discussion</a:t>
            </a: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Tahoma"/>
              </a:rPr>
              <a:t>Discussion</a:t>
            </a: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on comments to be transmitted by the Executive Secretary to the participants in the High-Level Forum (HLF) on the MDGs - 14-15 November in Pari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ification for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ise in number, prominence, financing, and impact of Global Health Partnerships (GHPs) – especially those related to HIV, Malaria, TB, &amp; vaccines/immunization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Concern for: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the burden posed on targeted / recipient governments,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potential distortions in priority-setting, time allocation, sector financing and monitoring &amp; reporting requir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velopment of th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aft principl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HLF Working Group on Global Health Partnerships formed</a:t>
            </a: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(Stop TB Exec. Sec., a member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WHO and World Bank Secretariat of the HLF and a consultant produced draft paper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raft reviewed at Sept 2005 meeting of the HLF working group in Dubli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Revisions made and comments provided by W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Some concerns on relevance of some themes (eg 3&amp;4) to GHIs that are not financing mechanism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The role of technical/coordination GHPs in alleviating problems was not discussed in background paper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inal draft for review at HLF meetin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 step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2184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HLF review of the draft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Revision and finalization by the HLF Secretari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irculation to GHPs seeking their endorsement &amp; adoption of the principl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"Operationalization"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tential points for discu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objectives and themes valuable for the Partnership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re the individual principles acceptable and suitable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eedback from Stop TB Secretariat:</a:t>
            </a: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op TB already facilitates a majority of the principles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ome other principles feasible for GDF but will need planning to phase in;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opportunity for greater collaboration across GHIs and with donors to multiple GHIs; 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20000"/>
                </a:solidFill>
                <a:latin typeface="Tahoma"/>
              </a:rPr>
              <a:t>STP uses UN external audit but cannot have independent auditor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Any further specific comments for the Exec. Secretary to note at the HLF?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Can the Board endorse the principles "in principle" now, and consider adoption based on review of final version at next CB meeting?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weild</cp:lastModifiedBy>
  <cp:lastPrinted>2004-03-17T17:37:17Z</cp:lastPrinted>
  <dcterms:modified xsi:type="dcterms:W3CDTF">2005-11-10T15:13:18Z</dcterms:modified>
  <cp:revision>189</cp:revision>
  <dc:subject/>
  <dc:title>Secretariat, 2003 Progress Report</dc:title>
</cp:coreProperties>
</file>