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3405-BB65-4257-A09C-C3D5D5191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4FED-0F20-47BF-A9E1-509BB2C6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E76F-29A8-4C91-B6A7-C2F3889D9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2D98-6A76-47DA-B9DD-BD5879058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E549-C82A-4A2D-B570-EB0841F8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4F00-5108-44F8-9966-1B6D2B46A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23C5-226E-47CA-A36B-3EAEE086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2DF2-1409-4223-AFD1-5643C5ED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4EE9-81D2-4E3D-A86D-3E280E0B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7331-4B97-46DC-B674-A14A16D9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127B3-015D-410C-B621-FF5E7D8D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7212-1368-48F8-AA01-942998D8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0584-3F7C-484D-937C-85F297EB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AC91-0CF1-4F97-8E52-19DB2461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0BFC-328D-42D5-BBE0-DF856B0F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879A-F4FE-4A7A-8ADA-C61615F1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E9EC-174D-4D30-8A89-ACC463B1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91EE-3AE1-40FC-BB83-21D14571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957E-3CAE-48AC-9514-AD516484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7C3C-9BA8-4032-AC41-9845E148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CDAF-29AD-4364-85AC-FA1A3F45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83D-F2F7-45E1-9064-D6C7FE60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F91A-C60F-4D22-A028-7F4D3EB7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3798-D909-4403-8545-779E999C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9010-21E3-4C18-AFF1-34FD75AF2A9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DC82-E81E-4D85-83C9-A514C4FF14B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b9efee"/>
                </a:solidFill>
                <a:uFillTx/>
                <a:latin typeface="Garamond"/>
              </a:rPr>
              <a:t>COMMUNITY EMPOWERMEN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cy Chesi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Representative: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B and TB/HIV Advoc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ssisi -Ital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OTHER MECHANISMS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linkage between TB activism and TB researc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to take stock of all the stakeholders within the TB control fratern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 a coordinating mechanism between the community representatives on the different working grou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itoring and eval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Expected Outc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mproved case detec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tion in defaulter ra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igma reduction more so associated with 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e PLWHAS on CPT and IP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xpansion/support  for DCT in TB clinic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eneral quality of Care for TB, MDR-TB and TB/HIV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tter patient adher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b9efee"/>
                </a:solidFill>
                <a:latin typeface="Garamond"/>
              </a:rPr>
              <a:t>Intensified commitment is required in order to turn the declarations to  deed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Garamond"/>
              </a:rPr>
              <a:t>And promises to program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Lest you forget.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100 year old TB is now married to the young HIV/AIDS and the honey moon is costing more liv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THANK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YOU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O ARE WE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 members of the community living with the disea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B ,MDR-TB and TB/HIV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 are not –suspec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cas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- victi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Each working group now has 2 community representat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HY ADVOCACY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blic health ,human rights and social science all demand that no one should die of a curable/treatable condi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us the 2 million deaths is totally unacceptable and unnecessa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s time to turn the tide, embrace a bolder notion and give TB a political face ,for every life has an equal valu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ADVOCACY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ty advocacy and activism are essential to ensure the growth and sustainability of TB programm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should thus be at all levels, globally ,regionally ,nationally and locall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vocacy that scales up to the Global Plan 2 strategy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a man fish and you feed him for a day, yet when you teach him to fish you feed him for lif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cognize the importance of engaging people with  TB and the affected community  and thus have us at all levels of TB awareness ,prevention ,care and treatment programm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estment of community participation through provision of adequate resourc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TB services for all via better diagnostics of smear negative ,pediatric TB ,TB/HIV and MDR-TB among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CALL FOR ACTION 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sion of TB services to all vulnerable groups – PLWHAS ,drug users ,the unemployed etc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d for new tools to Stop TB for prevention ,diagnosis ,treatment and cu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velopment of shorter drug combinations and new vaccin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WAY FORWAR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eed for active community participation as outlined by GIPA and GIP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a permanent position with in the secretariat – focal pers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quest for 2 community representatives at each C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option of the  patients chart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cumentation of the community powered initiatives ,this too can be put on the STOP TB web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b9efee"/>
                </a:solidFill>
                <a:uFillTx/>
                <a:latin typeface="Garamond"/>
              </a:rPr>
              <a:t>RESOURCE MOBILIZ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ve a community powered secretaria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city building for community representatives on the working groups and TB champ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ild a pool of trainers in different areas e. g  TB ,TB/HIV and MDR-TB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dgetary allocation for community centered activities  – 250,000 USD y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b9efee"/>
                </a:solidFill>
                <a:latin typeface="Garamond"/>
              </a:rPr>
              <a:t>Resource Mobilis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Re -double effor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ducation through aggressive treatment literacy campaign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Information dissemination through the med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Continued advocacy that raises the TB profi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Ensure that there is a greater partnership that is built with National TB programmes at country leve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Garamond"/>
              </a:rPr>
              <a:t>Documentation of activities that are patient drive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5:06:42Z</dcterms:created>
  <dc:creator>Robby</dc:creator>
  <dc:description/>
  <dc:language>en-US</dc:language>
  <cp:lastModifiedBy>PV002</cp:lastModifiedBy>
  <dcterms:modified xsi:type="dcterms:W3CDTF">2005-11-11T10:00:06Z</dcterms:modified>
  <cp:revision>10</cp:revision>
  <dc:subject/>
  <dc:title>COMMUNITY EMPOWERMENT</dc:title>
</cp:coreProperties>
</file>