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EC4F-C99B-4285-BCD0-99FB409A7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A482-C6F8-4115-903D-6C13A7B0D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18AF-A786-4BFA-B7C9-91A6A302F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263D-753F-47C4-B330-BD02494AD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5A281-DC51-4455-A233-9C8FF3BDD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A8658-956D-427F-AADF-63517D698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5E0AE-AAE3-40F6-B4BB-1BBC3D72C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6637C-668F-4BD3-971C-814985D9E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102C5-F520-4FEA-9067-05833714D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2BEBA-18F6-4755-989D-C22C3CDB7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D4D28-A50C-490F-804F-2B0C4971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F816-277E-4FC1-A953-F14EDC7BB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0E310-3E2A-4BD7-8C8E-15D1422D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6FDC7-F8A7-4A51-B23C-B0DE5C6C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9BB09-B5CF-4372-AA94-7A705AB78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6CA1D-35D3-4B5C-B447-B7B0E6A05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E6607-60B9-4EAF-B22D-4E1F14D2B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83A3-7577-43D5-A93F-3F860813C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B8A8-1AF5-413D-ADBA-2802BEB19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AD2D-46F7-47D8-AAAD-861D37D06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65D3-DC7B-4721-9CAE-CEA8CE714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A836-7735-4F56-A8D9-02232787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D3AF-3C76-45B3-8188-54BEC57D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B578-2A74-4F06-843B-A045F3D8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1d528d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d2540"/>
                </a:gs>
                <a:gs pos="100000">
                  <a:srgbClr val="1d528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740520"/>
              <a:ext cx="5876640" cy="44640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465e"/>
                </a:gs>
                <a:gs pos="100000">
                  <a:srgbClr val="0099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0d2540"/>
              </a:gs>
              <a:gs pos="100000">
                <a:srgbClr val="1d528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1E482-3815-4F3A-A63E-3A7A413E5289}" type="slidenum"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" name="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52" name="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54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56" name="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83DBB-F3FE-4CD0-BA5C-C77732B1B050}" type="slidenum"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66" name="" descr="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d528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d528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bgroup on Laboratory Capacity Strengthening (SLC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7080" y="4653000"/>
            <a:ext cx="7707600" cy="11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Arial"/>
              </a:rPr>
              <a:t>of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Arial"/>
              </a:rPr>
              <a:t>DOTS Expansion Working Group (DEWG)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549360"/>
            <a:ext cx="6629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Achievements as of today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964720" cy="49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Policy review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Expert consultation meeting on optimization of AFB microscopy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(Geneva, 1-2 September 2005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Annual Laboratory Subgroup and SRLN meeting (4 meetings organized)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Organization of training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TB Laboratory Management Training  in collaboration with EMRO (September 2005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External quality assurance (EQA) workshop in AFRO (October 2005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595080"/>
            <a:ext cx="662940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ajor activities for 2006-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893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Rapid implementation of the Strategic Approach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To address the needs of DOTS Expansion, MDR-TB and TB/HIV :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5 trainings for lab management, culture and DST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Support selected countries for evaluation, planning and capacity strengthening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20 assessment and monitoring missions in priority HBC (global and regional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3"/>
                </a:solidFill>
                <a:latin typeface="Arial"/>
                <a:ea typeface="굴림"/>
              </a:rPr>
              <a:t>Human resources</a:t>
            </a:r>
            <a:r>
              <a:rPr b="0" lang="en-US" sz="2000" spc="-1" strike="noStrike">
                <a:solidFill>
                  <a:srgbClr val="113053"/>
                </a:solidFill>
                <a:latin typeface="Arial"/>
                <a:ea typeface="굴림"/>
              </a:rPr>
              <a:t>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Increase the pool of lab experts at international, regional and national levels: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	</a:t>
            </a: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3 workshops for consultants and national workshops in selected countries.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 </a:t>
            </a: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Finalization of standardization and development of training materials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Financial resourc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Raise financial resources at the international level to support countries: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15 million $US gap for critical needs 2006-2009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Increase allocation of financial resources for laboratory at country levels (GFATM…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3"/>
                </a:solidFill>
                <a:latin typeface="Arial"/>
                <a:ea typeface="굴림"/>
              </a:rPr>
              <a:t>Improve coordination among partners to optimize use of resourc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est from the Stop TB Coordinating Bo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9280" y="144756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Re-profiling the Sub-group into a Working Group for Laboratory Capacity Strengthening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The Chair of the newly established Working Group to be granted membership of the Stop TB Coordinating Board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Provide technical support to develop resource mobilization plan to raise funds (15 million $ US) for the implementation of the Laboratory Strengthening Strategic Approach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TB diagnostic services form the foundation for TB contro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Laboratory has been traditionally a neglected component of TB contro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Laboratory activities are crosscutting issues for the three implementation working groups (DEWG, DOTS-Plus, TB/HIV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Prior to the establishment of SLCS, efforts to improve laboratory work were neither streamlined nor coordinated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763640" y="1857240"/>
            <a:ext cx="5761080" cy="1038600"/>
          </a:xfrm>
          <a:prstGeom prst="rect">
            <a:avLst/>
          </a:prstGeom>
          <a:solidFill>
            <a:srgbClr val="eaeaea"/>
          </a:solidFill>
          <a:ln w="25560">
            <a:solidFill>
              <a:srgbClr val="bfa9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DOTS Expansion Working Group</a:t>
            </a:r>
            <a:br>
              <a:rPr sz="1800"/>
            </a:b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(DEWG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63640" y="4508640"/>
            <a:ext cx="5761080" cy="1465560"/>
          </a:xfrm>
          <a:prstGeom prst="rect">
            <a:avLst/>
          </a:prstGeom>
          <a:solidFill>
            <a:srgbClr val="eaeaea"/>
          </a:solidFill>
          <a:ln w="25560">
            <a:solidFill>
              <a:srgbClr val="bfa9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Chair: at present- Prof. F. Portaels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Secretariat: WHO-HQ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Members: SRL Network &amp; Partners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(The Union/CDC/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KNCV/GLRA/… others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63640" y="3141720"/>
            <a:ext cx="5761080" cy="1038600"/>
          </a:xfrm>
          <a:prstGeom prst="rect">
            <a:avLst/>
          </a:prstGeom>
          <a:solidFill>
            <a:srgbClr val="eaeaea"/>
          </a:solidFill>
          <a:ln w="25560">
            <a:solidFill>
              <a:srgbClr val="bfa9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Sub-Group on Laboratory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Capacity Strengthening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32000" y="260280"/>
            <a:ext cx="781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  <a:ea typeface="바탕체"/>
              </a:rPr>
              <a:t>Establishment of the Subgroup on Laboratory Capacity Strengthening in 2002</a:t>
            </a:r>
            <a:endParaRPr b="0" lang="en-US" sz="25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2924280"/>
            <a:ext cx="0" cy="21744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4221000"/>
            <a:ext cx="0" cy="28908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ituation analysis (22 HBC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Most of HBCs have an established TB laboratory network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18 countries report to have National Reference Laboratory to oversee the organization and performance of the network; however some of them are weak and not fully functional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18 HBCs report to have EQA scheme for smear microscopy; however, majority report it's limited coverage and suboptimal quality of implementation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14 countries perform culture at the national/regional level according to nationally-defined specifications, which are not always consistent with international recommendations. In addition, there is no quality control of culture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In general, major impediments to perform diagnostic tests (especially culture and DST) are inadequate equipment and infrastructure, lack of technical knowledge, shortage of human and financial resources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03280" y="333360"/>
            <a:ext cx="774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Strategic Approach to Strengthen Laboratory Services for Tuberculosis Control  (2006-2009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1447560"/>
            <a:ext cx="843588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13053"/>
                </a:solidFill>
                <a:latin typeface="Arial"/>
                <a:ea typeface="굴림"/>
              </a:rPr>
              <a:t>Objectives of the Strategic Approach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To support countries to improve the performance of TB laboratories</a:t>
            </a:r>
            <a:r>
              <a:rPr b="1" lang="en-GB" sz="2000" spc="-1" strike="noStrike">
                <a:solidFill>
                  <a:srgbClr val="bfa907"/>
                </a:solidFill>
                <a:latin typeface="Arial"/>
                <a:ea typeface="굴림"/>
              </a:rPr>
              <a:t> </a:t>
            </a: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to achieve the following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Implement a well-functioning QA programme for AFB smear microscopy in 100% of microscopy centres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Ensure access to culture and DST services for at least 40% of the eligible population (this will be determined according to national policy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To promote a fully functional laboratory network with common objectives, programming, supervision and evaluation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02920" y="274680"/>
            <a:ext cx="74898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GB" sz="2700" spc="-1" strike="noStrike">
                <a:solidFill>
                  <a:srgbClr val="ffffff"/>
                </a:solidFill>
                <a:latin typeface="Arial"/>
              </a:rPr>
              <a:t>Components of the Strategic Approach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090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Standardization of laboratory document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Assessment tools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Training material 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Technical guidelines and manuals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3" marL="175248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Assessment of laboratory servic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Evaluation of TB smear microscopy network (structure, HR and performance)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Evaluation of the reference laboratory capacity and performance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Identify key elements to improve lab performance and increase capacity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3" marL="17524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Supporting countries in planning, training and identification of funding to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Implement QA system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Strengthen the capacity of laboratory network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Organize the TB laboratory networks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Improve quality and increase quantity of human resources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7143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mponents of the Strategic Approac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bfa907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13053"/>
                </a:solidFill>
                <a:latin typeface="Arial"/>
                <a:ea typeface="굴림"/>
              </a:rPr>
              <a:t>Monitoring and evaluation of progress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bfa907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13053"/>
                </a:solidFill>
                <a:latin typeface="Arial"/>
                <a:ea typeface="굴림"/>
              </a:rPr>
              <a:t>Upgrade laboratories capacity by technology transfer and introduction of new tools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bfa907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13053"/>
                </a:solidFill>
                <a:latin typeface="Arial"/>
                <a:ea typeface="굴림"/>
              </a:rPr>
              <a:t>Increase number of international consultants to support countries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bfa907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13053"/>
                </a:solidFill>
                <a:latin typeface="Arial"/>
                <a:ea typeface="굴림"/>
              </a:rPr>
              <a:t>Increase and sustain financial resources to support countries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bfa907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13053"/>
                </a:solidFill>
                <a:latin typeface="Arial"/>
                <a:ea typeface="굴림"/>
              </a:rPr>
              <a:t>Strengthen partnership and advocacy 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41672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Achievements as of to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064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Development of technical documents and guidelin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Finalization of the Laboratory Strategic Approach to improve performance of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TB diagnostic services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April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Checklist to evaluate culture and DST technique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January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Revision of TB Laboratory Management Training curriculum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August 2005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EQA system for culture and DST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February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Framework for revision of the TB laboratory guidelines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April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Uniform training curricula for AFB smear microscopy (workshop in the box)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May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Standard operating procedures guidelines (SOP)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July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Compendium of performance indicators for TB laboratory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September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47280" y="333360"/>
            <a:ext cx="7596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Achievements as of today</a:t>
            </a: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920" y="1474920"/>
            <a:ext cx="86421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Organization/participation in assessment missions and programmes review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Approximately 40 assessment missions since 2002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However, not all partner organizations have coordinated their missions with secretariat of sub-group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3" marL="1681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3" marL="1681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Establishment of regional task force for laboratory improvement and development of regional strategi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EURO (January 2005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WPRO (January 2006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EMRO (March 2006)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SEARO (July 2006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0T20:15:23Z</dcterms:created>
  <dc:creator>test</dc:creator>
  <dc:description/>
  <cp:keywords/>
  <dc:language>en-US</dc:language>
  <cp:lastModifiedBy>BlancL</cp:lastModifiedBy>
  <dcterms:modified xsi:type="dcterms:W3CDTF">2006-04-24T11:38:42Z</dcterms:modified>
  <cp:revision>164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  <property fmtid="{D5CDD505-2E9C-101B-9397-08002B2CF9AE}" pid="3" name="_TemplateID">
    <vt:lpwstr>TC011812271033</vt:lpwstr>
  </property>
</Properties>
</file>