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E8614-B4B9-4390-BB26-AC42929A72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stly HB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D1B7-29AF-41CA-9A98-1FB4980F9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578E-B66C-4C1D-BE08-FE8A8D3DF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7FF4-BFD9-4239-8256-95AE89D26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7930-D30C-4C45-A511-30097FB36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87FD-9A35-4C2C-9314-6138734E2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F7FD-CAFA-4987-BA2A-C207CE1F9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3C74-3E6F-458F-924F-03ACA4721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CFE6-4309-4281-A987-EEA056BD8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D4BC-D0F0-451A-9A93-3EF2FC34C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34FC-1B8D-4E4D-B73C-8A1EA4A95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6295-52B3-4170-A23F-EC54D38B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B5BF-93E7-4C7F-8C49-B8C790E01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1D364-3BBC-4EAB-B4B0-CB1A827CD31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hyperlink" Target="http://www.panosaids.org/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ategies for working with the media on TB: The Panos Stop TB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02920" y="3141360"/>
            <a:ext cx="6513480" cy="17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ation to Stop TB Governing Board Meeting in Abuja, Nigeria, 22 to 25 April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nald D. Kayanja, Director Panos Global AIDS Program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00000" y="5373720"/>
            <a:ext cx="7345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Dickson, an African village"/>
          <p:cNvPicPr/>
          <p:nvPr/>
        </p:nvPicPr>
        <p:blipFill>
          <a:blip r:embed="rId5"/>
          <a:stretch/>
        </p:blipFill>
        <p:spPr>
          <a:xfrm>
            <a:off x="6372360" y="479736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Sven Torfinn"/>
          <p:cNvPicPr/>
          <p:nvPr/>
        </p:nvPicPr>
        <p:blipFill>
          <a:blip r:embed="rId6"/>
          <a:stretch/>
        </p:blipFill>
        <p:spPr>
          <a:xfrm>
            <a:off x="4500720" y="5084640"/>
            <a:ext cx="1714320" cy="1123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Pep Bonet"/>
          <p:cNvPicPr/>
          <p:nvPr/>
        </p:nvPicPr>
        <p:blipFill>
          <a:blip r:embed="rId7"/>
          <a:stretch/>
        </p:blipFill>
        <p:spPr>
          <a:xfrm>
            <a:off x="2700360" y="4724280"/>
            <a:ext cx="1704960" cy="1714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Pep Bonet"/>
          <p:cNvPicPr/>
          <p:nvPr/>
        </p:nvPicPr>
        <p:blipFill>
          <a:blip r:embed="rId8"/>
          <a:stretch/>
        </p:blipFill>
        <p:spPr>
          <a:xfrm>
            <a:off x="900000" y="4724280"/>
            <a:ext cx="170496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5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ey aspects of Phas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1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focus countries to 16 (we had 8 in Phase 1). Will exponentially increase the number of journalists 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ddition to print, we will now have broadcast journalists in Afr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hase 2 we hope to engage more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tional TB Manag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improve their media relations and communications skill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linkage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fected commun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strengthen their v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ose collaboration with the ACSM Work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1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907640" y="981000"/>
            <a:ext cx="5688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Question for the Boar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dorse phase 2 of the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isit our 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panosaids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ank y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-171360"/>
            <a:ext cx="77724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Panos project do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31640" y="1052280"/>
            <a:ext cx="65134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 journalists and offering them fellowships to increase interest in and accurate reporting of TB issues in high burden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urage in-depth reporting that covers socio-economic aspects, affected communities and promotes accoun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ing a global network of journalists continuously reporting on TB issu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ing NTP managers to work more closely with med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a project with the Stop TB Partnership which is moving into Phase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i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55640" y="1052640"/>
            <a:ext cx="468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enable journalists in selected high burden countries understand the linkages between TB, HIV/AIDS, poverty, urbanization and other socio-economic vulnerabiliti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build skills and capacities of journalists to produce stories/features on 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provide journalists with regular access to expertise and information on TB iss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provide greater media coverage on current situations, experiences and perspectives on TB, based on investigative reporting - includes the voices of those most marginal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Arial"/>
              </a:rPr>
              <a:t>To enhance the coverage of TB in priority countries with a view to promoting informed public debate, national resource mobilization,  community mobilization and accountability in national efforts to fight T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TDI00418BAN"/>
          <p:cNvPicPr/>
          <p:nvPr/>
        </p:nvPicPr>
        <p:blipFill>
          <a:blip r:embed="rId5"/>
          <a:stretch/>
        </p:blipFill>
        <p:spPr>
          <a:xfrm>
            <a:off x="5516640" y="2492280"/>
            <a:ext cx="3627360" cy="240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cus Countrie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hase 1 (2005/2006)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 count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India, Bangladesh, Indones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SEAR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nos South As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Pakist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EM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nos South As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Philippin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WP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nos South As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Zambia, Malaw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AF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nos Southern Afri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Ethiop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AF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nos Ethiop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Hait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nos Caribb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40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cus Countrie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hase 2 (2006/2007)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6 count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India, Bangladesh, Indones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SEAR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nos South As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akist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EMR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nos South As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hilippin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WPR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nos South As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Botswana, Malawi, Namibia, South Africa, Zambia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AFR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nos Southern Afri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DR Congo, Kenya, Uganda, Tanzania, Ethiop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AFR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nos Eastern Afri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igeria, AFRO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nos Wester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ject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ertise / award fellow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advisory panel—to include a senior journalist, WHO/Stop TB technical person and a member of the patient community/activist. Panel for each Panos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 training workshops for journalists (training manual being develop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llows start working—preparing reports/article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and the Panos Stop TB journalists network supported by Panos core regional staf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Journalists awar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75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first phase, fellowships were awarded to 17 print journalists (2 from each country and 3 from India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 photojournalists were selected (3 from Asia and 1 from Africa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7667640" y="19162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7667640" y="29242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7020000" y="400536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8"/>
          <a:stretch/>
        </p:blipFill>
        <p:spPr>
          <a:xfrm>
            <a:off x="5508720" y="220500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9"/>
          <a:stretch/>
        </p:blipFill>
        <p:spPr>
          <a:xfrm>
            <a:off x="5219640" y="422100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ey achievements- Phase 1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 Journalists from around the world received the fellowships—forming a nucleus of the TB journalists net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in the year, there was marked increased in-depth coverage of TB issu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 than 150 stories produc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fellows now working with NTP on local level media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gional training workshop was held by Panos for Eastern Africa—included 25 journalists from Kenya, Uganda, Tanzania, Ethiopia, and Sudan. Held in January prior to launch of Global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9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na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ject is incorporated within the Panos Global AIDS Program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annual budget is US$1.5m funded by DANIDA and DFI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elected activities for the Media TB Fellowships project, WHO/Stop TB Partnership contributed US$59,930 for the first ph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second phase, within the broad framework of the US$ 1.5m Panos programme, WHO/Stop TB partnership is expected to provide US$ 124,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7T11:51:15Z</dcterms:created>
  <dc:creator>Authorised User</dc:creator>
  <dc:description/>
  <dc:language>en-US</dc:language>
  <cp:lastModifiedBy>bakerl</cp:lastModifiedBy>
  <dcterms:modified xsi:type="dcterms:W3CDTF">2006-05-02T15:13:12Z</dcterms:modified>
  <cp:revision>122</cp:revision>
  <dc:subject/>
  <dc:title>Slide 1</dc:title>
</cp:coreProperties>
</file>