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C10-CE9F-4C7D-83D5-7228A5A8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06E-BFB6-452B-9B56-28663631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567-F55F-4163-832E-8485F689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AB0-ED0E-4881-A234-07A795F2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B959-F7EE-4CE4-AB9D-D45D695B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D054-982E-4D10-BB2F-7A2C7FB9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2DFF-B5CF-4BF8-885A-28DCD4A7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594A-565D-459F-A1F5-752480F5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B020-985A-4A42-BB8D-E7A7D6AA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2A26-BE7E-4B87-AF14-B14730F6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E08C-0511-44C9-96C2-1AED621F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C647-0F15-41CC-B92B-F966E7B3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ACB7-F686-4812-8A56-E0EAE8E9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2C57-1D8A-4A85-ABB9-685F71CA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E612-BB9C-4258-8615-2556433F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65F3-D3F8-4D3A-83D9-46B6B9EA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FCAC-5E31-436F-8227-EEEB34F2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3F52-58E3-4B0E-ABFD-AA5CC3E6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2020-15B3-4E22-A568-BBD0E4D9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F11-933E-4843-BC0A-E5F496C1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E15-E577-4FC5-9FCB-B9311F10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927-FD4B-4142-855C-DB817876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685C-3026-4119-9D53-850A2713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C2A-11B6-4BCF-B675-F9985C10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1362-5872-4A64-8985-E8559DC9E7A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E274-1BD6-44C2-A9AD-696658E6783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buja 24-25 April, 2006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gress on commitments made by the WHO Regional Office for Africa during the 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2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resource mobilization for scaling up TB control activities at country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d implement TB Strategic Information systems for Programme monitoring and evaluation at all lev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leadership for TB Control has been re-affi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special urgent need to strengthen the human resource and financial capacity of Programmes at country and WHO Regional office levels to intensify and scale up TB Control inter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ry ownership, partnerships and coordination of TB control interventions under the leadership of national authorities are key for su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thank you for your atten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pres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s made by the WHO Regional Office for Africa during the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oordinating Board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s undertake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lle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y forwa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mitments made during the 8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oordinating Board meet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ocate with African leadership for increased action against TB in the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 a Regional Roadmap for intensifying TB Control action towards the MD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e with Stop TB Partnership secretariat to organize an African TB Financing Summit during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vocating with African leadership for increased action against TB in the Region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A Resolution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declaring TB an Emergency in the African Region was adopted by the 55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session of the Regional Committee for Africa in August 2005 in Mapu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RD has formally called upo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echnical and financial partners [Stop TB Partnership, IUATLD, KNCV, USAID, CDC, CIDA, etc), regional economic and technical bodies (AU, SADC, ECSA,ECOWAS, OCEAC, etc] and Ministers of Health of the African Region to support implementation of the Resolu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ritten commitments to support operationalisation of the Resolution has been obtained from Regional economic communities including the AU, OCEAC and SAD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th technical support from WHO (AFRO &amp; HQ), the Conference of East, Central and Southern African Ministers of Health (ECSA) adopted a Resolution ratifying the Maputo declaration and committing to operationalize it at country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egional Medium term Strategic Plan for TB Control 2006-2010 is being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Regional guidelin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for operationalizing the Maputo Resolution at country level are being develop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A Regional Plan of Ac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r implementing the Maputo Resolution has been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ional TB Advocacy, Communication and Social Mobilization Strategy (ACSM) is being developed in collaboration with Stop TB Partnership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cess to recruit Regional TB ACSM focal point is underway with funding from the Stop TB Part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B focal points have been placed in each of AFRO’s 3 inter-country team location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priority diseases (Ouagadougou, Libreville and Har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Costed Inter country support team (ICST) Programmes of 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2006-2007 have been elaborated with respective WRs and ICST sta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echnical support is being provided to countries and Regional Economic Communities to develop frameworks and plans of action for responding to the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TB declared as an emergenc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 some countries and process to declare an emergency underway in oth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Emergency plans developed and launched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some countries and under development in 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ctions undertaken: Collaborate with Stop TB Partnership secretariat to organize an African TB Financing Summit during 2006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FRO is committed to work with Stop TB Partnership to organize the financing summit within 2006 on a date and venue to be agr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lleng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 Programme management capacity for strategic planning, monitoring and evaluation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decentralization of TB services for increased access and better coverage for maximum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human resources for implementation and scale up TB control interventions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dequate financial resources at all levels for intensified TB control activities in the Re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1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 scale up of intensified TB control interventions in high burden countries (prevalence &gt;300 per 100,000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 / build and sustain national capacity for implementation, monitoring and evaluation of intensified TB control interven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coordination of partner interventions by national authorities through implementation of a common acti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/ build partnerships for TB control at all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8:23:02Z</dcterms:created>
  <dc:creator>nkhomaw</dc:creator>
  <dc:description/>
  <dc:language>en-US</dc:language>
  <cp:lastModifiedBy>bakerl</cp:lastModifiedBy>
  <dcterms:modified xsi:type="dcterms:W3CDTF">2006-05-02T15:06:27Z</dcterms:modified>
  <cp:revision>38</cp:revision>
  <dc:subject/>
  <dc:title>TB CONTROL IN THE AFRICAN REGION</dc:title>
</cp:coreProperties>
</file>