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CBDD-7310-4072-80ED-16868BB27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C823-409F-44E1-B8A8-A642306F1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191C-A56E-4DDA-9818-D60C425BE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14D4-0559-4EB4-AD5B-4A431C0A8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28FE3-65B7-4B32-B6AB-079B73122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43344-CC60-49C4-808E-BCE335EEA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862AF-F9F4-4F11-94B1-BABDCED66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CCAA6-AB16-448F-9C70-58C6B569F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5DC07-47F8-4FC6-9997-3F78EF5D6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5547C-0890-4877-B1B0-F7A55A932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09DFD-E5BA-4BAC-8FE5-EDEF46B28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B6E4-7ECC-4947-9BC0-F02DC1F59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9A082-8CC1-440B-A3BD-654E1E7F4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89DCA-17A5-4F81-A83E-ED1EE49AA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12B84-9D83-49F0-A3D6-B11AA464A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624AC-A25F-4841-9679-B5D3F86FD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E72EF-0EF9-48B5-8F84-A8DD81108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7EE7-609B-4170-B1B8-42302F208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05D2-6B47-4E8D-BD7D-DA97C21CD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C6D6-B6A9-40C1-8BB8-1541B820B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7A73-7579-4B59-AA4D-332375FF4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DC54-FC87-41C6-97C1-1C26A0157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08C8-3D75-42EB-8A60-75CB288B7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B0E0-2082-4F4A-98A7-618964E61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E2236-60BF-4927-AF52-668DBF712E20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7F0D0-AE6F-4570-80B7-A85F4209B1FC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66"/>
                </a:solidFill>
                <a:latin typeface="Arial"/>
              </a:rPr>
              <a:t>DEWG – 3 challenges and possible actions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66"/>
                </a:solidFill>
                <a:latin typeface="Arial"/>
              </a:rPr>
              <a:t>Jeremiah Chakaya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66"/>
                </a:solidFill>
                <a:latin typeface="Arial"/>
              </a:rPr>
              <a:t>Chair 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66"/>
                </a:solidFill>
                <a:latin typeface="Arial"/>
              </a:rPr>
              <a:t>Léopold Blanc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66"/>
                </a:solidFill>
                <a:latin typeface="Arial"/>
              </a:rPr>
              <a:t>Secretary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66"/>
                </a:solidFill>
                <a:latin typeface="Arial"/>
              </a:rPr>
              <a:t>Status of regional planning </a:t>
            </a:r>
            <a:br>
              <a:rPr sz="2800"/>
            </a:br>
            <a:r>
              <a:rPr b="1" lang="en-GB" sz="2800" spc="-1" strike="noStrike">
                <a:solidFill>
                  <a:srgbClr val="006666"/>
                </a:solidFill>
                <a:latin typeface="Arial"/>
              </a:rPr>
              <a:t>following the launch of the GPSTB2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00000" y="256500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Four out of 6 ROs – incorporated Stop TB Strategy into Regional Strategic Plans and used the frame of the global plan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AMRO, EMRO, SEARO, WPRO;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EURO – in preparation (previous plan up to 2006),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AFRO – focus on the emergency plan outlined in the blue pri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66"/>
                </a:solidFill>
                <a:latin typeface="Arial"/>
              </a:rPr>
              <a:t>Status of sub-groups plans </a:t>
            </a:r>
            <a:br>
              <a:rPr sz="2800"/>
            </a:br>
            <a:r>
              <a:rPr b="1" lang="en-GB" sz="2800" spc="-1" strike="noStrike">
                <a:solidFill>
                  <a:srgbClr val="006666"/>
                </a:solidFill>
                <a:latin typeface="Arial"/>
              </a:rPr>
              <a:t>following the launch of the GPSTB2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00000" y="256500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B-Poverty plan ready and discussed in teleconference of DEWG core group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Lab plan ready and discussed among sub-group memb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PPM plan in preparation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hildhood TB: no plan prepar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76176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66"/>
                </a:solidFill>
                <a:latin typeface="Arial"/>
              </a:rPr>
              <a:t>Status of country planning </a:t>
            </a:r>
            <a:br>
              <a:rPr sz="2800"/>
            </a:br>
            <a:r>
              <a:rPr b="1" lang="en-GB" sz="2800" spc="-1" strike="noStrike">
                <a:solidFill>
                  <a:srgbClr val="006666"/>
                </a:solidFill>
                <a:latin typeface="Arial"/>
              </a:rPr>
              <a:t>following the launch of the GPSTB2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AMRO – Brazil – preparing 5 year plan, other priority countries to follow in the 2</a:t>
            </a:r>
            <a:r>
              <a:rPr b="0" lang="en-GB" sz="2000" spc="-1" strike="noStrike" baseline="30000">
                <a:solidFill>
                  <a:srgbClr val="003366"/>
                </a:solidFill>
                <a:latin typeface="Arial"/>
              </a:rPr>
              <a:t>nd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 half of year (workshop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EMRO – 9 countries (including AFG) preparing 10 year plan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SEARO – 4 HBCs (IND, INO, MYA, BAN) – 5 year plans prepared; NEP – 10 year plan made in 2002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WPRO – 3 HBCs (CHN, PHL, VTN) – 5 year plans ready. Other countries will finalise before second semester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EURO – September 2006 – NTP meeting – will discuss planning in 18 priority countries (high burden or high rates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AFRO – countries develop emergency plans following the TB emergency declared by the Regional Committee in 2005 (KEN, SAF, MOZ – plans ready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Challenges (1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805500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ountry plans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many plans not sufficiently ambitious and comprehensive;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inconsistencies between budget required by NTP and the estimates in the GP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many do not address in a systematic way the role of the all health care providers and of patients and communitie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Suggested ac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Review existing plans and provide adequate support in adjusting the budgets, in line with the GP methodolog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Where appropriate ensure that plans include the role of all health care providers and of patients and communiti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Link better country and sub-group plans: TB-Poverty, Lab, PPM, Childhood TB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Challenges (2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39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Strengthen laboratory capac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Improve smear microscopy and implement culture and DS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Suggested ac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ajor investment to build countries' capacity and to provide in country support to assess lab network capacity, plan laboratory activities, implement EQA for microscopy and culture and monitor lab performanc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Challenges (3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Human resource development as part of health systems strengthen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Address shortages in external consultants and country staff (quantity and quality) to implement Stop TB Strateg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Suggested ac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Follow example of Indonesia in carrying out the comprehensive analysis of HR needs and producing HRD pla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Intensify training of consultants (theoretical workshops and field-experience)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1T16:00:51Z</dcterms:created>
  <dc:creator>Malgorzata Grzemska</dc:creator>
  <dc:description/>
  <dc:language>en-US</dc:language>
  <cp:lastModifiedBy>johnsoneb</cp:lastModifiedBy>
  <dcterms:modified xsi:type="dcterms:W3CDTF">2006-04-24T17:28:58Z</dcterms:modified>
  <cp:revision>15</cp:revision>
  <dc:subject/>
  <dc:title>DEWG – input to the joint Implementation WG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