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92F1-3F98-4772-820B-90EF1D780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CFB7-97A3-416A-942A-0C102273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654F-ED25-4A2F-9306-1B83E9281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217C-5BBB-43D9-8394-358770770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BA97-D812-4251-A15A-333CC1FB5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750E-FC26-4A22-ADFA-591145C5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F939-5C3A-46BD-9474-C4A09902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7AD1-9DC5-4487-9060-E503577A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151E-5AA4-4A0A-8F35-FF9507D0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8D0D-4830-4CCD-AE39-68BCD844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4B04-0C6A-4CB9-BC1A-3B3B49F2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5955-E691-4CA7-A257-73BC484B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A46C-1F12-4D10-B6D2-E6770405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034E-16C5-41D0-818B-069873C9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531E-BCB9-4F9B-93E8-C360CA28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ED66-68E2-484D-B4D9-31A6B1C04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086B-21BF-4193-88B1-4CAE3ABD8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7FA7-AD3C-4395-A6FC-18467ED6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57FA-4B74-4C65-89ED-2BD05F61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A5A8-E706-4F59-AE51-D6BE1F44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41B0-65AC-4830-9EEE-C0B8C82F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A5B9-772B-45AC-B5CE-DD58CE8E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7D94-10F6-4B97-9DFD-8F85C4FA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F0BD-947A-43C4-A51D-760C91C5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d2540"/>
                </a:gs>
                <a:gs pos="100000">
                  <a:srgbClr val="1d528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740520"/>
              <a:ext cx="5876640" cy="44640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465e"/>
                </a:gs>
                <a:gs pos="100000">
                  <a:srgbClr val="0099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0d2540"/>
              </a:gs>
              <a:gs pos="100000">
                <a:srgbClr val="1d52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DF1D-5F77-4F65-9D5D-00B2E9AC1733}" type="slidenum"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52" name="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5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56" name="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BF8D-DBE3-4FB0-8509-969098B4856B}" type="slidenum"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group on Laboratory Capacity Strengthening (SL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7080" y="4653000"/>
            <a:ext cx="770760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of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DOTS Expansion Working Group (DEWG)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549360"/>
            <a:ext cx="6629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Policy review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xpert consultation meeting on optimization of AFB microscopy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(Geneva, 1-2 Septem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Annual Laboratory Subgroup and SRLN meeting (4 meetings organized)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Organization of training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TB Laboratory Management Training  in collaboration with EMRO (Septem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xternal quality assurance (EQA) workshop in AFRO (Octo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595080"/>
            <a:ext cx="662940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jor activities for 2006-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89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Rapid implementation of the Strategic Approach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To address the needs of DOTS Expansion, MDR-TB and TB/HIV 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5 trainings for lab management, culture and DST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Support selected countries for evaluation, planning and capacity strengthening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20 assessment and monitoring missions in priority HBC (global and regional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Human resources</a:t>
            </a:r>
            <a:r>
              <a:rPr b="0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Increase the pool of lab experts at international, regional and national levels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3 workshops for consultants and national workshops in selected countries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Finalization of standardization and development of training material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Financial resour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Raise financial resources at the international level to support countries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15 million $US gap for critical needs 2006-2009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Increase allocation of financial resources for laboratory at country levels (GFATM…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Improve coordination among partners to optimize use of resour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est from the Stop TB Coordinating Bo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4756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Re-profiling the Sub-group into a Working Group for Laboratory Capacity Strengthening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The Chair of the newly established Working Group to be granted membership of the Stop TB Coordinating Board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Provide technical support to develop resource mobilization plan to raise funds (15 million $ US) for the implementation of the Laboratory Strengthening Strategic Approach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B diagnostic services form the foundation for TB contro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Laboratory has been traditionally a neglected component of TB contro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Laboratory activities are crosscutting issues for the three implementation working groups (DEWG, DOTS-Plus, TB/HIV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Prior to the establishment of SLCS, efforts to improve laboratory work were neither streamlined nor coordinated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63640" y="1857240"/>
            <a:ext cx="5761080" cy="103860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DOTS Expansion Working Group</a:t>
            </a:r>
            <a:br>
              <a:rPr sz="1800"/>
            </a:b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(DEWG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63640" y="4508640"/>
            <a:ext cx="5761080" cy="146556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Chair: at present- Prof. F. Portael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Secretariat: WHO-HQ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Members: SRL Network &amp; Partners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(The Union/CDC/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KNCV/GLRA/… others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63640" y="3141720"/>
            <a:ext cx="5761080" cy="103860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Sub-Group on Laboratory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Capacity Strengthening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32000" y="260280"/>
            <a:ext cx="781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  <a:ea typeface="바탕체"/>
              </a:rPr>
              <a:t>Establishment of the Subgroup on Laboratory Capacity Strengthening in 2002</a:t>
            </a:r>
            <a:endParaRPr b="0" lang="en-US" sz="25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2924280"/>
            <a:ext cx="0" cy="21744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4221000"/>
            <a:ext cx="0" cy="28908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ituation analysis (22 HB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Most of HBCs have an established TB laboratory network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8 countries report to have National Reference Laboratory to oversee the organization and performance of the network; however some of them are weak and not fully functional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8 HBCs report to have EQA scheme for smear microscopy; however, majority report it's limited coverage and suboptimal quality of implementation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4 countries perform culture at the national/regional level according to nationally-defined specifications, which are not always consistent with international recommendations. In addition, there is no quality control of culture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In general, major impediments to perform diagnostic tests (especially culture and DST) are inadequate equipment and infrastructure, lack of technical knowledge, shortage of human and financial resource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774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Strategic Approach to Strengthen Laboratory Services for Tuberculosis Control  (2006-2009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47560"/>
            <a:ext cx="843588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3053"/>
                </a:solidFill>
                <a:latin typeface="Arial"/>
                <a:ea typeface="굴림"/>
              </a:rPr>
              <a:t>Objectives of the Strategic Approach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support countries to improve the performance of TB laboratories</a:t>
            </a:r>
            <a:r>
              <a:rPr b="1" lang="en-GB" sz="2000" spc="-1" strike="noStrike">
                <a:solidFill>
                  <a:srgbClr val="bfa907"/>
                </a:solidFill>
                <a:latin typeface="Arial"/>
                <a:ea typeface="굴림"/>
              </a:rPr>
              <a:t> </a:t>
            </a: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achieve the following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Implement a well-functioning QA programme for AFB smear microscopy in 100% of microscopy centres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Ensure access to culture and DST services for at least 40% of the eligible population (this will be determined according to national policy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promote a fully functional laboratory network with common objectives, programming, supervision and evaluation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02920" y="274680"/>
            <a:ext cx="7489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Components of the Strategic Approach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09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Standardization of laboratory document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Assessment tool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Training material 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Technical guidelines and manual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3" marL="175248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Assessment of laboratory servi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Evaluation of TB smear microscopy network (structure, HR and performance)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Evaluation of the reference laboratory capacity and performance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dentify key elements to improve lab performance and increase capacity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3" marL="1752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Supporting countries in planning, training and identification of funding to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mplement QA system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Strengthen the capacity of laboratory network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Organize the TB laboratory network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mprove quality and increase quantity of human resource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7143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mponents of the Strategic Approa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Monitoring and evaluation of progres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Upgrade laboratories capacity by technology transfer and introduction of new tool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Increase number of international consultants to support countrie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Increase and sustain financial resources to support countrie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Strengthen partnership and advocacy 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41672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Development of technical documents and guidelin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Finalization of the Laboratory Strategic Approach to improve performance of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TB diagnostic services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Checklist to evaluate culture and DST technique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Januar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Revision of TB Laboratory Management Training curriculum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ugust 2005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QA system for culture and DST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Februar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Framework for revision of the TB laboratory guidelines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Uniform training curricula for AFB smear microscopy (workshop in the box)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Ma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Standard operating procedures guidelines (SOP)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Jul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Compendium of performance indicators for TB laboratory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September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7596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1474920"/>
            <a:ext cx="86421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Organization/participation in assessment missions and programmes review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Approximately 40 assessment missions since 2002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However, not all partner organizations have coordinated their missions with secretariat of sub-group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3" marL="1681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3" marL="1681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Establishment of regional task force for laboratory improvement and development of regional strategi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URO (January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WPRO (January 2006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MRO (March 2006)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SEARO (July 2006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20:15:23Z</dcterms:created>
  <dc:creator>test</dc:creator>
  <dc:description/>
  <cp:keywords/>
  <dc:language>en-US</dc:language>
  <cp:lastModifiedBy>BlancL</cp:lastModifiedBy>
  <dcterms:modified xsi:type="dcterms:W3CDTF">2006-04-24T11:38:42Z</dcterms:modified>
  <cp:revision>164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  <property fmtid="{D5CDD505-2E9C-101B-9397-08002B2CF9AE}" pid="3" name="_TemplateID">
    <vt:lpwstr>TC011812271033</vt:lpwstr>
  </property>
</Properties>
</file>