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E44F-C954-432D-BAAF-D0C9F510B7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ly H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4E95-2CF8-4B20-B63B-76EB0AAD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6CAF-225D-49F3-A2CD-7D13EC98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9AE4-D256-4FC1-BBC1-29E1B243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18D1-C70F-4765-8FB6-7BA1C103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0694-55E4-4591-8026-BEA4A9D2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D712-213B-4C22-B55D-C75DB5E8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2BB3-1A73-430A-A6C6-7C29B030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12EF-BBE9-463D-A265-8182238E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094B-579F-4120-8865-A8ABAF08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2EA9-B023-48F3-BE26-AA0F0C9C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669F-A0F3-43E9-AB3E-DB417CA1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B198-3DF9-4C20-8331-A4D83ACB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26CA-F971-4C6F-B641-42EB4F105B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hyperlink" Target="http://www.panosaids.org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es for working with the media on TB: The Panos Stop TB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2920" y="3141360"/>
            <a:ext cx="651348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ation to Stop TB Governing Board Meeting in Abuja, Nigeria, 22 to 25 April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ald D. Kayanja, Director Panos Global AIDS Program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5373720"/>
            <a:ext cx="7345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Dickson, an African village"/>
          <p:cNvPicPr/>
          <p:nvPr/>
        </p:nvPicPr>
        <p:blipFill>
          <a:blip r:embed="rId5"/>
          <a:stretch/>
        </p:blipFill>
        <p:spPr>
          <a:xfrm>
            <a:off x="6372360" y="47973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Sven Torfinn"/>
          <p:cNvPicPr/>
          <p:nvPr/>
        </p:nvPicPr>
        <p:blipFill>
          <a:blip r:embed="rId6"/>
          <a:stretch/>
        </p:blipFill>
        <p:spPr>
          <a:xfrm>
            <a:off x="4500720" y="5084640"/>
            <a:ext cx="1714320" cy="1123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Pep Bonet"/>
          <p:cNvPicPr/>
          <p:nvPr/>
        </p:nvPicPr>
        <p:blipFill>
          <a:blip r:embed="rId7"/>
          <a:stretch/>
        </p:blipFill>
        <p:spPr>
          <a:xfrm>
            <a:off x="2700360" y="4724280"/>
            <a:ext cx="170496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Pep Bonet"/>
          <p:cNvPicPr/>
          <p:nvPr/>
        </p:nvPicPr>
        <p:blipFill>
          <a:blip r:embed="rId8"/>
          <a:stretch/>
        </p:blipFill>
        <p:spPr>
          <a:xfrm>
            <a:off x="900000" y="4724280"/>
            <a:ext cx="17049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aspects of Pha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ocus countries to 16 (we had 8 in Phase 1). Will exponentially increase the number of journalists 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 to print, we will now have broadcast journalists i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ase 2 we hope to engage more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TB Manag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mprove their media relations and communications skill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linkage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fected commun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trengthen their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 collaboration with the ACSM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907640" y="981000"/>
            <a:ext cx="56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estion for the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orse phase 2 of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sit our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panosaids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Panos project d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31640" y="1052280"/>
            <a:ext cx="65134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 journalists and offering them fellowships to increase interest in and accurate reporting of TB issues in high burde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in-depth reporting that covers socio-economic aspects, affected communities and promotes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ing a global network of journalists continuously reporting on TB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ing NTP managers to work more closely with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a project with the Stop TB Partnership which is moving into 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enable journalists in selected high burden countries understand the linkages between TB, HIV/AIDS, poverty, urbanization and other socio-economic vulnerabilit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uild skills and capacities of journalists to produce stories/features on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journalists with regular access to expertise and information on TB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greater media coverage on current situations, experiences and perspectives on TB, based on investigative reporting - includes the voices of those most margin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To enhance the coverage of TB in priority countries with a view to promoting informed public debate, national resource mobilization,  community mobilization and accountability in national efforts to fight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TDI00418BAN"/>
          <p:cNvPicPr/>
          <p:nvPr/>
        </p:nvPicPr>
        <p:blipFill>
          <a:blip r:embed="rId5"/>
          <a:stretch/>
        </p:blipFill>
        <p:spPr>
          <a:xfrm>
            <a:off x="5516640" y="2492280"/>
            <a:ext cx="3627360" cy="24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1 (2005/2006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Zambia, Malaw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thiop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Ethiop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ai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Carib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2 (2006/2007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otswana, Malawi, Namibia, South Africa, Zambi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R Congo, Kenya, Uganda, Tanzania, Ethiop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East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igeria, AFR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Wester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e / award fellow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advisory panel—to include a senior journalist, WHO/Stop TB technical person and a member of the patient community/activist. Panel for each Panos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training workshops for journalists (training manual being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lows start working—preparing reports/articl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the Panos Stop TB journalists network supported by Panos core regional 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ournalists awar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7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irst phase, fellowships were awarded to 17 print journalists (2 from each country and 3 from Indi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hotojournalists were selected (3 from Asia and 1 from Afric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667640" y="1916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766764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7020000" y="400536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5508720" y="2205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5219640" y="42210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achievements- Phase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Journalists from around the world received the fellowships—forming a nucleus of the TB journalists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 year, there was marked increased in-depth coverage of TB issu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 than 150 stories produc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ellows now working with NTP on local level media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gional training workshop was held by Panos for Eastern Africa—included 25 journalists from Kenya, Uganda, Tanzania, Ethiopia, and Sudan. Held in January prior to launch of Globa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 is incorporated within the Panos Global AIDS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nnual budget is US$1.5m funded by DANIDA and DF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elected activities for the Media TB Fellowships project, WHO/Stop TB Partnership contributed US$59,930 for the first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econd phase, within the broad framework of the US$ 1.5m Panos programme, WHO/Stop TB partnership is expected to provide US$ 124,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11:51:15Z</dcterms:created>
  <dc:creator>Authorised User</dc:creator>
  <dc:description/>
  <dc:language>en-US</dc:language>
  <cp:lastModifiedBy>bakerl</cp:lastModifiedBy>
  <dcterms:modified xsi:type="dcterms:W3CDTF">2006-05-02T15:13:12Z</dcterms:modified>
  <cp:revision>122</cp:revision>
  <dc:subject/>
  <dc:title>Slide 1</dc:title>
</cp:coreProperties>
</file>