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E4A0B-9F2C-4341-8FB7-07AB8AFCB96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stly HB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1572-3146-4057-912B-73E355779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ACC5-F885-4F53-90D2-CF2E56C1A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644A-6739-4A2A-9D0D-EDF30DA73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303E-3EF4-4020-A9E0-E20BAEE9E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4E95-50BF-479E-ACD7-03AD51F27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F7E0-CF83-4719-A5C5-DDE08F6A4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1EC3-8FDA-41A6-8CF1-B2C468BCA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FD1D-B299-46CB-B3A9-5F957FF72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9598-8664-4BA7-82F4-8FA9FF867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134B-4961-48E4-9679-6DD77582F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0E74-76E6-4717-9652-65A5B32F9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063E-DE06-4DBF-86C3-55E839D8C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EB5DE-4295-43BC-8E22-6CAE9E3D7DB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hyperlink" Target="http://www.panosaids.org/" TargetMode="External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04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85800" y="6248520"/>
            <a:ext cx="1625760" cy="44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0" name=""/>
          <p:cNvGraphicFramePr/>
          <p:nvPr/>
        </p:nvGraphicFramePr>
        <p:xfrm>
          <a:off x="7677000" y="0"/>
          <a:ext cx="1467000" cy="145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77000" y="0"/>
                    <a:ext cx="1467000" cy="14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36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ategies for working with the media on TB: The Panos Stop TB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402920" y="3141360"/>
            <a:ext cx="6513480" cy="17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ation to Stop TB Governing Board Meeting in Abuja, Nigeria, 22 to 25 April 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nald D. Kayanja, Director Panos Global AIDS Programm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00000" y="5373720"/>
            <a:ext cx="734544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Dickson, an African village"/>
          <p:cNvPicPr/>
          <p:nvPr/>
        </p:nvPicPr>
        <p:blipFill>
          <a:blip r:embed="rId5"/>
          <a:stretch/>
        </p:blipFill>
        <p:spPr>
          <a:xfrm>
            <a:off x="6372360" y="479736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Sven Torfinn"/>
          <p:cNvPicPr/>
          <p:nvPr/>
        </p:nvPicPr>
        <p:blipFill>
          <a:blip r:embed="rId6"/>
          <a:stretch/>
        </p:blipFill>
        <p:spPr>
          <a:xfrm>
            <a:off x="4500720" y="5084640"/>
            <a:ext cx="1714320" cy="11239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Pep Bonet"/>
          <p:cNvPicPr/>
          <p:nvPr/>
        </p:nvPicPr>
        <p:blipFill>
          <a:blip r:embed="rId7"/>
          <a:stretch/>
        </p:blipFill>
        <p:spPr>
          <a:xfrm>
            <a:off x="2700360" y="4724280"/>
            <a:ext cx="1704960" cy="17146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Pep Bonet"/>
          <p:cNvPicPr/>
          <p:nvPr/>
        </p:nvPicPr>
        <p:blipFill>
          <a:blip r:embed="rId8"/>
          <a:stretch/>
        </p:blipFill>
        <p:spPr>
          <a:xfrm>
            <a:off x="900000" y="4724280"/>
            <a:ext cx="1704960" cy="171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040" cy="6858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685800" y="6248520"/>
            <a:ext cx="1625760" cy="44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5" name=""/>
          <p:cNvGraphicFramePr/>
          <p:nvPr/>
        </p:nvGraphicFramePr>
        <p:xfrm>
          <a:off x="7677000" y="0"/>
          <a:ext cx="1467000" cy="145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77000" y="0"/>
                    <a:ext cx="1467000" cy="14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Key aspects of Phas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128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d focus countries to 16 (we had 8 in Phase 1). Will exponentially increase the number of journalists 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addition to print, we will now have broadcast journalists in Afric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Phase 2 we hope to engage more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tional TB Manag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improve their media relations and communications skill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 linkage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fected communit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strengthen their vo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ose collaboration with the ACSM Working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040" cy="68580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5800" y="6248520"/>
            <a:ext cx="1625760" cy="44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1" name=""/>
          <p:cNvGraphicFramePr/>
          <p:nvPr/>
        </p:nvGraphicFramePr>
        <p:xfrm>
          <a:off x="7677000" y="0"/>
          <a:ext cx="1467000" cy="145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77000" y="0"/>
                    <a:ext cx="1467000" cy="14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907640" y="981000"/>
            <a:ext cx="5688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Question for the Boar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dorse phase 2 of the 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isit our web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panosaids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ank yo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04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685800" y="6248520"/>
            <a:ext cx="1625760" cy="44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1" name=""/>
          <p:cNvGraphicFramePr/>
          <p:nvPr/>
        </p:nvGraphicFramePr>
        <p:xfrm>
          <a:off x="7677000" y="0"/>
          <a:ext cx="1467000" cy="145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77000" y="0"/>
                    <a:ext cx="1467000" cy="14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0920" y="-171360"/>
            <a:ext cx="777240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at Panos project do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31640" y="1052280"/>
            <a:ext cx="651348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 journalists and offering them fellowships to increase interest in and accurate reporting of TB issues in high burden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courage in-depth reporting that covers socio-economic aspects, affected communities and promotes accoun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ing a global network of journalists continuously reporting on TB issu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abling NTP managers to work more closely with med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a project with the Stop TB Partnership which is moving into Phase 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040" cy="68580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685800" y="6248520"/>
            <a:ext cx="1625760" cy="44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" name=""/>
          <p:cNvGraphicFramePr/>
          <p:nvPr/>
        </p:nvGraphicFramePr>
        <p:xfrm>
          <a:off x="7677000" y="0"/>
          <a:ext cx="1467000" cy="145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77000" y="0"/>
                    <a:ext cx="1467000" cy="14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i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55640" y="1052640"/>
            <a:ext cx="468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enable journalists in selected high burden countries understand the linkages between TB, HIV/AIDS, poverty, urbanization and other socio-economic vulnerabiliti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build skills and capacities of journalists to produce stories/features on T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provide journalists with regular access to expertise and information on TB issu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provide greater media coverage on current situations, experiences and perspectives on TB, based on investigative reporting - includes the voices of those most marginal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33"/>
                </a:solidFill>
                <a:latin typeface="Arial"/>
              </a:rPr>
              <a:t>To enhance the coverage of TB in priority countries with a view to promoting informed public debate, national resource mobilization,  community mobilization and accountability in national efforts to fight T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TDI00418BAN"/>
          <p:cNvPicPr/>
          <p:nvPr/>
        </p:nvPicPr>
        <p:blipFill>
          <a:blip r:embed="rId5"/>
          <a:stretch/>
        </p:blipFill>
        <p:spPr>
          <a:xfrm>
            <a:off x="5516640" y="2492280"/>
            <a:ext cx="3627360" cy="240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040" cy="68580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85800" y="6248520"/>
            <a:ext cx="1625760" cy="44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4" name=""/>
          <p:cNvGraphicFramePr/>
          <p:nvPr/>
        </p:nvGraphicFramePr>
        <p:xfrm>
          <a:off x="7677000" y="0"/>
          <a:ext cx="1467000" cy="145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77000" y="0"/>
                    <a:ext cx="1467000" cy="14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4000" y="269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cus Countrie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hase 1 (2005/2006)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9 count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98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99"/>
                </a:solidFill>
                <a:latin typeface="Arial"/>
              </a:rPr>
              <a:t>India, Bangladesh, Indonesi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SEAR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nos South As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Pakista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EMR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anos South As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Philippin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WPR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anos South As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Zambia, Malaw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AFR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anos Southern Afric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Ethiopi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AFR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anos Ethiop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Hait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anos Caribbe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040" cy="68580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685800" y="6248520"/>
            <a:ext cx="1625760" cy="44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0" name=""/>
          <p:cNvGraphicFramePr/>
          <p:nvPr/>
        </p:nvGraphicFramePr>
        <p:xfrm>
          <a:off x="7677000" y="0"/>
          <a:ext cx="1467000" cy="145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77000" y="0"/>
                    <a:ext cx="1467000" cy="14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24000" y="34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cus Countrie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hase 2 (2006/2007)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6 count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267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India, Bangladesh, Indonesi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SEARO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nos South Asi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Pakista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EMR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nos South Asi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Philippin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WPR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nos South Asi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Botswana, Malawi, Namibia, South Africa, Zambia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AFR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nos Southern Afric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DR Congo, Kenya, Uganda, Tanzania, Ethiopi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AFR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nos Eastern Afric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igeria, AFRO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nos Western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04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685800" y="6248520"/>
            <a:ext cx="1625760" cy="44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6" name=""/>
          <p:cNvGraphicFramePr/>
          <p:nvPr/>
        </p:nvGraphicFramePr>
        <p:xfrm>
          <a:off x="7677000" y="0"/>
          <a:ext cx="1467000" cy="145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77000" y="0"/>
                    <a:ext cx="1467000" cy="14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ject Desig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ertise / award fellow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advisory panel—to include a senior journalist, WHO/Stop TB technical person and a member of the patient community/activist. Panel for each Panos 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duct training workshops for journalists (training manual being develop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llows start working—preparing reports/articles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and the Panos Stop TB journalists network supported by Panos core regional staf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040" cy="68580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685800" y="6248520"/>
            <a:ext cx="1625760" cy="44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7677000" y="0"/>
          <a:ext cx="1467000" cy="145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77000" y="0"/>
                    <a:ext cx="1467000" cy="14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Journalists award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75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first phase, fellowships were awarded to 17 print journalists (2 from each country and 3 from India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 photojournalists were selected (3 from Asia and 1 from Africa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7667640" y="191628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6"/>
          <a:stretch/>
        </p:blipFill>
        <p:spPr>
          <a:xfrm>
            <a:off x="7667640" y="292428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7"/>
          <a:stretch/>
        </p:blipFill>
        <p:spPr>
          <a:xfrm>
            <a:off x="7020000" y="4005360"/>
            <a:ext cx="1714320" cy="17143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8"/>
          <a:stretch/>
        </p:blipFill>
        <p:spPr>
          <a:xfrm>
            <a:off x="5508720" y="220500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9"/>
          <a:stretch/>
        </p:blipFill>
        <p:spPr>
          <a:xfrm>
            <a:off x="5219640" y="4221000"/>
            <a:ext cx="1714680" cy="171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040" cy="68580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685800" y="6248520"/>
            <a:ext cx="1625760" cy="44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3" name=""/>
          <p:cNvGraphicFramePr/>
          <p:nvPr/>
        </p:nvGraphicFramePr>
        <p:xfrm>
          <a:off x="7677000" y="0"/>
          <a:ext cx="1467000" cy="145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77000" y="0"/>
                    <a:ext cx="1467000" cy="14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Key achievements- Phase 1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7 Journalists from around the world received the fellowships—forming a nucleus of the TB journalists net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in the year, there was marked increased in-depth coverage of TB issue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More than 150 stories produc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fellows now working with NTP on local level media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regional training workshop was held by Panos for Eastern Africa—included 25 journalists from Kenya, Uganda, Tanzania, Ethiopia, and Sudan. Held in January prior to launch of Global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040" cy="68580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685800" y="6248520"/>
            <a:ext cx="1625760" cy="44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9" name=""/>
          <p:cNvGraphicFramePr/>
          <p:nvPr/>
        </p:nvGraphicFramePr>
        <p:xfrm>
          <a:off x="7677000" y="0"/>
          <a:ext cx="1467000" cy="145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77000" y="0"/>
                    <a:ext cx="1467000" cy="14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inan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oject is incorporated within the Panos Global AIDS Program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r annual budget is US$1.5m funded by DANIDA and DFI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selected activities for the Media TB Fellowships project, WHO/Stop TB Partnership contributed US$59,930 for the first ph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second phase, within the broad framework of the US$ 1.5m Panos programme, WHO/Stop TB partnership is expected to provide US$ 124,0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7T11:51:15Z</dcterms:created>
  <dc:creator>Authorised User</dc:creator>
  <dc:description/>
  <dc:language>en-US</dc:language>
  <cp:lastModifiedBy>bakerl</cp:lastModifiedBy>
  <dcterms:modified xsi:type="dcterms:W3CDTF">2006-05-02T15:13:12Z</dcterms:modified>
  <cp:revision>122</cp:revision>
  <dc:subject/>
  <dc:title>Slide 1</dc:title>
</cp:coreProperties>
</file>