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11CA-D453-4BE2-9E60-C9BFC23A6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trategic objectives and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framework is designed to implement intensive, sustai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detailed communication strategies in all high-burden countr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 well as support strategies in medium-burden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 the next 10 years. Such work will be phased to en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ximum strategic intensity. In the first five years of this workpla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tensive process of capacity building and strate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nning will take place in all high-burden countries. This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phased process, focused on five countries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following strategic objective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08, at least 10 endemic countries will have develo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will be implementing multisectoral, participatory AC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itiatives and generating qualitative and quantitativ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CSM's contribution to TB contr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0, at least 20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ultisectoral, participatory-based ACSM initiatives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toring and evaluating their outco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multisectoral, participatory ACSM method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be a fully developed component of the Stop 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all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and participatory ACSM initia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addition, a series of process target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middle of 2006, a detailed ACSM 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plementation plan will have been developed aimed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suring the appointment/recruitment of senior-level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ists focused explicitly on tackling TB in 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-burden countries. Such a plan will draw heavily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, expertise and insight of NTPs and part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end of 2006, a strategy will have been develop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dium-burden countries detailing the communic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cessary (including technical advice, resource mate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other mechanisms) to meet TB targets in those count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beginning of 2006, a process will have start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strategic agreements with international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ort organizations able to offer technical suppor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untries. By the middle of 2006 at least five of these 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been agreed and implementation begu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objectives and targets will be achieved through a m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five key strategic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have developed and implemen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243-ED1A-44F1-B53C-E24E0A4F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451-9538-4656-9202-2CD0AE81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A15-3E55-44AD-8933-5061F600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FF7-3A32-46E0-8885-85A0D335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81E7-F59C-48BB-A420-7542E2F9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E360-A56C-40CF-ADA3-0775174B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FF75-005C-4906-85A2-8837ABC4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1444-C72F-439F-BABE-2ED79294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CE30-8A66-4EB2-891C-D27105B1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BE70-C4F0-405C-BD70-6654A0B7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E49B-8A6E-4984-9409-99FA8F1C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AAE-6F86-4B78-A3EA-3D93C356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4C71-BEAE-4939-9DDC-8F87AB77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EDD1-8CEB-47F5-BC32-49B99014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70DE-F402-4E7A-A409-DF3F150D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DD5B-07D1-439C-9182-83A412BD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D005-EE85-4A2F-8EB2-EA05918B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D29-1B1C-4F25-88B9-A1E376B5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25B-DDBC-4E0A-A3B7-1685C5CE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344-8D0B-4DA3-B014-893C6009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A36B-B120-4F61-8468-78CA8CE3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991-C614-4916-9912-501E99B2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BA1-BE39-448B-89E9-4606B955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F838-C19F-46B1-A6D0-EA759A7B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5E64-42AA-4DEC-B815-BABBECBE4F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90AC-9CC9-475D-8DD3-E04A50089E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dvocacy, Communication and Social Mobilization Sub Group at Country Level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Building a Technical Assistance Net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 to the Stop TB Coordina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uj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Funding for ACSM Technical Assistance Lag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940360" y="429264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9 million gap in ASCM projected TA need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44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 USAID is the largest single donor for ACSM technic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1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wake of solving the funding question, how to coordinate effectively among partners to maximise gains, reduce duplication, measure outcomes and advance ACSM pedagogy for T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2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w to access necessary financial resources to maximise the impact of available funding from GFATM and other sources to satisfy the resources needs detailed in the Global Plan/ACSM Strategic Framework for technical cooperation among partner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vious discussions on 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4—CB meeting Beijing:  Endorsement of ISAC to respond to shortage funding for 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/HIV:  Requested funds for operational research and policy monito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ddis Ababa: Agreement to support countries with technical assistance to prepare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GFATM Propos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ssisi:  Discussion of a Coalition for Technical Assistance  for Labora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6—Partners TA meeting Geneva: discussed the growing need for TA for all of technical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CTA, ISAC and other channels provide needed TA but ACSM access to those funds is limi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ci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comprehensive range TA mechanism or facility to support all technical elements of the Stop TB Strateg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B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specific mechanism for responding to the growing demand for sound TA for ACSM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B endorse the strengthening the capacity of the secretariat to respond to the growing demand for ACSM from countri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SM 10-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tilization of AC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ussion and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ategic Overview of AC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2017800"/>
            <a:ext cx="162864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92480" y="4145040"/>
            <a:ext cx="15922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SM is a new high priority technical component of the WHO Stop TB Strate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th the Global Plan and the ACSM 10 Year Strategic Framework call for the rapid scale-up of ACSM activities at country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$3.2 billion over the life of both plans.  $2.9 billion for countries and $133 million for international agency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CSM Strategic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 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ve poi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 of patients and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itical commit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nd practices and knowledge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201780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he Framework for Action will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Objectives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mprove country and partner access to timely and quality-assured technical assistanc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able a collaborative approach to the delivery of technical assistance in support of country and partner-owned ACSM plan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Assist in the professional development of national institutions as well as national and regional ACSM profession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165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targets 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8 – 10 count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0 – 20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CSM methodologies will be fully a developed component of the Stop TB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ll priority countries implementing effective ACSM Initiat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37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tilization:  Rapid growth in AC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8640"/>
          <a:ext cx="82170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170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00000" y="5877000"/>
            <a:ext cx="7885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Plan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nding:  HBCs with GFATM funding via rounds 1-5 for ACSM activ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0520" y="2017800"/>
          <a:ext cx="775512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017800"/>
                    <a:ext cx="77551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87280" y="6093000"/>
            <a:ext cx="756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pproved grants from 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ound GFAT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ds at Country Level via GFA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ccessful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ound for ACSM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35 million over two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63 million over five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ome TA budgeted for in some 5th gr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9000"/>
          <a:ext cx="4038480" cy="4257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SM 2 year budge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z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5:00:47Z</dcterms:created>
  <dc:creator>Thaddeus Pennas</dc:creator>
  <dc:description/>
  <dc:language>en-US</dc:language>
  <cp:lastModifiedBy>bakerl</cp:lastModifiedBy>
  <dcterms:modified xsi:type="dcterms:W3CDTF">2006-05-02T15:10:3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6874898</vt:r8>
  </property>
  <property fmtid="{D5CDD505-2E9C-101B-9397-08002B2CF9AE}" pid="3" name="_AuthorEmail">
    <vt:lpwstr>francisc@who.int</vt:lpwstr>
  </property>
  <property fmtid="{D5CDD505-2E9C-101B-9397-08002B2CF9AE}" pid="4" name="_AuthorEmailDisplayName">
    <vt:lpwstr>Francis, Carole Louise</vt:lpwstr>
  </property>
  <property fmtid="{D5CDD505-2E9C-101B-9397-08002B2CF9AE}" pid="5" name="_EmailSubject">
    <vt:lpwstr>CB Presentation--Sub Group....Need your input</vt:lpwstr>
  </property>
  <property fmtid="{D5CDD505-2E9C-101B-9397-08002B2CF9AE}" pid="6" name="_NewReviewCycle">
    <vt:lpwstr/>
  </property>
  <property fmtid="{D5CDD505-2E9C-101B-9397-08002B2CF9AE}" pid="7" name="_PreviousAdHocReviewCycleID">
    <vt:r8>-1321205299</vt:r8>
  </property>
  <property fmtid="{D5CDD505-2E9C-101B-9397-08002B2CF9AE}" pid="8" name="_ReviewingToolsShownOnce">
    <vt:lpwstr/>
  </property>
</Properties>
</file>