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1637-F8EC-4EDB-9D78-04902EA67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current assesment of what product delivery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EC7-0277-4129-946C-F36C691B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1B6-FFD9-4E20-AED8-A3FB03EE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45D-73D0-4694-8649-C2B0FEE4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81F-15A7-48A5-8778-A725A62D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4DFD-CE08-4D4E-B71E-3FA68BB1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3B85-77BC-4F51-908D-672B5EC7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46BF-FBDC-4860-9927-67B2C6F3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A991-64D5-4D44-AC23-B327CA01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9133-F3E0-46C1-BFEE-89FFC1D0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CA8D-928A-4ECF-ACE2-C87AE027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BBE4-4939-4F9F-B040-9426E470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14ED-841F-49DA-BADE-9A310C57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7FC4-8A19-403C-B0D8-A112029E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3177-8570-4AA3-849B-C376701F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AA60-15C6-4401-96A2-692FA04D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A60C-BBBE-4868-8528-9503C707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1EDB-38B6-4458-96CF-8EF5D776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F677-DCC7-4F6D-80DD-C92D2F6E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527-B1AC-4C2E-B575-16ED5428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BBAA-8446-44AA-802D-1202837B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D1C-92DE-4962-AAE6-04345B33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E8E-0096-4248-A021-EEBEE327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A84-6CED-4D48-84E0-02A13E17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42E-62B3-46C5-B674-AFD8A7E9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2BED-14AE-4438-9402-7A9762133AD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A91E-315F-4435-A5E4-FAF5785CD7A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uilding Momentum for </a:t>
            </a: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op TB Partnership CB Mee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uja, Nige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ril 24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" y="124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Mi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924280"/>
            <a:ext cx="766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Facilitate adoption and introduction of new tools as they become avail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Activ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Develop work plan and tim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WGs’ information pipelin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gage stakeholders from HBCs (MOH, NGOs, affected communiti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Help mobilize financial and human resour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lessons learned from other areas (GAVI, malaria, etc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cilitate operations research on introduction of new too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Generate evidence to support adoption of new too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st track incorporation into WHO and national guid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hance communication among WGs on retool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Compos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Chair(s)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xperience with new tools and country-level implementation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ing Groups (including key sub-group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mmunity and donor represent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etooling experts from other disease commun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opic-specific experts (periodic inpu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ackground paper/inventory of key issues faced by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 and country-level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AVI, malaria, oth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ace to face meeting to develo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obust 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im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active support from each of the 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financial and secretariat support for meetings of task for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7656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2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Special thanks go to the RTF for providing the supporting material for this presentation.</a:t>
            </a:r>
            <a:r>
              <a:rPr b="0" lang="en-US" sz="28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rrent Membershi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Christy Hanson, USAID (dono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arbara Laughon, NIAID (TB/HIV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Aziz Mohamed, StopTB/WHO (lab sub group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Vinand Nantulya, FIND (diagnostic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kushi Onozaki, RTI/JATA (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Nina Schwalbe, TB Alliance (drug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rite Holm Sorenson, World Bank (poverty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Javid Syed, TAG (communit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Karin Weyer, SA-MRC (MD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atrick Zuber, EPI/WHO (vaccin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retariat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achel Bauquerez, Stop TB Partnership</a:t>
            </a: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hilip Onyebujoh, IRM/TD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630560" y="61657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20000"/>
                </a:solidFill>
                <a:latin typeface="Arial"/>
              </a:rPr>
              <a:t>* Interim co-ch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00" y="476280"/>
            <a:ext cx="88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Estimate of Tool 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24360" y="2030400"/>
            <a:ext cx="3816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87640" y="2030400"/>
            <a:ext cx="126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03400"/>
            <a:ext cx="8991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47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&lt; 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735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2080"/>
            <a:ext cx="0" cy="508500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16000"/>
            <a:ext cx="0" cy="51580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74780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18600" y="17478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030400"/>
            <a:ext cx="4284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6000" y="2030400"/>
            <a:ext cx="288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2030400"/>
            <a:ext cx="270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4960" y="2131920"/>
            <a:ext cx="7781760" cy="735120"/>
            <a:chOff x="534960" y="2131920"/>
            <a:chExt cx="7781760" cy="735120"/>
          </a:xfrm>
        </p:grpSpPr>
        <p:sp>
          <p:nvSpPr>
            <p:cNvPr id="114" name=""/>
            <p:cNvSpPr/>
            <p:nvPr/>
          </p:nvSpPr>
          <p:spPr>
            <a:xfrm>
              <a:off x="534960" y="2251080"/>
              <a:ext cx="666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be7960"/>
                  </a:solidFill>
                  <a:latin typeface="Arial"/>
                </a:rPr>
                <a:t>Vaccin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68800" y="2131920"/>
              <a:ext cx="2347920" cy="735120"/>
              <a:chOff x="5968800" y="2131920"/>
              <a:chExt cx="2347920" cy="735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8800" y="2131920"/>
                <a:ext cx="23479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e7960"/>
                    </a:solidFill>
                    <a:latin typeface="Arial"/>
                  </a:rPr>
                  <a:t>New TB Vaccine </a:t>
                </a:r>
                <a:br>
                  <a:rPr sz="1800"/>
                </a:b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4480" y="2533680"/>
                <a:ext cx="201600" cy="182520"/>
              </a:xfrm>
              <a:prstGeom prst="diamond">
                <a:avLst/>
              </a:prstGeom>
              <a:solidFill>
                <a:srgbClr val="be7960"/>
              </a:solidFill>
              <a:ln w="1908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828800" y="30924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fer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" y="321480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Diagno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2920" y="31068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eriphe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65112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4040" y="3121200"/>
            <a:ext cx="1817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int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748720" y="2065320"/>
            <a:ext cx="14400" cy="5081760"/>
          </a:xfrm>
          <a:prstGeom prst="line">
            <a:avLst/>
          </a:prstGeom>
          <a:ln w="5400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4000" y="4081320"/>
            <a:ext cx="8700840" cy="734760"/>
            <a:chOff x="324000" y="4081320"/>
            <a:chExt cx="8700840" cy="734760"/>
          </a:xfrm>
        </p:grpSpPr>
        <p:sp>
          <p:nvSpPr>
            <p:cNvPr id="125" name=""/>
            <p:cNvSpPr/>
            <p:nvPr/>
          </p:nvSpPr>
          <p:spPr>
            <a:xfrm>
              <a:off x="324000" y="42955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Arial"/>
                </a:rPr>
                <a:t>Drug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075280" y="4081320"/>
              <a:ext cx="1287360" cy="734760"/>
              <a:chOff x="5075280" y="4081320"/>
              <a:chExt cx="1287360" cy="734760"/>
            </a:xfrm>
          </p:grpSpPr>
          <p:sp>
            <p:nvSpPr>
              <p:cNvPr id="127" name=""/>
              <p:cNvSpPr/>
              <p:nvPr/>
            </p:nvSpPr>
            <p:spPr>
              <a:xfrm>
                <a:off x="5075280" y="4081320"/>
                <a:ext cx="128736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ingle New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45240" y="4497120"/>
                <a:ext cx="20160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07200" y="4081320"/>
              <a:ext cx="1817640" cy="734760"/>
              <a:chOff x="7207200" y="4081320"/>
              <a:chExt cx="1817640" cy="734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207200" y="4081320"/>
                <a:ext cx="181764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New Multi-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egime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634240" y="4497120"/>
                <a:ext cx="20196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3059280" y="2062080"/>
            <a:ext cx="31680" cy="514836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6068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6464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6553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a presentation by Dr. Peter Small, BMG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tting the Stag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etter diagnostics, drugs and vaccines are coming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ols are only effective if us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option must be planned and support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37228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20000"/>
                </a:solidFill>
                <a:latin typeface="Tahoma"/>
              </a:rPr>
              <a:t>Adoption, implementation and use of new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492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479736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20000"/>
                </a:solidFill>
                <a:latin typeface="Tahoma"/>
              </a:rPr>
              <a:t>Ret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edback Loop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RUGS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48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916280"/>
            <a:ext cx="4248000" cy="3889080"/>
          </a:xfrm>
          <a:prstGeom prst="ellipse">
            <a:avLst/>
          </a:prstGeom>
          <a:solidFill>
            <a:srgbClr val="ff9900">
              <a:alpha val="23000"/>
            </a:srgbClr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Arial"/>
              </a:rPr>
              <a:t>ADVOCACY &amp;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lustrative Engagement Matrix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1844640"/>
          <a:ext cx="8076960" cy="4287960"/>
        </p:xfrm>
        <a:graphic>
          <a:graphicData uri="http://schemas.openxmlformats.org/drawingml/2006/table">
            <a:tbl>
              <a:tblPr/>
              <a:tblGrid>
                <a:gridCol w="1615680"/>
                <a:gridCol w="1616400"/>
                <a:gridCol w="1612800"/>
                <a:gridCol w="1616040"/>
                <a:gridCol w="16160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artners in new tools introd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im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em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or to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Upon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N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gulatory ag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echnical agencies providing technical as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search part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vate sector (associations, provid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mmun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ono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Directly links R&amp;D, implementation and advoca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any stakeholders must be involved for succes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top TB Partnership uniquely positioned to serve as a model for retooling in public healt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42920" y="5229360"/>
            <a:ext cx="7029360" cy="581400"/>
            <a:chOff x="1042920" y="5229360"/>
            <a:chExt cx="7029360" cy="581400"/>
          </a:xfrm>
        </p:grpSpPr>
        <p:sp>
          <p:nvSpPr>
            <p:cNvPr id="149" name=""/>
            <p:cNvSpPr/>
            <p:nvPr/>
          </p:nvSpPr>
          <p:spPr>
            <a:xfrm>
              <a:off x="2030400" y="5229360"/>
              <a:ext cx="604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ahoma"/>
                </a:rPr>
                <a:t>GP II did not address retoo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2920" y="53020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eating the Link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Board recognized the gap and created the Retooling Task Force (RTF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RTF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WG chairs and Secretariat recommended memb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cretariat supports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roposed Terms of Reference (TOR) developed by RTF Member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resentation to the BOD for input and feedbac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TF Request to 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s the task force the appropriate mechanism to deal with re-tooling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re the content and the TOR on target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920" y="299700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ahoma"/>
              </a:rPr>
              <a:t>PROPOSED 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mfreire</cp:lastModifiedBy>
  <dcterms:modified xsi:type="dcterms:W3CDTF">2006-04-22T19:15:2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