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2B8-8929-48D8-95A9-C819A505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EAF1-C79D-4A12-B200-571F96B1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0707-AA51-49F2-ACA2-6278DE1F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F00-DA0F-4E00-AE7D-F7AE6EE2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DD8-056E-49C4-A426-F1AD1862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E1E-AB05-46B9-AAC2-256AF77C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F07-6B56-4B1C-BCF2-8D5671D3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F2D-34DD-4151-9335-C579BAA8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D229-81CC-4BFD-BC93-8124E9FD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2F6-680E-4F93-A3C8-035EB7B4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E72-31A6-4DAF-8C4C-FEBCE766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2FCA-5BAE-4FAC-8959-C1AF3A42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3863-BBA7-41ED-8D80-68FC43DD0D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High Lev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berculosis – a regional emerg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enhagen, 16-17 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presentation to Coordinating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on lates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e comments and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high level mission to participate in Ministerial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Development Goal for TB and Stop-TB targets may not be met in Africa and Eastern Europe/Central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stern Europe major problems with high MDR-TB rates and increasing TB-HIV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clared tuberculosis regional emergency in Europe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versies on techn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xternal support from Western Europe (health concerns versus development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 and objectiv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 progress towards achieving MDGs and targets for TB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political and financial support to TB control in line with Global Plan 2006-2015 in priorit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awareness and commitments of European and other international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European Stop-TB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Committee (chair Zaleskis) and Steering Committee (chair Borgdorff) established in Jan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and place set: 16-17 October 2006 in Copenh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 letter ready, to be signed by Regional Director and Minister of Health of Finland (EU Presidenc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f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es: Ministers of Health, Finance (East), Justice (East), Foreign Affairs/Development Cooperation (West), as well as selecte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al programme draf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el discussions on the TB threat (incl MDR-TB and TB-HIV), collaboration between European countries, and bridging the financial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and adoption of Copenhagen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ing the Stop TB Partnership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declaration being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cy plan being finalised, including pre-events in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documents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‘ next steps’ in preparation (from regional to national emergency; development of country p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budget $ 300,000 – 35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: number of participants, location, air f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s so f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29,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-TB Partnership/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 5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gap: in the order of $  1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ntributions expected or applied for: TB societies (Netherlands, Russia, Finland), USAID, Gate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yet directly from Western European Governments, except reception by Govt of Finland (EU presidency), and support from Italy through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6:27:26Z</dcterms:created>
  <dc:creator>kncv</dc:creator>
  <dc:description/>
  <dc:language>en-US</dc:language>
  <cp:lastModifiedBy>bakerl</cp:lastModifiedBy>
  <dcterms:modified xsi:type="dcterms:W3CDTF">2006-05-02T15:11:46Z</dcterms:modified>
  <cp:revision>5</cp:revision>
  <dc:subject/>
  <dc:title>European High Level Ministerial Forum  Tuberculosis – a regional emergency</dc:title>
</cp:coreProperties>
</file>