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9B10-ED2B-4211-AD2D-33D380443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current assesment of what product delivery 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256E-978E-469E-8F7D-5F1CD532A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09F9-6EAB-4276-B525-E8C7112E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8178-1534-464D-B34D-282091E02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347C-2364-4D6F-B769-90931B897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17F0-DEE7-4077-8390-1F2CFAF19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AD5D-736B-42C4-B756-A38735FB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F5BC-BB28-494D-A6E9-3DC3C277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4495-8043-4B46-8CBB-F0891834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FC8E-253E-4DC7-B82A-0251CD3C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4A69-8A2E-4169-9989-FBEBC6B9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41DC-17A2-45EC-AC3B-960458FD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4240-93EA-4D4B-B5F4-2E77C335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8378-B359-444E-88C5-5DB03A53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923E-CE74-4D98-A50D-F1A104A5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D141-7333-4EC0-A0E6-B6AB2CB8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B8C3-85ED-4448-A5BF-067DA9403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C731-9F0D-4A36-B4C3-A7DCEED68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0DA6-16B2-4B08-8934-03C5BAC5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0BFF-6C0C-4368-BA4E-2D5AA4D3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A3CA-C9C0-4A20-9F25-F7E5FC99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6547-D256-4B57-BF6C-CC142BA7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4079-0E15-4716-87A0-D19D67F9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5BED-67E7-4159-A6BC-5BC56E75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3CD8-4B22-43F3-9DA7-E54AF2E7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D3D0-79EA-4A15-B0B8-6628136BFB6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F70C-B1F4-4361-9E2D-374E80468112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Building Momentum for </a:t>
            </a:r>
            <a:r>
              <a:rPr b="1" i="1" lang="en-US" sz="3600" spc="-1" strike="noStrike">
                <a:solidFill>
                  <a:srgbClr val="ffffcc"/>
                </a:solidFill>
                <a:latin typeface="Tahoma"/>
              </a:rPr>
              <a:t>Retooling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top TB Partnership CB Meeting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buja, Nigeri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pril 24, 2006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200" y="12492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Miss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2924280"/>
            <a:ext cx="76662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20000"/>
                </a:solidFill>
                <a:latin typeface="Tahoma"/>
              </a:rPr>
              <a:t>Facilitate adoption and introduction of new tools as they become avail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Activiti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Develop work plan and timelin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Consolidate WGs’ information pipelin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Engage stakeholders from HBCs (MOH, NGOs, affected communitie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Help mobilize financial and human resour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Consolidate lessons learned from other areas (GAVI, malaria, etc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Facilitate operations research on introduction of new too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Generate evidence to support adoption of new tool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Fast track incorporation into WHO and national guidelin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Enhance communication among WGs on retool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8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Composit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Chair(s)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xperience with new tools and country-level implementation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embership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ing Groups (including key sub-group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Community and donor represent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T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Retooling experts from other disease commun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opic-specific experts (periodic input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Next step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ackground paper/inventory of key issues faced by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TPs and country-level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GAVI, malaria, oth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ace to face meeting to develo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Robust 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imelin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oving Forwar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Need active support from each of the 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Need financial and secretariat support for meetings of task forc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cknowledgemen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176560" y="3881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3284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Special thanks go to the RTF for providing the supporting material for this presentation.</a:t>
            </a:r>
            <a:r>
              <a:rPr b="0" lang="en-US" sz="2800" spc="-1" strike="noStrike">
                <a:solidFill>
                  <a:srgbClr val="72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urrent Membershi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Memb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Christy Hanson, USAID (dono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Barbara Laughon, NIAID (TB/HIV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Aziz Mohamed, StopTB/WHO (lab sub group, 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Vinand Nantulya, FIND (diagnostics)*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Ikushi Onozaki, RTI/JATA (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Nina Schwalbe, TB Alliance (drugs)*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Brite Holm Sorenson, World Bank (poverty, 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Javid Syed, TAG (community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Karin Weyer, SA-MRC (MD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atrick Zuber, EPI/WHO (vaccine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ecretariat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Rachel Bauquerez, Stop TB Partnership</a:t>
            </a: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hilip Onyebujoh, IRM/TD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7630560" y="6165720"/>
            <a:ext cx="151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20000"/>
                </a:solidFill>
                <a:latin typeface="Arial"/>
              </a:rPr>
              <a:t>* Interim co-chai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09680" y="2068560"/>
            <a:ext cx="0" cy="510552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068560"/>
            <a:ext cx="0" cy="510552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0000" y="476280"/>
            <a:ext cx="887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urrent Estimate of Tool Deliver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924360" y="2030400"/>
            <a:ext cx="3816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787640" y="2030400"/>
            <a:ext cx="1260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003400"/>
            <a:ext cx="8991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74780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&lt; 2005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5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17352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6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43280" y="174780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7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174780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9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640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0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2062080"/>
            <a:ext cx="0" cy="508500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51640" y="2016000"/>
            <a:ext cx="0" cy="51580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67640" y="17478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17478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56360" y="1747800"/>
            <a:ext cx="609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1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418600" y="1747800"/>
            <a:ext cx="76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4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2030400"/>
            <a:ext cx="4284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236000" y="2030400"/>
            <a:ext cx="288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01000" y="2030400"/>
            <a:ext cx="2700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34960" y="2131920"/>
            <a:ext cx="7781760" cy="735120"/>
            <a:chOff x="534960" y="2131920"/>
            <a:chExt cx="7781760" cy="735120"/>
          </a:xfrm>
        </p:grpSpPr>
        <p:sp>
          <p:nvSpPr>
            <p:cNvPr id="114" name=""/>
            <p:cNvSpPr/>
            <p:nvPr/>
          </p:nvSpPr>
          <p:spPr>
            <a:xfrm>
              <a:off x="534960" y="2251080"/>
              <a:ext cx="66672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be7960"/>
                  </a:solidFill>
                  <a:latin typeface="Arial"/>
                </a:rPr>
                <a:t>Vaccine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5968800" y="2131920"/>
              <a:ext cx="2347920" cy="735120"/>
              <a:chOff x="5968800" y="2131920"/>
              <a:chExt cx="2347920" cy="735120"/>
            </a:xfrm>
          </p:grpSpPr>
          <p:sp>
            <p:nvSpPr>
              <p:cNvPr id="116" name=""/>
              <p:cNvSpPr/>
              <p:nvPr/>
            </p:nvSpPr>
            <p:spPr>
              <a:xfrm>
                <a:off x="5968800" y="2131920"/>
                <a:ext cx="2347920" cy="73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e7960"/>
                    </a:solidFill>
                    <a:latin typeface="Arial"/>
                  </a:rPr>
                  <a:t>New TB Vaccine </a:t>
                </a:r>
                <a:br>
                  <a:rPr sz="1800"/>
                </a:b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224480" y="2533680"/>
                <a:ext cx="201600" cy="182520"/>
              </a:xfrm>
              <a:prstGeom prst="diamond">
                <a:avLst/>
              </a:prstGeom>
              <a:solidFill>
                <a:srgbClr val="be7960"/>
              </a:solidFill>
              <a:ln w="19080">
                <a:solidFill>
                  <a:srgbClr val="be79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"/>
          <p:cNvSpPr/>
          <p:nvPr/>
        </p:nvSpPr>
        <p:spPr>
          <a:xfrm>
            <a:off x="1828800" y="3092400"/>
            <a:ext cx="18176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ferral L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4800" y="3214800"/>
            <a:ext cx="6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9900"/>
                </a:solidFill>
                <a:latin typeface="Arial"/>
              </a:rPr>
              <a:t>Diagnostic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52920" y="3106800"/>
            <a:ext cx="18176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eripheral L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51280" y="365112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34040" y="3121200"/>
            <a:ext cx="181764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oint of C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8748720" y="2065320"/>
            <a:ext cx="14400" cy="5081760"/>
          </a:xfrm>
          <a:prstGeom prst="line">
            <a:avLst/>
          </a:prstGeom>
          <a:ln w="5400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24000" y="4081320"/>
            <a:ext cx="8700840" cy="734760"/>
            <a:chOff x="324000" y="4081320"/>
            <a:chExt cx="8700840" cy="734760"/>
          </a:xfrm>
        </p:grpSpPr>
        <p:sp>
          <p:nvSpPr>
            <p:cNvPr id="125" name=""/>
            <p:cNvSpPr/>
            <p:nvPr/>
          </p:nvSpPr>
          <p:spPr>
            <a:xfrm>
              <a:off x="324000" y="4295520"/>
              <a:ext cx="685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3300"/>
                  </a:solidFill>
                  <a:latin typeface="Arial"/>
                </a:rPr>
                <a:t>Drug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5075280" y="4081320"/>
              <a:ext cx="1287360" cy="734760"/>
              <a:chOff x="5075280" y="4081320"/>
              <a:chExt cx="1287360" cy="734760"/>
            </a:xfrm>
          </p:grpSpPr>
          <p:sp>
            <p:nvSpPr>
              <p:cNvPr id="127" name=""/>
              <p:cNvSpPr/>
              <p:nvPr/>
            </p:nvSpPr>
            <p:spPr>
              <a:xfrm>
                <a:off x="5075280" y="4081320"/>
                <a:ext cx="1287360" cy="73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Single New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Drug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45240" y="4497120"/>
                <a:ext cx="201600" cy="182520"/>
              </a:xfrm>
              <a:prstGeom prst="diamond">
                <a:avLst/>
              </a:prstGeom>
              <a:solidFill>
                <a:srgbClr val="ff330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207200" y="4081320"/>
              <a:ext cx="1817640" cy="734760"/>
              <a:chOff x="7207200" y="4081320"/>
              <a:chExt cx="1817640" cy="734760"/>
            </a:xfrm>
          </p:grpSpPr>
          <p:sp>
            <p:nvSpPr>
              <p:cNvPr id="130" name=""/>
              <p:cNvSpPr/>
              <p:nvPr/>
            </p:nvSpPr>
            <p:spPr>
              <a:xfrm>
                <a:off x="7207200" y="4081320"/>
                <a:ext cx="1817640" cy="73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New Multi-Drug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Regime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634240" y="4497120"/>
                <a:ext cx="201960" cy="182520"/>
              </a:xfrm>
              <a:prstGeom prst="diamond">
                <a:avLst/>
              </a:prstGeom>
              <a:solidFill>
                <a:srgbClr val="ff330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3059280" y="2062080"/>
            <a:ext cx="31680" cy="514836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60684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16360" y="364644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10160" y="6553080"/>
            <a:ext cx="454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dapted from a presentation by Dr. Peter Small, BMG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etting the Stag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etter diagnostics, drugs and vaccines are coming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ols are only effective if us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option must be planned and support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5372280"/>
            <a:ext cx="828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720000"/>
                </a:solidFill>
                <a:latin typeface="Tahoma"/>
              </a:rPr>
              <a:t>Adoption, implementation and use of new to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92400" y="492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0560" y="4797360"/>
            <a:ext cx="22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20000"/>
                </a:solidFill>
                <a:latin typeface="Tahoma"/>
              </a:rPr>
              <a:t>Retoo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Feedback Loop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DRUGS)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35280" y="1413000"/>
            <a:ext cx="5448240" cy="5572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556000" y="1916280"/>
            <a:ext cx="4248000" cy="3889080"/>
          </a:xfrm>
          <a:prstGeom prst="ellipse">
            <a:avLst/>
          </a:prstGeom>
          <a:solidFill>
            <a:srgbClr val="ff9900">
              <a:alpha val="23000"/>
            </a:srgbClr>
          </a:solidFill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Arial"/>
              </a:rPr>
              <a:t>ADVOCACY &amp; POLI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llustrative Engagement Matrix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11280" y="1844640"/>
          <a:ext cx="8076960" cy="4287960"/>
        </p:xfrm>
        <a:graphic>
          <a:graphicData uri="http://schemas.openxmlformats.org/drawingml/2006/table">
            <a:tbl>
              <a:tblPr/>
              <a:tblGrid>
                <a:gridCol w="1615680"/>
                <a:gridCol w="1616400"/>
                <a:gridCol w="1612800"/>
                <a:gridCol w="1616040"/>
                <a:gridCol w="161604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artners in new tools introdu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Involve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im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Deman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uppl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rior to availability of new too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Upon availability of new too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NTP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egulatory agenc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echnical agencies providing technical assist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esearch partn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rivate sector (associations, provider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Commun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Dono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etooling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828036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Directly links R&amp;D, implementation and advoca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any stakeholders must be involved for succes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lnSpc>
                <a:spcPct val="95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top TB Partnership uniquely positioned to serve as a model for retooling in public health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042920" y="5229360"/>
            <a:ext cx="7029360" cy="581400"/>
            <a:chOff x="1042920" y="5229360"/>
            <a:chExt cx="7029360" cy="581400"/>
          </a:xfrm>
        </p:grpSpPr>
        <p:sp>
          <p:nvSpPr>
            <p:cNvPr id="149" name=""/>
            <p:cNvSpPr/>
            <p:nvPr/>
          </p:nvSpPr>
          <p:spPr>
            <a:xfrm>
              <a:off x="2030400" y="5229360"/>
              <a:ext cx="604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ahoma"/>
                </a:rPr>
                <a:t>GP II did not address retooling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42920" y="5302080"/>
              <a:ext cx="976320" cy="485280"/>
            </a:xfrm>
            <a:prstGeom prst="rightArrow">
              <a:avLst>
                <a:gd name="adj1" fmla="val 50000"/>
                <a:gd name="adj2" fmla="val 5029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reating the Link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Board recognized the gap and created the Retooling Task Force (RTF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RTF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WG chairs and Secretariat recommended member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cretariat supports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roposed Terms of Reference (TOR) developed by RTF Member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Presentation to the BOD for input and feedbac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TF Request to Boar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s the task force the appropriate mechanism to deal with re-tooling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re the content and the TOR on target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050920" y="299700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20000"/>
                </a:solidFill>
                <a:latin typeface="Tahoma"/>
              </a:rPr>
              <a:t>PROPOSED 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4:34:56Z</dcterms:created>
  <dc:creator>bauquerezr</dc:creator>
  <dc:description/>
  <dc:language>en-US</dc:language>
  <cp:lastModifiedBy>mfreire</cp:lastModifiedBy>
  <dcterms:modified xsi:type="dcterms:W3CDTF">2006-04-22T19:15:29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