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00BB-7B60-4944-8012-9034AFDF9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BC2B-25C4-429E-988E-5A985B06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7946-E07E-4E9A-93B5-8D4280EF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2A10-6D26-4995-BC2F-99AC9833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6B9E-B078-41E7-BAEE-21CDA62F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7648-9BAC-4DDA-89C1-EAD51EF4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B37B-8FC6-4956-BD6D-ACF4FAB9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2CA7-E414-4F4D-B7FD-143F714D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59E5-97A8-4D50-B96B-A204A656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D04D-5875-4EF1-B7EB-BE16D862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BD8E-F02F-4E98-8C21-8A1B6CF0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1785-5CD3-4758-9504-55D42C6B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B157-25BD-4C9C-8227-DA29FF96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F855-8329-4AE3-B8FE-EADA460C9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708360" y="6284880"/>
            <a:ext cx="1704960" cy="457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7380360" cy="765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09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09920" y="3889440"/>
            <a:ext cx="2521080" cy="1141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6204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73200" y="28526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7928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620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7320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804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679284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78000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679284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3780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3784680" y="5232240"/>
            <a:ext cx="1704960" cy="457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top TB Partnersh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ternal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missioned by the Stop TB Partnership Coordinating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nest Loevinsoh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1701720"/>
            <a:ext cx="2987640" cy="4319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003 External Evaluation Key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557360"/>
            <a:ext cx="55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widely respected  global health partnership, its mission and strategy commanded resp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ded value to what partners were  do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iftly created new initi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ilt a broadly supported Partnership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unched  a complex Global Drug Fac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461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objective of the Stop TB Partnership external evaluation is to determine whether the global Partn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Adds major value to the individual efforts of      the Partners and exercises impact over the TB epidem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Has the appropriate strategic focus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Has appropriate structure, governance arrangements, managerial mechanisms, and management processes to continue functioning in an accountable m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rinci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igorous and objective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curate reporting on evaluation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18640"/>
            <a:ext cx="91440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olicy Key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783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d-based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mative in n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vide assurances on the Partnership's risk manag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volvement of stakehold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de dissemination of evaluation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6237360"/>
            <a:ext cx="172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640" y="2125800"/>
            <a:ext cx="84614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l elements of the Partnership, including GDF to be 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iod to be covered 2001 to 2006, using  2003 evaluation and WG review as key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selection of countries where Partnership and GDF activities are being undertaken to be consul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udget around $800,000 (2003 evaluation cost US$882,3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unding secured from D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6308640"/>
            <a:ext cx="15127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1840" y="1413000"/>
            <a:ext cx="8713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elev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dressing problems of high priority  as viewed by actual and potential stakehold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ectiveness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ble to bring TB control to a higher level; give impetus to the Stop TB Movement and assess the impact on the iss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ici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essing the outputs of the Partnership and their quality in relation to resources, funds and human efforts inves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ustain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termining the suitability of the Partnership structure and proc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Milestones and Timelin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March to December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325600"/>
            <a:ext cx="885672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ch  - Finalisation of the working arrangements and commencement of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uly  - First draft report receiv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ptember – Second draft report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ctober- CB discussions on second draft report  management response prepar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ember- Final report received; approved by CB and disse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Board is ask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2325600"/>
            <a:ext cx="885672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dorsement of the evaluation objectives, variables, and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nal approval of the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ablishment of a steering committee (5 members) or mandating responsibility to the Ex 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4:49:26Z</dcterms:created>
  <dc:creator>maggir</dc:creator>
  <dc:description/>
  <dc:language>en-US</dc:language>
  <cp:lastModifiedBy>user</cp:lastModifiedBy>
  <dcterms:modified xsi:type="dcterms:W3CDTF">2006-11-28T05:10:03Z</dcterms:modified>
  <cp:revision>12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