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1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E8C7C-8667-4E83-B955-8CA4E9465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D6179-37FD-4140-AEA5-6DBE8ABCC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EBDFC-989D-4B79-9C8E-3E568619B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8F71A-F518-4C6C-8C45-D80D4F10E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D8ABA0-25C9-46B9-9305-17708216A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3D08C6-44E0-4DFD-AB5D-F6A3DEAD9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A5617A-7DF5-41F6-BD34-8B743E9F5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BC3B55-6119-4851-BF21-C48AAB573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A1B657-E72F-4192-ACD9-CE3484686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272D48-246A-4F47-BD94-82FDB5808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94473B-11B3-480E-8BAC-93CE84C51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0E38B-ED75-4496-BE9E-B6617AAE1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85788F-91C9-4859-BB37-EF38232E4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6E7219-7B14-4FB7-8C40-C549D3186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C0D86C-2523-4482-80AF-6DDD70C1E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C9D890-E2A9-4C72-915F-D55CA8AD6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4C1887-11E2-4F7A-B5F3-30B0DD678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4FC5D1-6A69-43D5-8F11-C6A64F1AF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18B88E-4B85-4882-9F0A-7336A7F8C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C397FE-0198-4FB9-9585-F670642BD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E764A2-8503-4C4D-B557-79BFE98AB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CC6E96-D97A-49EA-96C4-5D54C37A1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EC65C-1699-4B19-A329-BA74FA205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AE9084-0511-4DC6-BFF2-20707A890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9AF3CC-C0F0-48C7-9E81-C1ED26DDE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1884E2-B091-4E65-8C23-373BF9A9E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91FE15-7016-4440-950D-78166C5E3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C2A202-613F-4A86-96B7-E15CAD0F7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F436D0-0CCB-46A4-90B0-2EEDF4947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5E1168-9868-45C4-91F7-8E5558824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9BBC8-E4CB-4AA8-BA60-3785FAFD8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136F7-0E53-42F5-96D6-282E7D9BB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AAFFB-F222-4378-A304-9C0BCC471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7E7EC-51C1-4579-A2FF-B7310AAFD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8D01D-5C3A-484A-BF3F-26257439A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6B83B-39F9-4F28-8500-FDC8917A5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AAE55-227B-4FD0-9065-8B557E1793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Num" idx="5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51F2C-2A0E-4658-8915-B9DF5BCA7B9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44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5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6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92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93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8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8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9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CD199-80CD-420F-B963-AAD545843CB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480" y="213012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lobal TB Research Mov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vid Syed, Joanne Carter, Barbara Laughon, Peter Sm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4" name=""/>
          <p:cNvGraphicFramePr/>
          <p:nvPr/>
        </p:nvGraphicFramePr>
        <p:xfrm>
          <a:off x="233280" y="463680"/>
          <a:ext cx="8675640" cy="5930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3280" y="463680"/>
                    <a:ext cx="8675640" cy="593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6" name=""/>
          <p:cNvGrpSpPr/>
          <p:nvPr/>
        </p:nvGrpSpPr>
        <p:grpSpPr>
          <a:xfrm>
            <a:off x="228600" y="5837400"/>
            <a:ext cx="1143000" cy="871560"/>
            <a:chOff x="228600" y="5837400"/>
            <a:chExt cx="1143000" cy="871560"/>
          </a:xfrm>
        </p:grpSpPr>
        <p:sp>
          <p:nvSpPr>
            <p:cNvPr id="177" name=""/>
            <p:cNvSpPr/>
            <p:nvPr/>
          </p:nvSpPr>
          <p:spPr>
            <a:xfrm>
              <a:off x="228600" y="5837400"/>
              <a:ext cx="106668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28600" y="5837400"/>
              <a:ext cx="1143000" cy="87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T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eatment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ction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G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oup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3960" y="0"/>
            <a:ext cx="171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2005 Spen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0" name=""/>
          <p:cNvGraphicFramePr/>
          <p:nvPr/>
        </p:nvGraphicFramePr>
        <p:xfrm>
          <a:off x="457200" y="385920"/>
          <a:ext cx="8229600" cy="5626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85920"/>
                    <a:ext cx="8229600" cy="562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82" name=""/>
          <p:cNvGrpSpPr/>
          <p:nvPr/>
        </p:nvGrpSpPr>
        <p:grpSpPr>
          <a:xfrm>
            <a:off x="228600" y="5837400"/>
            <a:ext cx="1143000" cy="871560"/>
            <a:chOff x="228600" y="5837400"/>
            <a:chExt cx="1143000" cy="871560"/>
          </a:xfrm>
        </p:grpSpPr>
        <p:sp>
          <p:nvSpPr>
            <p:cNvPr id="183" name=""/>
            <p:cNvSpPr/>
            <p:nvPr/>
          </p:nvSpPr>
          <p:spPr>
            <a:xfrm>
              <a:off x="228600" y="5837400"/>
              <a:ext cx="106668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28600" y="5837400"/>
              <a:ext cx="1143000" cy="87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T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eatment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ction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G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oup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" name=""/>
          <p:cNvSpPr/>
          <p:nvPr/>
        </p:nvSpPr>
        <p:spPr>
          <a:xfrm>
            <a:off x="3960" y="0"/>
            <a:ext cx="171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2005 Spen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6" name=""/>
          <p:cNvGraphicFramePr/>
          <p:nvPr/>
        </p:nvGraphicFramePr>
        <p:xfrm>
          <a:off x="457200" y="385920"/>
          <a:ext cx="8229600" cy="5627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85920"/>
                    <a:ext cx="8229600" cy="562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88" name=""/>
          <p:cNvGrpSpPr/>
          <p:nvPr/>
        </p:nvGrpSpPr>
        <p:grpSpPr>
          <a:xfrm>
            <a:off x="228600" y="5837400"/>
            <a:ext cx="1143000" cy="871560"/>
            <a:chOff x="228600" y="5837400"/>
            <a:chExt cx="1143000" cy="871560"/>
          </a:xfrm>
        </p:grpSpPr>
        <p:sp>
          <p:nvSpPr>
            <p:cNvPr id="189" name=""/>
            <p:cNvSpPr/>
            <p:nvPr/>
          </p:nvSpPr>
          <p:spPr>
            <a:xfrm>
              <a:off x="228600" y="5837400"/>
              <a:ext cx="106668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28600" y="5837400"/>
              <a:ext cx="1143000" cy="87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T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eatment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ction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G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oup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3960" y="0"/>
            <a:ext cx="171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2005 Spen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2" name=""/>
          <p:cNvGraphicFramePr/>
          <p:nvPr/>
        </p:nvGraphicFramePr>
        <p:xfrm>
          <a:off x="457200" y="385920"/>
          <a:ext cx="8229600" cy="5627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85920"/>
                    <a:ext cx="8229600" cy="562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94" name=""/>
          <p:cNvGrpSpPr/>
          <p:nvPr/>
        </p:nvGrpSpPr>
        <p:grpSpPr>
          <a:xfrm>
            <a:off x="228600" y="5837400"/>
            <a:ext cx="1143000" cy="871560"/>
            <a:chOff x="228600" y="5837400"/>
            <a:chExt cx="1143000" cy="871560"/>
          </a:xfrm>
        </p:grpSpPr>
        <p:sp>
          <p:nvSpPr>
            <p:cNvPr id="195" name=""/>
            <p:cNvSpPr/>
            <p:nvPr/>
          </p:nvSpPr>
          <p:spPr>
            <a:xfrm>
              <a:off x="228600" y="5837400"/>
              <a:ext cx="106668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28600" y="5837400"/>
              <a:ext cx="1143000" cy="87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T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eatment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ction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G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oup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" name=""/>
          <p:cNvSpPr/>
          <p:nvPr/>
        </p:nvSpPr>
        <p:spPr>
          <a:xfrm>
            <a:off x="3960" y="0"/>
            <a:ext cx="171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2005 Spen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8" name=""/>
          <p:cNvGraphicFramePr/>
          <p:nvPr/>
        </p:nvGraphicFramePr>
        <p:xfrm>
          <a:off x="457200" y="385920"/>
          <a:ext cx="8229600" cy="5627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85920"/>
                    <a:ext cx="8229600" cy="562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00" name=""/>
          <p:cNvGrpSpPr/>
          <p:nvPr/>
        </p:nvGrpSpPr>
        <p:grpSpPr>
          <a:xfrm>
            <a:off x="228600" y="5837400"/>
            <a:ext cx="1143000" cy="871560"/>
            <a:chOff x="228600" y="5837400"/>
            <a:chExt cx="1143000" cy="871560"/>
          </a:xfrm>
        </p:grpSpPr>
        <p:sp>
          <p:nvSpPr>
            <p:cNvPr id="201" name=""/>
            <p:cNvSpPr/>
            <p:nvPr/>
          </p:nvSpPr>
          <p:spPr>
            <a:xfrm>
              <a:off x="228600" y="5837400"/>
              <a:ext cx="106668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28600" y="5837400"/>
              <a:ext cx="1143000" cy="87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T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eatment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ction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G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oup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3" name=""/>
          <p:cNvSpPr/>
          <p:nvPr/>
        </p:nvSpPr>
        <p:spPr>
          <a:xfrm>
            <a:off x="3960" y="0"/>
            <a:ext cx="171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2005 Spen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4" name=""/>
          <p:cNvGraphicFramePr/>
          <p:nvPr/>
        </p:nvGraphicFramePr>
        <p:xfrm>
          <a:off x="457200" y="385920"/>
          <a:ext cx="8229600" cy="5627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85920"/>
                    <a:ext cx="8229600" cy="562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06" name=""/>
          <p:cNvGrpSpPr/>
          <p:nvPr/>
        </p:nvGrpSpPr>
        <p:grpSpPr>
          <a:xfrm>
            <a:off x="228600" y="5837400"/>
            <a:ext cx="1143000" cy="871560"/>
            <a:chOff x="228600" y="5837400"/>
            <a:chExt cx="1143000" cy="871560"/>
          </a:xfrm>
        </p:grpSpPr>
        <p:sp>
          <p:nvSpPr>
            <p:cNvPr id="207" name=""/>
            <p:cNvSpPr/>
            <p:nvPr/>
          </p:nvSpPr>
          <p:spPr>
            <a:xfrm>
              <a:off x="228600" y="5837400"/>
              <a:ext cx="106668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28600" y="5837400"/>
              <a:ext cx="1143000" cy="87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T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eatment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ction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G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oup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" name=""/>
          <p:cNvSpPr/>
          <p:nvPr/>
        </p:nvSpPr>
        <p:spPr>
          <a:xfrm>
            <a:off x="35640" y="0"/>
            <a:ext cx="171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2005 Spen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0" name=""/>
          <p:cNvGraphicFramePr/>
          <p:nvPr/>
        </p:nvGraphicFramePr>
        <p:xfrm>
          <a:off x="457200" y="468360"/>
          <a:ext cx="8229600" cy="5627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68360"/>
                    <a:ext cx="8229600" cy="562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12" name=""/>
          <p:cNvGrpSpPr/>
          <p:nvPr/>
        </p:nvGrpSpPr>
        <p:grpSpPr>
          <a:xfrm>
            <a:off x="228600" y="5837400"/>
            <a:ext cx="1143000" cy="871560"/>
            <a:chOff x="228600" y="5837400"/>
            <a:chExt cx="1143000" cy="871560"/>
          </a:xfrm>
        </p:grpSpPr>
        <p:sp>
          <p:nvSpPr>
            <p:cNvPr id="213" name=""/>
            <p:cNvSpPr/>
            <p:nvPr/>
          </p:nvSpPr>
          <p:spPr>
            <a:xfrm>
              <a:off x="228600" y="5837400"/>
              <a:ext cx="106668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28600" y="5837400"/>
              <a:ext cx="1143000" cy="87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T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eatment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ction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G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oup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" name=""/>
          <p:cNvSpPr/>
          <p:nvPr/>
        </p:nvSpPr>
        <p:spPr>
          <a:xfrm>
            <a:off x="3960" y="0"/>
            <a:ext cx="171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2005 Spen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6" name=""/>
          <p:cNvGraphicFramePr/>
          <p:nvPr/>
        </p:nvGraphicFramePr>
        <p:xfrm>
          <a:off x="457200" y="380880"/>
          <a:ext cx="8229600" cy="5627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80880"/>
                    <a:ext cx="8229600" cy="562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18" name=""/>
          <p:cNvGrpSpPr/>
          <p:nvPr/>
        </p:nvGrpSpPr>
        <p:grpSpPr>
          <a:xfrm>
            <a:off x="228600" y="5837400"/>
            <a:ext cx="1143000" cy="871560"/>
            <a:chOff x="228600" y="5837400"/>
            <a:chExt cx="1143000" cy="871560"/>
          </a:xfrm>
        </p:grpSpPr>
        <p:sp>
          <p:nvSpPr>
            <p:cNvPr id="219" name=""/>
            <p:cNvSpPr/>
            <p:nvPr/>
          </p:nvSpPr>
          <p:spPr>
            <a:xfrm>
              <a:off x="228600" y="5837400"/>
              <a:ext cx="106668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28600" y="5837400"/>
              <a:ext cx="1143000" cy="87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T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eatment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ction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G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oup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"/>
          <p:cNvSpPr/>
          <p:nvPr/>
        </p:nvSpPr>
        <p:spPr>
          <a:xfrm>
            <a:off x="3960" y="0"/>
            <a:ext cx="171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2005 Spen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2" name=""/>
          <p:cNvGraphicFramePr/>
          <p:nvPr/>
        </p:nvGraphicFramePr>
        <p:xfrm>
          <a:off x="569880" y="539640"/>
          <a:ext cx="7975800" cy="5453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9880" y="539640"/>
                    <a:ext cx="7975800" cy="545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24" name=""/>
          <p:cNvGrpSpPr/>
          <p:nvPr/>
        </p:nvGrpSpPr>
        <p:grpSpPr>
          <a:xfrm>
            <a:off x="228600" y="5837400"/>
            <a:ext cx="1143000" cy="871560"/>
            <a:chOff x="228600" y="5837400"/>
            <a:chExt cx="1143000" cy="871560"/>
          </a:xfrm>
        </p:grpSpPr>
        <p:sp>
          <p:nvSpPr>
            <p:cNvPr id="225" name=""/>
            <p:cNvSpPr/>
            <p:nvPr/>
          </p:nvSpPr>
          <p:spPr>
            <a:xfrm>
              <a:off x="228600" y="5837400"/>
              <a:ext cx="106668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28600" y="5837400"/>
              <a:ext cx="1143000" cy="87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T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eatment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ction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G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oup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7" name=""/>
          <p:cNvGraphicFramePr/>
          <p:nvPr/>
        </p:nvGraphicFramePr>
        <p:xfrm>
          <a:off x="457200" y="385920"/>
          <a:ext cx="8229600" cy="5626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85920"/>
                    <a:ext cx="8229600" cy="562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was discussed in Abuj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has been accomplished sin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future direc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specific deliverab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09480" y="304920"/>
            <a:ext cx="82296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. Why are the GP2 numbers insuffici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GP2 doesn’t include basic science or fully account for operational re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GP2 doesn’t account for research trial capacity building to address the R&amp;D needs for new tools develop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ssumptions of the funding available for TB new tools going into the first year of GP2 (2006) is less than what TAG tracked for 200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mounts available in 2005 needs to be increased by nearly 5 fold in order for the GP2 resource needs to be m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87440" y="57229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228600" y="5837400"/>
            <a:ext cx="1143000" cy="871560"/>
            <a:chOff x="228600" y="5837400"/>
            <a:chExt cx="1143000" cy="871560"/>
          </a:xfrm>
        </p:grpSpPr>
        <p:sp>
          <p:nvSpPr>
            <p:cNvPr id="234" name=""/>
            <p:cNvSpPr/>
            <p:nvPr/>
          </p:nvSpPr>
          <p:spPr>
            <a:xfrm>
              <a:off x="228600" y="5837400"/>
              <a:ext cx="106668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28600" y="5837400"/>
              <a:ext cx="1143000" cy="87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T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eatment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ction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G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oup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FY05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GP 2006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base 5-fold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GP2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TAG 10 yr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Actual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estimate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increase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2015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re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By new too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categ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B diagnostic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16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9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516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90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B drug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20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18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00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80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000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B vaccin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7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91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50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64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6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w tools sub.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6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68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30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957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5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sic researc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94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7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8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ed/Infrastructur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4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2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2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onal researc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5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5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ubtotal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8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40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5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otal TB R&amp;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9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6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970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957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380880"/>
            <a:ext cx="82296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w Much TB R&amp;D Funding is Really Needed (Dollars in Millions)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8120" y="5572080"/>
            <a:ext cx="1203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68120" y="5400720"/>
            <a:ext cx="135576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228600" y="5837400"/>
            <a:ext cx="1143000" cy="871560"/>
            <a:chOff x="228600" y="5837400"/>
            <a:chExt cx="1143000" cy="871560"/>
          </a:xfrm>
        </p:grpSpPr>
        <p:sp>
          <p:nvSpPr>
            <p:cNvPr id="241" name=""/>
            <p:cNvSpPr/>
            <p:nvPr/>
          </p:nvSpPr>
          <p:spPr>
            <a:xfrm>
              <a:off x="228600" y="5837400"/>
              <a:ext cx="106668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28600" y="5837400"/>
              <a:ext cx="1143000" cy="87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T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eatment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ction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G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oup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4320" y="0"/>
            <a:ext cx="492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Why are the Global Plan Numbers Insufficien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733920" y="4572000"/>
            <a:ext cx="685800" cy="304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3429000"/>
            <a:ext cx="685800" cy="304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315200" y="5029200"/>
            <a:ext cx="685800" cy="304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. Recommend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mmend a comprehensive global movement for TB R&amp;D to reach Global Plan 2 goa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B R&amp;D expenditures and activities need to be systematized and tracked annua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stry should increase reporting transparenc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G recommends 5-fold increase, to 2 B/y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i)  $1.05B/year is needed for new tools researc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ii) $950M/year is needed for basic science, infrastructure development, and operational researc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68120" y="5842080"/>
            <a:ext cx="1051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57320" y="56768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228600" y="5837400"/>
            <a:ext cx="1143000" cy="871560"/>
            <a:chOff x="228600" y="5837400"/>
            <a:chExt cx="1143000" cy="871560"/>
          </a:xfrm>
        </p:grpSpPr>
        <p:sp>
          <p:nvSpPr>
            <p:cNvPr id="252" name=""/>
            <p:cNvSpPr/>
            <p:nvPr/>
          </p:nvSpPr>
          <p:spPr>
            <a:xfrm>
              <a:off x="228600" y="5837400"/>
              <a:ext cx="106668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28600" y="5837400"/>
              <a:ext cx="1143000" cy="87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T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eatment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ction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G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oup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future direc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ource trac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eat assessment every 1-2 ye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aluate this data to identify new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ocating for more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 Fair share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5e5ff"/>
                </a:solidFill>
                <a:latin typeface="Garamond"/>
              </a:rPr>
              <a:t>Calculating Country Fair Shares of R&amp;D Needs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1371600" y="4876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Joanne Carter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RESULTS/RESULTS Educational Fun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Basic Assumption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38188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47840" indent="-44784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100% of annual R&amp;D needs to be contributed by wealthy countri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78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7840" indent="-44784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air share calculated as country’s percentage of global wealth (Country GNI 2005* as % of total World GNI 2005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78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7840" indent="-44784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air shares estimated for 22 OECD DAC countri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78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*GNI source: World Development Indicators database, World Bank, 1 July 2006. Online. http://siteresources.worldbank.org/DATASTATISTICS/Resources/GNI.pdf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Example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61" name=""/>
          <p:cNvSpPr/>
          <p:nvPr/>
        </p:nvSpPr>
        <p:spPr>
          <a:xfrm>
            <a:off x="380880" y="399888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554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Based on the GPSTB 2006-2015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54400" indent="-55440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nnual R&amp;D need =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US$900 mill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54400" indent="-55440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x: US Fair Share (28.83%) =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US$259 mill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54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54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Based on TAG expanded R&amp;D estimate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54400" indent="-55440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nnual R&amp;D need =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US$2 bill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54400" indent="-55440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x: US Fair Share (28.83%) =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US$577 mill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Outstanding Issues/Question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ecision on overall annual R&amp;D nee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fining and expanding current donor financing database building on TAG report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ethodology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OECD/DAC countries only? Include other Higher-Income Countries (e.g. Middle East – Bahrain, Brunei, Kuwait, Qatar, Saudi Arabia, UAE; Asia – Hong Kong, South Korea, Singapore)? Separate “share” for the EC?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Donor countries providing 100% of R&amp;D? What about private sector and foundations? What about some endemic countries?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480" y="1523520"/>
            <a:ext cx="784872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5e5ff"/>
                </a:solidFill>
                <a:latin typeface="Garamond"/>
              </a:rPr>
              <a:t>Turning Fair Shares into an Advocacy Tool: </a:t>
            </a:r>
            <a:br>
              <a:rPr sz="4800"/>
            </a:br>
            <a:r>
              <a:rPr b="1" lang="en-US" sz="4800" spc="-1" strike="noStrike">
                <a:solidFill>
                  <a:srgbClr val="e5e5ff"/>
                </a:solidFill>
                <a:latin typeface="Garamond"/>
              </a:rPr>
              <a:t>Example of the GFATM Donor Report Card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Grading Scal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ased on % of each country’s fair share pledged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+  =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Arial"/>
              </a:rPr>
              <a:t>≥ 110% pledge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Arial"/>
              </a:rPr>
              <a:t>A    =  100-109% pledge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Arial"/>
              </a:rPr>
              <a:t>B    = 81-99% pledge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Arial"/>
              </a:rPr>
              <a:t>C    = 61-80% pledge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Arial"/>
              </a:rPr>
              <a:t>D    = 51-60% pledge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Arial"/>
              </a:rPr>
              <a:t>F    = 0-50% pledge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Arial"/>
              </a:rPr>
              <a:t>N   = Incomplet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was discussed in Abuj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greement that R&amp;D is critical to GP su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what is Research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date that the Partnership should advocate for increased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what are current resourc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What Does Report Card Look Like?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533520" y="1371600"/>
            <a:ext cx="3835440" cy="497664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2"/>
          <a:stretch/>
        </p:blipFill>
        <p:spPr>
          <a:xfrm>
            <a:off x="4800600" y="1371600"/>
            <a:ext cx="3830760" cy="495288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/>
          <p:nvPr/>
        </p:nvSpPr>
        <p:spPr>
          <a:xfrm>
            <a:off x="4572000" y="1371600"/>
            <a:ext cx="0" cy="4952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dire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 research activities in TB and TB/HI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.S. Federal TB Task Fo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jor global funders of basic and clinical science (NIH, Gates Foundation, USAID, TB Alliance, FIND, Aeras, CDC, MRC, Wellcome Trust, EC, companies) to meet, compare portfolios and clinical activities/sites/resources, identify gaps and potential synerg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urce utilization – coordinate lab, human resources, and clinic strengthening to benefit care and expand research opportunities and capac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 future cooperative initiatives to fill research ga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dire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lications for Partnersh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urces of New Tools Working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ople connections for collabo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minish concern re: duplication of eff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pid mobilization of new find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ment of advocacy positions based on scientific landsca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xt Step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Dec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sue tender for resource trac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tes Grant will cover some of th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Discu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ate fair share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ACSM can best use TAG re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 ad hoc group to map research landsca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hese activities fit within WG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ecific Deliverables (6 month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act awarded for tracking (Partnershi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st of top donors (RESULTS/TA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ocacy plan (ACS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p of research activities (ad hoc grou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was accomplished sinc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rification of “research” - STA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pidemiology and mode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xizing impact of current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&amp; D for new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ic rese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rification of current resources -TA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9" name=""/>
          <p:cNvGrpSpPr/>
          <p:nvPr/>
        </p:nvGrpSpPr>
        <p:grpSpPr>
          <a:xfrm>
            <a:off x="228600" y="5837400"/>
            <a:ext cx="1143000" cy="871560"/>
            <a:chOff x="228600" y="5837400"/>
            <a:chExt cx="1143000" cy="871560"/>
          </a:xfrm>
        </p:grpSpPr>
        <p:sp>
          <p:nvSpPr>
            <p:cNvPr id="150" name=""/>
            <p:cNvSpPr/>
            <p:nvPr/>
          </p:nvSpPr>
          <p:spPr>
            <a:xfrm>
              <a:off x="228600" y="5837400"/>
              <a:ext cx="106668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28600" y="5837400"/>
              <a:ext cx="1143000" cy="87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T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eatment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ction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G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oup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o funds TB R&amp;D; What do they fund; What are the gaps, What is need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y Cindra Feuer, Javid Syed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ob Huff, &amp; Mark Harringt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eatment Action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1th Stop TB Partnership Coordinating Board Me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v 29-30, 20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karta, Indones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lobal TB R&amp;D spending for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es the 2005 actually compare to GP’s assumptions for 2006 and goals for 2015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es this compare to what is really nee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mmend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73120" y="5270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380880"/>
            <a:ext cx="82296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74720" y="60102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228600" y="5837400"/>
            <a:ext cx="1143000" cy="871560"/>
            <a:chOff x="228600" y="5837400"/>
            <a:chExt cx="1143000" cy="871560"/>
          </a:xfrm>
        </p:grpSpPr>
        <p:sp>
          <p:nvSpPr>
            <p:cNvPr id="160" name=""/>
            <p:cNvSpPr/>
            <p:nvPr/>
          </p:nvSpPr>
          <p:spPr>
            <a:xfrm>
              <a:off x="228600" y="5837400"/>
              <a:ext cx="106668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28600" y="5837400"/>
              <a:ext cx="1143000" cy="87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T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eatment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ction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G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oup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Gs theory of change is borne out of 25 years of experience in HIV research activism: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Researchers+Policy Makers+Community Activists= Increased Political Will+ Resources+ Efficient and Effective Researc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The development of a comprehensive research agenda that is implemented in a coordinated fashion can greatly improve research effectiveness and efficienc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73120" y="5270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57200" y="380880"/>
            <a:ext cx="82296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. Backgrou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74720" y="60102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228600" y="5837400"/>
            <a:ext cx="1143000" cy="871560"/>
            <a:chOff x="228600" y="5837400"/>
            <a:chExt cx="1143000" cy="871560"/>
          </a:xfrm>
        </p:grpSpPr>
        <p:sp>
          <p:nvSpPr>
            <p:cNvPr id="168" name=""/>
            <p:cNvSpPr/>
            <p:nvPr/>
          </p:nvSpPr>
          <p:spPr>
            <a:xfrm>
              <a:off x="228600" y="5837400"/>
              <a:ext cx="106668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28600" y="5837400"/>
              <a:ext cx="1143000" cy="87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T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eatment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ction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G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oup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0" name=""/>
          <p:cNvGraphicFramePr/>
          <p:nvPr/>
        </p:nvGraphicFramePr>
        <p:xfrm>
          <a:off x="457200" y="385920"/>
          <a:ext cx="8229600" cy="5626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85920"/>
                    <a:ext cx="8229600" cy="562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2" name=""/>
          <p:cNvGraphicFramePr/>
          <p:nvPr/>
        </p:nvGraphicFramePr>
        <p:xfrm>
          <a:off x="457200" y="496800"/>
          <a:ext cx="8217000" cy="5891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96800"/>
                    <a:ext cx="8217000" cy="589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6T20:26:52Z</dcterms:created>
  <dc:creator>Peter Small</dc:creator>
  <dc:description/>
  <dc:language>en-US</dc:language>
  <cp:lastModifiedBy>Peter Small</cp:lastModifiedBy>
  <dcterms:modified xsi:type="dcterms:W3CDTF">2006-11-30T01:47:02Z</dcterms:modified>
  <cp:revision>22</cp:revision>
  <dc:subject/>
  <dc:title>Global TB Research Movement</dc:title>
</cp:coreProperties>
</file>