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EB7C-C2E3-4234-BF92-42DDEDCE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1F20-4D09-4B32-887F-B0E48DCD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9EC5-33F1-484C-A004-BF8389B0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69FF-073D-4AF2-8084-F46A5382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8D47-5AA5-48D7-9D14-9776591F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FD05-8C19-43BE-A7BA-75F77063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EED2-237D-4821-A22F-2304E051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AAF3-4AE8-4046-BE2E-C6977CCF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E237-B95F-497E-AE80-886215F8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A3C7-0470-4659-AFFC-EFDA74B0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4E2E-D2B3-4A18-9086-5AECD1F5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A694-5DBA-490D-ACCC-5B9EBD7F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AF18-DEF5-45F6-9A1B-8E46E416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29A6-09A1-40FF-B2A0-4F1426CB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F2A4-32D0-4B15-B1B4-A82CF0D2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44E5-A537-4FBB-879F-6596CFD6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DA47-B7CC-4A53-83F4-32C5D825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210F-46A9-4C33-A076-5BF2F97C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5108-AD6A-406B-B112-DFB5775D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1F53-0D59-4542-AA7C-6C671F05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0238-7305-4900-ACAD-8D639EBA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A22D-2273-4C64-9232-5A1A0ACB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BA91-2946-472B-A114-932A1A4C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6D04-7829-4FB5-B3DB-2B910604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A71C-9A8B-4D32-B86B-07CDBE3FA24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8010-BBC0-40DE-93AA-15F90559443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conomic Benefits of Tuberculosis Control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Africa &amp; 22 High Burden Countr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45200" y="2513160"/>
            <a:ext cx="60267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11</a:t>
            </a:r>
            <a:r>
              <a:rPr b="0" lang="en-US" sz="2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Stop TB Partnership Board Meeting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Jakarta, 29-30 November 2006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acques Baudou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rector, Health Nutrition &amp; Popul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World Bank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A00E-AA59-4AA6-A085-3E72226BD8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mmary results for 22 HBCs globally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164 billion/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81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51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6F55-B81A-4D73-A6DE-86EFA4FC33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ults: 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urden of deaths associated with TB in 22 HBC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14400" y="1905120"/>
          <a:ext cx="8001000" cy="45655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9.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84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71.2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.3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DE99-0E4D-4CE4-B5E9-9345F26E3B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burden of TB is signific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ikely benefits of Global Plan 2006-2015 exceed cost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10 in Afric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50 in the 22 HBC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impact of TB deaths is greatest in China and Ind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owing incomes and large avertable TB burde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ote high levels of TB coinfection with HIV in Afric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1E25-1AB9-4235-9C84-9AD9B715AB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otential policy implica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ow will the Partnership disseminate and use this report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perational implicati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licy and program desig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llocative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chnical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EF0C-6778-431E-BFDC-405A1B335A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8D59-FE09-4D64-895D-1C32287580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or: Ramanan Laxminaraya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Joint exercise of several Stop TB partn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nanced by the Bill &amp; Melinda Gates Foundation (US$95,000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naged by the World Bank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versight group from World Bank, WHO, BMGF &amp; Stop TB Partnership Secretari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55DB-0536-4DAE-AEB5-D5421B29B0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ighligh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tion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ey finding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tential implications for policymak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6B71-4A71-46DE-A61B-A66F4275C8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8229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ext of heavy health burde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bout 8.8 million new cases per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7 million TB-related deaths in 2003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Corbett, Watt, et al., 2003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reatest burden of TB falls on working-age adult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emature death accounts for over 80% of DALYs lost  to TB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Dye, 2006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and poverty dimensions important: mean household spending on TB can account for 8 – 20% of annual household income (Russell, 2004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udy adds to knowledge base of economic costs and benefi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77B1-1A99-4B41-BFC2-D535E2ED6A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costs of TB in Africa - - and in the 22 High Burden Countries (HBCs)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benefits of controlling TB in Africa - - and in the 22 HBCs under specified scenario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policy implications of the finding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C73A-EA68-417E-9423-0FDF04618B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ll income approac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corporates both annual income &amp; number of years over which the income is enjoy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putes value of increased life expectancy on economic well-be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lue of a statistical lif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idely used in economics and reg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laces a value not on a particular life, but on public health measures that can reduce the statistically expected number of deaths by 1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ses revealed preference approaches to assess willingness to pay to lower probability of dy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302A-F7EA-4353-AF7A-A31A3B7DB6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stimates of costs and benefits in this study refer to economic costs, not to financial/accounting cos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finition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stained DOTS: Maintain 2005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nhanced DOTS: Global Plan 2006-201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frica: Epidemiological region as defined in Global Plan 2006-2015, Annex 2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3701-9C76-4FCA-9BF6-CBD2F5282A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mmary results for Africa</a:t>
            </a:r>
            <a:br>
              <a:rPr sz="3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66 billion/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6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4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9782-F3C6-449D-B07D-B8519CF23B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enefits &amp; costs of deaths associated with TB in Africa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914400" y="2362320"/>
          <a:ext cx="8001000" cy="40129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.18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4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7.26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.6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7DAB-F579-4678-9499-25DD48478F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b89350</cp:lastModifiedBy>
  <dcterms:modified xsi:type="dcterms:W3CDTF">2006-11-22T22:42:14Z</dcterms:modified>
  <cp:revision>442</cp:revision>
  <dc:subject/>
  <dc:title>Non-Financial Constraints  on the Response to HIV/AIDS and TB in ECA</dc:title>
</cp:coreProperties>
</file>