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E72A-3EEB-4E1D-A359-9534A3B4A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0643-C2D1-4CFE-8C7E-858095183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177D-CAFE-4F11-B02F-2E0B1E671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5B28-6BC3-4129-8DEE-03B476B0E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6F4A9F-D767-49FC-9587-18B769100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E4C02B-F15F-4E68-9E65-906A999D2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3E5BBD-C230-40A6-8FBF-5D8F8A19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B5CF48-C953-44FE-BE5D-C1D8B5704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52EB50-B4D1-4881-A4FE-597E963F6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F09B04-22A1-4FAA-9C8C-AA09999A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1A6E52-6962-48C9-88A5-FF914FC5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580F-B2CD-4781-B7CB-2614A292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EE516C-6E1D-49FE-9A6C-7AECA28B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65A77D-B491-471A-9305-E2B0D0EE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693E49-0B0E-42BA-B051-9E3B619E5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50A6B4-F7EC-4883-B3D7-184EDA8B6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04598D-9164-4441-864A-3BD62DC21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30CB4-D0E8-41A3-B4D7-FB0F7A02F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94896-8A8C-4803-93A6-5B5789923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A6308-B265-4BFD-B207-0309FB7BF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E1140-2D4C-42B9-96C7-7F313F8F8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BF034-D61F-4227-B690-54DA993BA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148C-3FB6-491C-B77B-A1B5E5BD5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B61F2-551B-46AC-BE35-9251A37CB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321D5-6BFD-4DFA-BFDF-B912A7FC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1A54D-25CE-41DA-9AD6-0FD3D1CC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30CE1-0102-4233-B742-F91DA24D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3BCCD-7F16-448D-814E-1E870B5D0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B0151-CE5B-42A8-8A2F-C48F17ABC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CF828-3F57-459E-8E66-BAFDDD51B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5ADE-50CF-483A-8EA4-D0F441E9F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6CBD-1EA7-4FE0-8729-04644976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60DA-AFF8-4689-A713-95D2C006A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E127-23EF-45B0-8602-5A99A6A7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435B-0ED2-4682-ADB0-5B120FE2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3AD3-86D6-4CDF-B1D0-DEE38871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AFAE8-75F0-4F18-A183-39EB1BAD6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033A9-64B6-4B27-958D-3E57C0C622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CBD67-D1E6-45C5-B1CE-B2EA3A7FE5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13012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 TB Research Mo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id Syed, Joanne Carter, Barbara Laughon, Peter Sm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233280" y="463680"/>
          <a:ext cx="8675640" cy="5930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280" y="463680"/>
                    <a:ext cx="8675640" cy="59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6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77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457200" y="385920"/>
          <a:ext cx="8229600" cy="562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2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83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457200" y="38592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8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89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457200" y="38592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4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95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457200" y="38592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0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01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457200" y="38592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6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07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564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457200" y="46836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6836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2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13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457200" y="380880"/>
          <a:ext cx="8229600" cy="562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880"/>
                    <a:ext cx="8229600" cy="562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8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19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569880" y="539640"/>
          <a:ext cx="7975800" cy="545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9880" y="539640"/>
                    <a:ext cx="7975800" cy="545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4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25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457200" y="385920"/>
          <a:ext cx="8229600" cy="562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discussed in Abuj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been accomplished si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future direc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pecific deliverab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3049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Why are the GP2 numbers insuffici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P2 doesn’t include basic science or fully account for operational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P2 doesn’t account for research trial capacity building to address the R&amp;D needs for new tools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ssumptions of the funding available for TB new tools going into the first year of GP2 (2006) is less than what TAG tracked for 200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ounts available in 2005 needs to be increased by nearly 5 fold in order for the GP2 resource needs to be m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7440" y="57229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34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Y05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GP 2006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ase 5-fold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GP2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AG 10 yr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ctual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stimate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ncrease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2015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y new too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ateg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B diagnost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9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516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B drug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1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0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8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00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B vaccin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7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91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5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4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w tools sub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6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68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3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957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ic resear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7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8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ed/Infrastructu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onal resear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btota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8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4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tal TB R&amp;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9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6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7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957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Much TB R&amp;D Funding is Really Needed (Dollars in Millions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8120" y="5572080"/>
            <a:ext cx="1203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8120" y="5400720"/>
            <a:ext cx="13557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41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4320" y="0"/>
            <a:ext cx="492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hy are the Global Plan Numbers Insuffici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733920" y="4572000"/>
            <a:ext cx="6858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3429000"/>
            <a:ext cx="6858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315200" y="5029200"/>
            <a:ext cx="6858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 a comprehensive global movement for TB R&amp;D to reach Global Plan 2 goa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R&amp;D expenditures and activities need to be systematized and tracked annu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stry should increase reporting transparen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G recommends 5-fold increase, to 2 B/y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)  $1.05B/year is needed for new tools resear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i) $950M/year is needed for basic science, infrastructure development, and operational resear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68120" y="5842080"/>
            <a:ext cx="1051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57320" y="56768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52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future direc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 tra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assessment every 1-2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this data to identify new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ocating for mor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Fair share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Calculating Country Fair Shares of R&amp;D Need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Joanne Cart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SULTS/RESULTS Educational Fun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asic Assumpti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0% of annual R&amp;D needs to be contributed by wealthy count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ir share calculated as country’s percentage of global wealth (Country GNI 2005* as % of total World GNI 2005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ir shares estimated for 22 OECD DAC count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*GNI source: World Development Indicators database, World Bank, 1 July 2006. Online. http://siteresources.worldbank.org/DATASTATISTICS/Resources/GNI.pdf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xampl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39988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Based on the GPSTB 2006-2015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nual R&amp;D need =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$900 mill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: US Fair Share (28.83%) =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$259 mill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Based on TAG expanded R&amp;D estimat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nual R&amp;D need =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$2 bill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: US Fair Share (28.83%) =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$577 mill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Outstanding Issues/Questi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cision on overall annual R&amp;D ne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fining and expanding current donor financing database building on TAG report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thodology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ECD/DAC countries only? Include other Higher-Income Countries (e.g. Middle East – Bahrain, Brunei, Kuwait, Qatar, Saudi Arabia, UAE; Asia – Hong Kong, South Korea, Singapore)? Separate “share” for the EC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onor countries providing 100% of R&amp;D? What about private sector and foundations? What about some endemic countries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8487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Turning Fair Shares into an Advocacy Tool: </a:t>
            </a:r>
            <a:br>
              <a:rPr sz="4800"/>
            </a:b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Example of the GFATM Donor Report Card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rading Scal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sed on % of each country’s fair share pledged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+  =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≥ 110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A    =  100-109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B    = 81-99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C    = 61-80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D    = 51-60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F    = 0-50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N   = Incomple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as discussed in Abuj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eement that R&amp;D is critical to GP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what is Resear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date that the Partnership should advocate for increased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what are current resour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hat Does Report Card Look Like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3835440" cy="49766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4800600" y="1371600"/>
            <a:ext cx="3830760" cy="495288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4572000" y="1371600"/>
            <a:ext cx="0" cy="4952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 research activities in TB and TB/H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.S. Federal TB Task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global funders of basic and clinical science (NIH, Gates Foundation, USAID, TB Alliance, FIND, Aeras, CDC, MRC, Wellcome Trust, EC, companies) to meet, compare portfolios and clinical activities/sites/resources, identify gaps and potential synerg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 utilization – coordinate lab, human resources, and clinic strengthening to benefit care and expand research opportunities and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 future cooperative initiatives to fill research g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ications for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s of New Tools Working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connections for 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minish concern re: duplication of eff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id mobilization of new fin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 of advocacy positions based on scientific landsc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D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 tender for resource tra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s Grant will cover some of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ate fair share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ACSM can best use TAG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ad hoc group to map research land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hese activities fit within WG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fic Deliverables (6 month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ct awarded for tracking (Partnershi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of top donors (RESULTS/TA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ocacy plan (ACS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 of research activities (ad hoc grou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as accomplished si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rification of “research” - ST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idemiology and mo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zing impact of curr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&amp; D for new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res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rification of current resources -T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50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funds TB R&amp;D; What do they fund; What are the gaps, What is nee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y Cindra Feuer, Javid Syed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ob Huff, &amp; Mark Harring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ment Action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th Stop TB Partnership Coordinating Board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v 29-30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karta, Indone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TB R&amp;D spending for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2005 actually compare to GP’s assumptions for 2006 and goals for 2015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is compare to what is really nee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73120" y="527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74720" y="601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60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Gs theory of change is borne out of 25 years of experience in HIV research activism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Researchers+Policy Makers+Community Activists= Increased Political Will+ Resources+ Efficient and Effective Resea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he development of a comprehensive research agenda that is implemented in a coordinated fashion can greatly improve research effectiveness and effici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3120" y="527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Backg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74720" y="601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68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457200" y="385920"/>
          <a:ext cx="8229600" cy="562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457200" y="496800"/>
          <a:ext cx="8217000" cy="5891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96800"/>
                    <a:ext cx="8217000" cy="58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6T20:26:52Z</dcterms:created>
  <dc:creator>Peter Small</dc:creator>
  <dc:description/>
  <dc:language>en-US</dc:language>
  <cp:lastModifiedBy>Peter Small</cp:lastModifiedBy>
  <dcterms:modified xsi:type="dcterms:W3CDTF">2006-11-30T01:47:02Z</dcterms:modified>
  <cp:revision>22</cp:revision>
  <dc:subject/>
  <dc:title>Global TB Research Movement</dc:title>
</cp:coreProperties>
</file>