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a3dd"/>
                </a:solidFill>
                <a:latin typeface="Franklin Gothic Demi"/>
              </a:rPr>
              <a:t>Click to move the slide</a:t>
            </a: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73D5-D369-4FB2-A959-3BF75CFFA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Global TBTEAM Secretariat is being housed in the Stop TB department (TB strategies and health systems) at WHO/HQ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In a similar way as the secretariats of the Stop TB Partnership working groups  (DEWG, TB/HIV, and MDR-TB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regional TBTEAM secretariat is housed within WHO Regional office as part of the regional STBP/Interagency coordinating committee  (WPRO, SEARO, EURO) + AFRO, AM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national TBTEAM secretariat is housed within the NTP or National ICC or main partner organization based in the country (WHO, Union, CDC, GLRA, KNCV, Damien Foundation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979640" y="240840"/>
            <a:ext cx="665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640" y="240840"/>
            <a:ext cx="665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wmf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a3dd"/>
                </a:solidFill>
                <a:latin typeface="Franklin Gothic Demi"/>
              </a:rPr>
              <a:t>Click to edit the title text format</a:t>
            </a: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49720" indent="-21132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1840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5224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5224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5224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10"/>
          <a:stretch/>
        </p:blipFill>
        <p:spPr>
          <a:xfrm>
            <a:off x="254160" y="6381720"/>
            <a:ext cx="1149120" cy="35244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11"/>
          <a:stretch/>
        </p:blipFill>
        <p:spPr>
          <a:xfrm>
            <a:off x="7451640" y="6453360"/>
            <a:ext cx="1368360" cy="28548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825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a3dd"/>
                </a:solidFill>
                <a:latin typeface="Franklin Gothic Demi"/>
              </a:rPr>
              <a:t>Click to edit the title text format</a:t>
            </a: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978280" y="2349360"/>
            <a:ext cx="3160440" cy="3049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2fa3dd"/>
              </a:buClr>
              <a:buSzPct val="50000"/>
              <a:buFont typeface="Tahom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Clr>
                <a:srgbClr val="2fa3dd"/>
              </a:buClr>
              <a:buSzPct val="50000"/>
              <a:buFont typeface="Tahom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Clr>
                <a:srgbClr val="2fa3dd"/>
              </a:buClr>
              <a:buSzPct val="50000"/>
              <a:buFont typeface="Tahoma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181080" y="259920"/>
            <a:ext cx="9506160" cy="16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TBTEAM and Global Fund</a:t>
            </a:r>
            <a:br>
              <a:rPr sz="3200"/>
            </a:b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15th Stop TB Partnership Coordinating Board </a:t>
            </a:r>
            <a:br>
              <a:rPr sz="3200"/>
            </a:b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28-29 October 2008, Bagamoyo</a:t>
            </a:r>
            <a:endParaRPr b="1" lang="en-US" sz="32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9640" y="556416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r Leopold Blanc, Coordinator, TB Strategy and Health Systems, Stop TB Department,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79640" y="223920"/>
            <a:ext cx="665640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  <a:ea typeface="Arial"/>
              </a:rPr>
              <a:t>Linking countries with technical assistance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817884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TEchnical Assistance Mechanism of the Stop TB Partnership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TBTEAM ensures that sufficient access to rational, high quality technical assistance allows countries to implement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international standards for TB control and care in line with the Stop TB Strategy and to achieve global targets for TB contro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vides platform for coordination of TB technical assistanc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spcAft>
                <a:spcPts val="134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BTEAM tools: missions/events, TB experts, partner mapp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Based national coordination, facilitated by regional coordina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Network of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top TB partners (National TB Programmes, Local and international NGOs, Financial partners, WHO at country, regional and global level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Match needs to existing fu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Mobilize funds where there are ga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1752480"/>
            <a:ext cx="1981440" cy="1447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1676520"/>
            <a:ext cx="1981080" cy="1447560"/>
          </a:xfrm>
          <a:prstGeom prst="ellipse">
            <a:avLst/>
          </a:prstGeom>
          <a:solidFill>
            <a:srgbClr val="6699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39640" y="0"/>
            <a:ext cx="618156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TBTEAM structure at country, regional and global level</a:t>
            </a:r>
            <a:endParaRPr b="1" lang="en-US" sz="3200" spc="-1" strike="noStrike">
              <a:solidFill>
                <a:srgbClr val="2fa3dd"/>
              </a:solidFill>
              <a:latin typeface="Franklin Gothic Dem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990720" cy="957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523880" y="1523880"/>
            <a:ext cx="7239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48000" y="5373720"/>
            <a:ext cx="2819520" cy="1167480"/>
          </a:xfrm>
          <a:prstGeom prst="rect">
            <a:avLst/>
          </a:prstGeom>
          <a:solidFill>
            <a:srgbClr val="000066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COUNTRY TB TE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(National ICC; Stop TB Partnersh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2360" y="4508640"/>
            <a:ext cx="2514600" cy="862560"/>
          </a:xfrm>
          <a:prstGeom prst="rect">
            <a:avLst/>
          </a:prstGeom>
          <a:noFill/>
          <a:ln w="2844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Secretari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(NTP, partn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1752480"/>
            <a:ext cx="2057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REG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TB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(Regional IC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53080" y="3352680"/>
            <a:ext cx="2210040" cy="78552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(WP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7696080" y="312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828800"/>
            <a:ext cx="2057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Glob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TB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(DEW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3429000"/>
            <a:ext cx="2209680" cy="78552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( WHO/H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600200" y="32000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3581280"/>
            <a:ext cx="373392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10360" y="1720800"/>
            <a:ext cx="9669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26360" y="1936800"/>
            <a:ext cx="966960" cy="3682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2360" y="2152800"/>
            <a:ext cx="966960" cy="368280"/>
          </a:xfrm>
          <a:prstGeom prst="rect">
            <a:avLst/>
          </a:prstGeom>
          <a:solidFill>
            <a:srgbClr val="100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58000" y="2368440"/>
            <a:ext cx="96696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74000" y="2584440"/>
            <a:ext cx="9669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10880" y="1700280"/>
            <a:ext cx="9669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1916280"/>
            <a:ext cx="103824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90160" y="2637000"/>
            <a:ext cx="96696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05800" y="2421000"/>
            <a:ext cx="966960" cy="368280"/>
          </a:xfrm>
          <a:prstGeom prst="rect">
            <a:avLst/>
          </a:prstGeom>
          <a:solidFill>
            <a:srgbClr val="5e57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21800" y="2133720"/>
            <a:ext cx="9669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626920" y="263700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27640" y="263700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36720" y="4653000"/>
            <a:ext cx="15019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.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6021360"/>
            <a:ext cx="914400" cy="6271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99240" y="5013360"/>
            <a:ext cx="13845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cade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88000" y="4581360"/>
            <a:ext cx="914400" cy="914400"/>
          </a:xfrm>
          <a:prstGeom prst="ellipse">
            <a:avLst/>
          </a:prstGeom>
          <a:solidFill>
            <a:srgbClr val="100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o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771280" y="2997360"/>
            <a:ext cx="1008360" cy="431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3068640"/>
            <a:ext cx="1008000" cy="36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284360" y="220500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4364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26000" y="5681520"/>
            <a:ext cx="21495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f. assoc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45440" y="6237360"/>
            <a:ext cx="637920" cy="368280"/>
          </a:xfrm>
          <a:prstGeom prst="rect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3645000"/>
            <a:ext cx="0" cy="7207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8720" y="5516640"/>
            <a:ext cx="1514160" cy="368280"/>
          </a:xfrm>
          <a:prstGeom prst="rect">
            <a:avLst/>
          </a:prstGeom>
          <a:solidFill>
            <a:srgbClr val="100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ivil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4437000"/>
            <a:ext cx="1255680" cy="825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CM   G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547280" y="4941360"/>
            <a:ext cx="1729080" cy="863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Object 7"/>
          <p:cNvGraphicFramePr/>
          <p:nvPr/>
        </p:nvGraphicFramePr>
        <p:xfrm>
          <a:off x="0" y="0"/>
          <a:ext cx="5148360" cy="3863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148360" cy="38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17"/>
          <p:cNvGraphicFramePr/>
          <p:nvPr/>
        </p:nvGraphicFramePr>
        <p:xfrm>
          <a:off x="2916360" y="1916280"/>
          <a:ext cx="6227640" cy="4608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5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16360" y="1916280"/>
                    <a:ext cx="62276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0000" y="-360"/>
            <a:ext cx="554508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  <a:ea typeface="Arial"/>
              </a:rPr>
              <a:t>Proposal Preparation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lobal Fund to Fight AIDS, TB and Malari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the most important source of external funding for TB control representing up to 7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op TB Strategy provides the framework to plan activities within Global Fund TB proposals that fit within the overall framework of the Global Plan to Stop TB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lobal Plan to Stop TB, 2006-2015, provides costed targe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O/Stop TB Strategy Planning Matrix/Frameworks, Budgeting Tool an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ed technical assistance are designed to help TB proposals align planning for all components of the Stop TB Strategy with the Global Plan to Stop TB 2006-201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82760" y="1197000"/>
            <a:ext cx="4017960" cy="5661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11640" y="4076640"/>
            <a:ext cx="289080" cy="0"/>
          </a:xfrm>
          <a:prstGeom prst="line">
            <a:avLst/>
          </a:prstGeom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518000" y="1197000"/>
            <a:ext cx="4270320" cy="5661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411280" y="0"/>
            <a:ext cx="643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</a:rPr>
              <a:t>Stop TB Strategy planning/budgeting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rcRect l="0" t="14268" r="44547" b="8688"/>
          <a:stretch/>
        </p:blipFill>
        <p:spPr>
          <a:xfrm>
            <a:off x="2627280" y="3409920"/>
            <a:ext cx="453708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7308720" cy="113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7c1"/>
                </a:solidFill>
                <a:latin typeface="Arial"/>
                <a:ea typeface="Arial"/>
              </a:rPr>
              <a:t>Global Fund financing and proposal approval rate by round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55640" y="1341360"/>
          <a:ext cx="7201080" cy="5543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341360"/>
                    <a:ext cx="720108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1374840" y="6164280"/>
            <a:ext cx="299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umber of TB proposals approv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6048360" cy="71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  <a:ea typeface="Arial"/>
              </a:rPr>
              <a:t>Ambitious Round 9 for TB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57880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Global Round 9 TB re-submission workshop, 17-21 November 20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Re-reading workshop for new submissions (Mock TRP)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, January 2009, 1 workshop per 6 reg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ountry visits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t least for new submissions     (~ 10 globall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Global and country political commitment for ambitious Roun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9 TB propos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396108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7c1"/>
                </a:solidFill>
                <a:latin typeface="Arial"/>
                <a:ea typeface="Arial"/>
              </a:rPr>
              <a:t>Conclusions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1701720"/>
            <a:ext cx="8785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o prepare Global Fund TB proposals that are successful and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aligned with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Stop TB Strategy and Global Plan to Stop TB, use the WHO Stop TB Planning Matrix &amp; Frameworks and Budgeting Too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 with technical assistance facilitated through TBT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More civil society engagement in planning and budget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TB proposals can be more ambitious in asking for larger budgets especially on laboratory/diagnosis, MDR, Infection control and social aspects of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16:07:29Z</dcterms:created>
  <dc:creator>godfreya</dc:creator>
  <dc:description/>
  <dc:language>en-US</dc:language>
  <cp:lastModifiedBy>BlancL</cp:lastModifiedBy>
  <dcterms:modified xsi:type="dcterms:W3CDTF">2008-10-28T04:26:48Z</dcterms:modified>
  <cp:revision>3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46726774</vt:r8>
  </property>
  <property fmtid="{D5CDD505-2E9C-101B-9397-08002B2CF9AE}" pid="3" name="_AuthorEmail">
    <vt:lpwstr>godfreya@who.int</vt:lpwstr>
  </property>
  <property fmtid="{D5CDD505-2E9C-101B-9397-08002B2CF9AE}" pid="4" name="_AuthorEmailDisplayName">
    <vt:lpwstr>Godfrey, Andrea</vt:lpwstr>
  </property>
  <property fmtid="{D5CDD505-2E9C-101B-9397-08002B2CF9AE}" pid="5" name="_EmailSubject">
    <vt:lpwstr>DRAFT ppt for Coordinating Board meeting 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