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1475-B260-40D7-A58D-21E83191F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685D-2999-430D-86E6-115D393D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AB0C-C67F-4434-8901-43AC2784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4126-ABD3-4509-A14F-1906768B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CFFF-E00A-4594-AAA2-83238F80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10AA-71CB-4C14-9CD3-153E6D5B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EDB1-ABE5-4C6A-8AFC-EBE1598B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1E86-F425-4482-BA22-B1C6FF9E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F87D-75D8-4A04-B85F-8569E92B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D1B1-7484-4946-B668-87A28CF3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8EB4-6977-4E51-B15C-FF7C0509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1A13-DB35-4B0C-A8DC-29A0F6C2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CA85-7886-45BE-B621-168865DAD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383840"/>
            <a:ext cx="9144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Ministerial Meeting to Reach the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Millennium Development Goals for 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Confronting MDR-TB and XDR-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-3 April 2009, Beijing,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Stop TB Partnership Coordinating Board Meet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8-29 October 2008, Bagamoyo,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tion ahead: post-Beij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79280" y="1700280"/>
            <a:ext cx="864072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ific Health Summit on MDR-TB, June 2009, Seattle, USA, with focus on privat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on Asia Pacific Region Conference on MDR-TB, September 2009, Beijing, Ch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ld Conference on Lung Health, October 2009, Cancun, Mex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ld Health Assembly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untry 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op TB Coordinating Board is asked t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orse the aims and the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all Partners' support to WHO and ensure highest level participation in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date high-level missions to selected priority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support from Partners to mobilize political commitment and support technical plan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support from technical Partners to address policies towards bottlen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date contribution of Partners' Forum to support development of a Call for Action from Civil Soci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ist in development of "asks" to all key agen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5640" y="1628640"/>
            <a:ext cx="5003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,000 new MDR-TB cases 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DR-TB in 50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5% of MDR-TB cases detected in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% of MDR-TB cases projected to be treated in 2008 and 3% only under GLC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85% of the global MDR-TB burden in 27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5327640" y="2060640"/>
            <a:ext cx="3565440" cy="4105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5040" y="6524640"/>
            <a:ext cx="4698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s: Global TB Report, 2008 and IV Global DRS Report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572000" y="2992320"/>
          <a:ext cx="4500720" cy="31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992320"/>
                    <a:ext cx="450072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lobal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4920" y="1523880"/>
          <a:ext cx="5761080" cy="4065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920" y="1523880"/>
                    <a:ext cx="5761080" cy="40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7 high MDR-TB burden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080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ian Fe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kr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be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cratic Republic of Con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zakhst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t 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32360" y="1844640"/>
            <a:ext cx="338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i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an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ji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erbaij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ublic of Mold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yrgyz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a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lg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hu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m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Brasil , Thai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atio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70136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008: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DR-TB Task Force recommended W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convene a meeting with the 27 high priority MDR-TB countries to increase political commitment and tackle bottleneck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May 2008: Stop TB CB supported th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June 2008: STA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 urged WHO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aise political commitment and action in the 27 priority MDR-TB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June 2008: the Global Leaders Forum on HIV/TB defined MDR-TB and XDR-TB as threats to global health security and to HIV/AID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Past experiences on DOTS Expansion globally (Amsterdam &amp; Cairo 2000) and in China (Xi'an 2004) show effectiveness of political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ims of the ministerial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95280" y="1915920"/>
            <a:ext cx="4537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trengthen political commitment and build engagement by governments and international community to control M/XDR-TB through better TB control and M/XDR-TB c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 catalytically the event to (i) support countries to develop M/XDR-TB control plans and (ii) address the bottleneck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611280" y="1916280"/>
            <a:ext cx="32097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ottlene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920" y="184464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rive towards solutions to bottlenecks in areas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-TB SLD drug market, quality, procurement, and rational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apacity and rapid diagnostic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ection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n resources and models of car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ment of private pract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 and community rights and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716360" y="1928880"/>
            <a:ext cx="435636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tion ahead: pre-Beij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arching strategy final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tlenecks consultations and pap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delling to predict evolution of epidem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ner engagement and "asks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untry level advocacy and technical assistance for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ement of civil society and PF call for 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ion strate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ation to be develop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eijing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ed by WHO with the Ministry of Health of the People's Republic of China and Bill &amp; Melinda Gates Found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About 180 participants invited: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inisterial delegations, multilateral agencies, bilateral donors, technical agencies and NGOs, civil society, research community and corporat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eeting agenda outlin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Day 1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: High-level political meeting involving high-profile leaders and Ministers from the 27 countries+. Beijing declaration endor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y 2 &amp; 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 Technical meeting between Ministry of Health officials, NTP managers, and partners addressing planning and country-specific bottlen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2:21:39Z</dcterms:created>
  <dc:creator>bailliep</dc:creator>
  <dc:description/>
  <dc:language>en-US</dc:language>
  <cp:lastModifiedBy>raviglionem</cp:lastModifiedBy>
  <dcterms:modified xsi:type="dcterms:W3CDTF">2008-10-23T19:48:57Z</dcterms:modified>
  <cp:revision>5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