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1544-D1C9-492F-9B50-A94DC513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8159-DD09-45BC-B86A-6D6180CB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AD9FF-A36C-4A68-A991-5FEF55FC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28AEA-A284-4AEE-9E1D-E09A4B08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3C61F-F920-4CA9-B9C8-7E9FD81B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9AD68-7BB3-4851-B886-FC55FD6D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97090-D576-446C-BA05-98DBD532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84D8D-5B84-4522-A676-171ECD98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8B7AC-A91C-4BA5-8EBD-869E0269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389CE-DC60-4865-9B18-0C5D50A5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D2E03-7358-479C-BDC5-625561A3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13CFE-9D60-4E11-BC60-95543F3C0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EC12-BA7E-4A0A-8A11-C88D3881A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15D37-1DA2-4029-8697-FF4BC0AD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0B664-B7FF-4DBA-A057-52BDD321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F4C8B-E1D8-457D-AF9F-86AA071E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D3A3D2-05BB-467A-8645-60BDD2EE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DBFC9-B7B7-471E-AF27-A9BC358C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05D9A-AE55-4D37-8672-29416B02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E03D9C-AC02-4ECF-85F7-11EB18A3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2B538-5F88-4C18-927D-ADD92826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99715-153E-4538-8FA8-748DE408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097819-28C0-414E-B4E1-4D8FC3901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30FF-AE5A-483E-8677-451F2B68E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18A7F-D45C-4A0A-BEF6-2D28F2A9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62EAF-9F0A-4AEC-A03E-63B13F79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4658E-F1DD-492B-816F-FA77BC74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88FA9-84D2-47D2-B7F0-AC899A38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270C7-8C8E-4FD0-8522-AEFC5D4E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C3FFB-5AA4-41DB-9434-B63974DF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286A1A-C3BC-401C-B7ED-8A19C3A0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3A36C-4619-47BD-97CE-2F855F23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0B912-817E-4322-BE3D-15F2B2E3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77360-4981-40C1-8AC4-EE367095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16EB-DC70-4329-B427-442FA2540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04846-AEF0-4A98-A93C-503CBC46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66881-8D32-4A5F-A382-6CC03DB92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15627-4E82-4CA8-BD84-A6B90AEE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87CA76-6F15-4EC1-8F72-90F64DED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EB5699-56A3-44A9-8DF1-B6599A5B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A8014D-5043-4DD5-A9CD-10000168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B5619-77A4-4156-AA0D-73274CC9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691D99-4961-4ECC-A657-6ABB20AF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5662F0-E43B-47D9-A17F-4C7B98D6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19D99E-37BB-4A11-88D6-3A56B588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162C-B019-4327-A61B-75B66089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98150-D1A3-4733-9E6B-BE98EB96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BFA73-B678-469B-995B-84803393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5AAAC-BEE1-446F-93B3-9E05C8C2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4FE873-81E5-466E-AFCA-7FBB6F42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322FB7-0E5B-465F-B624-C6FF367DF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982E-87D3-4BF1-A5C5-2EDE219C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3BE1-9E38-40B4-99E2-CFF9F97D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BA80-161A-4FB7-9A6D-A9503346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DE59-1EC7-407C-BD5D-1563857E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5B0E-6A15-4B38-90C6-F5A3E056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5DC0-CD9A-4E55-9B91-E23589EC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477B-9545-4F48-B981-EB00720E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DA69-EFFE-4F3B-92E3-07355A32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266B-9C60-4B8C-8E9E-DBCC188C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A744-99E1-48A8-B650-801516CFC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DB5C-F77D-4DCB-A450-37EFE21E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8E351-2DE0-43A1-B9FF-4366F3AB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CA424-1BE9-4AB7-9B3E-27BB9BC0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AA23D-3D54-48C0-B39D-7E580469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86D33-4BD4-427E-B88C-667DE942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34AD2-F6F9-4D02-B6A2-0EF5942E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9D4A-1F53-4F52-AA57-E02D1053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6D3DE-F754-44BB-939B-5BE746F3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0FB5D-4484-4E3C-B175-42899D2F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6DD2D-9069-44FD-AB81-E2CC02D2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1B239-2517-4556-9791-E0BF9BC5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99E72-15B4-4AB4-AAEB-8BED7212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E1630-EEC7-4B40-AD73-42700687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7491E-68F4-4D41-B0C6-DC7B8C5E8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70972-513F-47B1-A3E1-1ACD8E58E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57433-C384-4054-B56F-8A7D358B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20E10-ED6B-4E4F-9979-1A71CB82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B576-F2A8-4B0E-A5ED-7A999665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05EBA-2687-4189-8283-E032BD5F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1807A-61D2-40DD-9A73-7D0FBAD0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FA106-3005-4793-8656-E5B7257B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346DE-5592-4729-AA86-3C5E3F50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BB681-1329-441D-9968-9B73FECF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8AEE5-1409-4AF4-A78D-08E94712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931FE-3031-44F5-8732-E3F3BEF1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9B432-7338-4814-A15B-F94455E5E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FA0E0-E124-45C2-9500-0E294CB0F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DE8CF-6BF0-4BE4-A50B-0C4DDB98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DC40-F66A-49CD-A471-6A64BC9F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0AA0C-64DF-410A-8C18-32D45CAA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FC3CF-EC71-4DE8-8F01-40728A03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6926F-557C-410B-8E29-234ABFDF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1851D-6E9E-4681-B545-AA3A9523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73350-F74E-4B52-B6B9-C5A0259D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E7739-1CCF-4225-A2D6-11C63CAB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42BCE-2883-4E25-847B-F25F22BE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47C8B-0C13-4B16-B3DC-E6CCD235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3D28E-D09A-4405-8EE3-1F70B5E7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C3B98-EBA7-4ACF-A317-8A1E3127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E691-90A2-496A-87C9-E684BB4D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65CAB-9D68-4D24-B8F2-DB5E0E5D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6DD7E-036C-4748-91A3-413C70A0F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7E5D8-086F-4439-80D9-8F75C06D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40EAC-0469-40AF-85C0-09913B38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91DBE-CBBD-437A-8B43-741C8CC1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F41F5-C2AC-4EFC-8B9B-8EB7FF07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3D60D-7C0B-4CAD-A27B-2A9D438E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C1890-909F-418A-B2BB-EBA16FAA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B760F-0345-4F69-97CD-A8413365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C6031-DF49-48C3-9F2F-211EBFDE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D142-E703-4BF6-9018-AD567378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B0E97-1225-415D-BF53-EC17759B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41416-9DB1-4F44-833A-DCFC9E6D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CF4DC-B3FE-40B1-95CA-56F76E3E8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6C99D-2F1F-42CE-8EAC-81D5B9EE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1ECD5-8205-468A-8457-C7FE1A0B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74D4B-0BD3-425A-95C4-6E6C189A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95CB4-F28E-4F63-8606-CF7E9D0C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F8910-F349-48FB-87C7-DF34135E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9704D-A91E-4042-868A-B57E7510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8419E-EFE8-4E66-BEC9-0302E672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3A55-C14C-41EB-AB90-6D8C0EA5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39615-FD18-432E-8C7C-3F89FAE9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E4C1C-C1F5-49AE-B409-F67A7BCC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8A94E-B35E-4F52-A95A-F197A4E4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25C72-6315-4164-94C9-C1B242256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D7DF3-9A84-4FA1-82CA-BF535CA4A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C6A92-6F0B-4C78-A7E4-A98962B0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CB058-8B2F-4C2F-9D30-B92C200B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A1229-2B82-4219-9029-9A075947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50CA6-C368-43DB-9535-56D7145A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49A24-325B-4FF2-A959-A789431E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569E-1904-461A-82D8-081DD3B4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28B89-0DCE-4C4F-A022-2D5F9220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E255B-5FCD-4507-96FC-58584D21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8AB69-2B66-441A-9589-579ED60A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18963-7F08-421E-B747-7496815E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AE4C3-2DCE-45C8-9996-598D053D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DECF9-6C68-4085-8A2E-789224377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DF8C3-AABB-44B1-BEFF-738189836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4A988-2F02-448A-AA5B-04C6771A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A6906-AB1C-46B7-B1AD-7356621A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F6B9A-03D4-479B-81B2-3E4C2910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DFA1-69C7-481B-8801-C5DF866F26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17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8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20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1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D5BA-86AA-412B-8102-2C53D31809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66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6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6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0051-6FB4-4D06-B158-3618A95FED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1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1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1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AAF0-A568-430E-87C8-333036BAF0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6B70-BF72-425C-9972-AFE9C9EBA3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0B92-FDAD-4A7C-ADD6-D3536FB9B5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4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5014-884B-4C35-9B10-16BE24A7DA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9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5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97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11CE-BCE0-4AD4-944C-F3164A9CA2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BB5A-E404-4391-B24F-7A818A4C8E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8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8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A4D4-6D75-4EB7-B21D-7CCA8384DE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3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3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0B33-65FF-4069-BE71-2340F645BB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073F-38B7-47CE-988E-2F6AE9FC7A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Title 1" descr=""/>
          <p:cNvPicPr/>
          <p:nvPr/>
        </p:nvPicPr>
        <p:blipFill>
          <a:blip r:embed="rId1"/>
          <a:stretch/>
        </p:blipFill>
        <p:spPr>
          <a:xfrm>
            <a:off x="682560" y="1596960"/>
            <a:ext cx="8053560" cy="199404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1371600" y="3331800"/>
            <a:ext cx="6400800" cy="266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Update and comments on the agen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Ezio Távora dos Santos Filh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15</a:t>
            </a:r>
            <a:r>
              <a:rPr b="0" lang="en-US" sz="2700" spc="-1" strike="noStrike" baseline="30000">
                <a:solidFill>
                  <a:srgbClr val="464646"/>
                </a:solidFill>
                <a:latin typeface="Lucida Sans Unicode"/>
              </a:rPr>
              <a:t>th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STOP TB PARTNERSHIP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Coordinating Board Mee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ion of the National Committee for the Partners’ Foru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st meeting on Sept.4th, 2008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onfirming commitments, sharing responsibiliti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Municipality Gov: Convention center negotiations, Municipal HCC site visits (TBC); emergency suppor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State Gov: Security, transportation, Welcome Reception, site visits State HCC Greater Rio; emergency suppor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Federal Gov: hiring convention center’s equipment and furnishing, process of visas and reception authorities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nd meeting Sept.18th, 2008; Sept.30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virtual mee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Following up in organizing aspect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79A3-0F40-4161-8FBD-28FC63D03BD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azilian Partnershi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HO-WH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nist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nistry of Foreign Affai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Governor’s Cabin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Secur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Welfa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nicipal Secreta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adem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8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2F9A-9AAF-4441-B0A9-6F55449BBF7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rnival initiative as from December Schools of Samba rehears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tribution of information along Summer and during the Carniv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o in train stations, subwa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8524-38FC-48A5-9AFE-239ADBCB586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rt exposi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rt curator to organize expo; photography exp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pular art in subway stati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B Parade on Sunday 2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Copacabana Beac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ce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ACE1-4B46-4897-BF9D-58492B67CC9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03:23:50Z</dcterms:created>
  <dc:creator>Ezio T. Santos Filho</dc:creator>
  <dc:description/>
  <dc:language>en-US</dc:language>
  <cp:lastModifiedBy>Ezio T. Santos Filho</cp:lastModifiedBy>
  <dcterms:modified xsi:type="dcterms:W3CDTF">2008-10-28T06:06:53Z</dcterms:modified>
  <cp:revision>15</cp:revision>
  <dc:subject/>
  <dc:title>Partners’ forum 2009</dc:title>
</cp:coreProperties>
</file>