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D74-862E-4087-B7F3-CF04CC81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CB4-9937-4FFB-8C2F-0E0DBD1F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43F-F2E7-4477-881F-54F9679F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07F-55A9-4D1F-8E47-C342FBF5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5A01-1753-4B1D-9AC2-B12C6A5C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6351-579F-4B6F-B773-6A31B7AF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38E9-7403-48A1-9AEA-9473D9C3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18AB-DBB8-4411-B8E6-5EBD7BDF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0167-24BC-4315-8455-8CB193BC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81F9-A894-4DFE-93EE-3077D6E6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3E58-D406-4415-A642-3560B305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3EF-1E36-4F4A-850B-911B996B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8199-6E85-4CFC-A154-0958E72C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5D3F-A927-40B8-99E9-129F4512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5B2D-7A1D-47F1-80C8-71FB247F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A03E-D374-4ADB-94AC-3FC444B3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8A60-D8C0-4DE0-9AF0-322B834A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9D0-561D-4B12-BB36-18FBE9FC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B5E2-E7B5-428A-A63B-723B25BB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2A7-6114-4FAB-A8AC-9D9F2147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D1D-CF17-4F93-B1FE-8BF4163F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BCE-2504-48C4-92D3-D9A8B20E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F5A-FD07-46A2-B390-0134E225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212-37DA-44EE-9A62-C34A8DBB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D2F7-3005-41E7-ACE5-3F0CE06A88F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7C9B-2986-457B-832A-27525893032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optb.org/figo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WORKPLAN UPDATES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rdinating Board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nzania, 28-29 October 2008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capacity in countries and commitment to scale-up strategic activities remain low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Practice document needed to get evidence of effectiveness of ACSM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for countries to conduct KAP Survey or other operational research to better target ACSM activities and measure impact linked to TB control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World TB Day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am Stopping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Forum site launched, including innovative e-discussion to build the Forum agenda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media coverage of the HV/TB Global Leaders Forum, and placement of opinion pieces in ten targeted high-burden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broad media coverage of joint announcement between the Stop TB Partnership GDF, WHO, UNITAID and FIND about scaling up MDR-TB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s for journalists organized in Paris and Dar es Salaam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unication officer in the Secretaria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PARTNERS ENGAGEMENT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nership welcomed 171 new partners, expanding its partner base from 589  to 760 partners as of October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Mediterranean Stop TB Regional Partnershi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Stop TB Partnerships were established in Afghanistan, Japan and Vietnam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Round of the Challenge Facility for Civil Socie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Forum preparation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rack to reach 13M patient treatments delivered by end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ccessful Technical Review and Business Advisory Committees meeting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f increasing by 25%  Global Fund Direct Procurement clients i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effective stockpiles of first and second-line anti-TB drug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is on track to double the Number of Diagnostic Kit orders from '07 baseline &amp; together with GLI/FIND secured $26.1M UNITAID approval for supply of new diagnostic tools from 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securing additional UNITAID funds for paediatric &amp; second-line anti-TB drugs realized: US$ 56.4M appro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ALLENGE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ll out effort will have to be made to procure drugs and carry out the required activities to use the money that has become availab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WHO/EDM to increase the number of prequalified TB products particularly: 2nd line and pediatric drug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coming barriers to effective access: importation restrictions, registration, market prote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and strengthening of GDF's Direct Procurement Service; making it more self-sustain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business model based on close links with the business partners of GDF will have to be developed and implemen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557360"/>
          <a:ext cx="7848360" cy="1982880"/>
        </p:xfrm>
        <a:graphic>
          <a:graphicData uri="http://schemas.openxmlformats.org/drawingml/2006/table">
            <a:tbl>
              <a:tblPr/>
              <a:tblGrid>
                <a:gridCol w="2319120"/>
                <a:gridCol w="1733760"/>
                <a:gridCol w="1949400"/>
                <a:gridCol w="1846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3933720"/>
          <a:ext cx="7846920" cy="2016360"/>
        </p:xfrm>
        <a:graphic>
          <a:graphicData uri="http://schemas.openxmlformats.org/drawingml/2006/table">
            <a:tbl>
              <a:tblPr/>
              <a:tblGrid>
                <a:gridCol w="2317680"/>
                <a:gridCol w="1733760"/>
                <a:gridCol w="1950840"/>
                <a:gridCol w="184464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DRUG FACILITY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85080" cy="4968360"/>
        </p:xfrm>
        <a:graphic>
          <a:graphicData uri="http://schemas.openxmlformats.org/drawingml/2006/table">
            <a:tbl>
              <a:tblPr/>
              <a:tblGrid>
                <a:gridCol w="415080"/>
                <a:gridCol w="2603880"/>
                <a:gridCol w="1279080"/>
                <a:gridCol w="1176840"/>
                <a:gridCol w="1324800"/>
                <a:gridCol w="960120"/>
                <a:gridCol w="1025280"/>
              </a:tblGrid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tnership  Area of Work (Ao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.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level ACSM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51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3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dvocac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6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8,24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5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Fund proposal preparation and implement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2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 Profile enhanc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783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,1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munic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872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,86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3,76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91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04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build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5,8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,97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,93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and financial mgt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innov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9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pport to Working Grou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88,9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773360"/>
          <a:ext cx="8713800" cy="3527280"/>
        </p:xfrm>
        <a:graphic>
          <a:graphicData uri="http://schemas.openxmlformats.org/drawingml/2006/table">
            <a:tbl>
              <a:tblPr/>
              <a:tblGrid>
                <a:gridCol w="453960"/>
                <a:gridCol w="2498760"/>
                <a:gridCol w="1487520"/>
                <a:gridCol w="1120680"/>
                <a:gridCol w="1189080"/>
                <a:gridCol w="961920"/>
                <a:gridCol w="100188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DF Area of Wor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review and monito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3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9,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,2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supply of quality GDF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29,1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34,3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and supply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,3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7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General Manag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02,32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External Evaluation satisfactorily comple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s to recommendations agreed, and accepted recommendations being implement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Board meeting successfully held (Egypt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Executive Committee Teleconference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frequency of High Level Mission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use of the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LOBAL ADVOCAC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36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gress in the US – PEPFAR etc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V-TB Global Leaders Forum held in June 2008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U &amp; German – Parliamentary events, budget discussions ongo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blishment of the Centre for Resource Mobilization websit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Strategic approach to advocacy in endemic "emerging economies" – India, China, Russia, Brazil, et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-lateral work with potential donors (Spain, Ireland etc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election advocacy – US (from January) and EU (from Jul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p analysis - publish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iculum on Resource Mobilization for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Move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UN SG Special Envoy to Stop TB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WTBD 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 conference with Chan, Piot, Kazatchkin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of Figo's campaign in Lond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HIV/TB Global Leaders Forum – UN, New Yor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 Ki-moon, Srgjan Kerim, Bill Clinton, Pres of Togo and Mozambique, First Ladies of Rwanda and Georgia, Chan, Piot, Kazatchkine, Dybul, Chesire, Zulu, and more than 60 ministerial deleg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Action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  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ivil Society Forum on Health Issues for CPLP - Lisb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linton Global Initiativ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Ambassador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Luis Fig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–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oster/postcard campaign to Stop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9 languages, launched in London APPG, distributed by Kempinski Hotels (53 locations) and Red Cross (189 countries),  </a:t>
            </a:r>
            <a:r>
              <a:rPr b="0" lang="en-GB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stoptb.org/fig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, Burkina Faso: Ministry of Health through Total gas stations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   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omic Book on tuberculo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10 languages already and grow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edia Coverag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C: Special feature on Figo, CNN: featured in report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Anna Cataldi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issions to Afghanistan, Pakistan, Jordan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hoto Book: "Tuberculosis: voices of the unheard"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G8/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capacity for ACSM at Country Level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s to help strategic implementation of Global Fund ACSM grants held in 4 WHO Regions. Specific country action plans develop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technical assistance coordinated in more than 10 countrie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 ACSM tools for implementers developed: ACSM Handbook, KAP Survey Guide, Guiding Principles Community Involve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upporting quality health journalis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ed country-level journalist training planned in Paris during Union Conference 2008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HDnet to engage their network of country-level journalists in covering key TB-related issu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19:11Z</dcterms:created>
  <dc:creator>bacligl</dc:creator>
  <dc:description/>
  <dc:language>en-US</dc:language>
  <cp:lastModifiedBy>bakerl</cp:lastModifiedBy>
  <dcterms:modified xsi:type="dcterms:W3CDTF">2008-11-04T14:30:42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45243</vt:r8>
  </property>
  <property fmtid="{D5CDD505-2E9C-101B-9397-08002B2CF9AE}" pid="3" name="_AuthorEmail">
    <vt:lpwstr>espinalm@who.int</vt:lpwstr>
  </property>
  <property fmtid="{D5CDD505-2E9C-101B-9397-08002B2CF9AE}" pid="4" name="_AuthorEmailDisplayName">
    <vt:lpwstr>Espinal Fuentes, Marcos Antonio</vt:lpwstr>
  </property>
  <property fmtid="{D5CDD505-2E9C-101B-9397-08002B2CF9AE}" pid="5" name="_EmailSubject">
    <vt:lpwstr>The Work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