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3.png" ContentType="image/png"/>
  <Override PartName="/ppt/media/image6.wmf" ContentType="image/x-wmf"/>
  <Override PartName="/ppt/media/image11.jpeg" ContentType="image/jpeg"/>
  <Override PartName="/ppt/media/image12.wmf" ContentType="image/x-wmf"/>
  <Override PartName="/ppt/media/image29.jpeg" ContentType="image/jpeg"/>
  <Override PartName="/ppt/media/image5.png" ContentType="image/png"/>
  <Override PartName="/ppt/media/image13.wmf" ContentType="image/x-wmf"/>
  <Override PartName="/ppt/media/image9.wmf" ContentType="image/x-wmf"/>
  <Override PartName="/ppt/media/image7.wmf" ContentType="image/x-wmf"/>
  <Override PartName="/ppt/media/image30.jpeg" ContentType="image/jpeg"/>
  <Override PartName="/ppt/media/image22.png" ContentType="image/png"/>
  <Override PartName="/ppt/media/image24.jpeg" ContentType="image/jpeg"/>
  <Override PartName="/ppt/media/image31.png" ContentType="image/png"/>
  <Override PartName="/ppt/media/image14.wmf" ContentType="image/x-wmf"/>
  <Override PartName="/ppt/media/image32.jpeg" ContentType="image/jpeg"/>
  <Override PartName="/ppt/media/image33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0.png" ContentType="image/png"/>
  <Override PartName="/ppt/media/image1.jpeg" ContentType="image/jpeg"/>
  <Override PartName="/ppt/media/image16.wmf" ContentType="image/x-wmf"/>
  <Override PartName="/ppt/media/image17.wmf" ContentType="image/x-wmf"/>
  <Override PartName="/ppt/media/image15.png" ContentType="image/png"/>
  <Override PartName="/ppt/media/image18.jpeg" ContentType="image/jpeg"/>
  <Override PartName="/ppt/media/image20.png" ContentType="image/png"/>
  <Override PartName="/ppt/media/image19.wmf" ContentType="image/x-wmf"/>
  <Override PartName="/ppt/media/image21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CFAD-C173-4BD7-AB64-FA2095846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5F2C-3A4D-4CFF-8CB5-463CA4ABB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8E31-4BE1-48F2-90B6-3CDA2A873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BD33-C0D6-4A3E-8944-451D14D45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554A-D665-429E-8C5C-1A89AA3E7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6E45-4C87-4B4E-ABBC-89710F0B0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408A-E810-4740-95C4-FE6D0755D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contrast, only 30,000 patients enrolled in GLC- approved programs as of Spe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A3DB-1708-40AB-9C0A-3617CD88A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C02D-AD32-4459-8000-FA638AA3B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77CF-0BA6-49C8-8E29-0205E3302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09D8-CA70-4294-9ABA-95141019B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8D4D-748A-4BD0-A3BF-B96A13319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3222-A22E-4457-9C96-08D50738F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A952-3DC8-45CB-A3CB-4FD96AB7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C69-8CAD-4814-A480-80F64210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54F-716D-4CE1-B254-FE53C860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54E-C7C2-4A9E-A425-A6EFCB30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85AA-B1CA-4E55-B906-200CB79C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7803-F20B-4B70-BF57-DED786C5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F67E-6E08-4AAF-9EFB-9473DAAD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4AFC-2C5F-4863-98EF-F729B7EC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AE21-E525-49A8-A240-71B09801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D259-B773-47C7-9324-B8C720F0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8824-288F-4D7E-98DA-C3BABF73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78D-D8D0-465A-9441-5958C909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416A-48ED-40BE-9418-133B9C14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85DD-ACB9-4C53-9E13-03ED9C85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B45B-3BB7-4A8D-8537-7E1B23F9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4F9A-8DC6-414E-A334-D0A63698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C547-61BB-454B-9B11-40ADC980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245-94E2-4683-95B8-FFA64885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8B9-B74B-4B29-83F7-4E752BEA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643-6D04-4520-A6B2-6D43C48D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2D5B-7B3A-4453-8E9F-346EEC84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B6E7-DEAA-4484-B183-5665142F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336-4372-4594-A793-24006A4D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D5A-1C3D-481D-9344-606AD98F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CF9A-DEEA-4006-B227-601E531DD0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rcRect l="0" t="0" r="60006" b="0"/>
          <a:stretch/>
        </p:blipFill>
        <p:spPr>
          <a:xfrm>
            <a:off x="4714920" y="673200"/>
            <a:ext cx="1890720" cy="581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875640" y="655560"/>
            <a:ext cx="545760" cy="808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2268360" y="698400"/>
            <a:ext cx="852840" cy="66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5"/>
          <a:stretch/>
        </p:blipFill>
        <p:spPr>
          <a:xfrm>
            <a:off x="338040" y="846000"/>
            <a:ext cx="1622520" cy="3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6"/>
          <a:stretch/>
        </p:blipFill>
        <p:spPr>
          <a:xfrm>
            <a:off x="3224160" y="469800"/>
            <a:ext cx="1440000" cy="1074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1720" y="21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A8F8-59A0-49F7-BABD-2054D038B1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7"/>
          <a:stretch/>
        </p:blipFill>
        <p:spPr>
          <a:xfrm>
            <a:off x="7816680" y="692280"/>
            <a:ext cx="110520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520" y="3111480"/>
            <a:ext cx="8612280" cy="15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 partnership approach to expand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nd accelerating access to diagnostic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or MDR-TB control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I-FIND-GDF-UNITAID projec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38480" y="5905440"/>
            <a:ext cx="6400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op TB Partnership Coordinating Board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anzania:  28 - 29 Octo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artner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00160" y="1268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ary capa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37960" y="2217600"/>
            <a:ext cx="288936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Laboratory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189840" y="2201760"/>
            <a:ext cx="28350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305160" y="2217600"/>
            <a:ext cx="27306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37960" y="2712960"/>
            <a:ext cx="2889360" cy="35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twork of international partners dedicated to laboratory strength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onents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olicy gui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pacity development and 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ion with other laboratory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ndardized quality as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ordination of technical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nowledge sh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189840" y="2706840"/>
            <a:ext cx="2847960" cy="35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sures access to anti-TB drugs and diagnostics at lowest possibl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procurement services (29 countries in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chnical expertise in managing and monitoring of commod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s achieved cost-containment for first-line TB drugs under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rrent projects with UNITAID also include scale-up of procurement for drugs to treat MDR-TB and pa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305160" y="2711520"/>
            <a:ext cx="2744640" cy="35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-private partnership focused on development, evaluation, and accelerated uptake of new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3485 cer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tensive experience with clinical trials of new diagnostics in 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ll ensure access to new diagnostics inclu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liquid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munoassay for species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6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Tahoma"/>
                <a:ea typeface="Tahoma"/>
              </a:rPr>
              <a:t>Partner roles provide complementaritie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772080" y="397980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icies, norms international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cipate in lab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 indicators and tools for M&amp;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144440" y="3979800"/>
            <a:ext cx="257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ding for essential instruments, reagents,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 rot="16200000">
            <a:off x="2124720" y="2314800"/>
            <a:ext cx="228600" cy="2706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560 h 2706480"/>
              <a:gd name="textAreaBottom" fmla="*/ 2635920 h 270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 rot="16200000">
            <a:off x="5949000" y="1461240"/>
            <a:ext cx="209520" cy="4414680"/>
          </a:xfrm>
          <a:custGeom>
            <a:avLst/>
            <a:gdLst>
              <a:gd name="textAreaLeft" fmla="*/ 133920 w 209520"/>
              <a:gd name="textAreaRight" fmla="*/ 209880 w 209520"/>
              <a:gd name="textAreaTop" fmla="*/ 114840 h 4414680"/>
              <a:gd name="textAreaBottom" fmla="*/ 4299840 h 44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1587600" y="4775040"/>
            <a:ext cx="1104840" cy="649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2"/>
          <a:stretch/>
        </p:blipFill>
        <p:spPr>
          <a:xfrm>
            <a:off x="7415280" y="6232680"/>
            <a:ext cx="318960" cy="473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rcRect l="0" t="0" r="60002" b="0"/>
          <a:stretch/>
        </p:blipFill>
        <p:spPr>
          <a:xfrm>
            <a:off x="5367240" y="6253200"/>
            <a:ext cx="1257480" cy="38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4"/>
          <a:stretch/>
        </p:blipFill>
        <p:spPr>
          <a:xfrm>
            <a:off x="733320" y="1020600"/>
            <a:ext cx="7677360" cy="2400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5245200" y="398628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gotiate with partners to ensure lowest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sure customer support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 know-how from product developmen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entoring for technology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908760" y="3992400"/>
            <a:ext cx="175104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and manage procurement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FIND, engage industry to ensure affordability and sustained price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aborate with WHO Pre-qualification to include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9" descr=""/>
          <p:cNvPicPr/>
          <p:nvPr/>
        </p:nvPicPr>
        <p:blipFill>
          <a:blip r:embed="rId5"/>
          <a:stretch/>
        </p:blipFill>
        <p:spPr>
          <a:xfrm>
            <a:off x="4110120" y="6116760"/>
            <a:ext cx="76824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Tahoma"/>
              </a:rPr>
              <a:t>Country selection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406840" y="1477440"/>
            <a:ext cx="331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1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already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2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being mob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3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al partner support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89080" y="5575320"/>
            <a:ext cx="41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for infrastructure, laboratory strengthening, SOPs, EQA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 rot="5400000">
            <a:off x="2866320" y="3181320"/>
            <a:ext cx="4002120" cy="5922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Diagram 1" descr=""/>
          <p:cNvPicPr/>
          <p:nvPr/>
        </p:nvPicPr>
        <p:blipFill>
          <a:blip r:embed="rId1"/>
          <a:stretch/>
        </p:blipFill>
        <p:spPr>
          <a:xfrm>
            <a:off x="-426960" y="1434960"/>
            <a:ext cx="5319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158760"/>
            <a:ext cx="818676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16 project countri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3" name="Picture 6" descr="africa"/>
          <p:cNvPicPr/>
          <p:nvPr/>
        </p:nvPicPr>
        <p:blipFill>
          <a:blip r:embed="rId1"/>
          <a:stretch/>
        </p:blipFill>
        <p:spPr>
          <a:xfrm>
            <a:off x="318960" y="1353960"/>
            <a:ext cx="3605400" cy="2767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europe_central_asia"/>
          <p:cNvPicPr/>
          <p:nvPr/>
        </p:nvPicPr>
        <p:blipFill>
          <a:blip r:embed="rId2"/>
          <a:stretch/>
        </p:blipFill>
        <p:spPr>
          <a:xfrm>
            <a:off x="1528920" y="4051440"/>
            <a:ext cx="6283080" cy="274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asia"/>
          <p:cNvPicPr/>
          <p:nvPr/>
        </p:nvPicPr>
        <p:blipFill>
          <a:blip r:embed="rId3"/>
          <a:stretch/>
        </p:blipFill>
        <p:spPr>
          <a:xfrm>
            <a:off x="4921200" y="1386000"/>
            <a:ext cx="3801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hases and timefram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1: Laboratory Prepared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B laboratories ass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rastructure/biosafety estab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ality Assurance put i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ard Operating Procedures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2: Introduction of new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uments, reagents, and other essential supplies procured and insta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ion of new diagnostics into screening and treatment guidelines of national TB program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3: Impact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and oversight of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of new diagnostics measured and 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1: Focus on Category 1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liquid culture and rapid immuno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equent introduction of 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2: Inclusion of Category 2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new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3: Inclusion of Category 3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additional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and 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assess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95360" y="120024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749840" y="120636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59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Expected project impac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7320" y="24508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% of global MDR-TB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least 3-fold increase over current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G_0245"/>
          <p:cNvPicPr/>
          <p:nvPr/>
        </p:nvPicPr>
        <p:blipFill>
          <a:blip r:embed="rId1"/>
          <a:stretch/>
        </p:blipFill>
        <p:spPr>
          <a:xfrm>
            <a:off x="250920" y="4365720"/>
            <a:ext cx="2808360" cy="210960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/>
          <p:cNvSpPr/>
          <p:nvPr/>
        </p:nvSpPr>
        <p:spPr>
          <a:xfrm>
            <a:off x="393840" y="1527120"/>
            <a:ext cx="8281800" cy="1109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4 000 MDR-TB patients diagn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and provided with trea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tablets"/>
          <p:cNvPicPr/>
          <p:nvPr/>
        </p:nvPicPr>
        <p:blipFill>
          <a:blip r:embed="rId2"/>
          <a:stretch/>
        </p:blipFill>
        <p:spPr>
          <a:xfrm>
            <a:off x="3205080" y="3860640"/>
            <a:ext cx="3311640" cy="2217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lucAIDS"/>
          <p:cNvPicPr/>
          <p:nvPr/>
        </p:nvPicPr>
        <p:blipFill>
          <a:blip r:embed="rId3"/>
          <a:stretch/>
        </p:blipFill>
        <p:spPr>
          <a:xfrm>
            <a:off x="6680160" y="3138480"/>
            <a:ext cx="2212920" cy="33861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828720" y="60930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357800" y="5734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7290000" y="31417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2494080" y="602136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5878440" y="6008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1317600" y="1185840"/>
          <a:ext cx="6508800" cy="5151600"/>
        </p:xfrm>
        <a:graphic>
          <a:graphicData uri="http://schemas.openxmlformats.org/drawingml/2006/table">
            <a:tbl>
              <a:tblPr/>
              <a:tblGrid>
                <a:gridCol w="325440"/>
                <a:gridCol w="1419120"/>
                <a:gridCol w="1347840"/>
                <a:gridCol w="1074960"/>
                <a:gridCol w="1042920"/>
                <a:gridCol w="129852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B cultures on liquid media and Speciation tests perfor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cond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molecular DNA probe ass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sot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ôte 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’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vo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R 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3 4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3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6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8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8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eo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 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 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9 2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public of Mol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7 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 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2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2 8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 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6 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2 9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5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anglade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0 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 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6 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 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8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yan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8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ietn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 1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12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19 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3 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9 6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3027"/>
          <p:cNvSpPr/>
          <p:nvPr/>
        </p:nvSpPr>
        <p:spPr>
          <a:xfrm>
            <a:off x="1073160" y="6437160"/>
            <a:ext cx="73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pected number of diagnostic test units, per country, by Yea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3480" y="441000"/>
            <a:ext cx="88916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800000"/>
                </a:solidFill>
                <a:latin typeface="Tahoma"/>
                <a:ea typeface="Tahoma"/>
              </a:rPr>
              <a:t>Expected results: large increase in detection of MDR-TB</a:t>
            </a:r>
            <a:br>
              <a:rPr sz="2300"/>
            </a:br>
            <a:endParaRPr b="0" lang="en-US" sz="2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2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Variation in laboratory preparednes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600120" y="1522440"/>
            <a:ext cx="7921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ritical investment needs for attaining required levels of technical sophistication and safet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236680" y="1700280"/>
            <a:ext cx="6620040" cy="3990960"/>
          </a:xfrm>
          <a:prstGeom prst="rect">
            <a:avLst/>
          </a:prstGeom>
          <a:ln w="0">
            <a:noFill/>
          </a:ln>
        </p:spPr>
      </p:pic>
      <p:sp>
        <p:nvSpPr>
          <p:cNvPr id="249" name="Line 4"/>
          <p:cNvSpPr/>
          <p:nvPr/>
        </p:nvSpPr>
        <p:spPr>
          <a:xfrm>
            <a:off x="1403280" y="3284640"/>
            <a:ext cx="590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035080" y="3328920"/>
            <a:ext cx="71640" cy="1639800"/>
          </a:xfrm>
          <a:custGeom>
            <a:avLst/>
            <a:gdLst>
              <a:gd name="textAreaLeft" fmla="*/ 45720 w 71640"/>
              <a:gd name="textAreaRight" fmla="*/ 72000 w 71640"/>
              <a:gd name="textAreaTop" fmla="*/ 42480 h 1639800"/>
              <a:gd name="textAreaBottom" fmla="*/ 1597320 h 163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39760" y="384012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um baseline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98360" y="2127240"/>
            <a:ext cx="1575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investment depending on diagnostic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036880" y="2135160"/>
            <a:ext cx="56880" cy="1106640"/>
          </a:xfrm>
          <a:custGeom>
            <a:avLst/>
            <a:gdLst>
              <a:gd name="textAreaLeft" fmla="*/ 36360 w 56880"/>
              <a:gd name="textAreaRight" fmla="*/ 57240 w 56880"/>
              <a:gd name="textAreaTop" fmla="*/ 28800 h 1106640"/>
              <a:gd name="textAreaBottom" fmla="*/ 1077840 h 11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38040" y="5950080"/>
            <a:ext cx="48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sts exclusive of reagent &amp; consumable costs and investments needed to ensure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Scale-up challeng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5600" y="157788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quately budgeted laboratory strengthening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 development and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qualification and regulator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 development at sever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of international laboratory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of senior technical consultants in SR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'Army' of trained laboratory techn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ve models for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ised training curri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formal laboratory management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-term, on-site mentoring and capacit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4880" y="309600"/>
            <a:ext cx="7440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Tahoma"/>
                <a:ea typeface="Tahoma"/>
              </a:rPr>
              <a:t>Diagnostic gaps &amp; need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809800" y="56610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l T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2333880" y="1844640"/>
            <a:ext cx="1301040" cy="3679920"/>
            <a:chOff x="2333880" y="1844640"/>
            <a:chExt cx="1301040" cy="3679920"/>
          </a:xfrm>
        </p:grpSpPr>
        <p:sp>
          <p:nvSpPr>
            <p:cNvPr id="100" name="Rectangle 5"/>
            <p:cNvSpPr/>
            <p:nvPr/>
          </p:nvSpPr>
          <p:spPr>
            <a:xfrm>
              <a:off x="2500200" y="2234880"/>
              <a:ext cx="576000" cy="32749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 rot="16200000">
              <a:off x="2187000" y="477900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2333880" y="184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9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8"/>
          <p:cNvSpPr/>
          <p:nvPr/>
        </p:nvSpPr>
        <p:spPr>
          <a:xfrm>
            <a:off x="318240" y="621972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urce: WHO Global TB Repor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179640" y="3645000"/>
            <a:ext cx="1301040" cy="2018160"/>
            <a:chOff x="179640" y="3645000"/>
            <a:chExt cx="1301040" cy="2018160"/>
          </a:xfrm>
        </p:grpSpPr>
        <p:sp>
          <p:nvSpPr>
            <p:cNvPr id="105" name="Rectangle 10"/>
            <p:cNvSpPr/>
            <p:nvPr/>
          </p:nvSpPr>
          <p:spPr>
            <a:xfrm>
              <a:off x="345960" y="4017960"/>
              <a:ext cx="576360" cy="15112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 rot="16200000">
              <a:off x="8280" y="4892760"/>
              <a:ext cx="12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179640" y="364500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4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126240" y="3284640"/>
            <a:ext cx="1301040" cy="2201760"/>
            <a:chOff x="3126240" y="3284640"/>
            <a:chExt cx="1301040" cy="2201760"/>
          </a:xfrm>
        </p:grpSpPr>
        <p:sp>
          <p:nvSpPr>
            <p:cNvPr id="109" name="Rectangle 14"/>
            <p:cNvSpPr/>
            <p:nvPr/>
          </p:nvSpPr>
          <p:spPr>
            <a:xfrm>
              <a:off x="3268800" y="3651120"/>
              <a:ext cx="576360" cy="183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126240" y="328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5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 rot="16200000">
              <a:off x="3006000" y="47674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7"/>
          <p:cNvSpPr/>
          <p:nvPr/>
        </p:nvSpPr>
        <p:spPr>
          <a:xfrm>
            <a:off x="515160" y="566100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mear+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972000" y="4286160"/>
            <a:ext cx="1301040" cy="1296720"/>
            <a:chOff x="972000" y="4286160"/>
            <a:chExt cx="1301040" cy="1296720"/>
          </a:xfrm>
        </p:grpSpPr>
        <p:sp>
          <p:nvSpPr>
            <p:cNvPr id="114" name="Rectangle 19"/>
            <p:cNvSpPr/>
            <p:nvPr/>
          </p:nvSpPr>
          <p:spPr>
            <a:xfrm>
              <a:off x="1114560" y="4629240"/>
              <a:ext cx="576360" cy="90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0"/>
            <p:cNvSpPr/>
            <p:nvPr/>
          </p:nvSpPr>
          <p:spPr>
            <a:xfrm>
              <a:off x="972000" y="428616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2.5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 rot="16200000">
              <a:off x="898920" y="492372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4572000" y="4437000"/>
            <a:ext cx="4321080" cy="2305080"/>
            <a:chOff x="4572000" y="4437000"/>
            <a:chExt cx="4321080" cy="2305080"/>
          </a:xfrm>
        </p:grpSpPr>
        <p:graphicFrame>
          <p:nvGraphicFramePr>
            <p:cNvPr id="118" name="Object 23"/>
            <p:cNvGraphicFramePr/>
            <p:nvPr/>
          </p:nvGraphicFramePr>
          <p:xfrm>
            <a:off x="4572000" y="4437000"/>
            <a:ext cx="4321080" cy="230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9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4437000"/>
                      <a:ext cx="4321080" cy="23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AutoShape 24"/>
            <p:cNvSpPr/>
            <p:nvPr/>
          </p:nvSpPr>
          <p:spPr>
            <a:xfrm>
              <a:off x="7754400" y="53056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5"/>
            <p:cNvSpPr/>
            <p:nvPr/>
          </p:nvSpPr>
          <p:spPr>
            <a:xfrm>
              <a:off x="7994520" y="50464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6"/>
            <p:cNvSpPr/>
            <p:nvPr/>
          </p:nvSpPr>
          <p:spPr>
            <a:xfrm>
              <a:off x="8235360" y="475056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7"/>
            <p:cNvSpPr/>
            <p:nvPr/>
          </p:nvSpPr>
          <p:spPr>
            <a:xfrm>
              <a:off x="7513200" y="5600520"/>
              <a:ext cx="412920" cy="110520"/>
            </a:xfrm>
            <a:prstGeom prst="parallelogram">
              <a:avLst>
                <a:gd name="adj" fmla="val 934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6374880" y="64771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9"/>
          <p:cNvSpPr/>
          <p:nvPr/>
        </p:nvSpPr>
        <p:spPr>
          <a:xfrm flipV="1" rot="16200000">
            <a:off x="5412240" y="1651320"/>
            <a:ext cx="3095640" cy="2617560"/>
          </a:xfrm>
          <a:custGeom>
            <a:avLst/>
            <a:gdLst>
              <a:gd name="textAreaLeft" fmla="*/ 0 w 3095640"/>
              <a:gd name="textAreaRight" fmla="*/ 3096000 w 3095640"/>
              <a:gd name="textAreaTop" fmla="*/ -360 h 2617560"/>
              <a:gd name="textAreaBottom" fmla="*/ 2617560 h 26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606420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6022080" y="1638360"/>
            <a:ext cx="214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etter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li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-422280" y="118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unimagin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indispensabl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-3115" r="26724" b="0"/>
          <a:stretch/>
        </p:blipFill>
        <p:spPr>
          <a:xfrm>
            <a:off x="3692520" y="3154320"/>
            <a:ext cx="2529000" cy="2878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881680" y="453240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6456240" y="2320920"/>
            <a:ext cx="2089440" cy="2084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930240" y="2641680"/>
            <a:ext cx="2766960" cy="2127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608040" y="430200"/>
            <a:ext cx="2465280" cy="2171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34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Strengthening TB laboratori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8360" y="399960"/>
          <a:ext cx="8196120" cy="627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9960"/>
                    <a:ext cx="8196120" cy="62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704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Diagnostic pipeline – 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                  where and when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90560" y="1703520"/>
            <a:ext cx="7804080" cy="4663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LogoColour"/>
          <p:cNvPicPr/>
          <p:nvPr/>
        </p:nvPicPr>
        <p:blipFill>
          <a:blip r:embed="rId2"/>
          <a:stretch/>
        </p:blipFill>
        <p:spPr>
          <a:xfrm>
            <a:off x="6529320" y="369720"/>
            <a:ext cx="20163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23720" y="41868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Implementing new diagnostics</a:t>
            </a:r>
            <a:br>
              <a:rPr sz="3200"/>
            </a:b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AutoShape 34"/>
          <p:cNvSpPr/>
          <p:nvPr/>
        </p:nvSpPr>
        <p:spPr>
          <a:xfrm>
            <a:off x="307800" y="2817720"/>
            <a:ext cx="1327320" cy="1379520"/>
          </a:xfrm>
          <a:custGeom>
            <a:avLst/>
            <a:gdLst>
              <a:gd name="textAreaLeft" fmla="*/ 0 w 1327320"/>
              <a:gd name="textAreaRight" fmla="*/ 1327680 w 132732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7" y="0"/>
                </a:lnTo>
                <a:lnTo>
                  <a:pt x="21600" y="10800"/>
                </a:lnTo>
                <a:lnTo>
                  <a:pt x="183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Feasibility, contract, development ph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5"/>
          <p:cNvSpPr/>
          <p:nvPr/>
        </p:nvSpPr>
        <p:spPr>
          <a:xfrm>
            <a:off x="2598840" y="2809800"/>
            <a:ext cx="1422360" cy="137628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96" y="0"/>
                </a:lnTo>
                <a:lnTo>
                  <a:pt x="21600" y="10800"/>
                </a:lnTo>
                <a:lnTo>
                  <a:pt x="18396" y="21600"/>
                </a:lnTo>
                <a:lnTo>
                  <a:pt x="0" y="21600"/>
                </a:lnTo>
                <a:lnTo>
                  <a:pt x="3204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Demon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6"/>
          <p:cNvSpPr/>
          <p:nvPr/>
        </p:nvSpPr>
        <p:spPr>
          <a:xfrm>
            <a:off x="7475400" y="2892600"/>
            <a:ext cx="1365480" cy="1344600"/>
          </a:xfrm>
          <a:custGeom>
            <a:avLst/>
            <a:gdLst>
              <a:gd name="textAreaLeft" fmla="*/ 0 w 1365480"/>
              <a:gd name="textAreaRight" fmla="*/ 1365480 w 136548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0" rIns="54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Global 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7"/>
          <p:cNvSpPr/>
          <p:nvPr/>
        </p:nvSpPr>
        <p:spPr>
          <a:xfrm>
            <a:off x="1347840" y="2816280"/>
            <a:ext cx="1498680" cy="136980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1" y="0"/>
                </a:lnTo>
                <a:lnTo>
                  <a:pt x="21600" y="10800"/>
                </a:lnTo>
                <a:lnTo>
                  <a:pt x="18191" y="21600"/>
                </a:lnTo>
                <a:lnTo>
                  <a:pt x="0" y="21600"/>
                </a:lnTo>
                <a:lnTo>
                  <a:pt x="3409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8"/>
          <p:cNvSpPr/>
          <p:nvPr/>
        </p:nvSpPr>
        <p:spPr>
          <a:xfrm>
            <a:off x="6602400" y="3335400"/>
            <a:ext cx="720720" cy="433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9" descr="WHO"/>
          <p:cNvPicPr/>
          <p:nvPr/>
        </p:nvPicPr>
        <p:blipFill>
          <a:blip r:embed="rId1"/>
          <a:stretch/>
        </p:blipFill>
        <p:spPr>
          <a:xfrm>
            <a:off x="4214880" y="3240000"/>
            <a:ext cx="466560" cy="4748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40"/>
          <p:cNvSpPr/>
          <p:nvPr/>
        </p:nvSpPr>
        <p:spPr>
          <a:xfrm>
            <a:off x="4799160" y="2890800"/>
            <a:ext cx="1395360" cy="131148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4" y="0"/>
                </a:lnTo>
                <a:lnTo>
                  <a:pt x="21600" y="10800"/>
                </a:lnTo>
                <a:lnTo>
                  <a:pt x="18264" y="21600"/>
                </a:lnTo>
                <a:lnTo>
                  <a:pt x="0" y="21600"/>
                </a:lnTo>
                <a:lnTo>
                  <a:pt x="3336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54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Access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1"/>
          <p:cNvSpPr/>
          <p:nvPr/>
        </p:nvSpPr>
        <p:spPr>
          <a:xfrm>
            <a:off x="1374840" y="4338720"/>
            <a:ext cx="131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regulatory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2666880" y="4341960"/>
            <a:ext cx="1148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aking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4809960" y="4352760"/>
            <a:ext cx="131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scal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7424640" y="4386240"/>
            <a:ext cx="124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easuring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179280" y="6237360"/>
            <a:ext cx="85075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98DF-3BDA-42DA-8F2E-3F75B13A7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3970440" y="4352760"/>
            <a:ext cx="103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obal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9208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rot="16200000">
            <a:off x="970200" y="-387360"/>
            <a:ext cx="1656000" cy="3240360"/>
          </a:xfrm>
          <a:custGeom>
            <a:avLst/>
            <a:gdLst>
              <a:gd name="textAreaLeft" fmla="*/ 360 w 1656000"/>
              <a:gd name="textAreaRight" fmla="*/ 165672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ing the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policy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970920" y="836280"/>
            <a:ext cx="1656000" cy="32403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42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viewing the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007640" y="2023560"/>
            <a:ext cx="1582920" cy="324036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640" y="35672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vening an Expert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970560" y="3213720"/>
            <a:ext cx="1657080" cy="324036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0160" y="4653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ing draft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1020240" y="4387680"/>
            <a:ext cx="1557360" cy="324036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0000" y="5805360"/>
            <a:ext cx="24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seminating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17880" y="379440"/>
            <a:ext cx="5118120" cy="124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17880" y="1735200"/>
            <a:ext cx="5118120" cy="1046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17880" y="3006720"/>
            <a:ext cx="5118120" cy="709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962520" y="3860640"/>
            <a:ext cx="5073480" cy="1733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917880" y="5792760"/>
            <a:ext cx="5118120" cy="731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26320" y="-9360"/>
            <a:ext cx="50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Tahoma"/>
              </a:rPr>
              <a:t>WHO policy formu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65480" y="49356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1790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65480" y="587700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414972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3014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0280" y="274680"/>
            <a:ext cx="86630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Establishing quality diagnostic servic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01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ng from demonstration to access and impact requires that new diagnostic tools are integrated into functional laborato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7" descr=""/>
          <p:cNvPicPr/>
          <p:nvPr/>
        </p:nvPicPr>
        <p:blipFill>
          <a:blip r:embed="rId1"/>
          <a:stretch/>
        </p:blipFill>
        <p:spPr>
          <a:xfrm>
            <a:off x="1203480" y="1881360"/>
            <a:ext cx="6735600" cy="3635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8"/>
          <p:cNvSpPr/>
          <p:nvPr/>
        </p:nvSpPr>
        <p:spPr>
          <a:xfrm>
            <a:off x="3816360" y="572292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components to ensure quality diagnost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1330200" y="572292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sential instruments, reagents,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0"/>
          <p:cNvSpPr/>
          <p:nvPr/>
        </p:nvSpPr>
        <p:spPr>
          <a:xfrm rot="16200000">
            <a:off x="2464560" y="4443840"/>
            <a:ext cx="128520" cy="2266920"/>
          </a:xfrm>
          <a:custGeom>
            <a:avLst/>
            <a:gdLst>
              <a:gd name="textAreaLeft" fmla="*/ 82080 w 128520"/>
              <a:gd name="textAreaRight" fmla="*/ 128880 w 128520"/>
              <a:gd name="textAreaTop" fmla="*/ 59040 h 2266920"/>
              <a:gd name="textAreaBottom" fmla="*/ 2207880 h 22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1"/>
          <p:cNvSpPr/>
          <p:nvPr/>
        </p:nvSpPr>
        <p:spPr>
          <a:xfrm rot="16200000">
            <a:off x="5788080" y="3634920"/>
            <a:ext cx="182520" cy="3922920"/>
          </a:xfrm>
          <a:custGeom>
            <a:avLst/>
            <a:gdLst>
              <a:gd name="textAreaLeft" fmla="*/ 116640 w 182520"/>
              <a:gd name="textAreaRight" fmla="*/ 182880 w 182520"/>
              <a:gd name="textAreaTop" fmla="*/ 102240 h 3922920"/>
              <a:gd name="textAreaBottom" fmla="*/ 3820680 h 392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9920" y="474480"/>
            <a:ext cx="68752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0033"/>
                </a:solidFill>
                <a:latin typeface="Tahoma"/>
                <a:ea typeface="Tahoma"/>
              </a:rPr>
              <a:t>Critical gap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08400" y="2317680"/>
            <a:ext cx="317160" cy="3003480"/>
          </a:xfrm>
          <a:custGeom>
            <a:avLst/>
            <a:gdLst/>
            <a:ahLst/>
            <a:rect l="l" t="t" r="r" b="b"/>
            <a:pathLst>
              <a:path w="200" h="1892">
                <a:moveTo>
                  <a:pt x="0" y="1892"/>
                </a:moveTo>
                <a:lnTo>
                  <a:pt x="0" y="149"/>
                </a:lnTo>
                <a:lnTo>
                  <a:pt x="200" y="0"/>
                </a:lnTo>
                <a:lnTo>
                  <a:pt x="200" y="1742"/>
                </a:lnTo>
                <a:lnTo>
                  <a:pt x="0" y="18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25560" y="2463840"/>
            <a:ext cx="4722840" cy="27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8560" y="36432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3120" y="4135320"/>
            <a:ext cx="380880" cy="112572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2560" y="37688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35320" y="3997440"/>
            <a:ext cx="3826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656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57880" y="2575080"/>
            <a:ext cx="360360" cy="2685960"/>
          </a:xfrm>
          <a:prstGeom prst="rect">
            <a:avLst/>
          </a:prstGeom>
          <a:solidFill>
            <a:srgbClr val="bbe0e3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000" y="22194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595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1132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10560" y="53881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21440" y="539604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94040" y="5396040"/>
            <a:ext cx="996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amp;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54040" y="5388120"/>
            <a:ext cx="971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56320" y="538812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5360" y="1419120"/>
            <a:ext cx="80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HO questionnaire survey in 2006 among regional advisors from 75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LI-FIND-GDF-UNITAID project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oals and objective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141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ontrol of MDR-TB through expanding and accelerating access to new diagnostic technologies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se tools are properly integrated within TB control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e access at lowest possible price to diagnostic instruments, reagents, and supplies through UNITAI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e UNITAID support with additional resourc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talize and modernize national referenc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training in good laboratory practice, biosafety, and new diagnostic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sustained technical assistance to ensure proper use of diagnostic tool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20:33:34Z</dcterms:created>
  <dc:creator>el</dc:creator>
  <dc:description/>
  <dc:language>en-US</dc:language>
  <cp:lastModifiedBy>Karin Weyer</cp:lastModifiedBy>
  <dcterms:modified xsi:type="dcterms:W3CDTF">2008-10-29T07:11:43Z</dcterms:modified>
  <cp:revision>118</cp:revision>
  <dc:subject/>
  <dc:title>GLI/GDF/FIND discussion with UNITAID</dc:title>
</cp:coreProperties>
</file>