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png" ContentType="image/png"/>
  <Override PartName="/ppt/media/image4.wmf" ContentType="image/x-wmf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E13E6-9EC2-465F-BBB2-E3363BD4084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Identify and assess the relative importance of risk factors for drug-resistant TB, in particular to explain variation in MDR and XDR prevalence between setting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 Clinical trials of the efficacy of several individual drugs and drug combinations in preventive treatment of persons infected with drug-resistant T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Identify and assess the relative importance of risk factors for drug-resistant TB, in particular to explain variation in MDR and XDR prevalence between setting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 Clinical trials of the efficacy of several individual drugs and drug combinations in preventive treatment of persons infected with drug-resistant T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Identify and assess the relative importance of risk factors for drug-resistant TB, in particular to explain variation in MDR and XDR prevalence between setting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 Clinical trials of the efficacy of several individual drugs and drug combinations in preventive treatment of persons infected with drug-resistant T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Identify and assess the relative importance of risk factors for drug-resistant TB, in particular to explain variation in MDR and XDR prevalence between setting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 Clinical trials of the efficacy of several individual drugs and drug combinations in preventive treatment of persons infected with drug-resistant T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Identify and assess the relative importance of risk factors for drug-resistant TB, in particular to explain variation in MDR and XDR prevalence between setting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 Clinical trials of the efficacy of several individual drugs and drug combinations in preventive treatment of persons infected with drug-resistant T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32808-1BA6-4A34-8EF1-2BFBD3E98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8293D-1E48-4391-A224-2DDDC260E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76231-7D1E-4CDE-B6AC-C59B8FDD5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C96A7-8966-4C67-9101-9FA658E95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9C3B5-3AB6-48C3-9FEC-F53E1F77C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ED3E9-89CB-4F33-8E30-5271F2AA1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BD828-EC9A-46C3-BFA9-34B177B35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6B953-7AC7-4179-A90E-204FE2F08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B0046-425F-49A7-BB18-90E06E975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E8048-57C1-4786-97F0-A02AAC079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394C8-3B40-48C4-B3A2-952281231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02C8E-D81E-49C4-A6F9-3BA7A59BE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B17F8-E030-4D79-A4D8-39F064756E60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1AA7F-B1F6-4836-A96E-51C469A5F8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351560" y="333360"/>
            <a:ext cx="1684440" cy="6890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08000" y="1125360"/>
            <a:ext cx="8885160" cy="3240"/>
          </a:xfrm>
          <a:custGeom>
            <a:avLst/>
            <a:gdLst/>
            <a:ahLst/>
            <a:rect l="l" t="t" r="r" b="b"/>
            <a:pathLst>
              <a:path w="5597" h="2">
                <a:moveTo>
                  <a:pt x="0" y="0"/>
                </a:moveTo>
                <a:lnTo>
                  <a:pt x="5597" y="2"/>
                </a:lnTo>
              </a:path>
            </a:pathLst>
          </a:custGeom>
          <a:noFill/>
          <a:ln w="127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601"/>
              </a:spcBef>
              <a:buClr>
                <a:srgbClr val="ff00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95280" y="1628640"/>
            <a:ext cx="835344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24000" y="1700280"/>
            <a:ext cx="8569080" cy="38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08000" y="189000"/>
            <a:ext cx="735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I Meeting of the WHO Task Force on XDR-TB 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9-10 April 2008, Geneva, Switzer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468360" y="1268280"/>
            <a:ext cx="820908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-252360" y="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ahoma"/>
                <a:ea typeface="Tahoma"/>
              </a:rPr>
              <a:t>        </a:t>
            </a:r>
            <a:r>
              <a:rPr b="1" lang="en-US" sz="3400" spc="-1" strike="noStrike">
                <a:solidFill>
                  <a:srgbClr val="000000"/>
                </a:solidFill>
                <a:latin typeface="Tahoma"/>
                <a:ea typeface="Tahoma"/>
              </a:rPr>
              <a:t>Acknowledgements</a:t>
            </a:r>
            <a:endParaRPr b="0" lang="en-US" sz="3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7351560" y="333360"/>
            <a:ext cx="1684440" cy="6890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08000" y="1125360"/>
            <a:ext cx="8885160" cy="3240"/>
          </a:xfrm>
          <a:custGeom>
            <a:avLst/>
            <a:gdLst/>
            <a:ahLst/>
            <a:rect l="l" t="t" r="r" b="b"/>
            <a:pathLst>
              <a:path w="5597" h="2">
                <a:moveTo>
                  <a:pt x="0" y="0"/>
                </a:moveTo>
                <a:lnTo>
                  <a:pt x="5597" y="2"/>
                </a:lnTo>
              </a:path>
            </a:pathLst>
          </a:custGeom>
          <a:noFill/>
          <a:ln w="127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643280" y="1165320"/>
            <a:ext cx="2665440" cy="56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Lynne Harrop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Marcos Espina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Maria Sarquell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Mario Raviglion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Martins Pavelson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Matteo Zigno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Mukund Upleka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Paloma Lerg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Patricia Lang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Paulette Ashong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Paul Nun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Robert Matiru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Rosalie Edm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Tom Hiat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116000" y="1268280"/>
            <a:ext cx="3384720" cy="55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Abigail Wrigh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Andrea Pantoj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Charlie Gilk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Eugenia Becerr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Fabio Scano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Fuad Mirzayev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Geneviève Pine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Glenn Thoma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Irina Sahakya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Janet Couti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John Loeb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Karin Wey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Katherine Floyd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Kathrin Thoma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Lina Abraha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0" y="-15840"/>
            <a:ext cx="9144000" cy="687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8785440" cy="61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-181440" y="-360"/>
            <a:ext cx="781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Participants at the meeting of the WHO Task Force on XDR-TB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1628640"/>
            <a:ext cx="835344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1125360"/>
            <a:ext cx="9144000" cy="56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-36360" y="-18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Second WHO XDR-TB Task Force meeting 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9-10 April, Geneva, Switzerlan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"/>
          <p:cNvSpPr/>
          <p:nvPr/>
        </p:nvSpPr>
        <p:spPr>
          <a:xfrm>
            <a:off x="395280" y="1628640"/>
            <a:ext cx="835344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44360" y="1125360"/>
            <a:ext cx="8820360" cy="51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2001a3"/>
                </a:solidFill>
                <a:latin typeface="Arial"/>
                <a:ea typeface="SimSun"/>
              </a:rPr>
              <a:t>Areas of significant progres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WHO Guidelines for DR-TB management upd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Peru, first low resource setting reporting universal access to MDR-TB </a:t>
            </a:r>
            <a:r>
              <a:rPr b="1" i="1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Dx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 and </a:t>
            </a:r>
            <a:r>
              <a:rPr b="1" i="1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R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Global Laboratory Initiative leading </a:t>
            </a:r>
            <a:r>
              <a:rPr b="1" i="1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Dx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 revo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ccessful evaluation of line probe assays in South Af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6360" y="-27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Second WHO XDR-TB Task Force meeting 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9-10 April, Geneva, Switzerlan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"/>
          <p:cNvSpPr/>
          <p:nvPr/>
        </p:nvSpPr>
        <p:spPr>
          <a:xfrm>
            <a:off x="395280" y="1628640"/>
            <a:ext cx="835344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50920" y="1514520"/>
            <a:ext cx="85690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GDF making progress in addressing drug procurement cri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or TB control and infection control 1994-2002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→ nosocomial spread most likely explain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XDR-TB outbreak in Tugela Ferry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waZulu Na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vidence that MDR-TB can be managed in very difficult circumstance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but raises major ethical and legal challen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Second WHO XDR-TB Task Force meeting 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9-10 April, Geneva, Switzerlan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"/>
          <p:cNvSpPr/>
          <p:nvPr/>
        </p:nvSpPr>
        <p:spPr>
          <a:xfrm>
            <a:off x="395280" y="1628640"/>
            <a:ext cx="835344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8000" y="1214280"/>
            <a:ext cx="8964720" cy="535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2001a3"/>
                </a:solidFill>
                <a:latin typeface="Arial"/>
                <a:ea typeface="SimSun"/>
              </a:rPr>
              <a:t>Progress in 27 high priority MDR-TB countries* shows enormous gaps, patients on treatment well below targe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9/22 (40.9%) countries have drug resistance surveys &gt; 5 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6/22 (27.3%) countries have external quality-assured drug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usceptibility testing for 1</a:t>
            </a:r>
            <a:r>
              <a:rPr b="1" lang="en-GB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line anti-TB dru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0/22 (45.4%) countries have DST capacity for 2</a:t>
            </a:r>
            <a:r>
              <a:rPr b="1" lang="en-GB" sz="2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line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nti-TB dru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8/22 (36.4%) countries have national guidelines for MDR-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B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1/22 (50.0%) countries do not have a MDR-TB focal point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t the NT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6/22 (72.7%) countries have wide availability of SL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39000" y="6375240"/>
            <a:ext cx="788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0" lang="en-US" sz="1800" spc="-1" strike="noStrike">
                <a:solidFill>
                  <a:srgbClr val="2001a3"/>
                </a:solidFill>
                <a:latin typeface="Arial"/>
              </a:rPr>
              <a:t>Countries with 95% of MDR TB burden, and small countries w/ &gt;10% MD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-181080" y="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  <a:ea typeface="Tahoma"/>
              </a:rPr>
              <a:t>Main Recommendations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78920" y="1341360"/>
            <a:ext cx="8713800" cy="5400720"/>
          </a:xfrm>
          <a:prstGeom prst="rect">
            <a:avLst/>
          </a:prstGeom>
          <a:noFill/>
          <a:ln w="76320">
            <a:solidFill>
              <a:srgbClr val="ff33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de35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ountries to involve all health care providers in the global response to MDR-TB and XDR-TB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de35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DR-TB Working Group to further develop framework of Centers of Excellence for promoting development of human resources in MDR-TB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de35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WHO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SimSun"/>
              </a:rPr>
              <a:t>to produce training modules for programmatic management of drug resistant TB and make them available ASA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24"/>
              </a:spcBef>
              <a:buClr>
                <a:srgbClr val="de35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Arial"/>
              </a:rPr>
              <a:t>WHO to provide guidance on implementation of line probe assays for MDR-TB within specific country settin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7351560" y="333360"/>
            <a:ext cx="1684440" cy="68904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108000" y="1125360"/>
            <a:ext cx="8885160" cy="3240"/>
          </a:xfrm>
          <a:custGeom>
            <a:avLst/>
            <a:gdLst/>
            <a:ahLst/>
            <a:rect l="l" t="t" r="r" b="b"/>
            <a:pathLst>
              <a:path w="5597" h="2">
                <a:moveTo>
                  <a:pt x="0" y="0"/>
                </a:moveTo>
                <a:lnTo>
                  <a:pt x="5597" y="2"/>
                </a:lnTo>
              </a:path>
            </a:pathLst>
          </a:custGeom>
          <a:noFill/>
          <a:ln w="127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-181080" y="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  <a:ea typeface="Tahoma"/>
              </a:rPr>
              <a:t>Main Recommendations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8920" y="1341360"/>
            <a:ext cx="8713800" cy="5400720"/>
          </a:xfrm>
          <a:prstGeom prst="rect">
            <a:avLst/>
          </a:prstGeom>
          <a:noFill/>
          <a:ln w="76320">
            <a:solidFill>
              <a:srgbClr val="ff33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cc33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SimSun"/>
              </a:rPr>
              <a:t>WHO to produce and disseminate practical guidance on ethical and legal issues to support patient-centered TB care, including community-based MDR-TB c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24"/>
              </a:spcBef>
              <a:buClr>
                <a:srgbClr val="cc33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Arial"/>
              </a:rPr>
              <a:t>27 priority countries to produce comprehensive national response plans to MDR-TB/XDR-TB, with support of WHO and Stop TB Partnership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24"/>
              </a:spcBef>
              <a:buClr>
                <a:srgbClr val="cc33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Arial"/>
              </a:rPr>
              <a:t>WHO and Stop TB Partnership to convene meeting with ALL 27 high priority countries early in 2009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7351560" y="333360"/>
            <a:ext cx="1684440" cy="68904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108000" y="1125360"/>
            <a:ext cx="8885160" cy="3240"/>
          </a:xfrm>
          <a:custGeom>
            <a:avLst/>
            <a:gdLst/>
            <a:ahLst/>
            <a:rect l="l" t="t" r="r" b="b"/>
            <a:pathLst>
              <a:path w="5597" h="2">
                <a:moveTo>
                  <a:pt x="0" y="0"/>
                </a:moveTo>
                <a:lnTo>
                  <a:pt x="5597" y="2"/>
                </a:lnTo>
              </a:path>
            </a:pathLst>
          </a:custGeom>
          <a:noFill/>
          <a:ln w="127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-181080" y="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ahoma"/>
                <a:ea typeface="Tahoma"/>
              </a:rPr>
              <a:t>Main Recommendation</a:t>
            </a:r>
            <a:endParaRPr b="0" lang="en-US" sz="4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78920" y="1341360"/>
            <a:ext cx="8713800" cy="5400720"/>
          </a:xfrm>
          <a:prstGeom prst="rect">
            <a:avLst/>
          </a:prstGeom>
          <a:noFill/>
          <a:ln w="76320">
            <a:solidFill>
              <a:srgbClr val="ff33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51"/>
              </a:spcBef>
              <a:buClr>
                <a:srgbClr val="cc33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Aims of WHO and Stop TB Partnership meeting with ALL 27 high priority countries in early 2009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cc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SimSun"/>
              </a:rPr>
              <a:t>increase political commitment at the highest country level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cc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SimSun"/>
              </a:rPr>
              <a:t>assess progress achieved in these priority countr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cc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SimSun"/>
              </a:rPr>
              <a:t>identify and agree on actions to tackle main factors hampering prog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7351560" y="333360"/>
            <a:ext cx="1684440" cy="6890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08000" y="1125360"/>
            <a:ext cx="8885160" cy="3240"/>
          </a:xfrm>
          <a:custGeom>
            <a:avLst/>
            <a:gdLst/>
            <a:ahLst/>
            <a:rect l="l" t="t" r="r" b="b"/>
            <a:pathLst>
              <a:path w="5597" h="2">
                <a:moveTo>
                  <a:pt x="0" y="0"/>
                </a:moveTo>
                <a:lnTo>
                  <a:pt x="5597" y="2"/>
                </a:lnTo>
              </a:path>
            </a:pathLst>
          </a:custGeom>
          <a:noFill/>
          <a:ln w="127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8T18:19:53Z</dcterms:created>
  <dc:creator>nunnp</dc:creator>
  <dc:description/>
  <dc:language>en-US</dc:language>
  <cp:lastModifiedBy>kgc1</cp:lastModifiedBy>
  <dcterms:modified xsi:type="dcterms:W3CDTF">2008-05-07T09:59:23Z</dcterms:modified>
  <cp:revision>279</cp:revision>
  <dc:subject/>
  <dc:title>14th Conference on Retroviruses and Opportunistic Infections     Urgent Issues in the Developing World  Transmission of Extreme Drug Resistant TB in South Africa: Discussion of the Global Impl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