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9E5-E1D5-41BC-8E7F-9E6EADEF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3BF-04E6-4002-A68A-FFD081E0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102-03AF-4251-B254-6CBB94CF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32BE-2153-44B4-A802-884E6B0E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A63-4DD1-455E-B13F-118605C1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E65-FE0A-45F2-B501-93833BF2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CC2-93A4-40F8-8332-FE17E6E4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6AB-61F1-4EDF-BE3E-8895FD6A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A290-95A8-4463-8C53-AFAF5243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63E-1596-4D81-8819-A76E7247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DA9-227A-4C2E-A276-52E001E7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C18-F22E-4A9C-B1D7-53091F28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BBCF-C273-44F3-A43E-0210C5F84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7320" y="3511440"/>
            <a:ext cx="6916680" cy="3346560"/>
          </a:xfrm>
          <a:prstGeom prst="rect">
            <a:avLst/>
          </a:prstGeom>
          <a:noFill/>
          <a:ln w="255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24 October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Berlin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Paul Sommer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Chair, ACSM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82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SM Working Group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iennium Workplan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Strategic Action to Stop T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4379" t="0" r="32732" b="0"/>
          <a:stretch/>
        </p:blipFill>
        <p:spPr>
          <a:xfrm>
            <a:off x="228600" y="887400"/>
            <a:ext cx="2754360" cy="4226040"/>
          </a:xfrm>
          <a:prstGeom prst="rect">
            <a:avLst/>
          </a:prstGeom>
          <a:ln w="57240">
            <a:solidFill>
              <a:srgbClr val="66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 Opportunities for Mor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age Civil Society; Promote Collab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mote ACSM Approaches in TB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rt other Partnership Working Groups and Initi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velop Opportun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8560" y="1562040"/>
            <a:ext cx="8020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argets and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 a "Library of Evidenc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ise strategy for each 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Link Secretariat and Partner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onitor resource mobilization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gage Civil Socie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4880" y="1562040"/>
            <a:ext cx="8020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mote Regional and Nat'l STB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nvene Reg’l and Nat’l dialogu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e partn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round key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messa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 Civil Society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3040" y="198108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tion learning on civil society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rengthen and link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use of Patients' Charter and International Standards of TB C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0280" y="1657440"/>
            <a:ext cx="80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regional ACSM planning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cilitate technical assistanc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rain consulta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tegrate ACSM into existing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isseminate "how-to" ACSM  gu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Integrate ACSM in TB Control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80" y="1486080"/>
            <a:ext cx="8020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sseminate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duce regional case study coll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llect examples of good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global 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nnually review ACSM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other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6720" y="1581120"/>
            <a:ext cx="80200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romote exchange of information and sh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SM-related tools and best pract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Work with advocacy people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CSM Core Group individuals to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SimSun"/>
              </a:rPr>
              <a:t>ass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ovide training, tools and materials to develop advocacy capacity of oth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Next Steps </a:t>
            </a: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1486080"/>
            <a:ext cx="8020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late objectives into Action P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Partners meet in Cape Town to develop strategy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resources for W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(Regular support is in Secretar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User</cp:lastModifiedBy>
  <cp:lastPrinted>2002-05-31T10:14:11Z</cp:lastPrinted>
  <dcterms:modified xsi:type="dcterms:W3CDTF">2007-10-24T06:26:30Z</dcterms:modified>
  <cp:revision>10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