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7C3B-1DE7-4693-93A1-2E46C172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DFD-BC6F-4222-A6A2-978E37F6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253-01B6-460E-BC83-78F7C331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EB8-684D-4EC2-B9CB-0B766C35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54FC-677B-4213-ABB1-377D59D0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3FCC-DEFF-43E7-A642-E8271DB7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9059-1B19-45EA-8ADF-9ADD6524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D2C7-34CB-48C1-B2BD-3B78E60D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6DEC-18CE-468D-ABF4-2423A335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1564-F33C-4090-AF15-AB2398BF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614B-FECF-4BD7-BD14-2C995D12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F82-A473-4B59-A5B3-CB460A1E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CBAE-1ABA-4B89-9EDF-E6FAE689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9789-6BEC-4FA3-BBB1-D2BF1A63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6F7E-05F8-4D2F-85A9-707C7DE1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71BC-198B-4E9A-A349-E14B7DB2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554A-F033-4A0B-A123-EF48A538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33E-16E0-4343-B72D-0450D4F4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DC5-D3C4-4991-8545-6BDC890F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5F66-EC57-4976-830B-657F581B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1E7-7EA2-424A-98AC-98F52EDB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FD0-41DA-460B-A73A-3EC680D4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848-C09A-43F3-A6AC-7B786D2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2A2-FB88-4EBC-A69D-04C49C5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A6B1-EE78-44D7-B897-48824BE8439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C961-33A5-48D9-A583-2BBE0627C69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2205000"/>
            <a:ext cx="756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WORKPLANS 2008-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SEARCH WORKING GROU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Vaccines WG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1: Keep the Pipeline fill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workshop on innovative approaches to TB vaccine development and provide report and follow-up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2: Build capacity at vaccine trial sit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and convene a “clinical trialists network”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in strengthening of regulatory and ethical capacity in TB endemic countries where trials are being perform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y 3: Perform clinical tria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 annual workshop on laboratory assay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international collaborative study on development of a functional assa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e annual meeting on diagnostics paradigms and clinical endpoi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“white book” on clinical evaluation of TB vaccin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 4: Provide an enabling infrastructure &amp;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n economics and product profi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a study on economic impac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 annual meeting on advocacy, communications and social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dvocacy mate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community outreach activ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nd support 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 annual meeting of Working Grou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dget Reques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P2 Objectiv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udget requested ($U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 and improve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G vaccination program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very &amp; translational re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8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apacity at vaccine tri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7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clinical t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33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n enabling infra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55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,290,000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&amp;D Working groups are on track on the deliverables as expressed i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uilding upon early success to strenghten and expand activiti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Request Partnership to continue its support and commitment and scale up activities on resource mobilization for New Tool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ork Plan WG on Diagnostics 2008-2009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1: </a:t>
            </a:r>
            <a:r>
              <a:rPr b="1" lang="en-GB" sz="14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Intensify collaboration within the WG on New Diagnostics and with  other WGs of the Stop TB Partnership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nlarge Core Group of the New Diagnostics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Establish Sub-groups within the New Diagnostics Working Group and facilitate sub-group members to take an active role in developing the Sub-group and working towards their goal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C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Annual all-day meeting of Working Group on New Diagnostics during the Union’s World Conference on Lung Health, plus 2 "Meet the Experts" Workshops in the main programme of the conference 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D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Part-time personnel support for secretariat in preparation of New Diagnostics WG materials, and development and maintenance of  website.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 Area 2: Develop clear criteria for describing intended setting for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candidate diagnostic test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be conducted at the same time as Activity A in Priority Thre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 3: Describe an expanded diagnostics pipeline that reflects the explosion in activity aimed at developing new diagnostics for tuberculosi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To conduct one workshop in 2008 to describe the expanded pipeline of T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diagnostics under development or evaluation and develop clear criteria for describing the intended setting for candidate diagnostic test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: Update the pipeline in 2009.  This will be mainly achieved through e-mail and teleconference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 Plan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4: Develop a Scientific Blueprint for the development of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Diagnost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Workshop, consultations, writing, publishing and distributing a Scientific Blueprint for TB Diagnostics Development.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5: Develop criteria to place developing technologies at particular stages of the “value chain” of development and evaluation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Priority Area 6: Work with the STP Retooling Task Force and the Subgroup on Laboratory Capacity Strengthening to promote and facilitate the implementation of new diagnostic technologie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A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Participation of WG members in Retooling Task Force and SCLS meeting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	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Activity B: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SimSun"/>
              </a:rPr>
              <a:t> Develop guidelines for the introduction and sustainable implementation of new diagnostics in partnership with the RTF and SLCS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posed biennial budget 2008-2009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040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47840" y="69480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35120" y="1495440"/>
            <a:ext cx="80517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1: Support Global R&amp;D for New TB Drug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research coordination to advance the global TB drug pipeline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Symposia at IUATLD on TB drug development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sh R&amp;D activity mapping projec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Support development of clinical trial site capacity.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Assess funding needs for clinical trial site capacity building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Promote development of biomarkers, surrogate endpoints, animal models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Contract and publish a review on the state of the art of biomarkers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/co-sponsor a symposium on these topic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Tahom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20000"/>
                </a:solidFill>
                <a:uFillTx/>
                <a:latin typeface="Tahoma"/>
                <a:ea typeface="SimSun"/>
              </a:rPr>
              <a:t>Identify strategies to evaluate new drugs for MDR- and XDR-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and help organize meetings of the MDR/XDR Task Forc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publication of MDR/XDR Task Force document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other activities of the MDR/XDR Task Force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3760" y="1676160"/>
            <a:ext cx="3352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47840" y="67644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9960" y="1793520"/>
            <a:ext cx="810576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2: Promote harmonized regulatory guidelines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for TB and MDR-TB Drug Development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Organize and co-sponsor annual Open Fora on key regulatory issu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3: Promote engagement with affected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         community representatives (ACRs)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ponsor travel to WGND annual meetings, symposia and Open Fora; 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rovide support and training to facilitate ACR participation in meetings and WGND activities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Priority Area 4: Maintain communication and collabora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nnual </a:t>
            </a: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WGND</a:t>
            </a: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 meetings; participate in Partnership meetings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Update the Strategic Plan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Convene a core group to oversee implementation of the Strategic Plan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Support the activities of the Retooling Task Force;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20000"/>
                </a:solidFill>
                <a:latin typeface="Tahoma"/>
                <a:ea typeface="SimSun"/>
              </a:rPr>
              <a:t>Publications: e.g. brochure, newsletter, annual reports, website;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Tahoma"/>
                <a:ea typeface="SimSun"/>
              </a:rPr>
              <a:t>Retain the services of a full-time Secretariat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71520" y="535140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6600" y="5533920"/>
            <a:ext cx="2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7840" y="6858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posed Biennial Work Plan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72600" y="144936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SimSun"/>
              </a:rPr>
              <a:t>Minimum Two Year Budget, b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4360" y="1984320"/>
          <a:ext cx="7629480" cy="4551480"/>
        </p:xfrm>
        <a:graphic>
          <a:graphicData uri="http://schemas.openxmlformats.org/drawingml/2006/table">
            <a:tbl>
              <a:tblPr/>
              <a:tblGrid>
                <a:gridCol w="741960"/>
                <a:gridCol w="2702160"/>
                <a:gridCol w="1572840"/>
                <a:gridCol w="1553760"/>
                <a:gridCol w="1058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Prio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Partnership</a:t>
                      </a: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MAXIMUM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720000"/>
                          </a:solidFill>
                          <a:uFillTx/>
                          <a:latin typeface="Tahoma"/>
                        </a:rPr>
                        <a:t>From TB Alli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a at IUATL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&amp;D activity mapping projec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ssess funds for clinical trial si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ymposium on Biomark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DR Taskforce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6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pen For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ACR Travel and train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5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trategic Plan Upd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GND Publication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Support staf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4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4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Working Group Annual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5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4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ravel to Partnership Meetin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3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nvene a core grou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200,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$1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$398,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User</cp:lastModifiedBy>
  <dcterms:modified xsi:type="dcterms:W3CDTF">2007-10-24T06:20:15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