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107-D2E3-4F82-AFFC-63F74915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36CE-C59D-4C12-8D95-4D2FDE95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EC1-CAAF-4FAB-8C18-16AB7A57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E19C-690D-4B53-BBCC-B898C440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F3B8-D95B-4259-B86B-1E98BB67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E962-811D-4C22-B7A5-628CF460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FC81-3F5D-418B-8B6F-0B86B6DB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D272-21F1-4A9C-88D7-D3F63847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69B4-2849-4A14-8DC4-3CD60183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D226-7E57-4493-AFCB-C7A1A64F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8A60-EAD1-4CCE-B7B8-C7121699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9CB-9FA2-4E55-8F5E-F259A656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704C-7B53-4858-8D57-0B8F2BEA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0B29-650C-41B3-AE03-5D8A5649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AED4-F21F-4232-8C67-E968F4F8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7CDC-1688-4156-A6B5-57F4412C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7BBF-CF3C-4E8C-BFCB-1AF5D4DD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457-9751-406C-A1CD-BE3D14AF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0900-3EFA-4C9F-B64F-C5B36AE4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25B-86F4-424E-B684-572C1F75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BAC-6800-4752-8FFC-E3A3CD68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6690-A213-45A2-A73A-3900A23C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700-BB17-422B-BA06-13E7425B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478F-BBBF-4417-A02B-08EB3E19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695a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822D-B558-4B24-80D0-057638283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40" y="0"/>
            <a:ext cx="91072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EAAC-AEDF-44AD-8F2F-B21480CBD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695a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695a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695aa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Aligning and Harmonising GHIs to </a:t>
            </a:r>
            <a:br>
              <a:rPr sz="2800"/>
            </a:br>
            <a:r>
              <a:rPr b="1" lang="en-GB" sz="2800" spc="-1" strike="noStrike" u="sng">
                <a:solidFill>
                  <a:srgbClr val="0695aa"/>
                </a:solidFill>
                <a:uFillTx/>
                <a:latin typeface="Arial"/>
              </a:rPr>
              <a:t>Strengthen Health System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Francis Omas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B 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erlin, 23</a:t>
            </a:r>
            <a:r>
              <a:rPr b="0" i="1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 October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6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Structure of the </a:t>
            </a:r>
            <a:br>
              <a:rPr sz="3600"/>
            </a:br>
            <a:r>
              <a:rPr b="1" lang="en-US" sz="3600" spc="-1" strike="noStrike">
                <a:solidFill>
                  <a:srgbClr val="0695aa"/>
                </a:solidFill>
                <a:latin typeface="Arial"/>
              </a:rPr>
              <a:t>Global Health Workforce Alliance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2276640"/>
            <a:ext cx="3095640" cy="18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GHW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Tahoma"/>
              </a:rPr>
              <a:t>Members’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384280"/>
            <a:ext cx="2286000" cy="43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16360" y="5084640"/>
            <a:ext cx="13464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ols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5084640"/>
            <a:ext cx="1287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084640"/>
            <a:ext cx="13111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5084640"/>
            <a:ext cx="13302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cale up 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207" idx="0"/>
            <a:endCxn id="209" idx="2"/>
          </p:cNvCxnSpPr>
          <p:nvPr/>
        </p:nvCxnSpPr>
        <p:spPr>
          <a:xfrm flipH="1" flipV="1" rot="5400000">
            <a:off x="4207680" y="3712320"/>
            <a:ext cx="1033560" cy="1712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0" name=""/>
          <p:cNvCxnSpPr>
            <a:stCxn id="204" idx="0"/>
            <a:endCxn id="209" idx="2"/>
          </p:cNvCxnSpPr>
          <p:nvPr/>
        </p:nvCxnSpPr>
        <p:spPr>
          <a:xfrm flipH="1" flipV="1" rot="5400000">
            <a:off x="4968000" y="4472640"/>
            <a:ext cx="1033560" cy="19116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1" name=""/>
          <p:cNvCxnSpPr>
            <a:stCxn id="205" idx="0"/>
            <a:endCxn id="209" idx="2"/>
          </p:cNvCxnSpPr>
          <p:nvPr/>
        </p:nvCxnSpPr>
        <p:spPr>
          <a:xfrm flipV="1" rot="16200000">
            <a:off x="5709240" y="3921480"/>
            <a:ext cx="1033560" cy="12931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cxnSp>
        <p:nvCxnSpPr>
          <p:cNvPr id="212" name=""/>
          <p:cNvCxnSpPr>
            <a:stCxn id="203" idx="2"/>
            <a:endCxn id="209" idx="0"/>
          </p:cNvCxnSpPr>
          <p:nvPr/>
        </p:nvCxnSpPr>
        <p:spPr>
          <a:xfrm>
            <a:off x="5570640" y="2820600"/>
            <a:ext cx="10080" cy="6087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6" idx="0"/>
            <a:endCxn id="209" idx="2"/>
          </p:cNvCxnSpPr>
          <p:nvPr/>
        </p:nvCxnSpPr>
        <p:spPr>
          <a:xfrm flipV="1" rot="16200000">
            <a:off x="6434640" y="3196080"/>
            <a:ext cx="1033560" cy="2743920"/>
          </a:xfrm>
          <a:prstGeom prst="bentConnector3">
            <a:avLst>
              <a:gd name="adj1" fmla="val 49930"/>
            </a:avLst>
          </a:prstGeom>
          <a:ln w="12600">
            <a:solidFill>
              <a:srgbClr val="000000"/>
            </a:solidFill>
            <a:prstDash val="dash"/>
            <a:miter/>
          </a:ln>
        </p:spPr>
      </p:cxnSp>
      <p:sp>
        <p:nvSpPr>
          <p:cNvPr id="214" name=""/>
          <p:cNvSpPr/>
          <p:nvPr/>
        </p:nvSpPr>
        <p:spPr>
          <a:xfrm>
            <a:off x="7245360" y="1628640"/>
            <a:ext cx="15350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45360" y="3068640"/>
            <a:ext cx="1535040" cy="530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ominating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45360" y="2279520"/>
            <a:ext cx="153504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Program / Polic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1"/>
            <a:endCxn id="203" idx="3"/>
          </p:cNvCxnSpPr>
          <p:nvPr/>
        </p:nvCxnSpPr>
        <p:spPr>
          <a:xfrm flipV="1" rot="10800000">
            <a:off x="6712920" y="1881360"/>
            <a:ext cx="532440" cy="72252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16" idx="1"/>
            <a:endCxn id="203" idx="3"/>
          </p:cNvCxnSpPr>
          <p:nvPr/>
        </p:nvCxnSpPr>
        <p:spPr>
          <a:xfrm rot="10800000">
            <a:off x="6712920" y="2602800"/>
            <a:ext cx="532440" cy="10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1"/>
            <a:endCxn id="203" idx="3"/>
          </p:cNvCxnSpPr>
          <p:nvPr/>
        </p:nvCxnSpPr>
        <p:spPr>
          <a:xfrm rot="10800000">
            <a:off x="6712920" y="2602800"/>
            <a:ext cx="532440" cy="730800"/>
          </a:xfrm>
          <a:prstGeom prst="bentConnector3">
            <a:avLst>
              <a:gd name="adj1" fmla="val 4979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4427640" y="3429000"/>
            <a:ext cx="2305080" cy="622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Tahoma"/>
              </a:rPr>
              <a:t>GHWA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 hidden="1"/>
          <p:cNvSpPr/>
          <p:nvPr/>
        </p:nvSpPr>
        <p:spPr>
          <a:xfrm>
            <a:off x="0" y="0"/>
            <a:ext cx="1620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5280" y="5084640"/>
            <a:ext cx="122400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8436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581360"/>
            <a:ext cx="741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00000" y="465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084640"/>
            <a:ext cx="1431720" cy="6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iv.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HIV tre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2000" y="4653000"/>
            <a:ext cx="662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s </a:t>
            </a:r>
            <a:r>
              <a:rPr b="1" i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 Task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695aa"/>
                </a:solidFill>
                <a:latin typeface="Arial"/>
              </a:rPr>
              <a:t>Scale-up framework</a:t>
            </a:r>
            <a:endParaRPr b="0" lang="en-US" sz="29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14560" y="1411920"/>
            <a:ext cx="37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SimSun"/>
              </a:rPr>
              <a:t>GOAL: HEALTH OUTCOM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61440" y="184464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DICATOR: MD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 rot="10800000">
            <a:off x="2556000" y="2203560"/>
            <a:ext cx="41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BASIC PACKAGE OF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2923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KILL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3572280"/>
            <a:ext cx="92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"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LOSE-TO-CLIENT HEALTH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Defined within country context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07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432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Existing capacity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new capa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42800" y="4869000"/>
          <a:ext cx="8291520" cy="1992240"/>
        </p:xfrm>
        <a:graphic>
          <a:graphicData uri="http://schemas.openxmlformats.org/drawingml/2006/table">
            <a:tbl>
              <a:tblPr/>
              <a:tblGrid>
                <a:gridCol w="2764080"/>
                <a:gridCol w="2763720"/>
                <a:gridCol w="276372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ECHNIC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LITIC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INANC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stitut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frastructu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nnec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Supportive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adershi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Commit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Legisl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oli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Resourc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Incentiv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 Partnershi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 flipV="1">
            <a:off x="457200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5292360" y="422100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4869000"/>
            <a:ext cx="64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80000" y="422100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43280" y="42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illars of Country HRH Program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lti-sector Country Ac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alth Sector Strategic Plan (Multi-s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rehensive HRH Plan in line with HS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RH Observatory with Annual Reporting 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, Regional, global, links/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 for Health and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732720" y="2781360"/>
            <a:ext cx="1496880" cy="1079280"/>
          </a:xfrm>
          <a:custGeom>
            <a:avLst/>
            <a:gdLst>
              <a:gd name="textAreaLeft" fmla="*/ 0 w 1496880"/>
              <a:gd name="textAreaRight" fmla="*/ 1497240 w 14968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c03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TRONGER </a:t>
            </a:r>
            <a:br>
              <a:rPr sz="1600"/>
            </a:b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Franklin Gothic Medium"/>
              </a:rPr>
              <a:t>S</a:t>
            </a:r>
            <a:r>
              <a:rPr b="1" lang="en-GB" sz="1600" spc="-1" strike="noStrike">
                <a:solidFill>
                  <a:srgbClr val="000000"/>
                </a:solidFill>
                <a:latin typeface="Franklin Gothic Medium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9760" y="2708280"/>
            <a:ext cx="2082960" cy="119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Adequate / avail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Compet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Motiv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cc"/>
                </a:solidFill>
                <a:latin typeface="Arial Narrow"/>
              </a:rPr>
              <a:t>Suppor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79280" y="2276640"/>
            <a:ext cx="1512720" cy="2086920"/>
            <a:chOff x="179280" y="2276640"/>
            <a:chExt cx="1512720" cy="2086920"/>
          </a:xfrm>
        </p:grpSpPr>
        <p:sp>
          <p:nvSpPr>
            <p:cNvPr id="249" name=""/>
            <p:cNvSpPr/>
            <p:nvPr/>
          </p:nvSpPr>
          <p:spPr>
            <a:xfrm>
              <a:off x="179280" y="2276640"/>
              <a:ext cx="1512720" cy="208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Visi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Evid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Politi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9880" y="2519280"/>
              <a:ext cx="125532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643280" y="23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H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EALTH</a:t>
            </a:r>
            <a:r>
              <a:rPr b="1" lang="en-GB" sz="1800" spc="-1" strike="noStrike">
                <a:solidFill>
                  <a:srgbClr val="0000cc"/>
                </a:solidFill>
                <a:latin typeface="Franklin Gothic Medium"/>
              </a:rPr>
              <a:t> W</a:t>
            </a:r>
            <a:r>
              <a:rPr b="1" lang="en-GB" sz="1600" spc="-1" strike="noStrike">
                <a:solidFill>
                  <a:srgbClr val="0000cc"/>
                </a:solidFill>
                <a:latin typeface="Franklin Gothic Medium"/>
              </a:rPr>
              <a:t>ORK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7006680" y="3015360"/>
            <a:ext cx="30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3b00"/>
                </a:solidFill>
                <a:latin typeface="Arial"/>
              </a:rPr>
              <a:t>Better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919880" y="2208240"/>
            <a:ext cx="2597400" cy="1769400"/>
            <a:chOff x="1919880" y="2208240"/>
            <a:chExt cx="2597400" cy="1769400"/>
          </a:xfrm>
        </p:grpSpPr>
        <p:sp>
          <p:nvSpPr>
            <p:cNvPr id="254" name=""/>
            <p:cNvSpPr/>
            <p:nvPr/>
          </p:nvSpPr>
          <p:spPr>
            <a:xfrm>
              <a:off x="1919880" y="2587680"/>
              <a:ext cx="2597400" cy="138996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Leadership / manage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Education &amp; traini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cruitment  / deploymen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Incentives / reten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66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6699"/>
                  </a:solidFill>
                  <a:latin typeface="Arial Narrow"/>
                </a:rPr>
                <a:t>Regional sup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240" y="2208240"/>
              <a:ext cx="205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C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OUNTRY</a:t>
              </a:r>
              <a:r>
                <a:rPr b="1" lang="en-GB" sz="1800" spc="-1" strike="noStrike">
                  <a:solidFill>
                    <a:srgbClr val="a20000"/>
                  </a:solidFill>
                  <a:latin typeface="Franklin Gothic Medium"/>
                </a:rPr>
                <a:t> A</a:t>
              </a:r>
              <a:r>
                <a:rPr b="1" lang="en-GB" sz="1600" spc="-1" strike="noStrike">
                  <a:solidFill>
                    <a:srgbClr val="a20000"/>
                  </a:solidFill>
                  <a:latin typeface="Franklin Gothic Medium"/>
                </a:rPr>
                <a:t>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 flipV="1">
            <a:off x="2340000" y="3933360"/>
            <a:ext cx="0" cy="86220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1928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40000" y="1773360"/>
            <a:ext cx="0" cy="86364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781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808080"/>
                </a:solidFill>
                <a:uFillTx/>
                <a:latin typeface="Franklin Gothic Medium"/>
              </a:rPr>
              <a:t>ADVOC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  <p:grpSp>
        <p:nvGrpSpPr>
          <p:cNvPr id="261" name=""/>
          <p:cNvGrpSpPr/>
          <p:nvPr/>
        </p:nvGrpSpPr>
        <p:grpSpPr>
          <a:xfrm>
            <a:off x="1979640" y="476280"/>
            <a:ext cx="3168000" cy="1726920"/>
            <a:chOff x="1979640" y="476280"/>
            <a:chExt cx="3168000" cy="1726920"/>
          </a:xfrm>
        </p:grpSpPr>
        <p:sp>
          <p:nvSpPr>
            <p:cNvPr id="262" name=""/>
            <p:cNvSpPr/>
            <p:nvPr/>
          </p:nvSpPr>
          <p:spPr>
            <a:xfrm>
              <a:off x="1979640" y="476280"/>
              <a:ext cx="3168000" cy="172692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Fiscal 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Mig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lign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74280" y="57600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ADDRESSING </a:t>
              </a:r>
              <a:br>
                <a:rPr sz="1800"/>
              </a:br>
              <a:r>
                <a:rPr b="1" lang="en-GB" sz="1800" spc="-1" strike="noStrike" u="sng">
                  <a:solidFill>
                    <a:srgbClr val="74727c"/>
                  </a:solidFill>
                  <a:uFillTx/>
                  <a:latin typeface="Franklin Gothic Medium"/>
                </a:rPr>
                <a:t>GLOBAL ISS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427640" y="3357720"/>
            <a:ext cx="360360" cy="0"/>
          </a:xfrm>
          <a:prstGeom prst="line">
            <a:avLst/>
          </a:prstGeom>
          <a:ln w="76320">
            <a:solidFill>
              <a:srgbClr val="c03b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050920" y="4221000"/>
            <a:ext cx="3384000" cy="1871640"/>
            <a:chOff x="2050920" y="4221000"/>
            <a:chExt cx="3384000" cy="1871640"/>
          </a:xfrm>
        </p:grpSpPr>
        <p:sp>
          <p:nvSpPr>
            <p:cNvPr id="266" name=""/>
            <p:cNvSpPr/>
            <p:nvPr/>
          </p:nvSpPr>
          <p:spPr>
            <a:xfrm>
              <a:off x="2050920" y="4221000"/>
              <a:ext cx="3384000" cy="1871640"/>
            </a:xfrm>
            <a:prstGeom prst="ellipse">
              <a:avLst/>
            </a:prstGeom>
            <a:noFill/>
            <a:ln w="28440">
              <a:solidFill>
                <a:srgbClr val="856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Observatories: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national, regional, glob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Rese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Gill Sans M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Gill Sans MT"/>
                </a:rPr>
                <a:t>Sharing &amp;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82960" y="428076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 u="sng">
                  <a:solidFill>
                    <a:srgbClr val="808080"/>
                  </a:solidFill>
                  <a:uFillTx/>
                  <a:latin typeface="Franklin Gothic Medium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364000" y="189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trategy &amp;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95aa"/>
                </a:solidFill>
                <a:latin typeface="Arial"/>
              </a:rPr>
              <a:t>Deliverables: Ten year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strategies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numbers of superior perfo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awareness an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ce and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r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est to plan and imple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community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kling key global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political vi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ocacy and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al point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ction Plan (Roadm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Mov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World now moving: IHP, GBP, PFH,  AU, Asia, PEPF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lobal Forum 2 -7 March 2008,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Political and Economic Background of </a:t>
            </a:r>
            <a:br>
              <a:rPr sz="2800"/>
            </a:b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Alignment and Harmonisation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st pre and post independence h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, weakened governance,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money, dependence on donors: addressing visible problems for accountability to vo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struments key to vertical interventions: need to demonstrate results for f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y forwa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chored in strong country leadership i.e. comprehensive country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onor pe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Demonst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Health System Components</a:t>
            </a:r>
            <a:endParaRPr b="0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ies, Leadership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: equipment, buildings,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692960"/>
            <a:ext cx="5148360" cy="785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ousehold &amp;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4002480"/>
            <a:ext cx="4465440" cy="7855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ub-distri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3281760"/>
            <a:ext cx="3816360" cy="7855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istrict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495880"/>
            <a:ext cx="2449440" cy="7855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921240"/>
            <a:ext cx="2014560" cy="162000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fer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3600000">
            <a:off x="1408680" y="2453400"/>
            <a:ext cx="54608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7200000">
            <a:off x="-1900440" y="2566800"/>
            <a:ext cx="5359320" cy="11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695aa"/>
                </a:solidFill>
                <a:latin typeface="Arial"/>
              </a:rPr>
              <a:t>Heath System Pyramid</a:t>
            </a:r>
            <a:endParaRPr b="0" lang="en-US" sz="36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64000" y="1052280"/>
            <a:ext cx="332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-special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52720" y="191628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5200" y="4149720"/>
            <a:ext cx="1487520" cy="504720"/>
          </a:xfrm>
          <a:prstGeom prst="leftArrow">
            <a:avLst>
              <a:gd name="adj1" fmla="val 50000"/>
              <a:gd name="adj2" fmla="val 73680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17800" y="4941720"/>
            <a:ext cx="1474920" cy="505080"/>
          </a:xfrm>
          <a:prstGeom prst="leftArrow">
            <a:avLst>
              <a:gd name="adj1" fmla="val 50000"/>
              <a:gd name="adj2" fmla="val 73004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72200" y="4129200"/>
            <a:ext cx="417600" cy="1292040"/>
          </a:xfrm>
          <a:custGeom>
            <a:avLst/>
            <a:gdLst>
              <a:gd name="textAreaLeft" fmla="*/ 0 w 417600"/>
              <a:gd name="textAreaRight" fmla="*/ 150840 w 417600"/>
              <a:gd name="textAreaTop" fmla="*/ 33480 h 1292040"/>
              <a:gd name="textAreaBottom" fmla="*/ 1258560 h 129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35440" y="3014640"/>
            <a:ext cx="1440000" cy="504720"/>
          </a:xfrm>
          <a:prstGeom prst="leftArrow">
            <a:avLst>
              <a:gd name="adj1" fmla="val 50000"/>
              <a:gd name="adj2" fmla="val 71327"/>
            </a:avLst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5000" y="3940200"/>
            <a:ext cx="49680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45400" y="3898800"/>
            <a:ext cx="7254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84720" y="2565360"/>
            <a:ext cx="417240" cy="1467000"/>
          </a:xfrm>
          <a:custGeom>
            <a:avLst/>
            <a:gdLst>
              <a:gd name="textAreaLeft" fmla="*/ 0 w 417240"/>
              <a:gd name="textAreaRight" fmla="*/ 150480 w 417240"/>
              <a:gd name="textAreaTop" fmla="*/ 38160 h 1467000"/>
              <a:gd name="textAreaBottom" fmla="*/ 1428840 h 14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475040" y="3792600"/>
            <a:ext cx="60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695aa"/>
                </a:solidFill>
                <a:latin typeface="Arial"/>
              </a:rPr>
              <a:t>Common Interventions Across GHIs</a:t>
            </a:r>
            <a:endParaRPr b="0" lang="en-US" sz="32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vocacy for healt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nacceptable disease bu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Reject “God has called him/her” “His/her day has come” Treat as societal and health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ource mobilis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rguments for increased resources and the exceptionality case for health, fiscal space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“Dying for economic growth” is there no middle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lerable inequa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Globalized world replete with wealth, knowledg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Power of civil society, NGOs, politics: better working conditions, stronger health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338280" y="2114640"/>
            <a:ext cx="483372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o ensure access to a motivated, skilled &amp; supported health worker by every person, in every village, everywhere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9640" y="1101600"/>
            <a:ext cx="2676600" cy="26766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5076720" y="4005360"/>
            <a:ext cx="263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r LEE Jong-wook, 1945-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WHO Director-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 : Context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s living longer in developed countries, demanding extended care for pain free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ease burden in low income countries especially SSA 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Shortage estimated 4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history of neglect: complexity, wrong policies, professionalism in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Health Ministers outcry at three consecutiv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conomic Collapse in Sub-Sahara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equalities in the midst of plenty: wealth, knowledge, technology in a connected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15680" y="3752640"/>
            <a:ext cx="4092840" cy="546120"/>
          </a:xfrm>
          <a:prstGeom prst="rect">
            <a:avLst/>
          </a:prstGeom>
          <a:solidFill>
            <a:srgbClr val="c9e8ed">
              <a:alpha val="35000"/>
            </a:srgbClr>
          </a:solidFill>
          <a:ln w="0">
            <a:noFill/>
          </a:ln>
        </p:spPr>
        <p:txBody>
          <a:bodyPr lIns="90000" rIns="90000" tIns="90000" bIns="900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11116" r="0" b="4293"/>
          <a:stretch/>
        </p:blipFill>
        <p:spPr>
          <a:xfrm>
            <a:off x="0" y="138420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ahoma"/>
              </a:rPr>
              <a:t>57</a:t>
            </a:r>
            <a:r>
              <a:rPr b="0" lang="en-GB" sz="3600" spc="-1" strike="noStrike">
                <a:solidFill>
                  <a:srgbClr val="009999"/>
                </a:solidFill>
                <a:latin typeface="Tahoma"/>
              </a:rPr>
              <a:t> critical shortage countries </a:t>
            </a:r>
            <a:r>
              <a:rPr b="1" lang="en-GB" sz="2000" spc="-1" strike="noStrike">
                <a:solidFill>
                  <a:srgbClr val="009999"/>
                </a:solidFill>
                <a:latin typeface="Arial Narrow"/>
              </a:rPr>
              <a:t>(doctors, nurses, midw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urce: World Health Repor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Changes in life expectancy in selected African countries </a:t>
            </a:r>
            <a:br>
              <a:rPr sz="1500"/>
            </a:br>
            <a:r>
              <a:rPr b="0" lang="en-GB" sz="1500" spc="-1" strike="noStrike">
                <a:solidFill>
                  <a:srgbClr val="0695aa"/>
                </a:solidFill>
                <a:latin typeface="Arial"/>
              </a:rPr>
              <a:t>with high and low HIV prevalence: 1950 - 2005</a:t>
            </a:r>
            <a:endParaRPr b="0" lang="en-US" sz="15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21560" y="2286000"/>
            <a:ext cx="186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high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25960" y="2583000"/>
            <a:ext cx="181080" cy="144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63840" y="2508120"/>
            <a:ext cx="7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99"/>
                </a:solidFill>
                <a:latin typeface="Arial"/>
              </a:rPr>
              <a:t>Zimbab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25960" y="2805120"/>
            <a:ext cx="181080" cy="1440"/>
          </a:xfrm>
          <a:prstGeom prst="line">
            <a:avLst/>
          </a:prstGeom>
          <a:ln cap="rnd" w="381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55200" y="2730600"/>
            <a:ext cx="90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00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25960" y="3029040"/>
            <a:ext cx="181080" cy="144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64920" y="295416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66ff"/>
                </a:solidFill>
                <a:latin typeface="Arial"/>
              </a:rPr>
              <a:t>Bots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25160" y="3919680"/>
            <a:ext cx="179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with low HIV prevale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08680" y="4216320"/>
            <a:ext cx="182520" cy="180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3760" y="414180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99cc"/>
                </a:solidFill>
                <a:latin typeface="Arial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25960" y="4363920"/>
            <a:ext cx="749880" cy="182880"/>
            <a:chOff x="5925960" y="4363920"/>
            <a:chExt cx="749880" cy="182880"/>
          </a:xfrm>
        </p:grpSpPr>
        <p:sp>
          <p:nvSpPr>
            <p:cNvPr id="107" name=""/>
            <p:cNvSpPr/>
            <p:nvPr/>
          </p:nvSpPr>
          <p:spPr>
            <a:xfrm>
              <a:off x="5925960" y="4437720"/>
              <a:ext cx="18144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8320" y="43639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99"/>
                  </a:solidFill>
                  <a:latin typeface="Arial"/>
                </a:rPr>
                <a:t>Seneg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925960" y="4660920"/>
            <a:ext cx="181080" cy="14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22880" y="4587840"/>
            <a:ext cx="30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ccff"/>
                </a:solidFill>
                <a:latin typeface="Arial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" y="6021360"/>
            <a:ext cx="4833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UN Department of Economic and Social Affairs (200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World Population Prospects, the 2000 Revis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966960" y="3938040"/>
            <a:ext cx="365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68480" y="5217840"/>
            <a:ext cx="4654080" cy="502920"/>
            <a:chOff x="1068480" y="5217840"/>
            <a:chExt cx="4654080" cy="502920"/>
          </a:xfrm>
        </p:grpSpPr>
        <p:sp>
          <p:nvSpPr>
            <p:cNvPr id="114" name=""/>
            <p:cNvSpPr/>
            <p:nvPr/>
          </p:nvSpPr>
          <p:spPr>
            <a:xfrm flipV="1">
              <a:off x="1068480" y="5217840"/>
              <a:ext cx="144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4943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148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10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586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18456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6050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312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44888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87512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295240" y="5217840"/>
              <a:ext cx="108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20040" y="5217840"/>
              <a:ext cx="2520" cy="50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72960" y="1752480"/>
            <a:ext cx="5348160" cy="3577320"/>
            <a:chOff x="372960" y="1752480"/>
            <a:chExt cx="5348160" cy="3577320"/>
          </a:xfrm>
        </p:grpSpPr>
        <p:sp>
          <p:nvSpPr>
            <p:cNvPr id="127" name=""/>
            <p:cNvSpPr/>
            <p:nvPr/>
          </p:nvSpPr>
          <p:spPr>
            <a:xfrm>
              <a:off x="1068480" y="4731120"/>
              <a:ext cx="4652640" cy="36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8480" y="424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68480" y="3771360"/>
              <a:ext cx="4652640" cy="144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8480" y="328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480" y="280692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8480" y="231948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1843200"/>
              <a:ext cx="4652640" cy="1800"/>
            </a:xfrm>
            <a:prstGeom prst="line">
              <a:avLst/>
            </a:prstGeom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480" y="1843200"/>
              <a:ext cx="1440" cy="336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977760" y="5208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977760" y="4731120"/>
              <a:ext cx="88920" cy="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977760" y="424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977760" y="3771360"/>
              <a:ext cx="88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977760" y="328284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977760" y="280656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977760" y="2319120"/>
              <a:ext cx="889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977040" y="1842840"/>
              <a:ext cx="88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68480" y="5209200"/>
              <a:ext cx="4652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8720" y="2382120"/>
              <a:ext cx="4233240" cy="1587960"/>
            </a:xfrm>
            <a:custGeom>
              <a:avLst/>
              <a:gdLst/>
              <a:ahLst/>
              <a:rect l="l" t="t" r="r" b="b"/>
              <a:pathLst>
                <a:path w="546" h="150">
                  <a:moveTo>
                    <a:pt x="0" y="109"/>
                  </a:moveTo>
                  <a:lnTo>
                    <a:pt x="55" y="89"/>
                  </a:lnTo>
                  <a:lnTo>
                    <a:pt x="109" y="70"/>
                  </a:lnTo>
                  <a:lnTo>
                    <a:pt x="164" y="50"/>
                  </a:lnTo>
                  <a:lnTo>
                    <a:pt x="218" y="31"/>
                  </a:lnTo>
                  <a:lnTo>
                    <a:pt x="273" y="13"/>
                  </a:lnTo>
                  <a:lnTo>
                    <a:pt x="328" y="0"/>
                  </a:lnTo>
                  <a:lnTo>
                    <a:pt x="382" y="18"/>
                  </a:lnTo>
                  <a:lnTo>
                    <a:pt x="437" y="94"/>
                  </a:lnTo>
                  <a:lnTo>
                    <a:pt x="491" y="150"/>
                  </a:lnTo>
                  <a:lnTo>
                    <a:pt x="546" y="150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8720" y="2945520"/>
              <a:ext cx="4233240" cy="1616400"/>
            </a:xfrm>
            <a:custGeom>
              <a:avLst/>
              <a:gdLst/>
              <a:ahLst/>
              <a:rect l="l" t="t" r="r" b="b"/>
              <a:pathLst>
                <a:path w="546" h="153">
                  <a:moveTo>
                    <a:pt x="0" y="153"/>
                  </a:moveTo>
                  <a:lnTo>
                    <a:pt x="55" y="133"/>
                  </a:lnTo>
                  <a:lnTo>
                    <a:pt x="109" y="115"/>
                  </a:lnTo>
                  <a:lnTo>
                    <a:pt x="164" y="97"/>
                  </a:lnTo>
                  <a:lnTo>
                    <a:pt x="218" y="79"/>
                  </a:lnTo>
                  <a:lnTo>
                    <a:pt x="273" y="60"/>
                  </a:lnTo>
                  <a:lnTo>
                    <a:pt x="328" y="50"/>
                  </a:lnTo>
                  <a:lnTo>
                    <a:pt x="382" y="49"/>
                  </a:lnTo>
                  <a:lnTo>
                    <a:pt x="437" y="34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78720" y="2298600"/>
              <a:ext cx="4233240" cy="1472400"/>
            </a:xfrm>
            <a:custGeom>
              <a:avLst/>
              <a:gdLst/>
              <a:ahLst/>
              <a:rect l="l" t="t" r="r" b="b"/>
              <a:pathLst>
                <a:path w="546" h="139">
                  <a:moveTo>
                    <a:pt x="0" y="139"/>
                  </a:moveTo>
                  <a:lnTo>
                    <a:pt x="55" y="111"/>
                  </a:lnTo>
                  <a:lnTo>
                    <a:pt x="109" y="93"/>
                  </a:lnTo>
                  <a:lnTo>
                    <a:pt x="164" y="76"/>
                  </a:lnTo>
                  <a:lnTo>
                    <a:pt x="218" y="60"/>
                  </a:lnTo>
                  <a:lnTo>
                    <a:pt x="273" y="47"/>
                  </a:lnTo>
                  <a:lnTo>
                    <a:pt x="328" y="34"/>
                  </a:lnTo>
                  <a:lnTo>
                    <a:pt x="382" y="18"/>
                  </a:lnTo>
                  <a:lnTo>
                    <a:pt x="437" y="0"/>
                  </a:lnTo>
                  <a:lnTo>
                    <a:pt x="491" y="32"/>
                  </a:lnTo>
                  <a:lnTo>
                    <a:pt x="546" y="117"/>
                  </a:lnTo>
                </a:path>
              </a:pathLst>
            </a:custGeom>
            <a:noFill/>
            <a:ln cap="rnd" w="50760">
              <a:solidFill>
                <a:srgbClr val="99cc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8720" y="287136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53"/>
                  </a:lnTo>
                  <a:lnTo>
                    <a:pt x="109" y="146"/>
                  </a:lnTo>
                  <a:lnTo>
                    <a:pt x="164" y="134"/>
                  </a:lnTo>
                  <a:lnTo>
                    <a:pt x="218" y="114"/>
                  </a:lnTo>
                  <a:lnTo>
                    <a:pt x="273" y="93"/>
                  </a:lnTo>
                  <a:lnTo>
                    <a:pt x="328" y="73"/>
                  </a:lnTo>
                  <a:lnTo>
                    <a:pt x="382" y="55"/>
                  </a:lnTo>
                  <a:lnTo>
                    <a:pt x="437" y="36"/>
                  </a:lnTo>
                  <a:lnTo>
                    <a:pt x="491" y="18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8720" y="2099520"/>
              <a:ext cx="4233240" cy="2526840"/>
            </a:xfrm>
            <a:custGeom>
              <a:avLst/>
              <a:gdLst/>
              <a:ahLst/>
              <a:rect l="l" t="t" r="r" b="b"/>
              <a:pathLst>
                <a:path w="546" h="239">
                  <a:moveTo>
                    <a:pt x="0" y="180"/>
                  </a:moveTo>
                  <a:lnTo>
                    <a:pt x="55" y="153"/>
                  </a:lnTo>
                  <a:lnTo>
                    <a:pt x="109" y="135"/>
                  </a:lnTo>
                  <a:lnTo>
                    <a:pt x="164" y="111"/>
                  </a:lnTo>
                  <a:lnTo>
                    <a:pt x="218" y="83"/>
                  </a:lnTo>
                  <a:lnTo>
                    <a:pt x="273" y="54"/>
                  </a:lnTo>
                  <a:lnTo>
                    <a:pt x="328" y="25"/>
                  </a:lnTo>
                  <a:lnTo>
                    <a:pt x="382" y="0"/>
                  </a:lnTo>
                  <a:lnTo>
                    <a:pt x="437" y="20"/>
                  </a:lnTo>
                  <a:lnTo>
                    <a:pt x="491" y="163"/>
                  </a:lnTo>
                  <a:lnTo>
                    <a:pt x="546" y="239"/>
                  </a:lnTo>
                </a:path>
              </a:pathLst>
            </a:custGeom>
            <a:noFill/>
            <a:ln cap="rnd" w="50760">
              <a:solidFill>
                <a:srgbClr val="3366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78720" y="3082320"/>
              <a:ext cx="4233240" cy="1713240"/>
            </a:xfrm>
            <a:custGeom>
              <a:avLst/>
              <a:gdLst/>
              <a:ahLst/>
              <a:rect l="l" t="t" r="r" b="b"/>
              <a:pathLst>
                <a:path w="546" h="162">
                  <a:moveTo>
                    <a:pt x="0" y="162"/>
                  </a:moveTo>
                  <a:lnTo>
                    <a:pt x="55" y="144"/>
                  </a:lnTo>
                  <a:lnTo>
                    <a:pt x="109" y="126"/>
                  </a:lnTo>
                  <a:lnTo>
                    <a:pt x="164" y="103"/>
                  </a:lnTo>
                  <a:lnTo>
                    <a:pt x="218" y="84"/>
                  </a:lnTo>
                  <a:lnTo>
                    <a:pt x="273" y="66"/>
                  </a:lnTo>
                  <a:lnTo>
                    <a:pt x="328" y="55"/>
                  </a:lnTo>
                  <a:lnTo>
                    <a:pt x="382" y="37"/>
                  </a:lnTo>
                  <a:lnTo>
                    <a:pt x="437" y="26"/>
                  </a:lnTo>
                  <a:lnTo>
                    <a:pt x="491" y="11"/>
                  </a:lnTo>
                  <a:lnTo>
                    <a:pt x="546" y="0"/>
                  </a:lnTo>
                </a:path>
              </a:pathLst>
            </a:custGeom>
            <a:noFill/>
            <a:ln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9840" y="5116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99840" y="46400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840" y="4152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9840" y="367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840" y="3190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840" y="27122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9840" y="22266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8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-506520" y="3642840"/>
              <a:ext cx="1972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ife expectancy (year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5960" y="5294160"/>
            <a:ext cx="470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0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720" y="5294160"/>
            <a:ext cx="435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55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414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6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622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8780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7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1404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236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8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53085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99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3880" y="5294160"/>
            <a:ext cx="392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0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583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449360" y="1461960"/>
            <a:ext cx="5667480" cy="3934080"/>
            <a:chOff x="1449360" y="1461960"/>
            <a:chExt cx="5667480" cy="3934080"/>
          </a:xfrm>
        </p:grpSpPr>
        <p:sp>
          <p:nvSpPr>
            <p:cNvPr id="173" name=""/>
            <p:cNvSpPr txBox="1"/>
            <p:nvPr/>
          </p:nvSpPr>
          <p:spPr>
            <a:xfrm>
              <a:off x="1449360" y="1461960"/>
              <a:ext cx="5667480" cy="393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87280" y="1709640"/>
          <a:ext cx="3383280" cy="27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9640"/>
                    <a:ext cx="3383280" cy="27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2806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64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773360"/>
          <a:ext cx="6696360" cy="3384360"/>
        </p:xfrm>
        <a:graphic>
          <a:graphicData uri="http://schemas.openxmlformats.org/drawingml/2006/table">
            <a:tbl>
              <a:tblPr/>
              <a:tblGrid>
                <a:gridCol w="3240360"/>
                <a:gridCol w="34560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0" y="166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7640" y="1920960"/>
          <a:ext cx="3600360" cy="26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920960"/>
                    <a:ext cx="3600360" cy="26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26920" y="8251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he overwhelming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792920" y="6589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1916280"/>
            <a:ext cx="2952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global diseas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916280"/>
            <a:ext cx="3168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frica's sha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world's health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843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Things may get worse in the future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and for care in industrialised world will continue to grow; even if demand per person were constant, demographic changes – ageing - would demand more H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ions show that if the industrialised world wants to maintain present levels of care, this will require an extra 8.5M health workers by 2025: an increase of 2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Europe has problem with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increased demand, increases in HRH requirements will impact global labou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95aa"/>
                </a:solidFill>
                <a:latin typeface="Arial"/>
              </a:rPr>
              <a:t>1.3 Comprehensive Development Framework, “Vision  202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verty Eradication Action Plan (PEAP/PRS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work for Economic Growth and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roeconom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al of constraints to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table and efficient collection and use of public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ing Good Governance and Security: effective and functioning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ing public servic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corruption, promoting transparency and par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law and order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6165720"/>
            <a:ext cx="470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ctor-Wide Approaches, Uganda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796000" y="6021360"/>
          <a:ext cx="885960" cy="68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6021360"/>
                    <a:ext cx="8859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093080" y="6111720"/>
            <a:ext cx="2050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95aa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ship and Management capacity for Health Services (centre and distri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man resources – recruitment, retention and de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of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rated Health System Delivery of Minimum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sectoral collabor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 partnership and tru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 Paris Declaration on Aid Effective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ing level of commitment and mutual respec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w  health sector public resource envel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ro-economics and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695aa"/>
                </a:solidFill>
                <a:latin typeface="Arial"/>
              </a:rPr>
              <a:t>Global Health Workforce Crisis: Milestones</a:t>
            </a:r>
            <a:endParaRPr b="0" lang="en-US" sz="2400" spc="-1" strike="noStrike">
              <a:solidFill>
                <a:srgbClr val="0695a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Joint Learning Initiative 2002 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nual Commonwealth Health Ministers 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Ministers at three World Health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ld Health Report 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 Level Forum on Health MD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lo 1, Oslo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695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 Health Workforce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6:30:22Z</dcterms:created>
  <dc:creator>fouquet</dc:creator>
  <dc:description/>
  <dc:language>en-US</dc:language>
  <cp:lastModifiedBy> </cp:lastModifiedBy>
  <dcterms:modified xsi:type="dcterms:W3CDTF">2007-10-23T10:39:24Z</dcterms:modified>
  <cp:revision>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54523036</vt:r8>
  </property>
  <property fmtid="{D5CDD505-2E9C-101B-9397-08002B2CF9AE}" pid="3" name="_AuthorEmail">
    <vt:lpwstr>FouquetP@who.int</vt:lpwstr>
  </property>
  <property fmtid="{D5CDD505-2E9C-101B-9397-08002B2CF9AE}" pid="4" name="_AuthorEmailDisplayName">
    <vt:lpwstr>Fouquet, Pierre Benjamin</vt:lpwstr>
  </property>
  <property fmtid="{D5CDD505-2E9C-101B-9397-08002B2CF9AE}" pid="5" name="_EmailSubject">
    <vt:lpwstr>STB_berlin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