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8F87-32C8-4234-BFFE-8531F6505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9CDE-AF08-4081-AC50-FBED716D9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C9E0-2E45-4EE9-AA2E-3ABFB0BC3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633B-3690-47B7-8EB0-602011559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7FB6-0620-43AD-BE09-AF02D6487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F1E7-A958-4613-AD7D-7E1D3BE6C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DCE4-E65F-4D9D-8B19-B6429950C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89F5-AFF2-43F7-96A5-6DC6BB63A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848B-6656-4D37-8A32-DD0092052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E908-E62A-45DD-8443-06E973ED9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41E8-64D4-4601-B5E6-F95F1BB5C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C245-70BA-4278-A926-56E7D0478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4E751-B01E-439A-B0F7-FF3917C576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5962680" y="6005520"/>
            <a:ext cx="3181320" cy="8524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774720" y="1403280"/>
            <a:ext cx="7488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27320" y="3511440"/>
            <a:ext cx="6916680" cy="3346560"/>
          </a:xfrm>
          <a:prstGeom prst="rect">
            <a:avLst/>
          </a:prstGeom>
          <a:noFill/>
          <a:ln w="255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                                          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Stop TB Partner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Coordinating 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24 October 2007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Berlin, Germ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Paul Sommerf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Chair, ACSM Working Grou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71600" y="8269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ACSM Working Group</a:t>
            </a: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Biennium Workplan</a:t>
            </a:r>
            <a:br>
              <a:rPr sz="3600"/>
            </a:br>
            <a:br>
              <a:rPr sz="3600"/>
            </a:br>
            <a:r>
              <a:rPr b="1" i="1" lang="en-GB" sz="3600" spc="-1" strike="noStrike">
                <a:solidFill>
                  <a:srgbClr val="000000"/>
                </a:solidFill>
                <a:latin typeface="Arial"/>
              </a:rPr>
              <a:t>Strategic Action to Stop TB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rcRect l="24379" t="0" r="32732" b="0"/>
          <a:stretch/>
        </p:blipFill>
        <p:spPr>
          <a:xfrm>
            <a:off x="228600" y="887400"/>
            <a:ext cx="2754360" cy="4226040"/>
          </a:xfrm>
          <a:prstGeom prst="rect">
            <a:avLst/>
          </a:prstGeom>
          <a:ln w="57240">
            <a:solidFill>
              <a:srgbClr val="66ff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000000"/>
                </a:solidFill>
                <a:latin typeface="Arial"/>
              </a:rPr>
              <a:t>Strategic Framewor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evelop Opportunities for More Re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ngage Civil Society; Promote Collab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romote ACSM Approaches in TB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upport other Partnership Working Groups and Initiat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66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Develop Opportuniti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19280"/>
            <a:ext cx="77724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28560" y="1562040"/>
            <a:ext cx="80200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dentify targets and iss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Develop a "Library of Evidence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Devise strategy for each tar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Arial"/>
              </a:rPr>
              <a:t>Link Secretariat and Partner effo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Monitor resource mobilization activiti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66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Engage Civil Societ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19280"/>
            <a:ext cx="77724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04880" y="1562040"/>
            <a:ext cx="80200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Promote Regional and Nat'l STB Partnersh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Convene Reg’l and Nat’l dialogue ev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Coordinate partner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around key ev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Disseminate messag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66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uild Civil Society Capac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619280"/>
            <a:ext cx="77724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43040" y="1981080"/>
            <a:ext cx="8020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Action learning on civil society invol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Strengthen and link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Promote use of Patients' Charter and International Standards of TB Car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66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grate ACSM in TB Contr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19280"/>
            <a:ext cx="77724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00280" y="1657440"/>
            <a:ext cx="8019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Continu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regional ACSM planning worksho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Facilitate technical assistance mis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Train consultant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Integrate ACSM into existing too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Disseminate "how-to" ACSM  guid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66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Integrate ACSM in TB Control</a:t>
            </a:r>
            <a:r>
              <a:rPr b="1" lang="en-GB" sz="4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19280"/>
            <a:ext cx="77724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04880" y="1486080"/>
            <a:ext cx="802008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Disseminate best pract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Produce regional case study collec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Collect examples of good ACSM ac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Identify global indic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Annually review ACSM ac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66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upport other Working Grou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19280"/>
            <a:ext cx="77724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66720" y="1581120"/>
            <a:ext cx="8020080" cy="39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Promote exchange of information and sha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ACSM-related tools and best practic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SimSun"/>
              </a:rPr>
              <a:t>Work with advocacy people of other 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Identify ACSM Core Group individuals to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SimSun"/>
              </a:rPr>
              <a:t>assur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liai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Provide training, tools and materials to develop advocacy capacity of other 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66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rial"/>
              </a:rPr>
              <a:t>Next Steps </a:t>
            </a:r>
            <a:r>
              <a:rPr b="1" lang="en-GB" sz="4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619280"/>
            <a:ext cx="77724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04880" y="1486080"/>
            <a:ext cx="8020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ranslate objectives into Action Pla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SimSun"/>
              </a:rPr>
              <a:t>Partners meet in Cape Town to develop strategy and activ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SimSun"/>
              </a:rPr>
              <a:t>Identify resources for WG activ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SimSun"/>
              </a:rPr>
              <a:t>(Regular support is in Secretari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SimSun"/>
              </a:rPr>
              <a:t>cost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7T12:13:56Z</dcterms:created>
  <dc:creator>LamyQuiqueS</dc:creator>
  <dc:description/>
  <dc:language>en-US</dc:language>
  <cp:lastModifiedBy>User</cp:lastModifiedBy>
  <cp:lastPrinted>2002-05-31T10:14:11Z</cp:lastPrinted>
  <dcterms:modified xsi:type="dcterms:W3CDTF">2007-10-24T06:26:30Z</dcterms:modified>
  <cp:revision>106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