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DE0-2B3E-4CB1-BFD8-E27EDC8D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4159-7F68-4D00-A933-0FAA4E5B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BE7-68BC-410E-9F30-F037CB04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A6E-3317-420A-826E-1683D25E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9FF8-946A-4E80-B59D-87A1FBC5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CE08-0499-4C92-96AF-E763B572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B99-2DC5-4A60-944B-EDCD7F6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80C4-CFE0-41B2-A576-D97D41D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A2B4-D7F2-48FE-B8B3-AEF5B5C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55A5-0C0E-4BCC-9779-09BA6179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E02C-9210-46EB-8632-4EC8FB5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C867-B3A7-471E-B2F6-5E2F5BF3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D269-A966-454A-A156-E3AA254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A615-0872-4DAC-A90E-870E9A6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B78-D789-4EEB-A932-ED0A5C4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85EE-256F-4549-B100-A717D903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8108-3B8F-4C34-B38D-106725EB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2D0-3680-4567-85B6-488AB3BA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B57-1114-442C-BC7C-F6BDDE51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2BD-5CCB-46FA-8666-C218A27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5DE-46C9-492E-BE44-927F498A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6CF-14B5-4F4A-93D9-2DAB68C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6C5D-D5D3-4F5C-9CE5-0D0939A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C4C1-E219-4F5A-8B0D-CABF122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CC34-7633-40F6-AC0B-2C94F47C1E0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4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D25-0643-4353-95DB-43D4037A2E96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toptb.org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stoptb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16360" y="201600"/>
            <a:ext cx="3095640" cy="92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619280" y="2565360"/>
            <a:ext cx="6048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LAN OF ACTION 2008-09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IMPLEMENTING"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gradFill rotWithShape="0">
                  <a:gsLst>
                    <a:gs pos="0">
                      <a:srgbClr val="f60000"/>
                    </a:gs>
                    <a:gs pos="100000">
                      <a:srgbClr val="ffcf0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KING GROUPS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gradFill rotWithShape="0">
                <a:gsLst>
                  <a:gs pos="0">
                    <a:srgbClr val="f60000"/>
                  </a:gs>
                  <a:gs pos="100000">
                    <a:srgbClr val="ffcf0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95280" y="1628640"/>
          <a:ext cx="8424720" cy="4392360"/>
        </p:xfrm>
        <a:graphic>
          <a:graphicData uri="http://schemas.openxmlformats.org/drawingml/2006/table">
            <a:tbl>
              <a:tblPr/>
              <a:tblGrid>
                <a:gridCol w="4024440"/>
                <a:gridCol w="1257120"/>
                <a:gridCol w="376200"/>
                <a:gridCol w="1509840"/>
                <a:gridCol w="1257120"/>
              </a:tblGrid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ing Grou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G Chairman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DR-TB WG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ctivities of core group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d subgroup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eeting of the WG (two meeting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7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95280" y="404640"/>
            <a:ext cx="838980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operations of the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G and sub-groups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205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93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021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92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73360" y="441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4686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320" y="5869800"/>
            <a:ext cx="847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This does not include pledges received by partners of the WG other than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0920" y="1704960"/>
          <a:ext cx="8642160" cy="4100400"/>
        </p:xfrm>
        <a:graphic>
          <a:graphicData uri="http://schemas.openxmlformats.org/drawingml/2006/table">
            <a:tbl>
              <a:tblPr/>
              <a:tblGrid>
                <a:gridCol w="4000320"/>
                <a:gridCol w="216000"/>
                <a:gridCol w="1880640"/>
                <a:gridCol w="1333080"/>
                <a:gridCol w="12121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and GLC </a:t>
                      </a:r>
                      <a:r>
                        <a:rPr b="1" lang="en-US" sz="18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LC (according to business pl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,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chnical assistance other than GLC (including laboratory strengthening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5,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6,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1,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3,5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40000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50920" y="436680"/>
            <a:ext cx="8642160" cy="10159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2. Costs of technical assistance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for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27664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US$ thousa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5805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414000"/>
            <a:ext cx="856908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1: Catalyse I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mplementatio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HIV/TB activities through: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Regional TB/HIV implementation mee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sia Pacific  and Africa regional meet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raining and Engagement of  NAP and NTP manag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Introduce TB/HIV components (including TB infection control) into Global Fund proposa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Advocate for TB/HIV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Joint UN teams on AIDS and partners at countr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Harmonized TB/HIV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Facilitate a freely accessible web-based collection and sharing of data and information on 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6597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Stop TB Partnership Website"/>
          <p:cNvPicPr/>
          <p:nvPr/>
        </p:nvPicPr>
        <p:blipFill>
          <a:blip r:embed="rId1"/>
          <a:stretch/>
        </p:blipFill>
        <p:spPr>
          <a:xfrm>
            <a:off x="7164360" y="105264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 2: Promote TB/HIV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earch activities and their funding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93320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B/HIV  Research Meetings linked to major HIV meetings  (CROI and IAS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宋体"/>
              </a:rPr>
              <a:t>To enhance ongoing efforts to increase  HIV/TB research issues into the mainstream of HIV treatment and prevention research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engage funders to increase research suppo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support optimal TB prevention, treatment and infection control  within HIV research network activities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37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4653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184464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77156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66690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65959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340920"/>
            <a:ext cx="842472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3: Engage leading NGOs i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/HIV and community mobiliz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2000" y="197820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ngage leading HIV/AIDS NGOs in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mphasis on TB screening and provision of preventive therapy for PLHIV and TB infection control, including in PMTCT 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Expand and strengthen community mobilization for TB/H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宋体"/>
              </a:rPr>
              <a:t>Technical assistance to community groups and networks to catalyse national level implementation of collaborative TB/HIV activities, including TB infection control and prevention of MDR and XDR T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77336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70028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623880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616572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B/HIV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4: Communications 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d Guidelines on key HIV/TB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claration of Importance of INH Preventive Therapy in HIV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semination of revised infection control guidelin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nogram on monitoring of HIV/TB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485280"/>
            <a:ext cx="84978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unding TB/HIV activities 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9782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all needs at global level to implement TB/HIV activities in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eds identified in GP 2008-09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1.153 b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p estimated for 2008-09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$700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ing the working group operations 2008-0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 1.5 mill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1916280"/>
            <a:ext cx="820908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44640"/>
            <a:ext cx="8569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6453360"/>
            <a:ext cx="835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712880"/>
            <a:ext cx="8713800" cy="2288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TS Expansion Working Group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Laboratory Capacity Strengthening (SL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Public Private Mix (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childhood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TB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807000"/>
            <a:ext cx="8713800" cy="19227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Group on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advocacy and resource mob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 group 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ub-group on drug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reen Light Committee (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89000"/>
            <a:ext cx="3816360" cy="113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5910120"/>
            <a:ext cx="8713800" cy="8254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/HIV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ub-group on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340920"/>
            <a:ext cx="856908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(DEWG) plan of action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9400" y="184644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reas of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service coverage, Strengthening quality of DOTS implementation and increase access to services for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rengthening to expand quality assured microscopy, culture and D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s development plan including mapping of existing resources from different health care providers with a focus on the services to the po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existing health care providers to NTP including promotion of international standard for TB care (IST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including impact measu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7715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74064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for 2008-2009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360" y="1701360"/>
            <a:ext cx="864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support to countries and its coordination: TB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Global Plan implementation and technical supp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ountries accessing funding for TB control (GF, WB and oth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apacity strengthening (strategic plan in prepa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addressing Health System Strengthening issues and to implement 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978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100"/>
            </a:br>
            <a:r>
              <a:rPr b="1" lang="en-GB" sz="3100" spc="-1" strike="noStrike">
                <a:solidFill>
                  <a:srgbClr val="ffffff"/>
                </a:solidFill>
                <a:latin typeface="Arial"/>
              </a:rPr>
              <a:t>Activities planned 2008-09 (cont)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2360" y="170172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to develop HRD plans including mapping of existing resources from different health care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involve community and patients in TB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to enhance equitable access to TB diagnosis and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untries in incorporating childhood TB in strategic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up and expand PPM activities including promotion of I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research groups within and outside  countries to develop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148608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Stop TB Partnership Website"/>
          <p:cNvPicPr/>
          <p:nvPr/>
        </p:nvPicPr>
        <p:blipFill>
          <a:blip r:embed="rId1"/>
          <a:stretch/>
        </p:blipFill>
        <p:spPr>
          <a:xfrm>
            <a:off x="6948360" y="54936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OTS Expansion Working Group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lan of action 2008-2009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349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of countries for DOTS Expansion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3 b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for all countri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250 million in 2007 for HBC onl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otal needs for support to countries (2008-09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65 million/year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(without laborato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35 million in 2007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osts of operations of the DEWG in 2008-09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US$ 2.2 million for 2 yea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(gap US$ 1.6 million for the period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844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916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Stop TB Partnership Webs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1280" y="5589720"/>
            <a:ext cx="165744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Stop TB Partnership Websit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WG plan of action 2008-2009 </a:t>
            </a:r>
            <a:br>
              <a:rPr sz="32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ordination work of WG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 sub-group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1701720"/>
            <a:ext cx="835164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0000" y="1700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n US$ thou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6669000"/>
            <a:ext cx="86421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6597720"/>
            <a:ext cx="86421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Stop TB Partnership Websi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48360" y="620640"/>
            <a:ext cx="165744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6000" y="188640"/>
            <a:ext cx="8604000" cy="936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lobal MDR/XDR-TB Response Plan: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operational plan of the MDR-TB WG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51130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basic TB and HIV/AIDS control, to avoid creation of MDR-TB and XDR-T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up programmatic management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laboratory services for adequate and timely diagnosis of MDR-TB and XDR-TB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MDR-TB and XDR-TB surveillanc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infection control, especially in high HIV prevalence sett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engthen advocacy, communication and social mobilization (e.g., Response Pla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sue resource mobilization at global, regional and country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e research and development into new diagnostics, drugs and vacci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80000" y="1771560"/>
            <a:ext cx="3021120" cy="4249800"/>
          </a:xfrm>
          <a:prstGeom prst="rect">
            <a:avLst/>
          </a:prstGeom>
          <a:ln w="28440">
            <a:solidFill>
              <a:srgbClr val="d2d543"/>
            </a:solidFill>
            <a:miter/>
          </a:ln>
          <a:effectLst>
            <a:outerShdw dist="107932" dir="18900000" blurRad="0" rotWithShape="0">
              <a:srgbClr val="ffcf01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38160">
            <a:solidFill>
              <a:srgbClr val="ffcf01"/>
            </a:solidFill>
            <a:miter/>
          </a:ln>
          <a:effectLst>
            <a:outerShdw dist="107932" dir="18900000" blurRad="0" rotWithShape="0">
              <a:srgbClr val="d2d54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top TB Partnership Website"/>
          <p:cNvPicPr/>
          <p:nvPr/>
        </p:nvPicPr>
        <p:blipFill>
          <a:blip r:embed="rId2"/>
          <a:stretch/>
        </p:blipFill>
        <p:spPr>
          <a:xfrm>
            <a:off x="7093080" y="404640"/>
            <a:ext cx="1657080" cy="49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1569960"/>
          <a:ext cx="8496000" cy="4756320"/>
        </p:xfrm>
        <a:graphic>
          <a:graphicData uri="http://schemas.openxmlformats.org/drawingml/2006/table">
            <a:tbl>
              <a:tblPr/>
              <a:tblGrid>
                <a:gridCol w="2282760"/>
                <a:gridCol w="6213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bgro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ocacy and resource mob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business plan of the GLC; resource mobilization plan; advocacy products on MDR-TB, including quarterly newsl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dated research agenda published; promotion of operational research; assistance to WHO in updating guidelines; two in-person meetings to assess progress and strategize next ste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rug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n of action to tackle the drug procurement crisis; six regional meetings to promote WHO Prequalification of second-line anti-TB drugs; four in-person meetings of the sub-group to assess progress and strategize next steps as per 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re Gro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nnual monitoring report on progress in implementing response plan; strategic guidance to WG and subgroup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250920" y="260280"/>
            <a:ext cx="8642160" cy="10159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1. Products of the sub-group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ing Group on MDR-TB (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55736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6381720"/>
            <a:ext cx="8642160" cy="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38160">
            <a:solidFill>
              <a:srgbClr val="d2d5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Stop TB Partnership Website"/>
          <p:cNvPicPr/>
          <p:nvPr/>
        </p:nvPicPr>
        <p:blipFill>
          <a:blip r:embed="rId1"/>
          <a:stretch/>
        </p:blipFill>
        <p:spPr>
          <a:xfrm>
            <a:off x="7020000" y="476280"/>
            <a:ext cx="165744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.kolbe</cp:lastModifiedBy>
  <dcterms:modified xsi:type="dcterms:W3CDTF">2007-10-23T04:49:03Z</dcterms:modified>
  <cp:revision>173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1497786</vt:r8>
  </property>
  <property fmtid="{D5CDD505-2E9C-101B-9397-08002B2CF9AE}" pid="3" name="_AuthorEmail">
    <vt:lpwstr>blancl@who.int</vt:lpwstr>
  </property>
  <property fmtid="{D5CDD505-2E9C-101B-9397-08002B2CF9AE}" pid="4" name="_AuthorEmailDisplayName">
    <vt:lpwstr>Blanc, Leopold Joseph</vt:lpwstr>
  </property>
  <property fmtid="{D5CDD505-2E9C-101B-9397-08002B2CF9AE}" pid="5" name="_EmailSubject">
    <vt:lpwstr>WGs for CB 20 Oct 2007.ppt</vt:lpwstr>
  </property>
  <property fmtid="{D5CDD505-2E9C-101B-9397-08002B2CF9AE}" pid="6" name="_NewReviewCycle">
    <vt:lpwstr/>
  </property>
  <property fmtid="{D5CDD505-2E9C-101B-9397-08002B2CF9AE}" pid="7" name="_PreviousAdHocReviewCycleID">
    <vt:r8>80680260</vt:r8>
  </property>
  <property fmtid="{D5CDD505-2E9C-101B-9397-08002B2CF9AE}" pid="8" name="_ReviewingToolsShownOnce">
    <vt:lpwstr/>
  </property>
</Properties>
</file>