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5DA2-C38A-4D69-91F9-0CAE431A5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36B1-550E-4B8F-BD68-031578580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-1886040" y="1197000"/>
            <a:ext cx="10588680" cy="79405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550800" y="333360"/>
            <a:ext cx="40528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444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3132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444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3132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10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086600"/>
            <a:ext cx="3502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438280"/>
            <a:ext cx="5410440" cy="198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911"/>
                </a:solidFill>
                <a:latin typeface="Arial Narrow"/>
              </a:rPr>
              <a:t>Global Tuberculosis Laboratory Initiative (GTLI)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00200" y="46483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Ridderhof, Dr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ir, Subgroup on Laboratory Capacity Strengthe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sociate Director for Laboratory Sc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tional Center for Preparedness, Detection and Control of Infectious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CID/C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-3115" r="26724" b="0"/>
          <a:stretch/>
        </p:blipFill>
        <p:spPr>
          <a:xfrm>
            <a:off x="6462720" y="0"/>
            <a:ext cx="26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Diagnostic challenges driving estimates 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al access to Culture/DST as a standard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R/XDR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/H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oratory structure (staffing, test volu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lgorithms for diagno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1638360" y="2319480"/>
          <a:ext cx="63244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2319480"/>
                    <a:ext cx="63244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StopTB Global Plan/Culture coverage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81920" cy="56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Required expansion of testing and funding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6400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5128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7672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20847600">
            <a:off x="1406160" y="5237280"/>
            <a:ext cx="4641840" cy="604800"/>
          </a:xfrm>
          <a:prstGeom prst="rightArrow">
            <a:avLst>
              <a:gd name="adj1" fmla="val 61500"/>
              <a:gd name="adj2" fmla="val 142911"/>
            </a:avLst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1989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of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9981800">
            <a:off x="934920" y="3499920"/>
            <a:ext cx="4743720" cy="605160"/>
          </a:xfrm>
          <a:prstGeom prst="rightArrow">
            <a:avLst>
              <a:gd name="adj1" fmla="val 61500"/>
              <a:gd name="adj2" fmla="val 14596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2920" y="800280"/>
            <a:ext cx="8893080" cy="1079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gap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ln sme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50 mln cultu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tests must be addressed – in accordance to country-specific conditions and priorities. This require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2,5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investment funding, of which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9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 needed for urgent immediate requir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7636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50920" y="5445000"/>
            <a:ext cx="252360" cy="61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50920" y="5445000"/>
            <a:ext cx="252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Strengthening the Global TB Laboratory Partnership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66320" y="799920"/>
            <a:ext cx="8869320" cy="936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will be an active facilitator of communication and provide various global infrastructure services including guidance, assurance and interface connection activities – all synchronized to be a coherent network serv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79280" y="1916280"/>
            <a:ext cx="8856720" cy="4537080"/>
            <a:chOff x="179280" y="1916280"/>
            <a:chExt cx="8856720" cy="4537080"/>
          </a:xfrm>
        </p:grpSpPr>
        <p:grpSp>
          <p:nvGrpSpPr>
            <p:cNvPr id="581" name=""/>
            <p:cNvGrpSpPr/>
            <p:nvPr/>
          </p:nvGrpSpPr>
          <p:grpSpPr>
            <a:xfrm>
              <a:off x="1611360" y="2060640"/>
              <a:ext cx="6381720" cy="4287600"/>
              <a:chOff x="1611360" y="2060640"/>
              <a:chExt cx="6381720" cy="4287600"/>
            </a:xfrm>
          </p:grpSpPr>
          <p:sp>
            <p:nvSpPr>
              <p:cNvPr id="582" name=""/>
              <p:cNvSpPr/>
              <p:nvPr/>
            </p:nvSpPr>
            <p:spPr>
              <a:xfrm>
                <a:off x="1611360" y="206064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34800" y="251280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75160" y="302940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605400" y="210744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72040" y="345924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448800" y="264996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431880" y="320328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30080" y="361728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SLCS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83600" y="3873600"/>
                <a:ext cx="2009160" cy="66420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T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8954600">
                <a:off x="238464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8954600">
                <a:off x="5171400" y="299592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620800">
                <a:off x="513720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620800">
                <a:off x="2386080" y="299556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6983280" y="260028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on of provision of TA and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ing meet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Advanced 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TB-Wiki; Knowledge Resource Network on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77080" y="486900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of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 stakehol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for lab fu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TB commun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6000" y="486900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s for equipment and mach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9280" y="281628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 Activiti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ine D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tion of 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mmendations for funding 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179280" y="191628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emplary activities of the 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Priority activities at global level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" y="1066680"/>
            <a:ext cx="5410080" cy="2743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and material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materials - culture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ance for second line dru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laboratory 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 Accreditation for TB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91320" y="2666880"/>
            <a:ext cx="3124080" cy="2514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tional training for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” consul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strategie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owledge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962520"/>
            <a:ext cx="6095880" cy="2057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ug resistance surveillance funding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“roadmaps” for countries/technical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for coordination of Laboratory Technical 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0880" y="990720"/>
            <a:ext cx="37339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1. Standard-set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248520" y="2590920"/>
            <a:ext cx="289548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2. Building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4038480"/>
            <a:ext cx="5029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3. Creation of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Next Steps/Prioriti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business plan based on input from key StopTB stakeholders in Cape 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 with global stakeholders to seek sustained funding support and map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advocacy for laboratory programs/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partner participation/contributions through increased communications and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1523880" y="1236600"/>
          <a:ext cx="594360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36600"/>
                    <a:ext cx="594360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609480" y="152280"/>
            <a:ext cx="7925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w strategies for laboratory scale 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From unimaginable…to indispens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equest from Coordinating Boar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rsement and support for the strategic direction of the  Global TB Laboratory Initiative (GTL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Resource mobilization plan for increased funding at the global and count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Advocacy by the coordinating board for laboratories as an essential component of health system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Objectiv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 for the Global TB Laboratory Initiative (GT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leration of GTLI (SLCS)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activities to guide the scale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steps/StopTB coordinating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ationale for Global Lab Initiativ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4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rren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croscopy-based diagnosis is inadequate in high HIV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5% of MDR cases diagn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iculties in implementation and poor quality of culture and D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line drug (SLD) testing restricted to SR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401760" y="1414440"/>
            <a:ext cx="8548560" cy="5207040"/>
            <a:chOff x="401760" y="1414440"/>
            <a:chExt cx="8548560" cy="5207040"/>
          </a:xfrm>
        </p:grpSpPr>
        <p:graphicFrame>
          <p:nvGraphicFramePr>
            <p:cNvPr id="56" name=""/>
            <p:cNvGraphicFramePr/>
            <p:nvPr/>
          </p:nvGraphicFramePr>
          <p:xfrm>
            <a:off x="401760" y="1414440"/>
            <a:ext cx="8548560" cy="5207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1760" y="1414440"/>
                      <a:ext cx="8548560" cy="52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6560640" y="331704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25760" y="285516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92680" y="232812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3360" y="3842640"/>
              <a:ext cx="799920" cy="197280"/>
            </a:xfrm>
            <a:prstGeom prst="parallelogram">
              <a:avLst>
                <a:gd name="adj" fmla="val 101369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55640" y="19836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Gap between requests to GLC 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and Global Response Plan</a:t>
            </a: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Nee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ramatic expansion of lab services especially for culture and D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ngthen microscopy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lture method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ing new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on of general lab service expansion as part of health systems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ess standards, biosafety, Human resources, coordination of TA 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d911"/>
                </a:solidFill>
                <a:latin typeface="Arial Narrow"/>
              </a:rPr>
              <a:t>Why a Global TB Laboratory Initiative for sharing knowledge, guidance, and assurance?</a:t>
            </a:r>
            <a:endParaRPr b="1" lang="en-US" sz="3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s must address quality and productivity to make an effective and efficient increase in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eer number of laboratory personnel on the global level (200-400,000) calls for new and novel ways of disseminating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 and donors require far stronger coordination and guidance and assurance on what constitutes appropriate laboratory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and better focused advocacy for the cause of laboratory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8153280" y="6477120"/>
            <a:ext cx="722160" cy="761400"/>
            <a:chOff x="8153280" y="6477120"/>
            <a:chExt cx="722160" cy="761400"/>
          </a:xfrm>
        </p:grpSpPr>
        <p:sp>
          <p:nvSpPr>
            <p:cNvPr id="68" name=""/>
            <p:cNvSpPr/>
            <p:nvPr/>
          </p:nvSpPr>
          <p:spPr>
            <a:xfrm>
              <a:off x="8153280" y="6477120"/>
              <a:ext cx="419400" cy="72900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572680" y="648036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9400" y="6757560"/>
              <a:ext cx="251280" cy="32400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43000" y="6575400"/>
              <a:ext cx="532440" cy="38628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95480" y="6954480"/>
              <a:ext cx="295560" cy="2840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536320" y="667764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89680" y="653184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91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Achievements in last year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556272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RLN has evolved to general 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technical guidance transitioned from volunteer efforts to structured consensus process with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pla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technical work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D technical gu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e group formed, meetings in March and July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2286000"/>
            <a:ext cx="251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O Secretari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tient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upra &amp; National Referenc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iaisons with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orking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3657600" cy="422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52320" y="228240"/>
            <a:ext cx="5791320" cy="90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upranational Reference Laboratory Network - 2007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30440" y="594360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56160" y="590544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S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375000" y="5589720"/>
            <a:ext cx="273240" cy="29196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1960"/>
              <a:gd name="textAreaBottom" fmla="*/ 17172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72000" y="566100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Coordinating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42920" y="623736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109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8:56:49Z</dcterms:created>
  <dc:creator>jcr0</dc:creator>
  <dc:description/>
  <dc:language>en-US</dc:language>
  <cp:lastModifiedBy>jcr0</cp:lastModifiedBy>
  <dcterms:modified xsi:type="dcterms:W3CDTF">2007-10-23T11:20:50Z</dcterms:modified>
  <cp:revision>88</cp:revision>
  <dc:subject/>
  <dc:title>Improving the Diagnosis of Tuberculosis Through Optimising Smear Microscop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9274965</vt:r8>
  </property>
  <property fmtid="{D5CDD505-2E9C-101B-9397-08002B2CF9AE}" pid="3" name="_AuthorEmail">
    <vt:lpwstr>labelles@who.int</vt:lpwstr>
  </property>
  <property fmtid="{D5CDD505-2E9C-101B-9397-08002B2CF9AE}" pid="4" name="_AuthorEmailDisplayName">
    <vt:lpwstr>Labelle, Soleil</vt:lpwstr>
  </property>
  <property fmtid="{D5CDD505-2E9C-101B-9397-08002B2CF9AE}" pid="5" name="_EmailSubject">
    <vt:lpwstr>Berlin 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