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19049-C230-4DA9-846E-29CEABD37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ur Foundation partners make outstanding contributions to TB control. Key questions is how do we widen and deepen and engagement with these founda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854F2-A922-40EC-9A0F-2FE0FEA5A0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12200"/>
            <a:ext cx="822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39A94-E4EC-4FA9-A93A-F0D3775D2C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220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1220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66335-1225-46AD-9BD8-5EA2FED85C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028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028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1220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1220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12200"/>
            <a:ext cx="264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DCC1F-C6B1-4C94-A9A9-FB6B1254AF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EF73A-80C0-49C1-B3F7-682B67B20D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9748F-8E69-4A2D-AB8B-E50513ED3D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97525-858D-467B-BACD-AED27DE00D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2FE29-FE87-4CA8-9A63-AA65141EE0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2E394-0A70-4387-AE5C-3376CFDAE1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1220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6B8B3-A350-4DB9-B869-70569313F5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1220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E1066-0938-4548-A061-C06C65FFC1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12200"/>
            <a:ext cx="8229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7B467-7D4E-46F8-B564-0F27D39214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3838680" y="0"/>
            <a:ext cx="5305320" cy="1143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68360" y="6244920"/>
            <a:ext cx="8207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3th Stop TB Partnership Coordinating Board Meet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23-24 October 2007 - Berlin, Germ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812000" y="6244920"/>
            <a:ext cx="874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E1CC9-BE40-43A9-8C0C-97B253619F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9000"/>
            <a:ext cx="7772400" cy="29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Who are the partners of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Stop TB?</a:t>
            </a:r>
            <a:br>
              <a:rPr sz="4400"/>
            </a:br>
            <a:br>
              <a:rPr sz="44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erspectives from the comm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329000"/>
            <a:ext cx="640080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ervaiz Tufail, Pakis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zio T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ávora dos Santos Filho, Braz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munity Task Force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Key constituenci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12720" y="1538280"/>
            <a:ext cx="7425000" cy="270000"/>
          </a:xfrm>
          <a:prstGeom prst="rect">
            <a:avLst/>
          </a:prstGeom>
          <a:solidFill>
            <a:srgbClr val="dddddd">
              <a:alpha val="60000"/>
            </a:srgbClr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rise74% of partner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194000"/>
            <a:ext cx="1422360" cy="1797480"/>
          </a:xfrm>
          <a:prstGeom prst="rect">
            <a:avLst/>
          </a:prstGeom>
          <a:solidFill>
            <a:srgbClr val="ffb7b7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ow do we maximize the potential of the partner bas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11280" y="4194000"/>
            <a:ext cx="2071800" cy="1797480"/>
          </a:xfrm>
          <a:prstGeom prst="rect">
            <a:avLst/>
          </a:prstGeom>
          <a:solidFill>
            <a:srgbClr val="ffb7b7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hould and how do we provide more support to small National NGO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w do we strengthen the Challenge Facilit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72000" y="2168640"/>
            <a:ext cx="2609640" cy="1797480"/>
          </a:xfrm>
          <a:prstGeom prst="rect">
            <a:avLst/>
          </a:prstGeom>
          <a:solidFill>
            <a:srgbClr val="e7f4f5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rporate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w do we engage all those companies interested in TB control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hould there be a separate strategy for the Health Corporate Sector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716280" y="4194000"/>
            <a:ext cx="2476440" cy="1797480"/>
          </a:xfrm>
          <a:prstGeom prst="rect">
            <a:avLst/>
          </a:prstGeom>
          <a:solidFill>
            <a:srgbClr val="ffb7b7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hould corporate sector partners pay some sort of membership fe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w should this sector interact with the rest of the Partner Bas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16640" y="2168640"/>
            <a:ext cx="2521080" cy="1797480"/>
          </a:xfrm>
          <a:prstGeom prst="rect">
            <a:avLst/>
          </a:prstGeom>
          <a:solidFill>
            <a:srgbClr val="e7f4f5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und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w do we encourage more foundations to become partners, especially from the EU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72360" y="4194000"/>
            <a:ext cx="2565360" cy="1797480"/>
          </a:xfrm>
          <a:prstGeom prst="rect">
            <a:avLst/>
          </a:prstGeom>
          <a:solidFill>
            <a:srgbClr val="ffb7b7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w do we deepen our engagement with existing foundation partner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2168640"/>
            <a:ext cx="1332000" cy="1797480"/>
          </a:xfrm>
          <a:prstGeom prst="rect">
            <a:avLst/>
          </a:prstGeom>
          <a:solidFill>
            <a:srgbClr val="e7f4f5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ow do we enhance the partner bas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11280" y="1808280"/>
            <a:ext cx="1979640" cy="2284200"/>
          </a:xfrm>
          <a:prstGeom prst="rect">
            <a:avLst/>
          </a:prstGeom>
          <a:solidFill>
            <a:srgbClr val="e7f4f5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hould we target nat. NGO in specific regions where there is lower traditio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crease no. of int’l NGO participation in some area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igh burden count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71640" y="1989000"/>
            <a:ext cx="1800360" cy="3600720"/>
          </a:xfrm>
          <a:prstGeom prst="rect">
            <a:avLst/>
          </a:prstGeom>
          <a:noFill/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5 – 10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raz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hilipp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ai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1989000"/>
            <a:ext cx="1800000" cy="3600720"/>
          </a:xfrm>
          <a:prstGeom prst="rect">
            <a:avLst/>
          </a:prstGeom>
          <a:noFill/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ore than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anglade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done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en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ig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kis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outh Af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g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4932360" y="1989000"/>
            <a:ext cx="3734640" cy="3600720"/>
            <a:chOff x="4932360" y="1989000"/>
            <a:chExt cx="3734640" cy="3600720"/>
          </a:xfrm>
        </p:grpSpPr>
        <p:grpSp>
          <p:nvGrpSpPr>
            <p:cNvPr id="135" name=""/>
            <p:cNvGrpSpPr/>
            <p:nvPr/>
          </p:nvGrpSpPr>
          <p:grpSpPr>
            <a:xfrm>
              <a:off x="5067000" y="1989000"/>
              <a:ext cx="3600000" cy="3600720"/>
              <a:chOff x="5067000" y="1989000"/>
              <a:chExt cx="3600000" cy="3600720"/>
            </a:xfrm>
          </p:grpSpPr>
          <p:sp>
            <p:nvSpPr>
              <p:cNvPr id="136" name=""/>
              <p:cNvSpPr/>
              <p:nvPr/>
            </p:nvSpPr>
            <p:spPr>
              <a:xfrm>
                <a:off x="5067000" y="1989000"/>
                <a:ext cx="3598560" cy="71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Less than 10 Partner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067000" y="2709720"/>
                <a:ext cx="1800000" cy="288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Afghanista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mbod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hi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DR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Ethiop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867000" y="2708280"/>
                <a:ext cx="1800000" cy="28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Mozambiqu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Myanma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Russ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Tanzan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Vietna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imbabw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4932360" y="1989000"/>
              <a:ext cx="3598560" cy="3598920"/>
            </a:xfrm>
            <a:prstGeom prst="rect">
              <a:avLst/>
            </a:prstGeom>
            <a:noFill/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99864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Questions for the Coordinating Boar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76280" y="185436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should the partnership engagement strategy focus 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ich constituencies need specific target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epening or widening of the partners ba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can we do more to assist partn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uld meetings at the Partner's Forum be divided according to constituenc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cision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dentify which partner groupings should Stop TB increase engagement wi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dentify future direction of the partner base (are we targeting growth of partners numbers, greater commitment from partners, etc?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irect strategy to achieve th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nowledgmen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thanks to the Secretariat for helping us with the draf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81864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oncept of partn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 and where are our partn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do we act in an effective partnershi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bout the partn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NGO, corporate sector and foundations work toge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 where governments fit in? What is their role in promoting partnership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each of the constituencies represented at this forum understand the progress in countr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o are our partne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76280" y="1359000"/>
          <a:ext cx="8120160" cy="48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1359000"/>
                    <a:ext cx="8120160" cy="48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562720" y="1700280"/>
            <a:ext cx="312408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89 partners to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GOs account for almost two-thirds of partner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here are our partne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0" y="1854360"/>
          <a:ext cx="6192720" cy="42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54360"/>
                    <a:ext cx="6192720" cy="42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785920" y="1700280"/>
            <a:ext cx="31957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 the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0% of AFRO partners based in 5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0% of EMRO partners based in Pakist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URO partners tend to be Western Europ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5% of SEARO partners in In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206280" y="1763640"/>
          <a:ext cx="5207040" cy="438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280" y="1763640"/>
                    <a:ext cx="5207040" cy="43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4976640" y="1673280"/>
            <a:ext cx="3600360" cy="1258920"/>
            <a:chOff x="4976640" y="1673280"/>
            <a:chExt cx="3600360" cy="1258920"/>
          </a:xfrm>
        </p:grpSpPr>
        <p:sp>
          <p:nvSpPr>
            <p:cNvPr id="67" name=""/>
            <p:cNvSpPr/>
            <p:nvPr/>
          </p:nvSpPr>
          <p:spPr>
            <a:xfrm>
              <a:off x="4976640" y="1673280"/>
              <a:ext cx="718920" cy="12589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697360" y="1673280"/>
              <a:ext cx="2879640" cy="1258920"/>
            </a:xfrm>
            <a:prstGeom prst="rect">
              <a:avLst/>
            </a:prstGeom>
            <a:solidFill>
              <a:srgbClr val="ff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976640" y="1673280"/>
              <a:ext cx="3598920" cy="1258920"/>
            </a:xfrm>
            <a:prstGeom prst="rect">
              <a:avLst/>
            </a:prstGeom>
            <a:noFill/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Of NGOs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rnational 19% (gre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National 81% (red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4976640" y="3114720"/>
            <a:ext cx="3600360" cy="1258920"/>
            <a:chOff x="4976640" y="3114720"/>
            <a:chExt cx="3600360" cy="1258920"/>
          </a:xfrm>
        </p:grpSpPr>
        <p:sp>
          <p:nvSpPr>
            <p:cNvPr id="71" name=""/>
            <p:cNvSpPr/>
            <p:nvPr/>
          </p:nvSpPr>
          <p:spPr>
            <a:xfrm>
              <a:off x="4976640" y="3114720"/>
              <a:ext cx="1349280" cy="1258920"/>
            </a:xfrm>
            <a:custGeom>
              <a:avLst/>
              <a:gdLst>
                <a:gd name="textAreaLeft" fmla="*/ 0 w 1349280"/>
                <a:gd name="textAreaRight" fmla="*/ 1349640 w 1349280"/>
                <a:gd name="textAreaTop" fmla="*/ 0 h 1258920"/>
                <a:gd name="textAreaBottom" fmla="*/ 1259280 h 12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Internat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NG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507000" y="3114720"/>
              <a:ext cx="2070000" cy="1258920"/>
            </a:xfrm>
            <a:prstGeom prst="rect">
              <a:avLst/>
            </a:prstGeom>
            <a:solidFill>
              <a:srgbClr val="dddddd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Likely to have a large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staff size than N'NG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None based in EMR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4976640" y="4508640"/>
            <a:ext cx="3600720" cy="1258920"/>
            <a:chOff x="4976640" y="4508640"/>
            <a:chExt cx="3600720" cy="1258920"/>
          </a:xfrm>
        </p:grpSpPr>
        <p:sp>
          <p:nvSpPr>
            <p:cNvPr id="74" name=""/>
            <p:cNvSpPr/>
            <p:nvPr/>
          </p:nvSpPr>
          <p:spPr>
            <a:xfrm>
              <a:off x="4976640" y="4508640"/>
              <a:ext cx="1349640" cy="125892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1258920"/>
                <a:gd name="textAreaBottom" fmla="*/ 1259280 h 12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>
                <a:alpha val="20000"/>
              </a:srgbClr>
            </a:solidFill>
            <a:ln w="108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Nat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NG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507000" y="4508640"/>
              <a:ext cx="2070360" cy="1258920"/>
            </a:xfrm>
            <a:prstGeom prst="rect">
              <a:avLst/>
            </a:prstGeom>
            <a:solidFill>
              <a:srgbClr val="ff0000">
                <a:alpha val="20000"/>
              </a:srgbClr>
            </a:solidFill>
            <a:ln w="108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Over 50% undertake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dvocacy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8 based in Easter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Europ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162000" y="1673280"/>
          <a:ext cx="5411880" cy="422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000" y="1673280"/>
                    <a:ext cx="5411880" cy="42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rporate Se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4976640" y="3114720"/>
            <a:ext cx="3600360" cy="1258920"/>
            <a:chOff x="4976640" y="3114720"/>
            <a:chExt cx="3600360" cy="1258920"/>
          </a:xfrm>
        </p:grpSpPr>
        <p:sp>
          <p:nvSpPr>
            <p:cNvPr id="82" name=""/>
            <p:cNvSpPr/>
            <p:nvPr/>
          </p:nvSpPr>
          <p:spPr>
            <a:xfrm>
              <a:off x="4976640" y="3114720"/>
              <a:ext cx="1349280" cy="1258920"/>
            </a:xfrm>
            <a:custGeom>
              <a:avLst/>
              <a:gdLst>
                <a:gd name="textAreaLeft" fmla="*/ 0 w 1349280"/>
                <a:gd name="textAreaRight" fmla="*/ 1349640 w 1349280"/>
                <a:gd name="textAreaTop" fmla="*/ 0 h 1258920"/>
                <a:gd name="textAreaBottom" fmla="*/ 1259280 h 12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N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Healt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507000" y="3114720"/>
              <a:ext cx="2070000" cy="1258920"/>
            </a:xfrm>
            <a:prstGeom prst="rect">
              <a:avLst/>
            </a:prstGeom>
            <a:solidFill>
              <a:srgbClr val="dddddd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dvocacy as mai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ctivity in TB contro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More than 50% based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in AMR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4976640" y="4508640"/>
            <a:ext cx="3600720" cy="1258920"/>
            <a:chOff x="4976640" y="4508640"/>
            <a:chExt cx="3600720" cy="1258920"/>
          </a:xfrm>
        </p:grpSpPr>
        <p:sp>
          <p:nvSpPr>
            <p:cNvPr id="85" name=""/>
            <p:cNvSpPr/>
            <p:nvPr/>
          </p:nvSpPr>
          <p:spPr>
            <a:xfrm>
              <a:off x="4976640" y="4508640"/>
              <a:ext cx="1349640" cy="125892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1258920"/>
                <a:gd name="textAreaBottom" fmla="*/ 1259280 h 125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>
                <a:alpha val="20000"/>
              </a:srgbClr>
            </a:solidFill>
            <a:ln w="108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Healt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507000" y="4508640"/>
              <a:ext cx="2070360" cy="1258920"/>
            </a:xfrm>
            <a:prstGeom prst="rect">
              <a:avLst/>
            </a:prstGeom>
            <a:solidFill>
              <a:srgbClr val="ff0000">
                <a:alpha val="20000"/>
              </a:srgbClr>
            </a:solidFill>
            <a:ln w="108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nsider research &amp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manuf. of TB produc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s main activ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Most are from US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UK and Ind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4976640" y="1673280"/>
            <a:ext cx="3600720" cy="1258920"/>
            <a:chOff x="4976640" y="1673280"/>
            <a:chExt cx="3600720" cy="1258920"/>
          </a:xfrm>
        </p:grpSpPr>
        <p:sp>
          <p:nvSpPr>
            <p:cNvPr id="88" name=""/>
            <p:cNvSpPr/>
            <p:nvPr/>
          </p:nvSpPr>
          <p:spPr>
            <a:xfrm>
              <a:off x="6058080" y="1673280"/>
              <a:ext cx="2519280" cy="1258920"/>
            </a:xfrm>
            <a:prstGeom prst="rect">
              <a:avLst/>
            </a:prstGeom>
            <a:solidFill>
              <a:srgbClr val="ff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976640" y="1673280"/>
              <a:ext cx="1079640" cy="12589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976640" y="1673280"/>
              <a:ext cx="3598920" cy="1258920"/>
            </a:xfrm>
            <a:prstGeom prst="rect">
              <a:avLst/>
            </a:prstGeom>
            <a:noFill/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Of Corporate Sec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Non Health 30% (gre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Health 70% (red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Key Activ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85920" y="4103640"/>
          <a:ext cx="3619440" cy="210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920" y="4103640"/>
                    <a:ext cx="3619440" cy="21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0" y="1494000"/>
          <a:ext cx="4390920" cy="277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494000"/>
                    <a:ext cx="439092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97" name=""/>
          <p:cNvCxnSpPr/>
          <p:nvPr/>
        </p:nvCxnSpPr>
        <p:spPr>
          <a:xfrm>
            <a:off x="1422000" y="3428640"/>
            <a:ext cx="1080" cy="1080"/>
          </a:xfrm>
          <a:prstGeom prst="straightConnector1">
            <a:avLst/>
          </a:prstGeom>
          <a:ln w="10800">
            <a:solidFill>
              <a:srgbClr val="000000"/>
            </a:solidFill>
            <a:miter/>
          </a:ln>
        </p:spPr>
      </p:cxnSp>
      <p:cxnSp>
        <p:nvCxnSpPr>
          <p:cNvPr id="98" name=""/>
          <p:cNvCxnSpPr/>
          <p:nvPr/>
        </p:nvCxnSpPr>
        <p:spPr>
          <a:xfrm>
            <a:off x="2195280" y="4265280"/>
            <a:ext cx="1080" cy="1080"/>
          </a:xfrm>
          <a:prstGeom prst="straightConnector1">
            <a:avLst/>
          </a:prstGeom>
          <a:ln w="10800">
            <a:solidFill>
              <a:srgbClr val="000000"/>
            </a:solidFill>
            <a:miter/>
          </a:ln>
        </p:spPr>
      </p:cxnSp>
      <p:sp>
        <p:nvSpPr>
          <p:cNvPr id="99" name=""/>
          <p:cNvSpPr/>
          <p:nvPr/>
        </p:nvSpPr>
        <p:spPr>
          <a:xfrm>
            <a:off x="1434960" y="3448080"/>
            <a:ext cx="12960" cy="2482920"/>
          </a:xfrm>
          <a:custGeom>
            <a:avLst/>
            <a:gdLst/>
            <a:ahLst/>
            <a:rect l="l" t="t" r="r" b="b"/>
            <a:pathLst>
              <a:path w="8" h="1564">
                <a:moveTo>
                  <a:pt x="8" y="0"/>
                </a:moveTo>
                <a:lnTo>
                  <a:pt x="0" y="1564"/>
                </a:lnTo>
              </a:path>
            </a:pathLst>
          </a:custGeom>
          <a:noFill/>
          <a:ln w="4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17720" y="3470400"/>
            <a:ext cx="6480" cy="2479680"/>
          </a:xfrm>
          <a:custGeom>
            <a:avLst/>
            <a:gdLst/>
            <a:ahLst/>
            <a:rect l="l" t="t" r="r" b="b"/>
            <a:pathLst>
              <a:path w="4" h="1562">
                <a:moveTo>
                  <a:pt x="4" y="0"/>
                </a:moveTo>
                <a:lnTo>
                  <a:pt x="0" y="1562"/>
                </a:lnTo>
              </a:path>
            </a:pathLst>
          </a:custGeom>
          <a:noFill/>
          <a:ln w="4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94000" y="3471840"/>
            <a:ext cx="6480" cy="2457360"/>
          </a:xfrm>
          <a:custGeom>
            <a:avLst/>
            <a:gdLst/>
            <a:ahLst/>
            <a:rect l="l" t="t" r="r" b="b"/>
            <a:pathLst>
              <a:path w="4" h="1548">
                <a:moveTo>
                  <a:pt x="4" y="0"/>
                </a:moveTo>
                <a:lnTo>
                  <a:pt x="0" y="1548"/>
                </a:lnTo>
              </a:path>
            </a:pathLst>
          </a:custGeom>
          <a:noFill/>
          <a:ln w="4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870280" y="3470400"/>
            <a:ext cx="6120" cy="2462040"/>
          </a:xfrm>
          <a:custGeom>
            <a:avLst/>
            <a:gdLst/>
            <a:ahLst/>
            <a:rect l="l" t="t" r="r" b="b"/>
            <a:pathLst>
              <a:path w="4" h="1551">
                <a:moveTo>
                  <a:pt x="4" y="0"/>
                </a:moveTo>
                <a:lnTo>
                  <a:pt x="0" y="1551"/>
                </a:lnTo>
              </a:path>
            </a:pathLst>
          </a:custGeom>
          <a:noFill/>
          <a:ln w="4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48000" y="3471840"/>
            <a:ext cx="4680" cy="2460600"/>
          </a:xfrm>
          <a:custGeom>
            <a:avLst/>
            <a:gdLst/>
            <a:ahLst/>
            <a:rect l="l" t="t" r="r" b="b"/>
            <a:pathLst>
              <a:path w="3" h="1550">
                <a:moveTo>
                  <a:pt x="3" y="0"/>
                </a:moveTo>
                <a:lnTo>
                  <a:pt x="0" y="1550"/>
                </a:lnTo>
              </a:path>
            </a:pathLst>
          </a:custGeom>
          <a:noFill/>
          <a:ln w="4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0800000">
            <a:off x="70920" y="4373280"/>
            <a:ext cx="522360" cy="1576440"/>
          </a:xfrm>
          <a:prstGeom prst="rect">
            <a:avLst/>
          </a:prstGeom>
          <a:solidFill>
            <a:srgbClr val="ccffcc">
              <a:alpha val="20000"/>
            </a:srgbClr>
          </a:solidFill>
          <a:ln w="108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rporate S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0800000">
            <a:off x="181080" y="1672920"/>
            <a:ext cx="341280" cy="1757160"/>
          </a:xfrm>
          <a:prstGeom prst="rect">
            <a:avLst/>
          </a:prstGeom>
          <a:solidFill>
            <a:srgbClr val="c0c0c0">
              <a:alpha val="30000"/>
            </a:srgbClr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4211640" y="1673280"/>
            <a:ext cx="4691160" cy="900000"/>
            <a:chOff x="4211640" y="1673280"/>
            <a:chExt cx="4691160" cy="900000"/>
          </a:xfrm>
        </p:grpSpPr>
        <p:sp>
          <p:nvSpPr>
            <p:cNvPr id="107" name=""/>
            <p:cNvSpPr/>
            <p:nvPr/>
          </p:nvSpPr>
          <p:spPr>
            <a:xfrm>
              <a:off x="4211640" y="1673280"/>
              <a:ext cx="1411200" cy="9000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900000"/>
                <a:gd name="textAreaBottom" fmla="*/ 900360 h 90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Nat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NG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729400" y="1673280"/>
              <a:ext cx="3173400" cy="900000"/>
            </a:xfrm>
            <a:prstGeom prst="rect">
              <a:avLst/>
            </a:prstGeom>
            <a:solidFill>
              <a:srgbClr val="dddddd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dvocacy conduct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y more than 5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4255920" y="4149720"/>
            <a:ext cx="4637160" cy="900000"/>
            <a:chOff x="4255920" y="4149720"/>
            <a:chExt cx="4637160" cy="900000"/>
          </a:xfrm>
        </p:grpSpPr>
        <p:sp>
          <p:nvSpPr>
            <p:cNvPr id="110" name=""/>
            <p:cNvSpPr/>
            <p:nvPr/>
          </p:nvSpPr>
          <p:spPr>
            <a:xfrm>
              <a:off x="4255920" y="4149720"/>
              <a:ext cx="1409760" cy="900000"/>
            </a:xfrm>
            <a:custGeom>
              <a:avLst/>
              <a:gdLst>
                <a:gd name="textAreaLeft" fmla="*/ 0 w 1409760"/>
                <a:gd name="textAreaRight" fmla="*/ 1410120 w 1409760"/>
                <a:gd name="textAreaTop" fmla="*/ 0 h 900000"/>
                <a:gd name="textAreaBottom" fmla="*/ 900360 h 90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ffcc"/>
            </a:solidFill>
            <a:ln w="108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Heal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757840" y="4149720"/>
              <a:ext cx="3135240" cy="900000"/>
            </a:xfrm>
            <a:prstGeom prst="rect">
              <a:avLst/>
            </a:prstGeom>
            <a:solidFill>
              <a:srgbClr val="ccffcc"/>
            </a:solidFill>
            <a:ln w="108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Research &amp; Manufactur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of TB products more tha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80% of CS Health partner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4255920" y="5138640"/>
            <a:ext cx="4637160" cy="900360"/>
            <a:chOff x="4255920" y="5138640"/>
            <a:chExt cx="4637160" cy="900360"/>
          </a:xfrm>
        </p:grpSpPr>
        <p:sp>
          <p:nvSpPr>
            <p:cNvPr id="113" name=""/>
            <p:cNvSpPr/>
            <p:nvPr/>
          </p:nvSpPr>
          <p:spPr>
            <a:xfrm>
              <a:off x="4255920" y="5138640"/>
              <a:ext cx="1409760" cy="900360"/>
            </a:xfrm>
            <a:custGeom>
              <a:avLst/>
              <a:gdLst>
                <a:gd name="textAreaLeft" fmla="*/ 0 w 1409760"/>
                <a:gd name="textAreaRight" fmla="*/ 1410120 w 1409760"/>
                <a:gd name="textAreaTop" fmla="*/ 0 h 900360"/>
                <a:gd name="textAreaBottom" fmla="*/ 900720 h 90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80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Non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Heal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757840" y="5138640"/>
              <a:ext cx="3135240" cy="900360"/>
            </a:xfrm>
            <a:prstGeom prst="rect">
              <a:avLst/>
            </a:prstGeom>
            <a:solidFill>
              <a:srgbClr val="0080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ffffff"/>
                  </a:solidFill>
                  <a:latin typeface="Arial"/>
                </a:rPr>
                <a:t>Advocacy most likely activity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ffffff"/>
                  </a:solidFill>
                  <a:latin typeface="Arial"/>
                </a:rPr>
                <a:t>Activities differ from Corporat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ffffff"/>
                  </a:solidFill>
                  <a:latin typeface="Arial"/>
                </a:rPr>
                <a:t>Sector Health partner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4211640" y="2664000"/>
            <a:ext cx="4691160" cy="900000"/>
            <a:chOff x="4211640" y="2664000"/>
            <a:chExt cx="4691160" cy="900000"/>
          </a:xfrm>
        </p:grpSpPr>
        <p:sp>
          <p:nvSpPr>
            <p:cNvPr id="116" name=""/>
            <p:cNvSpPr/>
            <p:nvPr/>
          </p:nvSpPr>
          <p:spPr>
            <a:xfrm>
              <a:off x="4211640" y="2664000"/>
              <a:ext cx="1411200" cy="9000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900000"/>
                <a:gd name="textAreaBottom" fmla="*/ 900360 h 90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333333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Internat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NG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729400" y="2664000"/>
              <a:ext cx="3173400" cy="900000"/>
            </a:xfrm>
            <a:prstGeom prst="rect">
              <a:avLst/>
            </a:prstGeom>
            <a:solidFill>
              <a:srgbClr val="333333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dvocacy (40%) b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Technical Assistance by &gt;2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Charitable and philanthropic foundat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071720" y="1763640"/>
          <a:ext cx="6146640" cy="4062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1763640"/>
                    <a:ext cx="6146640" cy="40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0T12:48:19Z</dcterms:created>
  <dc:creator>hendersons</dc:creator>
  <dc:description/>
  <dc:language>en-US</dc:language>
  <cp:lastModifiedBy>hendersons</cp:lastModifiedBy>
  <dcterms:modified xsi:type="dcterms:W3CDTF">2007-10-26T08:17:55Z</dcterms:modified>
  <cp:revision>8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