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252-77FD-4300-A9C0-D559EF88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AC8-63B2-4031-890E-008362EB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C8D-14D0-44EA-970B-55EFD914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AE3-9809-4677-A37E-5B85B0D4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02A-D2A4-4BD9-A589-6A9130A3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60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83920" y="1988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5564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60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083920" y="2904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EEB-550C-4FA8-AF7B-09EFDB95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7E7-4786-4B39-B609-30494074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CB0-3F2C-441C-9973-63EEC6FF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616-6770-4A29-B9DF-78ABAA45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0FB-F93A-4715-8C37-4FBF5D31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35600" y="2904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AA6-DA93-4FC6-B0BC-E5A17262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5600" y="1988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2904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184-138D-496C-A0A8-AF27C3E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C962-6393-4D63-8D1C-6FB2EEA881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126828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698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The Research Movement of the Stop TB Partnership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 meeting, 23-24 October 200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of presentation to Coordinating 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ovide feedback to the Coordinating Board from STAG on WHO's role in, and contribution to, the Research Moveme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o presen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proposed strategic plan of action which is, for the moment, based on STAG's endorsement and calls for full ownership by all Stop TB partner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-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overall scope under the Stop TB Partnershi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68000" y="1483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TB resear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ea typeface="Arial"/>
                <a:hlinkClick r:id="rId1"/>
              </a:rPr>
              <a:t>www.stoptb.org/researchmov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esearch featured prominently in World TB day events 2007, e.g. New York, Brussels, Berlin, Rome, Par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Dissemination of results of analysis of current funding and recent funding trends, e.g. TAG report, Kaufman and Parida (Nature Medicine, March 2007)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secretariat is working closely with the ACSM WG to provide information for advoca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280" y="148392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tive engagement of key research partners, includ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&amp;D WGs, including FIND, Global Alliance and Ae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search funding institutions, e.g. NIH, European Commission, UK MRC, South Africa MR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ilaterals, e.g. USAID, DFI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s, e.g. Gates, Rockefell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GOs, e.g. MSF,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cademic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D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ected benefits of investment in new diagnostics, drugs and vaccines set out in long-term strategic plans of R&amp;D WGs (Global Plan to Stop TB, 2006-2015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developments to date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s develop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&amp;D Working Group strategic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search agendas developed by other WGs/subgroups and partn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DR-TB research priorities (Int J TB &amp; Lung Dis 200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B/HIV research priorities (WHO/HTM/TB/2005.35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hildhood TB (WHO/HTM/TB/2007.38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B research agenda (TDR Scientific Working Group Oct 2005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IAID, NIH  - Research Agenda for M(X)DR-TB, June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www.niaid.nih.go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k in progress, e.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mmission (new drug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8000" y="2638080"/>
            <a:ext cx="9036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tracking of TB research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funding for operational research (linked to global M&amp;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TB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aising profile of TB research, e.g. 2008 Global Ministerial Forum on Research for Health, Bamak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unch of Research Movement at Bellagio conference (or simil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3280" y="1412640"/>
            <a:ext cx="8640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1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contd.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leadership and advocacy to mobilise increased resources to support a coherent and comprehensive global TB research age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rticulation of expected benefits of increased investment in research, in basic and implementation research as well as in R&amp;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rough the ACSM W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mechanis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llaboration with InterGovernmental Working Group on Public Health, Innovation and Intellectual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plans to engage and persuade key don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igh-level missions to main research funding agencies to advance arguments for increased 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proposed activities of Partnership (3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9840" y="1530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bjective 2)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ngaging key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 and widen engagement with key research part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consultation, e.g. forum at the IUATLD conference, Cape Town, 8-12 November 2007; public-private dialo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global TB research agen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pdating the research agendas that have been developed so far, and ultimately contributing to the development of a comprehensive global TB research agen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1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280" y="1341360"/>
          <a:ext cx="8964720" cy="533412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1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leadership and advocacy to mobilise increased resources to support a coherent and comprehensive global TB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of TB research fund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op. res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 of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awareness of need to boost TB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follow-up to World Health Assembly resolution; b) contribution to development of WHO's overall health research agenda to be approved by the WHA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information for advoca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ing profile of need for research, including on M(X)DR-T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ng to development of innovative financing mechanis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governmental Working Group on Public Health, Innovation and Intellectual Prope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ing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on with Stop TB Partnership secretar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ng plans to engage and persuade key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r networking with fun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's role in Research Movement: proposed activities 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1280" y="1657440"/>
          <a:ext cx="8964720" cy="2376360"/>
        </p:xfrm>
        <a:graphic>
          <a:graphicData uri="http://schemas.openxmlformats.org/drawingml/2006/table">
            <a:tbl>
              <a:tblPr/>
              <a:tblGrid>
                <a:gridCol w="4114800"/>
                <a:gridCol w="4849920"/>
              </a:tblGrid>
              <a:tr h="823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 2)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ovide a forum for funders and implementers of TB research to coordinate plans and actions, with the result of ensuring that research needs are addressed, opportunities prioritised, and gaps fill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 Movement proposed 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global TB research agen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ibution to development of research agendas of implementation WGs and subgroups, representing expressed needs of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key research stakehol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aging stakeholders in line with WHO man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ents of present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ckground – continuum of health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of developing the TB Research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Relative rol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oal, objectives and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velopments to dat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ctivities of Partnership and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estions to Coordinating 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 indicative cha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4920" y="987480"/>
          <a:ext cx="8964720" cy="5703840"/>
        </p:xfrm>
        <a:graphic>
          <a:graphicData uri="http://schemas.openxmlformats.org/drawingml/2006/table">
            <a:tbl>
              <a:tblPr/>
              <a:tblGrid>
                <a:gridCol w="2889360"/>
                <a:gridCol w="888840"/>
                <a:gridCol w="963720"/>
                <a:gridCol w="887400"/>
                <a:gridCol w="890640"/>
                <a:gridCol w="888840"/>
                <a:gridCol w="814320"/>
                <a:gridCol w="74160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funding for operational research through global M&amp;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lagio meeting (or simil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plan for targeted approaches to key research funders (high-level miss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Questions to Coordinating Boar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773360"/>
            <a:ext cx="8569080" cy="77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with the Research Movement's strategic approach emerging from the process of consultation, under the auspices of the Stop TB Partnershi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es the Board agree that the specific activities proposed will serve to meet the Research Movement's goal and objec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Continuum of TB research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– needs funding at all level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137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 research for dis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velopment of new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diagnostic tests, drugs, vacci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/operation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health policy, systems and service delive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cial science and behavioural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onitoring and evaluation of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pidemiology and mod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3502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progress in process of consultation </a:t>
            </a:r>
            <a:br>
              <a:rPr sz="2800"/>
            </a:b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292720" y="148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une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17800" y="1484280"/>
            <a:ext cx="219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 Bd mtg, Geneva, April 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14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Cd Bd mt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erli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3-24 October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645000"/>
            <a:ext cx="9144000" cy="865080"/>
          </a:xfrm>
          <a:prstGeom prst="rightArrow">
            <a:avLst>
              <a:gd name="adj1" fmla="val 50093"/>
              <a:gd name="adj2" fmla="val 9635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ESEARCH MOVEMEN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4292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781164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5294160" y="5589720"/>
            <a:ext cx="28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approval of WHO'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5866920" y="2637000"/>
            <a:ext cx="1080" cy="100872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5866920" y="4508280"/>
            <a:ext cx="1080" cy="937080"/>
          </a:xfrm>
          <a:prstGeom prst="straightConnector1">
            <a:avLst/>
          </a:prstGeom>
          <a:ln w="54000">
            <a:solidFill>
              <a:srgbClr val="3366cc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3995640" y="148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/>
          <p:nvPr/>
        </p:nvCxnSpPr>
        <p:spPr>
          <a:xfrm>
            <a:off x="442728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2843280" y="5589720"/>
            <a:ext cx="24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quest "to enhance WHO's role in TB research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>
            <a:off x="4427280" y="4508280"/>
            <a:ext cx="1080" cy="937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8000" y="1484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op TB P'shi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d  Bd mtg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uja April 2006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Jakarta Nov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1042560" y="2708280"/>
            <a:ext cx="1080" cy="9374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he Partnershi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and WHO (1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artnershi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ve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 wide range of TB research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(including the end-users of TB research, e.g. NTP managers, and community groups), in addition to researchers and stakeholders in related research (including health systems and policy research, HIV researc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nsifying engagement with funders of research to mobilize increased funding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advocating for TB research, contributing to public awareness of TB research and promoting community mobilization for research activities through the ACSM Working Group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promoting the development of a wide range of technologies through the Partnership's Working Groups on new to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lative roles of the Partnership and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WHO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(2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O is playing a lead role in establishing the Research Movemen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nce the goal and objectives are fully consistent with WHO's man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promote TB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 advantages of WHO's contribution include i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s with countries and representation of country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cy mandate and associated opportunities to identify research need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ole in technical collaboration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 role in global TB M&amp;E;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45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ional commitment to promote research as articulated by the Director-General and expressed in the 2007 WHA resolution (WHA 60.19) "TB control: progress and long-term planning"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The TB Research Movement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goal and objectiv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95280" y="1557360"/>
            <a:ext cx="8569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goal is to stimulate, support and expand research to ensure the global elimination of TB by 2050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The objectives are to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leadership and advocacy to mobilise increased resources in support of a coherent and comprehensive global TB research agenda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provide a forum for funders and implementers of TB research to coordinate plans and actions, with the result of ensuring that research needs are addressed, opportunities prioritised, and gaps filled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1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3964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1): to provide leadership and advocacy to mobilise increased resources in support of a coherent and comprehensive global TB research agen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1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TB research funding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raising awareness of need to boost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of expected benefits of increased investment in research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providing information for advoca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ntributing to development of innovative financing  mechanism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coordinate plans to engage and persuade key fund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Research Movement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Tahoma"/>
              </a:rPr>
              <a:t>activities to achieve objective 2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Objective 2): to provide a forum for funders and implementers of TB research to coordinate plans and actions, with the result of ensuring that research needs are addressed, opportunities prioritised, and gaps fi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ctivities proposed to achieve objective 2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ngage key research stakeholder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urther promote the research agendas of the WGs on new diagnostics, drugs and vaccin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evelop global TB research agendas in specific area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facilitate interaction between research funding agenc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9:11:51Z</dcterms:created>
  <dc:creator>lamyquiques</dc:creator>
  <dc:description/>
  <cp:keywords/>
  <dc:language>en-US</dc:language>
  <cp:lastModifiedBy>User</cp:lastModifiedBy>
  <dcterms:modified xsi:type="dcterms:W3CDTF">2007-10-24T06:26:25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64941164</vt:r8>
  </property>
  <property fmtid="{D5CDD505-2E9C-101B-9397-08002B2CF9AE}" pid="3" name="_AuthorEmail">
    <vt:lpwstr>maherd@who.int</vt:lpwstr>
  </property>
  <property fmtid="{D5CDD505-2E9C-101B-9397-08002B2CF9AE}" pid="4" name="_AuthorEmailDisplayName">
    <vt:lpwstr>Maher, Dermot</vt:lpwstr>
  </property>
  <property fmtid="{D5CDD505-2E9C-101B-9397-08002B2CF9AE}" pid="5" name="_EmailSubject">
    <vt:lpwstr>slides for Roberto Tapia's presentation</vt:lpwstr>
  </property>
  <property fmtid="{D5CDD505-2E9C-101B-9397-08002B2CF9AE}" pid="6" name="_NewReviewCycle">
    <vt:lpwstr/>
  </property>
  <property fmtid="{D5CDD505-2E9C-101B-9397-08002B2CF9AE}" pid="7" name="_PreviousAdHocReviewCycleID">
    <vt:r8>-472832796</vt:r8>
  </property>
  <property fmtid="{D5CDD505-2E9C-101B-9397-08002B2CF9AE}" pid="8" name="_ReviewingToolsShownOnce">
    <vt:lpwstr/>
  </property>
  <property fmtid="{D5CDD505-2E9C-101B-9397-08002B2CF9AE}" pid="9" name="_TemplateID">
    <vt:lpwstr>TC011811911033</vt:lpwstr>
  </property>
</Properties>
</file>