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20C8-15E6-4915-914C-57C25CE1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1A3-18EB-44F6-B13A-36C3AF52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53D-378A-4B5B-B6B3-4703BE93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B15E-6779-4428-A9C4-931A1663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295F-3C9E-4E57-8FEA-18BBC7B3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3D86-9FD6-45E3-8EE6-4FCD84E5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9339-3900-4A30-A134-B6610AF7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D223-F457-4D7E-B122-4025E978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AA47-52B9-476A-A4F7-03F1A66E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E8F5-0E8D-42FC-B6CB-64C7A159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C67D-1221-46F9-B237-B06F5470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CA7-26D2-46DF-9C02-BB999C3D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C69E-DBCA-4CD4-8BC4-8AE6B7A9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DF93-EF30-4C85-931B-20BAEF87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ED32-79CA-4B08-8882-F8AD7558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B0F4-25DE-46FA-9D69-58F7CD34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3E11-FF01-4060-9CB9-1EEED1C1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4D7A-BEC8-4CDD-A9C2-E2DC485D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625D-F71D-47D2-A69F-434662AE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F8D-8DA7-4101-9FE6-8569DFA4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9A8-D6E6-43FA-A9F2-E4EEA069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2C0-E580-4C76-BB2D-31FB094F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3464-DDC1-4E89-9DCA-600D998F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6F9-D6E8-4643-ADE4-02377E06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245E-3D9A-4176-8715-CA88A74572A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60B6-A0EE-41B1-AE6B-0EC97915788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2205000"/>
            <a:ext cx="756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ORKPLANS 2008-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SEARCH WORKING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Vaccines WG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1: Keep the Pipeline fill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workshop on innovative approaches to TB vaccine development and provide report and follow-up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2: Build capacity at vaccine trial sit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d convene a “clinical trialists network”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in strengthening of regulatory and ethical capacity in TB endemic countries where trials are being perform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y 3: Perform clinical tria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 annual workshop on laboratory assay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international collaborative study on development of a functional assa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nual meeting on diagnostics paradigms and clinical endpoi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“white book” on clinical evaluation of TB vaccin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4: Provide an enabling infrastructure &amp;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n economics and product profi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 study on economic impac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meeting on advocacy, communications and social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dvocacy mate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mmunity outreach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nd support 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f Working Grou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dget Reques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2 Objectiv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udget requested ($U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and improve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G vaccination program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y &amp; translational rese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apacity at vaccine tri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7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clinical tri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3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nabling infra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55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9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&amp;D Working groups are on track on the deliverables as expressed i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uilding upon early success to strenghten and expand activiti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equest Partnership to continue its support and commitment and scale up activities on resource mobilization for New Tool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ork Plan WG on Diagnostics 2008-2009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1: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Intensify collaboration within the WG on New Diagnostics and with  other WGs of the Stop TB Partnership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nlarge Core Group of the New Diagnostics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stablish Sub-groups within the New Diagnostics Working Group and facilitate sub-group members to take an active role in developing the Sub-group and working towards their goal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Annual all-day meeting of Working Group on New Diagnostics during the Union’s World Conference on Lung Health, plus 2 "Meet the Experts" Workshops in the main programme of the conference 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Part-time personnel support for secretariat in preparation of New Diagnostics WG materials, and development and maintenance of  website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 Area 2: Develop clear criteria for describing intended setting for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candidate diagnostic test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be conducted at the same time as Activity A in Priority Thre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 3: Describe an expanded diagnostics pipeline that reflects the explosion in activity aimed at developing new diagnostics for tuberculosi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conduct one workshop in 2008 to describe the expanded pipeline of T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diagnostics under development or evaluation and develop clear criteria for describing the intended setting for candidate diagnostic test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Update the pipeline in 2009.  This will be mainly achieved through e-mail and teleconference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4: Develop a Scientific Blueprint for the development of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Diagnost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Workshop, consultations, writing, publishing and distributing a Scientific Blueprint for TB Diagnostics Development.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5: Develop criteria to place developing technologies at particular stages of the “value chain” of development and evaluation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6: Work with the STP Retooling Task Force and the Subgroup on Laboratory Capacity Strengthening to promote and facilitate the implementation of new diagnostic technologie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Participation of WG members in Retooling Task Force and SCLS meeting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Develop guidelines for the introduction and sustainable implementation of new diagnostics in partnership with the RTF and SLC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osed biennial budge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0400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47840" y="69480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5120" y="1495440"/>
            <a:ext cx="80517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1: Support Global R&amp;D for New TB Drug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research coordination to advance the global TB drug pipeline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Symposia at IUATLD on TB drug development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sh R&amp;D activity mapping projec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Support development of clinical trial site capacity.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Assess funding needs for clinical trial site capacity building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development of biomarkers, surrogate endpoints, animal models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tract and publish a review on the state of the art of biomarkers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/co-sponsor a symposium on these top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Identify strategies to evaluate new drugs for MDR- and XDR-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and help organize meetings of the MDR/XDR Task Forc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publication of MDR/XDR Task Force document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other activities of the MDR/XDR Task Force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47840" y="67644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960" y="1793520"/>
            <a:ext cx="81057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2: Promote harmonized regulatory guidelines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for TB and MDR-TB Drug Development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 and co-sponsor annual Open Fora on key regulatory issu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3: Promote engagement with affected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community representatives (ACRs)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travel to WGND annual meetings, symposia and Open Fora; 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rovide support and training to facilitate ACR participation in meetings and WGND activitie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4: Maintain communication and collabora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WGND</a:t>
            </a: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 meetings; participate in Partnership meeting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Update the Strategic Plan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 core group to oversee implementation of the Strategic Plan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the activities of the Retooling Task Force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cations: e.g. brochure, newsletter, annual reports, websit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Retain the services of a full-time Secretaria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7840" y="6858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2600" y="144936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Minimum Two Year Budget, b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1984320"/>
          <a:ext cx="7629480" cy="4551480"/>
        </p:xfrm>
        <a:graphic>
          <a:graphicData uri="http://schemas.openxmlformats.org/drawingml/2006/table">
            <a:tbl>
              <a:tblPr/>
              <a:tblGrid>
                <a:gridCol w="741960"/>
                <a:gridCol w="2702160"/>
                <a:gridCol w="1572840"/>
                <a:gridCol w="1553760"/>
                <a:gridCol w="1058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Partnership</a:t>
                      </a: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AXIMU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TB Alli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a at IUAT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&amp;D activity mapping proje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ssess funds for clinical trial s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um on Biomark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DR Taskforce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pen For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CR Travel and train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trategic Plan Up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GND Publica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Support sta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Annual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ravel to Partnership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nvene a core grou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$3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User</cp:lastModifiedBy>
  <dcterms:modified xsi:type="dcterms:W3CDTF">2007-10-24T06:20:15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