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66CE-4BA4-459A-80FA-A785F4D89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6A54-9D99-4107-9036-308AE04A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28CB-F0E6-4223-9AE7-EC75E9C41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0927-3677-495E-A6C9-F42CCA838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C491-FBF7-45E3-879A-2C150693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BF5B-783E-4A98-99BA-A3F9A105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C544-F118-4289-BE1C-7CEDF8EE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96E2-8D02-4B30-8FBD-7E5B2C5B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6642-DBEA-470F-83D7-80C98DD9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7231-D118-4902-A558-CB9893D2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B973-F6E7-4D09-9B7F-B364A703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5C73-61BB-4F28-ADE4-EAA3DA22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A2A6-D1C3-4D76-8ECA-806093294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962680" y="6005520"/>
            <a:ext cx="3181320" cy="852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74720" y="1403280"/>
            <a:ext cx="748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27320" y="3511440"/>
            <a:ext cx="6916680" cy="3346560"/>
          </a:xfrm>
          <a:prstGeom prst="rect">
            <a:avLst/>
          </a:prstGeom>
          <a:noFill/>
          <a:ln w="255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                       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Stop TB Part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24 October 200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Berlin, 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Paul Sommerf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Chair, ACSM Working Grou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826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CSM Working Group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iennium Workplan</a:t>
            </a:r>
            <a:br>
              <a:rPr sz="3600"/>
            </a:br>
            <a:br>
              <a:rPr sz="3600"/>
            </a:b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Strategic Action to Stop T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24379" t="0" r="32732" b="0"/>
          <a:stretch/>
        </p:blipFill>
        <p:spPr>
          <a:xfrm>
            <a:off x="228600" y="887400"/>
            <a:ext cx="2754360" cy="4226040"/>
          </a:xfrm>
          <a:prstGeom prst="rect">
            <a:avLst/>
          </a:prstGeom>
          <a:ln w="57240">
            <a:solidFill>
              <a:srgbClr val="66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Strategic Frame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velop Opportunities for More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gage Civil Society; Promote Collab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mote ACSM Approaches in TB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pport other Partnership Working Groups and Initi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evelop Opportun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8560" y="1562040"/>
            <a:ext cx="8020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dentify targets and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elop a "Library of Evidence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ise strategy for each tar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Link Secretariat and Partner eff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onitor resource mobilization activi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ngage Civil Socie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4880" y="1562040"/>
            <a:ext cx="8020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omote Regional and Nat'l STB Partner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nvene Reg’l and Nat’l dialogue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ordinate partner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round key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isseminate messag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ild Civil Society Capa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3040" y="1981080"/>
            <a:ext cx="8020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ction learning on civil society invol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trengthen and link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romote use of Patients' Charter and International Standards of TB Ca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grate ACSM in TB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00280" y="1657440"/>
            <a:ext cx="8019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ntin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regional ACSM planning worksh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acilitate technical assistance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rain consultant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ntegrate ACSM into existing to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isseminate "how-to" ACSM  gui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Integrate ACSM in TB Control</a:t>
            </a: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4880" y="1486080"/>
            <a:ext cx="80200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isseminate best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roduce regional case study colle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Collect examples of good ACSM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y global indic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Annually review ACSM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pport other Working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6720" y="1581120"/>
            <a:ext cx="802008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romote exchange of information and sh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CSM-related tools and best pract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SimSun"/>
              </a:rPr>
              <a:t>Work with advocacy people of oth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y ACSM Core Group individuals to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SimSun"/>
              </a:rPr>
              <a:t>assu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lia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rovide training, tools and materials to develop advocacy capacity of oth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Next Steps </a:t>
            </a: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4880" y="1486080"/>
            <a:ext cx="8020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ranslate objectives into Action Pl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Partners meet in Cape Town to develop strategy and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Identify resources for WG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(Regular support is in Secretari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cos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2:13:56Z</dcterms:created>
  <dc:creator>LamyQuiqueS</dc:creator>
  <dc:description/>
  <dc:language>en-US</dc:language>
  <cp:lastModifiedBy>User</cp:lastModifiedBy>
  <cp:lastPrinted>2002-05-31T10:14:11Z</cp:lastPrinted>
  <dcterms:modified xsi:type="dcterms:W3CDTF">2007-10-24T06:26:30Z</dcterms:modified>
  <cp:revision>10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