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0E2DB36-29E3-48BC-88A9-0FCF1E2878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7676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5EE-402E-4D9B-A5C0-04C2B443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AFE-81B0-4EE0-93C1-50EB5D4E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687-30CA-4A70-96A4-9E3172C2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34D-E9E3-4B20-AEB7-3F6A0303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DBA5-6783-475C-A28E-DEEFE39B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0EB9-2370-4E6A-995B-9ABB602D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24A3-8E35-4E7F-9D43-C9D25AC3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09ED-F961-4D7E-AB93-E3C1DC8F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D78A-661E-469C-A25A-AF2661F5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4AB6-7517-4752-B41D-ADEC1CF0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30C9-21AB-4DB3-AA3E-49FEC7C6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EA0-2724-40B3-9268-53981066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8EE5-7B1F-4F41-BD81-BD8FE320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6130-7AF5-482B-B074-6B82B811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53D5-93E4-4CB2-BC29-6BD01B71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15FF-9E15-4E69-BC08-FCED95D2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8BA1-BDFE-4ECD-BBC3-25F848B6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B65-AB9C-4B3F-8BAC-C7A3D573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CB05-9D55-488B-B99F-816FF368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07B-7397-4D4B-86DB-D2477AE1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D2F2-C390-4443-A480-60C19A60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3789-5ECE-45C9-895E-95FAA974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E69-5035-47E5-A36A-89EDD827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024-EE8D-4FCC-860D-1D78E5B2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1E40-8FB6-461C-96A2-E48FC6BE1B2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620E-5481-4094-B9E3-82406BE12F2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NUAL REPORT 2006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Principal Highlight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217000" y="486900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09200" y="1065600"/>
            <a:ext cx="19044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rcos Esp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nditur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05120"/>
            <a:ext cx="814212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  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4,350     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NDITU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6,660     52,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INCOME OVER 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EXPENDITURE OVER 2005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700280"/>
            <a:ext cx="8763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,47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3,97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28,878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4,0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4,350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GDF INCOME             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PARTNERSHIP INCOME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15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nditure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" y="1341360"/>
            <a:ext cx="876312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 Sup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,211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5,79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            92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9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30,19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3,3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eneral Management &amp; ADM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324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74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36,660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52,9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ferred to reserv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rplus/(deficit) of incom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fter reserves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(2,310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,08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320" y="1341360"/>
            <a:ext cx="876276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ational 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5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building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0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A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31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4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vernanc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47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orking Group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echnical Assistance to India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0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24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,211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,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Partn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pport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0320" y="1341360"/>
            <a:ext cx="87627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ocurement of TB Drug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8,367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1,34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A &amp; pre-qualification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8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A, monitoring and sal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1,64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8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57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0,196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43,3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tal income for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years 2000 to 200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38320" y="1460520"/>
          <a:ext cx="650556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460520"/>
                    <a:ext cx="650556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6000" y="5516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POUND ANNUAL GROWTH RATE OF 43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4760" y="3933720"/>
            <a:ext cx="54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2240" y="274320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09760"/>
          <a:ext cx="382428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9760"/>
                    <a:ext cx="3824280" cy="5332320"/>
                  </a:xfrm>
                  <a:prstGeom prst="rect">
                    <a:avLst/>
                  </a:prstGeom>
                  <a:ln w="32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24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unch of the Global Plan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ointment of the first ever UN Secretary General Special Envoy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628640"/>
            <a:ext cx="896472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er profil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360" y="1196640"/>
            <a:ext cx="921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all to Stop TB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C, G8, UNGASS, Ibero-American Summit, African Union Summit, AIDS Int Conf, Clinton Summit, World TB Day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uropean Regional Partnership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untry Partnershi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High Level Missions to Brazil, Nigeria, India, Indonesia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ngagement of world leaders (Annan, Arroyo, Brown, Gates, Kaunda, Obasanjo, Sampaio, Tutu, and others)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Kochon Award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Parliamentarian Grou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ordinating Board  – Nigeria and Indonesia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25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nual meetin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rug development (Paris), Diagnostics (Paris), Vaccines (Vienna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n drugs in clinical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pen Forum on regulatory hurd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to patient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ATB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phage-based test for detection of RIF resi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agnosis for TB: Global Deman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FIND/TDR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ccine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Oxford, Aeras/Crucell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in clinical t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hase III trials sites in Ethiopia, India, and Uganda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AERAS/EDCTP/TBVAC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" y="1484280"/>
            <a:ext cx="928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ual meeting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OTS Expansion (Paris), MDR-TB (Atlanta), TB/HIV (Toronto), ACSM (Milan/Par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 Case Detection – 84% Treatment Succes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B TEAM – Global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Standards for TB Ca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DR-TB Global 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C – 53 project – 25 000 pati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ection control sub-group under TB/HIV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SM at country level – US$ 30 m – Sixth GF ro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op TB Partnership Global Coalition on Technical Assistance (TBTEAM) – Global Fu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4440"/>
          <a:ext cx="8496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4440"/>
                    <a:ext cx="8496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308720" y="981000"/>
            <a:ext cx="1150920" cy="647640"/>
          </a:xfrm>
          <a:prstGeom prst="wedgeRoundRectCallout">
            <a:avLst>
              <a:gd name="adj1" fmla="val -43791"/>
              <a:gd name="adj2" fmla="val 563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64%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4510080"/>
            <a:ext cx="1150920" cy="647640"/>
          </a:xfrm>
          <a:prstGeom prst="wedgeRoundRectCallout">
            <a:avLst>
              <a:gd name="adj1" fmla="val -77722"/>
              <a:gd name="adj2" fmla="val 4436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35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1413000"/>
            <a:ext cx="4105080" cy="792000"/>
          </a:xfrm>
          <a:prstGeom prst="wedgeRoundRectCallout">
            <a:avLst>
              <a:gd name="adj1" fmla="val -4407"/>
              <a:gd name="adj2" fmla="val 369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Tahoma"/>
              </a:rPr>
              <a:t>2004 Beij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CB approves the concept of country TA on GFATM grants through DOTS Expansion 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147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al of 3.3 million anti-TB drug treatments reaching 10 m patient treat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d new drug orders worth US$29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range expanded to include second line anti-TB dru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al assistance to 58 countries by drug management and TB expe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bvisitor</cp:lastModifiedBy>
  <cp:lastPrinted>2004-03-15T16:24:32Z</cp:lastPrinted>
  <dcterms:modified xsi:type="dcterms:W3CDTF">2007-04-19T13:20:21Z</dcterms:modified>
  <cp:revision>179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