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1F0-FF54-443D-A550-51C0AF7E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DFE-A496-4295-ACA8-A838A020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ACC-0D87-407C-8C70-67247CAF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A3C-F2BA-4203-9202-76BE587B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80B1-A1AE-4390-AA7B-5CF510F0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B1D-6E42-49FF-95FC-74E38F12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C22-590B-447C-8A2C-1B57DB1B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A92E-D212-44D9-A969-38414F69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A67-A36B-495A-AA75-BA652B63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0E5-329C-48D1-8F11-0087D748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027-84F2-497C-B5DA-D5344DA5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71A-2D5A-4290-8822-3C0A37F4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8014-7A10-46D5-8665-F76C04FEE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6767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12640"/>
            <a:ext cx="748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 providing advice to the GDF on meeting its strategic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ping GDF to effectively execute its broad ranging operations in a complex business enviro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n members with wide-ranging expertise, selected through competitive nomin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aw material manufacturing,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duct formulation for drugs and diagno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gulatory law, contract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itive procur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cing and distribu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cus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BA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sufficient number of prequalified suppliers of anti-TB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trategies for effective introduction of additional TB products to the GDF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on of GDF serv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Increasing number of prequalified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d biased suppli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inventory of drug finished product and API manufacturers, including, local industries, analysis of volume and targe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bottlenecks in the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process of pre-qualification by providing process and technical assistance to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ffectively introducing new items to GDF produc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ediatric formulations: Lack of PQ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ly and demand of 2nd line products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: Lack  of international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ssive approach required to pre-qualify suppliers of paediatric products and to identify low cost quality for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nvergence of GDF and GLC should be exp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respective roles, ensure integrated 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analysis on supply capability (including API), true demand, and local regulatory obstacles to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to advocate quality standards for curren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prepare supply strategy upon adoption of new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Strategic approach to developing GDF servi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/Increasing grant servic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ve local drug licensing, procuremen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’s perceived position in tend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lack of local drug management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experience – need for accurate feed-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ively decrease dependence on grants and promote direct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donors, private sector, NGOs, principal gran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innovative approaches to procurement service provision in context of government or dono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sue a targeted approach for TA on dru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steps to hire a TA manager in GD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ly collect, analyze and adopt lessons learned from customer feedback – act effectively on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advocate its strategic position relative to the Global Fund, WHO and other donors and technic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to increase the number of manufacturers prequalified by WHO to supply anti-TB drugs, and increase the number of programmes that order strictly from suc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ersify its donor bas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GDF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 support for existing GDF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field experiences on service needs, perceptions and obstacles with the three New Tool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 is better, affordable, accessible interventions to serve pati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Bernard</cp:lastModifiedBy>
  <dcterms:modified xsi:type="dcterms:W3CDTF">2007-04-19T06:20:01Z</dcterms:modified>
  <cp:revision>36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