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4D8DF-CC2B-48A3-A644-0AC95DC5A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do you measure success here?  Bring the "annotated action pla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do you measure success here?  Bring the "annotated action pla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4945-F2C0-4D69-95E0-FFBAECF3E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F585-CFCF-4042-894F-E092A6542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7C05-19D6-417A-BDB2-562935641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B742-EC5E-43E5-927C-1AE02B8DE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20B4-6A7C-45A2-A856-1871281B2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95E6-D809-4640-A8D0-2EF8C0643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2A6D-B06B-43B6-8CE2-588529ADD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4B10-2855-42EC-B5E4-BA4253422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0320-1AA6-4BBC-A15D-BD36ECC8B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1C93-4952-46F0-9EA0-3672A3D6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100B-823E-4797-9A89-D012A1AB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7716-44F5-4161-88C4-4E43A40B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EAFCB-9C7D-4B56-A0E6-5C166B294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FOR EUROPE &amp; CENTRAL ASIA</a:t>
            </a: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Progress and Future Direc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ohn O’Too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ir, Executive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835280" y="404640"/>
            <a:ext cx="532908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4000" spc="-1" strike="noStrike" u="sng">
                <a:solidFill>
                  <a:srgbClr val="3366ff"/>
                </a:solidFill>
                <a:uFillTx/>
                <a:latin typeface="Arial"/>
              </a:rPr>
              <a:t>Current Sit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stablished Oct 200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oad public/private partnership &amp; Executive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retariat IFRC/RC, Chair ECD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0 point Actio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ld TB Day in Europe (Brussels, Berlin, Paris, London, Copenhagen, Stockhol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ively supporting WHO Minister Fo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8900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3366ff"/>
                </a:solidFill>
                <a:uFillTx/>
                <a:latin typeface="Arial"/>
              </a:rPr>
              <a:t>Ten Point Action Plan for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upport the WHO Ministerial Forum on TB late 2007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World TB Day 2007 event in the European Parliamen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ap services and resources in the European region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Greater participation of civil society in TB activiti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evelop a media campaign to raise awareness of TB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cale up media coverage of TB in affected countri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roaden member base of the Partnership in Europ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isseminate and promote best practice models for TB control in Europ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Engage relevant Euro &amp; national decision-maker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llaborate with HIV/AI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nd other stakehold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8900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66ff"/>
                </a:solidFill>
                <a:uFillTx/>
                <a:latin typeface="Arial"/>
              </a:rPr>
              <a:t>Suc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obilise great effort, energy + enthusia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World TB Day 2007 events in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uild closer links between part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oved TB up the political 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EU Commissioner Kyprianou announced EU TB Action Pl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Added value + created sy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66ff"/>
                </a:solidFill>
                <a:uFillTx/>
                <a:latin typeface="Arial"/>
              </a:rPr>
              <a:t>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ilding the aircraft while flying 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duce in a short period of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ographical: engaging + involving countries + communities from E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stituencies (NTP, Ministries, resear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velop an operational bud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ilding profile +repu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549360"/>
            <a:ext cx="8218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en-GB" sz="2400" spc="-1" strike="noStrike">
                <a:solidFill>
                  <a:srgbClr val="3366ff"/>
                </a:solidFill>
                <a:latin typeface="Arial"/>
              </a:rPr>
              <a:t>TB mortality, Europe 2002-2004</a:t>
            </a:r>
            <a:br>
              <a:rPr sz="2400"/>
            </a:br>
            <a:r>
              <a:rPr b="0" i="1" lang="en-GB" sz="2400" spc="-1" strike="noStrike">
                <a:solidFill>
                  <a:srgbClr val="3366ff"/>
                </a:solidFill>
                <a:latin typeface="Arial"/>
              </a:rPr>
              <a:t>(deaths per 100,000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340000" cy="287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rcRect l="0" t="2801" r="0" b="2801"/>
          <a:stretch/>
        </p:blipFill>
        <p:spPr>
          <a:xfrm>
            <a:off x="1332000" y="1700280"/>
            <a:ext cx="7194600" cy="4537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340000" y="1773360"/>
            <a:ext cx="1728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ot includ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o data or data incomp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0.2 – 1.0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.1 – 5.0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5.1 – 1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gt;1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66ff"/>
                </a:solidFill>
                <a:uFillTx/>
                <a:latin typeface="Arial"/>
              </a:rPr>
              <a:t>Current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ionalise links to Global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engthen organisational structure + modus operand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and the Partnership to include more key institutional players + donors, broaden Constituencies: NTP Managers, Ministries, Health Protection Agencies,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ographic representation: Eastern + F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rify operational budget asp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340000" cy="2872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B cases of foreign origin, Europe 20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rcRect l="7274" t="2801" r="0" b="2801"/>
          <a:stretch/>
        </p:blipFill>
        <p:spPr>
          <a:xfrm>
            <a:off x="1116000" y="1773360"/>
            <a:ext cx="6545160" cy="4525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 rot="4707600">
            <a:off x="1224000" y="5047920"/>
            <a:ext cx="1800000" cy="720720"/>
          </a:xfrm>
          <a:prstGeom prst="leftArrow">
            <a:avLst>
              <a:gd name="adj1" fmla="val 50000"/>
              <a:gd name="adj2" fmla="val 62438"/>
            </a:avLst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 rot="10800000">
            <a:off x="1474560" y="5500080"/>
            <a:ext cx="2693880" cy="14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33%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 rot="10854600">
            <a:off x="2948040" y="5586840"/>
            <a:ext cx="1619280" cy="645840"/>
          </a:xfrm>
          <a:prstGeom prst="rect">
            <a:avLst/>
          </a:prstGeom>
          <a:solidFill>
            <a:srgbClr val="ffff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marL="523800" indent="-523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8% Balk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3133800">
            <a:off x="2624400" y="4728240"/>
            <a:ext cx="792360" cy="498600"/>
          </a:xfrm>
          <a:prstGeom prst="leftArrow">
            <a:avLst>
              <a:gd name="adj1" fmla="val 50000"/>
              <a:gd name="adj2" fmla="val 39729"/>
            </a:avLst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729800">
            <a:off x="2484360" y="3933720"/>
            <a:ext cx="2592360" cy="720720"/>
          </a:xfrm>
          <a:prstGeom prst="leftArrow">
            <a:avLst>
              <a:gd name="adj1" fmla="val 50000"/>
              <a:gd name="adj2" fmla="val 89923"/>
            </a:avLst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16360" y="4941720"/>
            <a:ext cx="1944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5000"/>
          </a:bodyPr>
          <a:p>
            <a:pPr marL="578880" indent="-578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34% A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21475200">
            <a:off x="3995280" y="3141360"/>
            <a:ext cx="1873440" cy="720720"/>
          </a:xfrm>
          <a:prstGeom prst="leftArrow">
            <a:avLst>
              <a:gd name="adj1" fmla="val 50000"/>
              <a:gd name="adj2" fmla="val 64985"/>
            </a:avLst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79840" y="3230640"/>
            <a:ext cx="163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84720" y="3284640"/>
            <a:ext cx="367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9000"/>
          </a:bodyPr>
          <a:p>
            <a:pPr marL="542160" indent="-542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9% F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732720" y="5826240"/>
            <a:ext cx="2411280" cy="1031400"/>
          </a:xfrm>
          <a:prstGeom prst="rect">
            <a:avLst/>
          </a:prstGeom>
          <a:solidFill>
            <a:srgbClr val="ffffff">
              <a:alpha val="39000"/>
            </a:srgbClr>
          </a:solidFill>
          <a:ln cap="rnd" w="64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* Annotated arrows show the provenance of foreign TB cases in the EU in 2005 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(23 countries, N=13,66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47640" y="1989000"/>
            <a:ext cx="172908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Frutiger 57Cn"/>
              </a:rPr>
              <a:t>No 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Frutiger 57Cn"/>
              </a:rPr>
              <a:t>0% – 4%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Frutiger 57Cn"/>
              </a:rPr>
              <a:t>5% – 19%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Frutiger 57Cn"/>
              </a:rPr>
              <a:t>20% – 49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Frutiger 57Cn"/>
              </a:rPr>
              <a:t>&gt;49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66ff"/>
                </a:solidFill>
                <a:uFillTx/>
                <a:latin typeface="Arial"/>
              </a:rPr>
              <a:t>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lot done – a lot more to d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tain progress on TB in G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k with PT EU Health Presid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U TB Action Pl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iga – Ex. Comm Elections and Future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and geographically and constituents: more key institutional players + donors (expand Partnership to include EU Commission, EP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O Ministerial Forum 22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ctober – a critical stakeholders meeting for 53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10:05:17Z</dcterms:created>
  <dc:creator>jotoole</dc:creator>
  <dc:description/>
  <dc:language>en-US</dc:language>
  <cp:lastModifiedBy>stbvisitor</cp:lastModifiedBy>
  <dcterms:modified xsi:type="dcterms:W3CDTF">2007-04-19T12:29:53Z</dcterms:modified>
  <cp:revision>24</cp:revision>
  <dc:subject/>
  <dc:title>  FOR EUROP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90394228</vt:r8>
  </property>
  <property fmtid="{D5CDD505-2E9C-101B-9397-08002B2CF9AE}" pid="3" name="_AuthorEmail">
    <vt:lpwstr>bakerl@who.int</vt:lpwstr>
  </property>
  <property fmtid="{D5CDD505-2E9C-101B-9397-08002B2CF9AE}" pid="4" name="_AuthorEmailDisplayName">
    <vt:lpwstr>Baker, Louise</vt:lpwstr>
  </property>
  <property fmtid="{D5CDD505-2E9C-101B-9397-08002B2CF9AE}" pid="5" name="_EmailSubject">
    <vt:lpwstr>Ang. RE: Action point 3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