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200-CF16-4EFE-9A06-530CB82D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DBE8-A13C-40D4-9A77-1E9FC9F7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7B5E-165F-4BFD-A90F-9C340531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1F5-AB22-414D-B5D4-DED2F147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9FF-5332-45AE-BEC2-E3D7426F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F26-FA12-4E3A-A80B-7C95D37E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C525-1721-4120-8852-76901A7E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7F7-E728-4A70-A2BC-B63483AC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7AA-4C64-44DF-AC5F-8E0918CA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232F-157A-43EA-80A2-7A2EA59F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6A19-51E3-4C2F-9B83-60AC01AB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8ED-1E92-4966-B8FD-21C43D0A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9585-0729-4ED3-B138-B7E37F1C819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The global Stop TB Research Mov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tionale for a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hat is the global Research Movement to Stop T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Developments to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lanned activities &amp;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oard's endo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Global TB research agendas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Global TB research agenda (TDR Scientific Working Group Oct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research priorities (Int J TB &amp; Lung Dis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B/HIV research priorities (WHO/HTM/TB/2005.3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Childhood TB (WHO/HTM/TB/2007.38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and in progres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Working Group updating the 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NIH  (MDR-T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European Commission (new dru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ising awareness of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ebsite launched in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 Narrow"/>
                <a:hlinkClick r:id="rId1"/>
              </a:rPr>
              <a:t>www.stoptb.org/research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eatured prominently in World TB day events 2007, e.g. New York, Brussels, Berlin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artnership secretariat and WHO actively engaged with key research partners, inclu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NGOs, e.g. MSF,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unding institutions, e.g. UK MRC. European Commission Directorate-General for Research and South Africa M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cadem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Other institutions, e.g. Rockefeller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Planned activities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obilising increased global funding for TB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uilding consensus on Research Movement's strateg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Mobilising increased global funding for TB research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Planned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ssessing research needs, priorities and gaps (building on TDR's relative advantage in developing a global TB research agenda and enlisting input of other ag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nalysis of factors influencing research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ment of arguments for increased research funding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) assessment of funding trends through mechanism for global tracking of research funding (building on survey by TAG and work by Max Planck Institu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i) assessment of expected benefits of increased investment in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ing plans for how research partners and the Partnership collectively can present  these arguments through the Research Movement to research funders and the "funders of funder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Building consensus on the Research Movement's strategic approa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y engaging key resear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ossible Bellagio meeting towards end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Forum at the IUATLD conference on lung health, 8-12 Novemb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indicative GANT ch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987480"/>
          <a:ext cx="8713800" cy="578160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936720"/>
                <a:gridCol w="863640"/>
                <a:gridCol w="865080"/>
                <a:gridCol w="863640"/>
                <a:gridCol w="792000"/>
                <a:gridCol w="72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analysis of factors influencing research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Bellagio mee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plan for targeted approaches to key research fun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Action by Boa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development of timeline for action and budgetary i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80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066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de spectrum of health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 laboratory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 R &amp;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essment of efficacy, effectiveness,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 systems, policy and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 and mod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ial science and behavioural resear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Rationale for the Research Mo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914400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The success of implementing the DOTS strateg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Is a testament to what committed people can (and need to) do with old and inadequate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 Narrow"/>
              </a:rPr>
              <a:t>Research ca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Now – improve the use of current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Soon – develop new tools for better TB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Eventually – enable the global elimination of TB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Howev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The current focus and scale of TB research is in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929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What is the global Research Movement to Stop TB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720" y="1196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The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Research Movement 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represents a broad alliance of TB researchers to promote TB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The aim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 is to promote and create an environment that fosters greater momentum on TB research &amp;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Initial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Understand the current landscape of activities, needs and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Research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Next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an overall coordinated research age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the arguments for increased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ise and execute a plan for 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nalysis of current funding and recent funding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TAG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Kaufman and Parida, Nature Medicine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5400000">
            <a:off x="2045160" y="986040"/>
            <a:ext cx="50529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2592360" y="441000"/>
            <a:ext cx="4392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IH 2005 Research Expenditures (US$ billion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1371600"/>
          <a:ext cx="5727600" cy="46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371600"/>
                    <a:ext cx="57276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00200" y="3276720"/>
            <a:ext cx="1143000" cy="380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 &amp; D needs for new TB tools in Global Pl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50800" y="1371600"/>
          <a:ext cx="5727960" cy="46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371600"/>
                    <a:ext cx="572796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55:57Z</dcterms:created>
  <dc:creator>maherd</dc:creator>
  <dc:description/>
  <dc:language>en-US</dc:language>
  <cp:lastModifiedBy>maherd</cp:lastModifiedBy>
  <dcterms:modified xsi:type="dcterms:W3CDTF">2007-04-18T13:33:55Z</dcterms:modified>
  <cp:revision>22</cp:revision>
  <dc:subject/>
  <dc:title>Stop T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