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FBD-8D9F-43BE-9F54-91F389CC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0D23-B905-42B3-8A69-8413E469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A019-9CB7-4D54-B8CE-1EBE20DE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25FE-32DE-442B-9945-AAD25A92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03A6-F2B5-4F8D-A790-E995A38E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F937-B305-40A8-8558-0D1E92F6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B6C6-7373-4B60-97A9-9D6607D6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DC82-D20A-4A3A-98BB-3964BE7F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75DF-BC96-4B04-B05E-F02C4CB1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B4DB-2499-4A79-8EBF-E3D1A864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0F80-FAB4-4465-AB25-92827AF3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A440-BBCC-4C07-A176-98250A78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7603-75AA-4B74-8A47-16E9AF5E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FA8C-7ADF-429E-856D-454B7AD5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2789-92EC-41C3-BC59-F68773F8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F9C8-C570-473E-84E9-96685089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B2DE-80C2-4CBB-8BDE-28100635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04A-251B-436C-A4A8-A3032D8F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C3DF-5FD7-41CF-96AA-299E830C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114-69DE-4FF2-9023-AC8ED693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5D8-E8D7-44ED-8B57-0F63B802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D02-BC94-404A-A00E-B4FAEDBB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4B33-9D6C-48EE-86F0-34691BB6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910A-138E-467A-8482-A306BAA7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4BE6-117D-4C33-80B3-E48F0EBDE02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7A1D-E533-4914-84FC-C642FB6BAF3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 perspective of the community evolution in TB control (2005-2007), by a living legend.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on of the UCCATM for the Civil Society to engage in Political advocacy in Kenya.( this was after TB grant Round 2, Phase 2 was suspended in Kenya 200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ting of the suspension on R2 P2,its sig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ing of Round 5 and money disbur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ocacy for TB representation on the C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civil society engagement in TB activ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drawal of the Industrial property bill from parliament-Bill to ensure use of brand drugs only for HIV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media coverage on TB and TB/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sing of the political profile of TB in Keny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lanned activ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sive effort campaign on TB in Kenya-(gazzetement of TB and HIV as emergenc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os engagement of civil societies to think and do TB work at grass root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HA conference April 2007 “Impact of TB among PLH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tly I stay committed to TB advocacy and be assured that you cant count on me for your support in all TB work= TB free wor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knowledg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ard members for all their unwavering support  for patient empowe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munity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l the community representatives at the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 Jeremiah Chaka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Educational f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I referral Hospi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vil Society in Ken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ntry Point in TB &amp;TB/HIV advocac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/HIV co-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iving the dual epide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pite an immune re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ll started after open confession of living with HIV  being the first HCW to openly acknowledge hav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ion in TB/HIV advocacy organized by WH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national advoca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ation by Results educational fund to participate in media work prior to G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nvolved media interviews on Good morning Scotland and BBC English and Kiswahili program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n one meetings with Parliamentarians in UK to sensitise them of the TB situation i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y of TB letter to Tony Blair’s office prior to G8 to advocate for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ever board member to represent communities affected on the Stop TB C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esentative on the TB/HIV working group and cor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to the Open Society Institute Community advisory Committee on TB/HIV monitoring and advocacy project –Projec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gass Global Task force 2006 to represent TB/HIV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achievements 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unity engagement within the Stop TB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representative on the C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moting TB/HIV advisor in UNAI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dition of component 5 within the Stop TB strate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tion in HLM’s and Global plan 2 launch in Africa and Toronto AIDS confere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G research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AG-OSI collaboration for TB, TB-HIV advocacy training and treatment litera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tablishment of a Community Task For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eading the TB-HIV WG to endorse universal targets for TB-HIV collaborative ac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Global achievements I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Patients Char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obal media articles-Maputo, Toronto on TB and TB/HI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Civil Society Challenge f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greater collaboration among WHO HIV and TB Departments and UNAI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expanded diagnosis of smear negative of extra-pulmonary TB in high HIV prevalence ar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new TB drugs, better TB diagnostics and a new TB vac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donors support for TB contro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rican emergency declaration on TB-South Africa, Nigeria, Tanzania and Malawi – Kenya ????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African Civil society on TB/HIV prior to the Abuja summit that resulted in the specific TB/HIV indicators in the common position paper (post Abu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on in the ACSO taskforce to represent TB/HIV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ion in the 2nd Training of TB/HIV advocates in Africa. And TAG’s workshop that brought together 70 participants from African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World Bank Pres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Finance during the recent UNECA meeting in Add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Health during the recent Jo Burg meeting April 200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B Emergency- CSO advoc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raining of journalists on TB/HIV March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% campaign on Health by AC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nyan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/HIV steering committ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 I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MOI Referral Hospital TB/HIV committee that resulted in one stop clinic for TB/H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United Civil society Coalition on AIDS,TB and Malaria representing T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literacy on TB and TB/HIV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ask force on TB/HIV for training journa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5:39:40Z</dcterms:created>
  <dc:creator>  </dc:creator>
  <dc:description/>
  <dc:language>en-US</dc:language>
  <cp:lastModifiedBy>Ezio T. Santos Filho</cp:lastModifiedBy>
  <dcterms:modified xsi:type="dcterms:W3CDTF">2007-04-18T17:05:47Z</dcterms:modified>
  <cp:revision>15</cp:revision>
  <dc:subject/>
  <dc:title>2004-2006 Patient Empowerment</dc:title>
</cp:coreProperties>
</file>