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22A0-A917-4A35-93DA-E216D83D2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9047-ADE7-403E-85DE-0C0E4B829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B476-F51C-414C-8129-3114345CC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0639-5083-46A1-9808-BDA201111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34DC6-2EEB-4647-9221-24247340A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CDFD1-64CE-447B-A62D-8E6220A34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7AE8B-CF80-40C2-BBD7-CF4228C4C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32966-66F6-4444-9FD7-4D91089B6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5E8B4-5CAD-4429-95B6-3EC465C52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A6121-8243-4AD2-A147-AC3B1492F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73EA1-4966-48B0-9009-BC65AA57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D8CE-1B96-4AEA-8415-7282C278E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F392B-E37B-4EFC-A59D-5C83FAF8D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339DF-C5D0-4F81-9889-C67493FD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BF699-C224-4FEF-AB5E-E2DBF18C4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57BF7-5F71-40C4-8232-18FE7A91C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F44E3-FE59-4CA5-A774-460C66D9C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5744-F381-4EF2-B472-03352DF93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7FC2-1113-4453-A9DA-07615B310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C87E-D8FC-4507-8E1E-69FC6CE1E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B46B-1D86-4E42-9A42-00A6CB65D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C672-E562-414B-A0B5-CD1D4490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C72E-3CB5-4259-AFA2-E7F9C3902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E884-6DDE-441B-9479-EF384CC7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3CCAA-F885-42EF-81E6-36D3A60DBDE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86442-66E4-4143-B447-4A20C4DA47D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01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A perspective of the community evolution in TB control (2005-2007), by a living legend. </a:t>
            </a:r>
            <a:br>
              <a:rPr sz="4600"/>
            </a:b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 Ches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ril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Achievements through the ACTION project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reation of the UCCATM for the Civil Society to engage in Political advocacy in Kenya.( this was after TB grant Round 2, Phase 2 was suspended in Kenya 2005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fting of the suspension on R2 P2,its sign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gning of Round 5 and money disburs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vocacy for TB representation on the CC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Achievements through the ACTION project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ed civil society engagement in TB activit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drawal of the Industrial property bill from parliament-Bill to ensure use of brand drugs only for HIV manag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ed media coverage on TB and TB/HIV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ising of the political profile of TB in Keny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lanned activiti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ssive effort campaign on TB in Kenya-(gazzetement of TB and HIV as emergencie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os engagement of civil societies to think and do TB work at grass root leve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HA conference April 2007 “Impact of TB among PLHA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stly I stay committed to TB advocacy and be assured that you cant count on me for your support in all TB work= TB free worl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cknowledgemen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ard members for all their unwavering support  for patient empowerme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ommunity Task For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ll the community representatives at the Task For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r Jeremiah Chakay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ults Educational f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I referral Hospit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eatment Action Grou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ivil Society in Keny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Entry Point in TB &amp;TB/HIV advocacy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B/HIV co-inf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rviving the dual epidem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pite an immune reconstitu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all started after open confession of living with HIV  being the first HCW to openly acknowledge having the dise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ticipation in TB/HIV advocacy organized by WH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nternational advocac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vitation by Results educational fund to participate in media work prior to G 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s involved media interviews on Good morning Scotland and BBC English and Kiswahili programm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e on one meetings with Parliamentarians in UK to sensitise them of the TB situation in Af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livery of TB letter to Tony Blair’s office prior to G8 to advocate for T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lobal responsibiliti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rst ever board member to represent communities affected on the Stop TB C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presentative on the TB/HIV working group and core gro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lection to the Open Society Institute Community advisory Committee on TB/HIV monitoring and advocacy project –Project 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gass Global Task force 2006 to represent TB/HIV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lobal achievements 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mmunity engagement within the Stop TB working grou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3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representative on the CB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moting TB/HIV advisor in UNAID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ddition of component 5 within the Stop TB strateg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rticipation in HLM’s and Global plan 2 launch in Africa and Toronto AIDS conferenc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AG research on TB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TAG-OSI collaboration for TB, TB-HIV advocacy training and treatment literac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Establishment of a Community Task Forc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Leading the TB-HIV WG to endorse universal targets for TB-HIV collaborative aciviti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Garamond"/>
              </a:rPr>
              <a:t>Global achievements I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unch of the Patients Chart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lobal media articles-Maputo, Toronto on TB and TB/HIV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unch of the Civil Society Challenge fun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Promoting greater collaboration among WHO HIV and TB Departments and UNAID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Promoting expanded diagnosis of smear negative of extra-pulmonary TB in high HIV prevalence area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Advocacy for new TB drugs, better TB diagnostics and a new TB vaccin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Advocacy for donors support for TB contro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gional achievements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frican emergency declaration on TB-South Africa, Nigeria, Tanzania and Malawi – Kenya ??????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gagement of African Civil society on TB/HIV prior to the Abuja summit that resulted in the specific TB/HIV indicators in the common position paper (post Abuj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icipation in the ACSO taskforce to represent TB/HIV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cilitation in the 2nd Training of TB/HIV advocates in Africa. And TAG’s workshop that brought together 70 participants from African countr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gional achievemen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SO sign on letter to World Bank Pres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SO sign on letter to all African Ministers of Finance during the recent UNECA meeting in Addi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SO sign on letter to all African Ministers of Health during the recent Jo Burg meeting April 2007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B Emergency- CSO advocac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NOS training of journalists on TB/HIV March 200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5% campaign on Health by ACS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Kenyan responsibiliti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mber of the TB/HIV steering committe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mber of the TB IC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mber of MOI Referral Hospital TB/HIV committee that resulted in one stop clinic for TB/HIV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mber of the United Civil society Coalition on AIDS,TB and Malaria representing T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eatment literacy on TB and TB/HIV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NOS task force on TB/HIV for training journal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7T15:39:40Z</dcterms:created>
  <dc:creator>  </dc:creator>
  <dc:description/>
  <dc:language>en-US</dc:language>
  <cp:lastModifiedBy>Ezio T. Santos Filho</cp:lastModifiedBy>
  <dcterms:modified xsi:type="dcterms:W3CDTF">2007-04-18T17:05:47Z</dcterms:modified>
  <cp:revision>15</cp:revision>
  <dc:subject/>
  <dc:title>2004-2006 Patient Empowerment</dc:title>
</cp:coreProperties>
</file>