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jpeg" ContentType="image/jpeg"/>
  <Override PartName="/ppt/media/image8.wmf" ContentType="image/x-wmf"/>
  <Override PartName="/ppt/media/image13.wmf" ContentType="image/x-wmf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7AA3-5A21-4AE4-A40D-BCBFDC33A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C823-CFA6-41E9-8F49-C9D871341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978B-3805-4850-9F98-6AA68DFD6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4A87-C377-4DD1-AFD9-EF3473A63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3E1C-669E-47C5-BAA1-7DA5C0C69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0383-C357-4444-9419-AA29BB19A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720C-C6C8-4068-AF28-FCC244A83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BEFB-62E1-4940-8385-4FB4579A9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6070-3901-4A7C-9925-99434425E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DFFD-7393-4B99-B4B8-9091A4D6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7FDF-2DE7-47D3-9FC3-FE67D972D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418A-74FC-4CAF-95E3-55BDE22AA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A9851-AAB4-466F-81F7-0C271C019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6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0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280" y="1052640"/>
            <a:ext cx="7993080" cy="489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Arial"/>
              </a:rPr>
              <a:t>Financing TB control: </a:t>
            </a:r>
            <a:br>
              <a:rPr sz="3800"/>
            </a:br>
            <a:r>
              <a:rPr b="1" lang="en-US" sz="3800" spc="-1" strike="noStrike">
                <a:solidFill>
                  <a:srgbClr val="ff0000"/>
                </a:solidFill>
                <a:latin typeface="Arial"/>
              </a:rPr>
              <a:t>Recent trends and the role of a new tool for planning and budgeting at country level </a:t>
            </a:r>
            <a:br>
              <a:rPr sz="3800"/>
            </a:br>
            <a:br>
              <a:rPr sz="2400"/>
            </a:br>
            <a:br>
              <a:rPr sz="24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atherine Floyd, Andrea Pantoja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op TB Coordinating Board Meeting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va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 April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012000" y="5013360"/>
            <a:ext cx="2952720" cy="16462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Part 2: WHO planning and </a:t>
            </a:r>
            <a:br>
              <a:rPr sz="3600"/>
            </a:b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budgeting too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  <a:ea typeface="宋体"/>
              </a:rPr>
              <a:t>Plans for individual countries for 2006 onwards not always in line with Global Plan, especially for newer components of Stop TB Strategy (country plans tend to be less ambitious)</a:t>
            </a:r>
            <a:r>
              <a:rPr b="0" lang="en-GB" sz="2000" spc="-1" strike="noStrike">
                <a:solidFill>
                  <a:srgbClr val="008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TB "planning and budgeting" tool developed to assist planning and budgeting </a:t>
            </a:r>
            <a:r>
              <a:rPr b="1" lang="en-GB" sz="2000" spc="-1" strike="noStrike" u="sng">
                <a:solidFill>
                  <a:srgbClr val="008000"/>
                </a:solidFill>
                <a:uFillTx/>
                <a:latin typeface="Arial"/>
              </a:rPr>
              <a:t>in line with Global Plan</a:t>
            </a: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, as well as planning and budgeting </a:t>
            </a:r>
            <a:r>
              <a:rPr b="1" lang="en-GB" sz="2000" spc="-1" strike="noStrike" u="sng">
                <a:solidFill>
                  <a:srgbClr val="008000"/>
                </a:solidFill>
                <a:uFillTx/>
                <a:latin typeface="Arial"/>
              </a:rPr>
              <a:t>in gen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Called a "planning and budgeting" tool to highligh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Plans should include a budget, but sometimes do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Budgets should be based on and in line with plan goals, objectives and planned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76360" y="188640"/>
            <a:ext cx="6120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Development proces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539640" y="1125360"/>
          <a:ext cx="8209080" cy="5204160"/>
        </p:xfrm>
        <a:graphic>
          <a:graphicData uri="http://schemas.openxmlformats.org/drawingml/2006/table">
            <a:tbl>
              <a:tblPr/>
              <a:tblGrid>
                <a:gridCol w="1728720"/>
                <a:gridCol w="6480360"/>
              </a:tblGrid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Work d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uary 200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sal developed and submitted to USAID via TBCAP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ch 2006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sal approved by USAI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il-May 200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 version of tool developed: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ilding on planning frameworks developed for Global Plan and STB workshops for Global Fund proposal developmen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e-Dec 200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-testing + practical application: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awi, Indonesia, Kenya, Somalia, South Africa, regional planning workshop for 10 priority countries in Latin Americ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e-Dec 200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sions and finalization based on field-testing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Dec 200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mpanying documentation + sharepoint site prepare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uary 200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lation into French, Spanish, Russia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unch of sharepoint sit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374920" y="2394000"/>
            <a:ext cx="1816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62280" y="3170160"/>
            <a:ext cx="1816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521160" y="2921040"/>
          <a:ext cx="511200" cy="517320"/>
        </p:xfrm>
        <a:graphic>
          <a:graphicData uri="http://schemas.openxmlformats.org/drawingml/2006/table">
            <a:tbl>
              <a:tblPr/>
              <a:tblGrid>
                <a:gridCol w="51120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1704960" y="-1477800"/>
          <a:ext cx="523800" cy="517320"/>
        </p:xfrm>
        <a:graphic>
          <a:graphicData uri="http://schemas.openxmlformats.org/drawingml/2006/table">
            <a:tbl>
              <a:tblPr/>
              <a:tblGrid>
                <a:gridCol w="52380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331640" y="2421000"/>
            <a:ext cx="6985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Arial"/>
              </a:rPr>
              <a:t>Guided tour of the too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569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General benefits of using the t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835344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Should improve quality of plans and budgets and save time once initial effort to understand/use tool is m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Easy to revise or update plans/budgets when necess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Plans and budgets for TB control set out comprehensively in one place, in standardized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Much of plan document itself can be produced by writing written text description of what is set out in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Provides solid foundation for resource mobilization including applications to Global F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Provides framework for monitoring and evaluation of plan implementation as well as comparisons among and within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Automatically produces financial information requested on annual WHO data collection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932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333399"/>
                </a:solidFill>
                <a:latin typeface="Arial"/>
              </a:rPr>
              <a:t>Promotion, practical application, next step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539640" y="1268280"/>
          <a:ext cx="8136000" cy="4937400"/>
        </p:xfrm>
        <a:graphic>
          <a:graphicData uri="http://schemas.openxmlformats.org/drawingml/2006/table">
            <a:tbl>
              <a:tblPr/>
              <a:tblGrid>
                <a:gridCol w="1295640"/>
                <a:gridCol w="684036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Work d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2006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tion to WHO EURO regional and country office staff followed by training in how to use the to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-Feb 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cussions with Global Fund r.e. use of tool in Rd 6 and Rd 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tion of tool at workshops for countries with Round 6 gra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 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M inter-regional planning and budgeting workshop for 10 countries, Cai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rch 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lanning and budgeting 5-day  workshop for priority African countries in Brazzaville, 19 countries represented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ch-May 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tion of tool at Global Fund Round 7 workshops in Nepal (SEAR, EMR), Cairo (EMR, AFR), Harare and Dakar (AF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-up support to countries that have used the to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ust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planning and budgeting workshop for African count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Issues for the Coordinating Bo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58560" y="1915920"/>
            <a:ext cx="69850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Endorse and help to support planning and budgeting in line with the Global Plan at country level, including promotion and practical application of the planning and budgeting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Support resource mobilization efforts based on the foundation of robust and country-owned plans and bu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91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15640" y="1628640"/>
            <a:ext cx="75596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1. Tool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ndrea Pantoja (ST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hilippe Veltsos (IT support te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2. Funding: USA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ttp://sharepoint.who.int/sites/TBbudget/default.asp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User name: ads\TB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Password: 2Budget4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476000" y="1557000"/>
            <a:ext cx="64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Part 1: Financing TB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Recent tr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Comparisons with the Global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Part 2: WHO Planning and Budgeting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Guided tour to illustrate main features (practical demonstr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Practical application to date and next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NTP budgets by source of funding in high-burden countries, 2002–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47640" y="1600200"/>
          <a:ext cx="7980480" cy="492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640" y="1600200"/>
                    <a:ext cx="7980480" cy="49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Total TB control costs by funding source in high-burden countries, 2002–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7991640" cy="48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8218440" cy="12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Planning and funding: The Global Plan vs. current effor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00720" y="1628640"/>
            <a:ext cx="4248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Global Plan sets o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  <a:ea typeface="宋体"/>
              </a:rPr>
              <a:t>Range and scale at which interventions need to be implemented in 7 regions to achieve MDG and Stop TB Partnership targets globally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Successful implementation requ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Country plans in line with regional plans in G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Mobilization of fu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Implementation of planned activities/interven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10952" t="1134" r="3247" b="0"/>
          <a:stretch/>
        </p:blipFill>
        <p:spPr>
          <a:xfrm>
            <a:off x="755640" y="1989000"/>
            <a:ext cx="3355920" cy="384984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Comparisons with the Global P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916520" y="1052640"/>
          <a:ext cx="3570120" cy="273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16520" y="1052640"/>
                    <a:ext cx="3570120" cy="27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701640" y="3938760"/>
          <a:ext cx="3409920" cy="26589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1640" y="3938760"/>
                    <a:ext cx="3409920" cy="26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056200" y="3938760"/>
          <a:ext cx="3289320" cy="26589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56200" y="3938760"/>
                    <a:ext cx="3289320" cy="26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539640" y="992160"/>
          <a:ext cx="3654360" cy="27939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9640" y="992160"/>
                    <a:ext cx="3654360" cy="27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Comparisons with the Global P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3640" y="907920"/>
          <a:ext cx="3313440" cy="291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3640" y="907920"/>
                    <a:ext cx="331344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5003640" y="3684600"/>
          <a:ext cx="3384720" cy="3017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3640" y="3684600"/>
                    <a:ext cx="338472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684360" y="836640"/>
          <a:ext cx="3325680" cy="28335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4360" y="836640"/>
                    <a:ext cx="3325680" cy="28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684360" y="3645000"/>
          <a:ext cx="3384360" cy="308268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4360" y="3645000"/>
                    <a:ext cx="338436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460600" y="4481640"/>
            <a:ext cx="1152720" cy="1430280"/>
          </a:xfrm>
          <a:prstGeom prst="rect">
            <a:avLst/>
          </a:prstGeom>
          <a:solidFill>
            <a:srgbClr val="6666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292640" y="4411800"/>
            <a:ext cx="1190520" cy="1500120"/>
          </a:xfrm>
          <a:prstGeom prst="rect">
            <a:avLst/>
          </a:prstGeom>
          <a:solidFill>
            <a:srgbClr val="6666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460600" y="4202280"/>
            <a:ext cx="1152720" cy="279360"/>
          </a:xfrm>
          <a:prstGeom prst="rect">
            <a:avLst/>
          </a:prstGeom>
          <a:solidFill>
            <a:srgbClr val="9933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292640" y="4340160"/>
            <a:ext cx="1190520" cy="71640"/>
          </a:xfrm>
          <a:prstGeom prst="rect">
            <a:avLst/>
          </a:prstGeom>
          <a:solidFill>
            <a:srgbClr val="9933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460600" y="4027320"/>
            <a:ext cx="1152720" cy="174960"/>
          </a:xfrm>
          <a:prstGeom prst="rect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292640" y="4097160"/>
            <a:ext cx="1190520" cy="243000"/>
          </a:xfrm>
          <a:prstGeom prst="rect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3760920"/>
            <a:ext cx="1152720" cy="266400"/>
          </a:xfrm>
          <a:prstGeom prst="rect">
            <a:avLst/>
          </a:prstGeom>
          <a:solidFill>
            <a:srgbClr val="00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292640" y="4005360"/>
            <a:ext cx="1190520" cy="91800"/>
          </a:xfrm>
          <a:prstGeom prst="rect">
            <a:avLst/>
          </a:prstGeom>
          <a:solidFill>
            <a:srgbClr val="00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92640" y="3970440"/>
            <a:ext cx="1190520" cy="3492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92640" y="3760920"/>
            <a:ext cx="1190520" cy="209520"/>
          </a:xfrm>
          <a:prstGeom prst="rect">
            <a:avLst/>
          </a:prstGeom>
          <a:solidFill>
            <a:srgbClr val="ff00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60600" y="2898720"/>
            <a:ext cx="1152720" cy="86220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292640" y="3679920"/>
            <a:ext cx="1190520" cy="8100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60600" y="1714680"/>
            <a:ext cx="1152720" cy="118404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92640" y="2795760"/>
            <a:ext cx="1190520" cy="8841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72200" y="3214800"/>
            <a:ext cx="1150920" cy="269712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17880" y="1146240"/>
            <a:ext cx="6120" cy="4765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49400" y="5911920"/>
            <a:ext cx="1684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49400" y="5224320"/>
            <a:ext cx="1684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49400" y="4549680"/>
            <a:ext cx="16848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49400" y="3865680"/>
            <a:ext cx="1684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49400" y="3191040"/>
            <a:ext cx="1684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49400" y="2503440"/>
            <a:ext cx="16848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9400" y="1830240"/>
            <a:ext cx="168480" cy="5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49400" y="1146240"/>
            <a:ext cx="1684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117880" y="5911920"/>
            <a:ext cx="5541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2117880" y="5911920"/>
            <a:ext cx="6120" cy="22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948120" y="5911920"/>
            <a:ext cx="7920" cy="22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5827680" y="5911920"/>
            <a:ext cx="9720" cy="22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659720" y="5911920"/>
            <a:ext cx="7920" cy="22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460600" y="5934240"/>
            <a:ext cx="148752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Global Plan to Stop 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292640" y="5927760"/>
            <a:ext cx="11253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ountry bu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5927760"/>
            <a:ext cx="127944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vailable fu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76720" y="314316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20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76720" y="243216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25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76720" y="175896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30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76720" y="10746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35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76720" y="44784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10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76720" y="515304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5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76720" y="384192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15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3360" y="1249200"/>
            <a:ext cx="16160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neral healt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33360" y="2031840"/>
            <a:ext cx="1039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/HI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3360" y="2576520"/>
            <a:ext cx="89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33360" y="3122640"/>
            <a:ext cx="16160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eration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33360" y="3879720"/>
            <a:ext cx="1471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SM/CTB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33360" y="4425840"/>
            <a:ext cx="1289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DR-T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3360" y="4970520"/>
            <a:ext cx="194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PM/PAL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33360" y="5516640"/>
            <a:ext cx="89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33360" y="5392800"/>
            <a:ext cx="298440" cy="123840"/>
          </a:xfrm>
          <a:prstGeom prst="rect">
            <a:avLst/>
          </a:prstGeom>
          <a:solidFill>
            <a:srgbClr val="6666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33360" y="4818240"/>
            <a:ext cx="298440" cy="123480"/>
          </a:xfrm>
          <a:prstGeom prst="rect">
            <a:avLst/>
          </a:prstGeom>
          <a:solidFill>
            <a:srgbClr val="9933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4000" y="4292640"/>
            <a:ext cx="298440" cy="123840"/>
          </a:xfrm>
          <a:prstGeom prst="rect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3360" y="3736800"/>
            <a:ext cx="298440" cy="123840"/>
          </a:xfrm>
          <a:prstGeom prst="rect">
            <a:avLst/>
          </a:prstGeom>
          <a:solidFill>
            <a:srgbClr val="00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33360" y="2997360"/>
            <a:ext cx="298440" cy="12384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33360" y="2441520"/>
            <a:ext cx="298440" cy="12384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3360" y="1865160"/>
            <a:ext cx="298440" cy="12384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33360" y="1125360"/>
            <a:ext cx="298440" cy="12384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1238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Planning and funding of TB control, 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8101080" y="5805360"/>
            <a:ext cx="879480" cy="8985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381040" y="1125360"/>
            <a:ext cx="122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$3.1 bill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50880" y="2155680"/>
            <a:ext cx="122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$2.3 bill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76520" y="2608200"/>
            <a:ext cx="122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$2.0 bill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596360" y="2205000"/>
            <a:ext cx="1333440" cy="25333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Funding gap for the Global Pl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$1.1 billion in 200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08360" y="981000"/>
            <a:ext cx="41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Based on 84 countries with 90% global TB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50716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Comparison of country reports with Global Plan in Africa, 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79280" y="1463760"/>
            <a:ext cx="8701200" cy="49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0:44:55Z</dcterms:created>
  <dc:creator>steenbergeng</dc:creator>
  <dc:description/>
  <dc:language>en-US</dc:language>
  <cp:lastModifiedBy>floydk</cp:lastModifiedBy>
  <dcterms:modified xsi:type="dcterms:W3CDTF">2007-04-18T08:52:01Z</dcterms:modified>
  <cp:revision>173</cp:revision>
  <dc:subject/>
  <dc:title>Slide 1</dc:title>
</cp:coreProperties>
</file>