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210-FDC3-4D4B-826E-517ADA1D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562-7030-4E81-AD3F-3A5E5175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148-0004-435E-9C33-FF502C2E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416-8861-44BA-8F6A-E89A64B2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883-F7AD-4B66-9B9F-2EEF4017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2CC1-4907-4394-A5BA-E7F04F61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C3FD-D82A-4285-9995-A3F30754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B01-2F5E-46F0-A26C-088A51C9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3D4-D350-433F-B069-F5AC8E0E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FBD-0F69-4E67-9026-05F1F15A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FF0-B141-4D2B-B2C5-272CD8E4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C50-1754-4DDE-9496-CF476EBE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0D42-C99D-48DB-9EFE-E94FC7DDF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images.google.ch/imgres?imgurl=http://www.telescope.bg/bg_skywatcher/img/skp25012eq6-sb.jpg&amp;imgrefurl=http://www.telescope.bg/bg/skywatcher.html&amp;h=656&amp;w=360&amp;sz=41&amp;hl=en&amp;start=12&amp;tbnid=JGLvl2dDRxXooM:&amp;tbnh=138&amp;tbnw=76&amp;prev=/images%3Fq%3Dtelescope%26gbv%3D2%26svnum%3D10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TB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B determinant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meeting 18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ut Lönnr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B Department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epidemiological patterns associated with the apparent failure to reduce incidence in som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the population level impact on the TB epidemic of various risk factors – Population Attributable Fraction (P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xplore possible intervention areas not fully covered in the Stop TB Strategy, model potential impact on the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Contribute to the evolution of the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Commission on Social Determinant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Attributable Fr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elected risk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selection of risk factors with reasonably high prevalence:  HIV, smoking, malnutrition, diabetes, indoor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relative risk estimates (TB disease) from systematic reviews and consultations with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estimates for 22 HBCs, from various global datab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preliminary population attributable fraction for the risk factors in 22 HB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989000"/>
          <a:ext cx="8229600" cy="4575240"/>
        </p:xfrm>
        <a:graphic>
          <a:graphicData uri="http://schemas.openxmlformats.org/drawingml/2006/table">
            <a:tbl>
              <a:tblPr/>
              <a:tblGrid>
                <a:gridCol w="1873080"/>
                <a:gridCol w="2117880"/>
                <a:gridCol w="2119320"/>
                <a:gridCol w="21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lative risk for active TB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ighted pre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pulation Attributable 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V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l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door Air Pol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084720" y="260280"/>
            <a:ext cx="2881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oretical relative TB decrease if risk factor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24720" y="1483920"/>
            <a:ext cx="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ed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and extend risk factor analysis (Crowding, alcohol, occupational exposur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untry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act on TB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se "downstream" risk factors to "upstream" deter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vention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ithin and outside the health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fine roles for NTPs and Stop TB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nterven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grammatic,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ithin TB programmes and across public health programmes, to reduce HIV, smoking, malnutrition,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HSS and PHC strengthening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mprove capacity to address all above risk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utside health care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ddress malnutrition, indoor air pollution, crowding, and "upstream" social determinants through social, economic and environment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of the pres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Stop TB Partnership contribute to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entative suggested broad intervention areas  appropriate and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be the role of WHO and the Stop TB Partnershi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ocating need to address social determinants outside the health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ity planners, sociologists, architects, engineers and nutritionists in Stop TB Partn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causing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4356000" y="1268280"/>
            <a:ext cx="4788000" cy="558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0072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97960" y="189000"/>
            <a:ext cx="882360" cy="160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3284640"/>
            <a:ext cx="1656000" cy="1296720"/>
          </a:xfrm>
          <a:prstGeom prst="leftArrow">
            <a:avLst>
              <a:gd name="adj1" fmla="val 50000"/>
              <a:gd name="adj2" fmla="val 319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5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ographical var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246320"/>
            <a:ext cx="9144000" cy="5638680"/>
            <a:chOff x="0" y="1246320"/>
            <a:chExt cx="9144000" cy="5638680"/>
          </a:xfrm>
        </p:grpSpPr>
        <p:graphicFrame>
          <p:nvGraphicFramePr>
            <p:cNvPr id="52" name=""/>
            <p:cNvGraphicFramePr/>
            <p:nvPr/>
          </p:nvGraphicFramePr>
          <p:xfrm>
            <a:off x="0" y="1246320"/>
            <a:ext cx="9144000" cy="563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46320"/>
                      <a:ext cx="9144000" cy="563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" name=""/>
            <p:cNvGrpSpPr/>
            <p:nvPr/>
          </p:nvGrpSpPr>
          <p:grpSpPr>
            <a:xfrm>
              <a:off x="0" y="3151080"/>
              <a:ext cx="2438280" cy="1770480"/>
              <a:chOff x="0" y="3151080"/>
              <a:chExt cx="2438280" cy="1770480"/>
            </a:xfrm>
          </p:grpSpPr>
          <p:sp>
            <p:nvSpPr>
              <p:cNvPr id="55" name=""/>
              <p:cNvSpPr/>
              <p:nvPr/>
            </p:nvSpPr>
            <p:spPr>
              <a:xfrm>
                <a:off x="304920" y="3881520"/>
                <a:ext cx="179280" cy="10800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1312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to 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4098960"/>
                <a:ext cx="179280" cy="10800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4030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 to 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4920" y="4314960"/>
                <a:ext cx="17928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200" y="4246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 to 2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4920" y="3448080"/>
                <a:ext cx="179280" cy="108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200" y="33796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920" y="3665520"/>
                <a:ext cx="179280" cy="108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7200" y="3597120"/>
                <a:ext cx="190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 to 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4530600"/>
                <a:ext cx="179280" cy="108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7200" y="4462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or m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920" y="4743360"/>
                <a:ext cx="179280" cy="10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200" y="46753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 Estima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3151080"/>
                <a:ext cx="182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r 100 000 popul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men at higher ri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060640"/>
          <a:ext cx="5148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148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03640" y="2060640"/>
          <a:ext cx="3816360" cy="45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060640"/>
                    <a:ext cx="38163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1484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notified new smear positive cases globally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daily smokers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the poor at higher ris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525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2560680"/>
            <a:ext cx="2016000" cy="137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88000" y="3537000"/>
            <a:ext cx="2077920" cy="155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04000" y="3900600"/>
            <a:ext cx="216072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4" name="" descr="Die Ärtze werden von den Bewohnern bereits erwartet"/>
          <p:cNvPicPr/>
          <p:nvPr/>
        </p:nvPicPr>
        <p:blipFill>
          <a:blip r:embed="rId5"/>
          <a:stretch/>
        </p:blipFill>
        <p:spPr>
          <a:xfrm>
            <a:off x="2502000" y="692280"/>
            <a:ext cx="167472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373720"/>
            <a:ext cx="23767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/no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ectiv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3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3645000"/>
            <a:ext cx="2376720" cy="15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fec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3789360"/>
            <a:ext cx="2305080" cy="189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 treatment and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276640"/>
            <a:ext cx="4032000" cy="201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515772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23736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134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88000" y="2708280"/>
            <a:ext cx="1224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2781360"/>
            <a:ext cx="1295280" cy="331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 deaths in England and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7696440" cy="42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149720"/>
            <a:ext cx="143964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076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/>
          <p:cNvPicPr/>
          <p:nvPr/>
        </p:nvPicPr>
        <p:blipFill>
          <a:blip r:embed="rId3"/>
          <a:stretch/>
        </p:blipFill>
        <p:spPr>
          <a:xfrm>
            <a:off x="2843280" y="1844640"/>
            <a:ext cx="13492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96000" y="4149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ributed 3% of reduction in TB death 1848-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924280"/>
            <a:ext cx="2376360" cy="27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Down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sk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1197000"/>
            <a:ext cx="2376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Up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cial, economic and environmental deter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566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42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08:24Z</dcterms:created>
  <dc:creator>Knut Lonnroth</dc:creator>
  <dc:description/>
  <dc:language>en-US</dc:language>
  <cp:lastModifiedBy>Knut Lonnroth</cp:lastModifiedBy>
  <dcterms:modified xsi:type="dcterms:W3CDTF">2007-04-18T05:39:56Z</dcterms:modified>
  <cp:revision>44</cp:revision>
  <dc:subject/>
  <dc:title>Slide 1</dc:title>
</cp:coreProperties>
</file>