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AC709-8C92-47B0-B31C-992A9FBDF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E0F0A-45ED-41EC-A919-2156C0D20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73460-EA43-4EA1-8CDC-3E6B02D64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21FC9-8F49-491A-B556-1DC5230FF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15975-D607-40DA-BBEF-679616983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E90D5-F254-4A34-BCD0-3C9CA9497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1ED02-EE7C-4D67-8AFD-5119EDA53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7E196-5FF5-4323-8DB2-10EACE846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77CCC-785C-4B7E-B09A-9360FA463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9E5EE-8314-4F4C-87BA-D754011ED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2FC2E-3E18-4E37-A3F2-59CB0A2E8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00482-92F1-4832-9E46-0D1196926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ED35-34D9-447C-8320-D74BAC7E2D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8EA8-4207-462A-91F9-2C3FD202F234}" type="datetime3">
              <a:rPr b="1" lang="en-GB" sz="800" spc="-1" strike="noStrike">
                <a:solidFill>
                  <a:srgbClr val="000000"/>
                </a:solidFill>
                <a:latin typeface="Tahoma"/>
                <a:ea typeface="Tahoma"/>
              </a:rPr>
              <a:t>30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FBB4CB3F-D887-4508-A860-6A85862A5815}"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