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2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3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71271-4B4D-443A-A4CC-7AB43BACE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82B17FA-2FAA-4115-BE81-5C33427B7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8260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raph provides a breakdown of the 32 recommended Rd 9 disease proposals.  This excludes the one instance where only the HSS request attached to a TB proposal was recommended and the 2 NSA recommended propos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-1809720" y="1200240"/>
            <a:ext cx="10590120" cy="794232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844560" y="345600"/>
            <a:ext cx="4781520" cy="30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 every 6-12 month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87280" y="695160"/>
            <a:ext cx="4650120" cy="348804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701280" y="4416480"/>
            <a:ext cx="5607000" cy="4184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portion of TB grants from same start year with MDR-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people on treatment for MDR-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82600" y="695160"/>
            <a:ext cx="4651560" cy="348804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0200" y="4417920"/>
            <a:ext cx="5610240" cy="418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h the Rounds 3s for Belarus and Serbia ends on 30/11/2009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tals are for all the grants in the 6 countri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27B83-D014-4D34-9C7D-7DE5E32782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ccess rate of Health Systems Strengthening ‘parts’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50% (17 of 3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NSA applicants submitted an HSS part but none were recommended for fund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75C86-DC81-4F0B-8A3A-BA00331319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8440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4560" y="4414320"/>
            <a:ext cx="5140440" cy="418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ccess rates of the distinct HSS requests which were attached to the three diseases.  A slight decrease is evidenced for those requests attached to TB proposals from Round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968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69600" y="134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240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968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69600" y="3861000"/>
            <a:ext cx="273564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24000" y="260280"/>
            <a:ext cx="8496000" cy="39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480" y="386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480" y="1341000"/>
            <a:ext cx="414576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24000" y="3861000"/>
            <a:ext cx="8496000" cy="230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" name="AutoShape 3"/>
          <p:cNvCxnSpPr/>
          <p:nvPr/>
        </p:nvCxnSpPr>
        <p:spPr>
          <a:xfrm>
            <a:off x="8132760" y="914040"/>
            <a:ext cx="62100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2" name="Line 4"/>
          <p:cNvSpPr/>
          <p:nvPr/>
        </p:nvSpPr>
        <p:spPr>
          <a:xfrm flipV="1">
            <a:off x="324000" y="6308280"/>
            <a:ext cx="8424720" cy="73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" name="Picture 8" descr="multilanguage_banner"/>
          <p:cNvPicPr/>
          <p:nvPr/>
        </p:nvPicPr>
        <p:blipFill>
          <a:blip r:embed="rId2"/>
          <a:stretch/>
        </p:blipFill>
        <p:spPr>
          <a:xfrm>
            <a:off x="1332000" y="6485040"/>
            <a:ext cx="6335640" cy="372960"/>
          </a:xfrm>
          <a:prstGeom prst="rect">
            <a:avLst/>
          </a:prstGeom>
          <a:ln w="0">
            <a:noFill/>
          </a:ln>
        </p:spPr>
      </p:pic>
      <p:sp>
        <p:nvSpPr>
          <p:cNvPr id="6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5"/>
          <p:cNvSpPr/>
          <p:nvPr/>
        </p:nvSpPr>
        <p:spPr>
          <a:xfrm>
            <a:off x="324000" y="6381720"/>
            <a:ext cx="856908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7" descr="multilanguage_banner"/>
          <p:cNvPicPr/>
          <p:nvPr/>
        </p:nvPicPr>
        <p:blipFill>
          <a:blip r:embed="rId2"/>
          <a:stretch/>
        </p:blipFill>
        <p:spPr>
          <a:xfrm>
            <a:off x="826920" y="6485040"/>
            <a:ext cx="6336000" cy="372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83" name="AutoShape 3"/>
          <p:cNvCxnSpPr/>
          <p:nvPr/>
        </p:nvCxnSpPr>
        <p:spPr>
          <a:xfrm>
            <a:off x="8132760" y="914040"/>
            <a:ext cx="621000" cy="1080"/>
          </a:xfrm>
          <a:prstGeom prst="straightConnector1">
            <a:avLst/>
          </a:prstGeom>
          <a:ln w="0">
            <a:noFill/>
          </a:ln>
        </p:spPr>
      </p:cxnSp>
      <p:sp>
        <p:nvSpPr>
          <p:cNvPr id="84" name="Line 4"/>
          <p:cNvSpPr/>
          <p:nvPr/>
        </p:nvSpPr>
        <p:spPr>
          <a:xfrm flipV="1">
            <a:off x="324000" y="6308280"/>
            <a:ext cx="8424720" cy="7308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5"/>
          <p:cNvSpPr/>
          <p:nvPr/>
        </p:nvSpPr>
        <p:spPr>
          <a:xfrm>
            <a:off x="324000" y="1125360"/>
            <a:ext cx="8496000" cy="0"/>
          </a:xfrm>
          <a:prstGeom prst="line">
            <a:avLst/>
          </a:prstGeom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8" descr="multilanguage_banner"/>
          <p:cNvPicPr/>
          <p:nvPr/>
        </p:nvPicPr>
        <p:blipFill>
          <a:blip r:embed="rId2"/>
          <a:stretch/>
        </p:blipFill>
        <p:spPr>
          <a:xfrm>
            <a:off x="1332000" y="6485040"/>
            <a:ext cx="6335640" cy="3729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95280" y="1341360"/>
            <a:ext cx="842472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The Global Fund Update on Round 9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and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Key Issues for Consideration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STOP TB Coordinating Board Meeting </a:t>
            </a:r>
            <a:br>
              <a:rPr sz="2800"/>
            </a:b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1" lang="da-DK" sz="2800" spc="-1" strike="noStrike" baseline="30000">
                <a:solidFill>
                  <a:srgbClr val="ff0000"/>
                </a:solidFill>
                <a:latin typeface="Arial"/>
              </a:rPr>
              <a:t>th</a:t>
            </a:r>
            <a:r>
              <a:rPr b="1" lang="da-DK" sz="2800" spc="-1" strike="noStrike">
                <a:solidFill>
                  <a:srgbClr val="ff0000"/>
                </a:solidFill>
                <a:latin typeface="Arial"/>
              </a:rPr>
              <a:t> November 2009, Geneva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33" name="Picture 16" descr=""/>
          <p:cNvPicPr/>
          <p:nvPr/>
        </p:nvPicPr>
        <p:blipFill>
          <a:blip r:embed="rId1"/>
          <a:stretch/>
        </p:blipFill>
        <p:spPr>
          <a:xfrm>
            <a:off x="144360" y="106200"/>
            <a:ext cx="3564000" cy="11653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-189000" y="5538960"/>
            <a:ext cx="4865760" cy="7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fessor Rifat Atu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rector, Strategy, Performance and Evaluation Cluster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Global Fun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B funding recommendations: by reg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403280" y="1271520"/>
            <a:ext cx="662472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und 9 TB 2-year upper ceilings: by reg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2268360" y="1628640"/>
            <a:ext cx="488160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ound 9 TB 5-year upper ceilings: by region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2195640" y="1700280"/>
            <a:ext cx="459396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RP recommendations: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ss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All HIV and tuberculosis proposals should address TB/HIV collaborative activities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4832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Secretariat should clearly communicate the Board decision to applicants as part of Round 10 application material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International guidelines be communicated to applicants; as well as the TRP recommendation that both HIV and tuberculosis proposals should address TB/HIV collaborative activities unless compelling reasons exist not to do so – even if no funding is sought from the Global Fund for these activ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TRP recommendations: TB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Iss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noted that Round 9 proposals did not always clearly elaborate proposed strategies, or their subsequent monitoring and evaluation, for Advocacy, Communication and Social Mobilization (ACSM); Practical Approach to Lung Health (PAL); and Infection control (IC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noted that the rationale for, and demonstration of cost-effectiveness of, tuberculosis prevalence surveys in proposals is sometimes weak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48320" y="1341000"/>
            <a:ext cx="41716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recommends that partners and the Secretariat provide clear guidance to applicants in these are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SimSun"/>
              </a:rPr>
              <a:t>The TRP recommends to partners and the Secretariat to provide clear guidance to applica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Looking ahead: achievements and challenge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6000" y="77400"/>
            <a:ext cx="8724960" cy="9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lobal Fund &amp; TB Control: US$2.5 billion approved in 105 countries by August 2009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8" name="Rectangle 3"/>
          <p:cNvSpPr/>
          <p:nvPr/>
        </p:nvSpPr>
        <p:spPr>
          <a:xfrm>
            <a:off x="8558280" y="6683400"/>
            <a:ext cx="714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BG/310308/8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2901960" y="6021360"/>
            <a:ext cx="3254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HIV/TB gra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CountriesWithTBByYear2007"/>
          <p:cNvPicPr/>
          <p:nvPr/>
        </p:nvPicPr>
        <p:blipFill>
          <a:blip r:embed="rId1"/>
          <a:stretch/>
        </p:blipFill>
        <p:spPr>
          <a:xfrm>
            <a:off x="34920" y="1033560"/>
            <a:ext cx="9013680" cy="563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24000" y="20160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pproved Funding for Tuberculosis by Region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8713800" cy="52927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3597840" y="4648320"/>
            <a:ext cx="9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$350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712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umulative Funding by Region: Rounds 1-8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76360" y="1125360"/>
            <a:ext cx="8172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lobal Fund share in external (non-domestic) TB financing in high-burden countries*, 2002-2009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7" name="TextBox 6"/>
          <p:cNvSpPr/>
          <p:nvPr/>
        </p:nvSpPr>
        <p:spPr>
          <a:xfrm>
            <a:off x="428760" y="6000840"/>
            <a:ext cx="871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*Excluding South Afric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50920" y="1197000"/>
          <a:ext cx="8713800" cy="4824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97000"/>
                    <a:ext cx="8713800" cy="482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and NSA Funding Recommendat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06436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has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pper-ceiling amount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ed by the TRP for Round 9 and the First Learning Wave of National Strategy Applications (NSA) and AMF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Round 9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US $ 2.2 b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NSA FLW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cc"/>
                </a:solidFill>
                <a:latin typeface="Arial"/>
              </a:rPr>
              <a:t>US $ 434 mill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Round 9 and NSA FLW recommended for funding: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US $ 2.6 bill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Phase 1) and 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US $ 7.2 (Lifetime budget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oard decision: 2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ard Meeting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8520" y="3357720"/>
            <a:ext cx="4210200" cy="0"/>
          </a:xfrm>
          <a:prstGeom prst="line">
            <a:avLst/>
          </a:prstGeom>
          <a:ln w="284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24000" y="142560"/>
            <a:ext cx="88200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.4 million new smear positive TB cases detected and treated by mid-2009 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61" name="Picture 4" descr="DOTS-Mid2009"/>
          <p:cNvPicPr/>
          <p:nvPr/>
        </p:nvPicPr>
        <p:blipFill>
          <a:blip r:embed="rId1"/>
          <a:stretch/>
        </p:blipFill>
        <p:spPr>
          <a:xfrm>
            <a:off x="395280" y="1189080"/>
            <a:ext cx="8496360" cy="51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1920" y="115920"/>
            <a:ext cx="899172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.3 million people reached with HIV/TB services by mid-2009</a:t>
            </a:r>
            <a:endParaRPr b="1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263" name="Picture 4" descr="HIV-TB-Mid2009"/>
          <p:cNvPicPr/>
          <p:nvPr/>
        </p:nvPicPr>
        <p:blipFill>
          <a:blip r:embed="rId1"/>
          <a:stretch/>
        </p:blipFill>
        <p:spPr>
          <a:xfrm>
            <a:off x="179280" y="836640"/>
            <a:ext cx="896472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55600" y="343080"/>
            <a:ext cx="8493120" cy="63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MDR-TB control: number and proportion of countries with active TB with MDR-TB services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08000" y="1125360"/>
          <a:ext cx="8928000" cy="51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125360"/>
                    <a:ext cx="892800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pport to MDR-TB control: Patients enrolled on treatmen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68" name="Rectangle 2"/>
          <p:cNvGraphicFramePr/>
          <p:nvPr/>
        </p:nvGraphicFramePr>
        <p:xfrm>
          <a:off x="1116000" y="1504800"/>
          <a:ext cx="6335640" cy="473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9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504800"/>
                    <a:ext cx="6335640" cy="47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Text Box 3"/>
          <p:cNvSpPr/>
          <p:nvPr/>
        </p:nvSpPr>
        <p:spPr>
          <a:xfrm>
            <a:off x="5651640" y="4221000"/>
            <a:ext cx="32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udget for second-line TB drug is 12.2% of TB fund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Support to MDR-TB control in Europe and Central Asia: Patients enrolled on treatment</a:t>
            </a:r>
            <a:endParaRPr b="1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72" name="Rectangle 2"/>
          <p:cNvGraphicFramePr/>
          <p:nvPr/>
        </p:nvGraphicFramePr>
        <p:xfrm>
          <a:off x="1332000" y="1197000"/>
          <a:ext cx="6049800" cy="5297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3" name="Rectangle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197000"/>
                    <a:ext cx="6049800" cy="529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uropean Countries no longer eligible for funding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285840" y="1197000"/>
          <a:ext cx="5143320" cy="5040360"/>
        </p:xfrm>
        <a:graphic>
          <a:graphicData uri="http://schemas.openxmlformats.org/drawingml/2006/table">
            <a:tbl>
              <a:tblPr/>
              <a:tblGrid>
                <a:gridCol w="1714320"/>
                <a:gridCol w="1714680"/>
                <a:gridCol w="17143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TB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ive HIV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laru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lgar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sov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tenegro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man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bia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6,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: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 grants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76" name="TextBox 5"/>
          <p:cNvSpPr/>
          <p:nvPr/>
        </p:nvSpPr>
        <p:spPr>
          <a:xfrm>
            <a:off x="5715000" y="1773360"/>
            <a:ext cx="3000240" cy="314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approve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100 million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Committ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69 millio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tal Disbursed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$57 mill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hallenge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07640" y="1557000"/>
            <a:ext cx="889308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optimal response in Africa and Europe: unlikely to reach MDG tar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ision of TB, MDRTB &amp; HIV epidemics in many settings with poor TB-HIV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ny countries with high MDRTB not eligible for Global Fund inves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funding instrument to follow Global Fund inves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ptake of novel diagno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260280"/>
            <a:ext cx="8712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and NSA Funding Recommendation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 9 overall success rate: 53% (85 of 159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ncludes HSS s4B/5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SA overall success rate: 71% (5 of 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new single country beneficiaries recommended: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Mexico 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Turkmenis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 - Number of proposals recommended and success rat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1" name="Rectangle 3"/>
          <p:cNvSpPr/>
          <p:nvPr/>
        </p:nvSpPr>
        <p:spPr>
          <a:xfrm>
            <a:off x="324000" y="1181160"/>
            <a:ext cx="849600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6760" indent="-2509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6760" indent="-250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0" y="1197000"/>
            <a:ext cx="8964000" cy="5039640"/>
            <a:chOff x="0" y="1197000"/>
            <a:chExt cx="8964000" cy="5039640"/>
          </a:xfrm>
        </p:grpSpPr>
        <p:pic>
          <p:nvPicPr>
            <p:cNvPr id="143" name="Picture 6" descr=""/>
            <p:cNvPicPr/>
            <p:nvPr/>
          </p:nvPicPr>
          <p:blipFill>
            <a:blip r:embed="rId1"/>
            <a:stretch/>
          </p:blipFill>
          <p:spPr>
            <a:xfrm>
              <a:off x="355680" y="1908360"/>
              <a:ext cx="7873560" cy="4328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"/>
            <p:cNvGrpSpPr/>
            <p:nvPr/>
          </p:nvGrpSpPr>
          <p:grpSpPr>
            <a:xfrm>
              <a:off x="0" y="1197000"/>
              <a:ext cx="8964000" cy="4986360"/>
              <a:chOff x="0" y="1197000"/>
              <a:chExt cx="8964000" cy="4986360"/>
            </a:xfrm>
          </p:grpSpPr>
          <p:sp>
            <p:nvSpPr>
              <p:cNvPr id="145" name="Text Box 7"/>
              <p:cNvSpPr/>
              <p:nvPr/>
            </p:nvSpPr>
            <p:spPr>
              <a:xfrm>
                <a:off x="0" y="5612760"/>
                <a:ext cx="8367840" cy="570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Success rate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41%                     59%                      55%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Trebuchet MS"/>
                  </a:rPr>
                  <a:t>          50%</a:t>
                </a:r>
                <a:endParaRPr b="1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 Box 7"/>
              <p:cNvSpPr/>
              <p:nvPr/>
            </p:nvSpPr>
            <p:spPr>
              <a:xfrm>
                <a:off x="596520" y="1197000"/>
                <a:ext cx="8367480" cy="569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343080" indent="-343080" algn="ctr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Round 9 success rates (excluding HSS s4B/5B)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rebuchet MS"/>
                  </a:rPr>
                  <a:t> </a:t>
                </a: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20160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NSA - Number of proposals recommended and success rate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971640" y="1173240"/>
          <a:ext cx="7561080" cy="463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173240"/>
                    <a:ext cx="7561080" cy="46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-135720" y="5789520"/>
            <a:ext cx="746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cess rate       33%              100%                   100%                      71%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416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TB success rates (excluding HSS parts)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2" name="Rectangle 2" hidden="1"/>
          <p:cNvSpPr/>
          <p:nvPr/>
        </p:nvSpPr>
        <p:spPr>
          <a:xfrm>
            <a:off x="0" y="0"/>
            <a:ext cx="14616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95280" y="1268280"/>
          <a:ext cx="8424360" cy="4321080"/>
        </p:xfrm>
        <a:graphic>
          <a:graphicData uri="http://schemas.openxmlformats.org/drawingml/2006/table">
            <a:tbl>
              <a:tblPr/>
              <a:tblGrid>
                <a:gridCol w="1986480"/>
                <a:gridCol w="1929600"/>
                <a:gridCol w="2846520"/>
                <a:gridCol w="1661760"/>
              </a:tblGrid>
              <a:tr h="1299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ligible proposa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proposal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ccess rate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eaa3"/>
                    </a:solidFill>
                  </a:tcPr>
                </a:tc>
              </a:tr>
              <a:tr h="675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9 &amp; NSAs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8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1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H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7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6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und 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%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63720" y="5718240"/>
            <a:ext cx="880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Phase 1 funding approved: US$2.1 bill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496000" cy="850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s 5-9: success rates by disease area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1"/>
          <a:srcRect l="0" t="5165" r="0" b="6364"/>
          <a:stretch/>
        </p:blipFill>
        <p:spPr>
          <a:xfrm>
            <a:off x="250920" y="1052640"/>
            <a:ext cx="85690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und 9: HSS cross-cutting requests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0" y="1557360"/>
            <a:ext cx="9143640" cy="4318920"/>
            <a:chOff x="0" y="1557360"/>
            <a:chExt cx="9143640" cy="4318920"/>
          </a:xfrm>
        </p:grpSpPr>
        <p:pic>
          <p:nvPicPr>
            <p:cNvPr id="159" name="Rectangle 2" descr=""/>
            <p:cNvPicPr/>
            <p:nvPr/>
          </p:nvPicPr>
          <p:blipFill>
            <a:blip r:embed="rId1"/>
            <a:stretch/>
          </p:blipFill>
          <p:spPr>
            <a:xfrm>
              <a:off x="1183320" y="1557360"/>
              <a:ext cx="6999480" cy="42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0" y="5385960"/>
              <a:ext cx="9143640" cy="49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Round 9 Success rate          52%</a:t>
              </a: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Trebuchet MS"/>
                </a:rPr>
                <a:t> 43%                      50%                     50%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Round 8 Success rate          56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50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             50% 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	</a:t>
              </a:r>
              <a:r>
                <a:rPr b="1" lang="en-US" sz="1600" spc="-1" strike="noStrike">
                  <a:solidFill>
                    <a:srgbClr val="0033cc"/>
                  </a:solidFill>
                  <a:latin typeface="Trebuchet MS"/>
                </a:rPr>
                <a:t>           53%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960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rebuchet MS"/>
                <a:ea typeface="SimSun"/>
              </a:rPr>
              <a:t>Round 9: Disease parts by TRP recommendation category and by disease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SimSun"/>
              </a:rPr>
              <a:t>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968480" y="2768760"/>
            <a:ext cx="549612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394560" y="1410480"/>
            <a:ext cx="8334000" cy="4320720"/>
            <a:chOff x="394560" y="1410480"/>
            <a:chExt cx="8334000" cy="4320720"/>
          </a:xfrm>
        </p:grpSpPr>
        <p:sp>
          <p:nvSpPr>
            <p:cNvPr id="164" name=""/>
            <p:cNvSpPr/>
            <p:nvPr/>
          </p:nvSpPr>
          <p:spPr>
            <a:xfrm>
              <a:off x="1719360" y="535500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19360" y="458496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19360" y="379404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719360" y="302400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719360" y="222912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719360" y="1463040"/>
              <a:ext cx="700920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250000" y="5089320"/>
              <a:ext cx="698400" cy="26532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12560" y="5065200"/>
              <a:ext cx="676800" cy="28944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755680" y="5223960"/>
              <a:ext cx="696240" cy="13068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518240" y="5116680"/>
              <a:ext cx="677160" cy="23796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250000" y="3051360"/>
              <a:ext cx="698400" cy="20376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12560" y="3766680"/>
              <a:ext cx="676800" cy="129852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755680" y="3607560"/>
              <a:ext cx="696240" cy="16164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518240" y="3393720"/>
              <a:ext cx="677160" cy="172296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50000" y="2574360"/>
              <a:ext cx="698400" cy="47664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012560" y="2547000"/>
              <a:ext cx="676800" cy="121932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755680" y="3103200"/>
              <a:ext cx="696240" cy="50436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518240" y="2654280"/>
              <a:ext cx="677160" cy="7390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50000" y="1566360"/>
              <a:ext cx="698400" cy="100764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012560" y="1542240"/>
              <a:ext cx="676800" cy="100476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55680" y="1701360"/>
              <a:ext cx="696240" cy="140184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518240" y="1594080"/>
              <a:ext cx="677160" cy="106020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250000" y="1463040"/>
              <a:ext cx="698400" cy="10332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12560" y="1463040"/>
              <a:ext cx="676800" cy="7884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755680" y="1463040"/>
              <a:ext cx="696240" cy="23796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518240" y="1463040"/>
              <a:ext cx="677160" cy="13068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6320" y="387396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86920" y="42152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649840" y="42152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392600" y="405648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0680" y="262692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86920" y="29725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7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704200" y="31586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392600" y="28375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146320" y="188460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86920" y="18601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649840" y="220176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392600" y="193932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78760" y="49820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02800" y="487872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63200" y="493344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63480" y="4933440"/>
              <a:ext cx="81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90632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16320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38264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659320" y="1410480"/>
              <a:ext cx="75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110320" y="5593680"/>
              <a:ext cx="877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IV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426120" y="5593680"/>
              <a:ext cx="1340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uberculosis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49680" y="5593680"/>
              <a:ext cx="1063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Malaria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88120" y="5593680"/>
              <a:ext cx="1051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verall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06880" y="3262320"/>
              <a:ext cx="1212480" cy="23032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00480" y="3421080"/>
              <a:ext cx="90720" cy="134640"/>
            </a:xfrm>
            <a:prstGeom prst="rect">
              <a:avLst/>
            </a:prstGeom>
            <a:solidFill>
              <a:srgbClr val="cc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4560" y="334116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1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00480" y="3873960"/>
              <a:ext cx="90720" cy="130680"/>
            </a:xfrm>
            <a:prstGeom prst="rect">
              <a:avLst/>
            </a:prstGeom>
            <a:solidFill>
              <a:srgbClr val="cccc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4560" y="379404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2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0480" y="4322520"/>
              <a:ext cx="90720" cy="130680"/>
            </a:xfrm>
            <a:prstGeom prst="rect">
              <a:avLst/>
            </a:prstGeom>
            <a:solidFill>
              <a:srgbClr val="9999ff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94560" y="4242600"/>
              <a:ext cx="11973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2B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00480" y="4771440"/>
              <a:ext cx="90720" cy="131400"/>
            </a:xfrm>
            <a:prstGeom prst="rect">
              <a:avLst/>
            </a:prstGeom>
            <a:solidFill>
              <a:srgbClr val="ff66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4560" y="469548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3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00480" y="5223960"/>
              <a:ext cx="90720" cy="130680"/>
            </a:xfrm>
            <a:prstGeom prst="rect">
              <a:avLst/>
            </a:prstGeom>
            <a:solidFill>
              <a:srgbClr val="993300"/>
            </a:solidFill>
            <a:ln w="108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4560" y="5141160"/>
              <a:ext cx="11394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lnSpc>
                  <a:spcPct val="100000"/>
                </a:lnSpc>
                <a:spcBef>
                  <a:spcPts val="1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Small Fonts"/>
                </a:rPr>
                <a:t>Category 4</a:t>
              </a:r>
              <a:endParaRPr b="1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892160" y="1449000"/>
              <a:ext cx="201240" cy="1536480"/>
            </a:xfrm>
            <a:custGeom>
              <a:avLst/>
              <a:gdLst/>
              <a:ahLst/>
              <a:rect l="l" t="t" r="r" b="b"/>
              <a:pathLst>
                <a:path w="176" h="928">
                  <a:moveTo>
                    <a:pt x="176" y="0"/>
                  </a:moveTo>
                  <a:cubicBezTo>
                    <a:pt x="128" y="0"/>
                    <a:pt x="88" y="35"/>
                    <a:pt x="88" y="78"/>
                  </a:cubicBezTo>
                  <a:lnTo>
                    <a:pt x="88" y="387"/>
                  </a:lnTo>
                  <a:cubicBezTo>
                    <a:pt x="88" y="430"/>
                    <a:pt x="49" y="464"/>
                    <a:pt x="0" y="464"/>
                  </a:cubicBezTo>
                  <a:cubicBezTo>
                    <a:pt x="49" y="464"/>
                    <a:pt x="88" y="499"/>
                    <a:pt x="88" y="542"/>
                  </a:cubicBezTo>
                  <a:lnTo>
                    <a:pt x="88" y="851"/>
                  </a:lnTo>
                  <a:cubicBezTo>
                    <a:pt x="88" y="894"/>
                    <a:pt x="128" y="928"/>
                    <a:pt x="176" y="928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654720" y="1449000"/>
              <a:ext cx="201240" cy="2354760"/>
            </a:xfrm>
            <a:custGeom>
              <a:avLst/>
              <a:gdLst/>
              <a:ahLst/>
              <a:rect l="l" t="t" r="r" b="b"/>
              <a:pathLst>
                <a:path w="176" h="1424">
                  <a:moveTo>
                    <a:pt x="176" y="0"/>
                  </a:moveTo>
                  <a:cubicBezTo>
                    <a:pt x="128" y="0"/>
                    <a:pt x="88" y="54"/>
                    <a:pt x="88" y="119"/>
                  </a:cubicBezTo>
                  <a:lnTo>
                    <a:pt x="88" y="594"/>
                  </a:lnTo>
                  <a:cubicBezTo>
                    <a:pt x="88" y="659"/>
                    <a:pt x="49" y="712"/>
                    <a:pt x="0" y="712"/>
                  </a:cubicBezTo>
                  <a:cubicBezTo>
                    <a:pt x="49" y="712"/>
                    <a:pt x="88" y="766"/>
                    <a:pt x="88" y="831"/>
                  </a:cubicBezTo>
                  <a:lnTo>
                    <a:pt x="88" y="1306"/>
                  </a:lnTo>
                  <a:cubicBezTo>
                    <a:pt x="88" y="1371"/>
                    <a:pt x="128" y="1424"/>
                    <a:pt x="176" y="1424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97840" y="1449000"/>
              <a:ext cx="201960" cy="2116800"/>
            </a:xfrm>
            <a:custGeom>
              <a:avLst/>
              <a:gdLst/>
              <a:ahLst/>
              <a:rect l="l" t="t" r="r" b="b"/>
              <a:pathLst>
                <a:path w="176" h="1280">
                  <a:moveTo>
                    <a:pt x="176" y="0"/>
                  </a:moveTo>
                  <a:cubicBezTo>
                    <a:pt x="128" y="0"/>
                    <a:pt x="88" y="48"/>
                    <a:pt x="88" y="107"/>
                  </a:cubicBezTo>
                  <a:lnTo>
                    <a:pt x="88" y="534"/>
                  </a:lnTo>
                  <a:cubicBezTo>
                    <a:pt x="88" y="593"/>
                    <a:pt x="49" y="640"/>
                    <a:pt x="0" y="640"/>
                  </a:cubicBezTo>
                  <a:cubicBezTo>
                    <a:pt x="49" y="640"/>
                    <a:pt x="88" y="688"/>
                    <a:pt x="88" y="747"/>
                  </a:cubicBezTo>
                  <a:lnTo>
                    <a:pt x="88" y="1174"/>
                  </a:lnTo>
                  <a:cubicBezTo>
                    <a:pt x="88" y="1233"/>
                    <a:pt x="128" y="1280"/>
                    <a:pt x="176" y="1280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196400" y="1449000"/>
              <a:ext cx="218160" cy="1985400"/>
            </a:xfrm>
            <a:custGeom>
              <a:avLst/>
              <a:gdLst/>
              <a:ahLst/>
              <a:rect l="l" t="t" r="r" b="b"/>
              <a:pathLst>
                <a:path w="192" h="1200">
                  <a:moveTo>
                    <a:pt x="192" y="0"/>
                  </a:moveTo>
                  <a:cubicBezTo>
                    <a:pt x="139" y="0"/>
                    <a:pt x="96" y="45"/>
                    <a:pt x="96" y="100"/>
                  </a:cubicBezTo>
                  <a:lnTo>
                    <a:pt x="96" y="500"/>
                  </a:lnTo>
                  <a:cubicBezTo>
                    <a:pt x="96" y="556"/>
                    <a:pt x="53" y="600"/>
                    <a:pt x="0" y="600"/>
                  </a:cubicBezTo>
                  <a:cubicBezTo>
                    <a:pt x="53" y="600"/>
                    <a:pt x="96" y="645"/>
                    <a:pt x="96" y="700"/>
                  </a:cubicBezTo>
                  <a:lnTo>
                    <a:pt x="96" y="1100"/>
                  </a:lnTo>
                  <a:cubicBezTo>
                    <a:pt x="96" y="1156"/>
                    <a:pt x="139" y="1200"/>
                    <a:pt x="192" y="1200"/>
                  </a:cubicBezTo>
                </a:path>
              </a:pathLst>
            </a:custGeom>
            <a:noFill/>
            <a:ln cap="rnd" w="108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004760" y="204660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1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767320" y="2363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9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620960" y="2363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5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28440" y="2201760"/>
              <a:ext cx="91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marL="343080" indent="-343080"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0%</a:t>
              </a:r>
              <a:endParaRPr b="1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900000" y="2492280"/>
            <a:ext cx="1028880" cy="34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Recommended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rebuchet MS"/>
              </a:rPr>
              <a:t>for funding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15:14:25Z</dcterms:created>
  <dc:creator>aeberle</dc:creator>
  <dc:description/>
  <dc:language>en-US</dc:language>
  <cp:lastModifiedBy>maggir</cp:lastModifiedBy>
  <dcterms:modified xsi:type="dcterms:W3CDTF">2009-11-06T07:49:57Z</dcterms:modified>
  <cp:revision>30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60019768</vt:r8>
  </property>
  <property fmtid="{D5CDD505-2E9C-101B-9397-08002B2CF9AE}" pid="3" name="_AuthorEmail">
    <vt:lpwstr>Sarah.Churchill@TheGlobalFund.org</vt:lpwstr>
  </property>
  <property fmtid="{D5CDD505-2E9C-101B-9397-08002B2CF9AE}" pid="4" name="_AuthorEmailDisplayName">
    <vt:lpwstr>Sarah Churchill</vt:lpwstr>
  </property>
  <property fmtid="{D5CDD505-2E9C-101B-9397-08002B2CF9AE}" pid="5" name="_EmailSubject">
    <vt:lpwstr>Rd9/NSA slides on TB for the Stop TB Board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