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A8D5-DCCE-40C4-93DF-C68C1CDFE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F56-2111-42AC-B566-BF006F82F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0E96C-1DD8-462D-B176-BA0D206A6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E626-0C44-4DC6-909A-018532C9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A7AC-94C2-4149-AB07-C4697F25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14E7-D0FB-4DF1-AABA-A0772D430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8CC9-246E-4F0A-918D-13D86C62D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7BA-9AA1-4E7D-8864-ED3459225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D438-9444-4FDA-BB93-47DC17D1D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8DFA-AF52-4DCB-92F7-E03F80D3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6290-FEBD-489F-8AC6-AF612770D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BEF1-B025-401A-AFC7-9B4E56B5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3" marL="1827360" indent="-43812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4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5D1E-1F81-43B1-944A-74ECF0CA2A74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4089B-0CFE-4C64-AA83-43F87DEAD622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Reviewer0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8123400" y="0"/>
            <a:ext cx="1020600" cy="1463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5708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mbria"/>
              </a:rPr>
              <a:t>Global Drug Facility:</a:t>
            </a: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Two Years after Berli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mbria"/>
              </a:rPr>
              <a:t>Progress, Challenges, Opportun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68000" y="5013360"/>
            <a:ext cx="50403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Thomas Moore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mbria"/>
              </a:rPr>
              <a:t>Geneva, 06 November 2009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7524720" y="4869000"/>
          <a:ext cx="804960" cy="109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720" y="4869000"/>
                    <a:ext cx="804960" cy="109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324000" y="5084640"/>
            <a:ext cx="83808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DF Value of Ord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79280" y="1735200"/>
          <a:ext cx="8964720" cy="48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735200"/>
                    <a:ext cx="8964720" cy="48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26560" y="659880"/>
            <a:ext cx="765684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987640" y="1773360"/>
            <a:ext cx="5977080" cy="5084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Flow of dr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/UNITAID established stockpile for 800 patients now ramping up to 5,800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pile used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replacement of drugs when a manufacturer could not deliver o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tock out risk in cou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small country order or when only a small quantity was needed to complete a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24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mbria"/>
              </a:rPr>
              <a:t>to speed up delivery to meet urgent order demands and emergenc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Cambria"/>
              </a:rPr>
              <a:t>(order lead time is about 30 days so f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44640"/>
            <a:ext cx="2509920" cy="501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270180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High level negotiation with WHO on staffing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and prequalification bottleneck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2" name=""/>
          <p:cNvSpPr/>
          <p:nvPr/>
        </p:nvSpPr>
        <p:spPr>
          <a:xfrm>
            <a:off x="3492360" y="1916280"/>
            <a:ext cx="5327640" cy="46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 staffing has increased by 58%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DR-TB current staff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senior team l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MDR-TB procurement offi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1 drug registration and 1 drug quality officer (for both MDR-TB an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line dru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492360" y="1989000"/>
            <a:ext cx="5327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More suppliers prequal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MDR-TB products (8 supplier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XDR-TB products (3 suppli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39640" y="1989000"/>
            <a:ext cx="273708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95280" y="2060280"/>
            <a:ext cx="288144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2060640"/>
            <a:ext cx="518328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foreca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linton Foundation with GDF/GLC developed 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ambria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phase forecasting to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LC responsible for forecasting and provides to GDF for order plac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492360" y="1989000"/>
            <a:ext cx="53276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Drug Pricing</a:t>
            </a:r>
            <a:r>
              <a:rPr b="0" lang="en-GB" sz="40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task force established (GDF/GL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Interviewing recently prequalified suppliers to understand batch size, reaction time for an ord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Will be completed March 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2881440" cy="4392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024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6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302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cc00"/>
                </a:solidFill>
                <a:latin typeface="Cambr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30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or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Overall lead time is still problematic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s much work by all partners since lead time is partially outside the responsibility of GDF </a:t>
            </a:r>
            <a:r>
              <a:rPr b="1" lang="en-GB" sz="2000" spc="-1" strike="noStrike">
                <a:solidFill>
                  <a:srgbClr val="000000"/>
                </a:solidFill>
                <a:latin typeface="Cambria"/>
              </a:rPr>
              <a:t>(example: lag in approvals and poor quantification of drug needs from country TB programs)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taff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In 2010 GDF will recruit two more procurement officers and two administrative personnel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Forecasting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From country TB programs need much more work on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Real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Enrolment patient number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2" marL="1378080" indent="-46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Update forecasting tool with these data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Number of qualified supplier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mbria"/>
              </a:rPr>
              <a:t>Need to repeat the Expression of Interest tender to encourage more suppliers in 2010 (process takes about 10 months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hallenges / Work in Progress</a:t>
            </a:r>
            <a:r>
              <a:rPr b="0" lang="en-GB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Developed Order Management System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Order data already enter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ome data validation still needed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Can generate lead time, costing report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upply of drugs for non-GLC project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As appropriate, work with GLC, WHO-prequalification, national regulatory authorities to identify potential suppliers based on a quality risk analysis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mbria"/>
              </a:rPr>
              <a:t>2007 Berlin Core Problems</a:t>
            </a:r>
            <a:r>
              <a:rPr b="0" lang="en-GB" sz="4400" spc="-1" strike="noStrike">
                <a:solidFill>
                  <a:srgbClr val="008000"/>
                </a:solidFill>
                <a:latin typeface="Cambria"/>
              </a:rPr>
              <a:t> *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8360" y="1962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Barriers, costs of entry, uncertain return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spcBef>
                <a:spcPts val="15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High level negotiation with WHO to resolve staffing and prequalification bottlenecks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* Coordinating Board meeting, Berlin October 2007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Mandate of G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Increase access to high quality TB drugs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nique procurement mechanism: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demand for drugs to supply and monitoring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Outsources several services to partners on a competitive basi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Uses product packaging to simplify drug managemen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mbria"/>
              </a:rPr>
              <a:t>Links grants to TB programme performance 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1600" y="1860480"/>
            <a:ext cx="2798640" cy="4230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Opaque MDR-TB drug market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0" name=""/>
          <p:cNvSpPr/>
          <p:nvPr/>
        </p:nvSpPr>
        <p:spPr>
          <a:xfrm>
            <a:off x="3780000" y="1844640"/>
            <a:ext cx="4968720" cy="424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mbria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Two regional supplier meetings to advocate for more 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Mumbai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Cambria"/>
              </a:rPr>
              <a:t>Rio de Janeiro 200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Sharing of forecasting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Price negotiation program with suppli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50920" y="54936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50920" y="1989000"/>
            <a:ext cx="27986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3" name=""/>
          <p:cNvSpPr/>
          <p:nvPr/>
        </p:nvSpPr>
        <p:spPr>
          <a:xfrm>
            <a:off x="3492360" y="1989000"/>
            <a:ext cx="547236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464760" indent="-46476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EOI tender process to bring more prequalified suppliers on bo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MDR – 2 suppliers for all 11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MDR – 8 suppliers for 11 products</a:t>
            </a:r>
            <a:r>
              <a:rPr b="0" lang="en-GB" sz="2400" spc="-1" strike="noStrike">
                <a:solidFill>
                  <a:srgbClr val="33cc33"/>
                </a:solidFill>
                <a:latin typeface="Cambri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2007 for XDR  - 0 suppliers for 5 produ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Cambria"/>
              </a:rPr>
              <a:t>2009 for XDR -  suppliers for 3 of 5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765648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98920" y="2060640"/>
            <a:ext cx="5149800" cy="4032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GDF/UNITAID/GF established the strategic revolving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Enables a country to order while awaiting donor monies to arr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ambri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8000"/>
                </a:solidFill>
                <a:latin typeface="Cambria"/>
              </a:rPr>
              <a:t>(will be operational by December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9640" y="1989000"/>
            <a:ext cx="250992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2440" indent="-29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65648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Results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03640" y="1773360"/>
            <a:ext cx="576108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DF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mbria"/>
              </a:rPr>
              <a:t>Lead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GDF responsibility: time from order placed with supplier until delivery to country (not responsible for lag in approvals by TB progra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07920" indent="-4363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In 2009 to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95 orders were pla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67 orders are delive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24 orders still on track for Nov/D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8080" indent="-468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mbria"/>
              </a:rPr>
              <a:t>4 orders on hold because of country problems (eg. no money for drugs, no permission to import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50920" y="1773000"/>
            <a:ext cx="2798640" cy="482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000000"/>
                </a:solidFill>
                <a:uFillTx/>
                <a:latin typeface="Cambria"/>
              </a:rPr>
              <a:t>CB challenge</a:t>
            </a: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mbria"/>
            </a:endParaRPr>
          </a:p>
          <a:p>
            <a:pPr marL="82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Cambria"/>
              </a:rPr>
              <a:t>Short term paralysis in flow of drugs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82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4000" y="533160"/>
            <a:ext cx="836280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Possible Lead Times Bottlenec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Before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GLC and partners to forecast patients and rate of patient enrolment and provide to GDF 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MoH protocol to sign GDF order is often long proces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ambria"/>
              </a:rPr>
              <a:t>After country signs order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Responsibility of GDF and its agent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GDF/procurement agent places order to supplier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Suppliers order materials to manufacture medicine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An independent lab tests product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ambria"/>
              </a:rPr>
              <a:t>Product shipped to country program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Cambria"/>
              </a:rPr>
              <a:t>Drug arrives in country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Responsibility of country to clear custom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Import fees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ambria"/>
              </a:rPr>
              <a:t>Drug Registration</a:t>
            </a:r>
            <a:endParaRPr b="0" lang="en-US" sz="2000" spc="-1" strike="noStrike">
              <a:solidFill>
                <a:srgbClr val="000000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DF Performance Indicat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914400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12:29:53Z</dcterms:created>
  <dc:creator>tmoore</dc:creator>
  <dc:description/>
  <dc:language>en-US</dc:language>
  <cp:lastModifiedBy>maggir</cp:lastModifiedBy>
  <dcterms:modified xsi:type="dcterms:W3CDTF">2009-11-05T15:50:01Z</dcterms:modified>
  <cp:revision>180</cp:revision>
  <dc:subject/>
  <dc:title>GDF progress challenges for Coord board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