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0A92-4632-4A3B-8D90-71FF260AB1E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14400" y="4341960"/>
            <a:ext cx="5029200" cy="4116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owe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en at maximum DOTS coverage, case detection seems to remain below the 70% target level in most settings (Dye et al 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 we need innovative approaches to case detecti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DEWG is a mechanism to do whatever it needs to be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e need to ensure we make good use of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2nd ad hoc Committee produced some recommendations for action, the DEWG is a tool to facilitate/implement som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88764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8764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8683560"/>
            <a:ext cx="29703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0"/>
            <a:ext cx="297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341960"/>
            <a:ext cx="502632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09F1-1A8D-4C1E-82AB-E6E459062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ACD3-1AEA-46EE-A461-533C4084D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7FFA-F026-46DC-9A5A-9E54E5960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C192-6E85-4968-A25E-3177720CF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4B1D-2138-476E-8839-1A49E8E88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D9AD-FEEF-4EE1-A0D3-F95ECC135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FD9D-2E08-4555-B317-F1681611C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040F-D1C7-4804-B614-052031A94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0BB29-1A50-4DCA-9E08-C68E575B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7752-1384-4DC8-8760-39B3D941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529C-7D30-47C7-B5DD-F1E9BF643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FA1F-6AC2-42F0-B055-8479DEE0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27DF2-ED69-4DD8-977C-744A5A18E5EF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Update of the Global Plan to Stop TB 2006-201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P Coordinating Board Me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eneva, 5 - 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hristian Lienhar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838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 (cont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ew Tools (drugs, vaccines and diagnost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 going on through communications within WGs – led by chairs and core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vice/input from health econom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workshops to advance (Sept '09) and finalise (Jan '10) revised frame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Basic Research and 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kshops to define the suitable research agenda and develop appropriate cost estima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ing-up (March – May '10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304920"/>
            <a:ext cx="57150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Targets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of the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05, and to be sustained or exceeded 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t least 70% of people with infectious TB will be diagnosed (i.e. under the DOTS strategy) and at least 85% of those diagnosed will be cu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global burden of TB disease (disease prevalence and deaths) reduced by 50% relative to 1990 levels, i.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prevalence to 155 or fewer per 100 000 popul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ducing deaths to 14 or fewer per 100 000 per year by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By 2015: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meet the MDGs relevant to tuberculosis (goal 6, target 8):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“to have halted and begun to reverse the incidence [of TB]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04920" y="3049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Objectives of the Global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omote wider and wiser use of existing strategies to interrupt TB transmission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celerating DOTS implementation to achieve the global targets for TB control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creasing the availability, affordability and quality of anti-TB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prevent and manage multidrug-resistant TB, and to reduce the impact of HIV related T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accelerate the elimination of TB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research and development for new TB diagnostic tests, drugs and vaccin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romoting adoption of new and improved tools by ensuring appropriate use, access and afforda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557280" y="2276640"/>
          <a:ext cx="2790720" cy="3946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2276640"/>
                    <a:ext cx="2790720" cy="3946320"/>
                  </a:xfrm>
                  <a:prstGeom prst="rect">
                    <a:avLst/>
                  </a:prstGeom>
                  <a:ln w="572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68" name="" descr=""/>
          <p:cNvPicPr/>
          <p:nvPr/>
        </p:nvPicPr>
        <p:blipFill>
          <a:blip r:embed="rId3"/>
          <a:srcRect l="10960" t="1141" r="3272" b="0"/>
          <a:stretch/>
        </p:blipFill>
        <p:spPr>
          <a:xfrm>
            <a:off x="5560920" y="2276640"/>
            <a:ext cx="2897280" cy="3830400"/>
          </a:xfrm>
          <a:prstGeom prst="rect">
            <a:avLst/>
          </a:prstGeom>
          <a:ln w="57240">
            <a:solidFill>
              <a:srgbClr val="006600"/>
            </a:solidFill>
            <a:miter/>
          </a:ln>
        </p:spPr>
      </p:pic>
      <p:sp>
        <p:nvSpPr>
          <p:cNvPr id="69" name=""/>
          <p:cNvSpPr/>
          <p:nvPr/>
        </p:nvSpPr>
        <p:spPr>
          <a:xfrm>
            <a:off x="111240" y="1341360"/>
            <a:ext cx="3668760" cy="764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New challenges requir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Stop TB Strateg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1341360"/>
            <a:ext cx="4032360" cy="764280"/>
          </a:xfrm>
          <a:prstGeom prst="rect">
            <a:avLst/>
          </a:prstGeom>
          <a:solidFill>
            <a:srgbClr val="0099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The Global Plan 2006-2015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  <a:ea typeface="Tahoma"/>
              </a:rPr>
              <a:t>defines direction and cos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260280"/>
            <a:ext cx="58323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  <a:ea typeface="Tahoma"/>
              </a:rPr>
              <a:t>The vision toda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19640" y="2492280"/>
            <a:ext cx="1942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2006-2015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56 billion US$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necessary to  control TB in endemic count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  <a:ea typeface="Tahoma"/>
              </a:rPr>
              <a:t>9 billion US$ necessary to develop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7524720" y="40464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04920" y="152280"/>
            <a:ext cx="571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otal needs by Working Group area of responsibility, 2006-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838224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52280"/>
            <a:ext cx="6019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lobal Plan targets – Research an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74320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8" name=""/>
          <p:cNvGraphicFramePr/>
          <p:nvPr/>
        </p:nvGraphicFramePr>
        <p:xfrm>
          <a:off x="457200" y="1600200"/>
          <a:ext cx="8229600" cy="49593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y 20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189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cci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vaccines in phase 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 candidates in phase II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 least 2 vaccines in "proof of concept" trials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ginning phase III tria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phase III trials carried out;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ne safe, effective vaccine availab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3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 new compounds in the pipeli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2 new drugs registered; treatment shortened to 3-4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new drugs; treatment shortened to 1-2 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5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gnos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pid culture for case detection and DST in demonstration ph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int of care, rapid culture, improved microscopy, phage detection, simplifi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dictive test for LTB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Up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of the Global Plan Update is to look critic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t the objectives set at start and, on the basis of t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ments so far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revise the objectives, ensuring feasibility and achievemen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outline clearly the main activities to reach these objectiv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indicators to evaluate progr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define appropriate targets to measure effectivenes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o identify the costs of these activities, ensuring comparability between tools and ov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endpoi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 to ensure that achievable objectives are set, and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process of constant evaluation of progress and funding is possib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ough the comparison with the Annual R&amp;D Funding Assess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port from TAG/S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New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Research Component of the GP was solely relying on the works to be carried out to develop new tools, i.e.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New Diagnostics, Drugs and Vacci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should take into account the specific aspects arising from research to be carried out within the areas of MDR-TB, TB/HIV and childhood TB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asic research was considered only as part of the research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ion research was imbedded in the implementation part with cost calculated at 0.1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0040" y="1265400"/>
            <a:ext cx="8623440" cy="48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04920" y="304920"/>
            <a:ext cx="571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8000" y="1125360"/>
            <a:ext cx="8885160" cy="3240"/>
          </a:xfrm>
          <a:custGeom>
            <a:avLst/>
            <a:gdLst/>
            <a:ahLst/>
            <a:rect l="l" t="t" r="r" b="b"/>
            <a:pathLst>
              <a:path w="5597" h="2">
                <a:moveTo>
                  <a:pt x="0" y="0"/>
                </a:moveTo>
                <a:lnTo>
                  <a:pt x="5597" y="2"/>
                </a:lnTo>
              </a:path>
            </a:pathLst>
          </a:custGeom>
          <a:noFill/>
          <a:ln w="127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00800" y="152280"/>
            <a:ext cx="2514600" cy="76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ogical framework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goal, objectives and proposed activities set in GP for new tool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ritical re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goal, objectives and activities based on progress 2006-2009, current status, major areas of work and related targets for 2010-201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Identification of appropriate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indica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 to measure activities and estimate cos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Development of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SimSun"/>
              </a:rPr>
              <a:t>revised agen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 with appropriate budget to implement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06:29:03Z</dcterms:created>
  <dc:creator>Christian Lienhardt</dc:creator>
  <dc:description/>
  <dc:language>en-US</dc:language>
  <cp:lastModifiedBy>Alan Esser</cp:lastModifiedBy>
  <dcterms:modified xsi:type="dcterms:W3CDTF">2009-11-06T10:14:28Z</dcterms:modified>
  <cp:revision>32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357045021</vt:r8>
  </property>
  <property fmtid="{D5CDD505-2E9C-101B-9397-08002B2CF9AE}" pid="3" name="_AuthorEmail">
    <vt:lpwstr>lienhardtc@who.int</vt:lpwstr>
  </property>
  <property fmtid="{D5CDD505-2E9C-101B-9397-08002B2CF9AE}" pid="4" name="_AuthorEmailDisplayName">
    <vt:lpwstr>Lienhardt, Christian</vt:lpwstr>
  </property>
  <property fmtid="{D5CDD505-2E9C-101B-9397-08002B2CF9AE}" pid="5" name="_EmailSubject">
    <vt:lpwstr>CB -- update of global 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