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0691813" cy="7559675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766440" y="741240"/>
            <a:ext cx="5267160" cy="372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69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00B4-5A32-4C26-B054-887043D77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1622520" y="4114800"/>
            <a:ext cx="2197080" cy="23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782640" y="6485040"/>
            <a:ext cx="2208240" cy="12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CF28-AD13-47E0-9C73-EFE9B0A413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2C09-4D5E-4CDD-B611-6C09687EA3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B32A-0281-4603-B427-459991B7F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A1DE-79CF-4D53-8353-C9B5F571AD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D92A-3331-4338-AE4A-7C4FF10728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8FA6-A2A6-4A95-A032-62C3BDD64F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CF3AC-BBC0-4F0B-BFC1-AE6D74B31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0D0BA-0407-4240-84AB-1C747EAFC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674D4-2BC6-4AC3-92BB-D3AE2828A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766800" y="741240"/>
            <a:ext cx="5267160" cy="37245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2563920" y="5972040"/>
            <a:ext cx="5441760" cy="4478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2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6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34664F2-BF63-4D1D-B29C-98F3956CA1F6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3" name="Picture 15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Oval 26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" name="Picture 33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5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" name="Group 38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Text Box 39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1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11" name="Picture 40" descr="STOPTB_COLOR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Text Box 17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1" lang="en-US" sz="27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50" name="Picture 24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Line 31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" name="Group 36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Text Box 37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1" lang="en-US" sz="1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pic>
          <p:nvPicPr>
            <p:cNvPr id="54" name="Picture 38" descr="STOPTB_COLOR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603440" y="1355400"/>
            <a:ext cx="838368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01040" indent="-4010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, 6 November 2009, 8:30 – 9:30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Labor Organization, Salle V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6360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s &amp; Recommendations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62280" y="1754280"/>
            <a:ext cx="883116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PROPOSAL : (A)</a:t>
            </a: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 with the Stop TB Secretariat (150 k US$)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lpha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22600" y="2038320"/>
            <a:ext cx="835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ivate sector membership should contribute towards fundings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Objective : being self sustainable after 3 years.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362320" y="3119400"/>
            <a:ext cx="7124760" cy="3824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86280" y="3498840"/>
            <a:ext cx="5667120" cy="29592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021200" y="4390920"/>
            <a:ext cx="3736800" cy="1438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748040" y="4565520"/>
            <a:ext cx="2273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Focal Point 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Stop TB Secretariat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230397"/>
                </a:solidFill>
                <a:latin typeface="Arial"/>
              </a:rPr>
              <a:t>Elected Board Members</a:t>
            </a:r>
            <a:endParaRPr b="1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743280" y="4057560"/>
            <a:ext cx="4257720" cy="1714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Core group - Members with financial participation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80"/>
                  </a:solidFill>
                  <a:miter/>
                </a:ln>
                <a:solidFill>
                  <a:srgbClr val="000080"/>
                </a:solidFill>
                <a:latin typeface="Arial"/>
              </a:rPr>
              <a:t>Business Coalitions</a:t>
            </a:r>
            <a:endParaRPr b="0" lang="en-US" sz="1800" spc="1" strike="noStrike">
              <a:ln w="9360">
                <a:solidFill>
                  <a:srgbClr val="000080"/>
                </a:solidFill>
                <a:miter/>
              </a:ln>
              <a:solidFill>
                <a:srgbClr val="000080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776480" y="3129120"/>
            <a:ext cx="236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230397"/>
                </a:solidFill>
                <a:latin typeface="Arial"/>
              </a:rPr>
              <a:t>All other companies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223520" y="6981840"/>
            <a:ext cx="322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Private Sector Constituency</a:t>
            </a:r>
            <a:endParaRPr b="1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53000" y="5900760"/>
            <a:ext cx="120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Arial"/>
              </a:rPr>
              <a:t>PPM….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12520" y="617400"/>
            <a:ext cx="73328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 &amp;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862280" y="1754280"/>
            <a:ext cx="3314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300" spc="-1" strike="noStrike">
                <a:solidFill>
                  <a:srgbClr val="000000"/>
                </a:solidFill>
                <a:latin typeface="Arial"/>
              </a:rPr>
              <a:t>B.   </a:t>
            </a: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PROPOSAL (B)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89200" y="2401920"/>
            <a:ext cx="89229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Yearly global PSC meeting (Global Fund, UNAIDS, RBM, Stop TB…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How to bridge and exchange on our strategies with others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constituencies , in order to improve our engagment ?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603440" y="1542600"/>
            <a:ext cx="838368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iday, 6 November 2009, 8:30 – 9:30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ational Labor Organization, Salle V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165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Thanks .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39360" y="654120"/>
            <a:ext cx="6342120" cy="876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iness Engagement Strategy</a:t>
            </a:r>
            <a:br>
              <a:rPr sz="3200"/>
            </a:b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3440" y="1542600"/>
            <a:ext cx="8383680" cy="504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ation to the Stop TB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C Role in the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SC Achie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io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ultancy –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cal Point : Proposals &amp;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spcBef>
                <a:spcPts val="499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 TB Partnership Private Sector Constitu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ean-François de Lavison, Mérieux Alliance, Corporate Sector Represent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tti Ojanen, AstraZeneca, Alternate Corporate Sector Represent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mero Hernandez, Stop TB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arin Holm, Independent Consul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9800" indent="-3798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698120" y="50616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SC Role in the Partnership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851120" y="1530000"/>
            <a:ext cx="8037360" cy="51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30000"/>
              </a:lnSpc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Private Sector Constituency Objective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Leverage core business skills and capabilities, facilitate corporate sector participation, stimulate participation of the private sector in TB control and R&amp;D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Bring business perspectives, input, expertise, and multi-faceted resources to the Partnership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tatistic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SC gained position on Coordinating Board in October 2004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tituency of 110 private sector partners (per  Stop TB Partners’ Directory, 20Aug200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75% health-related, 25% non-health compan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0% of total Stop TB Partn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670040" y="549360"/>
            <a:ext cx="8888400" cy="635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SC Recent Achievement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649520" y="1321920"/>
            <a:ext cx="874368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ctive involvement in key strategic and policy discussions on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 Board, Executive Comm of Coord Board, Steering Comm on Global Plan Progress, Advocacy Advisory 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icipation in Working Groups &amp; Task Forces –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OTS Expansion PPM, Retooling TF, New Drugs, New Vaccines, New Diagnostics, TB and Poverty, MDR-TB, Business Advisory Committee for GD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SC meetings: every two months teleconference calls with Core, semester meeting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nership meetings: Seattle (Pacific Health Summit), Rio (Partners’ Forum), Beijing, Cairo, Berlin, Geneva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llaboration with WEF, GBC, McKinsey (indep.eval), EDM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63200" y="529920"/>
            <a:ext cx="631692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Rio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614240" y="1622520"/>
            <a:ext cx="8383320" cy="41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273240" indent="-273240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o Gaps/Issues identified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 a shared vision for the Private Sector Constituency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eed for strengthening of PSC for greater impac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Lack of an action agenda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io Recommendations (suggested Timeframe)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 year strategic plan (by Nov 09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dentify collective action (by Nov 09); issue a call for enhanced participation (ongoing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evelop a value proposition for members, identifying corporate champions (Dec 09 - ongoing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73240" indent="-2732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709280" y="5094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Consultancy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636200" y="1283760"/>
            <a:ext cx="8520120" cy="562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rried out extensive website, data and publication revie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ed 25+ key people in stakeholder groups, particularly the Core members of PSC, Stop TB, World Economic Forum, Global Business Coalition, Gates, UNAIDS, Public-Private Mix subgro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ied possible areas for collective 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6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  </a:t>
            </a: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 information flow and communication among PSC members in Partnership bodies (Nov 2009 - Mar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raft and adopt Principles of Engagement and a PSC Partners Charter to clarify vision and value proposition for membership (Mar – Sept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ximize PSC representation strategically in Working Groups and other Partnership bodies (Mar - Sept 201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 members, evaluate proposal and resource implications for concrete action proposals gathered by consultant (Mar - Sept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4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e.g. D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op Down menu for PSC members to get engaged in for World TB Day 2010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lnSpc>
                <a:spcPct val="12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60400" y="463680"/>
            <a:ext cx="8933040" cy="744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ommendations 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65280" y="1250640"/>
            <a:ext cx="87645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financing strategy including possible annual fees, membership levels, corporate champion. (starting Nov 200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mpaign for new members, including professional societies,  business coalitions, and trade associations (Jan - Dec 201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 guidelines and document private sector contributions  and measure progress (starting Mar 2010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60400" y="463680"/>
            <a:ext cx="8933040" cy="7444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ommendations  (continued)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565280" y="1250640"/>
            <a:ext cx="8764560" cy="56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400" spc="-1" strike="noStrike">
                <a:solidFill>
                  <a:srgbClr val="230397"/>
                </a:solidFill>
                <a:latin typeface="Arial"/>
              </a:rPr>
              <a:t>8.   Resolve Focal Point Issu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Sept 2009 – Dec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nd hosting and funding arrangement for new focal point for PS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dentify candidates and hire focal point, accepted by the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chance new collaboration with WEF, GBC, and other business groups, as well as with other private sector constituencies such as Roll Back Malaria and UNAI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lement business engagement strategy recommenda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712520" y="617400"/>
            <a:ext cx="733284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Focal Point Proposal &amp; Recommendation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62280" y="1754280"/>
            <a:ext cx="33145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</a:rPr>
              <a:t>HYPOTHESIS</a:t>
            </a:r>
            <a:endParaRPr b="1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88480" y="2401920"/>
            <a:ext cx="56023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lobal focal point (with / without RBM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lternatives :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World Economic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Global Business Coalition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Business Humanitarian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ernational Business Leaders Forum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1047600" indent="-590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TOP TB Secretariat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590400" indent="-590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Karin Holm</dc:creator>
  <dc:description>Karin Holm was the independent consultant who conducted the study to develop a Business Engagement Strategy for the Stop TB Partnership's Private Sector Constituency.  May - Sept 2009.</dc:description>
  <dc:language>en-US</dc:language>
  <cp:lastModifiedBy>bioMérieux</cp:lastModifiedBy>
  <dcterms:modified xsi:type="dcterms:W3CDTF">2009-11-06T05:48:16Z</dcterms:modified>
  <cp:revision>185</cp:revision>
  <dc:subject/>
  <dc:title>Slide 1</dc:title>
</cp:coreProperties>
</file>